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76ED-E84E-4752-A661-EAA2DA649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5F67-1943-475C-958F-97EFB843C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104F-400B-412B-A84C-028E4FCF5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3A92-27C7-493C-A00C-DD2014C16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9257-0A2C-42DA-9034-9D39C0A5F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8007-5E64-46F4-A3F0-306E7883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5F53-B8F6-4FFE-B243-5791E688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8EB6-E915-45C1-97A3-52024F1D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196-F6A2-4E92-A495-391FA358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DE73-DAA7-4F0D-934A-DDB4A2D0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F28F-E58A-47A5-A2AD-2F671BDC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1D28-3B8D-45B0-A535-6E85B411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DCE0-15AC-4883-8413-90F55618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A0C1-78F8-4CE8-9C8E-EE000336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284360" y="836280"/>
            <a:ext cx="441324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75AA-BA51-439B-8E80-5868D163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CB5E-B5F3-40BB-A1AB-EBF3F50A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BD53-12FB-4C3F-BA54-6A1B53AB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3A62-3524-4890-BA5B-1BF1FDC7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B2B9-726E-467B-BFD8-A1876881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5DDC-0265-45E6-B3E3-1FF8D9DF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7CC4-AF53-4838-9B02-9E086E33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C184-A9E3-44B8-8526-D419CB43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1681-6EBB-4D20-BF79-289E7715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DFBB-32D3-4546-801D-2A09F511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A98D-4D2D-463D-B32D-E527358B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284360" y="836280"/>
            <a:ext cx="441324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5A23-65C2-43DD-9525-ED82F091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EF0-6242-498E-8EFF-BCBD2005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C8FC-1C9A-4C0A-9E2C-3E084644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B9F-7C4C-44D9-AF25-085B3FE6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uncefact_header_0p2"/>
          <p:cNvPicPr/>
          <p:nvPr/>
        </p:nvPicPr>
        <p:blipFill>
          <a:blip r:embed="rId2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6 September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th UN/CEFACT FORUM Lyon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7004-64E0-4BC3-9C98-FD3633A1B4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uncefact_header_0p2"/>
          <p:cNvPicPr/>
          <p:nvPr/>
        </p:nvPicPr>
        <p:blipFill>
          <a:blip r:embed="rId2"/>
          <a:stretch/>
        </p:blipFill>
        <p:spPr>
          <a:xfrm>
            <a:off x="611280" y="365040"/>
            <a:ext cx="7921440" cy="22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6 September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th UN/CEFACT FORUM Lyon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8764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36E5-75DB-4315-8DC2-5C8AEC21AB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071360"/>
            <a:ext cx="7215120" cy="157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Arial Black"/>
              </a:rPr>
              <a:t>Bureau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13880" y="3071520"/>
            <a:ext cx="77742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9 Plenary Session: Item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y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art Feder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nary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4B18-27F5-499D-97A1-8A7C7A9413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4720" y="836280"/>
            <a:ext cx="38592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Arial Black"/>
              </a:rPr>
              <a:t>Ways forward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Through guidance from EXCOM, Committee on Trade and the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Through gap analyses and other aspects of the electronic Business, Government and Trade (eBGT)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Through increased cooperation with 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organisations involved in trade facilita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tandards development and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BC4E-5976-4392-A3DB-0A33949D9A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720" y="836280"/>
            <a:ext cx="38592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Arial Black"/>
              </a:rPr>
              <a:t>Ways forward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3840" y="1255680"/>
            <a:ext cx="885852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Through outreach to all stake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y encouraging ongoing renewal and improvement of what i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To regularly address how we can organise and conduct ourselves better in order to yield greater efficiency and commonality of purpose among all the experts that participate around the wor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0627-5DB5-47C7-A4F1-35399FE085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4720" y="836280"/>
            <a:ext cx="38592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Arial Black"/>
              </a:rPr>
              <a:t>Ways forward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3840" y="1255320"/>
            <a:ext cx="8858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y improving our two-way commun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y improving availability of our online stand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y clarifying and strengthening collaboration with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E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y encouraging Member States to increase their support of experts to work within UN/CE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6T21:00:51Z</dcterms:created>
  <dc:creator>Dick Raman</dc:creator>
  <dc:description/>
  <dc:language>en-US</dc:language>
  <cp:lastModifiedBy>Your User Name</cp:lastModifiedBy>
  <dcterms:modified xsi:type="dcterms:W3CDTF">2009-11-11T20:56:44Z</dcterms:modified>
  <cp:revision>275</cp:revision>
  <dc:subject/>
  <dc:title>TRADE/CEFACT/2005/3</dc:title>
</cp:coreProperties>
</file>