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E4D9-DFB6-4AB7-9DF8-2197C0A60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C5A7-40E3-4C4D-AEEB-735E32444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E2A7-BE6D-4CA6-B1E6-84BD8D8AA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1DE0-5FBF-404B-B25B-CD2DDC668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A5C3-F32F-4B56-B992-95AFAC300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F997-F6EB-49BA-A688-902497C4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5F4A-5EE6-4795-B2EF-ECADFB95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C81F-D6EA-494A-B711-90272700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CE72-18CF-4B11-B1CE-DF3C9A89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182D-A982-420E-A0AA-63E90D6A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0BC3-AE3D-4EB0-8C66-70D043DB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5D04-6ABF-40F1-9BB4-D9AE9795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DE16-D53F-4C50-80B4-186FBA49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FC2F-6DD3-4F13-85DB-6F215347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284360" y="836280"/>
            <a:ext cx="441324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6B23-AE72-46FF-9CB2-34926AF8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CE5D-B268-4C93-897D-D7AA8088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856F-C9E6-4CC4-AA7D-180D8538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38FF-3A93-465D-AA2E-D1311837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6D3F-B301-47DE-9563-6477F9F0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DCD9-4934-4F10-A8AA-A3846082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0862-9771-4E97-9738-C657582E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CC28-6CEB-4266-AB29-7A22A325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A0C-6EA8-4B37-BCD7-BFC2415A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02DC-EBAE-441C-B024-D90D3186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C670-AFB0-4533-B8C0-405FC5BC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284360" y="836280"/>
            <a:ext cx="441324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DFE0-8992-4345-8B8B-59E986C1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D2B2-6F91-426D-B48B-59FCF843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7A81-F9B8-4C37-B2ED-71EB6B85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4457-CCFB-428C-A718-D34B3362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uncefact_header_0p2"/>
          <p:cNvPicPr/>
          <p:nvPr/>
        </p:nvPicPr>
        <p:blipFill>
          <a:blip r:embed="rId2"/>
          <a:stretch/>
        </p:blipFill>
        <p:spPr>
          <a:xfrm>
            <a:off x="539640" y="333360"/>
            <a:ext cx="8136000" cy="113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6 September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th UN/CEFACT FORUM Lyon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473A-4306-454C-8B97-D5FB11E942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uncefact_header_0p2"/>
          <p:cNvPicPr/>
          <p:nvPr/>
        </p:nvPicPr>
        <p:blipFill>
          <a:blip r:embed="rId2"/>
          <a:stretch/>
        </p:blipFill>
        <p:spPr>
          <a:xfrm>
            <a:off x="611280" y="365040"/>
            <a:ext cx="7921440" cy="22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41324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6 September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th UN/CEFACT FORUM Lyon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8764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AA57-8186-4992-97BB-746540A85F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071360"/>
            <a:ext cx="7215120" cy="157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Arial Black"/>
              </a:rPr>
              <a:t>Bureau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13880" y="3071520"/>
            <a:ext cx="77742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9 Plenary Session: Item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ay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art Feder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nary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4851-5B03-4653-89F5-40C5A0379B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4720" y="836280"/>
            <a:ext cx="38592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Arial Black"/>
              </a:rPr>
              <a:t>Ways forward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Through guidance from EXCOM, Committee on Trade and the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Through gap analyses and other aspects of the electronic Business, Government and Trade (eBGT)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Through increased cooperation with 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organisations involved in trade facilita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tandards development and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BC8E-84F4-42A2-B4FB-0B5FEB93F7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720" y="836280"/>
            <a:ext cx="38592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Arial Black"/>
              </a:rPr>
              <a:t>Ways forward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3840" y="1255680"/>
            <a:ext cx="885852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Through outreach to all stake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y encouraging ongoing renewal and improvement of what i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To regularly address how we can organise and conduct ourselves better in order to yield greater efficiency and commonality of purpose among all the experts that participate around the wor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A181-7E0C-4BE7-A5A9-CED3FC194B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4720" y="836280"/>
            <a:ext cx="38592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Arial Black"/>
              </a:rPr>
              <a:t>Ways forward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3840" y="1255320"/>
            <a:ext cx="8858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y improving our two-way communi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y improving availability of our online stand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y clarifying and strengthening collaboration with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E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5da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y encouraging Member States to increase their support of experts to work within UN/CE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6T21:00:51Z</dcterms:created>
  <dc:creator>Dick Raman</dc:creator>
  <dc:description/>
  <dc:language>en-US</dc:language>
  <cp:lastModifiedBy>Your User Name</cp:lastModifiedBy>
  <dcterms:modified xsi:type="dcterms:W3CDTF">2009-11-11T20:56:44Z</dcterms:modified>
  <cp:revision>275</cp:revision>
  <dc:subject/>
  <dc:title>TRADE/CEFACT/2005/3</dc:title>
</cp:coreProperties>
</file>