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3.wmf" ContentType="image/x-wmf"/>
  <Override PartName="/ppt/media/image8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20B-2C58-4621-A728-86947FC1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BA5-C264-4FAF-826C-05C55B1E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A6A-F785-4993-8043-568A23DA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641-1556-469F-8A6A-478A19C0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4D4-7B76-4B85-9993-62659BF9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F8A-609D-40A7-AC5A-BB6DC265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848-6BCD-457F-B65D-FE0F8E84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90F-3962-45EA-8FBE-98BA8C4C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064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B08-45A1-4043-8462-5B1B7534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515-227B-4CA4-AC1A-7A84605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76D-DD0E-4A44-953C-6EEDA05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C70-22A2-478B-BF80-77E22F94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61000"/>
            <a:ext cx="213372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7-11 April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61000"/>
            <a:ext cx="289584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th UN/CEFACT FORUM - Mexico City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61000"/>
            <a:ext cx="213372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A175-25F0-4D1A-BA70-5B50A9A6EF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Trade@unece.org" TargetMode="External"/><Relationship Id="rId2" Type="http://schemas.openxmlformats.org/officeDocument/2006/relationships/hyperlink" Target="http://www.uncefact.org/" TargetMode="External"/><Relationship Id="rId3" Type="http://schemas.openxmlformats.org/officeDocument/2006/relationships/hyperlink" Target="http://www.uncefact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981080"/>
            <a:ext cx="60958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rginia Cram-Martos, Direct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visión de Comercio y Mad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isión Económica par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3600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6000" y="76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299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/CEFAC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6 September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06436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I-ANNUAL EXPERT FORUMS </a:t>
            </a:r>
            <a:br>
              <a:rPr sz="3200"/>
            </a:b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ROUND THE WORLD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pported by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vide face-to-face opportunities to convey UN/CEFACT trade facilitation and electronic busin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st and future host countries: Canada, France, India, Ireland, Italy, Japan, Malaysia, Mexico, Senegal, Sweden, United Kingdom,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19280" y="691920"/>
            <a:ext cx="35290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EXPERT </a:t>
            </a:r>
            <a:br>
              <a:rPr sz="2800"/>
            </a:b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ACTIVITY ARE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unting &amp;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rchitecture, Engineering &amp; 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ctronic Trade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vironmental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Trade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1557360"/>
            <a:ext cx="374040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Social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Supply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Travel,Tourism and Lei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Business Proces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Information Content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Applie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Technical Method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PGothic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2480" y="1418760"/>
            <a:ext cx="849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aising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apacity-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oste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courage more experts to participate in                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Rectangle 3"/>
          <p:cNvGraphicFramePr/>
          <p:nvPr/>
        </p:nvGraphicFramePr>
        <p:xfrm>
          <a:off x="1187280" y="1341360"/>
          <a:ext cx="676944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7694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3" name="Rectangle 3"/>
          <p:cNvGraphicFramePr/>
          <p:nvPr/>
        </p:nvGraphicFramePr>
        <p:xfrm>
          <a:off x="468360" y="1336680"/>
          <a:ext cx="8136000" cy="5521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36680"/>
                    <a:ext cx="8136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/CEFACT Terms of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rade Programme Strategic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tegrated Strategy and Programme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Open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tellectual Property Rights Policy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cent Task Team Report concluded it is adequate, effective, meets or exceeds the protection of other standards development organisations and is well-tailored to the requirements of UN/CEF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3680" y="1557360"/>
            <a:ext cx="885996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utreach to intergovernmental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lobal Plenary stakeholders in national ca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neva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cretariat staffing and competing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lunteer exp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llaboration with other bodies to avoid duplication of effort and to offer open global solutions to common stakeholder needs, e.g. World Customs Organ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cilitating capacity-building and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064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WAY FORWA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82962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8-month initiative to facilitate achieving priority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larifying highest priorities of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dentifying facilitation gaps in recommendation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mproving 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orming special volunteer eBGT expert suppor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eking extra-budgetary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5960" y="12319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41300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 Black"/>
              </a:rPr>
              <a:t>electronic Business, Government and Trad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 Black"/>
              </a:rPr>
              <a:t>eB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QUESTIONS:</a:t>
            </a:r>
            <a:br>
              <a:rPr sz="3600"/>
            </a:br>
            <a:br>
              <a:rPr sz="3600"/>
            </a:br>
            <a:r>
              <a:rPr b="0" lang="de-CH" sz="2400" spc="-1" strike="noStrike" u="sng">
                <a:solidFill>
                  <a:srgbClr val="6767ff"/>
                </a:solidFill>
                <a:uFillTx/>
                <a:latin typeface="Arial Black"/>
                <a:hlinkClick r:id="rId1"/>
              </a:rPr>
              <a:t>Trade@unece.or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INFORMATION:</a:t>
            </a:r>
            <a:br>
              <a:rPr sz="3600"/>
            </a:br>
            <a:br>
              <a:rPr sz="3600"/>
            </a:b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 Black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Arial Black"/>
                <a:hlinkClick r:id="rId3"/>
              </a:rPr>
              <a:t>www.UNCEFACT.or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59280" y="206028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95da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 Unicode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19560" y="189000"/>
            <a:ext cx="416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UNITED NATIONS C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RADE 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LECTRONIC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2276640"/>
            <a:ext cx="3424320" cy="173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79200" y="4181400"/>
            <a:ext cx="926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SIMP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GLOB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064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 Black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1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Global Re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struments of Trade Facilitation and Electron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ublic-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bout 300+ volunteer expert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40360" y="620280"/>
            <a:ext cx="2952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CONTEXT: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Other Organiz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" name="Rectangle 3"/>
          <p:cNvGraphicFramePr/>
          <p:nvPr/>
        </p:nvGraphicFramePr>
        <p:xfrm>
          <a:off x="826920" y="1341360"/>
          <a:ext cx="7345440" cy="550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734544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360" y="620640"/>
            <a:ext cx="406692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 Black"/>
              </a:rPr>
              <a:t>HIGH PRIORITIES </a:t>
            </a:r>
            <a:br>
              <a:rPr sz="2400"/>
            </a:br>
            <a:r>
              <a:rPr b="0" lang="de-CH" sz="2400" spc="-1" strike="noStrike">
                <a:solidFill>
                  <a:srgbClr val="ffffff"/>
                </a:solidFill>
                <a:latin typeface="Arial Black"/>
              </a:rPr>
              <a:t>2008-2009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7520" y="1628640"/>
            <a:ext cx="84661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commendation 34 - Implementation of Singl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commendation 35 - Legal Aspects of Singl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rade Facilitation Implementation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tandards fo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Core Components (library of data definitions for use in electronic interchang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echnical Good Practices (methods/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on of International Supply Chain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Reference Mod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1484280"/>
            <a:ext cx="9449280" cy="5107320"/>
            <a:chOff x="19080" y="1484280"/>
            <a:chExt cx="9449280" cy="5107320"/>
          </a:xfrm>
        </p:grpSpPr>
        <p:sp>
          <p:nvSpPr>
            <p:cNvPr id="61" name=""/>
            <p:cNvSpPr/>
            <p:nvPr/>
          </p:nvSpPr>
          <p:spPr>
            <a:xfrm>
              <a:off x="19080" y="2725920"/>
              <a:ext cx="2089080" cy="93168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2760" y="2712960"/>
              <a:ext cx="2090880" cy="932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1920" y="2718000"/>
              <a:ext cx="2089080" cy="93168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84800" y="2703600"/>
              <a:ext cx="2089080" cy="93204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37280" y="2703600"/>
              <a:ext cx="2089080" cy="93204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3000" y="27036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Prepare for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89160" y="2989440"/>
              <a:ext cx="14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2000" y="296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8040" y="300852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8200" y="1484280"/>
              <a:ext cx="1822680" cy="93204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38960" y="1484280"/>
              <a:ext cx="1743120" cy="9320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24480" y="1484280"/>
              <a:ext cx="1834920" cy="93204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02200" y="1727280"/>
              <a:ext cx="111744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ffff"/>
                  </a:solidFill>
                  <a:latin typeface="Arial"/>
                </a:rPr>
                <a:t>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60720" y="1712880"/>
              <a:ext cx="103824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ffff"/>
                  </a:solidFill>
                  <a:latin typeface="Arial"/>
                </a:rPr>
                <a:t>BU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99400" y="1712880"/>
              <a:ext cx="99036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ffffff"/>
                  </a:solidFill>
                  <a:latin typeface="Arial"/>
                </a:rPr>
                <a:t>P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70800" y="270360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ffffff"/>
                  </a:solidFill>
                  <a:latin typeface="Arial"/>
                </a:rPr>
                <a:t>Prepare for 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15880" y="4532400"/>
              <a:ext cx="14511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13000" y="3770280"/>
              <a:ext cx="15159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mmercial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444760" y="4532400"/>
              <a:ext cx="167652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4440240" y="4532400"/>
              <a:ext cx="1914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444760" y="5586480"/>
              <a:ext cx="167652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522520" y="3770280"/>
              <a:ext cx="151920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ransport 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99000" y="3770280"/>
              <a:ext cx="15969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tory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6834240" y="5515200"/>
              <a:ext cx="175572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6834240" y="4532400"/>
              <a:ext cx="17557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916680" y="3770280"/>
              <a:ext cx="15973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inancial     Proced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149480" y="2487600"/>
              <a:ext cx="3112920" cy="21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41920" y="2487600"/>
              <a:ext cx="279252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51440" y="631512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9F32D93-85D8-4E47-92EC-16E0D5D0E802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F4D-BF66-4C56-951F-4F106D3081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421164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Establish Sales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Order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Advise On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9ffff"/>
                </a:solidFill>
                <a:latin typeface="Arial"/>
              </a:rPr>
              <a:t>Request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894040"/>
            <a:ext cx="2089080" cy="9316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3181320"/>
            <a:ext cx="14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56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48560" y="320040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8720" y="1676520"/>
            <a:ext cx="1822680" cy="9316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59480" y="1676520"/>
            <a:ext cx="1743120" cy="93168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5000" y="1676520"/>
            <a:ext cx="1834920" cy="93168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1919160"/>
            <a:ext cx="1117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11480" y="1905120"/>
            <a:ext cx="982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905120"/>
            <a:ext cx="9903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70000" y="2679480"/>
            <a:ext cx="311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2440" y="2679840"/>
            <a:ext cx="27925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22280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stablish Transport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llect Transport and Deliver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vide Waybills, Goods Receipts 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25124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Obtain Import/Export Lic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vide Customs Decla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Provide Cargo Decla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Apply Trade Security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9ffff"/>
                </a:solidFill>
                <a:latin typeface="Arial"/>
              </a:rPr>
              <a:t>Clear Goods for Import/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4265640"/>
            <a:ext cx="2133360" cy="2387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Provide Credit R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Provid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Provide 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Execute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9ffff"/>
                </a:solidFill>
                <a:latin typeface="Arial"/>
              </a:rPr>
              <a:t>Issue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1880" y="61372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9880" y="6154560"/>
            <a:ext cx="551160" cy="55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6154560"/>
            <a:ext cx="551160" cy="551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54560" y="6154560"/>
            <a:ext cx="551160" cy="551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02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on of International Supply Chain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Reference Mod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8597520" y="663084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C427-2B4D-4346-84CE-BBF167909B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320" y="4178160"/>
            <a:ext cx="2133360" cy="1378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94040"/>
            <a:ext cx="2089080" cy="9316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895480"/>
            <a:ext cx="2089080" cy="93204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895480"/>
            <a:ext cx="2089440" cy="9320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8954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181320"/>
            <a:ext cx="14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156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48560" y="320040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8720" y="1676520"/>
            <a:ext cx="1822680" cy="9316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59480" y="1676520"/>
            <a:ext cx="1743120" cy="93168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45000" y="1676520"/>
            <a:ext cx="1834920" cy="93168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22720" y="1919160"/>
            <a:ext cx="1117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11480" y="1905120"/>
            <a:ext cx="10224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1905120"/>
            <a:ext cx="9903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Prepare for 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70000" y="2679480"/>
            <a:ext cx="311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2679840"/>
            <a:ext cx="27925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4184640"/>
            <a:ext cx="2133360" cy="1359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4165560"/>
            <a:ext cx="2133360" cy="1339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4165560"/>
            <a:ext cx="2133360" cy="1359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47720" y="42307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79720" y="424980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89840" y="42116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451720" y="4213080"/>
            <a:ext cx="551160" cy="5511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961240" y="6058080"/>
            <a:ext cx="1657080" cy="609480"/>
            <a:chOff x="5961240" y="6058080"/>
            <a:chExt cx="1657080" cy="609480"/>
          </a:xfrm>
        </p:grpSpPr>
        <p:sp>
          <p:nvSpPr>
            <p:cNvPr id="145" name=""/>
            <p:cNvSpPr/>
            <p:nvPr/>
          </p:nvSpPr>
          <p:spPr>
            <a:xfrm>
              <a:off x="5961240" y="6058080"/>
              <a:ext cx="316080" cy="609480"/>
            </a:xfrm>
            <a:prstGeom prst="foldedCorner">
              <a:avLst>
                <a:gd name="adj" fmla="val 125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3200" y="6147000"/>
              <a:ext cx="127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consig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item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46240" y="6064200"/>
            <a:ext cx="1588680" cy="609480"/>
            <a:chOff x="2046240" y="6064200"/>
            <a:chExt cx="1588680" cy="609480"/>
          </a:xfrm>
        </p:grpSpPr>
        <p:sp>
          <p:nvSpPr>
            <p:cNvPr id="148" name=""/>
            <p:cNvSpPr/>
            <p:nvPr/>
          </p:nvSpPr>
          <p:spPr>
            <a:xfrm>
              <a:off x="2046240" y="6064200"/>
              <a:ext cx="368640" cy="60948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05400" y="6153120"/>
              <a:ext cx="9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pa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95280" y="6021360"/>
            <a:ext cx="1298160" cy="653760"/>
            <a:chOff x="395280" y="6021360"/>
            <a:chExt cx="1298160" cy="653760"/>
          </a:xfrm>
        </p:grpSpPr>
        <p:sp>
          <p:nvSpPr>
            <p:cNvPr id="151" name=""/>
            <p:cNvSpPr/>
            <p:nvPr/>
          </p:nvSpPr>
          <p:spPr>
            <a:xfrm>
              <a:off x="395280" y="6021360"/>
              <a:ext cx="378000" cy="60984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680" y="615492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ffffff"/>
                  </a:solidFill>
                  <a:latin typeface="Arial Unicode MS"/>
                </a:rPr>
                <a:t> 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par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731000" y="6076800"/>
            <a:ext cx="1542960" cy="784080"/>
            <a:chOff x="7731000" y="6076800"/>
            <a:chExt cx="1542960" cy="784080"/>
          </a:xfrm>
        </p:grpSpPr>
        <p:sp>
          <p:nvSpPr>
            <p:cNvPr id="154" name=""/>
            <p:cNvSpPr/>
            <p:nvPr/>
          </p:nvSpPr>
          <p:spPr>
            <a:xfrm>
              <a:off x="7731000" y="6076800"/>
              <a:ext cx="316440" cy="60948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50040" y="6127560"/>
              <a:ext cx="11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custo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decla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995640" y="6021360"/>
            <a:ext cx="1693440" cy="640800"/>
            <a:chOff x="3995640" y="6021360"/>
            <a:chExt cx="1693440" cy="640800"/>
          </a:xfrm>
        </p:grpSpPr>
        <p:sp>
          <p:nvSpPr>
            <p:cNvPr id="157" name=""/>
            <p:cNvSpPr/>
            <p:nvPr/>
          </p:nvSpPr>
          <p:spPr>
            <a:xfrm>
              <a:off x="3995640" y="6021360"/>
              <a:ext cx="316440" cy="609840"/>
            </a:xfrm>
            <a:prstGeom prst="foldedCorner">
              <a:avLst>
                <a:gd name="adj" fmla="val 125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46440" y="6141960"/>
              <a:ext cx="1142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trade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 Unicode MS"/>
                </a:rPr>
                <a:t>.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46040" y="4826160"/>
            <a:ext cx="31608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4284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24160" y="4838760"/>
            <a:ext cx="317160" cy="609480"/>
          </a:xfrm>
          <a:prstGeom prst="foldedCorner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7224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6160" y="4851360"/>
            <a:ext cx="315720" cy="60948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3040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05240" y="4832280"/>
            <a:ext cx="317520" cy="609840"/>
          </a:xfrm>
          <a:prstGeom prst="foldedCorner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87800" y="4851360"/>
            <a:ext cx="31752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79920" y="4870440"/>
            <a:ext cx="317520" cy="609480"/>
          </a:xfrm>
          <a:prstGeom prst="foldedCorner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2040" y="4851360"/>
            <a:ext cx="317520" cy="609480"/>
          </a:xfrm>
          <a:prstGeom prst="foldedCorner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451800" y="5661000"/>
            <a:ext cx="10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 Unicode MS"/>
              </a:rPr>
              <a:t>Efficiencies from re-using UN/CEFACT core component vocabulary (end-to-end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5828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on of International Supply Chain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Reference Mode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8898480" y="660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55:12Z</dcterms:created>
  <dc:creator>dclly</dc:creator>
  <dc:description/>
  <dc:language>en-US</dc:language>
  <cp:lastModifiedBy>Cram</cp:lastModifiedBy>
  <cp:lastPrinted>2007-09-19T14:57:46Z</cp:lastPrinted>
  <dcterms:modified xsi:type="dcterms:W3CDTF">2008-09-23T06:48:25Z</dcterms:modified>
  <cp:revision>156</cp:revision>
  <dc:subject/>
  <dc:title>PowerPoint Presentation</dc:title>
</cp:coreProperties>
</file>