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801-EAF1-4C81-80F3-09078865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7F2-B632-42BE-883F-03386269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8AC3-6CBC-46CD-AEF2-8A40CC4B38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FB0C-B9D8-4687-AA77-023DE9BF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A804-5499-4C17-99C1-449C821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7CBE-B35C-47FE-BCD5-BEC4A3445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78B8F-39A4-41F4-B38A-B1024EA12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5D33-F509-407F-85FC-59236CA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E895A-2543-42B6-BD03-E12C41E0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252EC-9F3E-4EB4-B9F3-3D73EE9D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F1879-5647-49E6-8752-D3CBD109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D2DAF-40F1-4FA9-83C5-BB0814B4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56CE1-CC75-40AF-A03E-1E81CB88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5CBA-6B67-4BDE-ACBA-A1B02B0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6C9E6-6F65-4C4E-AE9C-A5710B83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EDCED-2F0A-42DD-9402-A74C406B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1309C-782F-4118-829E-B0BACB82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C27A3-B14F-48C1-9F3D-D1E87C9B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22F9-7543-4CBA-967B-B766B199A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0190-0881-47B0-A9F7-ADD4010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7526-8A25-4BFE-8221-7C2FCA0C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E8D1-EAE5-42FC-8AA4-D4EAC664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2C89-254A-48D0-9A7D-67B24798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CC15-9267-4B50-A793-6877993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19FE-5431-4213-A38B-CD8C4610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09C5-5D64-422C-9D42-0D3002D2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C00F-F596-40E9-955E-A9459252D4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B276-7BE8-4F8A-9524-8694C265A8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0920" y="620640"/>
            <a:ext cx="5023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PR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IPR Task Team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ginia Cram-Ma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CE Trade and Timbe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5E2E-CDBA-4538-BA03-80161AE62F0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08360" y="691920"/>
            <a:ext cx="48960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comme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end the Open Development Process (ODP) to include the specific milestones applicable to IPR disclosure and waiver under the IPR Pol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ablish a standing IPR Task team to be available to examine on an ongoing basis questions related to IPR and to organize discussions with participants and invited expe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ablish guidelines for the Bureau for handling the consideration of IPR related inquiries and concerns in a timely mann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ider making available information about dispute resolution mechanisms to address legal disputes between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A4B8-5D5C-4011-B962-1D4CD2CFC5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spcBef>
                <a:spcPts val="799"/>
              </a:spcBef>
              <a:buClr>
                <a:srgbClr val="395da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nalize drafts of revised documents before or at the November UN/CEFACT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395da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bmit revised documents for inter-sessional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395da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firm willingness of IPR Task Team members to be part of a permanent advisor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8FBA-8647-4123-A057-8533C69543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0920" y="620640"/>
            <a:ext cx="5023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PR Objectiv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f UN/CEFACT IPR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o issue Specific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at 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e imple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ithout fees or restr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A810-9B7C-4703-9982-06BD90C9AD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0920" y="620640"/>
            <a:ext cx="5023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PR in the U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s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OT NEGOT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ithin the U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5F53-1FC1-483D-9A4D-FA6E51D1A3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echanism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echanism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chieving the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PR Policy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ECE/TRADE/CEFACT/2006/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ocedures              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Trade/R.650/Rev.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pen Development Process</a:t>
            </a: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Trade/R.650/Rev.4/Add.1/Rev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de of Conduct</a:t>
            </a: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Trade/R.650/Rev.4/Add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D62D-2DBA-4426-87DD-179C808D0D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was the IPR Task Team set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was set up by the Bureau and the FMG to respond to concerns expressed from within UN/CEFACT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41040" y="3933720"/>
            <a:ext cx="54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of 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s of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for Vio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952F-3684-43BE-BB44-B857180040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457200" y="1413000"/>
            <a:ext cx="8989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als set for the Task Team wer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better understanding of UN/CEFACT IPR Policy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input from UN/CEFACT plenary members and participating experts that involve any concerns about the IPR Policy and related good practices and procedur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n its work to the Bureau on a timely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guidance to the Bureau in its consideration of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AF42-6DC9-4220-B03E-06E6A50361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2520" y="620280"/>
            <a:ext cx="365148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Memb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808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8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k team members includ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t Schermer, UN/CEFACT Legal Group,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 Kovar, U.S. Mission Geneva, Legal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r. Philippe Baechtold (WI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Bechauf (S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Coats (White and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ginia Cram-Martos (UN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ardo Gutentag (OASIS and W3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Luddy (UN/CEFACT Lega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mela Samuelson (Boalt Hall School of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 Toufar (UN/CEFACT TBG  Vice Ch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Vinje (Clifford Ch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2640" y="35053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1C67-3E1B-41C1-9A41-0FA04CB4BF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ask Team concludes that the UN/CEFACT IPR policy is adequate, effective, meets or exceeds the protections of other SDOs, and is well-tailored to the requirements of UN/CEFACT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6866-9D69-4C49-B4D2-CCC127DEC3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08360" y="691920"/>
            <a:ext cx="48960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comme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nd the Code of Conduct to all participants, and strengthen it in important areas, particularly with respect to the duties of working group chairs and others in leadership pos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ew and, where useful, re-issue specifications issued before the IPR policy was promulgated for the purpose of ensuring application of the pol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seminate information about the IPR policy and Code of Conduct to participants at every UN/CEFACT For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ider promulgating additional guidelines for the implementation of the IPR pol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7818-2888-4CA3-80C1-0D8B76CF5D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am</cp:lastModifiedBy>
  <dcterms:modified xsi:type="dcterms:W3CDTF">2008-09-16T22:06:58Z</dcterms:modified>
  <cp:revision>125</cp:revision>
  <dc:subject/>
  <dc:title>PowerPoint Presentation</dc:title>
</cp:coreProperties>
</file>