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FB32-BE95-4F8F-B297-F374A9654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EFFC-7915-400B-B8BD-0596D9B9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3EA5-2DBB-43CE-9155-1EF449014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4F90-0183-41D2-85E7-7A847572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362F-198A-4388-AC7F-02B5E3B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C951-92D9-403C-9A2C-9DF191BBA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0E23-9613-4C6A-A945-201091ACA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9CDD-038D-4A90-B6A8-3B40C3C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36ADD-6EDE-433F-8678-2ABA4AE3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7180-3BE0-4C21-97CD-E63CA50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1BE15-7FC5-4B3B-ADA7-210B587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B250-FA0B-4426-BBA8-EFBCBAF7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4F2ED-91C2-40E4-BCDD-B230D0D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8384-C1DA-4541-AB3B-257BCE23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9D7AC-9A97-4FE8-952E-AE4F86A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93457-E063-44BD-8EED-06617BA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4B2D2-3FD4-4077-94C9-8806123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433E0-68A3-4550-94D2-C8930773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E6D15-F04B-4120-A2F3-5306C8671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F7E7-F641-4E6D-8889-B8EA4EE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DFE8-1EA7-489D-B83E-4D414AC3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DED3-03A6-438C-BAC5-D05AD835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FEAC-0426-47A2-9E44-9A93185D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6EE7-19FD-4887-B1F7-55DD689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7C1C-C7AA-4A57-8CEF-5F10D2FE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F613-DBF1-4E48-9AA9-DE46FAD2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249-DEC5-48C8-A1E8-7C4EB709AA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9BE4-FF38-4F59-BEA1-E35848F5E9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IPR Task Team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CE Trade and Timbe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C26E-8B90-49AE-BF79-4DCDEB7D758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08360" y="691920"/>
            <a:ext cx="4896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end the Open Development Process (ODP) to include the specific milestones applicable to IPR disclosure and waiver under the IPR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ablish a standing IPR Task team to be available to examine on an ongoing basis questions related to IPR and to organize discussions with participants and invited expe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ablish guidelines for the Bureau for handling the consideration of IPR related inquiries and concerns in a timely mann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ider making available information about dispute resolution mechanisms to address legal disputes betwee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A1C7-25CA-4BD6-901E-0B7975DD19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nalize drafts of revised documents before or at the November UN/CEFACT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bmit revised documents for inter-sessional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395da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firm willingness of IPR Task Team members to be part of a permanent advisor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10B0-C697-4480-8C4B-D95F45C6F4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Objectiv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 UN/CEFACT IPR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o issue Specif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at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e imple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ithout fees or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02A5-F330-42E7-AFF6-8C6CE22CF9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0920" y="620640"/>
            <a:ext cx="50230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PR in the 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OT NEGOT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ithin the U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EFD3-6654-4EB8-B223-8B7A66ADEE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chanism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echanism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chieving the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PR Policy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ECE/TRADE/CEFACT/2006/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ocedures             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pen Development Process</a:t>
            </a: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/Add.1/Rev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de of Conduct</a:t>
            </a: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Trade/R.650/Rev.4/Add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1B3C-4C9E-4291-A2AC-F91074C21D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was the IPR Task Team set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was set up by the Bureau and the FMG to respond to concerns expressed from within UN/CEFACT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41040" y="3933720"/>
            <a:ext cx="54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of 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s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for Vio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E677-48A3-445E-B5B8-81F160A2EE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457200" y="1413000"/>
            <a:ext cx="8989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als set for the Task Team wer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better understanding of UN/CEFACT IPR Policy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input from UN/CEFACT plenary members and participating experts that involve any concerns about the IPR Policy and related good practices and procedu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n its work to the Bureau on a time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guidance to the Bureau in its consideration of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1CF3-649E-4074-B726-8D360CAE82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520" y="620280"/>
            <a:ext cx="365148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Membe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808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k team members includ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t Schermer, UN/CEFACT Legal Group,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Kovar, U.S. Mission Geneva, Legal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r. Philippe Baechtold (WI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Bechauf (S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Coats (White and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ginia Cram-Martos (UN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ardo Gutentag (OASIS and W3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Luddy (UN/CEFACT Lega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mela Samuelson (Boalt Hall School of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 Toufar (UN/CEFACT TBG  Vice 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395da5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Vinje (Clifford Ch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2640" y="35053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B636-85F4-4542-B7D9-1A359AC219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ask Team concludes that the UN/CEFACT IPR policy is adequate, effective, meets or exceeds the protections of other SDOs, and is well-tailored to the requirements of UN/CEFACT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3535-41E5-443C-A374-66A9B3395B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08360" y="691920"/>
            <a:ext cx="4896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 the Code of Conduct to all participants, and strengthen it in important areas, particularly with respect to the duties of working group chairs and others in leadership pos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ew and, where useful, re-issue specifications issued before the IPR policy was promulgated for the purpose of ensuring application of the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seminate information about the IPR policy and Code of Conduct to participants at every UN/CEFACT For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ider promulgating additional guidelines for the implementation of the IPR pol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6C38-7AB2-4DBA-AB67-608BEDDDB4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September 2007</a:t>
            </a: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am</cp:lastModifiedBy>
  <dcterms:modified xsi:type="dcterms:W3CDTF">2008-09-16T22:06:58Z</dcterms:modified>
  <cp:revision>125</cp:revision>
  <dc:subject/>
  <dc:title>PowerPoint Presentation</dc:title>
</cp:coreProperties>
</file>