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3920" y="147240"/>
            <a:ext cx="57690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14280" y="1614240"/>
            <a:ext cx="852480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14280" y="3907800"/>
            <a:ext cx="852480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13920" y="147240"/>
            <a:ext cx="57690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14280" y="1614240"/>
            <a:ext cx="415980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2520" y="1614240"/>
            <a:ext cx="415980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14280" y="3907800"/>
            <a:ext cx="415980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2520" y="3907800"/>
            <a:ext cx="415980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13920" y="147240"/>
            <a:ext cx="57690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14280" y="1614240"/>
            <a:ext cx="274464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6440" y="1614240"/>
            <a:ext cx="274464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78960" y="1614240"/>
            <a:ext cx="274464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14280" y="3907800"/>
            <a:ext cx="274464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6440" y="3907800"/>
            <a:ext cx="274464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78960" y="3907800"/>
            <a:ext cx="274464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13920" y="147240"/>
            <a:ext cx="57690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14280" y="1614240"/>
            <a:ext cx="8524800" cy="43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3920" y="147240"/>
            <a:ext cx="57690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14280" y="1614240"/>
            <a:ext cx="8524800" cy="4390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3920" y="147240"/>
            <a:ext cx="57690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14280" y="1614240"/>
            <a:ext cx="4159800" cy="4390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82520" y="1614240"/>
            <a:ext cx="4159800" cy="4390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13920" y="147240"/>
            <a:ext cx="57690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313920" y="147240"/>
            <a:ext cx="5769000" cy="278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3920" y="147240"/>
            <a:ext cx="57690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14280" y="1614240"/>
            <a:ext cx="415980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82520" y="1614240"/>
            <a:ext cx="4159800" cy="4390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14280" y="3907800"/>
            <a:ext cx="415980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13920" y="147240"/>
            <a:ext cx="57690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14280" y="1614240"/>
            <a:ext cx="8524800" cy="43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3920" y="147240"/>
            <a:ext cx="57690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14280" y="1614240"/>
            <a:ext cx="4159800" cy="4390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2520" y="1614240"/>
            <a:ext cx="415980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82520" y="3907800"/>
            <a:ext cx="415980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13920" y="147240"/>
            <a:ext cx="57690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14280" y="1614240"/>
            <a:ext cx="415980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2520" y="1614240"/>
            <a:ext cx="415980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14280" y="3907800"/>
            <a:ext cx="852480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13920" y="147240"/>
            <a:ext cx="57690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14280" y="1614240"/>
            <a:ext cx="852480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14280" y="3907800"/>
            <a:ext cx="852480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3920" y="147240"/>
            <a:ext cx="57690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14280" y="1614240"/>
            <a:ext cx="415980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2520" y="1614240"/>
            <a:ext cx="415980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14280" y="3907800"/>
            <a:ext cx="415980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82520" y="3907800"/>
            <a:ext cx="415980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13920" y="147240"/>
            <a:ext cx="57690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14280" y="1614240"/>
            <a:ext cx="274464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6440" y="1614240"/>
            <a:ext cx="274464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78960" y="1614240"/>
            <a:ext cx="274464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14280" y="3907800"/>
            <a:ext cx="274464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6440" y="3907800"/>
            <a:ext cx="274464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78960" y="3907800"/>
            <a:ext cx="274464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13920" y="147240"/>
            <a:ext cx="57690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14280" y="1614240"/>
            <a:ext cx="8524800" cy="4390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3920" y="147240"/>
            <a:ext cx="57690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14280" y="1614240"/>
            <a:ext cx="4159800" cy="4390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2520" y="1614240"/>
            <a:ext cx="4159800" cy="4390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13920" y="147240"/>
            <a:ext cx="57690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13920" y="147240"/>
            <a:ext cx="5769000" cy="278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13920" y="147240"/>
            <a:ext cx="57690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14280" y="1614240"/>
            <a:ext cx="415980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2520" y="1614240"/>
            <a:ext cx="4159800" cy="4390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14280" y="3907800"/>
            <a:ext cx="415980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3920" y="147240"/>
            <a:ext cx="57690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14280" y="1614240"/>
            <a:ext cx="4159800" cy="4390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2520" y="1614240"/>
            <a:ext cx="415980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2520" y="3907800"/>
            <a:ext cx="415980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3920" y="147240"/>
            <a:ext cx="57690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14280" y="1614240"/>
            <a:ext cx="415980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2520" y="1614240"/>
            <a:ext cx="415980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14280" y="3907800"/>
            <a:ext cx="852480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2162160" y="6408720"/>
            <a:ext cx="478476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13920" y="147240"/>
            <a:ext cx="57690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219240" y="6408720"/>
            <a:ext cx="134280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314280" y="1614240"/>
            <a:ext cx="8524800" cy="4390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190440" indent="-190440">
              <a:spcBef>
                <a:spcPts val="15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spcBef>
                <a:spcPts val="1500"/>
              </a:spcBef>
              <a:buClr>
                <a:srgbClr val="4f81b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61960" indent="-179280">
              <a:spcBef>
                <a:spcPts val="1500"/>
              </a:spcBef>
              <a:buClr>
                <a:srgbClr val="4f81b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68240" indent="-204840">
              <a:spcBef>
                <a:spcPts val="1500"/>
              </a:spcBef>
              <a:buClr>
                <a:srgbClr val="4f81b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050840" indent="-168120">
              <a:spcBef>
                <a:spcPts val="1500"/>
              </a:spcBef>
              <a:buClr>
                <a:srgbClr val="4f81b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050840" indent="-168120">
              <a:spcBef>
                <a:spcPts val="15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050840" indent="-168120">
              <a:spcBef>
                <a:spcPts val="15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109"/>
          <p:cNvSpPr/>
          <p:nvPr/>
        </p:nvSpPr>
        <p:spPr>
          <a:xfrm>
            <a:off x="0" y="5546880"/>
            <a:ext cx="8831160" cy="871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13920" y="147240"/>
            <a:ext cx="57690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14280" y="1614240"/>
            <a:ext cx="8524800" cy="4390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190440" indent="-190440">
              <a:spcBef>
                <a:spcPts val="15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spcBef>
                <a:spcPts val="1500"/>
              </a:spcBef>
              <a:buClr>
                <a:srgbClr val="4f81b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61960" indent="-179280">
              <a:spcBef>
                <a:spcPts val="1500"/>
              </a:spcBef>
              <a:buClr>
                <a:srgbClr val="4f81b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68240" indent="-204840">
              <a:spcBef>
                <a:spcPts val="1500"/>
              </a:spcBef>
              <a:buClr>
                <a:srgbClr val="4f81b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050840" indent="-168120">
              <a:spcBef>
                <a:spcPts val="1500"/>
              </a:spcBef>
              <a:buClr>
                <a:srgbClr val="4f81b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050840" indent="-168120">
              <a:spcBef>
                <a:spcPts val="15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050840" indent="-168120">
              <a:spcBef>
                <a:spcPts val="15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160" y="3906720"/>
            <a:ext cx="8305560" cy="5889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eBusiness Government &amp; Trade Overview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533520" y="4648320"/>
            <a:ext cx="7510320" cy="738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United Nations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entre for Trade Facilitation and Electronic Busines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3920" y="147240"/>
            <a:ext cx="57690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ap Analysi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13920" y="1614240"/>
            <a:ext cx="4186440" cy="4390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90440" indent="-190440">
              <a:spcBef>
                <a:spcPts val="21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653000" y="1614240"/>
            <a:ext cx="4186080" cy="4390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90440" indent="-190440">
              <a:spcBef>
                <a:spcPts val="21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aps in deliverables supporting business, government and tra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21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aps in technical methodolog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ounded Rectangle 5"/>
          <p:cNvSpPr/>
          <p:nvPr/>
        </p:nvSpPr>
        <p:spPr>
          <a:xfrm>
            <a:off x="2362320" y="2133720"/>
            <a:ext cx="1828800" cy="1711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Stand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ounded Rectangle 7"/>
          <p:cNvSpPr/>
          <p:nvPr/>
        </p:nvSpPr>
        <p:spPr>
          <a:xfrm>
            <a:off x="457200" y="3927600"/>
            <a:ext cx="1828800" cy="1711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un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ounded Rectangle 8"/>
          <p:cNvGrpSpPr/>
          <p:nvPr/>
        </p:nvGrpSpPr>
        <p:grpSpPr>
          <a:xfrm>
            <a:off x="244440" y="1920960"/>
            <a:ext cx="2254320" cy="2138400"/>
            <a:chOff x="244440" y="1920960"/>
            <a:chExt cx="2254320" cy="2138400"/>
          </a:xfrm>
        </p:grpSpPr>
        <p:pic>
          <p:nvPicPr>
            <p:cNvPr id="148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244440" y="1920960"/>
              <a:ext cx="2254320" cy="213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541440" y="2217600"/>
              <a:ext cx="1660320" cy="154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ap Analysi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Rounded Rectangle 9"/>
          <p:cNvSpPr/>
          <p:nvPr/>
        </p:nvSpPr>
        <p:spPr>
          <a:xfrm>
            <a:off x="2362320" y="3927600"/>
            <a:ext cx="1828800" cy="1711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pacity Buil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13920" y="147240"/>
            <a:ext cx="57690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ctivity Interrelationship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Rounded Rectangle 5"/>
          <p:cNvSpPr/>
          <p:nvPr/>
        </p:nvSpPr>
        <p:spPr>
          <a:xfrm>
            <a:off x="6858000" y="1417680"/>
            <a:ext cx="1828800" cy="1711440"/>
          </a:xfrm>
          <a:prstGeom prst="roundRect">
            <a:avLst>
              <a:gd name="adj" fmla="val 16667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line Stand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ounded Rectangle 7"/>
          <p:cNvSpPr/>
          <p:nvPr/>
        </p:nvSpPr>
        <p:spPr>
          <a:xfrm>
            <a:off x="457200" y="4800600"/>
            <a:ext cx="1828800" cy="171144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mmun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ounded Rectangle 8"/>
          <p:cNvSpPr/>
          <p:nvPr/>
        </p:nvSpPr>
        <p:spPr>
          <a:xfrm>
            <a:off x="457200" y="1417680"/>
            <a:ext cx="1828800" cy="1711440"/>
          </a:xfrm>
          <a:prstGeom prst="roundRect">
            <a:avLst>
              <a:gd name="adj" fmla="val 16667"/>
            </a:avLst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ap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ounded Rectangle 9"/>
          <p:cNvSpPr/>
          <p:nvPr/>
        </p:nvSpPr>
        <p:spPr>
          <a:xfrm>
            <a:off x="6858000" y="4800600"/>
            <a:ext cx="1828800" cy="17114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pacity Buil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eft-Right Arrow 6"/>
          <p:cNvSpPr/>
          <p:nvPr/>
        </p:nvSpPr>
        <p:spPr>
          <a:xfrm>
            <a:off x="2286000" y="2133720"/>
            <a:ext cx="4572000" cy="304560"/>
          </a:xfrm>
          <a:prstGeom prst="leftRightArrow">
            <a:avLst>
              <a:gd name="adj1" fmla="val 50000"/>
              <a:gd name="adj2" fmla="val 50039"/>
            </a:avLst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eft-Right Arrow 11"/>
          <p:cNvSpPr/>
          <p:nvPr/>
        </p:nvSpPr>
        <p:spPr>
          <a:xfrm>
            <a:off x="2286000" y="5562720"/>
            <a:ext cx="4572000" cy="304560"/>
          </a:xfrm>
          <a:prstGeom prst="leftRightArrow">
            <a:avLst>
              <a:gd name="adj1" fmla="val 50000"/>
              <a:gd name="adj2" fmla="val 50039"/>
            </a:avLst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eft-Right Arrow 12"/>
          <p:cNvSpPr/>
          <p:nvPr/>
        </p:nvSpPr>
        <p:spPr>
          <a:xfrm rot="16200000">
            <a:off x="535680" y="3812040"/>
            <a:ext cx="1671480" cy="304560"/>
          </a:xfrm>
          <a:prstGeom prst="leftRightArrow">
            <a:avLst>
              <a:gd name="adj1" fmla="val 50000"/>
              <a:gd name="adj2" fmla="val 50029"/>
            </a:avLst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eft-Right Arrow 13"/>
          <p:cNvSpPr/>
          <p:nvPr/>
        </p:nvSpPr>
        <p:spPr>
          <a:xfrm rot="16200000">
            <a:off x="6936480" y="3812040"/>
            <a:ext cx="1671480" cy="304560"/>
          </a:xfrm>
          <a:prstGeom prst="leftRightArrow">
            <a:avLst>
              <a:gd name="adj1" fmla="val 50000"/>
              <a:gd name="adj2" fmla="val 50029"/>
            </a:avLst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eft-Right Arrow 14"/>
          <p:cNvSpPr/>
          <p:nvPr/>
        </p:nvSpPr>
        <p:spPr>
          <a:xfrm rot="20374200">
            <a:off x="2047680" y="3843000"/>
            <a:ext cx="5105160" cy="304920"/>
          </a:xfrm>
          <a:prstGeom prst="leftRightArrow">
            <a:avLst>
              <a:gd name="adj1" fmla="val 50000"/>
              <a:gd name="adj2" fmla="val 49995"/>
            </a:avLst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eft-Right Arrow 15"/>
          <p:cNvSpPr/>
          <p:nvPr/>
        </p:nvSpPr>
        <p:spPr>
          <a:xfrm flipH="1" rot="1225800">
            <a:off x="1991880" y="3843360"/>
            <a:ext cx="5105520" cy="304560"/>
          </a:xfrm>
          <a:prstGeom prst="leftRightArrow">
            <a:avLst>
              <a:gd name="adj1" fmla="val 50000"/>
              <a:gd name="adj2" fmla="val 50058"/>
            </a:avLst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13920" y="147240"/>
            <a:ext cx="57690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nline Standards – Gap Analysi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2514600" y="2666520"/>
            <a:ext cx="4038480" cy="3459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90440" indent="-190440">
              <a:spcBef>
                <a:spcPts val="15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siness, Government and Trade Perspecti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spcBef>
                <a:spcPts val="675"/>
              </a:spcBef>
              <a:buClr>
                <a:srgbClr val="4f81b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cilitates a detailed examination of artefacts supporting the Buy-Ship-Pay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ounded Rectangle 5"/>
          <p:cNvSpPr/>
          <p:nvPr/>
        </p:nvSpPr>
        <p:spPr>
          <a:xfrm>
            <a:off x="6858000" y="1417680"/>
            <a:ext cx="1828800" cy="1711440"/>
          </a:xfrm>
          <a:prstGeom prst="roundRect">
            <a:avLst>
              <a:gd name="adj" fmla="val 16667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line Stand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ounded Rectangle 7"/>
          <p:cNvSpPr/>
          <p:nvPr/>
        </p:nvSpPr>
        <p:spPr>
          <a:xfrm>
            <a:off x="457200" y="4800600"/>
            <a:ext cx="1828800" cy="171144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mmun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ounded Rectangle 8"/>
          <p:cNvSpPr/>
          <p:nvPr/>
        </p:nvSpPr>
        <p:spPr>
          <a:xfrm>
            <a:off x="457200" y="1417680"/>
            <a:ext cx="1828800" cy="1711440"/>
          </a:xfrm>
          <a:prstGeom prst="roundRect">
            <a:avLst>
              <a:gd name="adj" fmla="val 16667"/>
            </a:avLst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ap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ounded Rectangle 9"/>
          <p:cNvSpPr/>
          <p:nvPr/>
        </p:nvSpPr>
        <p:spPr>
          <a:xfrm>
            <a:off x="6858000" y="4800600"/>
            <a:ext cx="1828800" cy="17114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pacity Buil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eft-Right Arrow 6"/>
          <p:cNvSpPr/>
          <p:nvPr/>
        </p:nvSpPr>
        <p:spPr>
          <a:xfrm>
            <a:off x="2286000" y="2133720"/>
            <a:ext cx="4572000" cy="304560"/>
          </a:xfrm>
          <a:prstGeom prst="leftRightArrow">
            <a:avLst>
              <a:gd name="adj1" fmla="val 50000"/>
              <a:gd name="adj2" fmla="val 50039"/>
            </a:avLst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13920" y="147240"/>
            <a:ext cx="57690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nline Standards – Gap Analysi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2514600" y="2666520"/>
            <a:ext cx="4038480" cy="3459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90440" indent="-190440">
              <a:spcBef>
                <a:spcPts val="15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chnical Perspecti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spcBef>
                <a:spcPts val="675"/>
              </a:spcBef>
              <a:buClr>
                <a:srgbClr val="4f81b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cilitates a detailed examination of how the technical components fit toge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ounded Rectangle 5"/>
          <p:cNvSpPr/>
          <p:nvPr/>
        </p:nvSpPr>
        <p:spPr>
          <a:xfrm>
            <a:off x="6858000" y="1417680"/>
            <a:ext cx="1828800" cy="1711440"/>
          </a:xfrm>
          <a:prstGeom prst="roundRect">
            <a:avLst>
              <a:gd name="adj" fmla="val 16667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line Stand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ounded Rectangle 7"/>
          <p:cNvSpPr/>
          <p:nvPr/>
        </p:nvSpPr>
        <p:spPr>
          <a:xfrm>
            <a:off x="457200" y="4800600"/>
            <a:ext cx="1828800" cy="171144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mmun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ounded Rectangle 8"/>
          <p:cNvSpPr/>
          <p:nvPr/>
        </p:nvSpPr>
        <p:spPr>
          <a:xfrm>
            <a:off x="457200" y="1417680"/>
            <a:ext cx="1828800" cy="1711440"/>
          </a:xfrm>
          <a:prstGeom prst="roundRect">
            <a:avLst>
              <a:gd name="adj" fmla="val 16667"/>
            </a:avLst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ap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ounded Rectangle 9"/>
          <p:cNvSpPr/>
          <p:nvPr/>
        </p:nvSpPr>
        <p:spPr>
          <a:xfrm>
            <a:off x="6858000" y="4800600"/>
            <a:ext cx="1828800" cy="17114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pacity Buil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eft-Right Arrow 6"/>
          <p:cNvSpPr/>
          <p:nvPr/>
        </p:nvSpPr>
        <p:spPr>
          <a:xfrm>
            <a:off x="2286000" y="2133720"/>
            <a:ext cx="4572000" cy="304560"/>
          </a:xfrm>
          <a:prstGeom prst="leftRightArrow">
            <a:avLst>
              <a:gd name="adj1" fmla="val 50000"/>
              <a:gd name="adj2" fmla="val 50039"/>
            </a:avLst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13920" y="147240"/>
            <a:ext cx="57690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nline Standards – Capacity Build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146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90440" indent="-190440">
              <a:spcBef>
                <a:spcPts val="15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SS support for Buy-Ship-Pay is key for Capacity Build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15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versally understo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15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the CEFACT approac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ounded Rectangle 5"/>
          <p:cNvSpPr/>
          <p:nvPr/>
        </p:nvSpPr>
        <p:spPr>
          <a:xfrm>
            <a:off x="6858000" y="1417680"/>
            <a:ext cx="1828800" cy="1711440"/>
          </a:xfrm>
          <a:prstGeom prst="roundRect">
            <a:avLst>
              <a:gd name="adj" fmla="val 16667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line Stand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ounded Rectangle 7"/>
          <p:cNvSpPr/>
          <p:nvPr/>
        </p:nvSpPr>
        <p:spPr>
          <a:xfrm>
            <a:off x="457200" y="4800600"/>
            <a:ext cx="1828800" cy="171144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mmun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ounded Rectangle 8"/>
          <p:cNvSpPr/>
          <p:nvPr/>
        </p:nvSpPr>
        <p:spPr>
          <a:xfrm>
            <a:off x="457200" y="1417680"/>
            <a:ext cx="1828800" cy="1711440"/>
          </a:xfrm>
          <a:prstGeom prst="roundRect">
            <a:avLst>
              <a:gd name="adj" fmla="val 16667"/>
            </a:avLst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ap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ounded Rectangle 9"/>
          <p:cNvSpPr/>
          <p:nvPr/>
        </p:nvSpPr>
        <p:spPr>
          <a:xfrm>
            <a:off x="6858000" y="4800600"/>
            <a:ext cx="1828800" cy="17114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pacity Buil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eft-Right Arrow 13"/>
          <p:cNvSpPr/>
          <p:nvPr/>
        </p:nvSpPr>
        <p:spPr>
          <a:xfrm rot="16200000">
            <a:off x="6936480" y="3812040"/>
            <a:ext cx="1671480" cy="304560"/>
          </a:xfrm>
          <a:prstGeom prst="leftRightArrow">
            <a:avLst>
              <a:gd name="adj1" fmla="val 50000"/>
              <a:gd name="adj2" fmla="val 50029"/>
            </a:avLst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9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Left-Right Arrow 15"/>
          <p:cNvSpPr/>
          <p:nvPr/>
        </p:nvSpPr>
        <p:spPr>
          <a:xfrm flipH="1" rot="1225800">
            <a:off x="1991880" y="3843360"/>
            <a:ext cx="5105520" cy="304560"/>
          </a:xfrm>
          <a:prstGeom prst="leftRightArrow">
            <a:avLst>
              <a:gd name="adj1" fmla="val 50000"/>
              <a:gd name="adj2" fmla="val 50058"/>
            </a:avLst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13920" y="147240"/>
            <a:ext cx="57690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pacity Building – Gap Analysi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2514600" y="12193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90440" indent="-190440">
              <a:spcBef>
                <a:spcPts val="15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pacity-building activities should reveal gaps/issues with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spcBef>
                <a:spcPts val="675"/>
              </a:spcBef>
              <a:buClr>
                <a:srgbClr val="4f81b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siness, Government and Trade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spcBef>
                <a:spcPts val="675"/>
              </a:spcBef>
              <a:buClr>
                <a:srgbClr val="4f81b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chnical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spcBef>
                <a:spcPts val="675"/>
              </a:spcBef>
              <a:buClr>
                <a:srgbClr val="4f81b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ing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ounded Rectangle 5"/>
          <p:cNvSpPr/>
          <p:nvPr/>
        </p:nvSpPr>
        <p:spPr>
          <a:xfrm>
            <a:off x="6858000" y="1417680"/>
            <a:ext cx="1828800" cy="1711440"/>
          </a:xfrm>
          <a:prstGeom prst="roundRect">
            <a:avLst>
              <a:gd name="adj" fmla="val 16667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line Stand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ounded Rectangle 7"/>
          <p:cNvSpPr/>
          <p:nvPr/>
        </p:nvSpPr>
        <p:spPr>
          <a:xfrm>
            <a:off x="457200" y="4800600"/>
            <a:ext cx="1828800" cy="171144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mmun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ounded Rectangle 8"/>
          <p:cNvSpPr/>
          <p:nvPr/>
        </p:nvSpPr>
        <p:spPr>
          <a:xfrm>
            <a:off x="457200" y="1417680"/>
            <a:ext cx="1828800" cy="1711440"/>
          </a:xfrm>
          <a:prstGeom prst="roundRect">
            <a:avLst>
              <a:gd name="adj" fmla="val 16667"/>
            </a:avLst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ap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ounded Rectangle 9"/>
          <p:cNvSpPr/>
          <p:nvPr/>
        </p:nvSpPr>
        <p:spPr>
          <a:xfrm>
            <a:off x="6858000" y="4800600"/>
            <a:ext cx="1828800" cy="17114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pacity Buil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9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5" nodeType="after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56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57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58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259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3000"/>
                            </p:stCondLst>
                            <p:childTnLst>
                              <p:par>
                                <p:cTn id="2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13920" y="147240"/>
            <a:ext cx="57690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munication – Oth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25146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90440" indent="-190440">
              <a:spcBef>
                <a:spcPts val="15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vious connections to Online Standards and Capacity Build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15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ap Analysi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spcBef>
                <a:spcPts val="675"/>
              </a:spcBef>
              <a:buClr>
                <a:srgbClr val="4f81b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sperce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spcBef>
                <a:spcPts val="675"/>
              </a:spcBef>
              <a:buClr>
                <a:srgbClr val="4f81b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” ga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ounded Rectangle 5"/>
          <p:cNvSpPr/>
          <p:nvPr/>
        </p:nvSpPr>
        <p:spPr>
          <a:xfrm>
            <a:off x="6858000" y="1417680"/>
            <a:ext cx="1828800" cy="1711440"/>
          </a:xfrm>
          <a:prstGeom prst="roundRect">
            <a:avLst>
              <a:gd name="adj" fmla="val 16667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line Stand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ounded Rectangle 7"/>
          <p:cNvSpPr/>
          <p:nvPr/>
        </p:nvSpPr>
        <p:spPr>
          <a:xfrm>
            <a:off x="457200" y="4800600"/>
            <a:ext cx="1828800" cy="171144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mmun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ounded Rectangle 8"/>
          <p:cNvSpPr/>
          <p:nvPr/>
        </p:nvSpPr>
        <p:spPr>
          <a:xfrm>
            <a:off x="457200" y="1417680"/>
            <a:ext cx="1828800" cy="1711440"/>
          </a:xfrm>
          <a:prstGeom prst="roundRect">
            <a:avLst>
              <a:gd name="adj" fmla="val 16667"/>
            </a:avLst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ap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ounded Rectangle 9"/>
          <p:cNvSpPr/>
          <p:nvPr/>
        </p:nvSpPr>
        <p:spPr>
          <a:xfrm>
            <a:off x="6858000" y="4800600"/>
            <a:ext cx="1828800" cy="17114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pacity Buil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eft-Right Arrow 11"/>
          <p:cNvSpPr/>
          <p:nvPr/>
        </p:nvSpPr>
        <p:spPr>
          <a:xfrm>
            <a:off x="2286000" y="5562720"/>
            <a:ext cx="4572000" cy="304560"/>
          </a:xfrm>
          <a:prstGeom prst="leftRightArrow">
            <a:avLst>
              <a:gd name="adj1" fmla="val 50000"/>
              <a:gd name="adj2" fmla="val 50039"/>
            </a:avLst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eft-Right Arrow 12"/>
          <p:cNvSpPr/>
          <p:nvPr/>
        </p:nvSpPr>
        <p:spPr>
          <a:xfrm rot="16200000">
            <a:off x="535680" y="3812040"/>
            <a:ext cx="1671480" cy="304560"/>
          </a:xfrm>
          <a:prstGeom prst="leftRightArrow">
            <a:avLst>
              <a:gd name="adj1" fmla="val 50000"/>
              <a:gd name="adj2" fmla="val 50029"/>
            </a:avLst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eft-Right Arrow 14"/>
          <p:cNvSpPr/>
          <p:nvPr/>
        </p:nvSpPr>
        <p:spPr>
          <a:xfrm rot="20374200">
            <a:off x="2047680" y="3843000"/>
            <a:ext cx="5105160" cy="304920"/>
          </a:xfrm>
          <a:prstGeom prst="leftRightArrow">
            <a:avLst>
              <a:gd name="adj1" fmla="val 50000"/>
              <a:gd name="adj2" fmla="val 49995"/>
            </a:avLst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9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9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9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0" nodeType="after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0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0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0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30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traight Connector 12"/>
          <p:cNvSpPr/>
          <p:nvPr/>
        </p:nvSpPr>
        <p:spPr>
          <a:xfrm>
            <a:off x="2940120" y="4800600"/>
            <a:ext cx="1022400" cy="1440"/>
          </a:xfrm>
          <a:prstGeom prst="line">
            <a:avLst/>
          </a:prstGeom>
          <a:ln w="381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traight Connector 11"/>
          <p:cNvSpPr/>
          <p:nvPr/>
        </p:nvSpPr>
        <p:spPr>
          <a:xfrm flipH="1">
            <a:off x="4876920" y="3276720"/>
            <a:ext cx="1440" cy="1022400"/>
          </a:xfrm>
          <a:prstGeom prst="line">
            <a:avLst/>
          </a:prstGeom>
          <a:ln w="381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3920" y="147240"/>
            <a:ext cx="57690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BGT Support Tea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Rounded Rectangle 7"/>
          <p:cNvSpPr/>
          <p:nvPr/>
        </p:nvSpPr>
        <p:spPr>
          <a:xfrm>
            <a:off x="1111320" y="4299120"/>
            <a:ext cx="1828800" cy="100296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BGT Support T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ounded Rectangle 8"/>
          <p:cNvSpPr/>
          <p:nvPr/>
        </p:nvSpPr>
        <p:spPr>
          <a:xfrm>
            <a:off x="3962520" y="4299120"/>
            <a:ext cx="1828800" cy="1002960"/>
          </a:xfrm>
          <a:prstGeom prst="roundRect">
            <a:avLst>
              <a:gd name="adj" fmla="val 16667"/>
            </a:avLst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um Management Group (FM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ounded Rectangle 9"/>
          <p:cNvSpPr/>
          <p:nvPr/>
        </p:nvSpPr>
        <p:spPr>
          <a:xfrm>
            <a:off x="3352680" y="1417680"/>
            <a:ext cx="3048120" cy="13255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/CEFACT Plen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ounded Rectangle 5"/>
          <p:cNvSpPr/>
          <p:nvPr/>
        </p:nvSpPr>
        <p:spPr>
          <a:xfrm>
            <a:off x="3962520" y="2273400"/>
            <a:ext cx="1828800" cy="1003320"/>
          </a:xfrm>
          <a:prstGeom prst="roundRect">
            <a:avLst>
              <a:gd name="adj" fmla="val 16667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urea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ounded Rectangle 7"/>
          <p:cNvSpPr/>
          <p:nvPr/>
        </p:nvSpPr>
        <p:spPr>
          <a:xfrm>
            <a:off x="1111320" y="4299120"/>
            <a:ext cx="1828800" cy="100296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BGT Support T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ounded Rectangle 7"/>
          <p:cNvSpPr/>
          <p:nvPr/>
        </p:nvSpPr>
        <p:spPr>
          <a:xfrm>
            <a:off x="6400800" y="3295800"/>
            <a:ext cx="1828800" cy="100332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E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retari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eBGT Trust F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dministra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12"/>
          <p:cNvSpPr/>
          <p:nvPr/>
        </p:nvSpPr>
        <p:spPr>
          <a:xfrm>
            <a:off x="4878360" y="3809880"/>
            <a:ext cx="1522440" cy="1800"/>
          </a:xfrm>
          <a:prstGeom prst="line">
            <a:avLst/>
          </a:prstGeom>
          <a:ln w="381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00"/>
                            </p:stCondLst>
                            <p:childTnLst>
                              <p:par>
                                <p:cTn id="3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500"/>
                            </p:stCondLst>
                            <p:childTnLst>
                              <p:par>
                                <p:cTn id="3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1500"/>
                            </p:stCondLst>
                            <p:childTnLst>
                              <p:par>
                                <p:cTn id="3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2500"/>
                            </p:stCondLst>
                            <p:childTnLst>
                              <p:par>
                                <p:cTn id="3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13920" y="147240"/>
            <a:ext cx="57690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BGT Expected Outcom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14280" y="1614240"/>
            <a:ext cx="8524800" cy="4390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90440" indent="-190440">
              <a:spcBef>
                <a:spcPts val="2401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eBGT initiative gap analysis could become a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acilitating mechanism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 developing the program of work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2401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EFACT is strengthened and is widely seen as a mor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gil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esponsiv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asily engage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rganiz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13920" y="147240"/>
            <a:ext cx="57690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BGT Support Team Memb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14520" y="2057040"/>
            <a:ext cx="5024160" cy="4390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90440" indent="-190440">
              <a:spcBef>
                <a:spcPts val="21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ylvie Colas*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21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vid Dobbing 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21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ostein Frømyr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21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Content Placeholder 2"/>
          <p:cNvSpPr/>
          <p:nvPr/>
        </p:nvSpPr>
        <p:spPr>
          <a:xfrm>
            <a:off x="4653000" y="2009880"/>
            <a:ext cx="4186080" cy="43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/>
          </a:bodyPr>
          <a:p>
            <a:pPr marL="190440" indent="-190440">
              <a:spcBef>
                <a:spcPts val="21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ofan Gregory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21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ter Potgieser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21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im Wilson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251400" y="603396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* eBGT Co-ordin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3920" y="147240"/>
            <a:ext cx="57690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at is eBGT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314280" y="1614240"/>
            <a:ext cx="8524800" cy="4390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1000"/>
          </a:bodyPr>
          <a:p>
            <a:pPr marL="173160" indent="-173160">
              <a:spcBef>
                <a:spcPts val="29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8-month UN/CEFACT initiative that will support the FMG/Bureau/Plenary in: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346320" indent="-171360">
              <a:spcBef>
                <a:spcPts val="1349"/>
              </a:spcBef>
              <a:buClr>
                <a:srgbClr val="4f81b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arifying prior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346320" indent="-171360">
              <a:spcBef>
                <a:spcPts val="1349"/>
              </a:spcBef>
              <a:buClr>
                <a:srgbClr val="4f81b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dentifying ga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346320" indent="-171360">
              <a:spcBef>
                <a:spcPts val="1349"/>
              </a:spcBef>
              <a:buClr>
                <a:srgbClr val="4f81b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mproving outre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346320" indent="-171360">
              <a:spcBef>
                <a:spcPts val="1349"/>
              </a:spcBef>
              <a:buClr>
                <a:srgbClr val="4f81b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000000"/>
                </a:solidFill>
                <a:latin typeface="Arial"/>
              </a:rPr>
              <a:t>Achieving deliver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63640" y="3906720"/>
            <a:ext cx="748512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ank you!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863640" y="5001840"/>
            <a:ext cx="751032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13920" y="147240"/>
            <a:ext cx="57690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BGT’s Four Compon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ounded Rectangle 5"/>
          <p:cNvSpPr/>
          <p:nvPr/>
        </p:nvSpPr>
        <p:spPr>
          <a:xfrm>
            <a:off x="4724280" y="2438280"/>
            <a:ext cx="1828800" cy="1711440"/>
          </a:xfrm>
          <a:prstGeom prst="roundRect">
            <a:avLst>
              <a:gd name="adj" fmla="val 16667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line Stand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ounded Rectangle 8"/>
          <p:cNvSpPr/>
          <p:nvPr/>
        </p:nvSpPr>
        <p:spPr>
          <a:xfrm>
            <a:off x="2819520" y="2438280"/>
            <a:ext cx="1828800" cy="1711440"/>
          </a:xfrm>
          <a:prstGeom prst="roundRect">
            <a:avLst>
              <a:gd name="adj" fmla="val 16667"/>
            </a:avLst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ap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ounded Rectangle 9"/>
          <p:cNvSpPr/>
          <p:nvPr/>
        </p:nvSpPr>
        <p:spPr>
          <a:xfrm>
            <a:off x="4724280" y="4232160"/>
            <a:ext cx="1828800" cy="17114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pacity Buil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ounded Rectangle 7"/>
          <p:cNvSpPr/>
          <p:nvPr/>
        </p:nvSpPr>
        <p:spPr>
          <a:xfrm>
            <a:off x="2819520" y="4232160"/>
            <a:ext cx="1828800" cy="171144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mmun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9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9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9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9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13920" y="147240"/>
            <a:ext cx="57690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nline Standa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13920" y="1614240"/>
            <a:ext cx="4186440" cy="4390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90440" indent="-190440">
              <a:spcBef>
                <a:spcPts val="21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653000" y="1614240"/>
            <a:ext cx="4186080" cy="4390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90440" indent="-190440">
              <a:spcBef>
                <a:spcPts val="21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wo Componen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spcBef>
                <a:spcPts val="901"/>
              </a:spcBef>
              <a:buClr>
                <a:srgbClr val="4f81b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ine Standards Show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spcBef>
                <a:spcPts val="901"/>
              </a:spcBef>
              <a:buClr>
                <a:srgbClr val="4f81b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ine Standards Regis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Rounded Rectangle 5"/>
          <p:cNvGrpSpPr/>
          <p:nvPr/>
        </p:nvGrpSpPr>
        <p:grpSpPr>
          <a:xfrm>
            <a:off x="2146320" y="1920960"/>
            <a:ext cx="2260440" cy="2138400"/>
            <a:chOff x="2146320" y="1920960"/>
            <a:chExt cx="2260440" cy="2138400"/>
          </a:xfrm>
        </p:grpSpPr>
        <p:pic>
          <p:nvPicPr>
            <p:cNvPr id="92" name="Rounded Rectangle 5" descr=""/>
            <p:cNvPicPr/>
            <p:nvPr/>
          </p:nvPicPr>
          <p:blipFill>
            <a:blip r:embed="rId2"/>
            <a:stretch/>
          </p:blipFill>
          <p:spPr>
            <a:xfrm>
              <a:off x="2146320" y="1920960"/>
              <a:ext cx="2260440" cy="213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2446200" y="2217600"/>
              <a:ext cx="1660680" cy="154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line Standard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Rounded Rectangle 7"/>
          <p:cNvSpPr/>
          <p:nvPr/>
        </p:nvSpPr>
        <p:spPr>
          <a:xfrm>
            <a:off x="457200" y="3927600"/>
            <a:ext cx="1828800" cy="1711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un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ounded Rectangle 8"/>
          <p:cNvSpPr/>
          <p:nvPr/>
        </p:nvSpPr>
        <p:spPr>
          <a:xfrm>
            <a:off x="457200" y="2133720"/>
            <a:ext cx="1828800" cy="1711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p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ounded Rectangle 9"/>
          <p:cNvSpPr/>
          <p:nvPr/>
        </p:nvSpPr>
        <p:spPr>
          <a:xfrm>
            <a:off x="2362320" y="3927600"/>
            <a:ext cx="1828800" cy="1711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pacity Buil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13920" y="147240"/>
            <a:ext cx="57690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nline Standards 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Showcas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13920" y="1614240"/>
            <a:ext cx="4186440" cy="4390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90440" indent="-190440">
              <a:spcBef>
                <a:spcPts val="21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653000" y="1614240"/>
            <a:ext cx="4186080" cy="4390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90440" indent="-190440">
              <a:spcBef>
                <a:spcPts val="21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hort-term development pro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21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urpose is promotional - initial focus on the Buy-Ship-Pay mod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21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tained long-te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Rounded Rectangle 5"/>
          <p:cNvGrpSpPr/>
          <p:nvPr/>
        </p:nvGrpSpPr>
        <p:grpSpPr>
          <a:xfrm>
            <a:off x="2146320" y="1920960"/>
            <a:ext cx="2260440" cy="2138400"/>
            <a:chOff x="2146320" y="1920960"/>
            <a:chExt cx="2260440" cy="2138400"/>
          </a:xfrm>
        </p:grpSpPr>
        <p:pic>
          <p:nvPicPr>
            <p:cNvPr id="101" name="Rounded Rectangle 5" descr=""/>
            <p:cNvPicPr/>
            <p:nvPr/>
          </p:nvPicPr>
          <p:blipFill>
            <a:blip r:embed="rId2"/>
            <a:stretch/>
          </p:blipFill>
          <p:spPr>
            <a:xfrm>
              <a:off x="2146320" y="1920960"/>
              <a:ext cx="2260440" cy="213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2446200" y="2217600"/>
              <a:ext cx="1660680" cy="154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line Standard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Rounded Rectangle 7"/>
          <p:cNvSpPr/>
          <p:nvPr/>
        </p:nvSpPr>
        <p:spPr>
          <a:xfrm>
            <a:off x="457200" y="3927600"/>
            <a:ext cx="1828800" cy="1711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un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ounded Rectangle 8"/>
          <p:cNvSpPr/>
          <p:nvPr/>
        </p:nvSpPr>
        <p:spPr>
          <a:xfrm>
            <a:off x="457200" y="2133720"/>
            <a:ext cx="1828800" cy="1711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p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ounded Rectangle 9"/>
          <p:cNvSpPr/>
          <p:nvPr/>
        </p:nvSpPr>
        <p:spPr>
          <a:xfrm>
            <a:off x="2362320" y="3927600"/>
            <a:ext cx="1828800" cy="1711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pacity Buil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13920" y="147240"/>
            <a:ext cx="57690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nline Standards 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Regist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13920" y="1614240"/>
            <a:ext cx="4186440" cy="4390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90440" indent="-190440">
              <a:spcBef>
                <a:spcPts val="21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653000" y="1614240"/>
            <a:ext cx="4186080" cy="4390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90440" indent="-190440">
              <a:spcBef>
                <a:spcPts val="21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dium/long-term pro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21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ategy formul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21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hased implement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21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urpose is operationa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Rounded Rectangle 5"/>
          <p:cNvGrpSpPr/>
          <p:nvPr/>
        </p:nvGrpSpPr>
        <p:grpSpPr>
          <a:xfrm>
            <a:off x="2146320" y="1920960"/>
            <a:ext cx="2260440" cy="2138400"/>
            <a:chOff x="2146320" y="1920960"/>
            <a:chExt cx="2260440" cy="2138400"/>
          </a:xfrm>
        </p:grpSpPr>
        <p:pic>
          <p:nvPicPr>
            <p:cNvPr id="110" name="Rounded Rectangle 5" descr=""/>
            <p:cNvPicPr/>
            <p:nvPr/>
          </p:nvPicPr>
          <p:blipFill>
            <a:blip r:embed="rId2"/>
            <a:stretch/>
          </p:blipFill>
          <p:spPr>
            <a:xfrm>
              <a:off x="2146320" y="1920960"/>
              <a:ext cx="2260440" cy="213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2446200" y="2217600"/>
              <a:ext cx="1660680" cy="154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line Standard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Rounded Rectangle 7"/>
          <p:cNvSpPr/>
          <p:nvPr/>
        </p:nvSpPr>
        <p:spPr>
          <a:xfrm>
            <a:off x="457200" y="3927600"/>
            <a:ext cx="1828800" cy="1711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un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ounded Rectangle 8"/>
          <p:cNvSpPr/>
          <p:nvPr/>
        </p:nvSpPr>
        <p:spPr>
          <a:xfrm>
            <a:off x="457200" y="2133720"/>
            <a:ext cx="1828800" cy="1711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p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ounded Rectangle 9"/>
          <p:cNvSpPr/>
          <p:nvPr/>
        </p:nvSpPr>
        <p:spPr>
          <a:xfrm>
            <a:off x="2362320" y="3927600"/>
            <a:ext cx="1828800" cy="1711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pacity Buil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3920" y="147240"/>
            <a:ext cx="57690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pacity Building Defin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13920" y="1614240"/>
            <a:ext cx="4186440" cy="4390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90440" indent="-190440">
              <a:spcBef>
                <a:spcPts val="21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648320" y="1614240"/>
            <a:ext cx="4186080" cy="4390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89000" indent="-189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pacity building is an effort to strengthen knowledge and skills in order to support individuals and organizations in more effectively achieving their objectives on a sustainable basi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ounded Rectangle 5"/>
          <p:cNvSpPr/>
          <p:nvPr/>
        </p:nvSpPr>
        <p:spPr>
          <a:xfrm>
            <a:off x="2362320" y="2133720"/>
            <a:ext cx="1828800" cy="1711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Stand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ounded Rectangle 7"/>
          <p:cNvSpPr/>
          <p:nvPr/>
        </p:nvSpPr>
        <p:spPr>
          <a:xfrm>
            <a:off x="457200" y="3927600"/>
            <a:ext cx="1828800" cy="1711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un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ounded Rectangle 8"/>
          <p:cNvSpPr/>
          <p:nvPr/>
        </p:nvSpPr>
        <p:spPr>
          <a:xfrm>
            <a:off x="457200" y="2133720"/>
            <a:ext cx="1828800" cy="1711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p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Rounded Rectangle 9"/>
          <p:cNvGrpSpPr/>
          <p:nvPr/>
        </p:nvGrpSpPr>
        <p:grpSpPr>
          <a:xfrm>
            <a:off x="2146320" y="3713040"/>
            <a:ext cx="2260440" cy="2138400"/>
            <a:chOff x="2146320" y="3713040"/>
            <a:chExt cx="2260440" cy="2138400"/>
          </a:xfrm>
        </p:grpSpPr>
        <p:pic>
          <p:nvPicPr>
            <p:cNvPr id="122" name="Rounded Rectangle 9" descr=""/>
            <p:cNvPicPr/>
            <p:nvPr/>
          </p:nvPicPr>
          <p:blipFill>
            <a:blip r:embed="rId2"/>
            <a:stretch/>
          </p:blipFill>
          <p:spPr>
            <a:xfrm>
              <a:off x="2146320" y="3713040"/>
              <a:ext cx="2260440" cy="213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2446200" y="4011480"/>
              <a:ext cx="1660680" cy="154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apacity Buil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13920" y="147240"/>
            <a:ext cx="57690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pacity Building Instru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13920" y="1614240"/>
            <a:ext cx="4186440" cy="4390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90440" indent="-190440">
              <a:lnSpc>
                <a:spcPct val="90000"/>
              </a:lnSpc>
              <a:spcBef>
                <a:spcPts val="21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653000" y="1614240"/>
            <a:ext cx="4186080" cy="4390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90440" indent="-190440">
              <a:lnSpc>
                <a:spcPct val="90000"/>
              </a:lnSpc>
              <a:spcBef>
                <a:spcPts val="21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truments could include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90000"/>
              </a:lnSpc>
              <a:spcBef>
                <a:spcPts val="901"/>
              </a:spcBef>
              <a:buClr>
                <a:srgbClr val="4f81b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ing 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90000"/>
              </a:lnSpc>
              <a:spcBef>
                <a:spcPts val="901"/>
              </a:spcBef>
              <a:buClr>
                <a:srgbClr val="4f81b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ing program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90000"/>
              </a:lnSpc>
              <a:spcBef>
                <a:spcPts val="901"/>
              </a:spcBef>
              <a:buClr>
                <a:srgbClr val="4f81b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-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90000"/>
              </a:lnSpc>
              <a:spcBef>
                <a:spcPts val="901"/>
              </a:spcBef>
              <a:buClr>
                <a:srgbClr val="4f81b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ely available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90000"/>
              </a:lnSpc>
              <a:spcBef>
                <a:spcPts val="901"/>
              </a:spcBef>
              <a:buClr>
                <a:srgbClr val="4f81b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ormance criteria for commercial trai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90000"/>
              </a:lnSpc>
              <a:spcBef>
                <a:spcPts val="901"/>
              </a:spcBef>
              <a:buClr>
                <a:srgbClr val="4f81b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ormance criteria for tools develop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ounded Rectangle 5"/>
          <p:cNvSpPr/>
          <p:nvPr/>
        </p:nvSpPr>
        <p:spPr>
          <a:xfrm>
            <a:off x="2362320" y="2133720"/>
            <a:ext cx="1828800" cy="1711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Stand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ounded Rectangle 7"/>
          <p:cNvSpPr/>
          <p:nvPr/>
        </p:nvSpPr>
        <p:spPr>
          <a:xfrm>
            <a:off x="457200" y="3927600"/>
            <a:ext cx="1828800" cy="1711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un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ounded Rectangle 8"/>
          <p:cNvSpPr/>
          <p:nvPr/>
        </p:nvSpPr>
        <p:spPr>
          <a:xfrm>
            <a:off x="457200" y="2133720"/>
            <a:ext cx="1828800" cy="1711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p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Rounded Rectangle 9"/>
          <p:cNvGrpSpPr/>
          <p:nvPr/>
        </p:nvGrpSpPr>
        <p:grpSpPr>
          <a:xfrm>
            <a:off x="2146320" y="3713040"/>
            <a:ext cx="2260440" cy="2138400"/>
            <a:chOff x="2146320" y="3713040"/>
            <a:chExt cx="2260440" cy="2138400"/>
          </a:xfrm>
        </p:grpSpPr>
        <p:pic>
          <p:nvPicPr>
            <p:cNvPr id="131" name="Rounded Rectangle 9" descr=""/>
            <p:cNvPicPr/>
            <p:nvPr/>
          </p:nvPicPr>
          <p:blipFill>
            <a:blip r:embed="rId2"/>
            <a:stretch/>
          </p:blipFill>
          <p:spPr>
            <a:xfrm>
              <a:off x="2146320" y="3713040"/>
              <a:ext cx="2260440" cy="213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2446200" y="4011480"/>
              <a:ext cx="1660680" cy="154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apacity Buil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4000"/>
                            </p:stCondLst>
                            <p:childTnLst>
                              <p:par>
                                <p:cTn id="1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0"/>
                            </p:stCondLst>
                            <p:childTnLst>
                              <p:par>
                                <p:cTn id="1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6000"/>
                            </p:stCondLst>
                            <p:childTnLst>
                              <p:par>
                                <p:cTn id="1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7000"/>
                            </p:stCondLst>
                            <p:childTnLst>
                              <p:par>
                                <p:cTn id="1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13920" y="147240"/>
            <a:ext cx="57690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mun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13920" y="1614240"/>
            <a:ext cx="4186440" cy="4390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90440" indent="-190440">
              <a:spcBef>
                <a:spcPts val="21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653000" y="1614240"/>
            <a:ext cx="4186080" cy="4390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90440" indent="-190440">
              <a:spcBef>
                <a:spcPts val="21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sidera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spcBef>
                <a:spcPts val="901"/>
              </a:spcBef>
              <a:buClr>
                <a:srgbClr val="4f81b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e the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spcBef>
                <a:spcPts val="901"/>
              </a:spcBef>
              <a:buClr>
                <a:srgbClr val="4f81b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get-audience diver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spcBef>
                <a:spcPts val="901"/>
              </a:spcBef>
              <a:buClr>
                <a:srgbClr val="4f81b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ounded Rectangle 5"/>
          <p:cNvSpPr/>
          <p:nvPr/>
        </p:nvSpPr>
        <p:spPr>
          <a:xfrm>
            <a:off x="2362320" y="2133720"/>
            <a:ext cx="1828800" cy="1711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Stand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Rounded Rectangle 7"/>
          <p:cNvGrpSpPr/>
          <p:nvPr/>
        </p:nvGrpSpPr>
        <p:grpSpPr>
          <a:xfrm>
            <a:off x="244440" y="3713040"/>
            <a:ext cx="2254320" cy="2138400"/>
            <a:chOff x="244440" y="3713040"/>
            <a:chExt cx="2254320" cy="2138400"/>
          </a:xfrm>
        </p:grpSpPr>
        <p:pic>
          <p:nvPicPr>
            <p:cNvPr id="138" name="Rounded Rectangle 7" descr=""/>
            <p:cNvPicPr/>
            <p:nvPr/>
          </p:nvPicPr>
          <p:blipFill>
            <a:blip r:embed="rId2"/>
            <a:stretch/>
          </p:blipFill>
          <p:spPr>
            <a:xfrm>
              <a:off x="244440" y="3713040"/>
              <a:ext cx="2254320" cy="213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541440" y="4011480"/>
              <a:ext cx="1660320" cy="154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Communic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Rounded Rectangle 8"/>
          <p:cNvSpPr/>
          <p:nvPr/>
        </p:nvSpPr>
        <p:spPr>
          <a:xfrm>
            <a:off x="457200" y="2133720"/>
            <a:ext cx="1828800" cy="1711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p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ounded Rectangle 9"/>
          <p:cNvSpPr/>
          <p:nvPr/>
        </p:nvSpPr>
        <p:spPr>
          <a:xfrm>
            <a:off x="2362320" y="3927600"/>
            <a:ext cx="1828800" cy="1711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pacity Buil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000"/>
                            </p:stCondLst>
                            <p:childTnLst>
                              <p:par>
                                <p:cTn id="1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3000"/>
                            </p:stCondLst>
                            <p:childTnLst>
                              <p:par>
                                <p:cTn id="1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400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4T16:59:35Z</dcterms:created>
  <dc:creator>James Wilson</dc:creator>
  <dc:description/>
  <dc:language>en-US</dc:language>
  <cp:lastModifiedBy>Costa</cp:lastModifiedBy>
  <dcterms:modified xsi:type="dcterms:W3CDTF">2008-09-15T07:05:50Z</dcterms:modified>
  <cp:revision>40</cp:revision>
  <dc:subject/>
  <dc:title>eBGT Overview</dc:title>
</cp:coreProperties>
</file>