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8D7-F633-4DCF-93E5-F01E81C3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128-3CE4-4AF7-9D7F-98741C82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DA6-C80A-4B18-9C9A-634A7215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DF1-1EA8-4C96-B050-65685D59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8B15-694C-4D10-83A7-9D378C61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D31F-407B-4AFA-8375-7EA96B90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AB50-2652-4F1F-96A9-83598F01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F38E-2B6A-47BC-BD7D-B10A3C6C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D33F-6248-4BFB-827F-E2CFE11E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9329-07A1-434E-A6E9-06F5F81B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0B0C-2DD0-4ECB-9DFF-BD04466A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E67-38C1-49B9-9702-BBC333BA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46BA-F55C-4AE8-8D3A-0F1B0CF8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FA71-5441-4936-8356-25BD8D0F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77EA-AD34-418E-A727-19F4D6AE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1C6F-D203-4EE9-8749-616DD870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804A-1E77-4779-8AF3-86B1C40D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002-613A-47A3-A415-EC1C606B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EE2-E10F-4D0D-AEC6-0549F79C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871-113F-45F9-B47B-EB837D2A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A46-79E2-40E3-8A5D-5D2555FE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0FA-D8D6-4F2F-9880-30277E19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D5B-3994-4794-B301-9C762EA4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3A7-2031-4140-83FE-1C6763CF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ottom Lin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A3EB-EED8-4A77-8A9E-4164E7A0A4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e/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ottom-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 Black"/>
              </a:rPr>
              <a:t>Report of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Arial Black"/>
              </a:rPr>
              <a:t>rapporteur of Africa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brahima Nour Eddine DI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Black"/>
              </a:rPr>
              <a:t>Recommandation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 Black"/>
              </a:rPr>
              <a:t>2007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regional alliance of SW operators to promote TF, share experiences, build a local solid expertise and contribute significantly to standard elaboration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be approved during Nov 2008 SW Con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donors and specialized organizations involved in trade facilitation to support pilot projects among members of the alli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(pilot project already ongoing – To be completed in 200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Activities 2008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y on how SW could be implement within Africa (June 2008)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ole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CA: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in Addis (June 2007) on ICT and Trade for SMEs and inter regional Workshop in Jordan (Nov 2007) on Trade facili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EMO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y to set a regional SW in west Africa region. (Sept to Dec 200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E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st Africa regional study on trade facilitation with a specific emphasis on single window (July 2006)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st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ED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zation of a regional workshop on Trade Facilitation (June 2008)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uthern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FP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CO IT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Black"/>
              </a:rPr>
              <a:t>Main challenges for Africa participation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 Black"/>
              </a:rPr>
              <a:t>CEFACT wor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complexity of works (new coming percep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level of information toward government of what CEFACT is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ence of perception of the link between CEFACT work and ground activitives related to Trade Facilitation (more infrastructure orie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ing Travel for delegates participation is an issue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59480" y="5568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FACT forum in Saly (Nov 10 to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ingle Window conference Dakar (Nov 6 to 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 Alliance for E Commerce launching meeting (Dakar Nov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 pilot project (Senegal- France – UK – Malaysia – 200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41:44Z</dcterms:created>
  <dc:creator>D029024</dc:creator>
  <dc:description/>
  <dc:language>en-US</dc:language>
  <cp:lastModifiedBy>idiagne</cp:lastModifiedBy>
  <dcterms:modified xsi:type="dcterms:W3CDTF">2008-09-17T08:41:13Z</dcterms:modified>
  <cp:revision>30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