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004-F207-4CF9-9333-BDB12F83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217-9E66-4906-A4E1-62E04B02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655-3BE0-4723-A586-2B252D4B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8E6-3D79-4FC4-9EF5-B6D98788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7768-0629-4A1F-A3BD-ECC63F63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63C1-57E8-483F-822A-ECB083D2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DFDD-392E-4430-853E-BBC910D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7F31-E19A-4164-9F34-8168829A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EF36-34B2-49CB-8D40-5469C3C1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1A00-46EA-40B7-A6E2-CE0CCED9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4A0A-0FE4-4680-85B6-CB5C7308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843-653A-4F84-8FBD-B37E0602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A535-EA1B-4300-8DBA-5428C3C7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5770-DB55-4383-ACE8-A7025EF0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E712-B1CE-4AA1-BA76-F635D4ED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6B7E-2717-4250-AD72-EE003F09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9921-C857-4923-8E00-68292ED5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A89-4687-452E-890A-E7FF967B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1B1-1A50-47F0-931A-36FAA68E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E69-1627-4D2F-A7CE-49222156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216-135B-497F-AC78-1F34C162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4F2-1E68-4FB0-A3B2-14C39456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C5D-F125-4207-8DB5-DAC8EDCC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160-F933-4987-B20B-C6B7A6E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ottom Lin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95F2-3B9A-4BBA-8934-9C77E826F1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e/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ottom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 Black"/>
              </a:rPr>
              <a:t>Report of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Arial Black"/>
              </a:rPr>
              <a:t>rapporteur of Africa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brahima Nour Eddine DI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</a:rPr>
              <a:t>Recommandation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 Black"/>
              </a:rPr>
              <a:t>2007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regional alliance of SW operators to promote TF, share experiences, build a local solid expertise and contribute significantly to standard elaboration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be approved during Nov 2008 SW Con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donors and specialized organizations involved in trade facilitation to support pilot projects among members of the alli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(pilot project already ongoing – To be completed in 200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Activities 2008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y on how SW could be implement within Africa (June 2008)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ole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CA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in Addis (June 2007) on ICT and Trade for SMEs and inter regional Workshop in Jordan (Nov 2007) on Trade facili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EMO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y to set a regional SW in west Africa region. (Sept to Dec 200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E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st Africa regional study on trade facilitation with a specific emphasis on single window (July 2006)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st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ED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zation of a regional workshop on Trade Facilitation (June 2008)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uthern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FP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CO IT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</a:rPr>
              <a:t>Main challenges for Africa participation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 Black"/>
              </a:rPr>
              <a:t>CEFACT wor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complexity of works (new coming percep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level of information toward government of what CEFACT is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ence of perception of the link between CEFACT work and ground activitives related to Trade Facilitation (more infrastructure orie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ing Travel for delegates participation is an issue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59480" y="5568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FACT forum in Saly (Nov 10 to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ingle Window conference Dakar (Nov 6 to 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 Alliance for E Commerce launching meeting (Dakar Nov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 pilot project (Senegal- France – UK – Malaysia – 200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idiagne</cp:lastModifiedBy>
  <dcterms:modified xsi:type="dcterms:W3CDTF">2008-09-17T08:41:13Z</dcterms:modified>
  <cp:revision>30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