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58800" cy="92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69640" y="693720"/>
            <a:ext cx="462132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8004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41640" y="878004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106C15E-EC00-422B-B84E-3E979AA50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D0CEEDD-285E-4F77-B513-B532F68742C8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1C74D40-3A9F-4A6E-874A-E0AE3308A851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EA62060-7931-4049-AD76-A95A5635B9BF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151B545-90A1-4089-BD97-82D551E4BE48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2347647-3318-4C49-B597-15E289537ECF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EE54323-F88C-4489-A954-FF77DDE33101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F5441F9-E22F-4C82-8CE9-4991E74C3A58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D8EB601-6095-4ED6-9955-5CA32F611A49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B60BCE0-B9F9-4332-8EC9-BECDE17053E5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eginning of a new Government Program, it’s common for the prime contractor (or customer) to declare which platform (eg, wInsight) they’ll be using; this usually inspires the rest of the supply chain to purchase that product so that reporting is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805FC9A-5658-4DB4-BEA1-7260E6D3019E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8868278-408A-4117-938B-5FDA4A633E84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eginning of a new Government Program, it’s common for the prime contractor (or customer) to declare which platform (eg, wInsight) they’ll be using; this usually inspires the rest of the supply chain to purchase that product so that reporting is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17F196A-5E04-4B28-9BE5-5DD1431AE79E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eginning of a new Government Program, it’s common for the prime contractor (or customer) to declare which platform (eg, wInsight) they’ll be using; this usually inspires the rest of the supply chain to purchase that product so that reporting is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D4141BC-A135-45F0-8DA6-7E0EC4378637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eginning of a new Government Program, it’s common for the prime contractor (or customer) to declare which platform (eg, wInsight) they’ll be using; this usually inspires the rest of the supply chain to purchase that product so that reporting is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D715E62-E904-401C-BF56-EA14A5316945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842BB60-3C92-4F10-96F9-28E1ADA489D9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41640" y="878040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99DDDDD-0A76-482F-9FC7-014F01DB5ADC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4800" y="4390920"/>
            <a:ext cx="55674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8440" y="30456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752480" y="1066680"/>
            <a:ext cx="71629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423216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8512200" y="6324480"/>
            <a:ext cx="4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09BC-105D-459F-8E28-F0BEA0460A90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" name="Picture 9" descr="DCMA logo2-lr"/>
          <p:cNvPicPr/>
          <p:nvPr/>
        </p:nvPicPr>
        <p:blipFill>
          <a:blip r:embed="rId2"/>
          <a:stretch/>
        </p:blipFill>
        <p:spPr>
          <a:xfrm>
            <a:off x="61920" y="303120"/>
            <a:ext cx="1608120" cy="833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120600"/>
            <a:ext cx="9144000" cy="90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0" y="6642000"/>
            <a:ext cx="9144000" cy="748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0" y="6699240"/>
            <a:ext cx="914400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"/>
          <p:cNvGrpSpPr/>
          <p:nvPr/>
        </p:nvGrpSpPr>
        <p:grpSpPr>
          <a:xfrm>
            <a:off x="127080" y="260280"/>
            <a:ext cx="2387520" cy="6318360"/>
            <a:chOff x="127080" y="260280"/>
            <a:chExt cx="2387520" cy="6318360"/>
          </a:xfrm>
        </p:grpSpPr>
        <p:pic>
          <p:nvPicPr>
            <p:cNvPr id="54" name="Picture 5" descr="DCMA logo2-lr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27080" y="26028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DCMA logo2-lr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27080" y="133812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7" descr="DCMA logo2-lr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127080" y="2415960"/>
              <a:ext cx="238752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8" descr="DCMA logo2-lr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27080" y="349416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DCMA logo2-lr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127080" y="457200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0" descr="DCMA logo2-lr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127080" y="5651280"/>
              <a:ext cx="2387520" cy="92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Rectangle 17"/>
          <p:cNvSpPr/>
          <p:nvPr/>
        </p:nvSpPr>
        <p:spPr>
          <a:xfrm>
            <a:off x="0" y="114480"/>
            <a:ext cx="9144000" cy="90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0" y="6661080"/>
            <a:ext cx="9144000" cy="810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3581280" y="3338640"/>
            <a:ext cx="502920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DC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John Van Dinth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hris Hass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66"/>
                </a:solidFill>
                <a:latin typeface="Arial"/>
              </a:rPr>
              <a:t>UN/CEFACT Plenar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6-17 September 200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57200" y="1625760"/>
            <a:ext cx="2951280" cy="2968560"/>
            <a:chOff x="457200" y="1625760"/>
            <a:chExt cx="2951280" cy="2968560"/>
          </a:xfrm>
        </p:grpSpPr>
        <p:sp>
          <p:nvSpPr>
            <p:cNvPr id="64" name="Oval 13"/>
            <p:cNvSpPr/>
            <p:nvPr/>
          </p:nvSpPr>
          <p:spPr>
            <a:xfrm>
              <a:off x="511560" y="1680480"/>
              <a:ext cx="2840760" cy="285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65" name="Picture 14" descr="revised DCMA2"/>
            <p:cNvPicPr/>
            <p:nvPr/>
          </p:nvPicPr>
          <p:blipFill>
            <a:blip r:embed="rId7"/>
            <a:stretch/>
          </p:blipFill>
          <p:spPr>
            <a:xfrm>
              <a:off x="457200" y="1625760"/>
              <a:ext cx="2951280" cy="29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657600" y="3121200"/>
            <a:ext cx="5442120" cy="792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3581280" y="2438280"/>
            <a:ext cx="5381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ntroduction to EVGen3: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Arial"/>
              </a:rPr>
              <a:t>r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Generation Earned Value Data Report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3632040" y="61563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D879-FDF3-4B42-B0C3-02923C125C95}" type="datetime">
              <a:rPr b="1" lang="en-US" sz="1000" spc="-1" strike="noStrike">
                <a:solidFill>
                  <a:srgbClr val="000066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Result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33"/>
                </a:solidFill>
                <a:latin typeface="Arial"/>
              </a:rPr>
              <a:t>Lower Cos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through improved accuracy and timeliness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No re-keying of data (less human error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More timely data delivery (fewer delay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Ability to move data directly between different vendor too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Result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33"/>
                </a:solidFill>
                <a:latin typeface="Arial"/>
              </a:rPr>
              <a:t>Increased Utility </a:t>
            </a: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of cost/schedule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usiness Intelligenc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Data Warehousing for historical &amp; trend analysis</a:t>
            </a:r>
            <a:br>
              <a:rPr sz="1800"/>
            </a:b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Increased operational awarene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ipwires get triggered when data is outside threshold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Result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33"/>
                </a:solidFill>
                <a:latin typeface="Arial"/>
              </a:rPr>
              <a:t>Supply Chain Automation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Agile data transport and distribution cap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across organizational bounda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Secure handling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among business partn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Implication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33"/>
                </a:solidFill>
                <a:latin typeface="Arial"/>
              </a:rPr>
              <a:t>More Efficient Supply Chains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Developing N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Instant compatibility with worldwide pro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Cheaper startup costs for small business</a:t>
            </a:r>
            <a:br>
              <a:rPr sz="2000"/>
            </a:b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Industrialized N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Less manual lab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Centralized Oversight – Decentralized Execu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Immediate access to subcontractor statu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403440" y="1706400"/>
            <a:ext cx="2387520" cy="4160880"/>
            <a:chOff x="3403440" y="1706400"/>
            <a:chExt cx="2387520" cy="4160880"/>
          </a:xfrm>
        </p:grpSpPr>
        <p:pic>
          <p:nvPicPr>
            <p:cNvPr id="107" name="Picture 3" descr="DCMA logo2-lr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3403440" y="170640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" descr="DCMA logo2-lr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3403440" y="2784240"/>
              <a:ext cx="238752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5" descr="DCMA logo2-lr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3403440" y="386244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DCMA logo2-lr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3403440" y="4940280"/>
              <a:ext cx="2387520" cy="92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7"/>
          <p:cNvGrpSpPr/>
          <p:nvPr/>
        </p:nvGrpSpPr>
        <p:grpSpPr>
          <a:xfrm>
            <a:off x="1041480" y="1706400"/>
            <a:ext cx="2387520" cy="4160880"/>
            <a:chOff x="1041480" y="1706400"/>
            <a:chExt cx="2387520" cy="4160880"/>
          </a:xfrm>
        </p:grpSpPr>
        <p:pic>
          <p:nvPicPr>
            <p:cNvPr id="112" name="Picture 8" descr="DCMA logo2-lr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1041480" y="170640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9" descr="DCMA logo2-lr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1041480" y="2784240"/>
              <a:ext cx="238752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0" descr="DCMA logo2-lr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1041480" y="386244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DCMA logo2-lr"/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>
              <a:off x="1041480" y="4940280"/>
              <a:ext cx="2387520" cy="92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12"/>
          <p:cNvGrpSpPr/>
          <p:nvPr/>
        </p:nvGrpSpPr>
        <p:grpSpPr>
          <a:xfrm>
            <a:off x="5765760" y="1706400"/>
            <a:ext cx="2387520" cy="4160880"/>
            <a:chOff x="5765760" y="1706400"/>
            <a:chExt cx="2387520" cy="4160880"/>
          </a:xfrm>
        </p:grpSpPr>
        <p:pic>
          <p:nvPicPr>
            <p:cNvPr id="117" name="Picture 13" descr="DCMA logo2-lr"/>
            <p:cNvPicPr/>
            <p:nvPr/>
          </p:nvPicPr>
          <p:blipFill>
            <a:blip r:embed="rId9">
              <a:lum bright="70000" contrast="-70000"/>
            </a:blip>
            <a:stretch/>
          </p:blipFill>
          <p:spPr>
            <a:xfrm>
              <a:off x="5765760" y="170640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4" descr="DCMA logo2-lr"/>
            <p:cNvPicPr/>
            <p:nvPr/>
          </p:nvPicPr>
          <p:blipFill>
            <a:blip r:embed="rId10">
              <a:lum bright="70000" contrast="-70000"/>
            </a:blip>
            <a:stretch/>
          </p:blipFill>
          <p:spPr>
            <a:xfrm>
              <a:off x="5765760" y="2784240"/>
              <a:ext cx="238752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5" descr="DCMA logo2-lr"/>
            <p:cNvPicPr/>
            <p:nvPr/>
          </p:nvPicPr>
          <p:blipFill>
            <a:blip r:embed="rId11">
              <a:lum bright="70000" contrast="-70000"/>
            </a:blip>
            <a:stretch/>
          </p:blipFill>
          <p:spPr>
            <a:xfrm>
              <a:off x="5765760" y="3862440"/>
              <a:ext cx="23875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6" descr="DCMA logo2-lr"/>
            <p:cNvPicPr/>
            <p:nvPr/>
          </p:nvPicPr>
          <p:blipFill>
            <a:blip r:embed="rId12">
              <a:lum bright="70000" contrast="-70000"/>
            </a:blip>
            <a:stretch/>
          </p:blipFill>
          <p:spPr>
            <a:xfrm>
              <a:off x="5765760" y="4940280"/>
              <a:ext cx="2387520" cy="92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17"/>
          <p:cNvSpPr/>
          <p:nvPr/>
        </p:nvSpPr>
        <p:spPr>
          <a:xfrm>
            <a:off x="1523880" y="2590920"/>
            <a:ext cx="6108840" cy="228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Contacts</a:t>
            </a:r>
            <a:br>
              <a:rPr sz="7200"/>
            </a:b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 and Info</a:t>
            </a:r>
            <a:endParaRPr b="0" lang="en-US" sz="7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ontact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gram Manag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ohn Van Dinther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email: john.vandinther@dcma.mi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CMA Infrastructure Desig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ter Amstutz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email: peter.amstutz@dcma.mi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chnical Architec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ris Hassler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email: chris.hassler.ctr@dcma.mi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Link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aft UN/CEFACT Data Model (XML Schema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dcma.mil/xs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/CEFACT Organiz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unece.org/cefac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.S. Government Regist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xml.gov/et/evm.x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core.gov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et.gov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The Business Problem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D Supply Chain Cost/Schedu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llenges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Cost/Schedule Communication Standar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ny Suppliers - Multiple Internal System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b Contractors (DoD - 80% subcontractor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ime Bomb – 15% Rule (10%?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" name="Picture 5" descr="babel"/>
          <p:cNvPicPr/>
          <p:nvPr/>
        </p:nvPicPr>
        <p:blipFill>
          <a:blip r:embed="rId1"/>
          <a:stretch/>
        </p:blipFill>
        <p:spPr>
          <a:xfrm>
            <a:off x="3505320" y="4038480"/>
            <a:ext cx="2057400" cy="22114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6"/>
          <p:cNvSpPr/>
          <p:nvPr/>
        </p:nvSpPr>
        <p:spPr>
          <a:xfrm rot="1202400">
            <a:off x="4552920" y="4156560"/>
            <a:ext cx="763560" cy="653040"/>
          </a:xfrm>
          <a:custGeom>
            <a:avLst/>
            <a:gdLst>
              <a:gd name="textAreaLeft" fmla="*/ 1440 w 763560"/>
              <a:gd name="textAreaRight" fmla="*/ 762120 w 763560"/>
              <a:gd name="textAreaTop" fmla="*/ 134640 h 653040"/>
              <a:gd name="textAreaBottom" fmla="*/ 518400 h 6530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77" y="-5667"/>
                  <a:pt x="7200" y="10125"/>
                  <a:pt x="10777" y="2229"/>
                </a:cubicBezTo>
                <a:cubicBezTo>
                  <a:pt x="14354" y="-5667"/>
                  <a:pt x="17977" y="10125"/>
                  <a:pt x="21554" y="2229"/>
                </a:cubicBezTo>
                <a:lnTo>
                  <a:pt x="21600" y="19371"/>
                </a:lnTo>
                <a:cubicBezTo>
                  <a:pt x="18023" y="27267"/>
                  <a:pt x="14400" y="11475"/>
                  <a:pt x="10823" y="19371"/>
                </a:cubicBezTo>
                <a:cubicBezTo>
                  <a:pt x="7246" y="27267"/>
                  <a:pt x="3623" y="11475"/>
                  <a:pt x="46" y="19371"/>
                </a:cubicBezTo>
                <a:close/>
              </a:path>
            </a:pathLst>
          </a:custGeom>
          <a:gradFill rotWithShape="0">
            <a:gsLst>
              <a:gs pos="0">
                <a:srgbClr val="fce78e"/>
              </a:gs>
              <a:gs pos="50000">
                <a:srgbClr val="ffffcc"/>
              </a:gs>
              <a:gs pos="100000">
                <a:srgbClr val="fce78e"/>
              </a:gs>
            </a:gsLst>
            <a:lin ang="1500000"/>
          </a:gra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Tower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Bab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upply Chain Impact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620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Sharing: Manual Effort, Cumberso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mail, FAX, US Postal Mail, hand-delivered, FTP, EDI, et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is often re-key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 hoc solutions required to collect data from sour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is manually rolled-up throughout the supply cha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urity typically not plann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" name="Picture 5" descr="SquarePeg-RoundHole"/>
          <p:cNvPicPr/>
          <p:nvPr/>
        </p:nvPicPr>
        <p:blipFill>
          <a:blip r:embed="rId1"/>
          <a:stretch/>
        </p:blipFill>
        <p:spPr>
          <a:xfrm>
            <a:off x="5029200" y="42670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SquarePeg-RoundHole"/>
          <p:cNvPicPr/>
          <p:nvPr/>
        </p:nvPicPr>
        <p:blipFill>
          <a:blip r:embed="rId2"/>
          <a:stretch/>
        </p:blipFill>
        <p:spPr>
          <a:xfrm>
            <a:off x="5943600" y="42670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quarePeg-RoundHole"/>
          <p:cNvPicPr/>
          <p:nvPr/>
        </p:nvPicPr>
        <p:blipFill>
          <a:blip r:embed="rId3"/>
          <a:stretch/>
        </p:blipFill>
        <p:spPr>
          <a:xfrm>
            <a:off x="4114800" y="42670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SquarePeg-RoundHole"/>
          <p:cNvPicPr/>
          <p:nvPr/>
        </p:nvPicPr>
        <p:blipFill>
          <a:blip r:embed="rId4"/>
          <a:stretch/>
        </p:blipFill>
        <p:spPr>
          <a:xfrm>
            <a:off x="3200400" y="42670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SquarePeg-RoundHole"/>
          <p:cNvPicPr/>
          <p:nvPr/>
        </p:nvPicPr>
        <p:blipFill>
          <a:blip r:embed="rId5"/>
          <a:stretch/>
        </p:blipFill>
        <p:spPr>
          <a:xfrm>
            <a:off x="2286000" y="42670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Proposed Solution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Arial"/>
              </a:rPr>
              <a:t>A Single Standard for the Supply Chain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ments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11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Trust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Standards Body - Cost / Schedule Focu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11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XML Savv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– Lingua Franca for the we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11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World-Wid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– DoD no longer just U.S. suppli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6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CEFACT</a:t>
            </a:r>
            <a:br>
              <a:rPr sz="4000"/>
            </a:br>
            <a:endParaRPr b="1" i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WHY CEFACT? 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lvl="1" marL="447840" indent="-191880">
              <a:lnSpc>
                <a:spcPct val="80000"/>
              </a:lnSpc>
              <a:spcBef>
                <a:spcPts val="1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sive Cost/Schedule Experience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47840" indent="-191880">
              <a:lnSpc>
                <a:spcPct val="80000"/>
              </a:lnSpc>
              <a:spcBef>
                <a:spcPts val="1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sive ebXML  Expertise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47840" indent="-191880">
              <a:lnSpc>
                <a:spcPct val="80000"/>
              </a:lnSpc>
              <a:spcBef>
                <a:spcPts val="1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ld-Wide Standards B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47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47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Results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st and Schedule Standard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ublished by CEFACT March 200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D Poli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dustry Sup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lier Ado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Industry CEFACT Adoption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CEFACT COMPLIANT SOFTWA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AVAILABL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ltek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- Winsight 6.4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imavera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- Pertmaster 8.2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*   Standard Published by UN/CEFACT March 2008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CEFACT COMPLIANT SOFTWARE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IN DEVELOPMENT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lanview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- MPM   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Aug 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ier - Worklenz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Aug 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kker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- PMIS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Sep 08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antumPM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Sep 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afra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– Projec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Oct 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 – Clarity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Oct 0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eelray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Jan 0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RE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– Prism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Mar 0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rtemi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Mar 0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ac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 N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atacomponents-b"/>
          <p:cNvPicPr/>
          <p:nvPr/>
        </p:nvPicPr>
        <p:blipFill>
          <a:blip r:embed="rId1"/>
          <a:stretch/>
        </p:blipFill>
        <p:spPr>
          <a:xfrm>
            <a:off x="685800" y="2666880"/>
            <a:ext cx="3962520" cy="2156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105520" y="2362320"/>
            <a:ext cx="35049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rnational XML standard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eb Services for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pply Chain Autom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iminates disparate formats and medi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cilitates data exchange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 all par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What is EVGen3?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33520" y="1600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Earned Value Data Reporting: 3rd Gene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Cj03188980000[1]"/>
          <p:cNvPicPr/>
          <p:nvPr/>
        </p:nvPicPr>
        <p:blipFill>
          <a:blip r:embed="rId1"/>
          <a:stretch/>
        </p:blipFill>
        <p:spPr>
          <a:xfrm>
            <a:off x="5676840" y="1600200"/>
            <a:ext cx="2476440" cy="2487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EVGen3 Reporting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V Data Global Standard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e data format world-wid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ndardized EV business proce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act Initiation, Periodic Reporting, Rebaseline, Contract Closure, etc.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upply Chain Autom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usiness-to-Business sharing of EV Da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st-practice IT solu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9:35:50Z</dcterms:created>
  <dc:creator>Michael Frank</dc:creator>
  <dc:description/>
  <dc:language>en-US</dc:language>
  <cp:lastModifiedBy>Costa</cp:lastModifiedBy>
  <dcterms:modified xsi:type="dcterms:W3CDTF">2008-09-16T12:09:08Z</dcterms:modified>
  <cp:revision>287</cp:revision>
  <dc:subject/>
  <dc:title>SOA Discussion</dc:title>
</cp:coreProperties>
</file>