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E575-70AF-4007-87B3-D63F20A224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14A3-45FB-4FE6-A061-090032E64D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DD3F-3761-483A-A09C-46624E4D73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F07A-1452-45FD-A5D6-05F35E50E4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567D-F997-49CB-92DA-679133E7C5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9517-9A40-411A-8DB2-EF9A6683B5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9981-4328-4979-85AA-776BE6EE50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085F-90B8-4823-8D3B-412B2B9F11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D856-B0A5-4C05-952C-5EA7182E39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ACD4-FB6B-467F-8D59-C80304CB74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459D-36F7-415D-B115-6A25149B92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BD01-2963-4D67-9CFD-CAA4BAEA33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E9BB-9F77-4742-8292-F42D96A9DC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6636-CCA7-4C5E-B810-50C63A5E3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70480" y="6068880"/>
            <a:ext cx="19731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SITPR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implifying International Tr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Cost of Paper in the Supply Chain</a:t>
            </a:r>
            <a:br>
              <a:rPr sz="4000"/>
            </a:br>
            <a:br>
              <a:rPr sz="2400"/>
            </a:b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alcolm McKinno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EO, SITPRO Lt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esentation to UN/CEFACT Plenar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eptember 2008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304920"/>
            <a:ext cx="75582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ncidence of Missing/Delayed Documentatio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2271600"/>
          <a:ext cx="7057800" cy="3664080"/>
        </p:xfrm>
        <a:graphic>
          <a:graphicData uri="http://schemas.openxmlformats.org/drawingml/2006/table">
            <a:tbl>
              <a:tblPr/>
              <a:tblGrid>
                <a:gridCol w="2016000"/>
                <a:gridCol w="1747800"/>
                <a:gridCol w="32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untry of Orig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ransp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 of key documents missing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i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r/S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r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r/S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uth Afr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r/S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ha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gy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a/tru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raz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340000" y="609300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urce: Consultants’ research of over  500 consign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1628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1.4 million incidences annu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mpact of Missing/Delayed Documents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mpacts on both government and businesse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ersonnel and time spent in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btaining and verifying priority document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ocessing deferment claims to recover overpaid dut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covering missing document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hysically tying together overall documentation and storing final document se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nvironmental impact of paper docu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Narrow"/>
              </a:rPr>
              <a:t>Impact of Missing/Delayed Documents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4360" y="2406600"/>
          <a:ext cx="7772400" cy="2471760"/>
        </p:xfrm>
        <a:graphic>
          <a:graphicData uri="http://schemas.openxmlformats.org/drawingml/2006/table">
            <a:tbl>
              <a:tblPr/>
              <a:tblGrid>
                <a:gridCol w="2517480"/>
                <a:gridCol w="5254920"/>
              </a:tblGrid>
              <a:tr h="15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£126 million annual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st to importers of documentary exchange process of original copies </a:t>
                      </a:r>
                      <a:r>
                        <a:rPr b="1" lang="en-GB" sz="2800" spc="-1" strike="noStrike" u="sng">
                          <a:solidFill>
                            <a:srgbClr val="ffffff"/>
                          </a:solidFill>
                          <a:uFillTx/>
                          <a:latin typeface="Arial Narrow"/>
                        </a:rPr>
                        <a:t>without delay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ver £1 billion annual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st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 Narrow"/>
                        </a:rPr>
                        <a:t>with delay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Impact upon Country of Origi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7-10 days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typically required to assemble document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4 government agencies and 5 logistics providers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fruit from analysed African countrie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acts upon product shelf life and reduces revenue including to exporting countries – many developing countr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Narrow"/>
              </a:rPr>
              <a:t>STP savings evidence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uropean Electronic Invoicing report (2007) states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€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243 Billion savings by adopting E-invoicing alone across Europ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ateway Sweden, Finland, Korea all introduced various STP systems with substantial saving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ustralia – cane sugar now STP based saving 4.4% of total val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onclusion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urrent documentary systems cost perishables supply chain more than £1 billion annually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sumers pay more than necessary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velopment of perishables trade from developing countries inhibit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tential savings of over £700 million from straight-through processing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International requirements for STP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usiness process mapping (by trading partner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dentification of data to be exchang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(Export data       import data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mon data defini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(UN/CEFACT data standard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roperability of data communic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(UN/CEFACT message standard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2700360" y="3213000"/>
            <a:ext cx="287280" cy="71640"/>
          </a:xfrm>
          <a:prstGeom prst="rightArrow">
            <a:avLst>
              <a:gd name="adj1" fmla="val 50000"/>
              <a:gd name="adj2" fmla="val 10025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Hermes Research Repor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SITPRO Lt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ww.sitpro.org.uk / reports / hermes.pdf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Presentation Objective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 present SITPRO’s “Hermes” report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 demonstrate potential benefits from implementing straight-through data processing = “ STP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 explain how we are going forward in the U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 reinforce case for international trade data 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bout SITPRO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Who we are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K’s trade facilitation organisation – world leader in our fiel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Mission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To make international trade easi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History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stablished 1970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implified trade documents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etter border regulation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ternational standard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apacity build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Objectives of research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5640" y="1980720"/>
            <a:ext cx="4462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Confirm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scale of perishable food import and export marke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dentify and valu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documentary issues arising in this marke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Assess potential benefit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from replacing current documentary systems with integrated paperless trading (straight-through processing = “ STP”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2860560" cy="403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UK Perishable Food Imports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"/>
          <p:cNvSpPr/>
          <p:nvPr/>
        </p:nvSpPr>
        <p:spPr>
          <a:xfrm>
            <a:off x="4540320" y="2016000"/>
            <a:ext cx="1087200" cy="1374840"/>
          </a:xfrm>
          <a:custGeom>
            <a:avLst/>
            <a:gdLst/>
            <a:ahLst/>
            <a:rect l="l" t="t" r="r" b="b"/>
            <a:pathLst>
              <a:path w="685" h="866">
                <a:moveTo>
                  <a:pt x="0" y="866"/>
                </a:moveTo>
                <a:lnTo>
                  <a:pt x="0" y="0"/>
                </a:lnTo>
                <a:lnTo>
                  <a:pt x="685" y="334"/>
                </a:lnTo>
                <a:lnTo>
                  <a:pt x="0" y="86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2016000"/>
            <a:ext cx="2774520" cy="275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931" swAng="3118833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931" swAng="3118833"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40320" y="2015640"/>
            <a:ext cx="1440" cy="13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540320" y="2546280"/>
            <a:ext cx="108720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40320" y="2546280"/>
            <a:ext cx="1330200" cy="844560"/>
          </a:xfrm>
          <a:custGeom>
            <a:avLst/>
            <a:gdLst/>
            <a:ahLst/>
            <a:rect l="l" t="t" r="r" b="b"/>
            <a:pathLst>
              <a:path w="838" h="532">
                <a:moveTo>
                  <a:pt x="0" y="532"/>
                </a:moveTo>
                <a:lnTo>
                  <a:pt x="685" y="0"/>
                </a:lnTo>
                <a:lnTo>
                  <a:pt x="838" y="306"/>
                </a:lnTo>
                <a:lnTo>
                  <a:pt x="0" y="532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57200" y="2016720"/>
            <a:ext cx="2778120" cy="275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01" y="4138"/>
                </a:moveTo>
                <a:arcTo wR="10800" hR="10800" stAng="-2285099" swAng="1383033"/>
                <a:lnTo>
                  <a:pt x="10800" y="10800"/>
                </a:lnTo>
                <a:close/>
              </a:path>
              <a:path fill="none" w="21600" h="21600">
                <a:moveTo>
                  <a:pt x="19301" y="4138"/>
                </a:moveTo>
                <a:arcTo wR="10800" hR="10800" stAng="-2285099" swAng="1383033"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540320" y="2546280"/>
            <a:ext cx="108720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40320" y="3032280"/>
            <a:ext cx="13302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40320" y="3032280"/>
            <a:ext cx="1376280" cy="385560"/>
          </a:xfrm>
          <a:custGeom>
            <a:avLst/>
            <a:gdLst/>
            <a:ahLst/>
            <a:rect l="l" t="t" r="r" b="b"/>
            <a:pathLst>
              <a:path w="867" h="243">
                <a:moveTo>
                  <a:pt x="0" y="226"/>
                </a:moveTo>
                <a:lnTo>
                  <a:pt x="838" y="0"/>
                </a:lnTo>
                <a:lnTo>
                  <a:pt x="867" y="243"/>
                </a:lnTo>
                <a:lnTo>
                  <a:pt x="0" y="226"/>
                </a:lnTo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57200" y="2018160"/>
            <a:ext cx="2778120" cy="275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30" y="7998"/>
                </a:moveTo>
                <a:arcTo wR="10800" hR="10800" stAng="-902065" swAng="961569"/>
                <a:lnTo>
                  <a:pt x="10800" y="10800"/>
                </a:lnTo>
                <a:close/>
              </a:path>
              <a:path fill="none" w="21600" h="21600">
                <a:moveTo>
                  <a:pt x="21230" y="7998"/>
                </a:moveTo>
                <a:arcTo wR="10800" hR="10800" stAng="-902065" swAng="961569"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40320" y="3390840"/>
            <a:ext cx="1376280" cy="189000"/>
          </a:xfrm>
          <a:custGeom>
            <a:avLst/>
            <a:gdLst/>
            <a:ahLst/>
            <a:rect l="l" t="t" r="r" b="b"/>
            <a:pathLst>
              <a:path w="867" h="119">
                <a:moveTo>
                  <a:pt x="0" y="0"/>
                </a:moveTo>
                <a:lnTo>
                  <a:pt x="867" y="0"/>
                </a:lnTo>
                <a:lnTo>
                  <a:pt x="861" y="119"/>
                </a:lnTo>
                <a:lnTo>
                  <a:pt x="0" y="0"/>
                </a:lnTo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57200" y="2011320"/>
            <a:ext cx="2778120" cy="27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8"/>
                </a:moveTo>
                <a:arcTo wR="10800" hR="10800" stAng="-3938" swAng="478368"/>
                <a:lnTo>
                  <a:pt x="10800" y="10800"/>
                </a:lnTo>
                <a:close/>
              </a:path>
              <a:path fill="none" w="21600" h="21600">
                <a:moveTo>
                  <a:pt x="21600" y="10788"/>
                </a:moveTo>
                <a:arcTo wR="10800" hR="10800" stAng="-3938" swAng="478368"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40320" y="3032280"/>
            <a:ext cx="13302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40320" y="3390840"/>
            <a:ext cx="13669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40320" y="3390840"/>
            <a:ext cx="1366920" cy="468360"/>
          </a:xfrm>
          <a:custGeom>
            <a:avLst/>
            <a:gdLst/>
            <a:ahLst/>
            <a:rect l="l" t="t" r="r" b="b"/>
            <a:pathLst>
              <a:path w="861" h="295">
                <a:moveTo>
                  <a:pt x="0" y="0"/>
                </a:moveTo>
                <a:lnTo>
                  <a:pt x="861" y="119"/>
                </a:lnTo>
                <a:lnTo>
                  <a:pt x="816" y="295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58640" y="2008440"/>
            <a:ext cx="2775600" cy="277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7" y="12286"/>
                </a:moveTo>
                <a:arcTo wR="10800" hR="10800" stAng="474430" swAng="720179"/>
                <a:lnTo>
                  <a:pt x="10800" y="10800"/>
                </a:lnTo>
                <a:close/>
              </a:path>
              <a:path fill="none" w="21600" h="21600">
                <a:moveTo>
                  <a:pt x="21497" y="12286"/>
                </a:moveTo>
                <a:arcTo wR="10800" hR="10800" stAng="474430" swAng="720179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40320" y="3390840"/>
            <a:ext cx="13669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40320" y="3390840"/>
            <a:ext cx="129528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40320" y="3390840"/>
            <a:ext cx="1295280" cy="1123920"/>
          </a:xfrm>
          <a:custGeom>
            <a:avLst/>
            <a:gdLst/>
            <a:ahLst/>
            <a:rect l="l" t="t" r="r" b="b"/>
            <a:pathLst>
              <a:path w="816" h="708">
                <a:moveTo>
                  <a:pt x="0" y="0"/>
                </a:moveTo>
                <a:lnTo>
                  <a:pt x="816" y="295"/>
                </a:lnTo>
                <a:lnTo>
                  <a:pt x="499" y="708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58640" y="2009880"/>
            <a:ext cx="2775240" cy="277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54" y="14478"/>
                </a:moveTo>
                <a:arcTo wR="10800" hR="10800" stAng="1194608" swAng="2105224"/>
                <a:lnTo>
                  <a:pt x="10800" y="10800"/>
                </a:lnTo>
                <a:close/>
              </a:path>
              <a:path fill="none" w="21600" h="21600">
                <a:moveTo>
                  <a:pt x="20954" y="14478"/>
                </a:moveTo>
                <a:arcTo wR="10800" hR="10800" stAng="1194608" swAng="2105224"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40320" y="3390840"/>
            <a:ext cx="129528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40320" y="3390840"/>
            <a:ext cx="79200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13320" y="3390840"/>
            <a:ext cx="819000" cy="1374840"/>
          </a:xfrm>
          <a:custGeom>
            <a:avLst/>
            <a:gdLst/>
            <a:ahLst/>
            <a:rect l="l" t="t" r="r" b="b"/>
            <a:pathLst>
              <a:path w="516" h="866">
                <a:moveTo>
                  <a:pt x="17" y="0"/>
                </a:moveTo>
                <a:lnTo>
                  <a:pt x="516" y="708"/>
                </a:lnTo>
                <a:lnTo>
                  <a:pt x="0" y="866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57920" y="2008440"/>
            <a:ext cx="2777400" cy="27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95" y="19647"/>
                </a:moveTo>
                <a:arcTo wR="10800" hR="10800" stAng="3299832" swAng="2163238"/>
                <a:lnTo>
                  <a:pt x="10800" y="10800"/>
                </a:lnTo>
                <a:close/>
              </a:path>
              <a:path fill="none" w="21600" h="21600">
                <a:moveTo>
                  <a:pt x="16995" y="19647"/>
                </a:moveTo>
                <a:arcTo wR="10800" hR="10800" stAng="3299832" swAng="2163238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2760" y="3390840"/>
            <a:ext cx="187560" cy="1374840"/>
          </a:xfrm>
          <a:custGeom>
            <a:avLst/>
            <a:gdLst/>
            <a:ahLst/>
            <a:rect l="l" t="t" r="r" b="b"/>
            <a:pathLst>
              <a:path w="118" h="866">
                <a:moveTo>
                  <a:pt x="118" y="0"/>
                </a:moveTo>
                <a:lnTo>
                  <a:pt x="118" y="866"/>
                </a:lnTo>
                <a:lnTo>
                  <a:pt x="0" y="861"/>
                </a:lnTo>
                <a:lnTo>
                  <a:pt x="1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9440" y="2008440"/>
            <a:ext cx="2751120" cy="27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77394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77394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0320" y="3390840"/>
            <a:ext cx="79200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52400" y="3390840"/>
            <a:ext cx="18756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08400" y="3390840"/>
            <a:ext cx="331920" cy="1366920"/>
          </a:xfrm>
          <a:custGeom>
            <a:avLst/>
            <a:gdLst/>
            <a:ahLst/>
            <a:rect l="l" t="t" r="r" b="b"/>
            <a:pathLst>
              <a:path w="209" h="861">
                <a:moveTo>
                  <a:pt x="209" y="0"/>
                </a:moveTo>
                <a:lnTo>
                  <a:pt x="91" y="861"/>
                </a:lnTo>
                <a:lnTo>
                  <a:pt x="0" y="838"/>
                </a:lnTo>
                <a:lnTo>
                  <a:pt x="209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68000" y="2009160"/>
            <a:ext cx="2753640" cy="277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05" y="21496"/>
                </a:moveTo>
                <a:arcTo wR="10800" hR="10800" stAng="5877394" swAng="363172"/>
                <a:lnTo>
                  <a:pt x="10800" y="10800"/>
                </a:lnTo>
                <a:close/>
              </a:path>
              <a:path fill="none" w="21600" h="21600">
                <a:moveTo>
                  <a:pt x="9305" y="21496"/>
                </a:moveTo>
                <a:arcTo wR="10800" hR="10800" stAng="5877394" swAng="363172"/>
              </a:path>
            </a:pathLst>
          </a:cu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352400" y="3390840"/>
            <a:ext cx="18756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208400" y="3390840"/>
            <a:ext cx="331920" cy="13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65480" y="3363840"/>
            <a:ext cx="1374840" cy="1357560"/>
          </a:xfrm>
          <a:custGeom>
            <a:avLst/>
            <a:gdLst/>
            <a:ahLst/>
            <a:rect l="l" t="t" r="r" b="b"/>
            <a:pathLst>
              <a:path w="866" h="855">
                <a:moveTo>
                  <a:pt x="866" y="17"/>
                </a:moveTo>
                <a:lnTo>
                  <a:pt x="657" y="855"/>
                </a:lnTo>
                <a:lnTo>
                  <a:pt x="0" y="0"/>
                </a:lnTo>
                <a:lnTo>
                  <a:pt x="866" y="17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5480" y="2009880"/>
            <a:ext cx="2758680" cy="277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86" y="21279"/>
                </a:moveTo>
                <a:arcTo wR="10800" hR="10800" stAng="6240567" swAng="4622396"/>
                <a:lnTo>
                  <a:pt x="10800" y="10800"/>
                </a:lnTo>
                <a:close/>
              </a:path>
              <a:path fill="none" w="21600" h="21600">
                <a:moveTo>
                  <a:pt x="8186" y="21279"/>
                </a:moveTo>
                <a:arcTo wR="10800" hR="10800" stAng="6240567" swAng="4622396"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65480" y="2016000"/>
            <a:ext cx="1374840" cy="1374840"/>
          </a:xfrm>
          <a:custGeom>
            <a:avLst/>
            <a:gdLst/>
            <a:ahLst/>
            <a:rect l="l" t="t" r="r" b="b"/>
            <a:pathLst>
              <a:path w="866" h="866">
                <a:moveTo>
                  <a:pt x="866" y="866"/>
                </a:moveTo>
                <a:lnTo>
                  <a:pt x="0" y="866"/>
                </a:lnTo>
                <a:lnTo>
                  <a:pt x="866" y="0"/>
                </a:lnTo>
                <a:lnTo>
                  <a:pt x="866" y="86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5480" y="2016000"/>
            <a:ext cx="2758680" cy="275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08400" y="3390840"/>
            <a:ext cx="331920" cy="13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40320" y="2015640"/>
            <a:ext cx="1440" cy="13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6600" y="3193920"/>
            <a:ext cx="187200" cy="98640"/>
          </a:xfrm>
          <a:custGeom>
            <a:avLst/>
            <a:gdLst/>
            <a:ahLst/>
            <a:rect l="l" t="t" r="r" b="b"/>
            <a:pathLst>
              <a:path w="118" h="62">
                <a:moveTo>
                  <a:pt x="118" y="0"/>
                </a:moveTo>
                <a:lnTo>
                  <a:pt x="67" y="0"/>
                </a:lnTo>
                <a:lnTo>
                  <a:pt x="0" y="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70520" y="3724200"/>
            <a:ext cx="189000" cy="81000"/>
          </a:xfrm>
          <a:custGeom>
            <a:avLst/>
            <a:gdLst/>
            <a:ahLst/>
            <a:rect l="l" t="t" r="r" b="b"/>
            <a:pathLst>
              <a:path w="119" h="51">
                <a:moveTo>
                  <a:pt x="119" y="51"/>
                </a:moveTo>
                <a:lnTo>
                  <a:pt x="68" y="5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00560" y="156204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20000" y="18129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38120" y="2352600"/>
            <a:ext cx="4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640" y="260352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44120" y="2944800"/>
            <a:ext cx="57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i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51760" y="319716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8760" y="3556080"/>
            <a:ext cx="86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ow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15120" y="38084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3560" y="4211640"/>
            <a:ext cx="120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e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09120" y="44640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49200" y="48052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7280" y="5056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38360" y="4822920"/>
            <a:ext cx="11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ffee/T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9080" y="507528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39800" y="2927520"/>
            <a:ext cx="61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03880" y="317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5661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stimated Market Size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£26 billio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9520" y="3500280"/>
            <a:ext cx="191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of which bu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odstuffs = 3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400" spc="-1" strike="noStrike">
                <a:solidFill>
                  <a:srgbClr val="ffffff"/>
                </a:solidFill>
                <a:latin typeface="Arial Narrow"/>
              </a:rPr>
              <a:t>Perishable Food Supply Chai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5400000">
            <a:off x="2298960" y="13320"/>
            <a:ext cx="4184640" cy="7272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755640" y="5805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05 UK perishable foo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mports/exports =  £37 bill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upply Chain Cost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 a percentage of the wholesale product price a key supplier has assessed the costs of his supply chain a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64% of berries from Chi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70% of tomatoes/bell pepp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80% of app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poilage rates vary from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5% to 30%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nd can reach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50%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for soft frui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Market and Documentatio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ubstantial UK market with significant supply chain cos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o single company sees or manages the whole move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ome activities, transactions and costs invisible or hidden to participa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ittle realisation of true costs of documentation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any companies focus on just-in-time deliveri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aper documentatio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s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a major administrative burden on business and govern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cale of Documentatio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700280"/>
          <a:ext cx="7773840" cy="4390920"/>
        </p:xfrm>
        <a:graphic>
          <a:graphicData uri="http://schemas.openxmlformats.org/drawingml/2006/table">
            <a:tbl>
              <a:tblPr/>
              <a:tblGrid>
                <a:gridCol w="1941480"/>
                <a:gridCol w="5832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cuments in a typical single complete consignment transaction from grower to retailer (= up to 225 pieces of pape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 b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eces of paper generated </a:t>
                      </a:r>
                      <a:r>
                        <a:rPr b="1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 Narrow"/>
                        </a:rPr>
                        <a:t>e</a:t>
                      </a:r>
                      <a:r>
                        <a:rPr b="1" lang="cy-GB" sz="2000" spc="-1" strike="noStrike" u="sng">
                          <a:solidFill>
                            <a:srgbClr val="ffffff"/>
                          </a:solidFill>
                          <a:uFillTx/>
                          <a:latin typeface="Arial Narrow"/>
                        </a:rPr>
                        <a:t>ach year</a:t>
                      </a:r>
                      <a:r>
                        <a:rPr b="1" lang="cy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by UK perishable food imports supply ch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ata entered more than o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9 m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uplicate consignment ent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ver 9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aper documentation subsequently destroyed – much non-recycl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signment cost savings from each day saved in supply ch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5:42:04Z</dcterms:created>
  <dc:creator> </dc:creator>
  <dc:description/>
  <dc:language>en-US</dc:language>
  <cp:lastModifiedBy>Costa</cp:lastModifiedBy>
  <dcterms:modified xsi:type="dcterms:W3CDTF">2008-09-15T07:17:10Z</dcterms:modified>
  <cp:revision>4</cp:revision>
  <dc:subject/>
  <dc:title> SITPRO’s   Five Year Strategy  2008-2013</dc:title>
</cp:coreProperties>
</file>