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1BD5-64F8-49DE-A846-039928989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5F0B-57CB-47CC-BA75-595EB77F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828B-91F3-4950-A58D-2950652A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99C5-F575-4546-AC92-532A5C12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EC2A-57D5-4893-B59C-E57E072B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CBA6-0EA9-4733-9862-FD091AB0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188D-8506-46EC-B25C-15CFFAD8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CCBB-DBD1-44C1-B8A9-3D66BC5C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B213-335B-464A-AC01-BF1E3962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1292-32BB-49D9-8070-397F2901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97DB-C733-457B-BF54-36E8346B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AC20-802F-45AD-BD98-EF772312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5F89-4EC6-4AF1-8079-F1A6553E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6BF5-0293-4DA4-8A08-8B1CC225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3537-5F57-4D7D-A876-3E06A587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4D82-0BD2-42B1-9CD0-9B07C8655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B406-2D96-4CD1-997C-E1140796D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88AD-FEC5-43E0-AD9F-4CF4ECEF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96E5-A2AA-482E-A5C8-F95C791A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2513-B72E-4CE9-821C-F2302263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85AB-D2EF-4539-96AC-F5F13D4A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58A3-8699-4AD8-9FF9-8820AD1E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DB61-F28B-4113-ABAC-8312BEDC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4975-32C3-4577-8222-F94D740F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3156-0E61-46C6-93CE-C315B4557E8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7928-B27A-44CD-AC92-151AFE7CB02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eCer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rt certification of traded agricultural commod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LLABORATIVE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6920" y="765000"/>
            <a:ext cx="2448000" cy="828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300720" y="765000"/>
            <a:ext cx="1873440" cy="8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nternational Standar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2946240"/>
            <a:ext cx="731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2906640"/>
            <a:ext cx="73152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3048120"/>
            <a:ext cx="731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3124080"/>
            <a:ext cx="731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4328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8128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1066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2666880"/>
            <a:ext cx="82296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60948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67280" y="1557360"/>
            <a:ext cx="236196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/ F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20000" y="3573360"/>
            <a:ext cx="152388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nimal Healt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20000" y="2349360"/>
            <a:ext cx="152388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PP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lant Healt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56000" y="2852640"/>
            <a:ext cx="160020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D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56000" y="4221000"/>
            <a:ext cx="1600200" cy="533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CF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3573360"/>
            <a:ext cx="152424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08000" y="3573360"/>
            <a:ext cx="152424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19640" y="227664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357336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63640" y="2997360"/>
            <a:ext cx="18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3213000"/>
            <a:ext cx="18288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321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00360" y="321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1280" y="2276640"/>
            <a:ext cx="236196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51814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839080" y="51814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5867280"/>
            <a:ext cx="449568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lateral Agre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617220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781320" y="617220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5084640"/>
            <a:ext cx="216036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igned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4000" y="5084640"/>
            <a:ext cx="216036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56360" y="5084640"/>
            <a:ext cx="216072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IF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443280" y="184464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812000" y="184464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UN/CEFACT Standar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gnition of a standard amongst our trading part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fy system requirements to enable multiple country ex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business processes for import clearance by providing consistent quality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ate real time clea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UN/CEFAC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stablished the eCert Project Team under TBG 15 – Trade Facil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irst meeting in 2004 in Bonn, Germa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presentatives from Canada, USA, WCO, Chinese Taipei, Japan, Australia and New Zea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BRS appro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BG 17 harmonization completed and requirements included in the D08A C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SM submitted to ICG for aud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ecognition that the eCert Data Standard aligns to UN/CEFACT standa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evise our systems to comply with the aligned eCert Standard at UN/CEFA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o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resentation Overvie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/CEFACT Stand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Star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rt Certificates are G2G documents issued to facilitate trade of agricultural products by assuring that the commodity has met the importing government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tification may cover animal or plant health, food safety or public health, or animal welfare iss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per certificates have been issued for many years and are subject to international standards for 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aper Certificate Flo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3093840" cy="4537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549360"/>
            <a:ext cx="7772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63240" y="22766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or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249228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14000" y="501012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41320" y="342756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eight Forwar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45100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12480" y="285120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bass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91040" y="400212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g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53080" y="2925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3573360"/>
            <a:ext cx="1008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0360" y="4797360"/>
            <a:ext cx="122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77080" y="55897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HO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69080" y="249408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77080" y="2494080"/>
            <a:ext cx="0" cy="273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940360" y="523080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84720" y="249408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724000" y="30700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437080" y="2565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45080" y="2494080"/>
            <a:ext cx="0" cy="172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797080" y="42228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229080" y="357336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364000" y="479700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716360" y="46544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16360" y="465444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515772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64000" y="530208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5878440"/>
            <a:ext cx="1513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56360" y="364644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00720" y="364644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53080" y="4149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ustralia and New Zealand combined for ex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1900 templates in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rade with 120 econom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30 + languages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50 000 certificates for edible meat issued each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16,000 of these are exchanged between AU &amp; N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Star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 Safety Quadrilaterals for Meat (USA/Canada/NZ &amp; Austral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aboration of NZFSA &amp; AQ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 Safety Quadrilaterals for Pl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ia Pacific Economic Co-operation (APE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ld Customs Organisation (WC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Projec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ZFSA &amp; AQIS collaborated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 language and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gn data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business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hieve UN/CEFACT stand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ata Flo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0560" y="1368360"/>
            <a:ext cx="609480" cy="49719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ee941c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514680" y="3691080"/>
            <a:ext cx="2578320" cy="2792160"/>
            <a:chOff x="3514680" y="3691080"/>
            <a:chExt cx="2578320" cy="2792160"/>
          </a:xfrm>
        </p:grpSpPr>
        <p:sp>
          <p:nvSpPr>
            <p:cNvPr id="131" name=""/>
            <p:cNvSpPr/>
            <p:nvPr/>
          </p:nvSpPr>
          <p:spPr>
            <a:xfrm>
              <a:off x="3514680" y="3691080"/>
              <a:ext cx="2578320" cy="2792160"/>
            </a:xfrm>
            <a:prstGeom prst="ellipse">
              <a:avLst/>
            </a:prstGeom>
            <a:noFill/>
            <a:ln cap="rnd" w="63360">
              <a:solidFill>
                <a:srgbClr val="ff99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3889440" y="4359240"/>
              <a:ext cx="860040" cy="1508040"/>
              <a:chOff x="3889440" y="4359240"/>
              <a:chExt cx="860040" cy="1508040"/>
            </a:xfrm>
          </p:grpSpPr>
          <p:sp>
            <p:nvSpPr>
              <p:cNvPr id="133" name=""/>
              <p:cNvSpPr/>
              <p:nvPr/>
            </p:nvSpPr>
            <p:spPr>
              <a:xfrm>
                <a:off x="3976920" y="4359240"/>
                <a:ext cx="772560" cy="1472400"/>
              </a:xfrm>
              <a:custGeom>
                <a:avLst/>
                <a:gdLst/>
                <a:ahLst/>
                <a:rect l="l" t="t" r="r" b="b"/>
                <a:pathLst>
                  <a:path w="724" h="1273">
                    <a:moveTo>
                      <a:pt x="66" y="57"/>
                    </a:moveTo>
                    <a:lnTo>
                      <a:pt x="379" y="0"/>
                    </a:lnTo>
                    <a:lnTo>
                      <a:pt x="609" y="32"/>
                    </a:lnTo>
                    <a:lnTo>
                      <a:pt x="633" y="978"/>
                    </a:lnTo>
                    <a:lnTo>
                      <a:pt x="724" y="1027"/>
                    </a:lnTo>
                    <a:lnTo>
                      <a:pt x="477" y="1273"/>
                    </a:lnTo>
                    <a:lnTo>
                      <a:pt x="0" y="1208"/>
                    </a:lnTo>
                    <a:lnTo>
                      <a:pt x="66" y="1125"/>
                    </a:lnTo>
                    <a:lnTo>
                      <a:pt x="66" y="5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3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889440" y="4405320"/>
                <a:ext cx="768240" cy="1461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5" name=""/>
            <p:cNvGrpSpPr/>
            <p:nvPr/>
          </p:nvGrpSpPr>
          <p:grpSpPr>
            <a:xfrm>
              <a:off x="5065560" y="4330800"/>
              <a:ext cx="860040" cy="1508040"/>
              <a:chOff x="5065560" y="4330800"/>
              <a:chExt cx="860040" cy="1508040"/>
            </a:xfrm>
          </p:grpSpPr>
          <p:sp>
            <p:nvSpPr>
              <p:cNvPr id="136" name=""/>
              <p:cNvSpPr/>
              <p:nvPr/>
            </p:nvSpPr>
            <p:spPr>
              <a:xfrm>
                <a:off x="5153040" y="4330800"/>
                <a:ext cx="772560" cy="1472400"/>
              </a:xfrm>
              <a:custGeom>
                <a:avLst/>
                <a:gdLst/>
                <a:ahLst/>
                <a:rect l="l" t="t" r="r" b="b"/>
                <a:pathLst>
                  <a:path w="724" h="1273">
                    <a:moveTo>
                      <a:pt x="66" y="57"/>
                    </a:moveTo>
                    <a:lnTo>
                      <a:pt x="379" y="0"/>
                    </a:lnTo>
                    <a:lnTo>
                      <a:pt x="609" y="32"/>
                    </a:lnTo>
                    <a:lnTo>
                      <a:pt x="633" y="978"/>
                    </a:lnTo>
                    <a:lnTo>
                      <a:pt x="724" y="1027"/>
                    </a:lnTo>
                    <a:lnTo>
                      <a:pt x="477" y="1273"/>
                    </a:lnTo>
                    <a:lnTo>
                      <a:pt x="0" y="1208"/>
                    </a:lnTo>
                    <a:lnTo>
                      <a:pt x="66" y="1125"/>
                    </a:lnTo>
                    <a:lnTo>
                      <a:pt x="66" y="5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3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065560" y="4376880"/>
                <a:ext cx="768240" cy="1461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8" name=""/>
            <p:cNvSpPr/>
            <p:nvPr/>
          </p:nvSpPr>
          <p:spPr>
            <a:xfrm>
              <a:off x="4467240" y="4997520"/>
              <a:ext cx="639720" cy="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40800" y="5894280"/>
              <a:ext cx="118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Arial"/>
                </a:rPr>
                <a:t>E-cer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1720" y="4435560"/>
              <a:ext cx="3128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77040" y="4457880"/>
              <a:ext cx="312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877080" y="2565360"/>
            <a:ext cx="1685880" cy="1324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1042920" y="2492280"/>
            <a:ext cx="1685880" cy="1324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380360" y="4005360"/>
            <a:ext cx="9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22100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16000" y="400536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2340000" y="4076640"/>
            <a:ext cx="852480" cy="852480"/>
          </a:xfrm>
          <a:custGeom>
            <a:avLst/>
            <a:gdLst>
              <a:gd name="textAreaLeft" fmla="*/ 244440 w 852480"/>
              <a:gd name="textAreaRight" fmla="*/ 730440 w 852480"/>
              <a:gd name="textAreaTop" fmla="*/ 491040 h 852480"/>
              <a:gd name="textAreaBottom" fmla="*/ 73044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43640" y="4076640"/>
            <a:ext cx="852480" cy="852480"/>
          </a:xfrm>
          <a:custGeom>
            <a:avLst/>
            <a:gdLst>
              <a:gd name="textAreaLeft" fmla="*/ 244440 w 852480"/>
              <a:gd name="textAreaRight" fmla="*/ 730440 w 852480"/>
              <a:gd name="textAreaTop" fmla="*/ 491040 h 852480"/>
              <a:gd name="textAreaBottom" fmla="*/ 73044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60000" y="3965400"/>
            <a:ext cx="9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x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1640" y="3894120"/>
            <a:ext cx="88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m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wareness Rai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acity Buil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uster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22:21:10Z</dcterms:created>
  <dc:creator>Cooper Barb</dc:creator>
  <dc:description/>
  <dc:language>en-US</dc:language>
  <cp:lastModifiedBy>Costa</cp:lastModifiedBy>
  <dcterms:modified xsi:type="dcterms:W3CDTF">2008-09-15T07:05:01Z</dcterms:modified>
  <cp:revision>16</cp:revision>
  <dc:subject/>
  <dc:title>eCe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