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FF5-E6BD-48E1-B1EF-792C5BD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692-2ADB-4D90-9C8B-D985EB35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339-9915-4045-9284-293C713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EDD-AD5C-4469-94A1-7C9B98CF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9387-A2F2-4517-95B3-5328421F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AF9-6EF2-483E-9C46-F59C188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433C-E51E-4C24-98BB-B4EB1CA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09DB-19AD-4F43-A6D6-4F060F3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9F3-FD5E-4531-AF20-5CA59F2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FFF-6C66-4970-9C8F-B8547B5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DE56-AB86-470C-9955-DD671D3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4CC-A362-4E27-8AEE-89FB2330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02F0-FF4D-4308-8A32-080437A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FAB8-C7A6-4284-BCF5-610DA2E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C8D4-DB6A-444C-8C13-290280C8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649-4274-4B4B-80B2-460F70D3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711-AB47-4E28-8362-65F96DA0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CF7-ABE6-4C0B-8ACE-2143C71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192-09F3-4D7E-AB80-B7A4E419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767-3DE7-492B-BA38-70A1064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FED-7986-40D5-A2DF-4832442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D4F-B416-40D6-BD2C-1A15ACF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25F-CEC2-457B-BA34-16517E1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A7C-4734-4C15-9213-411BC21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12F-5871-4BB1-908E-D35670A34F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90B-D6B8-41D8-9995-9C30CF5721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eCe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certification of traded agricultural commod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LLABORATIVE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448000" cy="82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187344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national Standa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4624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906640"/>
            <a:ext cx="73152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04812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124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812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6668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094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1557360"/>
            <a:ext cx="23619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/ F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573360"/>
            <a:ext cx="15238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nimal Heal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2349360"/>
            <a:ext cx="15238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lant Heal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2852640"/>
            <a:ext cx="16002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221000"/>
            <a:ext cx="16002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CF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573360"/>
            <a:ext cx="1524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573360"/>
            <a:ext cx="1524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27664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357336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997360"/>
            <a:ext cx="1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213000"/>
            <a:ext cx="1828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2276640"/>
            <a:ext cx="23619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181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39080" y="5181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867280"/>
            <a:ext cx="44956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ateral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1722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781320" y="6172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084640"/>
            <a:ext cx="216036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gned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5084640"/>
            <a:ext cx="216036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5084640"/>
            <a:ext cx="216072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443280" y="184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1844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/CEFACT Standa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of a standard amongst our trading par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y system requirements to enable multiple country ex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business processes for import clearance by providing consistent qualit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real time cl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/CEFAC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stablished the eCert Project Team under TBG 15 – Trade Fac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rst meeting in 2004 in Bonn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presentatives from Canada, USA, WCO, Chinese Taipei, Japan, Australia and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R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BG 17 harmonization completed and requirements included in the D08A C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SM submitted to ICG for au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ognition that the eCert Data Standard aligns to UN/CEFACT stand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vise our systems to comply with the aligned eCert Standard at UN/CE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sentation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/CEFACT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Certificates are G2G documents issued to facilitate trade of agricultural products by assuring that the commodity has met the importing government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 may cover animal or plant health, food safety or public health, or animal welfare 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certificates have been issued for many years and are subject to international standards for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per Certificate Fl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093840" cy="453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324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492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4000" y="50101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41320" y="34275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ight Forwa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510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2480" y="2851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bas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91040" y="40021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3080" y="292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3573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479736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5589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9080" y="24940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2494080"/>
            <a:ext cx="0" cy="27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0360" y="5230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24940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24000" y="3070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7080" y="256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5080" y="249408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97080" y="42228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229080" y="3573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364000" y="4797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46544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46544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1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5302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878440"/>
            <a:ext cx="15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36464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36464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4149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ustralia and New Zealand combined for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00 templates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de with 120 econo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0 + language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0 000 certificates for edible meat issued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6,000 of these are exchanged between AU &amp; 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afety Quadrilaterals for Meat (USA/Canada/NZ &amp; Austral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of NZFSA &amp; A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afety Quadrilaterals for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 Pacific Economic Co-operation (AP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Customs Organisation (W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rojec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ZFSA &amp; AQIS collaborat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 language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 data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usiness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 UN/CEFACT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ta Fl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0560" y="1368360"/>
            <a:ext cx="609480" cy="49719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ee941c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14680" y="3691080"/>
            <a:ext cx="2578320" cy="2792160"/>
            <a:chOff x="3514680" y="3691080"/>
            <a:chExt cx="2578320" cy="2792160"/>
          </a:xfrm>
        </p:grpSpPr>
        <p:sp>
          <p:nvSpPr>
            <p:cNvPr id="131" name=""/>
            <p:cNvSpPr/>
            <p:nvPr/>
          </p:nvSpPr>
          <p:spPr>
            <a:xfrm>
              <a:off x="3514680" y="3691080"/>
              <a:ext cx="2578320" cy="2792160"/>
            </a:xfrm>
            <a:prstGeom prst="ellipse">
              <a:avLst/>
            </a:prstGeom>
            <a:noFill/>
            <a:ln cap="rnd" w="63360">
              <a:solidFill>
                <a:srgbClr val="ff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889440" y="4359240"/>
              <a:ext cx="860040" cy="1508040"/>
              <a:chOff x="3889440" y="4359240"/>
              <a:chExt cx="860040" cy="1508040"/>
            </a:xfrm>
          </p:grpSpPr>
          <p:sp>
            <p:nvSpPr>
              <p:cNvPr id="133" name=""/>
              <p:cNvSpPr/>
              <p:nvPr/>
            </p:nvSpPr>
            <p:spPr>
              <a:xfrm>
                <a:off x="3976920" y="4359240"/>
                <a:ext cx="772560" cy="1472400"/>
              </a:xfrm>
              <a:custGeom>
                <a:avLst/>
                <a:gdLst/>
                <a:ahLst/>
                <a:rect l="l" t="t" r="r" b="b"/>
                <a:pathLst>
                  <a:path w="724" h="1273">
                    <a:moveTo>
                      <a:pt x="66" y="57"/>
                    </a:moveTo>
                    <a:lnTo>
                      <a:pt x="379" y="0"/>
                    </a:lnTo>
                    <a:lnTo>
                      <a:pt x="609" y="32"/>
                    </a:lnTo>
                    <a:lnTo>
                      <a:pt x="633" y="978"/>
                    </a:lnTo>
                    <a:lnTo>
                      <a:pt x="724" y="1027"/>
                    </a:lnTo>
                    <a:lnTo>
                      <a:pt x="477" y="1273"/>
                    </a:lnTo>
                    <a:lnTo>
                      <a:pt x="0" y="1208"/>
                    </a:lnTo>
                    <a:lnTo>
                      <a:pt x="66" y="1125"/>
                    </a:lnTo>
                    <a:lnTo>
                      <a:pt x="66" y="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9440" y="4405320"/>
                <a:ext cx="768240" cy="146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5065560" y="4330800"/>
              <a:ext cx="860040" cy="1508040"/>
              <a:chOff x="5065560" y="4330800"/>
              <a:chExt cx="860040" cy="1508040"/>
            </a:xfrm>
          </p:grpSpPr>
          <p:sp>
            <p:nvSpPr>
              <p:cNvPr id="136" name=""/>
              <p:cNvSpPr/>
              <p:nvPr/>
            </p:nvSpPr>
            <p:spPr>
              <a:xfrm>
                <a:off x="5153040" y="4330800"/>
                <a:ext cx="772560" cy="1472400"/>
              </a:xfrm>
              <a:custGeom>
                <a:avLst/>
                <a:gdLst/>
                <a:ahLst/>
                <a:rect l="l" t="t" r="r" b="b"/>
                <a:pathLst>
                  <a:path w="724" h="1273">
                    <a:moveTo>
                      <a:pt x="66" y="57"/>
                    </a:moveTo>
                    <a:lnTo>
                      <a:pt x="379" y="0"/>
                    </a:lnTo>
                    <a:lnTo>
                      <a:pt x="609" y="32"/>
                    </a:lnTo>
                    <a:lnTo>
                      <a:pt x="633" y="978"/>
                    </a:lnTo>
                    <a:lnTo>
                      <a:pt x="724" y="1027"/>
                    </a:lnTo>
                    <a:lnTo>
                      <a:pt x="477" y="1273"/>
                    </a:lnTo>
                    <a:lnTo>
                      <a:pt x="0" y="1208"/>
                    </a:lnTo>
                    <a:lnTo>
                      <a:pt x="66" y="1125"/>
                    </a:lnTo>
                    <a:lnTo>
                      <a:pt x="66" y="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65560" y="4376880"/>
                <a:ext cx="768240" cy="14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>
              <a:off x="4467240" y="4997520"/>
              <a:ext cx="639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40800" y="58942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"/>
                </a:rPr>
                <a:t>E-cer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435560"/>
              <a:ext cx="31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7040" y="4457880"/>
              <a:ext cx="31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2565360"/>
            <a:ext cx="168588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042920" y="2492280"/>
            <a:ext cx="1685880" cy="13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80360" y="400536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2210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005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340000" y="40766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0766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60000" y="396540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894120"/>
            <a:ext cx="8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m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 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st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2:21:10Z</dcterms:created>
  <dc:creator>Cooper Barb</dc:creator>
  <dc:description/>
  <dc:language>en-US</dc:language>
  <cp:lastModifiedBy>Costa</cp:lastModifiedBy>
  <dcterms:modified xsi:type="dcterms:W3CDTF">2008-09-15T07:05:01Z</dcterms:modified>
  <cp:revision>16</cp:revision>
  <dc:subject/>
  <dc:title>eC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