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608-EAFA-4A6E-B20F-F9DAD109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97B-C5FC-40CB-BE9B-A1946367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D5F-2F6B-42C1-8807-47946E04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43A-6FE2-497D-A1AE-FA385D10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887-D642-4A6B-903C-FCE685C5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8FEE-C099-4F61-B99B-8AF4F875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30F-971B-4496-AC63-7CF48E3C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AA89-9093-43D3-A1EB-806DB595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7581-0E78-435A-B2AB-3FA7A27C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DB4-D0CC-43EA-8E46-9750FF5C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7C8E-A0A7-454C-A7BA-5D7FF701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8D84-2949-4996-B98D-9E5DB311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Geneve sept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33cc"/>
                </a:solidFill>
                <a:latin typeface="Times New Roman"/>
              </a:rPr>
              <a:t>UNCEFACT Plenary sept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8648-ACD7-4BF8-8AC9-FB70444D7A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2.png"/><Relationship Id="rId22" Type="http://schemas.openxmlformats.org/officeDocument/2006/relationships/image" Target="../media/image3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2.png"/><Relationship Id="rId27" Type="http://schemas.openxmlformats.org/officeDocument/2006/relationships/image" Target="../media/image3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2.png"/><Relationship Id="rId32" Type="http://schemas.openxmlformats.org/officeDocument/2006/relationships/image" Target="../media/image3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2.png"/><Relationship Id="rId37" Type="http://schemas.openxmlformats.org/officeDocument/2006/relationships/image" Target="../media/image3.png"/><Relationship Id="rId38" Type="http://schemas.openxmlformats.org/officeDocument/2006/relationships/image" Target="../media/image4.png"/><Relationship Id="rId39" Type="http://schemas.openxmlformats.org/officeDocument/2006/relationships/image" Target="../media/image4.png"/><Relationship Id="rId40" Type="http://schemas.openxmlformats.org/officeDocument/2006/relationships/image" Target="../media/image4.png"/><Relationship Id="rId41" Type="http://schemas.openxmlformats.org/officeDocument/2006/relationships/image" Target="../media/image2.png"/><Relationship Id="rId42" Type="http://schemas.openxmlformats.org/officeDocument/2006/relationships/image" Target="../media/image3.png"/><Relationship Id="rId43" Type="http://schemas.openxmlformats.org/officeDocument/2006/relationships/image" Target="../media/image4.png"/><Relationship Id="rId44" Type="http://schemas.openxmlformats.org/officeDocument/2006/relationships/image" Target="../media/image4.png"/><Relationship Id="rId45" Type="http://schemas.openxmlformats.org/officeDocument/2006/relationships/image" Target="../media/image4.png"/><Relationship Id="rId46" Type="http://schemas.openxmlformats.org/officeDocument/2006/relationships/image" Target="../media/image2.png"/><Relationship Id="rId47" Type="http://schemas.openxmlformats.org/officeDocument/2006/relationships/image" Target="../media/image3.png"/><Relationship Id="rId48" Type="http://schemas.openxmlformats.org/officeDocument/2006/relationships/image" Target="../media/image4.png"/><Relationship Id="rId49" Type="http://schemas.openxmlformats.org/officeDocument/2006/relationships/image" Target="../media/image4.png"/><Relationship Id="rId50" Type="http://schemas.openxmlformats.org/officeDocument/2006/relationships/image" Target="../media/image4.png"/><Relationship Id="rId51" Type="http://schemas.openxmlformats.org/officeDocument/2006/relationships/image" Target="../media/image2.png"/><Relationship Id="rId52" Type="http://schemas.openxmlformats.org/officeDocument/2006/relationships/image" Target="../media/image3.png"/><Relationship Id="rId53" Type="http://schemas.openxmlformats.org/officeDocument/2006/relationships/image" Target="../media/image4.png"/><Relationship Id="rId54" Type="http://schemas.openxmlformats.org/officeDocument/2006/relationships/image" Target="../media/image4.png"/><Relationship Id="rId55" Type="http://schemas.openxmlformats.org/officeDocument/2006/relationships/image" Target="../media/image4.png"/><Relationship Id="rId5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hyperlink" Target="http://www.starwoodhotels.com/lemeridien/property/photos/index.html?propertyID=1821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780000" y="907920"/>
            <a:ext cx="1584000" cy="1354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2637000"/>
            <a:ext cx="8785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64375"/>
              </a:gs>
              <a:gs pos="50000">
                <a:srgbClr val="3193ff"/>
              </a:gs>
              <a:gs pos="100000">
                <a:srgbClr val="1643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INITIATIVES TO IMPROVE AF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DE FACILITATION CAP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3933720"/>
            <a:ext cx="8064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Georgia"/>
              </a:rPr>
              <a:t>Ibrahima Nour Eddine DIAG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lang="fr-FR" sz="1600" spc="-1" strike="noStrike">
                <a:solidFill>
                  <a:srgbClr val="3333cc"/>
                </a:solidFill>
                <a:latin typeface="Georgia"/>
              </a:rPr>
              <a:t>« Rapporteur for Africa – UNCEFACT)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981000"/>
            <a:ext cx="8280360" cy="216072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Berlin Sans FB"/>
              </a:rPr>
              <a:t>EXCHANGE OF DOCUMENT AND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Import / Export data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Certificate of origin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Exchange of commercial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3716280"/>
            <a:ext cx="8280360" cy="237672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Berlin Sans FB"/>
              </a:rPr>
              <a:t>SERVIC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Harmonization and standard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Striking and control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Local  and border operations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1773360"/>
            <a:ext cx="8280360" cy="244764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Berlin Sans FB"/>
              </a:rPr>
              <a:t>MUTUALISATION OF RE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Common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Common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Regional and international 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3683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OW A REGIONAL SINGLE WIND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484360" y="1773360"/>
            <a:ext cx="4033800" cy="3600360"/>
            <a:chOff x="2484360" y="1773360"/>
            <a:chExt cx="4033800" cy="3600360"/>
          </a:xfrm>
        </p:grpSpPr>
        <p:sp>
          <p:nvSpPr>
            <p:cNvPr id="59" name=""/>
            <p:cNvSpPr/>
            <p:nvPr/>
          </p:nvSpPr>
          <p:spPr>
            <a:xfrm>
              <a:off x="2484360" y="1773360"/>
              <a:ext cx="4033800" cy="3600360"/>
            </a:xfrm>
            <a:prstGeom prst="blockArc">
              <a:avLst>
                <a:gd name="adj1" fmla="val 5435498"/>
                <a:gd name="adj2" fmla="val 5364502"/>
                <a:gd name="adj3" fmla="val 13685"/>
              </a:avLst>
            </a:prstGeom>
            <a:solidFill>
              <a:srgbClr val="3193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3780000" y="2781360"/>
              <a:ext cx="1368360" cy="1512360"/>
              <a:chOff x="3780000" y="2781360"/>
              <a:chExt cx="1368360" cy="151236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3780000" y="2781360"/>
                <a:ext cx="1230840" cy="1293120"/>
                <a:chOff x="3780000" y="2781360"/>
                <a:chExt cx="1230840" cy="1293120"/>
              </a:xfrm>
            </p:grpSpPr>
            <p:pic>
              <p:nvPicPr>
                <p:cNvPr id="62" name="" descr=""/>
                <p:cNvPicPr/>
                <p:nvPr/>
              </p:nvPicPr>
              <p:blipFill>
                <a:blip r:embed="rId1">
                  <a:lum bright="18000"/>
                </a:blip>
                <a:stretch/>
              </p:blipFill>
              <p:spPr>
                <a:xfrm>
                  <a:off x="3780000" y="3305160"/>
                  <a:ext cx="1230840" cy="769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13840" y="2781360"/>
                  <a:ext cx="693720" cy="1207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4" name=""/>
                <p:cNvGrpSpPr/>
                <p:nvPr/>
              </p:nvGrpSpPr>
              <p:grpSpPr>
                <a:xfrm>
                  <a:off x="4479840" y="3057480"/>
                  <a:ext cx="379440" cy="822960"/>
                  <a:chOff x="4479840" y="3057480"/>
                  <a:chExt cx="379440" cy="822960"/>
                </a:xfrm>
              </p:grpSpPr>
              <p:sp>
                <p:nvSpPr>
                  <p:cNvPr id="65" name=""/>
                  <p:cNvSpPr/>
                  <p:nvPr/>
                </p:nvSpPr>
                <p:spPr>
                  <a:xfrm>
                    <a:off x="4479840" y="3057480"/>
                    <a:ext cx="279720" cy="543600"/>
                  </a:xfrm>
                  <a:prstGeom prst="can">
                    <a:avLst>
                      <a:gd name="adj" fmla="val 2012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333333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4580280" y="3336840"/>
                    <a:ext cx="279000" cy="543600"/>
                  </a:xfrm>
                  <a:prstGeom prst="can">
                    <a:avLst>
                      <a:gd name="adj" fmla="val 2012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333333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pic>
            <p:nvPicPr>
              <p:cNvPr id="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53720" y="2975400"/>
                <a:ext cx="375480" cy="54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819600" y="3751920"/>
                <a:ext cx="375480" cy="54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72880" y="3751920"/>
                <a:ext cx="375480" cy="54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0" name=""/>
          <p:cNvGrpSpPr/>
          <p:nvPr/>
        </p:nvGrpSpPr>
        <p:grpSpPr>
          <a:xfrm>
            <a:off x="2484360" y="2276640"/>
            <a:ext cx="1150920" cy="1080720"/>
            <a:chOff x="2484360" y="2276640"/>
            <a:chExt cx="1150920" cy="1080720"/>
          </a:xfrm>
        </p:grpSpPr>
        <p:grpSp>
          <p:nvGrpSpPr>
            <p:cNvPr id="71" name=""/>
            <p:cNvGrpSpPr/>
            <p:nvPr/>
          </p:nvGrpSpPr>
          <p:grpSpPr>
            <a:xfrm>
              <a:off x="2484360" y="2276640"/>
              <a:ext cx="780840" cy="729720"/>
              <a:chOff x="2484360" y="2276640"/>
              <a:chExt cx="780840" cy="72972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2484360" y="2276640"/>
                <a:ext cx="702720" cy="624240"/>
                <a:chOff x="2484360" y="2276640"/>
                <a:chExt cx="702720" cy="624240"/>
              </a:xfrm>
            </p:grpSpPr>
            <p:pic>
              <p:nvPicPr>
                <p:cNvPr id="73" name="" descr=""/>
                <p:cNvPicPr/>
                <p:nvPr/>
              </p:nvPicPr>
              <p:blipFill>
                <a:blip r:embed="rId6">
                  <a:lum bright="18000"/>
                </a:blip>
                <a:stretch/>
              </p:blipFill>
              <p:spPr>
                <a:xfrm>
                  <a:off x="2484360" y="2529360"/>
                  <a:ext cx="702720" cy="371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503440" y="2276640"/>
                  <a:ext cx="396000" cy="583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5" name=""/>
                <p:cNvGrpSpPr/>
                <p:nvPr/>
              </p:nvGrpSpPr>
              <p:grpSpPr>
                <a:xfrm>
                  <a:off x="2883960" y="2409840"/>
                  <a:ext cx="216720" cy="396720"/>
                  <a:chOff x="2883960" y="2409840"/>
                  <a:chExt cx="216720" cy="39672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>
                    <a:off x="2883960" y="2409840"/>
                    <a:ext cx="159840" cy="262080"/>
                  </a:xfrm>
                  <a:prstGeom prst="can">
                    <a:avLst>
                      <a:gd name="adj" fmla="val 2012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333333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2941200" y="2544480"/>
                    <a:ext cx="159480" cy="262080"/>
                  </a:xfrm>
                  <a:prstGeom prst="can">
                    <a:avLst>
                      <a:gd name="adj" fmla="val 2012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333333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pic>
            <p:nvPicPr>
              <p:cNvPr id="7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982960" y="2370240"/>
                <a:ext cx="214200" cy="26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7040" y="2745000"/>
                <a:ext cx="214200" cy="26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51000" y="2745000"/>
                <a:ext cx="214200" cy="26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" name=""/>
            <p:cNvSpPr/>
            <p:nvPr/>
          </p:nvSpPr>
          <p:spPr>
            <a:xfrm flipH="1" flipV="1">
              <a:off x="3348000" y="3068280"/>
              <a:ext cx="287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9280" y="476280"/>
            <a:ext cx="2664000" cy="4608360"/>
            <a:chOff x="179280" y="476280"/>
            <a:chExt cx="2664000" cy="4608360"/>
          </a:xfrm>
        </p:grpSpPr>
        <p:grpSp>
          <p:nvGrpSpPr>
            <p:cNvPr id="83" name=""/>
            <p:cNvGrpSpPr/>
            <p:nvPr/>
          </p:nvGrpSpPr>
          <p:grpSpPr>
            <a:xfrm>
              <a:off x="250920" y="476280"/>
              <a:ext cx="2592360" cy="3817800"/>
              <a:chOff x="250920" y="476280"/>
              <a:chExt cx="2592360" cy="381780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1403280" y="476280"/>
                <a:ext cx="1440000" cy="1297080"/>
                <a:chOff x="1403280" y="476280"/>
                <a:chExt cx="1440000" cy="12970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403280" y="476280"/>
                  <a:ext cx="1440000" cy="12970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" name=""/>
                <p:cNvGrpSpPr/>
                <p:nvPr/>
              </p:nvGrpSpPr>
              <p:grpSpPr>
                <a:xfrm>
                  <a:off x="1835280" y="836640"/>
                  <a:ext cx="585360" cy="635040"/>
                  <a:chOff x="1835280" y="836640"/>
                  <a:chExt cx="585360" cy="635040"/>
                </a:xfrm>
              </p:grpSpPr>
              <p:grpSp>
                <p:nvGrpSpPr>
                  <p:cNvPr id="87" name=""/>
                  <p:cNvGrpSpPr/>
                  <p:nvPr/>
                </p:nvGrpSpPr>
                <p:grpSpPr>
                  <a:xfrm>
                    <a:off x="1835280" y="836640"/>
                    <a:ext cx="527040" cy="542880"/>
                    <a:chOff x="1835280" y="836640"/>
                    <a:chExt cx="527040" cy="542880"/>
                  </a:xfrm>
                </p:grpSpPr>
                <p:pic>
                  <p:nvPicPr>
                    <p:cNvPr id="88" name="" descr=""/>
                    <p:cNvPicPr/>
                    <p:nvPr/>
                  </p:nvPicPr>
                  <p:blipFill>
                    <a:blip r:embed="rId11">
                      <a:lum bright="18000"/>
                    </a:blip>
                    <a:stretch/>
                  </p:blipFill>
                  <p:spPr>
                    <a:xfrm>
                      <a:off x="1835280" y="1056600"/>
                      <a:ext cx="527040" cy="3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8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849680" y="836640"/>
                      <a:ext cx="297000" cy="50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90" name=""/>
                    <p:cNvGrpSpPr/>
                    <p:nvPr/>
                  </p:nvGrpSpPr>
                  <p:grpSpPr>
                    <a:xfrm>
                      <a:off x="2135160" y="952560"/>
                      <a:ext cx="162360" cy="345600"/>
                      <a:chOff x="2135160" y="952560"/>
                      <a:chExt cx="162360" cy="345600"/>
                    </a:xfrm>
                  </p:grpSpPr>
                  <p:sp>
                    <p:nvSpPr>
                      <p:cNvPr id="91" name=""/>
                      <p:cNvSpPr/>
                      <p:nvPr/>
                    </p:nvSpPr>
                    <p:spPr>
                      <a:xfrm>
                        <a:off x="2135160" y="952560"/>
                        <a:ext cx="119880" cy="228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" name=""/>
                      <p:cNvSpPr/>
                      <p:nvPr/>
                    </p:nvSpPr>
                    <p:spPr>
                      <a:xfrm>
                        <a:off x="2178000" y="1069920"/>
                        <a:ext cx="119520" cy="228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9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09320" y="918000"/>
                    <a:ext cx="160560" cy="2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52200" y="1244160"/>
                    <a:ext cx="160560" cy="2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60080" y="1244160"/>
                    <a:ext cx="160560" cy="2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96" name=""/>
              <p:cNvSpPr/>
              <p:nvPr/>
            </p:nvSpPr>
            <p:spPr>
              <a:xfrm flipH="1" flipV="1">
                <a:off x="2410920" y="1700280"/>
                <a:ext cx="7308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250920" y="2997360"/>
                <a:ext cx="1439640" cy="1296720"/>
                <a:chOff x="250920" y="2997360"/>
                <a:chExt cx="1439640" cy="12967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50920" y="2997360"/>
                  <a:ext cx="1439640" cy="12967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" name=""/>
                <p:cNvGrpSpPr/>
                <p:nvPr/>
              </p:nvGrpSpPr>
              <p:grpSpPr>
                <a:xfrm>
                  <a:off x="682560" y="3357360"/>
                  <a:ext cx="585360" cy="634320"/>
                  <a:chOff x="682560" y="3357360"/>
                  <a:chExt cx="585360" cy="634320"/>
                </a:xfrm>
              </p:grpSpPr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682560" y="3357360"/>
                    <a:ext cx="526680" cy="542880"/>
                    <a:chOff x="682560" y="3357360"/>
                    <a:chExt cx="526680" cy="542880"/>
                  </a:xfrm>
                </p:grpSpPr>
                <p:pic>
                  <p:nvPicPr>
                    <p:cNvPr id="101" name="" descr=""/>
                    <p:cNvPicPr/>
                    <p:nvPr/>
                  </p:nvPicPr>
                  <p:blipFill>
                    <a:blip r:embed="rId16">
                      <a:lum bright="18000"/>
                    </a:blip>
                    <a:stretch/>
                  </p:blipFill>
                  <p:spPr>
                    <a:xfrm>
                      <a:off x="682560" y="3577320"/>
                      <a:ext cx="526680" cy="3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02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696960" y="3357360"/>
                      <a:ext cx="297000" cy="50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982080" y="3473280"/>
                      <a:ext cx="162360" cy="344880"/>
                      <a:chOff x="982080" y="3473280"/>
                      <a:chExt cx="162360" cy="344880"/>
                    </a:xfrm>
                  </p:grpSpPr>
                  <p:sp>
                    <p:nvSpPr>
                      <p:cNvPr id="104" name=""/>
                      <p:cNvSpPr/>
                      <p:nvPr/>
                    </p:nvSpPr>
                    <p:spPr>
                      <a:xfrm>
                        <a:off x="982080" y="3473280"/>
                        <a:ext cx="119880" cy="22788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1024920" y="3590280"/>
                        <a:ext cx="119520" cy="22788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10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56240" y="3438720"/>
                    <a:ext cx="16056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99480" y="3764520"/>
                    <a:ext cx="16056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07360" y="3764520"/>
                    <a:ext cx="16056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324000" y="1557360"/>
                <a:ext cx="1439640" cy="1297080"/>
                <a:chOff x="324000" y="1557360"/>
                <a:chExt cx="1439640" cy="12970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24000" y="1557360"/>
                  <a:ext cx="1439640" cy="12970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" name=""/>
                <p:cNvGrpSpPr/>
                <p:nvPr/>
              </p:nvGrpSpPr>
              <p:grpSpPr>
                <a:xfrm>
                  <a:off x="755640" y="1917720"/>
                  <a:ext cx="585360" cy="635040"/>
                  <a:chOff x="755640" y="1917720"/>
                  <a:chExt cx="585360" cy="635040"/>
                </a:xfrm>
              </p:grpSpPr>
              <p:grpSp>
                <p:nvGrpSpPr>
                  <p:cNvPr id="112" name=""/>
                  <p:cNvGrpSpPr/>
                  <p:nvPr/>
                </p:nvGrpSpPr>
                <p:grpSpPr>
                  <a:xfrm>
                    <a:off x="755640" y="1917720"/>
                    <a:ext cx="526680" cy="542880"/>
                    <a:chOff x="755640" y="1917720"/>
                    <a:chExt cx="526680" cy="542880"/>
                  </a:xfrm>
                </p:grpSpPr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1">
                      <a:lum bright="18000"/>
                    </a:blip>
                    <a:stretch/>
                  </p:blipFill>
                  <p:spPr>
                    <a:xfrm>
                      <a:off x="755640" y="2137680"/>
                      <a:ext cx="526680" cy="3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70040" y="1917720"/>
                      <a:ext cx="297000" cy="50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15" name=""/>
                    <p:cNvGrpSpPr/>
                    <p:nvPr/>
                  </p:nvGrpSpPr>
                  <p:grpSpPr>
                    <a:xfrm>
                      <a:off x="1055160" y="2033640"/>
                      <a:ext cx="162360" cy="345600"/>
                      <a:chOff x="1055160" y="2033640"/>
                      <a:chExt cx="162360" cy="345600"/>
                    </a:xfrm>
                  </p:grpSpPr>
                  <p:sp>
                    <p:nvSpPr>
                      <p:cNvPr id="116" name=""/>
                      <p:cNvSpPr/>
                      <p:nvPr/>
                    </p:nvSpPr>
                    <p:spPr>
                      <a:xfrm>
                        <a:off x="1055160" y="2033640"/>
                        <a:ext cx="119880" cy="228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" name=""/>
                      <p:cNvSpPr/>
                      <p:nvPr/>
                    </p:nvSpPr>
                    <p:spPr>
                      <a:xfrm>
                        <a:off x="1098000" y="2151000"/>
                        <a:ext cx="119520" cy="228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11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129320" y="1999080"/>
                    <a:ext cx="160560" cy="2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1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72560" y="2325240"/>
                    <a:ext cx="160560" cy="2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0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180440" y="2325240"/>
                    <a:ext cx="160560" cy="2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121" name=""/>
              <p:cNvSpPr/>
              <p:nvPr/>
            </p:nvSpPr>
            <p:spPr>
              <a:xfrm flipH="1" flipV="1">
                <a:off x="1692000" y="2421000"/>
                <a:ext cx="71892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1619280" y="2637000"/>
                <a:ext cx="79200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79280" y="4437000"/>
              <a:ext cx="1873440" cy="647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inked t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ocal stakehold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19640" y="260280"/>
            <a:ext cx="3733920" cy="3816360"/>
            <a:chOff x="5219640" y="260280"/>
            <a:chExt cx="3733920" cy="3816360"/>
          </a:xfrm>
        </p:grpSpPr>
        <p:sp>
          <p:nvSpPr>
            <p:cNvPr id="125" name=""/>
            <p:cNvSpPr/>
            <p:nvPr/>
          </p:nvSpPr>
          <p:spPr>
            <a:xfrm>
              <a:off x="5582520" y="981000"/>
              <a:ext cx="14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tional S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219640" y="260280"/>
              <a:ext cx="3733920" cy="3816360"/>
              <a:chOff x="5219640" y="260280"/>
              <a:chExt cx="3733920" cy="381636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5219640" y="260280"/>
                <a:ext cx="3733920" cy="3033720"/>
                <a:chOff x="5219640" y="260280"/>
                <a:chExt cx="3733920" cy="303372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6659640" y="260280"/>
                  <a:ext cx="565200" cy="585720"/>
                  <a:chOff x="6659640" y="260280"/>
                  <a:chExt cx="565200" cy="585720"/>
                </a:xfrm>
              </p:grpSpPr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6659640" y="260280"/>
                    <a:ext cx="508680" cy="501120"/>
                    <a:chOff x="6659640" y="260280"/>
                    <a:chExt cx="508680" cy="501120"/>
                  </a:xfrm>
                </p:grpSpPr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6">
                      <a:lum bright="18000"/>
                    </a:blip>
                    <a:stretch/>
                  </p:blipFill>
                  <p:spPr>
                    <a:xfrm>
                      <a:off x="6659640" y="463320"/>
                      <a:ext cx="508680" cy="29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6673680" y="260280"/>
                      <a:ext cx="28656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32" name=""/>
                    <p:cNvGrpSpPr/>
                    <p:nvPr/>
                  </p:nvGrpSpPr>
                  <p:grpSpPr>
                    <a:xfrm>
                      <a:off x="6949080" y="367200"/>
                      <a:ext cx="156600" cy="318240"/>
                      <a:chOff x="6949080" y="367200"/>
                      <a:chExt cx="156600" cy="318240"/>
                    </a:xfrm>
                  </p:grpSpPr>
                  <p:sp>
                    <p:nvSpPr>
                      <p:cNvPr id="133" name=""/>
                      <p:cNvSpPr/>
                      <p:nvPr/>
                    </p:nvSpPr>
                    <p:spPr>
                      <a:xfrm>
                        <a:off x="6949080" y="367200"/>
                        <a:ext cx="115560" cy="210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" name=""/>
                      <p:cNvSpPr/>
                      <p:nvPr/>
                    </p:nvSpPr>
                    <p:spPr>
                      <a:xfrm>
                        <a:off x="6990480" y="475200"/>
                        <a:ext cx="115200" cy="210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13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020360" y="335160"/>
                    <a:ext cx="1551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675840" y="636120"/>
                    <a:ext cx="1551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069680" y="636120"/>
                    <a:ext cx="1551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6877080" y="1268280"/>
                  <a:ext cx="863640" cy="1008000"/>
                  <a:chOff x="6877080" y="1268280"/>
                  <a:chExt cx="863640" cy="1008000"/>
                </a:xfrm>
              </p:grpSpPr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6877080" y="1268280"/>
                    <a:ext cx="776880" cy="862200"/>
                    <a:chOff x="6877080" y="1268280"/>
                    <a:chExt cx="776880" cy="862200"/>
                  </a:xfrm>
                </p:grpSpPr>
                <p:pic>
                  <p:nvPicPr>
                    <p:cNvPr id="140" name="" descr=""/>
                    <p:cNvPicPr/>
                    <p:nvPr/>
                  </p:nvPicPr>
                  <p:blipFill>
                    <a:blip r:embed="rId31">
                      <a:lum bright="18000"/>
                    </a:blip>
                    <a:stretch/>
                  </p:blipFill>
                  <p:spPr>
                    <a:xfrm>
                      <a:off x="6877080" y="1617480"/>
                      <a:ext cx="776880" cy="5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41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898320" y="1268280"/>
                      <a:ext cx="437760" cy="80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42" name=""/>
                    <p:cNvGrpSpPr/>
                    <p:nvPr/>
                  </p:nvGrpSpPr>
                  <p:grpSpPr>
                    <a:xfrm>
                      <a:off x="7318800" y="1452240"/>
                      <a:ext cx="239400" cy="548280"/>
                      <a:chOff x="7318800" y="1452240"/>
                      <a:chExt cx="239400" cy="548280"/>
                    </a:xfrm>
                  </p:grpSpPr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7318800" y="1452240"/>
                        <a:ext cx="176760" cy="36216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7382160" y="1638360"/>
                        <a:ext cx="176040" cy="36216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145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428600" y="1397520"/>
                    <a:ext cx="236880" cy="3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01920" y="1915200"/>
                    <a:ext cx="236880" cy="3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7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7503840" y="1915200"/>
                    <a:ext cx="236880" cy="3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956720" y="549360"/>
                  <a:ext cx="564480" cy="585720"/>
                  <a:chOff x="7956720" y="549360"/>
                  <a:chExt cx="564480" cy="585720"/>
                </a:xfrm>
              </p:grpSpPr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7956720" y="549360"/>
                    <a:ext cx="508320" cy="501120"/>
                    <a:chOff x="7956720" y="549360"/>
                    <a:chExt cx="508320" cy="501120"/>
                  </a:xfrm>
                </p:grpSpPr>
                <p:pic>
                  <p:nvPicPr>
                    <p:cNvPr id="150" name="" descr=""/>
                    <p:cNvPicPr/>
                    <p:nvPr/>
                  </p:nvPicPr>
                  <p:blipFill>
                    <a:blip r:embed="rId36">
                      <a:lum bright="18000"/>
                    </a:blip>
                    <a:stretch/>
                  </p:blipFill>
                  <p:spPr>
                    <a:xfrm>
                      <a:off x="7956720" y="752400"/>
                      <a:ext cx="508320" cy="29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51" name="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7970760" y="549360"/>
                      <a:ext cx="28656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8245800" y="656280"/>
                      <a:ext cx="156600" cy="318240"/>
                      <a:chOff x="8245800" y="656280"/>
                      <a:chExt cx="156600" cy="318240"/>
                    </a:xfrm>
                  </p:grpSpPr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8245800" y="656280"/>
                        <a:ext cx="115560" cy="210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8287200" y="764280"/>
                        <a:ext cx="115200" cy="210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15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8317440" y="624240"/>
                    <a:ext cx="15480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6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7972920" y="925200"/>
                    <a:ext cx="15480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8366400" y="925200"/>
                    <a:ext cx="15480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8388360" y="1557360"/>
                  <a:ext cx="565200" cy="585720"/>
                  <a:chOff x="8388360" y="1557360"/>
                  <a:chExt cx="565200" cy="585720"/>
                </a:xfrm>
              </p:grpSpPr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8388360" y="1557360"/>
                    <a:ext cx="508680" cy="501120"/>
                    <a:chOff x="8388360" y="1557360"/>
                    <a:chExt cx="508680" cy="501120"/>
                  </a:xfrm>
                </p:grpSpPr>
                <p:pic>
                  <p:nvPicPr>
                    <p:cNvPr id="160" name="" descr=""/>
                    <p:cNvPicPr/>
                    <p:nvPr/>
                  </p:nvPicPr>
                  <p:blipFill>
                    <a:blip r:embed="rId41">
                      <a:lum bright="18000"/>
                    </a:blip>
                    <a:stretch/>
                  </p:blipFill>
                  <p:spPr>
                    <a:xfrm>
                      <a:off x="8388360" y="1760400"/>
                      <a:ext cx="508680" cy="29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61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8402400" y="1557360"/>
                      <a:ext cx="28656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62" name=""/>
                    <p:cNvGrpSpPr/>
                    <p:nvPr/>
                  </p:nvGrpSpPr>
                  <p:grpSpPr>
                    <a:xfrm>
                      <a:off x="8677800" y="1664280"/>
                      <a:ext cx="156600" cy="318240"/>
                      <a:chOff x="8677800" y="1664280"/>
                      <a:chExt cx="156600" cy="318240"/>
                    </a:xfrm>
                  </p:grpSpPr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8677800" y="1664280"/>
                        <a:ext cx="115560" cy="210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8719200" y="1772280"/>
                        <a:ext cx="115200" cy="210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165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8749080" y="1632240"/>
                    <a:ext cx="1551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6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8404560" y="1933200"/>
                    <a:ext cx="1551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7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8798400" y="1933200"/>
                    <a:ext cx="1551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7885080" y="2708280"/>
                  <a:ext cx="565200" cy="585720"/>
                  <a:chOff x="7885080" y="2708280"/>
                  <a:chExt cx="565200" cy="585720"/>
                </a:xfrm>
              </p:grpSpPr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7885080" y="2708280"/>
                    <a:ext cx="508680" cy="501120"/>
                    <a:chOff x="7885080" y="2708280"/>
                    <a:chExt cx="508680" cy="501120"/>
                  </a:xfrm>
                </p:grpSpPr>
                <p:pic>
                  <p:nvPicPr>
                    <p:cNvPr id="170" name="" descr=""/>
                    <p:cNvPicPr/>
                    <p:nvPr/>
                  </p:nvPicPr>
                  <p:blipFill>
                    <a:blip r:embed="rId46">
                      <a:lum bright="18000"/>
                    </a:blip>
                    <a:stretch/>
                  </p:blipFill>
                  <p:spPr>
                    <a:xfrm>
                      <a:off x="7885080" y="2911320"/>
                      <a:ext cx="508680" cy="29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71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7899120" y="2708280"/>
                      <a:ext cx="28656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8174520" y="2815200"/>
                      <a:ext cx="156600" cy="318240"/>
                      <a:chOff x="8174520" y="2815200"/>
                      <a:chExt cx="156600" cy="318240"/>
                    </a:xfrm>
                  </p:grpSpPr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8174520" y="2815200"/>
                        <a:ext cx="115560" cy="210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" name=""/>
                      <p:cNvSpPr/>
                      <p:nvPr/>
                    </p:nvSpPr>
                    <p:spPr>
                      <a:xfrm>
                        <a:off x="8215920" y="2923200"/>
                        <a:ext cx="115200" cy="210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175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8245800" y="2783160"/>
                    <a:ext cx="1551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6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7901280" y="3084120"/>
                    <a:ext cx="1551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7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295120" y="3084120"/>
                    <a:ext cx="1551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78" name=""/>
                <p:cNvSpPr/>
                <p:nvPr/>
              </p:nvSpPr>
              <p:spPr>
                <a:xfrm flipH="1" flipV="1">
                  <a:off x="6948360" y="907560"/>
                  <a:ext cx="14472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7740720" y="112536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812000" y="1844640"/>
                  <a:ext cx="50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667640" y="2349360"/>
                  <a:ext cx="360360" cy="35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5219640" y="2204640"/>
                  <a:ext cx="1513080" cy="10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6804000" y="3429000"/>
                <a:ext cx="1873440" cy="647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inked to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ocal single windo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3203640" y="4221000"/>
            <a:ext cx="4537080" cy="2330640"/>
            <a:chOff x="3203640" y="4221000"/>
            <a:chExt cx="4537080" cy="2330640"/>
          </a:xfrm>
        </p:grpSpPr>
        <p:grpSp>
          <p:nvGrpSpPr>
            <p:cNvPr id="185" name=""/>
            <p:cNvGrpSpPr/>
            <p:nvPr/>
          </p:nvGrpSpPr>
          <p:grpSpPr>
            <a:xfrm>
              <a:off x="3203640" y="4221000"/>
              <a:ext cx="2592360" cy="2330640"/>
              <a:chOff x="3203640" y="4221000"/>
              <a:chExt cx="2592360" cy="2330640"/>
            </a:xfrm>
          </p:grpSpPr>
          <p:sp>
            <p:nvSpPr>
              <p:cNvPr id="186" name=""/>
              <p:cNvSpPr/>
              <p:nvPr/>
            </p:nvSpPr>
            <p:spPr>
              <a:xfrm>
                <a:off x="3203640" y="4437000"/>
                <a:ext cx="2592360" cy="21146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Extension of RSW for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countries without S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4211640" y="4724280"/>
                <a:ext cx="780840" cy="730440"/>
                <a:chOff x="4211640" y="4724280"/>
                <a:chExt cx="780840" cy="73044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4211640" y="4724280"/>
                  <a:ext cx="702720" cy="624600"/>
                  <a:chOff x="4211640" y="4724280"/>
                  <a:chExt cx="702720" cy="624600"/>
                </a:xfrm>
              </p:grpSpPr>
              <p:pic>
                <p:nvPicPr>
                  <p:cNvPr id="189" name="" descr=""/>
                  <p:cNvPicPr/>
                  <p:nvPr/>
                </p:nvPicPr>
                <p:blipFill>
                  <a:blip r:embed="rId51">
                    <a:lum bright="18000"/>
                  </a:blip>
                  <a:stretch/>
                </p:blipFill>
                <p:spPr>
                  <a:xfrm>
                    <a:off x="4211640" y="4977360"/>
                    <a:ext cx="7027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90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230720" y="4724280"/>
                    <a:ext cx="396000" cy="5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4611240" y="4857480"/>
                    <a:ext cx="216720" cy="397080"/>
                    <a:chOff x="4611240" y="4857480"/>
                    <a:chExt cx="216720" cy="39708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611240" y="4857480"/>
                      <a:ext cx="159840" cy="262440"/>
                    </a:xfrm>
                    <a:prstGeom prst="can">
                      <a:avLst>
                        <a:gd name="adj" fmla="val 2012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333333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4668480" y="4992120"/>
                      <a:ext cx="159480" cy="262440"/>
                    </a:xfrm>
                    <a:prstGeom prst="can">
                      <a:avLst>
                        <a:gd name="adj" fmla="val 2012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333333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pic>
              <p:nvPicPr>
                <p:cNvPr id="194" name="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4710240" y="4817880"/>
                  <a:ext cx="214200" cy="261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4234320" y="5193000"/>
                  <a:ext cx="214200" cy="261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4778280" y="5193000"/>
                  <a:ext cx="214200" cy="261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7" name=""/>
              <p:cNvSpPr/>
              <p:nvPr/>
            </p:nvSpPr>
            <p:spPr>
              <a:xfrm>
                <a:off x="4500720" y="4221000"/>
                <a:ext cx="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867280" y="5734080"/>
              <a:ext cx="1873440" cy="647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e a loc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ingle 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76720" y="98100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643280" y="907920"/>
            <a:ext cx="1584360" cy="1354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79280" y="2637000"/>
            <a:ext cx="8785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64375"/>
              </a:gs>
              <a:gs pos="50000">
                <a:srgbClr val="3193ff"/>
              </a:gs>
              <a:gs pos="100000">
                <a:srgbClr val="1643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SINGLE WINDOW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KAR 5-7 Nov 2008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68360" y="1125360"/>
            <a:ext cx="1942920" cy="1327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2232000" cy="2997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petit déjeuner dans la suite Senio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88000" y="3645000"/>
            <a:ext cx="2268720" cy="29685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27280" y="3645000"/>
            <a:ext cx="38894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989000"/>
            <a:ext cx="8064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entury Gothic"/>
              </a:rPr>
              <a:t>INITIATIV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entury Gothic"/>
              </a:rPr>
              <a:t>AFRICAN ALLIANCE FOR ECOMMER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3683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HY AN ALLI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765000"/>
            <a:ext cx="8280360" cy="273528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Berlin Sans FB"/>
              </a:rPr>
              <a:t>INTRA REGIONAL COOP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Promote regional initiative such as R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Share skills and knowledge to promote at regional level application of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3716280"/>
            <a:ext cx="8280360" cy="216072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Berlin Sans FB"/>
              </a:rPr>
              <a:t>INTER REGIONAL COOPERA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Pilot projects with other regions of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Exchange of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692280"/>
            <a:ext cx="8280360" cy="446544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Berlin Sans FB"/>
              </a:rPr>
              <a:t>EX. OF CHALLENGES TO BE HANDLED BY AAEC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Framework of competence to assist countries in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Share resources and exper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Ensure effective Africa representation TF discu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Promote the concept of SW in Afric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3683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HOW AN ALLI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765000"/>
            <a:ext cx="8280360" cy="273528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Berlin Sans FB"/>
              </a:rPr>
              <a:t>MEMB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Effective SW operators in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Promoter of SW in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Observers: Donors interested by SW implementation in AFRIC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716280"/>
            <a:ext cx="8280360" cy="216072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Berlin Sans FB"/>
              </a:rPr>
              <a:t>AERAS OF INTERES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Regional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989000"/>
            <a:ext cx="80647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Century Gothic"/>
              </a:rPr>
              <a:t>INITIATIVE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Century Gothic"/>
              </a:rPr>
              <a:t>REGIONAL SINGLE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lang="fr-FR" sz="3200" spc="-1" strike="noStrike">
                <a:solidFill>
                  <a:srgbClr val="3333cc"/>
                </a:solidFill>
                <a:latin typeface="Century Gothic"/>
              </a:rPr>
              <a:t>« What challenges for Africa? »</a:t>
            </a:r>
            <a:r>
              <a:rPr b="1" lang="fr-FR" sz="4400" spc="-1" strike="noStrike">
                <a:solidFill>
                  <a:srgbClr val="3333cc"/>
                </a:solidFill>
                <a:latin typeface="Century Gothic"/>
              </a:rPr>
              <a:t>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3683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HY A REGIONAL SINGLE WIND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7:50:35Z</dcterms:created>
  <dc:creator>idiagne</dc:creator>
  <dc:description/>
  <dc:language>en-US</dc:language>
  <cp:lastModifiedBy>CSD</cp:lastModifiedBy>
  <dcterms:modified xsi:type="dcterms:W3CDTF">2008-09-16T12:17:36Z</dcterms:modified>
  <cp:revision>118</cp:revision>
  <dc:subject/>
  <dc:title>Présentation PowerPoint</dc:title>
</cp:coreProperties>
</file>