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5206-8674-4FDA-A5A9-6F1592AF9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A26C-65AC-4FF1-84B0-97E41038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79AE-1F3E-4193-8C98-1DE29A35F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5B1C-8EA5-47FA-9AC5-31262DE56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BBC8-9A0C-4B3D-BCF7-CE246B80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719D-AC26-4E53-ACC5-AD8A232E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F322-6A82-410C-9D49-371C447F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8696-0D86-4624-8A1F-511D87EF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62C8-7BBA-44DE-B9C9-B6A7C34B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5C6B-7FB2-4DB5-9F5F-54524862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AFA8-3A22-4A01-B873-594110A6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CEB3-5DA9-4F64-858C-24CDE6CA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Times New Roman"/>
              </a:rPr>
              <a:t>Geneve sept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3333cc"/>
                </a:solidFill>
                <a:latin typeface="Times New Roman"/>
              </a:rPr>
              <a:t>UNCEFACT Plenary sept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F7C1-D6D2-42B9-B919-039A2AA93E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2.png"/><Relationship Id="rId17" Type="http://schemas.openxmlformats.org/officeDocument/2006/relationships/image" Target="../media/image3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2.png"/><Relationship Id="rId22" Type="http://schemas.openxmlformats.org/officeDocument/2006/relationships/image" Target="../media/image3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2.png"/><Relationship Id="rId27" Type="http://schemas.openxmlformats.org/officeDocument/2006/relationships/image" Target="../media/image3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2.png"/><Relationship Id="rId32" Type="http://schemas.openxmlformats.org/officeDocument/2006/relationships/image" Target="../media/image3.png"/><Relationship Id="rId33" Type="http://schemas.openxmlformats.org/officeDocument/2006/relationships/image" Target="../media/image4.png"/><Relationship Id="rId34" Type="http://schemas.openxmlformats.org/officeDocument/2006/relationships/image" Target="../media/image4.png"/><Relationship Id="rId35" Type="http://schemas.openxmlformats.org/officeDocument/2006/relationships/image" Target="../media/image4.png"/><Relationship Id="rId36" Type="http://schemas.openxmlformats.org/officeDocument/2006/relationships/image" Target="../media/image2.png"/><Relationship Id="rId37" Type="http://schemas.openxmlformats.org/officeDocument/2006/relationships/image" Target="../media/image3.png"/><Relationship Id="rId38" Type="http://schemas.openxmlformats.org/officeDocument/2006/relationships/image" Target="../media/image4.png"/><Relationship Id="rId39" Type="http://schemas.openxmlformats.org/officeDocument/2006/relationships/image" Target="../media/image4.png"/><Relationship Id="rId40" Type="http://schemas.openxmlformats.org/officeDocument/2006/relationships/image" Target="../media/image4.png"/><Relationship Id="rId41" Type="http://schemas.openxmlformats.org/officeDocument/2006/relationships/image" Target="../media/image2.png"/><Relationship Id="rId42" Type="http://schemas.openxmlformats.org/officeDocument/2006/relationships/image" Target="../media/image3.png"/><Relationship Id="rId43" Type="http://schemas.openxmlformats.org/officeDocument/2006/relationships/image" Target="../media/image4.png"/><Relationship Id="rId44" Type="http://schemas.openxmlformats.org/officeDocument/2006/relationships/image" Target="../media/image4.png"/><Relationship Id="rId45" Type="http://schemas.openxmlformats.org/officeDocument/2006/relationships/image" Target="../media/image4.png"/><Relationship Id="rId46" Type="http://schemas.openxmlformats.org/officeDocument/2006/relationships/image" Target="../media/image2.png"/><Relationship Id="rId47" Type="http://schemas.openxmlformats.org/officeDocument/2006/relationships/image" Target="../media/image3.png"/><Relationship Id="rId48" Type="http://schemas.openxmlformats.org/officeDocument/2006/relationships/image" Target="../media/image4.png"/><Relationship Id="rId49" Type="http://schemas.openxmlformats.org/officeDocument/2006/relationships/image" Target="../media/image4.png"/><Relationship Id="rId50" Type="http://schemas.openxmlformats.org/officeDocument/2006/relationships/image" Target="../media/image4.png"/><Relationship Id="rId51" Type="http://schemas.openxmlformats.org/officeDocument/2006/relationships/image" Target="../media/image2.png"/><Relationship Id="rId52" Type="http://schemas.openxmlformats.org/officeDocument/2006/relationships/image" Target="../media/image3.png"/><Relationship Id="rId53" Type="http://schemas.openxmlformats.org/officeDocument/2006/relationships/image" Target="../media/image4.png"/><Relationship Id="rId54" Type="http://schemas.openxmlformats.org/officeDocument/2006/relationships/image" Target="../media/image4.png"/><Relationship Id="rId55" Type="http://schemas.openxmlformats.org/officeDocument/2006/relationships/image" Target="../media/image4.png"/><Relationship Id="rId5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hyperlink" Target="http://www.starwoodhotels.com/lemeridien/property/photos/index.html?propertyID=1821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780000" y="907920"/>
            <a:ext cx="1584000" cy="1354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9280" y="2637000"/>
            <a:ext cx="87854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64375"/>
              </a:gs>
              <a:gs pos="50000">
                <a:srgbClr val="3193ff"/>
              </a:gs>
              <a:gs pos="100000">
                <a:srgbClr val="16437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 INITIATIVES TO IMPROVE AFR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DE FACILITATION CAP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3933720"/>
            <a:ext cx="8064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Georgia"/>
              </a:rPr>
              <a:t>Ibrahima Nour Eddine DIAG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Georgia"/>
              </a:rPr>
              <a:t> </a:t>
            </a:r>
            <a:r>
              <a:rPr b="1" lang="fr-FR" sz="1600" spc="-1" strike="noStrike">
                <a:solidFill>
                  <a:srgbClr val="3333cc"/>
                </a:solidFill>
                <a:latin typeface="Georgia"/>
              </a:rPr>
              <a:t>« Rapporteur for Africa – UNCEFACT)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981000"/>
            <a:ext cx="8280360" cy="216072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Berlin Sans FB"/>
              </a:rPr>
              <a:t>EXCHANGE OF DOCUMENT AND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Import / Export data e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Certificate of origin e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Exchange of commercial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3716280"/>
            <a:ext cx="8280360" cy="237672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Berlin Sans FB"/>
              </a:rPr>
              <a:t>SERVIC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Harmonization and standard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Striking and control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Local  and border operations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1773360"/>
            <a:ext cx="8280360" cy="244764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Berlin Sans FB"/>
              </a:rPr>
              <a:t>MUTUALISATION OF RESOUR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Common plat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Common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Regional and international co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7772400" cy="136836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HOW A REGIONAL SINGLE WIND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2484360" y="1773360"/>
            <a:ext cx="4033800" cy="3600360"/>
            <a:chOff x="2484360" y="1773360"/>
            <a:chExt cx="4033800" cy="3600360"/>
          </a:xfrm>
        </p:grpSpPr>
        <p:sp>
          <p:nvSpPr>
            <p:cNvPr id="59" name=""/>
            <p:cNvSpPr/>
            <p:nvPr/>
          </p:nvSpPr>
          <p:spPr>
            <a:xfrm>
              <a:off x="2484360" y="1773360"/>
              <a:ext cx="4033800" cy="3600360"/>
            </a:xfrm>
            <a:prstGeom prst="blockArc">
              <a:avLst>
                <a:gd name="adj1" fmla="val 5435498"/>
                <a:gd name="adj2" fmla="val 5364502"/>
                <a:gd name="adj3" fmla="val 13685"/>
              </a:avLst>
            </a:prstGeom>
            <a:solidFill>
              <a:srgbClr val="3193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3780000" y="2781360"/>
              <a:ext cx="1368360" cy="1512360"/>
              <a:chOff x="3780000" y="2781360"/>
              <a:chExt cx="1368360" cy="1512360"/>
            </a:xfrm>
          </p:grpSpPr>
          <p:grpSp>
            <p:nvGrpSpPr>
              <p:cNvPr id="61" name=""/>
              <p:cNvGrpSpPr/>
              <p:nvPr/>
            </p:nvGrpSpPr>
            <p:grpSpPr>
              <a:xfrm>
                <a:off x="3780000" y="2781360"/>
                <a:ext cx="1230840" cy="1293120"/>
                <a:chOff x="3780000" y="2781360"/>
                <a:chExt cx="1230840" cy="1293120"/>
              </a:xfrm>
            </p:grpSpPr>
            <p:pic>
              <p:nvPicPr>
                <p:cNvPr id="62" name="" descr=""/>
                <p:cNvPicPr/>
                <p:nvPr/>
              </p:nvPicPr>
              <p:blipFill>
                <a:blip r:embed="rId1">
                  <a:lum bright="18000"/>
                </a:blip>
                <a:stretch/>
              </p:blipFill>
              <p:spPr>
                <a:xfrm>
                  <a:off x="3780000" y="3305160"/>
                  <a:ext cx="1230840" cy="769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813840" y="2781360"/>
                  <a:ext cx="693720" cy="12078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64" name=""/>
                <p:cNvGrpSpPr/>
                <p:nvPr/>
              </p:nvGrpSpPr>
              <p:grpSpPr>
                <a:xfrm>
                  <a:off x="4479840" y="3057480"/>
                  <a:ext cx="379440" cy="822960"/>
                  <a:chOff x="4479840" y="3057480"/>
                  <a:chExt cx="379440" cy="822960"/>
                </a:xfrm>
              </p:grpSpPr>
              <p:sp>
                <p:nvSpPr>
                  <p:cNvPr id="65" name=""/>
                  <p:cNvSpPr/>
                  <p:nvPr/>
                </p:nvSpPr>
                <p:spPr>
                  <a:xfrm>
                    <a:off x="4479840" y="3057480"/>
                    <a:ext cx="279720" cy="543600"/>
                  </a:xfrm>
                  <a:prstGeom prst="can">
                    <a:avLst>
                      <a:gd name="adj" fmla="val 20120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333333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4580280" y="3336840"/>
                    <a:ext cx="279000" cy="543600"/>
                  </a:xfrm>
                  <a:prstGeom prst="can">
                    <a:avLst>
                      <a:gd name="adj" fmla="val 20120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333333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pic>
            <p:nvPicPr>
              <p:cNvPr id="6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653720" y="2975400"/>
                <a:ext cx="375480" cy="54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819600" y="3751920"/>
                <a:ext cx="375480" cy="54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772880" y="3751920"/>
                <a:ext cx="375480" cy="541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0" name=""/>
          <p:cNvGrpSpPr/>
          <p:nvPr/>
        </p:nvGrpSpPr>
        <p:grpSpPr>
          <a:xfrm>
            <a:off x="2484360" y="2276640"/>
            <a:ext cx="1150920" cy="1080720"/>
            <a:chOff x="2484360" y="2276640"/>
            <a:chExt cx="1150920" cy="1080720"/>
          </a:xfrm>
        </p:grpSpPr>
        <p:grpSp>
          <p:nvGrpSpPr>
            <p:cNvPr id="71" name=""/>
            <p:cNvGrpSpPr/>
            <p:nvPr/>
          </p:nvGrpSpPr>
          <p:grpSpPr>
            <a:xfrm>
              <a:off x="2484360" y="2276640"/>
              <a:ext cx="780840" cy="729720"/>
              <a:chOff x="2484360" y="2276640"/>
              <a:chExt cx="780840" cy="72972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2484360" y="2276640"/>
                <a:ext cx="702720" cy="624240"/>
                <a:chOff x="2484360" y="2276640"/>
                <a:chExt cx="702720" cy="624240"/>
              </a:xfrm>
            </p:grpSpPr>
            <p:pic>
              <p:nvPicPr>
                <p:cNvPr id="73" name="" descr=""/>
                <p:cNvPicPr/>
                <p:nvPr/>
              </p:nvPicPr>
              <p:blipFill>
                <a:blip r:embed="rId6">
                  <a:lum bright="18000"/>
                </a:blip>
                <a:stretch/>
              </p:blipFill>
              <p:spPr>
                <a:xfrm>
                  <a:off x="2484360" y="2529360"/>
                  <a:ext cx="702720" cy="371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503440" y="2276640"/>
                  <a:ext cx="396000" cy="5832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5" name=""/>
                <p:cNvGrpSpPr/>
                <p:nvPr/>
              </p:nvGrpSpPr>
              <p:grpSpPr>
                <a:xfrm>
                  <a:off x="2883960" y="2409840"/>
                  <a:ext cx="216720" cy="396720"/>
                  <a:chOff x="2883960" y="2409840"/>
                  <a:chExt cx="216720" cy="39672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>
                    <a:off x="2883960" y="2409840"/>
                    <a:ext cx="159840" cy="262080"/>
                  </a:xfrm>
                  <a:prstGeom prst="can">
                    <a:avLst>
                      <a:gd name="adj" fmla="val 20120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333333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2941200" y="2544480"/>
                    <a:ext cx="159480" cy="262080"/>
                  </a:xfrm>
                  <a:prstGeom prst="can">
                    <a:avLst>
                      <a:gd name="adj" fmla="val 20120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333333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pic>
            <p:nvPicPr>
              <p:cNvPr id="7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982960" y="2370240"/>
                <a:ext cx="214200" cy="26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07040" y="2745000"/>
                <a:ext cx="214200" cy="26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051000" y="2745000"/>
                <a:ext cx="214200" cy="261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1" name=""/>
            <p:cNvSpPr/>
            <p:nvPr/>
          </p:nvSpPr>
          <p:spPr>
            <a:xfrm flipH="1" flipV="1">
              <a:off x="3348000" y="3068280"/>
              <a:ext cx="28728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79280" y="476280"/>
            <a:ext cx="2664000" cy="4608360"/>
            <a:chOff x="179280" y="476280"/>
            <a:chExt cx="2664000" cy="4608360"/>
          </a:xfrm>
        </p:grpSpPr>
        <p:grpSp>
          <p:nvGrpSpPr>
            <p:cNvPr id="83" name=""/>
            <p:cNvGrpSpPr/>
            <p:nvPr/>
          </p:nvGrpSpPr>
          <p:grpSpPr>
            <a:xfrm>
              <a:off x="250920" y="476280"/>
              <a:ext cx="2592360" cy="3817800"/>
              <a:chOff x="250920" y="476280"/>
              <a:chExt cx="2592360" cy="3817800"/>
            </a:xfrm>
          </p:grpSpPr>
          <p:grpSp>
            <p:nvGrpSpPr>
              <p:cNvPr id="84" name=""/>
              <p:cNvGrpSpPr/>
              <p:nvPr/>
            </p:nvGrpSpPr>
            <p:grpSpPr>
              <a:xfrm>
                <a:off x="1403280" y="476280"/>
                <a:ext cx="1440000" cy="1297080"/>
                <a:chOff x="1403280" y="476280"/>
                <a:chExt cx="1440000" cy="129708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403280" y="476280"/>
                  <a:ext cx="1440000" cy="12970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6" name=""/>
                <p:cNvGrpSpPr/>
                <p:nvPr/>
              </p:nvGrpSpPr>
              <p:grpSpPr>
                <a:xfrm>
                  <a:off x="1835280" y="836640"/>
                  <a:ext cx="585360" cy="635040"/>
                  <a:chOff x="1835280" y="836640"/>
                  <a:chExt cx="585360" cy="635040"/>
                </a:xfrm>
              </p:grpSpPr>
              <p:grpSp>
                <p:nvGrpSpPr>
                  <p:cNvPr id="87" name=""/>
                  <p:cNvGrpSpPr/>
                  <p:nvPr/>
                </p:nvGrpSpPr>
                <p:grpSpPr>
                  <a:xfrm>
                    <a:off x="1835280" y="836640"/>
                    <a:ext cx="527040" cy="542880"/>
                    <a:chOff x="1835280" y="836640"/>
                    <a:chExt cx="527040" cy="542880"/>
                  </a:xfrm>
                </p:grpSpPr>
                <p:pic>
                  <p:nvPicPr>
                    <p:cNvPr id="88" name="" descr=""/>
                    <p:cNvPicPr/>
                    <p:nvPr/>
                  </p:nvPicPr>
                  <p:blipFill>
                    <a:blip r:embed="rId11">
                      <a:lum bright="18000"/>
                    </a:blip>
                    <a:stretch/>
                  </p:blipFill>
                  <p:spPr>
                    <a:xfrm>
                      <a:off x="1835280" y="1056600"/>
                      <a:ext cx="527040" cy="32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8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849680" y="836640"/>
                      <a:ext cx="297000" cy="50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90" name=""/>
                    <p:cNvGrpSpPr/>
                    <p:nvPr/>
                  </p:nvGrpSpPr>
                  <p:grpSpPr>
                    <a:xfrm>
                      <a:off x="2135160" y="952560"/>
                      <a:ext cx="162360" cy="345600"/>
                      <a:chOff x="2135160" y="952560"/>
                      <a:chExt cx="162360" cy="345600"/>
                    </a:xfrm>
                  </p:grpSpPr>
                  <p:sp>
                    <p:nvSpPr>
                      <p:cNvPr id="91" name=""/>
                      <p:cNvSpPr/>
                      <p:nvPr/>
                    </p:nvSpPr>
                    <p:spPr>
                      <a:xfrm>
                        <a:off x="2135160" y="952560"/>
                        <a:ext cx="119880" cy="228240"/>
                      </a:xfrm>
                      <a:prstGeom prst="can">
                        <a:avLst>
                          <a:gd name="adj" fmla="val 20120"/>
                        </a:avLst>
                      </a:pr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333333"/>
                          </a:gs>
                          <a:gs pos="100000">
                            <a:srgbClr val="000000"/>
                          </a:gs>
                        </a:gsLst>
                        <a:lin ang="108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" name=""/>
                      <p:cNvSpPr/>
                      <p:nvPr/>
                    </p:nvSpPr>
                    <p:spPr>
                      <a:xfrm>
                        <a:off x="2178000" y="1069920"/>
                        <a:ext cx="119520" cy="228240"/>
                      </a:xfrm>
                      <a:prstGeom prst="can">
                        <a:avLst>
                          <a:gd name="adj" fmla="val 20120"/>
                        </a:avLst>
                      </a:pr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333333"/>
                          </a:gs>
                          <a:gs pos="100000">
                            <a:srgbClr val="000000"/>
                          </a:gs>
                        </a:gsLst>
                        <a:lin ang="108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pic>
                <p:nvPicPr>
                  <p:cNvPr id="9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09320" y="918000"/>
                    <a:ext cx="160560" cy="2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9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852200" y="1244160"/>
                    <a:ext cx="160560" cy="2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95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260080" y="1244160"/>
                    <a:ext cx="160560" cy="2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96" name=""/>
              <p:cNvSpPr/>
              <p:nvPr/>
            </p:nvSpPr>
            <p:spPr>
              <a:xfrm flipH="1" flipV="1">
                <a:off x="2410920" y="1700280"/>
                <a:ext cx="73080" cy="72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" name=""/>
              <p:cNvGrpSpPr/>
              <p:nvPr/>
            </p:nvGrpSpPr>
            <p:grpSpPr>
              <a:xfrm>
                <a:off x="250920" y="2997360"/>
                <a:ext cx="1439640" cy="1296720"/>
                <a:chOff x="250920" y="2997360"/>
                <a:chExt cx="1439640" cy="129672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250920" y="2997360"/>
                  <a:ext cx="1439640" cy="12967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9" name=""/>
                <p:cNvGrpSpPr/>
                <p:nvPr/>
              </p:nvGrpSpPr>
              <p:grpSpPr>
                <a:xfrm>
                  <a:off x="682560" y="3357360"/>
                  <a:ext cx="585360" cy="634320"/>
                  <a:chOff x="682560" y="3357360"/>
                  <a:chExt cx="585360" cy="634320"/>
                </a:xfrm>
              </p:grpSpPr>
              <p:grpSp>
                <p:nvGrpSpPr>
                  <p:cNvPr id="100" name=""/>
                  <p:cNvGrpSpPr/>
                  <p:nvPr/>
                </p:nvGrpSpPr>
                <p:grpSpPr>
                  <a:xfrm>
                    <a:off x="682560" y="3357360"/>
                    <a:ext cx="526680" cy="542880"/>
                    <a:chOff x="682560" y="3357360"/>
                    <a:chExt cx="526680" cy="542880"/>
                  </a:xfrm>
                </p:grpSpPr>
                <p:pic>
                  <p:nvPicPr>
                    <p:cNvPr id="101" name="" descr=""/>
                    <p:cNvPicPr/>
                    <p:nvPr/>
                  </p:nvPicPr>
                  <p:blipFill>
                    <a:blip r:embed="rId16">
                      <a:lum bright="18000"/>
                    </a:blip>
                    <a:stretch/>
                  </p:blipFill>
                  <p:spPr>
                    <a:xfrm>
                      <a:off x="682560" y="3577320"/>
                      <a:ext cx="526680" cy="32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02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696960" y="3357360"/>
                      <a:ext cx="297000" cy="50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103" name=""/>
                    <p:cNvGrpSpPr/>
                    <p:nvPr/>
                  </p:nvGrpSpPr>
                  <p:grpSpPr>
                    <a:xfrm>
                      <a:off x="982080" y="3473280"/>
                      <a:ext cx="162360" cy="344880"/>
                      <a:chOff x="982080" y="3473280"/>
                      <a:chExt cx="162360" cy="344880"/>
                    </a:xfrm>
                  </p:grpSpPr>
                  <p:sp>
                    <p:nvSpPr>
                      <p:cNvPr id="104" name=""/>
                      <p:cNvSpPr/>
                      <p:nvPr/>
                    </p:nvSpPr>
                    <p:spPr>
                      <a:xfrm>
                        <a:off x="982080" y="3473280"/>
                        <a:ext cx="119880" cy="227880"/>
                      </a:xfrm>
                      <a:prstGeom prst="can">
                        <a:avLst>
                          <a:gd name="adj" fmla="val 20120"/>
                        </a:avLst>
                      </a:pr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333333"/>
                          </a:gs>
                          <a:gs pos="100000">
                            <a:srgbClr val="000000"/>
                          </a:gs>
                        </a:gsLst>
                        <a:lin ang="108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5" name=""/>
                      <p:cNvSpPr/>
                      <p:nvPr/>
                    </p:nvSpPr>
                    <p:spPr>
                      <a:xfrm>
                        <a:off x="1024920" y="3590280"/>
                        <a:ext cx="119520" cy="227880"/>
                      </a:xfrm>
                      <a:prstGeom prst="can">
                        <a:avLst>
                          <a:gd name="adj" fmla="val 20120"/>
                        </a:avLst>
                      </a:pr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333333"/>
                          </a:gs>
                          <a:gs pos="100000">
                            <a:srgbClr val="000000"/>
                          </a:gs>
                        </a:gsLst>
                        <a:lin ang="108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pic>
                <p:nvPicPr>
                  <p:cNvPr id="10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56240" y="3438720"/>
                    <a:ext cx="160560" cy="2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07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99480" y="3764520"/>
                    <a:ext cx="160560" cy="2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0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107360" y="3764520"/>
                    <a:ext cx="160560" cy="2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324000" y="1557360"/>
                <a:ext cx="1439640" cy="1297080"/>
                <a:chOff x="324000" y="1557360"/>
                <a:chExt cx="1439640" cy="12970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324000" y="1557360"/>
                  <a:ext cx="1439640" cy="12970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1" name=""/>
                <p:cNvGrpSpPr/>
                <p:nvPr/>
              </p:nvGrpSpPr>
              <p:grpSpPr>
                <a:xfrm>
                  <a:off x="755640" y="1917720"/>
                  <a:ext cx="585360" cy="635040"/>
                  <a:chOff x="755640" y="1917720"/>
                  <a:chExt cx="585360" cy="635040"/>
                </a:xfrm>
              </p:grpSpPr>
              <p:grpSp>
                <p:nvGrpSpPr>
                  <p:cNvPr id="112" name=""/>
                  <p:cNvGrpSpPr/>
                  <p:nvPr/>
                </p:nvGrpSpPr>
                <p:grpSpPr>
                  <a:xfrm>
                    <a:off x="755640" y="1917720"/>
                    <a:ext cx="526680" cy="542880"/>
                    <a:chOff x="755640" y="1917720"/>
                    <a:chExt cx="526680" cy="542880"/>
                  </a:xfrm>
                </p:grpSpPr>
                <p:pic>
                  <p:nvPicPr>
                    <p:cNvPr id="113" name="" descr=""/>
                    <p:cNvPicPr/>
                    <p:nvPr/>
                  </p:nvPicPr>
                  <p:blipFill>
                    <a:blip r:embed="rId21">
                      <a:lum bright="18000"/>
                    </a:blip>
                    <a:stretch/>
                  </p:blipFill>
                  <p:spPr>
                    <a:xfrm>
                      <a:off x="755640" y="2137680"/>
                      <a:ext cx="526680" cy="32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14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70040" y="1917720"/>
                      <a:ext cx="297000" cy="50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115" name=""/>
                    <p:cNvGrpSpPr/>
                    <p:nvPr/>
                  </p:nvGrpSpPr>
                  <p:grpSpPr>
                    <a:xfrm>
                      <a:off x="1055160" y="2033640"/>
                      <a:ext cx="162360" cy="345600"/>
                      <a:chOff x="1055160" y="2033640"/>
                      <a:chExt cx="162360" cy="345600"/>
                    </a:xfrm>
                  </p:grpSpPr>
                  <p:sp>
                    <p:nvSpPr>
                      <p:cNvPr id="116" name=""/>
                      <p:cNvSpPr/>
                      <p:nvPr/>
                    </p:nvSpPr>
                    <p:spPr>
                      <a:xfrm>
                        <a:off x="1055160" y="2033640"/>
                        <a:ext cx="119880" cy="228240"/>
                      </a:xfrm>
                      <a:prstGeom prst="can">
                        <a:avLst>
                          <a:gd name="adj" fmla="val 20120"/>
                        </a:avLst>
                      </a:pr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333333"/>
                          </a:gs>
                          <a:gs pos="100000">
                            <a:srgbClr val="000000"/>
                          </a:gs>
                        </a:gsLst>
                        <a:lin ang="108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7" name=""/>
                      <p:cNvSpPr/>
                      <p:nvPr/>
                    </p:nvSpPr>
                    <p:spPr>
                      <a:xfrm>
                        <a:off x="1098000" y="2151000"/>
                        <a:ext cx="119520" cy="228240"/>
                      </a:xfrm>
                      <a:prstGeom prst="can">
                        <a:avLst>
                          <a:gd name="adj" fmla="val 20120"/>
                        </a:avLst>
                      </a:pr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333333"/>
                          </a:gs>
                          <a:gs pos="100000">
                            <a:srgbClr val="000000"/>
                          </a:gs>
                        </a:gsLst>
                        <a:lin ang="108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pic>
                <p:nvPicPr>
                  <p:cNvPr id="118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129320" y="1999080"/>
                    <a:ext cx="160560" cy="2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1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72560" y="2325240"/>
                    <a:ext cx="160560" cy="2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20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1180440" y="2325240"/>
                    <a:ext cx="160560" cy="2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121" name=""/>
              <p:cNvSpPr/>
              <p:nvPr/>
            </p:nvSpPr>
            <p:spPr>
              <a:xfrm flipH="1" flipV="1">
                <a:off x="1692000" y="2421000"/>
                <a:ext cx="71892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1619280" y="2637000"/>
                <a:ext cx="792000" cy="72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179280" y="4437000"/>
              <a:ext cx="1873440" cy="647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inked t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ocal stakehold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219640" y="260280"/>
            <a:ext cx="3733920" cy="3816360"/>
            <a:chOff x="5219640" y="260280"/>
            <a:chExt cx="3733920" cy="3816360"/>
          </a:xfrm>
        </p:grpSpPr>
        <p:sp>
          <p:nvSpPr>
            <p:cNvPr id="125" name=""/>
            <p:cNvSpPr/>
            <p:nvPr/>
          </p:nvSpPr>
          <p:spPr>
            <a:xfrm>
              <a:off x="5582520" y="981000"/>
              <a:ext cx="144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ational S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5219640" y="260280"/>
              <a:ext cx="3733920" cy="3816360"/>
              <a:chOff x="5219640" y="260280"/>
              <a:chExt cx="3733920" cy="381636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5219640" y="260280"/>
                <a:ext cx="3733920" cy="3033720"/>
                <a:chOff x="5219640" y="260280"/>
                <a:chExt cx="3733920" cy="3033720"/>
              </a:xfrm>
            </p:grpSpPr>
            <p:grpSp>
              <p:nvGrpSpPr>
                <p:cNvPr id="128" name=""/>
                <p:cNvGrpSpPr/>
                <p:nvPr/>
              </p:nvGrpSpPr>
              <p:grpSpPr>
                <a:xfrm>
                  <a:off x="6659640" y="260280"/>
                  <a:ext cx="565200" cy="585720"/>
                  <a:chOff x="6659640" y="260280"/>
                  <a:chExt cx="565200" cy="585720"/>
                </a:xfrm>
              </p:grpSpPr>
              <p:grpSp>
                <p:nvGrpSpPr>
                  <p:cNvPr id="129" name=""/>
                  <p:cNvGrpSpPr/>
                  <p:nvPr/>
                </p:nvGrpSpPr>
                <p:grpSpPr>
                  <a:xfrm>
                    <a:off x="6659640" y="260280"/>
                    <a:ext cx="508680" cy="501120"/>
                    <a:chOff x="6659640" y="260280"/>
                    <a:chExt cx="508680" cy="501120"/>
                  </a:xfrm>
                </p:grpSpPr>
                <p:pic>
                  <p:nvPicPr>
                    <p:cNvPr id="130" name="" descr=""/>
                    <p:cNvPicPr/>
                    <p:nvPr/>
                  </p:nvPicPr>
                  <p:blipFill>
                    <a:blip r:embed="rId26">
                      <a:lum bright="18000"/>
                    </a:blip>
                    <a:stretch/>
                  </p:blipFill>
                  <p:spPr>
                    <a:xfrm>
                      <a:off x="6659640" y="463320"/>
                      <a:ext cx="508680" cy="29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31" name="" descr=""/>
                    <p:cNvPicPr/>
                    <p:nvPr/>
                  </p:nvPicPr>
                  <p:blipFill>
                    <a:blip r:embed="rId27"/>
                    <a:stretch/>
                  </p:blipFill>
                  <p:spPr>
                    <a:xfrm>
                      <a:off x="6673680" y="260280"/>
                      <a:ext cx="286560" cy="46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132" name=""/>
                    <p:cNvGrpSpPr/>
                    <p:nvPr/>
                  </p:nvGrpSpPr>
                  <p:grpSpPr>
                    <a:xfrm>
                      <a:off x="6949080" y="367200"/>
                      <a:ext cx="156600" cy="318240"/>
                      <a:chOff x="6949080" y="367200"/>
                      <a:chExt cx="156600" cy="318240"/>
                    </a:xfrm>
                  </p:grpSpPr>
                  <p:sp>
                    <p:nvSpPr>
                      <p:cNvPr id="133" name=""/>
                      <p:cNvSpPr/>
                      <p:nvPr/>
                    </p:nvSpPr>
                    <p:spPr>
                      <a:xfrm>
                        <a:off x="6949080" y="367200"/>
                        <a:ext cx="115560" cy="210240"/>
                      </a:xfrm>
                      <a:prstGeom prst="can">
                        <a:avLst>
                          <a:gd name="adj" fmla="val 20120"/>
                        </a:avLst>
                      </a:pr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333333"/>
                          </a:gs>
                          <a:gs pos="100000">
                            <a:srgbClr val="000000"/>
                          </a:gs>
                        </a:gsLst>
                        <a:lin ang="108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" name=""/>
                      <p:cNvSpPr/>
                      <p:nvPr/>
                    </p:nvSpPr>
                    <p:spPr>
                      <a:xfrm>
                        <a:off x="6990480" y="475200"/>
                        <a:ext cx="115200" cy="210240"/>
                      </a:xfrm>
                      <a:prstGeom prst="can">
                        <a:avLst>
                          <a:gd name="adj" fmla="val 20120"/>
                        </a:avLst>
                      </a:pr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333333"/>
                          </a:gs>
                          <a:gs pos="100000">
                            <a:srgbClr val="000000"/>
                          </a:gs>
                        </a:gsLst>
                        <a:lin ang="108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pic>
                <p:nvPicPr>
                  <p:cNvPr id="135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020360" y="335160"/>
                    <a:ext cx="155160" cy="2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6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6675840" y="636120"/>
                    <a:ext cx="155160" cy="2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7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069680" y="636120"/>
                    <a:ext cx="155160" cy="2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38" name=""/>
                <p:cNvGrpSpPr/>
                <p:nvPr/>
              </p:nvGrpSpPr>
              <p:grpSpPr>
                <a:xfrm>
                  <a:off x="6877080" y="1268280"/>
                  <a:ext cx="863640" cy="1008000"/>
                  <a:chOff x="6877080" y="1268280"/>
                  <a:chExt cx="863640" cy="1008000"/>
                </a:xfrm>
              </p:grpSpPr>
              <p:grpSp>
                <p:nvGrpSpPr>
                  <p:cNvPr id="139" name=""/>
                  <p:cNvGrpSpPr/>
                  <p:nvPr/>
                </p:nvGrpSpPr>
                <p:grpSpPr>
                  <a:xfrm>
                    <a:off x="6877080" y="1268280"/>
                    <a:ext cx="776880" cy="862200"/>
                    <a:chOff x="6877080" y="1268280"/>
                    <a:chExt cx="776880" cy="862200"/>
                  </a:xfrm>
                </p:grpSpPr>
                <p:pic>
                  <p:nvPicPr>
                    <p:cNvPr id="140" name="" descr=""/>
                    <p:cNvPicPr/>
                    <p:nvPr/>
                  </p:nvPicPr>
                  <p:blipFill>
                    <a:blip r:embed="rId31">
                      <a:lum bright="18000"/>
                    </a:blip>
                    <a:stretch/>
                  </p:blipFill>
                  <p:spPr>
                    <a:xfrm>
                      <a:off x="6877080" y="1617480"/>
                      <a:ext cx="776880" cy="51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41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898320" y="1268280"/>
                      <a:ext cx="437760" cy="80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142" name=""/>
                    <p:cNvGrpSpPr/>
                    <p:nvPr/>
                  </p:nvGrpSpPr>
                  <p:grpSpPr>
                    <a:xfrm>
                      <a:off x="7318800" y="1452240"/>
                      <a:ext cx="239400" cy="548280"/>
                      <a:chOff x="7318800" y="1452240"/>
                      <a:chExt cx="239400" cy="548280"/>
                    </a:xfrm>
                  </p:grpSpPr>
                  <p:sp>
                    <p:nvSpPr>
                      <p:cNvPr id="143" name=""/>
                      <p:cNvSpPr/>
                      <p:nvPr/>
                    </p:nvSpPr>
                    <p:spPr>
                      <a:xfrm>
                        <a:off x="7318800" y="1452240"/>
                        <a:ext cx="176760" cy="362160"/>
                      </a:xfrm>
                      <a:prstGeom prst="can">
                        <a:avLst>
                          <a:gd name="adj" fmla="val 20120"/>
                        </a:avLst>
                      </a:pr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333333"/>
                          </a:gs>
                          <a:gs pos="100000">
                            <a:srgbClr val="000000"/>
                          </a:gs>
                        </a:gsLst>
                        <a:lin ang="108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" name=""/>
                      <p:cNvSpPr/>
                      <p:nvPr/>
                    </p:nvSpPr>
                    <p:spPr>
                      <a:xfrm>
                        <a:off x="7382160" y="1638360"/>
                        <a:ext cx="176040" cy="362160"/>
                      </a:xfrm>
                      <a:prstGeom prst="can">
                        <a:avLst>
                          <a:gd name="adj" fmla="val 20120"/>
                        </a:avLst>
                      </a:pr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333333"/>
                          </a:gs>
                          <a:gs pos="100000">
                            <a:srgbClr val="000000"/>
                          </a:gs>
                        </a:gsLst>
                        <a:lin ang="108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pic>
                <p:nvPicPr>
                  <p:cNvPr id="145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7428600" y="1397520"/>
                    <a:ext cx="236880" cy="3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6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901920" y="1915200"/>
                    <a:ext cx="236880" cy="3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7" name="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7503840" y="1915200"/>
                    <a:ext cx="236880" cy="3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956720" y="549360"/>
                  <a:ext cx="564480" cy="585720"/>
                  <a:chOff x="7956720" y="549360"/>
                  <a:chExt cx="564480" cy="585720"/>
                </a:xfrm>
              </p:grpSpPr>
              <p:grpSp>
                <p:nvGrpSpPr>
                  <p:cNvPr id="149" name=""/>
                  <p:cNvGrpSpPr/>
                  <p:nvPr/>
                </p:nvGrpSpPr>
                <p:grpSpPr>
                  <a:xfrm>
                    <a:off x="7956720" y="549360"/>
                    <a:ext cx="508320" cy="501120"/>
                    <a:chOff x="7956720" y="549360"/>
                    <a:chExt cx="508320" cy="501120"/>
                  </a:xfrm>
                </p:grpSpPr>
                <p:pic>
                  <p:nvPicPr>
                    <p:cNvPr id="150" name="" descr=""/>
                    <p:cNvPicPr/>
                    <p:nvPr/>
                  </p:nvPicPr>
                  <p:blipFill>
                    <a:blip r:embed="rId36">
                      <a:lum bright="18000"/>
                    </a:blip>
                    <a:stretch/>
                  </p:blipFill>
                  <p:spPr>
                    <a:xfrm>
                      <a:off x="7956720" y="752400"/>
                      <a:ext cx="508320" cy="29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51" name="" descr=""/>
                    <p:cNvPicPr/>
                    <p:nvPr/>
                  </p:nvPicPr>
                  <p:blipFill>
                    <a:blip r:embed="rId37"/>
                    <a:stretch/>
                  </p:blipFill>
                  <p:spPr>
                    <a:xfrm>
                      <a:off x="7970760" y="549360"/>
                      <a:ext cx="286560" cy="46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152" name=""/>
                    <p:cNvGrpSpPr/>
                    <p:nvPr/>
                  </p:nvGrpSpPr>
                  <p:grpSpPr>
                    <a:xfrm>
                      <a:off x="8245800" y="656280"/>
                      <a:ext cx="156600" cy="318240"/>
                      <a:chOff x="8245800" y="656280"/>
                      <a:chExt cx="156600" cy="318240"/>
                    </a:xfrm>
                  </p:grpSpPr>
                  <p:sp>
                    <p:nvSpPr>
                      <p:cNvPr id="153" name=""/>
                      <p:cNvSpPr/>
                      <p:nvPr/>
                    </p:nvSpPr>
                    <p:spPr>
                      <a:xfrm>
                        <a:off x="8245800" y="656280"/>
                        <a:ext cx="115560" cy="210240"/>
                      </a:xfrm>
                      <a:prstGeom prst="can">
                        <a:avLst>
                          <a:gd name="adj" fmla="val 20120"/>
                        </a:avLst>
                      </a:pr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333333"/>
                          </a:gs>
                          <a:gs pos="100000">
                            <a:srgbClr val="000000"/>
                          </a:gs>
                        </a:gsLst>
                        <a:lin ang="108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4" name=""/>
                      <p:cNvSpPr/>
                      <p:nvPr/>
                    </p:nvSpPr>
                    <p:spPr>
                      <a:xfrm>
                        <a:off x="8287200" y="764280"/>
                        <a:ext cx="115200" cy="210240"/>
                      </a:xfrm>
                      <a:prstGeom prst="can">
                        <a:avLst>
                          <a:gd name="adj" fmla="val 20120"/>
                        </a:avLst>
                      </a:pr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333333"/>
                          </a:gs>
                          <a:gs pos="100000">
                            <a:srgbClr val="000000"/>
                          </a:gs>
                        </a:gsLst>
                        <a:lin ang="108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pic>
                <p:nvPicPr>
                  <p:cNvPr id="155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8317440" y="624240"/>
                    <a:ext cx="154800" cy="2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56" name="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7972920" y="925200"/>
                    <a:ext cx="154800" cy="2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57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8366400" y="925200"/>
                    <a:ext cx="154800" cy="2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8388360" y="1557360"/>
                  <a:ext cx="565200" cy="585720"/>
                  <a:chOff x="8388360" y="1557360"/>
                  <a:chExt cx="565200" cy="585720"/>
                </a:xfrm>
              </p:grpSpPr>
              <p:grpSp>
                <p:nvGrpSpPr>
                  <p:cNvPr id="159" name=""/>
                  <p:cNvGrpSpPr/>
                  <p:nvPr/>
                </p:nvGrpSpPr>
                <p:grpSpPr>
                  <a:xfrm>
                    <a:off x="8388360" y="1557360"/>
                    <a:ext cx="508680" cy="501120"/>
                    <a:chOff x="8388360" y="1557360"/>
                    <a:chExt cx="508680" cy="501120"/>
                  </a:xfrm>
                </p:grpSpPr>
                <p:pic>
                  <p:nvPicPr>
                    <p:cNvPr id="160" name="" descr=""/>
                    <p:cNvPicPr/>
                    <p:nvPr/>
                  </p:nvPicPr>
                  <p:blipFill>
                    <a:blip r:embed="rId41">
                      <a:lum bright="18000"/>
                    </a:blip>
                    <a:stretch/>
                  </p:blipFill>
                  <p:spPr>
                    <a:xfrm>
                      <a:off x="8388360" y="1760400"/>
                      <a:ext cx="508680" cy="29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61" name="" descr=""/>
                    <p:cNvPicPr/>
                    <p:nvPr/>
                  </p:nvPicPr>
                  <p:blipFill>
                    <a:blip r:embed="rId42"/>
                    <a:stretch/>
                  </p:blipFill>
                  <p:spPr>
                    <a:xfrm>
                      <a:off x="8402400" y="1557360"/>
                      <a:ext cx="286560" cy="46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162" name=""/>
                    <p:cNvGrpSpPr/>
                    <p:nvPr/>
                  </p:nvGrpSpPr>
                  <p:grpSpPr>
                    <a:xfrm>
                      <a:off x="8677800" y="1664280"/>
                      <a:ext cx="156600" cy="318240"/>
                      <a:chOff x="8677800" y="1664280"/>
                      <a:chExt cx="156600" cy="318240"/>
                    </a:xfrm>
                  </p:grpSpPr>
                  <p:sp>
                    <p:nvSpPr>
                      <p:cNvPr id="163" name=""/>
                      <p:cNvSpPr/>
                      <p:nvPr/>
                    </p:nvSpPr>
                    <p:spPr>
                      <a:xfrm>
                        <a:off x="8677800" y="1664280"/>
                        <a:ext cx="115560" cy="210240"/>
                      </a:xfrm>
                      <a:prstGeom prst="can">
                        <a:avLst>
                          <a:gd name="adj" fmla="val 20120"/>
                        </a:avLst>
                      </a:pr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333333"/>
                          </a:gs>
                          <a:gs pos="100000">
                            <a:srgbClr val="000000"/>
                          </a:gs>
                        </a:gsLst>
                        <a:lin ang="108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" name=""/>
                      <p:cNvSpPr/>
                      <p:nvPr/>
                    </p:nvSpPr>
                    <p:spPr>
                      <a:xfrm>
                        <a:off x="8719200" y="1772280"/>
                        <a:ext cx="115200" cy="210240"/>
                      </a:xfrm>
                      <a:prstGeom prst="can">
                        <a:avLst>
                          <a:gd name="adj" fmla="val 20120"/>
                        </a:avLst>
                      </a:pr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333333"/>
                          </a:gs>
                          <a:gs pos="100000">
                            <a:srgbClr val="000000"/>
                          </a:gs>
                        </a:gsLst>
                        <a:lin ang="108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pic>
                <p:nvPicPr>
                  <p:cNvPr id="165" name="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8749080" y="1632240"/>
                    <a:ext cx="155160" cy="2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6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8404560" y="1933200"/>
                    <a:ext cx="155160" cy="2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7" name="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8798400" y="1933200"/>
                    <a:ext cx="155160" cy="2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7885080" y="2708280"/>
                  <a:ext cx="565200" cy="585720"/>
                  <a:chOff x="7885080" y="2708280"/>
                  <a:chExt cx="565200" cy="585720"/>
                </a:xfrm>
              </p:grpSpPr>
              <p:grpSp>
                <p:nvGrpSpPr>
                  <p:cNvPr id="169" name=""/>
                  <p:cNvGrpSpPr/>
                  <p:nvPr/>
                </p:nvGrpSpPr>
                <p:grpSpPr>
                  <a:xfrm>
                    <a:off x="7885080" y="2708280"/>
                    <a:ext cx="508680" cy="501120"/>
                    <a:chOff x="7885080" y="2708280"/>
                    <a:chExt cx="508680" cy="501120"/>
                  </a:xfrm>
                </p:grpSpPr>
                <p:pic>
                  <p:nvPicPr>
                    <p:cNvPr id="170" name="" descr=""/>
                    <p:cNvPicPr/>
                    <p:nvPr/>
                  </p:nvPicPr>
                  <p:blipFill>
                    <a:blip r:embed="rId46">
                      <a:lum bright="18000"/>
                    </a:blip>
                    <a:stretch/>
                  </p:blipFill>
                  <p:spPr>
                    <a:xfrm>
                      <a:off x="7885080" y="2911320"/>
                      <a:ext cx="508680" cy="29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71" name="" descr=""/>
                    <p:cNvPicPr/>
                    <p:nvPr/>
                  </p:nvPicPr>
                  <p:blipFill>
                    <a:blip r:embed="rId47"/>
                    <a:stretch/>
                  </p:blipFill>
                  <p:spPr>
                    <a:xfrm>
                      <a:off x="7899120" y="2708280"/>
                      <a:ext cx="286560" cy="46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8174520" y="2815200"/>
                      <a:ext cx="156600" cy="318240"/>
                      <a:chOff x="8174520" y="2815200"/>
                      <a:chExt cx="156600" cy="318240"/>
                    </a:xfrm>
                  </p:grpSpPr>
                  <p:sp>
                    <p:nvSpPr>
                      <p:cNvPr id="173" name=""/>
                      <p:cNvSpPr/>
                      <p:nvPr/>
                    </p:nvSpPr>
                    <p:spPr>
                      <a:xfrm>
                        <a:off x="8174520" y="2815200"/>
                        <a:ext cx="115560" cy="210240"/>
                      </a:xfrm>
                      <a:prstGeom prst="can">
                        <a:avLst>
                          <a:gd name="adj" fmla="val 20120"/>
                        </a:avLst>
                      </a:pr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333333"/>
                          </a:gs>
                          <a:gs pos="100000">
                            <a:srgbClr val="000000"/>
                          </a:gs>
                        </a:gsLst>
                        <a:lin ang="108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" name=""/>
                      <p:cNvSpPr/>
                      <p:nvPr/>
                    </p:nvSpPr>
                    <p:spPr>
                      <a:xfrm>
                        <a:off x="8215920" y="2923200"/>
                        <a:ext cx="115200" cy="210240"/>
                      </a:xfrm>
                      <a:prstGeom prst="can">
                        <a:avLst>
                          <a:gd name="adj" fmla="val 20120"/>
                        </a:avLst>
                      </a:pr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333333"/>
                          </a:gs>
                          <a:gs pos="100000">
                            <a:srgbClr val="000000"/>
                          </a:gs>
                        </a:gsLst>
                        <a:lin ang="108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pic>
                <p:nvPicPr>
                  <p:cNvPr id="175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8245800" y="2783160"/>
                    <a:ext cx="155160" cy="2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76" name="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7901280" y="3084120"/>
                    <a:ext cx="155160" cy="2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77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8295120" y="3084120"/>
                    <a:ext cx="155160" cy="2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178" name=""/>
                <p:cNvSpPr/>
                <p:nvPr/>
              </p:nvSpPr>
              <p:spPr>
                <a:xfrm flipH="1" flipV="1">
                  <a:off x="6948360" y="907560"/>
                  <a:ext cx="144720" cy="36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V="1">
                  <a:off x="7740720" y="1125360"/>
                  <a:ext cx="21600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812000" y="1844640"/>
                  <a:ext cx="505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667640" y="2349360"/>
                  <a:ext cx="360360" cy="358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V="1">
                  <a:off x="5219640" y="2204640"/>
                  <a:ext cx="1513080" cy="107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" name=""/>
              <p:cNvSpPr/>
              <p:nvPr/>
            </p:nvSpPr>
            <p:spPr>
              <a:xfrm>
                <a:off x="6804000" y="3429000"/>
                <a:ext cx="1873440" cy="647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Linked to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Local single windo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" name=""/>
          <p:cNvGrpSpPr/>
          <p:nvPr/>
        </p:nvGrpSpPr>
        <p:grpSpPr>
          <a:xfrm>
            <a:off x="3203640" y="4221000"/>
            <a:ext cx="4537080" cy="2330640"/>
            <a:chOff x="3203640" y="4221000"/>
            <a:chExt cx="4537080" cy="2330640"/>
          </a:xfrm>
        </p:grpSpPr>
        <p:grpSp>
          <p:nvGrpSpPr>
            <p:cNvPr id="185" name=""/>
            <p:cNvGrpSpPr/>
            <p:nvPr/>
          </p:nvGrpSpPr>
          <p:grpSpPr>
            <a:xfrm>
              <a:off x="3203640" y="4221000"/>
              <a:ext cx="2592360" cy="2330640"/>
              <a:chOff x="3203640" y="4221000"/>
              <a:chExt cx="2592360" cy="2330640"/>
            </a:xfrm>
          </p:grpSpPr>
          <p:sp>
            <p:nvSpPr>
              <p:cNvPr id="186" name=""/>
              <p:cNvSpPr/>
              <p:nvPr/>
            </p:nvSpPr>
            <p:spPr>
              <a:xfrm>
                <a:off x="3203640" y="4437000"/>
                <a:ext cx="2592360" cy="211464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Arial"/>
                  </a:rPr>
                  <a:t>Extension of RSW for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Arial"/>
                  </a:rPr>
                  <a:t>countries without SW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7" name=""/>
              <p:cNvGrpSpPr/>
              <p:nvPr/>
            </p:nvGrpSpPr>
            <p:grpSpPr>
              <a:xfrm>
                <a:off x="4211640" y="4724280"/>
                <a:ext cx="780840" cy="730440"/>
                <a:chOff x="4211640" y="4724280"/>
                <a:chExt cx="780840" cy="730440"/>
              </a:xfrm>
            </p:grpSpPr>
            <p:grpSp>
              <p:nvGrpSpPr>
                <p:cNvPr id="188" name=""/>
                <p:cNvGrpSpPr/>
                <p:nvPr/>
              </p:nvGrpSpPr>
              <p:grpSpPr>
                <a:xfrm>
                  <a:off x="4211640" y="4724280"/>
                  <a:ext cx="702720" cy="624600"/>
                  <a:chOff x="4211640" y="4724280"/>
                  <a:chExt cx="702720" cy="624600"/>
                </a:xfrm>
              </p:grpSpPr>
              <p:pic>
                <p:nvPicPr>
                  <p:cNvPr id="189" name="" descr=""/>
                  <p:cNvPicPr/>
                  <p:nvPr/>
                </p:nvPicPr>
                <p:blipFill>
                  <a:blip r:embed="rId51">
                    <a:lum bright="18000"/>
                  </a:blip>
                  <a:stretch/>
                </p:blipFill>
                <p:spPr>
                  <a:xfrm>
                    <a:off x="4211640" y="4977360"/>
                    <a:ext cx="70272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90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230720" y="4724280"/>
                    <a:ext cx="396000" cy="58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91" name=""/>
                  <p:cNvGrpSpPr/>
                  <p:nvPr/>
                </p:nvGrpSpPr>
                <p:grpSpPr>
                  <a:xfrm>
                    <a:off x="4611240" y="4857480"/>
                    <a:ext cx="216720" cy="397080"/>
                    <a:chOff x="4611240" y="4857480"/>
                    <a:chExt cx="216720" cy="397080"/>
                  </a:xfrm>
                </p:grpSpPr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611240" y="4857480"/>
                      <a:ext cx="159840" cy="262440"/>
                    </a:xfrm>
                    <a:prstGeom prst="can">
                      <a:avLst>
                        <a:gd name="adj" fmla="val 20120"/>
                      </a:avLst>
                    </a:pr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333333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" name=""/>
                    <p:cNvSpPr/>
                    <p:nvPr/>
                  </p:nvSpPr>
                  <p:spPr>
                    <a:xfrm>
                      <a:off x="4668480" y="4992120"/>
                      <a:ext cx="159480" cy="262440"/>
                    </a:xfrm>
                    <a:prstGeom prst="can">
                      <a:avLst>
                        <a:gd name="adj" fmla="val 20120"/>
                      </a:avLst>
                    </a:pr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333333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pic>
              <p:nvPicPr>
                <p:cNvPr id="194" name="" descr=""/>
                <p:cNvPicPr/>
                <p:nvPr/>
              </p:nvPicPr>
              <p:blipFill>
                <a:blip r:embed="rId53"/>
                <a:stretch/>
              </p:blipFill>
              <p:spPr>
                <a:xfrm>
                  <a:off x="4710240" y="4817880"/>
                  <a:ext cx="214200" cy="261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5" name="" descr=""/>
                <p:cNvPicPr/>
                <p:nvPr/>
              </p:nvPicPr>
              <p:blipFill>
                <a:blip r:embed="rId54"/>
                <a:stretch/>
              </p:blipFill>
              <p:spPr>
                <a:xfrm>
                  <a:off x="4234320" y="5193000"/>
                  <a:ext cx="214200" cy="261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6" name="" descr=""/>
                <p:cNvPicPr/>
                <p:nvPr/>
              </p:nvPicPr>
              <p:blipFill>
                <a:blip r:embed="rId55"/>
                <a:stretch/>
              </p:blipFill>
              <p:spPr>
                <a:xfrm>
                  <a:off x="4778280" y="5193000"/>
                  <a:ext cx="214200" cy="261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97" name=""/>
              <p:cNvSpPr/>
              <p:nvPr/>
            </p:nvSpPr>
            <p:spPr>
              <a:xfrm>
                <a:off x="4500720" y="4221000"/>
                <a:ext cx="0" cy="4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5867280" y="5734080"/>
              <a:ext cx="1873440" cy="647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Be a loca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ingle wind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276720" y="981000"/>
            <a:ext cx="1295280" cy="1368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643280" y="907920"/>
            <a:ext cx="1584360" cy="13543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79280" y="2637000"/>
            <a:ext cx="87854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64375"/>
              </a:gs>
              <a:gs pos="50000">
                <a:srgbClr val="3193ff"/>
              </a:gs>
              <a:gs pos="100000">
                <a:srgbClr val="16437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ATIONAL SINGLE WINDOW CO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KAR 5-7 Nov 2008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468360" y="1125360"/>
            <a:ext cx="1942920" cy="13273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324000" y="3645000"/>
            <a:ext cx="2232000" cy="2997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petit déjeuner dans la suite Senior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588000" y="3645000"/>
            <a:ext cx="2268720" cy="29685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7"/>
          <a:stretch/>
        </p:blipFill>
        <p:spPr>
          <a:xfrm>
            <a:off x="2627280" y="3645000"/>
            <a:ext cx="388944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9640" y="1989000"/>
            <a:ext cx="8064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entury Gothic"/>
              </a:rPr>
              <a:t>INITIATIV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entury Gothic"/>
              </a:rPr>
              <a:t>AFRICAN ALLIANCE FOR ECOMMER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7772400" cy="136836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WHY AN ALLI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4000" y="765000"/>
            <a:ext cx="8280360" cy="273528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Berlin Sans FB"/>
              </a:rPr>
              <a:t>INTRA REGIONAL COOPE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Promote regional initiative such as RS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Share skills and knowledge to promote at regional level application of stand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3716280"/>
            <a:ext cx="8280360" cy="216072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Berlin Sans FB"/>
              </a:rPr>
              <a:t>INTER REGIONAL COOPERAT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Pilot projects with other regions of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Exchange of 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692280"/>
            <a:ext cx="8280360" cy="446544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Berlin Sans FB"/>
              </a:rPr>
              <a:t>EX. OF CHALLENGES TO BE HANDLED BY AAEC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Framework of competence to assist countries in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Share resources and experi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Ensure effective Africa representation TF discu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Promote the concept of SW in Afric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7772400" cy="136836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HOW AN ALLI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765000"/>
            <a:ext cx="8280360" cy="273528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Berlin Sans FB"/>
              </a:rPr>
              <a:t>MEMB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Effective SW operators in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Promoter of SW in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Observers: Donors interested by SW implementation in AFRIC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3716280"/>
            <a:ext cx="8280360" cy="216072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Berlin Sans FB"/>
              </a:rPr>
              <a:t>AERAS OF INTERES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Regional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1989000"/>
            <a:ext cx="806472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33cc"/>
                </a:solidFill>
                <a:latin typeface="Century Gothic"/>
              </a:rPr>
              <a:t>INITIATIVE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33cc"/>
                </a:solidFill>
                <a:latin typeface="Century Gothic"/>
              </a:rPr>
              <a:t>REGIONAL SINGLE WIND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33cc"/>
                </a:solidFill>
                <a:latin typeface="Century Gothic"/>
              </a:rPr>
              <a:t> </a:t>
            </a:r>
            <a:r>
              <a:rPr b="1" lang="fr-FR" sz="3200" spc="-1" strike="noStrike">
                <a:solidFill>
                  <a:srgbClr val="3333cc"/>
                </a:solidFill>
                <a:latin typeface="Century Gothic"/>
              </a:rPr>
              <a:t>« What challenges for Africa? »</a:t>
            </a:r>
            <a:r>
              <a:rPr b="1" lang="fr-FR" sz="4400" spc="-1" strike="noStrike">
                <a:solidFill>
                  <a:srgbClr val="3333cc"/>
                </a:solidFill>
                <a:latin typeface="Century Gothic"/>
              </a:rPr>
              <a:t>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7772400" cy="136836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WHY A REGIONAL SINGLE WIND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17:50:35Z</dcterms:created>
  <dc:creator>idiagne</dc:creator>
  <dc:description/>
  <dc:language>en-US</dc:language>
  <cp:lastModifiedBy>CSD</cp:lastModifiedBy>
  <dcterms:modified xsi:type="dcterms:W3CDTF">2008-09-16T12:17:36Z</dcterms:modified>
  <cp:revision>118</cp:revision>
  <dc:subject/>
  <dc:title>Présentation PowerPoint</dc:title>
</cp:coreProperties>
</file>