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7.png" ContentType="image/png"/>
  <Override PartName="/ppt/media/image11.wmf" ContentType="image/x-wmf"/>
  <Override PartName="/ppt/media/image12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13.png" ContentType="image/png"/>
  <Override PartName="/ppt/media/image5.wmf" ContentType="image/x-wmf"/>
  <Override PartName="/ppt/media/image9.png" ContentType="image/png"/>
  <Override PartName="/ppt/media/image10.png" ContentType="image/png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31840" y="688680"/>
            <a:ext cx="4595760" cy="344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90360" rIns="9036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75CF-DEAD-4AFC-9200-30CB7A421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4922-ADDC-441F-A29D-022B2D85AB2B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43BF-E60F-4D14-8509-AD262C6EC858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3886200" y="79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3886200" y="87501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0" y="87501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79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3887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EAEB-46D7-4E77-A447-10F131997218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3886200" y="79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3886200" y="87501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0" y="87501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0" y="79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3887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15BF-D4FC-45F8-9013-3ABBEC768DA1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984A-8F8A-4831-9B24-5A906C8CB749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5E00-50F2-4C27-A900-DA7BE162DC95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B687-2295-454F-9810-7A789D418CFC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C219-67D3-4200-B2CD-DBF1239D7693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E4A9-862D-4775-BDA1-20B898DC2FD2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07F0-5DAE-4CF2-A77C-6ED7833E7094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B35C-B144-4EF4-A01A-A944BC6889A7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A0E7-D954-42D3-B7C1-401183016628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F196-6670-446F-9053-1CDE74E5D1DA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9639-E310-415C-BD20-53E8EACF1A08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A4B7-259C-41E8-B5C0-9A48B314CE9A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2836-7D7C-4909-A057-0E5947DE08F3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154F-9EEF-4ADC-BA7E-426E3BA1018A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CACC-5F40-4B64-8788-07837B846D57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1791-4420-45F0-83B4-592E58436884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9079-3666-433A-875F-455EDA273025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A378-7249-4E9F-9CDF-AC5EB0A602DC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DD9D-984D-47E6-8184-4B41268DCA02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A2E6-AE98-4A33-B99D-63DE11C097DD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6A5F-FD1B-4B0D-8568-66AA788B29B5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D28E-5B72-4441-8F19-EFB084AE5676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5279-11E7-41B7-96F7-DE2B78ACA3BE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82A0-90DF-4DCB-8B64-74EA4DA0A069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FFC6-7B0D-474E-8334-D24E0ED3D0D7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8E96-2B3A-44D3-97C9-FA1FFED0E725}" type="slidenum">
              <a:rPr b="1" lang="en-US" sz="12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3886200" y="79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3886200" y="87501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87501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0" y="79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38876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82FD-9ECB-4FDB-A99D-E353D670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055-FF5D-44DE-A61E-9F8E561A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432-441D-4361-AC8B-9EA019BC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D51-EF6F-448F-A64E-96EE768E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3268-63CF-4183-94A1-5748229C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3578-27C4-4B3B-BDEA-36906662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5BF3-305F-414A-B685-7EF53EE8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D0D5-EC3D-44DB-9D01-8366B75E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97C1-95E7-4124-A937-EEF2A54B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DD69-AFB0-4A77-9A7A-F3F8400F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2F8D-960B-4AA0-9683-0D65D6BD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EC17-CAC4-4D6C-956A-A6CC2E2E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7069-C0BB-4A09-AAFA-12CF8FD6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68D1-4DB0-4138-84B3-E09D196E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80B9-7A7E-4F7D-96F5-3C95C732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F3F0-C5B1-4681-97E9-0F306B1F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ED12-CB33-491A-9AA1-C4914E30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295-3D21-4AA7-8D37-A12F3306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A6DF-6CFA-422B-97E5-EA5F9BD5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1C5-76EF-48B2-85E0-BC9C6BFD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4AFA-ECEC-4751-9441-4E1F5110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1573-A090-4BFD-BD23-B4BF278C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5C75-6558-490D-A4E9-2F801866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A93-5A5F-4401-8649-B3616574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8BD8-D54F-4F3E-81D5-9487FE2844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9BBA-B210-485F-B035-1ADFA3611B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7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Paperless trade(eTrade) in India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Presentation for UN/CEFACT Plenary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16 – 17 Sep. 2008</a:t>
            </a:r>
            <a:br>
              <a:rPr sz="3200"/>
            </a:br>
            <a:br>
              <a:rPr sz="3200"/>
            </a:b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T. A. Khan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takhan@nic.in</a:t>
            </a:r>
            <a:br>
              <a:rPr sz="2800"/>
            </a:br>
            <a:br>
              <a:rPr sz="4000"/>
            </a:br>
            <a:br>
              <a:rPr sz="4000"/>
            </a:b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Slide Number Placeholder 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8A2C-06A7-46EA-B104-6C30BC6B97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7823-4A5B-4626-8DDE-F6E4021805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Rectangle 102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Rectangle 102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Rectangle 10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lectronic Government Procurement as a mission mode project  with broad objectives 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troduce procurement policy reform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mprove efficiency of procurement (time and cost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tandardization, streamlining and automation of the procurement processe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reate a conducive legal framework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reate a procurement framework, which is workflow based, easy to operate, seamless and leading to paperless process management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vide equal opportunity to all vendors eliminating areas of discre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mplement standard procurement processes using generic procurement platform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o ensure adoption of adequate security measures (audit trail, authentication, integrity, non-repudiation, secrecy etc.) practices in e-procurement transac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Undertake a comprehensive capacity building program across the government organiza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ublication of procurement information mandatory (notices, Tenders, Contracts/Orders etc.) on government procurement portal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-Procurement mandatory above a decided threshold value (Rs. 25 Lacs in GoI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velopment of a generic e-Procurement solution by NIC  for wide adoption by any Government department/organizatio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Rectangle 1031"/>
          <p:cNvSpPr/>
          <p:nvPr/>
        </p:nvSpPr>
        <p:spPr>
          <a:xfrm>
            <a:off x="76212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Rectangle 1031"/>
          <p:cNvSpPr/>
          <p:nvPr/>
        </p:nvSpPr>
        <p:spPr>
          <a:xfrm>
            <a:off x="762120" y="7621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eGovernance Initiative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888F-1853-4875-8C0A-E0D258BF8E8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Rectangle 2050"/>
          <p:cNvSpPr/>
          <p:nvPr/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Rectangle 205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Rectangle 205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epartment of Commerce selected as the nodal ag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rocess Re-enginee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National standard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ducation and awareness progra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ilot projects for private sect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Trade proj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ortal for single point interface with all community partn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Rectangle 2055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2.2 Strategie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1904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3. eTrade - the projec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BC87-DA02-4B32-AFF4-8A25AA572E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fficient, transparent, secure electronic delivery of services by trade regulatory/facilitating agenc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ify procedures and reduce the transaction cost and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roduce UN/CEFACT standards and practi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-228600" y="762120"/>
            <a:ext cx="8562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3.1 Objective of the project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75CA-1F83-43A0-AA74-4ED9EB17C9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62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3.2 The Indian eTrade Community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Oval 1066"/>
          <p:cNvSpPr/>
          <p:nvPr/>
        </p:nvSpPr>
        <p:spPr>
          <a:xfrm>
            <a:off x="4114800" y="4038480"/>
            <a:ext cx="182880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Rectangle 1067"/>
          <p:cNvSpPr/>
          <p:nvPr/>
        </p:nvSpPr>
        <p:spPr>
          <a:xfrm>
            <a:off x="4148280" y="2057400"/>
            <a:ext cx="8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GFT</a:t>
            </a:r>
            <a:endParaRPr b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Text Box 1068"/>
          <p:cNvSpPr/>
          <p:nvPr/>
        </p:nvSpPr>
        <p:spPr>
          <a:xfrm>
            <a:off x="5638680" y="1828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stoms/Central Excise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Text Box 1069"/>
          <p:cNvSpPr/>
          <p:nvPr/>
        </p:nvSpPr>
        <p:spPr>
          <a:xfrm>
            <a:off x="2041560" y="2403360"/>
            <a:ext cx="10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Text Box 1070"/>
          <p:cNvSpPr/>
          <p:nvPr/>
        </p:nvSpPr>
        <p:spPr>
          <a:xfrm>
            <a:off x="220968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irlines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Text Box 1071"/>
          <p:cNvSpPr/>
          <p:nvPr/>
        </p:nvSpPr>
        <p:spPr>
          <a:xfrm>
            <a:off x="762120" y="3470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Text Box 1072"/>
          <p:cNvSpPr/>
          <p:nvPr/>
        </p:nvSpPr>
        <p:spPr>
          <a:xfrm>
            <a:off x="1736640" y="3622680"/>
            <a:ext cx="16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Text Box 1073"/>
          <p:cNvSpPr/>
          <p:nvPr/>
        </p:nvSpPr>
        <p:spPr>
          <a:xfrm>
            <a:off x="838080" y="3048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hipping Agents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Text Box 1074"/>
          <p:cNvSpPr/>
          <p:nvPr/>
        </p:nvSpPr>
        <p:spPr>
          <a:xfrm>
            <a:off x="1432080" y="423216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Text Box 1075"/>
          <p:cNvSpPr/>
          <p:nvPr/>
        </p:nvSpPr>
        <p:spPr>
          <a:xfrm>
            <a:off x="30492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rt/CONCOR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Text Box 1076"/>
          <p:cNvSpPr/>
          <p:nvPr/>
        </p:nvSpPr>
        <p:spPr>
          <a:xfrm>
            <a:off x="380880" y="4876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orters/Exporters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Text Box 1077"/>
          <p:cNvSpPr/>
          <p:nvPr/>
        </p:nvSpPr>
        <p:spPr>
          <a:xfrm>
            <a:off x="3124080" y="571500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As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Text Box 1078"/>
          <p:cNvSpPr/>
          <p:nvPr/>
        </p:nvSpPr>
        <p:spPr>
          <a:xfrm>
            <a:off x="4419720" y="5638680"/>
            <a:ext cx="14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an Railways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Text Box 1079"/>
          <p:cNvSpPr/>
          <p:nvPr/>
        </p:nvSpPr>
        <p:spPr>
          <a:xfrm>
            <a:off x="6004080" y="52228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EPC/Texprocil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Text Box 1080"/>
          <p:cNvSpPr/>
          <p:nvPr/>
        </p:nvSpPr>
        <p:spPr>
          <a:xfrm>
            <a:off x="6629400" y="4384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GCIS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Text Box 1081"/>
          <p:cNvSpPr/>
          <p:nvPr/>
        </p:nvSpPr>
        <p:spPr>
          <a:xfrm>
            <a:off x="6705720" y="358128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BI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Text Box 1082"/>
          <p:cNvSpPr/>
          <p:nvPr/>
        </p:nvSpPr>
        <p:spPr>
          <a:xfrm>
            <a:off x="6629400" y="266688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nks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Line 1083"/>
          <p:cNvSpPr/>
          <p:nvPr/>
        </p:nvSpPr>
        <p:spPr>
          <a:xfrm>
            <a:off x="3048120" y="3581280"/>
            <a:ext cx="1218960" cy="7621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Line 1084"/>
          <p:cNvSpPr/>
          <p:nvPr/>
        </p:nvSpPr>
        <p:spPr>
          <a:xfrm flipV="1">
            <a:off x="5105520" y="495252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Line 1085"/>
          <p:cNvSpPr/>
          <p:nvPr/>
        </p:nvSpPr>
        <p:spPr>
          <a:xfrm flipV="1">
            <a:off x="5562720" y="2895120"/>
            <a:ext cx="1066680" cy="11430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Line 1086"/>
          <p:cNvSpPr/>
          <p:nvPr/>
        </p:nvSpPr>
        <p:spPr>
          <a:xfrm>
            <a:off x="5943600" y="4495680"/>
            <a:ext cx="762120" cy="1526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Line 1087"/>
          <p:cNvSpPr/>
          <p:nvPr/>
        </p:nvSpPr>
        <p:spPr>
          <a:xfrm>
            <a:off x="5715000" y="4876920"/>
            <a:ext cx="380880" cy="53316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Line 1088"/>
          <p:cNvSpPr/>
          <p:nvPr/>
        </p:nvSpPr>
        <p:spPr>
          <a:xfrm flipV="1">
            <a:off x="4724280" y="2362320"/>
            <a:ext cx="0" cy="167616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WordArt 1089"/>
          <p:cNvSpPr txBox="1"/>
          <p:nvPr/>
        </p:nvSpPr>
        <p:spPr>
          <a:xfrm>
            <a:off x="4495680" y="4038480"/>
            <a:ext cx="11620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ssage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erchange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Line 1090"/>
          <p:cNvSpPr/>
          <p:nvPr/>
        </p:nvSpPr>
        <p:spPr>
          <a:xfrm>
            <a:off x="3276720" y="2590920"/>
            <a:ext cx="1295280" cy="144756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Line 1091"/>
          <p:cNvSpPr/>
          <p:nvPr/>
        </p:nvSpPr>
        <p:spPr>
          <a:xfrm flipV="1">
            <a:off x="3733920" y="4876920"/>
            <a:ext cx="914400" cy="9144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Line 1092"/>
          <p:cNvSpPr/>
          <p:nvPr/>
        </p:nvSpPr>
        <p:spPr>
          <a:xfrm flipV="1">
            <a:off x="5257800" y="2209680"/>
            <a:ext cx="685800" cy="18288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Line 1093"/>
          <p:cNvSpPr/>
          <p:nvPr/>
        </p:nvSpPr>
        <p:spPr>
          <a:xfrm>
            <a:off x="2286000" y="4267080"/>
            <a:ext cx="1905120" cy="2286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Line 1094"/>
          <p:cNvSpPr/>
          <p:nvPr/>
        </p:nvSpPr>
        <p:spPr>
          <a:xfrm flipH="1">
            <a:off x="2971440" y="4648320"/>
            <a:ext cx="1143000" cy="38088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Line 1095"/>
          <p:cNvSpPr/>
          <p:nvPr/>
        </p:nvSpPr>
        <p:spPr>
          <a:xfrm flipV="1">
            <a:off x="5791320" y="3809880"/>
            <a:ext cx="1066680" cy="4572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Line 1096"/>
          <p:cNvSpPr/>
          <p:nvPr/>
        </p:nvSpPr>
        <p:spPr>
          <a:xfrm flipV="1">
            <a:off x="4114800" y="5028840"/>
            <a:ext cx="762120" cy="11430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Line 1097"/>
          <p:cNvSpPr/>
          <p:nvPr/>
        </p:nvSpPr>
        <p:spPr>
          <a:xfrm>
            <a:off x="5334120" y="5029200"/>
            <a:ext cx="380880" cy="5335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Text Box 1098"/>
          <p:cNvSpPr/>
          <p:nvPr/>
        </p:nvSpPr>
        <p:spPr>
          <a:xfrm>
            <a:off x="5410080" y="5638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CD/CFS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Line 1099"/>
          <p:cNvSpPr/>
          <p:nvPr/>
        </p:nvSpPr>
        <p:spPr>
          <a:xfrm flipV="1">
            <a:off x="2666880" y="4876560"/>
            <a:ext cx="1524240" cy="990360"/>
          </a:xfrm>
          <a:prstGeom prst="line">
            <a:avLst/>
          </a:prstGeom>
          <a:ln w="9360">
            <a:solidFill>
              <a:srgbClr val="ff9933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Text Box 1100"/>
          <p:cNvSpPr/>
          <p:nvPr/>
        </p:nvSpPr>
        <p:spPr>
          <a:xfrm>
            <a:off x="228600" y="5257800"/>
            <a:ext cx="3124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(Income Tax, ECGC, EXIM Bank, EIC, APEDA, MPEDA, State/local authorities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Text Box 1101"/>
          <p:cNvSpPr/>
          <p:nvPr/>
        </p:nvSpPr>
        <p:spPr>
          <a:xfrm>
            <a:off x="3733920" y="6172200"/>
            <a:ext cx="14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AI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Slide Number Placeholder 3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6265-74B8-478C-9FBE-3CB375B9287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Customs (35 location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DGFT (35 locations)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Port Trusts (13 location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Airports (8 location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Container Corporation (38 location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Banks (106 location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BI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Airlines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Indian Railways (1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Export Promotion Organisation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DG commercial Intelligence / Statistics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lnSpc>
                <a:spcPct val="7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Inland Container Depots / Container Freight Stations (50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3.3 Project Spread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B540-6773-417C-AB8A-6204A0526B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mainfrm"/>
          <p:cNvSpPr/>
          <p:nvPr/>
        </p:nvSpPr>
        <p:spPr>
          <a:xfrm>
            <a:off x="2548080" y="3733920"/>
            <a:ext cx="838080" cy="1143000"/>
          </a:xfrm>
          <a:prstGeom prst="pie">
            <a:avLst/>
          </a:prstGeom>
          <a:solidFill>
            <a:srgbClr val="ffff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modem"/>
          <p:cNvSpPr/>
          <p:nvPr/>
        </p:nvSpPr>
        <p:spPr>
          <a:xfrm>
            <a:off x="4834080" y="2514600"/>
            <a:ext cx="1218960" cy="685800"/>
          </a:xfrm>
          <a:prstGeom prst="pie">
            <a:avLst/>
          </a:prstGeom>
          <a:solidFill>
            <a:srgbClr val="ffff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989360" y="4815000"/>
            <a:ext cx="2018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ICEGATE</a:t>
            </a:r>
            <a:endParaRPr b="1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EDI messaging and Web Services</a:t>
            </a:r>
            <a:endParaRPr b="1" lang="en-US" sz="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478400" y="3166920"/>
            <a:ext cx="1879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ICES</a:t>
            </a:r>
            <a:endParaRPr b="1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Core Transaction Processing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tower"/>
          <p:cNvSpPr/>
          <p:nvPr/>
        </p:nvSpPr>
        <p:spPr>
          <a:xfrm>
            <a:off x="4952880" y="762120"/>
            <a:ext cx="762120" cy="990360"/>
          </a:xfrm>
          <a:prstGeom prst="pie">
            <a:avLst/>
          </a:prstGeom>
          <a:solidFill>
            <a:srgbClr val="ffff66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117040" y="146196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LRMS</a:t>
            </a:r>
            <a:endParaRPr b="1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Transaction Risk Processing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7682040" y="1676520"/>
            <a:ext cx="150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Other Small Apps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viz. in Chennai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3538440" y="4538520"/>
            <a:ext cx="121932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621240" y="4351320"/>
            <a:ext cx="105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FTP over WAN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6172200" y="2852640"/>
            <a:ext cx="121932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Line 12"/>
          <p:cNvSpPr/>
          <p:nvPr/>
        </p:nvSpPr>
        <p:spPr>
          <a:xfrm flipV="1">
            <a:off x="5334120" y="1905120"/>
            <a:ext cx="0" cy="4572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tower"/>
          <p:cNvSpPr/>
          <p:nvPr/>
        </p:nvSpPr>
        <p:spPr>
          <a:xfrm>
            <a:off x="2971800" y="762120"/>
            <a:ext cx="762120" cy="990360"/>
          </a:xfrm>
          <a:prstGeom prst="pie">
            <a:avLst/>
          </a:prstGeom>
          <a:solidFill>
            <a:srgbClr val="ffff66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2617920" y="16905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NRMS</a:t>
            </a:r>
            <a:endParaRPr b="1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National Risk Control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modem"/>
          <p:cNvSpPr/>
          <p:nvPr/>
        </p:nvSpPr>
        <p:spPr>
          <a:xfrm>
            <a:off x="4800600" y="4267080"/>
            <a:ext cx="1219320" cy="381240"/>
          </a:xfrm>
          <a:prstGeom prst="pie">
            <a:avLst/>
          </a:prstGeom>
          <a:solidFill>
            <a:srgbClr val="ffff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5334120" y="3657600"/>
            <a:ext cx="0" cy="5335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modem"/>
          <p:cNvSpPr/>
          <p:nvPr/>
        </p:nvSpPr>
        <p:spPr>
          <a:xfrm>
            <a:off x="2438280" y="2666880"/>
            <a:ext cx="1219320" cy="381240"/>
          </a:xfrm>
          <a:prstGeom prst="pie">
            <a:avLst/>
          </a:prstGeom>
          <a:solidFill>
            <a:srgbClr val="ffff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1950480" y="3000240"/>
            <a:ext cx="222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pdation Server</a:t>
            </a:r>
            <a:endParaRPr b="1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‘</a:t>
            </a: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Kandla’ server for directory updation</a:t>
            </a:r>
            <a:endParaRPr b="1" lang="en-US" sz="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3870720" y="2695680"/>
            <a:ext cx="68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DB   link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SQL net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Line 22"/>
          <p:cNvSpPr/>
          <p:nvPr/>
        </p:nvSpPr>
        <p:spPr>
          <a:xfrm>
            <a:off x="3843360" y="289548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Cloud"/>
          <p:cNvSpPr/>
          <p:nvPr/>
        </p:nvSpPr>
        <p:spPr>
          <a:xfrm>
            <a:off x="0" y="4038480"/>
            <a:ext cx="1600200" cy="609840"/>
          </a:xfrm>
          <a:prstGeom prst="pie">
            <a:avLst/>
          </a:prstGeom>
          <a:solidFill>
            <a:srgbClr val="d6fafe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Internet</a:t>
            </a:r>
            <a:endParaRPr b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09" name="Group 24"/>
          <p:cNvGrpSpPr/>
          <p:nvPr/>
        </p:nvGrpSpPr>
        <p:grpSpPr>
          <a:xfrm>
            <a:off x="7162920" y="1981080"/>
            <a:ext cx="1447560" cy="1600200"/>
            <a:chOff x="7162920" y="1981080"/>
            <a:chExt cx="1447560" cy="1600200"/>
          </a:xfrm>
        </p:grpSpPr>
        <p:grpSp>
          <p:nvGrpSpPr>
            <p:cNvPr id="210" name="Group 25"/>
            <p:cNvGrpSpPr/>
            <p:nvPr/>
          </p:nvGrpSpPr>
          <p:grpSpPr>
            <a:xfrm>
              <a:off x="7162920" y="1981080"/>
              <a:ext cx="990360" cy="1371600"/>
              <a:chOff x="7162920" y="1981080"/>
              <a:chExt cx="990360" cy="1371600"/>
            </a:xfrm>
          </p:grpSpPr>
          <p:pic>
            <p:nvPicPr>
              <p:cNvPr id="211" name="Picture 26" descr="j0292020"/>
              <p:cNvPicPr/>
              <p:nvPr/>
            </p:nvPicPr>
            <p:blipFill>
              <a:blip r:embed="rId1"/>
              <a:stretch/>
            </p:blipFill>
            <p:spPr>
              <a:xfrm>
                <a:off x="7162920" y="1981080"/>
                <a:ext cx="6858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Picture 27" descr="j0292020"/>
              <p:cNvPicPr/>
              <p:nvPr/>
            </p:nvPicPr>
            <p:blipFill>
              <a:blip r:embed="rId2"/>
              <a:stretch/>
            </p:blipFill>
            <p:spPr>
              <a:xfrm>
                <a:off x="7315200" y="2209680"/>
                <a:ext cx="6858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Picture 28" descr="j0292020"/>
              <p:cNvPicPr/>
              <p:nvPr/>
            </p:nvPicPr>
            <p:blipFill>
              <a:blip r:embed="rId3"/>
              <a:stretch/>
            </p:blipFill>
            <p:spPr>
              <a:xfrm>
                <a:off x="7467480" y="2438280"/>
                <a:ext cx="6858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4" name="Group 29"/>
            <p:cNvGrpSpPr/>
            <p:nvPr/>
          </p:nvGrpSpPr>
          <p:grpSpPr>
            <a:xfrm>
              <a:off x="7924680" y="2133360"/>
              <a:ext cx="685800" cy="1447920"/>
              <a:chOff x="7924680" y="2133360"/>
              <a:chExt cx="685800" cy="1447920"/>
            </a:xfrm>
          </p:grpSpPr>
          <p:sp>
            <p:nvSpPr>
              <p:cNvPr id="215" name="Line 30"/>
              <p:cNvSpPr/>
              <p:nvPr/>
            </p:nvSpPr>
            <p:spPr>
              <a:xfrm>
                <a:off x="7924680" y="2133360"/>
                <a:ext cx="685800" cy="6858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16" name="Line 31"/>
              <p:cNvSpPr/>
              <p:nvPr/>
            </p:nvSpPr>
            <p:spPr>
              <a:xfrm>
                <a:off x="8610480" y="2819160"/>
                <a:ext cx="0" cy="7621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17" name="Line 32"/>
              <p:cNvSpPr/>
              <p:nvPr/>
            </p:nvSpPr>
            <p:spPr>
              <a:xfrm>
                <a:off x="7924680" y="2361960"/>
                <a:ext cx="15264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18" name="Line 33"/>
              <p:cNvSpPr/>
              <p:nvPr/>
            </p:nvSpPr>
            <p:spPr>
              <a:xfrm>
                <a:off x="8077320" y="2514240"/>
                <a:ext cx="1522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19" name="Line 34"/>
              <p:cNvSpPr/>
              <p:nvPr/>
            </p:nvSpPr>
            <p:spPr>
              <a:xfrm>
                <a:off x="8229600" y="2666880"/>
                <a:ext cx="1522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Text Box 35"/>
          <p:cNvSpPr/>
          <p:nvPr/>
        </p:nvSpPr>
        <p:spPr>
          <a:xfrm>
            <a:off x="6267240" y="2424240"/>
            <a:ext cx="875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Customs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Officer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On LAN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21" name="Group 36"/>
          <p:cNvGrpSpPr/>
          <p:nvPr/>
        </p:nvGrpSpPr>
        <p:grpSpPr>
          <a:xfrm>
            <a:off x="402840" y="5438880"/>
            <a:ext cx="1372320" cy="1421280"/>
            <a:chOff x="402840" y="5438880"/>
            <a:chExt cx="1372320" cy="1421280"/>
          </a:xfrm>
        </p:grpSpPr>
        <p:pic>
          <p:nvPicPr>
            <p:cNvPr id="222" name="Picture 37" descr="j0195384"/>
            <p:cNvPicPr/>
            <p:nvPr/>
          </p:nvPicPr>
          <p:blipFill>
            <a:blip r:embed="rId4"/>
            <a:stretch/>
          </p:blipFill>
          <p:spPr>
            <a:xfrm>
              <a:off x="447840" y="5438880"/>
              <a:ext cx="9730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8" descr="j0195384"/>
            <p:cNvPicPr/>
            <p:nvPr/>
          </p:nvPicPr>
          <p:blipFill>
            <a:blip r:embed="rId5"/>
            <a:stretch/>
          </p:blipFill>
          <p:spPr>
            <a:xfrm>
              <a:off x="600120" y="5591160"/>
              <a:ext cx="9730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9" descr="j0195384"/>
            <p:cNvPicPr/>
            <p:nvPr/>
          </p:nvPicPr>
          <p:blipFill>
            <a:blip r:embed="rId6"/>
            <a:stretch/>
          </p:blipFill>
          <p:spPr>
            <a:xfrm>
              <a:off x="752400" y="5743800"/>
              <a:ext cx="9730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40"/>
            <p:cNvSpPr/>
            <p:nvPr/>
          </p:nvSpPr>
          <p:spPr>
            <a:xfrm>
              <a:off x="402840" y="6354720"/>
              <a:ext cx="13723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Arial"/>
                </a:rPr>
                <a:t>Trade User</a:t>
              </a:r>
              <a:endParaRPr b="1" lang="en-US" sz="18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Files EDI messages</a:t>
              </a:r>
              <a:endParaRPr b="1" lang="en-US" sz="9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226" name="Line 41"/>
          <p:cNvSpPr/>
          <p:nvPr/>
        </p:nvSpPr>
        <p:spPr>
          <a:xfrm flipV="1">
            <a:off x="990720" y="464796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Text Box 42"/>
          <p:cNvSpPr/>
          <p:nvPr/>
        </p:nvSpPr>
        <p:spPr>
          <a:xfrm>
            <a:off x="536400" y="4876920"/>
            <a:ext cx="93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File upload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HTTP/ SMTP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computr2"/>
          <p:cNvSpPr/>
          <p:nvPr/>
        </p:nvSpPr>
        <p:spPr>
          <a:xfrm>
            <a:off x="590400" y="2362320"/>
            <a:ext cx="838440" cy="838080"/>
          </a:xfrm>
          <a:prstGeom prst="pie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Text Box 45"/>
          <p:cNvSpPr/>
          <p:nvPr/>
        </p:nvSpPr>
        <p:spPr>
          <a:xfrm>
            <a:off x="-5400" y="1859040"/>
            <a:ext cx="2049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Institutional User</a:t>
            </a:r>
            <a:endParaRPr b="1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EG. DGFT</a:t>
            </a:r>
            <a:endParaRPr b="1" lang="en-US" sz="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Line 46"/>
          <p:cNvSpPr/>
          <p:nvPr/>
        </p:nvSpPr>
        <p:spPr>
          <a:xfrm>
            <a:off x="1676520" y="4267080"/>
            <a:ext cx="83808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Text Box 47"/>
          <p:cNvSpPr/>
          <p:nvPr/>
        </p:nvSpPr>
        <p:spPr>
          <a:xfrm>
            <a:off x="1715040" y="4067280"/>
            <a:ext cx="764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Multiple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Protocols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Text Box 48"/>
          <p:cNvSpPr/>
          <p:nvPr/>
        </p:nvSpPr>
        <p:spPr>
          <a:xfrm>
            <a:off x="3900960" y="1279440"/>
            <a:ext cx="68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DB   link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SQL net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Line 49"/>
          <p:cNvSpPr/>
          <p:nvPr/>
        </p:nvSpPr>
        <p:spPr>
          <a:xfrm>
            <a:off x="3809880" y="148104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4" name="Text Box 50"/>
          <p:cNvSpPr/>
          <p:nvPr/>
        </p:nvSpPr>
        <p:spPr>
          <a:xfrm>
            <a:off x="4573080" y="4600440"/>
            <a:ext cx="1671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MES</a:t>
            </a:r>
            <a:endParaRPr b="1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Message Exchange with 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Banks &amp; Custodians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Text Box 51"/>
          <p:cNvSpPr/>
          <p:nvPr/>
        </p:nvSpPr>
        <p:spPr>
          <a:xfrm>
            <a:off x="3886200" y="6505560"/>
            <a:ext cx="284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Banks         Ports</a:t>
            </a:r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6" name="Text Box 52"/>
          <p:cNvSpPr/>
          <p:nvPr/>
        </p:nvSpPr>
        <p:spPr>
          <a:xfrm>
            <a:off x="5283000" y="5257800"/>
            <a:ext cx="74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FTP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over LAN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Line 53"/>
          <p:cNvSpPr/>
          <p:nvPr/>
        </p:nvSpPr>
        <p:spPr>
          <a:xfrm>
            <a:off x="5349960" y="5181480"/>
            <a:ext cx="0" cy="5335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8" name="Line 54"/>
          <p:cNvSpPr/>
          <p:nvPr/>
        </p:nvSpPr>
        <p:spPr>
          <a:xfrm flipV="1">
            <a:off x="990720" y="327636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modem"/>
          <p:cNvSpPr/>
          <p:nvPr/>
        </p:nvSpPr>
        <p:spPr>
          <a:xfrm>
            <a:off x="6629400" y="3581280"/>
            <a:ext cx="838080" cy="304920"/>
          </a:xfrm>
          <a:prstGeom prst="pie">
            <a:avLst/>
          </a:prstGeom>
          <a:solidFill>
            <a:srgbClr val="ffff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Line 56"/>
          <p:cNvSpPr/>
          <p:nvPr/>
        </p:nvSpPr>
        <p:spPr>
          <a:xfrm>
            <a:off x="6172200" y="3124080"/>
            <a:ext cx="380880" cy="3812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Text Box 57"/>
          <p:cNvSpPr/>
          <p:nvPr/>
        </p:nvSpPr>
        <p:spPr>
          <a:xfrm>
            <a:off x="6334200" y="3860640"/>
            <a:ext cx="1595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Service Centre</a:t>
            </a:r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cc66"/>
                </a:solidFill>
                <a:latin typeface="Arial"/>
              </a:rPr>
              <a:t>Server for hosting the Application</a:t>
            </a:r>
            <a:endParaRPr b="1" lang="en-US" sz="7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tower"/>
          <p:cNvSpPr/>
          <p:nvPr/>
        </p:nvSpPr>
        <p:spPr>
          <a:xfrm>
            <a:off x="7772400" y="1066680"/>
            <a:ext cx="533520" cy="685800"/>
          </a:xfrm>
          <a:prstGeom prst="pie">
            <a:avLst/>
          </a:prstGeom>
          <a:solidFill>
            <a:srgbClr val="ffff66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59" descr="j0283209"/>
          <p:cNvPicPr/>
          <p:nvPr/>
        </p:nvPicPr>
        <p:blipFill>
          <a:blip r:embed="rId7"/>
          <a:stretch/>
        </p:blipFill>
        <p:spPr>
          <a:xfrm>
            <a:off x="4495680" y="571500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0" descr="j0300520"/>
          <p:cNvPicPr/>
          <p:nvPr/>
        </p:nvPicPr>
        <p:blipFill>
          <a:blip r:embed="rId8"/>
          <a:stretch/>
        </p:blipFill>
        <p:spPr>
          <a:xfrm>
            <a:off x="5448240" y="5715000"/>
            <a:ext cx="723960" cy="838080"/>
          </a:xfrm>
          <a:prstGeom prst="rect">
            <a:avLst/>
          </a:prstGeom>
          <a:ln w="0">
            <a:noFill/>
          </a:ln>
        </p:spPr>
      </p:pic>
      <p:sp>
        <p:nvSpPr>
          <p:cNvPr id="245" name="Cloud"/>
          <p:cNvSpPr/>
          <p:nvPr/>
        </p:nvSpPr>
        <p:spPr>
          <a:xfrm>
            <a:off x="3733920" y="3962520"/>
            <a:ext cx="990360" cy="380880"/>
          </a:xfrm>
          <a:prstGeom prst="pie">
            <a:avLst/>
          </a:prstGeom>
          <a:solidFill>
            <a:srgbClr val="f4e0e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ICENET</a:t>
            </a:r>
            <a:endParaRPr b="1" lang="en-US" sz="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Cloud"/>
          <p:cNvSpPr/>
          <p:nvPr/>
        </p:nvSpPr>
        <p:spPr>
          <a:xfrm>
            <a:off x="3809880" y="2290680"/>
            <a:ext cx="990720" cy="381240"/>
          </a:xfrm>
          <a:prstGeom prst="pie">
            <a:avLst/>
          </a:prstGeom>
          <a:solidFill>
            <a:srgbClr val="f4e0e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ICENET</a:t>
            </a:r>
            <a:endParaRPr b="1" lang="en-US" sz="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Cloud"/>
          <p:cNvSpPr/>
          <p:nvPr/>
        </p:nvSpPr>
        <p:spPr>
          <a:xfrm>
            <a:off x="3857760" y="733320"/>
            <a:ext cx="942840" cy="381240"/>
          </a:xfrm>
          <a:prstGeom prst="pie">
            <a:avLst/>
          </a:prstGeom>
          <a:solidFill>
            <a:srgbClr val="f4e0e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ICENET</a:t>
            </a:r>
            <a:endParaRPr b="1" lang="en-US" sz="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Line 64"/>
          <p:cNvSpPr/>
          <p:nvPr/>
        </p:nvSpPr>
        <p:spPr>
          <a:xfrm flipV="1">
            <a:off x="5943600" y="1600200"/>
            <a:ext cx="1828800" cy="9907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Rectangle 65"/>
          <p:cNvSpPr/>
          <p:nvPr/>
        </p:nvSpPr>
        <p:spPr>
          <a:xfrm>
            <a:off x="6324480" y="763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ustom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5340600" y="20574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FTP over LAN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1" name="Text Box 44"/>
          <p:cNvSpPr/>
          <p:nvPr/>
        </p:nvSpPr>
        <p:spPr>
          <a:xfrm>
            <a:off x="644760" y="3489480"/>
            <a:ext cx="4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FTP</a:t>
            </a:r>
            <a:endParaRPr b="1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Directorate General of Foreign Trad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53" name="Object 2"/>
          <p:cNvGraphicFramePr/>
          <p:nvPr/>
        </p:nvGraphicFramePr>
        <p:xfrm>
          <a:off x="762120" y="1905120"/>
          <a:ext cx="6705360" cy="484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670536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4025-25C9-411B-BFE0-50AC7EE680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Sea Por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6702-23EA-467B-94F6-8B5ABBCD85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5" descr="pcsarchitecture"/>
          <p:cNvPicPr/>
          <p:nvPr/>
        </p:nvPicPr>
        <p:blipFill>
          <a:blip r:embed="rId1"/>
          <a:stretch/>
        </p:blipFill>
        <p:spPr>
          <a:xfrm>
            <a:off x="457200" y="2057400"/>
            <a:ext cx="674388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ONCO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60" name="Object 18"/>
          <p:cNvGraphicFramePr/>
          <p:nvPr/>
        </p:nvGraphicFramePr>
        <p:xfrm>
          <a:off x="457200" y="2133720"/>
          <a:ext cx="399960" cy="59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3999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17"/>
          <p:cNvGraphicFramePr/>
          <p:nvPr/>
        </p:nvGraphicFramePr>
        <p:xfrm>
          <a:off x="914400" y="2133720"/>
          <a:ext cx="39996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133720"/>
                    <a:ext cx="3999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16"/>
          <p:cNvGraphicFramePr/>
          <p:nvPr/>
        </p:nvGraphicFramePr>
        <p:xfrm>
          <a:off x="6477120" y="2209680"/>
          <a:ext cx="91440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2209680"/>
                    <a:ext cx="9144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10"/>
          <p:cNvGraphicFramePr/>
          <p:nvPr/>
        </p:nvGraphicFramePr>
        <p:xfrm>
          <a:off x="2895480" y="2971800"/>
          <a:ext cx="1990800" cy="13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2971800"/>
                    <a:ext cx="199080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7"/>
          <p:cNvGraphicFramePr/>
          <p:nvPr/>
        </p:nvGraphicFramePr>
        <p:xfrm>
          <a:off x="2133720" y="4495680"/>
          <a:ext cx="647640" cy="105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4495680"/>
                    <a:ext cx="6476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5"/>
          <p:cNvGraphicFramePr/>
          <p:nvPr/>
        </p:nvGraphicFramePr>
        <p:xfrm>
          <a:off x="1428840" y="5715000"/>
          <a:ext cx="399960" cy="590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1" name="Object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28840" y="5715000"/>
                    <a:ext cx="3999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4"/>
          <p:cNvGraphicFramePr/>
          <p:nvPr/>
        </p:nvGraphicFramePr>
        <p:xfrm>
          <a:off x="5791320" y="5638680"/>
          <a:ext cx="399960" cy="590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1320" y="5638680"/>
                    <a:ext cx="39996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20"/>
          <p:cNvSpPr/>
          <p:nvPr/>
        </p:nvSpPr>
        <p:spPr>
          <a:xfrm>
            <a:off x="2362320" y="2590920"/>
            <a:ext cx="331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5" name="Line 21"/>
          <p:cNvSpPr/>
          <p:nvPr/>
        </p:nvSpPr>
        <p:spPr>
          <a:xfrm flipH="1">
            <a:off x="5257800" y="297180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6" name="Line 13"/>
          <p:cNvSpPr/>
          <p:nvPr/>
        </p:nvSpPr>
        <p:spPr>
          <a:xfrm>
            <a:off x="6324480" y="3444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553080" y="35053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-Token</a:t>
            </a:r>
            <a:endParaRPr b="1" lang="en-US" sz="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1905120" y="6019920"/>
            <a:ext cx="377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5981760" y="379872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6553080" y="3679920"/>
            <a:ext cx="1028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Digital Certificate</a:t>
            </a:r>
            <a:endParaRPr b="1" lang="en-US" sz="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Line 9"/>
          <p:cNvSpPr/>
          <p:nvPr/>
        </p:nvSpPr>
        <p:spPr>
          <a:xfrm flipH="1">
            <a:off x="2895120" y="4495680"/>
            <a:ext cx="72396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" name="Line 8"/>
          <p:cNvSpPr/>
          <p:nvPr/>
        </p:nvSpPr>
        <p:spPr>
          <a:xfrm flipH="1">
            <a:off x="160020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Line 15"/>
          <p:cNvSpPr/>
          <p:nvPr/>
        </p:nvSpPr>
        <p:spPr>
          <a:xfrm>
            <a:off x="1219320" y="2895480"/>
            <a:ext cx="152388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Rectangle 22"/>
          <p:cNvSpPr/>
          <p:nvPr/>
        </p:nvSpPr>
        <p:spPr>
          <a:xfrm>
            <a:off x="6705720" y="1346400"/>
            <a:ext cx="137160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lient Pc’s</a:t>
            </a:r>
            <a:endParaRPr b="1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Rectangle 2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Rectangle 24"/>
          <p:cNvSpPr/>
          <p:nvPr/>
        </p:nvSpPr>
        <p:spPr>
          <a:xfrm>
            <a:off x="2843280" y="2853000"/>
            <a:ext cx="34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3090960" y="3556800"/>
            <a:ext cx="2962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1" lang="en-US" sz="9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Rectangle 29"/>
          <p:cNvSpPr/>
          <p:nvPr/>
        </p:nvSpPr>
        <p:spPr>
          <a:xfrm>
            <a:off x="3738600" y="524376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Rectangle 30"/>
          <p:cNvSpPr/>
          <p:nvPr/>
        </p:nvSpPr>
        <p:spPr>
          <a:xfrm>
            <a:off x="2957400" y="4969800"/>
            <a:ext cx="32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0" name="Rectangle 31"/>
          <p:cNvSpPr/>
          <p:nvPr/>
        </p:nvSpPr>
        <p:spPr>
          <a:xfrm>
            <a:off x="3834000" y="52437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1" name="Rectangle 32"/>
          <p:cNvSpPr/>
          <p:nvPr/>
        </p:nvSpPr>
        <p:spPr>
          <a:xfrm>
            <a:off x="4805640" y="4769640"/>
            <a:ext cx="242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Firewall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Rectangle 33"/>
          <p:cNvSpPr/>
          <p:nvPr/>
        </p:nvSpPr>
        <p:spPr>
          <a:xfrm>
            <a:off x="4424400" y="6758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Rectangle 34"/>
          <p:cNvSpPr/>
          <p:nvPr/>
        </p:nvSpPr>
        <p:spPr>
          <a:xfrm>
            <a:off x="2538360" y="7348680"/>
            <a:ext cx="40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4" name="Rectangle 35"/>
          <p:cNvSpPr/>
          <p:nvPr/>
        </p:nvSpPr>
        <p:spPr>
          <a:xfrm>
            <a:off x="1295280" y="6234840"/>
            <a:ext cx="586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ONCOR                                                                                             CONCOR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Web Server                                                                                    Database Server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5" name="Rectangle 34"/>
          <p:cNvSpPr/>
          <p:nvPr/>
        </p:nvSpPr>
        <p:spPr>
          <a:xfrm>
            <a:off x="0" y="2895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Bank Server’s</a:t>
            </a:r>
            <a:endParaRPr b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96" name="Object 36"/>
          <p:cNvGraphicFramePr/>
          <p:nvPr/>
        </p:nvGraphicFramePr>
        <p:xfrm>
          <a:off x="1523880" y="2133720"/>
          <a:ext cx="400320" cy="590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7" name="Object 3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3880" y="2133720"/>
                    <a:ext cx="4003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371600" y="68580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57200" y="2362320"/>
            <a:ext cx="8381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55000"/>
              </a:lnSpc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roduction</a:t>
            </a: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 eTrade Initiatives</a:t>
            </a: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 eTrade - The Project</a:t>
            </a: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 Use of UN/CEFACT Standards</a:t>
            </a: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514440" indent="-51444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 Achievements and Task Ahead</a:t>
            </a: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E3C6-75FD-4651-8036-7B1A39E556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04920" y="6858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Airpor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914400" y="1962000"/>
          <a:ext cx="6248520" cy="468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62000"/>
                    <a:ext cx="62485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FC8D-8819-4327-B0A7-01C0596F7F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6477120" y="6095880"/>
            <a:ext cx="152280" cy="524160"/>
          </a:xfrm>
          <a:prstGeom prst="rect">
            <a:avLst/>
          </a:prstGeom>
          <a:solidFill>
            <a:srgbClr val="2b0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Bank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5" name="Object 18"/>
          <p:cNvGraphicFramePr/>
          <p:nvPr/>
        </p:nvGraphicFramePr>
        <p:xfrm>
          <a:off x="457200" y="2666880"/>
          <a:ext cx="399960" cy="5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6880"/>
                    <a:ext cx="39996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17"/>
          <p:cNvGraphicFramePr/>
          <p:nvPr/>
        </p:nvGraphicFramePr>
        <p:xfrm>
          <a:off x="1047600" y="2666880"/>
          <a:ext cx="400320" cy="5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7600" y="2666880"/>
                    <a:ext cx="4003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16"/>
          <p:cNvGraphicFramePr/>
          <p:nvPr/>
        </p:nvGraphicFramePr>
        <p:xfrm>
          <a:off x="6477120" y="2809800"/>
          <a:ext cx="91440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2809800"/>
                    <a:ext cx="9144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10"/>
          <p:cNvGraphicFramePr/>
          <p:nvPr/>
        </p:nvGraphicFramePr>
        <p:xfrm>
          <a:off x="2895480" y="3805200"/>
          <a:ext cx="1752840" cy="122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3805200"/>
                    <a:ext cx="17528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5"/>
          <p:cNvGraphicFramePr/>
          <p:nvPr/>
        </p:nvGraphicFramePr>
        <p:xfrm>
          <a:off x="914400" y="6248520"/>
          <a:ext cx="68580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4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6248520"/>
                    <a:ext cx="685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Line 21"/>
          <p:cNvSpPr/>
          <p:nvPr/>
        </p:nvSpPr>
        <p:spPr>
          <a:xfrm flipH="1">
            <a:off x="5029200" y="335268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 flipH="1">
            <a:off x="1599840" y="510552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Line 15"/>
          <p:cNvSpPr/>
          <p:nvPr/>
        </p:nvSpPr>
        <p:spPr>
          <a:xfrm>
            <a:off x="914400" y="35053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6019920" y="2690280"/>
            <a:ext cx="2438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xporters/Importers/agents</a:t>
            </a:r>
            <a:endParaRPr b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0" name="Rectangle 24"/>
          <p:cNvSpPr/>
          <p:nvPr/>
        </p:nvSpPr>
        <p:spPr>
          <a:xfrm>
            <a:off x="2843280" y="2853000"/>
            <a:ext cx="34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1" name="Rectangle 28"/>
          <p:cNvSpPr/>
          <p:nvPr/>
        </p:nvSpPr>
        <p:spPr>
          <a:xfrm>
            <a:off x="3090960" y="3556800"/>
            <a:ext cx="2962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1" lang="en-US" sz="9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2" name="Rectangle 29"/>
          <p:cNvSpPr/>
          <p:nvPr/>
        </p:nvSpPr>
        <p:spPr>
          <a:xfrm>
            <a:off x="3738600" y="524376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Rectangle 30"/>
          <p:cNvSpPr/>
          <p:nvPr/>
        </p:nvSpPr>
        <p:spPr>
          <a:xfrm>
            <a:off x="2957400" y="4969800"/>
            <a:ext cx="32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4" name="Rectangle 31"/>
          <p:cNvSpPr/>
          <p:nvPr/>
        </p:nvSpPr>
        <p:spPr>
          <a:xfrm>
            <a:off x="3834000" y="52437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5" name="Rectangle 33"/>
          <p:cNvSpPr/>
          <p:nvPr/>
        </p:nvSpPr>
        <p:spPr>
          <a:xfrm>
            <a:off x="4424400" y="6758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2538360" y="7348680"/>
            <a:ext cx="40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7" name="Rectangle 34"/>
          <p:cNvSpPr/>
          <p:nvPr/>
        </p:nvSpPr>
        <p:spPr>
          <a:xfrm>
            <a:off x="2362320" y="609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RBI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28" name="Object 36"/>
          <p:cNvGraphicFramePr/>
          <p:nvPr/>
        </p:nvGraphicFramePr>
        <p:xfrm>
          <a:off x="3486240" y="2666880"/>
          <a:ext cx="399960" cy="590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9" name="Object 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86240" y="2666880"/>
                    <a:ext cx="39996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Slide Number Placeholder 3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0C8A-FDB5-443A-9F2F-881C2960FDA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838080" y="62769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c9d"/>
                </a:solidFill>
                <a:latin typeface="Times New Roman"/>
              </a:rPr>
              <a:t>Customs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2" name="Picture 38" descr=""/>
          <p:cNvPicPr/>
          <p:nvPr/>
        </p:nvPicPr>
        <p:blipFill>
          <a:blip r:embed="rId13"/>
          <a:stretch/>
        </p:blipFill>
        <p:spPr>
          <a:xfrm>
            <a:off x="2057400" y="6248520"/>
            <a:ext cx="685800" cy="380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0" descr=""/>
          <p:cNvPicPr/>
          <p:nvPr/>
        </p:nvPicPr>
        <p:blipFill>
          <a:blip r:embed="rId14"/>
          <a:stretch/>
        </p:blipFill>
        <p:spPr>
          <a:xfrm>
            <a:off x="3200400" y="6248520"/>
            <a:ext cx="838080" cy="380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2" descr=""/>
          <p:cNvPicPr/>
          <p:nvPr/>
        </p:nvPicPr>
        <p:blipFill>
          <a:blip r:embed="rId15"/>
          <a:stretch/>
        </p:blipFill>
        <p:spPr>
          <a:xfrm>
            <a:off x="4495680" y="6248520"/>
            <a:ext cx="685800" cy="380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4" descr=""/>
          <p:cNvPicPr/>
          <p:nvPr/>
        </p:nvPicPr>
        <p:blipFill>
          <a:blip r:embed="rId16"/>
          <a:stretch/>
        </p:blipFill>
        <p:spPr>
          <a:xfrm>
            <a:off x="5638680" y="6172200"/>
            <a:ext cx="685800" cy="3808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39"/>
          <p:cNvSpPr/>
          <p:nvPr/>
        </p:nvSpPr>
        <p:spPr>
          <a:xfrm>
            <a:off x="4575960" y="627696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c9d"/>
                </a:solidFill>
                <a:latin typeface="Times New Roman"/>
              </a:rPr>
              <a:t>Ports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3205080" y="627696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c9d"/>
                </a:solidFill>
                <a:latin typeface="Times New Roman"/>
              </a:rPr>
              <a:t>CONCOR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2061360" y="627696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c9d"/>
                </a:solidFill>
                <a:latin typeface="Times New Roman"/>
              </a:rPr>
              <a:t>DGFT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5644080" y="62006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c9d"/>
                </a:solidFill>
                <a:latin typeface="Times New Roman"/>
              </a:rPr>
              <a:t>Airports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 flipH="1">
            <a:off x="2285640" y="518148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1" name="Line 8"/>
          <p:cNvSpPr/>
          <p:nvPr/>
        </p:nvSpPr>
        <p:spPr>
          <a:xfrm flipH="1">
            <a:off x="3733920" y="5181480"/>
            <a:ext cx="460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4419720" y="51814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Line 8"/>
          <p:cNvSpPr/>
          <p:nvPr/>
        </p:nvSpPr>
        <p:spPr>
          <a:xfrm>
            <a:off x="5029200" y="5105520"/>
            <a:ext cx="83808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Line 15"/>
          <p:cNvSpPr/>
          <p:nvPr/>
        </p:nvSpPr>
        <p:spPr>
          <a:xfrm>
            <a:off x="1219320" y="33526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5" name="Line 8"/>
          <p:cNvSpPr/>
          <p:nvPr/>
        </p:nvSpPr>
        <p:spPr>
          <a:xfrm>
            <a:off x="3581280" y="3352680"/>
            <a:ext cx="460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Rectangle 34"/>
          <p:cNvSpPr/>
          <p:nvPr/>
        </p:nvSpPr>
        <p:spPr>
          <a:xfrm>
            <a:off x="762120" y="23144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Bank B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Rectangle 34"/>
          <p:cNvSpPr/>
          <p:nvPr/>
        </p:nvSpPr>
        <p:spPr>
          <a:xfrm>
            <a:off x="3352680" y="23144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Bank N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TextBox 51"/>
          <p:cNvSpPr/>
          <p:nvPr/>
        </p:nvSpPr>
        <p:spPr>
          <a:xfrm>
            <a:off x="1755000" y="26766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e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9" name="TextBox 52"/>
          <p:cNvSpPr/>
          <p:nvPr/>
        </p:nvSpPr>
        <p:spPr>
          <a:xfrm>
            <a:off x="1602720" y="266688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e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TextBox 53"/>
          <p:cNvSpPr/>
          <p:nvPr/>
        </p:nvSpPr>
        <p:spPr>
          <a:xfrm>
            <a:off x="1937520" y="26766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e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TextBox 55"/>
          <p:cNvSpPr/>
          <p:nvPr/>
        </p:nvSpPr>
        <p:spPr>
          <a:xfrm>
            <a:off x="2136240" y="26766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e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52" name="Picture 38" descr=""/>
          <p:cNvPicPr/>
          <p:nvPr/>
        </p:nvPicPr>
        <p:blipFill>
          <a:blip r:embed="rId17"/>
          <a:stretch/>
        </p:blipFill>
        <p:spPr>
          <a:xfrm>
            <a:off x="1676520" y="149868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58"/>
          <p:cNvSpPr/>
          <p:nvPr/>
        </p:nvSpPr>
        <p:spPr>
          <a:xfrm>
            <a:off x="1730520" y="15955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b0045"/>
                </a:solidFill>
                <a:latin typeface="Times New Roman"/>
              </a:rPr>
              <a:t>RTGS</a:t>
            </a:r>
            <a:endParaRPr b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Line 8"/>
          <p:cNvSpPr/>
          <p:nvPr/>
        </p:nvSpPr>
        <p:spPr>
          <a:xfrm flipH="1">
            <a:off x="761760" y="19810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2743200" y="1828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6" name="Line 8"/>
          <p:cNvSpPr/>
          <p:nvPr/>
        </p:nvSpPr>
        <p:spPr>
          <a:xfrm flipH="1">
            <a:off x="1295280" y="2209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2133720" y="1066680"/>
            <a:ext cx="4608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58" name="Object 47"/>
          <p:cNvGraphicFramePr/>
          <p:nvPr/>
        </p:nvGraphicFramePr>
        <p:xfrm>
          <a:off x="1905120" y="457200"/>
          <a:ext cx="399960" cy="590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59" name="Object 4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905120" y="457200"/>
                    <a:ext cx="3999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Rectangle 34"/>
          <p:cNvSpPr/>
          <p:nvPr/>
        </p:nvSpPr>
        <p:spPr>
          <a:xfrm>
            <a:off x="152280" y="2362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Bank A</a:t>
            </a:r>
            <a:endParaRPr b="1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22860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4.  Use of UN/CEFACT Standar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Slide Number Placeholder 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6F6E-CB6E-45D6-A6D5-0CA706FB75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10666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80880" y="0"/>
            <a:ext cx="792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0" y="1752480"/>
            <a:ext cx="9144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 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1988 : Adoption of Aligned Documentation System based o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UN Layout key in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1991 : SW for pre-shipment export documents based on UN Layout key.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The migration to United Nations Electronic Trade 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Documents.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8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9BDD-1B88-424A-B675-9DAF13CAAC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6 : EDIFACT declared as national standard for ED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ssage development groups constituted for Customs, Ports, Airports, Banking and Private sec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5 : Establishment of Article Numbering &amp; Bar Coding Institution (GS1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8 : SubCommittee on UN/LOCODE constitut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2795-B469-4A46-9815-0E3EA2A331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904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5. Achievements and Task Ahea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A719-28B2-45EF-9BE7-B35C2DD214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10666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80880" y="0"/>
            <a:ext cx="792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0" y="1752480"/>
            <a:ext cx="9144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Uniformity and simplification of procedures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Re-engineered inter agency interfaces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Standards integration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00cc"/>
                </a:solidFill>
                <a:uFillTx/>
                <a:latin typeface="Times New Roman"/>
                <a:ea typeface="Arial"/>
                <a:hlinkClick r:id="rId1" action="ppaction://hlinksldjump"/>
              </a:rPr>
              <a:t> </a:t>
            </a:r>
            <a:r>
              <a:rPr b="0" lang="en-GB" sz="2800" spc="-1" strike="noStrike" u="sng">
                <a:solidFill>
                  <a:srgbClr val="cc00cc"/>
                </a:solidFill>
                <a:uFillTx/>
                <a:latin typeface="Times New Roman"/>
                <a:ea typeface="Arial"/>
                <a:hlinkClick r:id="rId2" action="ppaction://hlinksldjump"/>
              </a:rPr>
              <a:t>Integration of eTrade community through a portal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Significant reduction in transaction time of services like  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license application is disposed in 6 hrs. as compare to 45 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days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Reduction and early detection of frauds</a:t>
            </a: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5.1 Achiev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9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A8FD-CB38-41C0-9C5E-11C56AD567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pensation of manual system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aller locations to be cover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oss border paperless trading to be incorporat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ectronic certificate of origin projec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ustoms decla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Rectangle 5122"/>
          <p:cNvSpPr/>
          <p:nvPr/>
        </p:nvSpPr>
        <p:spPr>
          <a:xfrm>
            <a:off x="5013000" y="993960"/>
            <a:ext cx="3441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5.2 Task Ahead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E2E4-8770-400C-8603-CEAC5B8619A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reeform 4"/>
          <p:cNvSpPr/>
          <p:nvPr/>
        </p:nvSpPr>
        <p:spPr>
          <a:xfrm>
            <a:off x="1041480" y="1913040"/>
            <a:ext cx="974520" cy="3294000"/>
          </a:xfrm>
          <a:prstGeom prst="pie">
            <a:avLst/>
          </a:prstGeom>
          <a:solidFill>
            <a:srgbClr val="c7d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4" name="Freeform 5"/>
          <p:cNvSpPr/>
          <p:nvPr/>
        </p:nvSpPr>
        <p:spPr>
          <a:xfrm>
            <a:off x="2071800" y="1752480"/>
            <a:ext cx="855720" cy="3454560"/>
          </a:xfrm>
          <a:prstGeom prst="pie">
            <a:avLst/>
          </a:prstGeom>
          <a:solidFill>
            <a:srgbClr val="c7d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5" name="Freeform 6"/>
          <p:cNvSpPr/>
          <p:nvPr/>
        </p:nvSpPr>
        <p:spPr>
          <a:xfrm>
            <a:off x="3000240" y="2916360"/>
            <a:ext cx="712800" cy="2336760"/>
          </a:xfrm>
          <a:prstGeom prst="pie">
            <a:avLst/>
          </a:prstGeom>
          <a:solidFill>
            <a:srgbClr val="c7d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6" name="Freeform 7"/>
          <p:cNvSpPr/>
          <p:nvPr/>
        </p:nvSpPr>
        <p:spPr>
          <a:xfrm>
            <a:off x="3727440" y="2916360"/>
            <a:ext cx="858960" cy="2290680"/>
          </a:xfrm>
          <a:prstGeom prst="pie">
            <a:avLst/>
          </a:prstGeom>
          <a:solidFill>
            <a:srgbClr val="c7d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7" name="Freeform 8"/>
          <p:cNvSpPr/>
          <p:nvPr/>
        </p:nvSpPr>
        <p:spPr>
          <a:xfrm>
            <a:off x="4608360" y="1752480"/>
            <a:ext cx="874800" cy="3454560"/>
          </a:xfrm>
          <a:prstGeom prst="pie">
            <a:avLst/>
          </a:prstGeom>
          <a:solidFill>
            <a:srgbClr val="c7d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8" name="Freeform 9"/>
          <p:cNvSpPr/>
          <p:nvPr/>
        </p:nvSpPr>
        <p:spPr>
          <a:xfrm>
            <a:off x="5927760" y="1913040"/>
            <a:ext cx="1225440" cy="3294000"/>
          </a:xfrm>
          <a:prstGeom prst="pie">
            <a:avLst/>
          </a:prstGeom>
          <a:solidFill>
            <a:srgbClr val="c7d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9" name="Freeform 10"/>
          <p:cNvSpPr/>
          <p:nvPr/>
        </p:nvSpPr>
        <p:spPr>
          <a:xfrm>
            <a:off x="7062840" y="2916360"/>
            <a:ext cx="757080" cy="2357280"/>
          </a:xfrm>
          <a:prstGeom prst="pie">
            <a:avLst/>
          </a:prstGeom>
          <a:solidFill>
            <a:srgbClr val="c7d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0" name="Freeform 11"/>
          <p:cNvSpPr/>
          <p:nvPr/>
        </p:nvSpPr>
        <p:spPr>
          <a:xfrm>
            <a:off x="7881840" y="2981160"/>
            <a:ext cx="873360" cy="2292480"/>
          </a:xfrm>
          <a:prstGeom prst="pie">
            <a:avLst/>
          </a:prstGeom>
          <a:solidFill>
            <a:srgbClr val="c7d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1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EB81-9390-4A55-BE77-4DBD9FCFBB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39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001000" cy="600048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41">
            <a:hlinkClick r:id="rId2" action="ppaction://hlinksldjump"/>
          </p:cNvPr>
          <p:cNvSpPr/>
          <p:nvPr/>
        </p:nvSpPr>
        <p:spPr>
          <a:xfrm>
            <a:off x="8381880" y="6019920"/>
            <a:ext cx="533520" cy="5792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79240"/>
              <a:gd name="textAreaBottom" fmla="*/ 544680 h 579240"/>
            </a:gdLst>
            <a:ahLst/>
            <a:rect l="textAreaLeft" t="textAreaTop" r="textAreaRight" b="textAreaBottom"/>
            <a:pathLst>
              <a:path w="21600" h="23450">
                <a:moveTo>
                  <a:pt x="0" y="0"/>
                </a:moveTo>
                <a:lnTo>
                  <a:pt x="21600" y="0"/>
                </a:lnTo>
                <a:lnTo>
                  <a:pt x="21600" y="23450"/>
                </a:lnTo>
                <a:lnTo>
                  <a:pt x="0" y="23450"/>
                </a:lnTo>
                <a:close/>
              </a:path>
              <a:path fill="lightenLess" w="21600" h="234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50">
                <a:moveTo>
                  <a:pt x="21600" y="0"/>
                </a:moveTo>
                <a:lnTo>
                  <a:pt x="21600" y="23450"/>
                </a:lnTo>
                <a:lnTo>
                  <a:pt x="20200" y="22050"/>
                </a:lnTo>
                <a:lnTo>
                  <a:pt x="20200" y="1400"/>
                </a:lnTo>
                <a:close/>
              </a:path>
              <a:path fill="darkenLess" w="21600" h="23450">
                <a:moveTo>
                  <a:pt x="21600" y="23450"/>
                </a:moveTo>
                <a:lnTo>
                  <a:pt x="0" y="23450"/>
                </a:lnTo>
                <a:lnTo>
                  <a:pt x="1400" y="22050"/>
                </a:lnTo>
                <a:lnTo>
                  <a:pt x="20200" y="22050"/>
                </a:lnTo>
                <a:close/>
              </a:path>
              <a:path fill="lighten" w="21600" h="23450">
                <a:moveTo>
                  <a:pt x="0" y="234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50"/>
                </a:lnTo>
                <a:close/>
              </a:path>
              <a:path fill="darken" w="21600" h="23450">
                <a:moveTo>
                  <a:pt x="3794" y="11725"/>
                </a:moveTo>
                <a:lnTo>
                  <a:pt x="17806" y="4718"/>
                </a:lnTo>
                <a:lnTo>
                  <a:pt x="17806" y="18731"/>
                </a:lnTo>
                <a:close/>
              </a:path>
            </a:pathLst>
          </a:custGeom>
          <a:solidFill>
            <a:srgbClr val="ffffcc"/>
          </a:solidFill>
          <a:ln w="6480">
            <a:solidFill>
              <a:srgbClr val="993366"/>
            </a:solidFill>
            <a:miter/>
          </a:ln>
          <a:effectLst>
            <a:outerShdw dist="71785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C15A-BCB1-4DB3-A751-F1E4498CA9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1. Introduction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21C8-FBD2-402F-842D-A52570413E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1.1 Department of Commerc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als with the country’s external trade and all matters connected with i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s policies in the sphere of foreign tra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orts of merchandise good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1995-96) - $31.8   bill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2007-08) - $159    bill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9845-1DD7-4D0B-BD44-FDBD9D779C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1.2 Need for Paperless Trad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stantial progress on policy fro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cus required on streamlining and standardisation of procedu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rge number of agencies involved in clearances for international tra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rease in exports to eTrade enabled countries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2C19-9394-4C6A-B071-F4C626C9D3A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1.3 Challeng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ltiple entry/exit points and complex management iss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mbersome proced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ormous docum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ed for extensive process re-enginee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 stages of auto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. Contd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2ACA-A54E-4AD1-976A-A589198293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halleng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 priorities of organis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ck of awareness on eTra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 participation in community syst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option of standa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E74D-BC0B-4A25-BFA0-2A6780D77C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0574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2.  eTrade Initiative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Slide Number Placeholder 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AD3B-BED6-42B5-A151-CB97E52D9C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81FB-C00D-4EB2-88C1-E0868974BE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Rectangle 102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Rectangle 102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Rectangle 10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On 14 June 2000: Minimum agenda for e-Governance develop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OI approves the National E-Governance Action Plan for implementation during the year 2003-200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ssion Mode Project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t the center, state and integrated service levels to create a citizen-centric and business-centric environment for governance includ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... Contd.</a:t>
            </a:r>
            <a:br>
              <a:rPr sz="2800"/>
            </a:b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Rectangle 1031"/>
          <p:cNvSpPr/>
          <p:nvPr/>
        </p:nvSpPr>
        <p:spPr>
          <a:xfrm>
            <a:off x="76212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2.1 eGovernance Initiative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3T10:41:46Z</dcterms:created>
  <dc:creator>R. K. Arora</dc:creator>
  <dc:description/>
  <dc:language>en-US</dc:language>
  <cp:lastModifiedBy>CSD</cp:lastModifiedBy>
  <cp:lastPrinted>2006-09-30T16:09:06Z</cp:lastPrinted>
  <dcterms:modified xsi:type="dcterms:W3CDTF">2008-09-16T12:40:28Z</dcterms:modified>
  <cp:revision>913</cp:revision>
  <dc:subject/>
  <dc:title>presentation for export promotion board</dc:title>
</cp:coreProperties>
</file>