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7.png" ContentType="image/png"/>
  <Override PartName="/ppt/media/image11.wmf" ContentType="image/x-wmf"/>
  <Override PartName="/ppt/media/image12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5.wmf" ContentType="image/x-wmf"/>
  <Override PartName="/ppt/media/image9.png" ContentType="image/png"/>
  <Override PartName="/ppt/media/image10.png" ContentType="image/png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90360" rIns="9036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F78B-07A4-420E-BE9E-4A96C41CE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02D7-B131-4E95-ACEE-7E2DD69B2C52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A30A-9BCF-4A3B-BA0A-433FA40CE0D5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388620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388620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3887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6967-5CA4-48BD-9EBB-98CE20E876A5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388620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388620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3887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4CD0-6134-4F2E-84F1-D4A16F70E7C7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978F-9D1A-40A8-92E3-E14B9FB71534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BC11-1548-408E-87F9-C0960ADD980A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1DEE-F7D0-442C-B283-9DC2C7B5ADE3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49BA-8964-4C6F-AFFC-B129F4C7D82C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8FE2-64ED-4D31-9B7C-98B71BC5138D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6AAB-DE54-4252-AF6D-8B9C5F4D4B71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8CA8-9C84-4E53-A7DF-F030D7683316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2550-3EEE-4D67-9BD4-8CAD0579FF5F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6B5F-C311-4E04-BB02-4F8B236093D6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5B25-FCB8-4ED2-97FB-7DD52C7653A2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C06C-0D6D-482A-A463-36AC3D4E8F6F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81C3-D601-47F9-B791-13B51ED48392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FFE8-2963-4E0C-9950-489BADBFE0B2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526A-B3A6-4302-BD82-E8A54BF6041B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1B7C-7F1C-4EC3-9C2C-D4AC38E784B4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A3B1-0BDA-42C4-96B4-5E54AF86D34A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A7FD-B352-451E-9AFE-6D30D155C682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E9DD-56C2-4B7F-8D47-9554BB11E4F7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CDC2-8319-4ABC-A476-39DFB41CC3F5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52EA-2E5F-4264-992F-72099640D179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5455-1D9A-4B87-B218-EDB15D3C2CF7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EAFD-61E6-411B-9BF1-727FF3ED017E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FB94-167D-42D2-864E-CC694AF7DF77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989F-C13F-4864-9D5D-B9EE959E8221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E21B-FF40-42ED-B1E6-4FB9A614CDB4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388620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388620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3887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6FC-5F89-4CF0-9547-6610EEF6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BAC-E83C-4289-BFA5-9D286BC2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E9B-478C-4542-848B-8BE2759C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FDE-B90E-4AB3-BE4A-E8CE3446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3E75-149F-47EF-845B-9AD4967F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3212-D63C-45CB-BFA5-DE249141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D1C0-B378-4506-8CDB-283327DD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FA2F-0FE2-4ECA-9554-04B7E189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EE0C-C49A-4FA2-8DF9-6D673FAC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54EA-EFC9-4670-B6A8-DC6605F0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C025-1143-44F2-B5C4-5E860A52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C2A-9966-49E1-9656-3F20BC1A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4D0D-3D67-4F0F-8256-41015CDA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F49A-C22A-4DCB-80DB-A2FCAAA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80E0-D6B4-48AF-97CB-5ECA0D49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A08A-304B-4A30-B6A9-D24745BF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8757-8DFD-48AC-96F4-AE85F4E1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609-0990-4277-B6BC-D4E751F7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C5D-F540-4111-95F5-CAEDF3D4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FB9-F750-429F-9B49-3A65E085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BAD-2A29-4251-A86B-27E7F6D1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40C-FD2F-4575-9052-1430826F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018-F842-4B89-8962-A3C9E8C3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897-DBB6-4980-B0E9-8AE90E89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D6A0-4033-4802-86C4-78D94AEE12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950A-73EB-40A3-9582-61D1E72DDC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Paperless trade(eTrade) in Indi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Presentation for UN/CEFACT Plenary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16 – 17 Sep. 2008</a:t>
            </a:r>
            <a:br>
              <a:rPr sz="3200"/>
            </a:br>
            <a:br>
              <a:rPr sz="3200"/>
            </a:b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T. A. Khan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takhan@nic.in</a:t>
            </a:r>
            <a:br>
              <a:rPr sz="2800"/>
            </a:br>
            <a:br>
              <a:rPr sz="4000"/>
            </a:br>
            <a:br>
              <a:rPr sz="4000"/>
            </a:b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B453-C1C7-4FE3-AF9B-E00220DF29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4634-92A6-4B92-A3F7-3704E36CC5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Rectangle 10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Rectangle 102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Rectangle 10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lectronic Government Procurement as a mission mode project  with broad objectives 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troduce procurement policy reform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mprove efficiency of procurement (time and cost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tandardization, streamlining and automation of the procurement processe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reate a conducive legal framework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reate a procurement framework, which is workflow based, easy to operate, seamless and leading to paperless process management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vide equal opportunity to all vendors eliminating areas of discre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mplement standard procurement processes using generic procurement platform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o ensure adoption of adequate security measures (audit trail, authentication, integrity, non-repudiation, secrecy etc.) practices in e-procurement transac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ndertake a comprehensive capacity building program across the government organiza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lication of procurement information mandatory (notices, Tenders, Contracts/Orders etc.) on government procurement portal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-Procurement mandatory above a decided threshold value (Rs. 25 Lacs in GoI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velopment of a generic e-Procurement solution by NIC  for wide adoption by any Government department/organizatio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Rectangle 1031"/>
          <p:cNvSpPr/>
          <p:nvPr/>
        </p:nvSpPr>
        <p:spPr>
          <a:xfrm>
            <a:off x="7621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Rectangle 1031"/>
          <p:cNvSpPr/>
          <p:nvPr/>
        </p:nvSpPr>
        <p:spPr>
          <a:xfrm>
            <a:off x="762120" y="7621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Governance Initiativ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54DE-1EAE-465B-96DC-126F92165F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Rectangle 2050"/>
          <p:cNvSpPr/>
          <p:nvPr/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205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Rectangle 20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epartment of Commerce selected as the nodal ag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cess Re-engine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ational standard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ducation and awareness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ilot projects for private sect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Trade proj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ortal for single point interface with all community partn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Rectangle 2055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2.2 Strategi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3. eTrade - the projec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6B5B-B6CE-475E-A9DA-4174E5F269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fficient, transparent, secure electronic delivery of services by trade regulatory/facilitating agenc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ify procedures and reduce the transaction cost and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roduce UN/CEFACT standards and pract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-228600" y="762120"/>
            <a:ext cx="8562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3.1 Objective of the projec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EF48-3214-432A-91CD-7ADAEE6915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62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3.2 The Indian eTrade Community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Oval 1066"/>
          <p:cNvSpPr/>
          <p:nvPr/>
        </p:nvSpPr>
        <p:spPr>
          <a:xfrm>
            <a:off x="4114800" y="4038480"/>
            <a:ext cx="182880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1067"/>
          <p:cNvSpPr/>
          <p:nvPr/>
        </p:nvSpPr>
        <p:spPr>
          <a:xfrm>
            <a:off x="4148280" y="2057400"/>
            <a:ext cx="8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GFT</a:t>
            </a: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Text Box 1068"/>
          <p:cNvSpPr/>
          <p:nvPr/>
        </p:nvSpPr>
        <p:spPr>
          <a:xfrm>
            <a:off x="5638680" y="1828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oms/Central Excise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Text Box 1069"/>
          <p:cNvSpPr/>
          <p:nvPr/>
        </p:nvSpPr>
        <p:spPr>
          <a:xfrm>
            <a:off x="2041560" y="2403360"/>
            <a:ext cx="10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Text Box 1070"/>
          <p:cNvSpPr/>
          <p:nvPr/>
        </p:nvSpPr>
        <p:spPr>
          <a:xfrm>
            <a:off x="220968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rline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 Box 1071"/>
          <p:cNvSpPr/>
          <p:nvPr/>
        </p:nvSpPr>
        <p:spPr>
          <a:xfrm>
            <a:off x="762120" y="3470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Text Box 1072"/>
          <p:cNvSpPr/>
          <p:nvPr/>
        </p:nvSpPr>
        <p:spPr>
          <a:xfrm>
            <a:off x="1736640" y="3622680"/>
            <a:ext cx="16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Text Box 1073"/>
          <p:cNvSpPr/>
          <p:nvPr/>
        </p:nvSpPr>
        <p:spPr>
          <a:xfrm>
            <a:off x="838080" y="3048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ipping Agent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Text Box 1074"/>
          <p:cNvSpPr/>
          <p:nvPr/>
        </p:nvSpPr>
        <p:spPr>
          <a:xfrm>
            <a:off x="1432080" y="423216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1075"/>
          <p:cNvSpPr/>
          <p:nvPr/>
        </p:nvSpPr>
        <p:spPr>
          <a:xfrm>
            <a:off x="3049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rt/CONCOR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Text Box 1076"/>
          <p:cNvSpPr/>
          <p:nvPr/>
        </p:nvSpPr>
        <p:spPr>
          <a:xfrm>
            <a:off x="380880" y="4876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orters/Exporter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Text Box 1077"/>
          <p:cNvSpPr/>
          <p:nvPr/>
        </p:nvSpPr>
        <p:spPr>
          <a:xfrm>
            <a:off x="3124080" y="571500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A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Text Box 1078"/>
          <p:cNvSpPr/>
          <p:nvPr/>
        </p:nvSpPr>
        <p:spPr>
          <a:xfrm>
            <a:off x="4419720" y="5638680"/>
            <a:ext cx="14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an Railway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Text Box 1079"/>
          <p:cNvSpPr/>
          <p:nvPr/>
        </p:nvSpPr>
        <p:spPr>
          <a:xfrm>
            <a:off x="6004080" y="52228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PC/Texprocil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Text Box 1080"/>
          <p:cNvSpPr/>
          <p:nvPr/>
        </p:nvSpPr>
        <p:spPr>
          <a:xfrm>
            <a:off x="6629400" y="4384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GCI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 Box 1081"/>
          <p:cNvSpPr/>
          <p:nvPr/>
        </p:nvSpPr>
        <p:spPr>
          <a:xfrm>
            <a:off x="6705720" y="358128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BI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1082"/>
          <p:cNvSpPr/>
          <p:nvPr/>
        </p:nvSpPr>
        <p:spPr>
          <a:xfrm>
            <a:off x="6629400" y="266688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nk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Line 1083"/>
          <p:cNvSpPr/>
          <p:nvPr/>
        </p:nvSpPr>
        <p:spPr>
          <a:xfrm>
            <a:off x="3048120" y="3581280"/>
            <a:ext cx="1218960" cy="7621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Line 1084"/>
          <p:cNvSpPr/>
          <p:nvPr/>
        </p:nvSpPr>
        <p:spPr>
          <a:xfrm flipV="1">
            <a:off x="5105520" y="495252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Line 1085"/>
          <p:cNvSpPr/>
          <p:nvPr/>
        </p:nvSpPr>
        <p:spPr>
          <a:xfrm flipV="1">
            <a:off x="5562720" y="2895120"/>
            <a:ext cx="1066680" cy="11430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Line 1086"/>
          <p:cNvSpPr/>
          <p:nvPr/>
        </p:nvSpPr>
        <p:spPr>
          <a:xfrm>
            <a:off x="5943600" y="4495680"/>
            <a:ext cx="762120" cy="1526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Line 1087"/>
          <p:cNvSpPr/>
          <p:nvPr/>
        </p:nvSpPr>
        <p:spPr>
          <a:xfrm>
            <a:off x="5715000" y="4876920"/>
            <a:ext cx="380880" cy="53316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Line 1088"/>
          <p:cNvSpPr/>
          <p:nvPr/>
        </p:nvSpPr>
        <p:spPr>
          <a:xfrm flipV="1">
            <a:off x="4724280" y="2362320"/>
            <a:ext cx="0" cy="167616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WordArt 1089"/>
          <p:cNvSpPr txBox="1"/>
          <p:nvPr/>
        </p:nvSpPr>
        <p:spPr>
          <a:xfrm>
            <a:off x="4495680" y="4038480"/>
            <a:ext cx="1162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ssage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chang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Line 1090"/>
          <p:cNvSpPr/>
          <p:nvPr/>
        </p:nvSpPr>
        <p:spPr>
          <a:xfrm>
            <a:off x="3276720" y="2590920"/>
            <a:ext cx="1295280" cy="144756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Line 1091"/>
          <p:cNvSpPr/>
          <p:nvPr/>
        </p:nvSpPr>
        <p:spPr>
          <a:xfrm flipV="1">
            <a:off x="3733920" y="4876920"/>
            <a:ext cx="914400" cy="9144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Line 1092"/>
          <p:cNvSpPr/>
          <p:nvPr/>
        </p:nvSpPr>
        <p:spPr>
          <a:xfrm flipV="1">
            <a:off x="5257800" y="2209680"/>
            <a:ext cx="685800" cy="18288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Line 1093"/>
          <p:cNvSpPr/>
          <p:nvPr/>
        </p:nvSpPr>
        <p:spPr>
          <a:xfrm>
            <a:off x="2286000" y="4267080"/>
            <a:ext cx="1905120" cy="2286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Line 1094"/>
          <p:cNvSpPr/>
          <p:nvPr/>
        </p:nvSpPr>
        <p:spPr>
          <a:xfrm flipH="1">
            <a:off x="2971440" y="4648320"/>
            <a:ext cx="1143000" cy="38088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Line 1095"/>
          <p:cNvSpPr/>
          <p:nvPr/>
        </p:nvSpPr>
        <p:spPr>
          <a:xfrm flipV="1">
            <a:off x="5791320" y="3809880"/>
            <a:ext cx="1066680" cy="4572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Line 1096"/>
          <p:cNvSpPr/>
          <p:nvPr/>
        </p:nvSpPr>
        <p:spPr>
          <a:xfrm flipV="1">
            <a:off x="4114800" y="5028840"/>
            <a:ext cx="762120" cy="11430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Line 1097"/>
          <p:cNvSpPr/>
          <p:nvPr/>
        </p:nvSpPr>
        <p:spPr>
          <a:xfrm>
            <a:off x="5334120" y="5029200"/>
            <a:ext cx="380880" cy="5335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Text Box 1098"/>
          <p:cNvSpPr/>
          <p:nvPr/>
        </p:nvSpPr>
        <p:spPr>
          <a:xfrm>
            <a:off x="5410080" y="5638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CD/CF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Line 1099"/>
          <p:cNvSpPr/>
          <p:nvPr/>
        </p:nvSpPr>
        <p:spPr>
          <a:xfrm flipV="1">
            <a:off x="2666880" y="4876560"/>
            <a:ext cx="1524240" cy="990360"/>
          </a:xfrm>
          <a:prstGeom prst="line">
            <a:avLst/>
          </a:prstGeom>
          <a:ln w="9360">
            <a:solidFill>
              <a:srgbClr val="ff9933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Text Box 1100"/>
          <p:cNvSpPr/>
          <p:nvPr/>
        </p:nvSpPr>
        <p:spPr>
          <a:xfrm>
            <a:off x="228600" y="5257800"/>
            <a:ext cx="3124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(Income Tax, ECGC, EXIM Bank, EIC, APEDA, MPEDA, State/local authorities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Text Box 1101"/>
          <p:cNvSpPr/>
          <p:nvPr/>
        </p:nvSpPr>
        <p:spPr>
          <a:xfrm>
            <a:off x="3733920" y="617220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AI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Slide Number Placeholder 3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A1D6-9E05-409C-A67B-FFDD0A12A1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Customs (35 location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DGFT (35 locations)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Port Trusts (13 location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irports (8 location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Container Corporation (38 location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Banks (106 location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BI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irline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Indian Railways (1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Export Promotion Organisation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DG commercial Intelligence / Statistic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Inland Container Depots / Container Freight Stations (50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3.3 Project Sprea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F782-55D3-48FE-B872-C02D6FF35F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mainfrm"/>
          <p:cNvSpPr/>
          <p:nvPr/>
        </p:nvSpPr>
        <p:spPr>
          <a:xfrm>
            <a:off x="2548080" y="3733920"/>
            <a:ext cx="838080" cy="1143000"/>
          </a:xfrm>
          <a:prstGeom prst="pie">
            <a:avLst/>
          </a:prstGeom>
          <a:solidFill>
            <a:srgbClr val="ffff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modem"/>
          <p:cNvSpPr/>
          <p:nvPr/>
        </p:nvSpPr>
        <p:spPr>
          <a:xfrm>
            <a:off x="4834080" y="2514600"/>
            <a:ext cx="1218960" cy="685800"/>
          </a:xfrm>
          <a:prstGeom prst="pie">
            <a:avLst/>
          </a:prstGeom>
          <a:solidFill>
            <a:srgbClr val="ffff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989360" y="4815000"/>
            <a:ext cx="2018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ICEGATE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EDI messaging and Web Services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478400" y="3166920"/>
            <a:ext cx="1879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ICES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Core Transaction Processing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tower"/>
          <p:cNvSpPr/>
          <p:nvPr/>
        </p:nvSpPr>
        <p:spPr>
          <a:xfrm>
            <a:off x="4952880" y="762120"/>
            <a:ext cx="762120" cy="990360"/>
          </a:xfrm>
          <a:prstGeom prst="pie">
            <a:avLst/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117040" y="14619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LRMS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Transaction Risk Processing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7682040" y="167652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Other Small Apps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viz. in Chennai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3538440" y="453852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621240" y="4351320"/>
            <a:ext cx="105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FTP over WAN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6172200" y="285264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 flipV="1">
            <a:off x="5334120" y="190512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tower"/>
          <p:cNvSpPr/>
          <p:nvPr/>
        </p:nvSpPr>
        <p:spPr>
          <a:xfrm>
            <a:off x="2971800" y="762120"/>
            <a:ext cx="762120" cy="990360"/>
          </a:xfrm>
          <a:prstGeom prst="pie">
            <a:avLst/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2617920" y="16905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RMS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National Risk Control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modem"/>
          <p:cNvSpPr/>
          <p:nvPr/>
        </p:nvSpPr>
        <p:spPr>
          <a:xfrm>
            <a:off x="4800600" y="4267080"/>
            <a:ext cx="1219320" cy="381240"/>
          </a:xfrm>
          <a:prstGeom prst="pie">
            <a:avLst/>
          </a:prstGeom>
          <a:solidFill>
            <a:srgbClr val="ffff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334120" y="365760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modem"/>
          <p:cNvSpPr/>
          <p:nvPr/>
        </p:nvSpPr>
        <p:spPr>
          <a:xfrm>
            <a:off x="2438280" y="2666880"/>
            <a:ext cx="1219320" cy="381240"/>
          </a:xfrm>
          <a:prstGeom prst="pie">
            <a:avLst/>
          </a:prstGeom>
          <a:solidFill>
            <a:srgbClr val="ffff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1950480" y="3000240"/>
            <a:ext cx="222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pdation Server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‘</a:t>
            </a: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Kandla’ server for directory updation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870720" y="2695680"/>
            <a:ext cx="68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DB   link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SQL net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Line 22"/>
          <p:cNvSpPr/>
          <p:nvPr/>
        </p:nvSpPr>
        <p:spPr>
          <a:xfrm>
            <a:off x="3843360" y="289548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Cloud"/>
          <p:cNvSpPr/>
          <p:nvPr/>
        </p:nvSpPr>
        <p:spPr>
          <a:xfrm>
            <a:off x="0" y="4038480"/>
            <a:ext cx="1600200" cy="609840"/>
          </a:xfrm>
          <a:prstGeom prst="pie">
            <a:avLst/>
          </a:prstGeom>
          <a:solidFill>
            <a:srgbClr val="d6faf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Internet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9" name="Group 24"/>
          <p:cNvGrpSpPr/>
          <p:nvPr/>
        </p:nvGrpSpPr>
        <p:grpSpPr>
          <a:xfrm>
            <a:off x="7162920" y="1981080"/>
            <a:ext cx="1447560" cy="1600200"/>
            <a:chOff x="7162920" y="1981080"/>
            <a:chExt cx="1447560" cy="1600200"/>
          </a:xfrm>
        </p:grpSpPr>
        <p:grpSp>
          <p:nvGrpSpPr>
            <p:cNvPr id="210" name="Group 25"/>
            <p:cNvGrpSpPr/>
            <p:nvPr/>
          </p:nvGrpSpPr>
          <p:grpSpPr>
            <a:xfrm>
              <a:off x="7162920" y="1981080"/>
              <a:ext cx="990360" cy="1371600"/>
              <a:chOff x="7162920" y="1981080"/>
              <a:chExt cx="990360" cy="1371600"/>
            </a:xfrm>
          </p:grpSpPr>
          <p:pic>
            <p:nvPicPr>
              <p:cNvPr id="211" name="Picture 26" descr="j0292020"/>
              <p:cNvPicPr/>
              <p:nvPr/>
            </p:nvPicPr>
            <p:blipFill>
              <a:blip r:embed="rId1"/>
              <a:stretch/>
            </p:blipFill>
            <p:spPr>
              <a:xfrm>
                <a:off x="7162920" y="1981080"/>
                <a:ext cx="6858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Picture 27" descr="j0292020"/>
              <p:cNvPicPr/>
              <p:nvPr/>
            </p:nvPicPr>
            <p:blipFill>
              <a:blip r:embed="rId2"/>
              <a:stretch/>
            </p:blipFill>
            <p:spPr>
              <a:xfrm>
                <a:off x="7315200" y="2209680"/>
                <a:ext cx="6858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Picture 28" descr="j0292020"/>
              <p:cNvPicPr/>
              <p:nvPr/>
            </p:nvPicPr>
            <p:blipFill>
              <a:blip r:embed="rId3"/>
              <a:stretch/>
            </p:blipFill>
            <p:spPr>
              <a:xfrm>
                <a:off x="7467480" y="2438280"/>
                <a:ext cx="6858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4" name="Group 29"/>
            <p:cNvGrpSpPr/>
            <p:nvPr/>
          </p:nvGrpSpPr>
          <p:grpSpPr>
            <a:xfrm>
              <a:off x="7924680" y="2133360"/>
              <a:ext cx="685800" cy="1447920"/>
              <a:chOff x="7924680" y="2133360"/>
              <a:chExt cx="685800" cy="1447920"/>
            </a:xfrm>
          </p:grpSpPr>
          <p:sp>
            <p:nvSpPr>
              <p:cNvPr id="215" name="Line 30"/>
              <p:cNvSpPr/>
              <p:nvPr/>
            </p:nvSpPr>
            <p:spPr>
              <a:xfrm>
                <a:off x="7924680" y="2133360"/>
                <a:ext cx="685800" cy="6858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16" name="Line 31"/>
              <p:cNvSpPr/>
              <p:nvPr/>
            </p:nvSpPr>
            <p:spPr>
              <a:xfrm>
                <a:off x="8610480" y="2819160"/>
                <a:ext cx="0" cy="7621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17" name="Line 32"/>
              <p:cNvSpPr/>
              <p:nvPr/>
            </p:nvSpPr>
            <p:spPr>
              <a:xfrm>
                <a:off x="7924680" y="2361960"/>
                <a:ext cx="15264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18" name="Line 33"/>
              <p:cNvSpPr/>
              <p:nvPr/>
            </p:nvSpPr>
            <p:spPr>
              <a:xfrm>
                <a:off x="8077320" y="2514240"/>
                <a:ext cx="152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19" name="Line 34"/>
              <p:cNvSpPr/>
              <p:nvPr/>
            </p:nvSpPr>
            <p:spPr>
              <a:xfrm>
                <a:off x="8229600" y="2666880"/>
                <a:ext cx="152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Text Box 35"/>
          <p:cNvSpPr/>
          <p:nvPr/>
        </p:nvSpPr>
        <p:spPr>
          <a:xfrm>
            <a:off x="6267240" y="2424240"/>
            <a:ext cx="87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Customs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Officer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On LAN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21" name="Group 36"/>
          <p:cNvGrpSpPr/>
          <p:nvPr/>
        </p:nvGrpSpPr>
        <p:grpSpPr>
          <a:xfrm>
            <a:off x="402840" y="5438880"/>
            <a:ext cx="1372320" cy="1421280"/>
            <a:chOff x="402840" y="5438880"/>
            <a:chExt cx="1372320" cy="1421280"/>
          </a:xfrm>
        </p:grpSpPr>
        <p:pic>
          <p:nvPicPr>
            <p:cNvPr id="222" name="Picture 37" descr="j0195384"/>
            <p:cNvPicPr/>
            <p:nvPr/>
          </p:nvPicPr>
          <p:blipFill>
            <a:blip r:embed="rId4"/>
            <a:stretch/>
          </p:blipFill>
          <p:spPr>
            <a:xfrm>
              <a:off x="447840" y="5438880"/>
              <a:ext cx="9730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8" descr="j0195384"/>
            <p:cNvPicPr/>
            <p:nvPr/>
          </p:nvPicPr>
          <p:blipFill>
            <a:blip r:embed="rId5"/>
            <a:stretch/>
          </p:blipFill>
          <p:spPr>
            <a:xfrm>
              <a:off x="600120" y="5591160"/>
              <a:ext cx="9730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9" descr="j0195384"/>
            <p:cNvPicPr/>
            <p:nvPr/>
          </p:nvPicPr>
          <p:blipFill>
            <a:blip r:embed="rId6"/>
            <a:stretch/>
          </p:blipFill>
          <p:spPr>
            <a:xfrm>
              <a:off x="752400" y="5743800"/>
              <a:ext cx="9730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0"/>
            <p:cNvSpPr/>
            <p:nvPr/>
          </p:nvSpPr>
          <p:spPr>
            <a:xfrm>
              <a:off x="402840" y="6354720"/>
              <a:ext cx="1372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"/>
                </a:rPr>
                <a:t>Trade User</a:t>
              </a:r>
              <a:endParaRPr b="1" lang="en-US" sz="18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Files EDI messages</a:t>
              </a:r>
              <a:endParaRPr b="1" lang="en-US" sz="9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226" name="Line 41"/>
          <p:cNvSpPr/>
          <p:nvPr/>
        </p:nvSpPr>
        <p:spPr>
          <a:xfrm flipV="1">
            <a:off x="990720" y="464796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Text Box 42"/>
          <p:cNvSpPr/>
          <p:nvPr/>
        </p:nvSpPr>
        <p:spPr>
          <a:xfrm>
            <a:off x="536400" y="4876920"/>
            <a:ext cx="93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File upload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TTP/ SMTP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computr2"/>
          <p:cNvSpPr/>
          <p:nvPr/>
        </p:nvSpPr>
        <p:spPr>
          <a:xfrm>
            <a:off x="590400" y="2362320"/>
            <a:ext cx="838440" cy="838080"/>
          </a:xfrm>
          <a:prstGeom prst="pie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-5400" y="1859040"/>
            <a:ext cx="2049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Institutional User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EG. DGFT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Line 46"/>
          <p:cNvSpPr/>
          <p:nvPr/>
        </p:nvSpPr>
        <p:spPr>
          <a:xfrm>
            <a:off x="1676520" y="4267080"/>
            <a:ext cx="83808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Text Box 47"/>
          <p:cNvSpPr/>
          <p:nvPr/>
        </p:nvSpPr>
        <p:spPr>
          <a:xfrm>
            <a:off x="1715040" y="4067280"/>
            <a:ext cx="76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Multiple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Protocols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Text Box 48"/>
          <p:cNvSpPr/>
          <p:nvPr/>
        </p:nvSpPr>
        <p:spPr>
          <a:xfrm>
            <a:off x="3900960" y="1279440"/>
            <a:ext cx="68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DB   link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SQL net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Line 49"/>
          <p:cNvSpPr/>
          <p:nvPr/>
        </p:nvSpPr>
        <p:spPr>
          <a:xfrm>
            <a:off x="3809880" y="148104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Text Box 50"/>
          <p:cNvSpPr/>
          <p:nvPr/>
        </p:nvSpPr>
        <p:spPr>
          <a:xfrm>
            <a:off x="4573080" y="4600440"/>
            <a:ext cx="1671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ES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Message Exchange with 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Banks &amp; Custodians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Text Box 51"/>
          <p:cNvSpPr/>
          <p:nvPr/>
        </p:nvSpPr>
        <p:spPr>
          <a:xfrm>
            <a:off x="3886200" y="6505560"/>
            <a:ext cx="28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Banks         Ports</a:t>
            </a:r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Text Box 52"/>
          <p:cNvSpPr/>
          <p:nvPr/>
        </p:nvSpPr>
        <p:spPr>
          <a:xfrm>
            <a:off x="5283000" y="525780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FTP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over LAN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Line 53"/>
          <p:cNvSpPr/>
          <p:nvPr/>
        </p:nvSpPr>
        <p:spPr>
          <a:xfrm>
            <a:off x="5349960" y="518148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Line 54"/>
          <p:cNvSpPr/>
          <p:nvPr/>
        </p:nvSpPr>
        <p:spPr>
          <a:xfrm flipV="1">
            <a:off x="990720" y="327636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modem"/>
          <p:cNvSpPr/>
          <p:nvPr/>
        </p:nvSpPr>
        <p:spPr>
          <a:xfrm>
            <a:off x="6629400" y="3581280"/>
            <a:ext cx="838080" cy="304920"/>
          </a:xfrm>
          <a:prstGeom prst="pie">
            <a:avLst/>
          </a:prstGeom>
          <a:solidFill>
            <a:srgbClr val="ffff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Line 56"/>
          <p:cNvSpPr/>
          <p:nvPr/>
        </p:nvSpPr>
        <p:spPr>
          <a:xfrm>
            <a:off x="6172200" y="3124080"/>
            <a:ext cx="380880" cy="381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Text Box 57"/>
          <p:cNvSpPr/>
          <p:nvPr/>
        </p:nvSpPr>
        <p:spPr>
          <a:xfrm>
            <a:off x="6334200" y="3860640"/>
            <a:ext cx="1595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Service Centre</a:t>
            </a:r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cc66"/>
                </a:solidFill>
                <a:latin typeface="Arial"/>
              </a:rPr>
              <a:t>Server for hosting the Application</a:t>
            </a:r>
            <a:endParaRPr b="1" lang="en-US" sz="7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tower"/>
          <p:cNvSpPr/>
          <p:nvPr/>
        </p:nvSpPr>
        <p:spPr>
          <a:xfrm>
            <a:off x="7772400" y="1066680"/>
            <a:ext cx="533520" cy="685800"/>
          </a:xfrm>
          <a:prstGeom prst="pie">
            <a:avLst/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59" descr="j0283209"/>
          <p:cNvPicPr/>
          <p:nvPr/>
        </p:nvPicPr>
        <p:blipFill>
          <a:blip r:embed="rId7"/>
          <a:stretch/>
        </p:blipFill>
        <p:spPr>
          <a:xfrm>
            <a:off x="4495680" y="571500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0" descr="j0300520"/>
          <p:cNvPicPr/>
          <p:nvPr/>
        </p:nvPicPr>
        <p:blipFill>
          <a:blip r:embed="rId8"/>
          <a:stretch/>
        </p:blipFill>
        <p:spPr>
          <a:xfrm>
            <a:off x="5448240" y="5715000"/>
            <a:ext cx="723960" cy="838080"/>
          </a:xfrm>
          <a:prstGeom prst="rect">
            <a:avLst/>
          </a:prstGeom>
          <a:ln w="0">
            <a:noFill/>
          </a:ln>
        </p:spPr>
      </p:pic>
      <p:sp>
        <p:nvSpPr>
          <p:cNvPr id="245" name="Cloud"/>
          <p:cNvSpPr/>
          <p:nvPr/>
        </p:nvSpPr>
        <p:spPr>
          <a:xfrm>
            <a:off x="3733920" y="3962520"/>
            <a:ext cx="990360" cy="380880"/>
          </a:xfrm>
          <a:prstGeom prst="pie">
            <a:avLst/>
          </a:prstGeom>
          <a:solidFill>
            <a:srgbClr val="f4e0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ICENET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Cloud"/>
          <p:cNvSpPr/>
          <p:nvPr/>
        </p:nvSpPr>
        <p:spPr>
          <a:xfrm>
            <a:off x="3809880" y="2290680"/>
            <a:ext cx="990720" cy="381240"/>
          </a:xfrm>
          <a:prstGeom prst="pie">
            <a:avLst/>
          </a:prstGeom>
          <a:solidFill>
            <a:srgbClr val="f4e0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ICENET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Cloud"/>
          <p:cNvSpPr/>
          <p:nvPr/>
        </p:nvSpPr>
        <p:spPr>
          <a:xfrm>
            <a:off x="3857760" y="733320"/>
            <a:ext cx="942840" cy="381240"/>
          </a:xfrm>
          <a:prstGeom prst="pie">
            <a:avLst/>
          </a:prstGeom>
          <a:solidFill>
            <a:srgbClr val="f4e0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ICENET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Line 64"/>
          <p:cNvSpPr/>
          <p:nvPr/>
        </p:nvSpPr>
        <p:spPr>
          <a:xfrm flipV="1">
            <a:off x="5943600" y="1600200"/>
            <a:ext cx="1828800" cy="9907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Rectangle 65"/>
          <p:cNvSpPr/>
          <p:nvPr/>
        </p:nvSpPr>
        <p:spPr>
          <a:xfrm>
            <a:off x="6324480" y="763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ustom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340600" y="20574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FTP over LAN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Text Box 44"/>
          <p:cNvSpPr/>
          <p:nvPr/>
        </p:nvSpPr>
        <p:spPr>
          <a:xfrm>
            <a:off x="644760" y="348948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FTP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Directorate General of Foreign Tra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53" name="Object 2"/>
          <p:cNvGraphicFramePr/>
          <p:nvPr/>
        </p:nvGraphicFramePr>
        <p:xfrm>
          <a:off x="762120" y="1905120"/>
          <a:ext cx="6705360" cy="48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670536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7A6C-D8D6-4935-9951-F89B22A39A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ea Por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775B-7B6C-40FF-9AA2-3AEE623D9E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5" descr="pcsarchitecture"/>
          <p:cNvPicPr/>
          <p:nvPr/>
        </p:nvPicPr>
        <p:blipFill>
          <a:blip r:embed="rId1"/>
          <a:stretch/>
        </p:blipFill>
        <p:spPr>
          <a:xfrm>
            <a:off x="457200" y="2057400"/>
            <a:ext cx="674388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ONC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60" name="Object 18"/>
          <p:cNvGraphicFramePr/>
          <p:nvPr/>
        </p:nvGraphicFramePr>
        <p:xfrm>
          <a:off x="457200" y="2133720"/>
          <a:ext cx="399960" cy="5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399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7"/>
          <p:cNvGraphicFramePr/>
          <p:nvPr/>
        </p:nvGraphicFramePr>
        <p:xfrm>
          <a:off x="914400" y="2133720"/>
          <a:ext cx="3999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133720"/>
                    <a:ext cx="399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6"/>
          <p:cNvGraphicFramePr/>
          <p:nvPr/>
        </p:nvGraphicFramePr>
        <p:xfrm>
          <a:off x="6477120" y="2209680"/>
          <a:ext cx="9144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209680"/>
                    <a:ext cx="914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0"/>
          <p:cNvGraphicFramePr/>
          <p:nvPr/>
        </p:nvGraphicFramePr>
        <p:xfrm>
          <a:off x="2895480" y="2971800"/>
          <a:ext cx="1990800" cy="13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2971800"/>
                    <a:ext cx="19908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7"/>
          <p:cNvGraphicFramePr/>
          <p:nvPr/>
        </p:nvGraphicFramePr>
        <p:xfrm>
          <a:off x="2133720" y="4495680"/>
          <a:ext cx="647640" cy="105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4495680"/>
                    <a:ext cx="6476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5"/>
          <p:cNvGraphicFramePr/>
          <p:nvPr/>
        </p:nvGraphicFramePr>
        <p:xfrm>
          <a:off x="1428840" y="5715000"/>
          <a:ext cx="399960" cy="59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28840" y="5715000"/>
                    <a:ext cx="399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4"/>
          <p:cNvGraphicFramePr/>
          <p:nvPr/>
        </p:nvGraphicFramePr>
        <p:xfrm>
          <a:off x="5791320" y="5638680"/>
          <a:ext cx="399960" cy="59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5638680"/>
                    <a:ext cx="3999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20"/>
          <p:cNvSpPr/>
          <p:nvPr/>
        </p:nvSpPr>
        <p:spPr>
          <a:xfrm>
            <a:off x="2362320" y="2590920"/>
            <a:ext cx="331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Line 21"/>
          <p:cNvSpPr/>
          <p:nvPr/>
        </p:nvSpPr>
        <p:spPr>
          <a:xfrm flipH="1">
            <a:off x="5257800" y="29718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6324480" y="3444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553080" y="35053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-Token</a:t>
            </a:r>
            <a:endParaRPr b="1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1905120" y="6019920"/>
            <a:ext cx="377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5981760" y="37987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553080" y="3679920"/>
            <a:ext cx="1028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Digital Certificate</a:t>
            </a:r>
            <a:endParaRPr b="1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2895120" y="4495680"/>
            <a:ext cx="7239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 flipH="1">
            <a:off x="160020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Line 15"/>
          <p:cNvSpPr/>
          <p:nvPr/>
        </p:nvSpPr>
        <p:spPr>
          <a:xfrm>
            <a:off x="1219320" y="289548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6705720" y="1346400"/>
            <a:ext cx="13716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lient Pc’s</a:t>
            </a: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Rectangle 2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Rectangle 24"/>
          <p:cNvSpPr/>
          <p:nvPr/>
        </p:nvSpPr>
        <p:spPr>
          <a:xfrm>
            <a:off x="2843280" y="285300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090960" y="3556800"/>
            <a:ext cx="2962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Rectangle 29"/>
          <p:cNvSpPr/>
          <p:nvPr/>
        </p:nvSpPr>
        <p:spPr>
          <a:xfrm>
            <a:off x="3738600" y="524376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Rectangle 30"/>
          <p:cNvSpPr/>
          <p:nvPr/>
        </p:nvSpPr>
        <p:spPr>
          <a:xfrm>
            <a:off x="2957400" y="4969800"/>
            <a:ext cx="32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" name="Rectangle 31"/>
          <p:cNvSpPr/>
          <p:nvPr/>
        </p:nvSpPr>
        <p:spPr>
          <a:xfrm>
            <a:off x="3834000" y="52437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Rectangle 32"/>
          <p:cNvSpPr/>
          <p:nvPr/>
        </p:nvSpPr>
        <p:spPr>
          <a:xfrm>
            <a:off x="4805640" y="476964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Firewall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Rectangle 33"/>
          <p:cNvSpPr/>
          <p:nvPr/>
        </p:nvSpPr>
        <p:spPr>
          <a:xfrm>
            <a:off x="4424400" y="6758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Rectangle 34"/>
          <p:cNvSpPr/>
          <p:nvPr/>
        </p:nvSpPr>
        <p:spPr>
          <a:xfrm>
            <a:off x="2538360" y="7348680"/>
            <a:ext cx="40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4" name="Rectangle 35"/>
          <p:cNvSpPr/>
          <p:nvPr/>
        </p:nvSpPr>
        <p:spPr>
          <a:xfrm>
            <a:off x="1295280" y="6234840"/>
            <a:ext cx="586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ONCOR                                                                                             CONCOR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Web Server                                                                                    Database Server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Rectangle 34"/>
          <p:cNvSpPr/>
          <p:nvPr/>
        </p:nvSpPr>
        <p:spPr>
          <a:xfrm>
            <a:off x="0" y="2895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Bank Server’s</a:t>
            </a: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96" name="Object 36"/>
          <p:cNvGraphicFramePr/>
          <p:nvPr/>
        </p:nvGraphicFramePr>
        <p:xfrm>
          <a:off x="1523880" y="2133720"/>
          <a:ext cx="400320" cy="59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2133720"/>
                    <a:ext cx="4003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371600" y="6858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57200" y="2362320"/>
            <a:ext cx="8381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55000"/>
              </a:lnSpc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 eTrade Initiatives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eTrade - The Project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 Use of UN/CEFACT Standards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 Achievements and Task Ahead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5486-F1A9-4009-9ABD-B07A8CE0B3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0492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Airpor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914400" y="1962000"/>
          <a:ext cx="624852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62000"/>
                    <a:ext cx="62485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AE69-39DA-414B-A333-70F273CF60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477120" y="6095880"/>
            <a:ext cx="152280" cy="524160"/>
          </a:xfrm>
          <a:prstGeom prst="rect">
            <a:avLst/>
          </a:prstGeom>
          <a:solidFill>
            <a:srgbClr val="2b0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Ban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5" name="Object 18"/>
          <p:cNvGraphicFramePr/>
          <p:nvPr/>
        </p:nvGraphicFramePr>
        <p:xfrm>
          <a:off x="457200" y="2666880"/>
          <a:ext cx="399960" cy="5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3999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17"/>
          <p:cNvGraphicFramePr/>
          <p:nvPr/>
        </p:nvGraphicFramePr>
        <p:xfrm>
          <a:off x="1047600" y="2666880"/>
          <a:ext cx="40032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7600" y="2666880"/>
                    <a:ext cx="4003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16"/>
          <p:cNvGraphicFramePr/>
          <p:nvPr/>
        </p:nvGraphicFramePr>
        <p:xfrm>
          <a:off x="6477120" y="2809800"/>
          <a:ext cx="9144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809800"/>
                    <a:ext cx="914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10"/>
          <p:cNvGraphicFramePr/>
          <p:nvPr/>
        </p:nvGraphicFramePr>
        <p:xfrm>
          <a:off x="2895480" y="3805200"/>
          <a:ext cx="1752840" cy="122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3805200"/>
                    <a:ext cx="17528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5"/>
          <p:cNvGraphicFramePr/>
          <p:nvPr/>
        </p:nvGraphicFramePr>
        <p:xfrm>
          <a:off x="914400" y="6248520"/>
          <a:ext cx="68580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6248520"/>
                    <a:ext cx="685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Line 21"/>
          <p:cNvSpPr/>
          <p:nvPr/>
        </p:nvSpPr>
        <p:spPr>
          <a:xfrm flipH="1">
            <a:off x="5029200" y="335268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 flipH="1">
            <a:off x="1599840" y="51055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914400" y="35053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6019920" y="2690280"/>
            <a:ext cx="2438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xporters/Importers/agents</a:t>
            </a: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2843280" y="285300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3090960" y="3556800"/>
            <a:ext cx="2962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3738600" y="524376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Rectangle 30"/>
          <p:cNvSpPr/>
          <p:nvPr/>
        </p:nvSpPr>
        <p:spPr>
          <a:xfrm>
            <a:off x="2957400" y="4969800"/>
            <a:ext cx="32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3834000" y="52437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5" name="Rectangle 33"/>
          <p:cNvSpPr/>
          <p:nvPr/>
        </p:nvSpPr>
        <p:spPr>
          <a:xfrm>
            <a:off x="4424400" y="6758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2538360" y="7348680"/>
            <a:ext cx="40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7" name="Rectangle 34"/>
          <p:cNvSpPr/>
          <p:nvPr/>
        </p:nvSpPr>
        <p:spPr>
          <a:xfrm>
            <a:off x="2362320" y="609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RBI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8" name="Object 36"/>
          <p:cNvGraphicFramePr/>
          <p:nvPr/>
        </p:nvGraphicFramePr>
        <p:xfrm>
          <a:off x="3486240" y="2666880"/>
          <a:ext cx="399960" cy="59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9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86240" y="2666880"/>
                    <a:ext cx="3999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Slide Number Placeholder 3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09E1-1946-4483-BA49-22A2048784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838080" y="62769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c9d"/>
                </a:solidFill>
                <a:latin typeface="Times New Roman"/>
              </a:rPr>
              <a:t>Customs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2" name="Picture 38" descr=""/>
          <p:cNvPicPr/>
          <p:nvPr/>
        </p:nvPicPr>
        <p:blipFill>
          <a:blip r:embed="rId13"/>
          <a:stretch/>
        </p:blipFill>
        <p:spPr>
          <a:xfrm>
            <a:off x="2057400" y="6248520"/>
            <a:ext cx="685800" cy="380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0" descr=""/>
          <p:cNvPicPr/>
          <p:nvPr/>
        </p:nvPicPr>
        <p:blipFill>
          <a:blip r:embed="rId14"/>
          <a:stretch/>
        </p:blipFill>
        <p:spPr>
          <a:xfrm>
            <a:off x="3200400" y="6248520"/>
            <a:ext cx="838080" cy="380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2" descr=""/>
          <p:cNvPicPr/>
          <p:nvPr/>
        </p:nvPicPr>
        <p:blipFill>
          <a:blip r:embed="rId15"/>
          <a:stretch/>
        </p:blipFill>
        <p:spPr>
          <a:xfrm>
            <a:off x="4495680" y="6248520"/>
            <a:ext cx="685800" cy="380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4" descr=""/>
          <p:cNvPicPr/>
          <p:nvPr/>
        </p:nvPicPr>
        <p:blipFill>
          <a:blip r:embed="rId16"/>
          <a:stretch/>
        </p:blipFill>
        <p:spPr>
          <a:xfrm>
            <a:off x="5638680" y="6172200"/>
            <a:ext cx="685800" cy="3808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9"/>
          <p:cNvSpPr/>
          <p:nvPr/>
        </p:nvSpPr>
        <p:spPr>
          <a:xfrm>
            <a:off x="4575960" y="627696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c9d"/>
                </a:solidFill>
                <a:latin typeface="Times New Roman"/>
              </a:rPr>
              <a:t>Ports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3205080" y="62769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c9d"/>
                </a:solidFill>
                <a:latin typeface="Times New Roman"/>
              </a:rPr>
              <a:t>CONCOR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2061360" y="627696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c9d"/>
                </a:solidFill>
                <a:latin typeface="Times New Roman"/>
              </a:rPr>
              <a:t>DGFT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5644080" y="62006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c9d"/>
                </a:solidFill>
                <a:latin typeface="Times New Roman"/>
              </a:rPr>
              <a:t>Airports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H="1">
            <a:off x="2285640" y="518148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Line 8"/>
          <p:cNvSpPr/>
          <p:nvPr/>
        </p:nvSpPr>
        <p:spPr>
          <a:xfrm flipH="1">
            <a:off x="3733920" y="5181480"/>
            <a:ext cx="460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419720" y="5181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Line 8"/>
          <p:cNvSpPr/>
          <p:nvPr/>
        </p:nvSpPr>
        <p:spPr>
          <a:xfrm>
            <a:off x="5029200" y="51055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1219320" y="33526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3581280" y="3352680"/>
            <a:ext cx="460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Rectangle 34"/>
          <p:cNvSpPr/>
          <p:nvPr/>
        </p:nvSpPr>
        <p:spPr>
          <a:xfrm>
            <a:off x="762120" y="23144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Bank B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Rectangle 34"/>
          <p:cNvSpPr/>
          <p:nvPr/>
        </p:nvSpPr>
        <p:spPr>
          <a:xfrm>
            <a:off x="3352680" y="23144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Bank N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TextBox 51"/>
          <p:cNvSpPr/>
          <p:nvPr/>
        </p:nvSpPr>
        <p:spPr>
          <a:xfrm>
            <a:off x="1755000" y="26766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e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9" name="TextBox 52"/>
          <p:cNvSpPr/>
          <p:nvPr/>
        </p:nvSpPr>
        <p:spPr>
          <a:xfrm>
            <a:off x="1602720" y="266688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e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TextBox 53"/>
          <p:cNvSpPr/>
          <p:nvPr/>
        </p:nvSpPr>
        <p:spPr>
          <a:xfrm>
            <a:off x="1937520" y="26766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e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TextBox 55"/>
          <p:cNvSpPr/>
          <p:nvPr/>
        </p:nvSpPr>
        <p:spPr>
          <a:xfrm>
            <a:off x="2136240" y="26766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e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52" name="Picture 38" descr=""/>
          <p:cNvPicPr/>
          <p:nvPr/>
        </p:nvPicPr>
        <p:blipFill>
          <a:blip r:embed="rId17"/>
          <a:stretch/>
        </p:blipFill>
        <p:spPr>
          <a:xfrm>
            <a:off x="1676520" y="149868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58"/>
          <p:cNvSpPr/>
          <p:nvPr/>
        </p:nvSpPr>
        <p:spPr>
          <a:xfrm>
            <a:off x="1730520" y="15955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0045"/>
                </a:solidFill>
                <a:latin typeface="Times New Roman"/>
              </a:rPr>
              <a:t>RTGS</a:t>
            </a: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 flipH="1">
            <a:off x="761760" y="19810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2743200" y="1828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Line 8"/>
          <p:cNvSpPr/>
          <p:nvPr/>
        </p:nvSpPr>
        <p:spPr>
          <a:xfrm flipH="1">
            <a:off x="1295280" y="2209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2133720" y="1066680"/>
            <a:ext cx="460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58" name="Object 47"/>
          <p:cNvGraphicFramePr/>
          <p:nvPr/>
        </p:nvGraphicFramePr>
        <p:xfrm>
          <a:off x="1905120" y="457200"/>
          <a:ext cx="399960" cy="590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9" name="Object 4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905120" y="457200"/>
                    <a:ext cx="399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Rectangle 34"/>
          <p:cNvSpPr/>
          <p:nvPr/>
        </p:nvSpPr>
        <p:spPr>
          <a:xfrm>
            <a:off x="152280" y="2362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Bank A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2860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4.  Use of UN/CEFACT Standa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21FE-131D-4AFE-A7B5-3BB4D07578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80880" y="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0" y="175248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1988 : Adoption of Aligned Documentation System based 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UN Layout key in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1991 : SW for pre-shipment export documents based on UN Layout key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The migration to United Nations Electronic Trade 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Documents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30FB-6693-4DA9-991C-8BEB32115A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6 : EDIFACT declared as national standard for ED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ssage development groups constituted for Customs, Ports, Airports, Banking and Private sec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5 : Establishment of Article Numbering &amp; Bar Coding Institution (GS1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8 : SubCommittee on UN/LOCODE constitut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4B63-203A-46CF-A1D6-62618D6E49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5. Achievements and Task Ahea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113E-563C-413B-A875-1BA75D2A84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80880" y="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0" y="17524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Uniformity and simplification of procedures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Re-engineered inter agency interfaces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Standards integration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00cc"/>
                </a:solidFill>
                <a:uFillTx/>
                <a:latin typeface="Times New Roman"/>
                <a:ea typeface="Arial"/>
                <a:hlinkClick r:id="rId1" action="ppaction://hlinksldjump"/>
              </a:rPr>
              <a:t> </a:t>
            </a:r>
            <a:r>
              <a:rPr b="0" lang="en-GB" sz="2800" spc="-1" strike="noStrike" u="sng">
                <a:solidFill>
                  <a:srgbClr val="cc00cc"/>
                </a:solidFill>
                <a:uFillTx/>
                <a:latin typeface="Times New Roman"/>
                <a:ea typeface="Arial"/>
                <a:hlinkClick r:id="rId2" action="ppaction://hlinksldjump"/>
              </a:rPr>
              <a:t>Integration of eTrade community through a portal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Significant reduction in transaction time of services like  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license application is disposed in 6 hrs. as compare to 45 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days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Reduction and early detection of frauds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5.1 Achiev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B9E6-FEA7-42DA-AC22-CB3BEC8590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pensation of manual system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r locations to be cover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oss border paperless trading to be incorporat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ronic certificate of origin projec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stoms decla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Rectangle 5122"/>
          <p:cNvSpPr/>
          <p:nvPr/>
        </p:nvSpPr>
        <p:spPr>
          <a:xfrm>
            <a:off x="5013000" y="993960"/>
            <a:ext cx="3441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5.2 Task Ahead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D94E-3F45-4878-8F22-0B10774E5D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4"/>
          <p:cNvSpPr/>
          <p:nvPr/>
        </p:nvSpPr>
        <p:spPr>
          <a:xfrm>
            <a:off x="1041480" y="1913040"/>
            <a:ext cx="974520" cy="329400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4" name="Freeform 5"/>
          <p:cNvSpPr/>
          <p:nvPr/>
        </p:nvSpPr>
        <p:spPr>
          <a:xfrm>
            <a:off x="2071800" y="1752480"/>
            <a:ext cx="855720" cy="345456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5" name="Freeform 6"/>
          <p:cNvSpPr/>
          <p:nvPr/>
        </p:nvSpPr>
        <p:spPr>
          <a:xfrm>
            <a:off x="3000240" y="2916360"/>
            <a:ext cx="712800" cy="233676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6" name="Freeform 7"/>
          <p:cNvSpPr/>
          <p:nvPr/>
        </p:nvSpPr>
        <p:spPr>
          <a:xfrm>
            <a:off x="3727440" y="2916360"/>
            <a:ext cx="858960" cy="229068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4608360" y="1752480"/>
            <a:ext cx="874800" cy="345456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8" name="Freeform 9"/>
          <p:cNvSpPr/>
          <p:nvPr/>
        </p:nvSpPr>
        <p:spPr>
          <a:xfrm>
            <a:off x="5927760" y="1913040"/>
            <a:ext cx="1225440" cy="329400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9" name="Freeform 10"/>
          <p:cNvSpPr/>
          <p:nvPr/>
        </p:nvSpPr>
        <p:spPr>
          <a:xfrm>
            <a:off x="7062840" y="2916360"/>
            <a:ext cx="757080" cy="235728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0" name="Freeform 11"/>
          <p:cNvSpPr/>
          <p:nvPr/>
        </p:nvSpPr>
        <p:spPr>
          <a:xfrm>
            <a:off x="7881840" y="2981160"/>
            <a:ext cx="873360" cy="229248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1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4E94-8310-4299-B341-1B27AE2E9B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9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001000" cy="60004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41">
            <a:hlinkClick r:id="rId2" action="ppaction://hlinksldjump"/>
          </p:cNvPr>
          <p:cNvSpPr/>
          <p:nvPr/>
        </p:nvSpPr>
        <p:spPr>
          <a:xfrm>
            <a:off x="8381880" y="6019920"/>
            <a:ext cx="533520" cy="5792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79240"/>
              <a:gd name="textAreaBottom" fmla="*/ 544680 h 579240"/>
            </a:gdLst>
            <a:ahLst/>
            <a:rect l="textAreaLeft" t="textAreaTop" r="textAreaRight" b="textAreaBottom"/>
            <a:pathLst>
              <a:path w="21600" h="23450">
                <a:moveTo>
                  <a:pt x="0" y="0"/>
                </a:moveTo>
                <a:lnTo>
                  <a:pt x="21600" y="0"/>
                </a:lnTo>
                <a:lnTo>
                  <a:pt x="21600" y="23450"/>
                </a:lnTo>
                <a:lnTo>
                  <a:pt x="0" y="23450"/>
                </a:lnTo>
                <a:close/>
              </a:path>
              <a:path fill="lightenLess" w="21600" h="234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50">
                <a:moveTo>
                  <a:pt x="21600" y="0"/>
                </a:moveTo>
                <a:lnTo>
                  <a:pt x="21600" y="23450"/>
                </a:lnTo>
                <a:lnTo>
                  <a:pt x="20200" y="22050"/>
                </a:lnTo>
                <a:lnTo>
                  <a:pt x="20200" y="1400"/>
                </a:lnTo>
                <a:close/>
              </a:path>
              <a:path fill="darkenLess" w="21600" h="23450">
                <a:moveTo>
                  <a:pt x="21600" y="23450"/>
                </a:moveTo>
                <a:lnTo>
                  <a:pt x="0" y="23450"/>
                </a:lnTo>
                <a:lnTo>
                  <a:pt x="1400" y="22050"/>
                </a:lnTo>
                <a:lnTo>
                  <a:pt x="20200" y="22050"/>
                </a:lnTo>
                <a:close/>
              </a:path>
              <a:path fill="lighten" w="21600" h="23450">
                <a:moveTo>
                  <a:pt x="0" y="234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50"/>
                </a:lnTo>
                <a:close/>
              </a:path>
              <a:path fill="darken" w="21600" h="23450">
                <a:moveTo>
                  <a:pt x="3794" y="11725"/>
                </a:moveTo>
                <a:lnTo>
                  <a:pt x="17806" y="4718"/>
                </a:lnTo>
                <a:lnTo>
                  <a:pt x="17806" y="18731"/>
                </a:lnTo>
                <a:close/>
              </a:path>
            </a:pathLst>
          </a:custGeom>
          <a:solidFill>
            <a:srgbClr val="ffffcc"/>
          </a:solidFill>
          <a:ln w="6480">
            <a:solidFill>
              <a:srgbClr val="993366"/>
            </a:solidFill>
            <a:miter/>
          </a:ln>
          <a:effectLst>
            <a:outerShdw dist="71785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620F-F238-4C74-ACEE-8053742457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1. Introdu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81B7-3E8D-4CB0-A64C-7C57543512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1.1 Department of Commerc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als with the country’s external trade and all matters connected with i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s policies in the sphere of foreign tra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orts of merchandise good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1995-96) - $31.8   bill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2007-08) - $159    bill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B71B-6C5C-4510-882B-5311E18CF7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1.2 Need for Paperless Tra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tantial progress on policy fro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cus required on streamlining and standardisation of procedu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 number of agencies involved in clearances for international tra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in exports to eTrade enabled countries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491C-0B87-43BB-831C-F0CB75DB04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1.3 Challeng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ple entry/exit points and complex management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mbersome proced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ormous docu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ed for extensive process re-engine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stages of auto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 Contd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E824-5B25-4D1E-8A81-C42364D76E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halleng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riorities of organis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ck of awareness on eTra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 participation in community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option of standa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A0A1-5C1A-4F73-9CF8-80DEEA95ED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0574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2.  eTrade Initiativ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B9F0-BFF8-41B9-A6BE-718BDA8069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07BF-2DB8-4F01-8D24-D57971623F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Rectangle 102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Rectangle 10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n 14 June 2000: Minimum agenda for e-Governance develop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OI approves the National E-Governance Action Plan for implementation during the year 2003-20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ssion Mode Project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t the center, state and integrated service levels to create a citizen-centric and business-centric environment for governance includ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... Contd.</a:t>
            </a:r>
            <a:br>
              <a:rPr sz="2800"/>
            </a:b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Rectangle 1031"/>
          <p:cNvSpPr/>
          <p:nvPr/>
        </p:nvSpPr>
        <p:spPr>
          <a:xfrm>
            <a:off x="7621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2.1 eGovernance Initiativ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3T10:41:46Z</dcterms:created>
  <dc:creator>R. K. Arora</dc:creator>
  <dc:description/>
  <dc:language>en-US</dc:language>
  <cp:lastModifiedBy>CSD</cp:lastModifiedBy>
  <cp:lastPrinted>2006-09-30T16:09:06Z</cp:lastPrinted>
  <dcterms:modified xsi:type="dcterms:W3CDTF">2008-09-16T12:40:28Z</dcterms:modified>
  <cp:revision>913</cp:revision>
  <dc:subject/>
  <dc:title>presentation for export promotion board</dc:title>
</cp:coreProperties>
</file>