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75150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0280" y="3997440"/>
            <a:ext cx="75150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028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084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1160" y="198072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98072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0280" y="399744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1160" y="399744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744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90640" y="609120"/>
            <a:ext cx="738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9028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084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90280" y="3997440"/>
            <a:ext cx="75150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75150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90280" y="3997440"/>
            <a:ext cx="75150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9028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084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1160" y="198072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2040" y="198072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90280" y="399744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1160" y="399744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2040" y="399744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90640" y="609120"/>
            <a:ext cx="738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028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084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0280" y="3997440"/>
            <a:ext cx="75150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42896"/>
                </a:solidFill>
                <a:latin typeface="TradeGothic"/>
              </a:rPr>
              <a:t>Click to edit the title text format</a:t>
            </a: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radeGothic Ligh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08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00160" y="6438600"/>
            <a:ext cx="48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radeGothic"/>
              </a:rPr>
              <a:t>Ministry for Foreign Affairs Swed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848720" y="6013440"/>
            <a:ext cx="99684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42896"/>
                </a:solidFill>
                <a:latin typeface="TradeGothic"/>
              </a:rPr>
              <a:t>Click to edit the title text format</a:t>
            </a: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08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0160" y="6438600"/>
            <a:ext cx="48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radeGothic"/>
              </a:rPr>
              <a:t>Ministry for Foreign Affairs Swed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848720" y="6013440"/>
            <a:ext cx="996840" cy="720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adeGothic Ligh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adeGothic Light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adeGothic Light"/>
              <a:buChar char="•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igh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adeGothic Light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adeGothic Light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adeGothic Light"/>
              <a:buChar char="•"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adeGothic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adeGothic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42896"/>
                </a:solidFill>
                <a:latin typeface="TradeGothic"/>
              </a:rPr>
              <a:t>  </a:t>
            </a:r>
            <a:r>
              <a:rPr b="1" lang="en-GB" sz="3200" spc="-1" strike="noStrike">
                <a:solidFill>
                  <a:srgbClr val="042896"/>
                </a:solidFill>
                <a:latin typeface="TradeGothic"/>
              </a:rPr>
              <a:t>Trade facilitation and UN/CEFACT     </a:t>
            </a:r>
            <a:r>
              <a:rPr b="1" lang="en-GB" sz="3200" spc="-1" strike="noStrike">
                <a:solidFill>
                  <a:srgbClr val="042896"/>
                </a:solidFill>
                <a:latin typeface="TradeGothic"/>
              </a:rPr>
              <a:t>	</a:t>
            </a:r>
            <a:r>
              <a:rPr b="1" lang="en-GB" sz="3200" spc="-1" strike="noStrike">
                <a:solidFill>
                  <a:srgbClr val="042896"/>
                </a:solidFill>
                <a:latin typeface="TradeGothic"/>
              </a:rPr>
              <a:t>relevance for Sweden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42896"/>
                </a:solidFill>
                <a:latin typeface="TradeGothic"/>
              </a:rPr>
              <a:t>Christina Rahlén</a:t>
            </a:r>
            <a:br>
              <a:rPr sz="3200"/>
            </a:br>
            <a:r>
              <a:rPr b="1" lang="en-GB" sz="3200" spc="-1" strike="noStrike">
                <a:solidFill>
                  <a:srgbClr val="042896"/>
                </a:solidFill>
                <a:latin typeface="TradeGothic"/>
              </a:rPr>
              <a:t>director, Ministry for Foreign Affairs</a:t>
            </a:r>
            <a:br>
              <a:rPr sz="3200"/>
            </a:br>
            <a:r>
              <a:rPr b="1" lang="en-GB" sz="3200" spc="-1" strike="noStrike">
                <a:solidFill>
                  <a:srgbClr val="042896"/>
                </a:solidFill>
                <a:latin typeface="TradeGothic"/>
              </a:rPr>
              <a:t>vice chair, UN/CEFACT</a:t>
            </a:r>
            <a:endParaRPr b="1" lang="en-US" sz="3200" spc="-1" strike="noStrike">
              <a:solidFill>
                <a:srgbClr val="042896"/>
              </a:solidFill>
              <a:latin typeface="Trade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42896"/>
                </a:solidFill>
                <a:latin typeface="TradeGothic"/>
              </a:rPr>
              <a:t>Trade Facilitation what and where</a:t>
            </a: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Broad and narrow definitions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WCO----Customs recommendations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WTO---Customs +, binding rules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UN-UN/CEFACT---trade and business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42896"/>
                </a:solidFill>
                <a:latin typeface="TradeGothic"/>
              </a:rPr>
              <a:t>TF-measures will provide for</a:t>
            </a: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transparency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faster information flows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cheaper information flows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more secure information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multiple reuse of data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42896"/>
                </a:solidFill>
                <a:latin typeface="TradeGothic"/>
              </a:rPr>
              <a:t>What do we need for TF implementation</a:t>
            </a:r>
            <a:endParaRPr b="1" lang="en-US" sz="32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Binding global rules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Recommendations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Best practices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Tools for electronic communication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42896"/>
                </a:solidFill>
                <a:latin typeface="TradeGothic"/>
              </a:rPr>
              <a:t>UN/CEFACT-The UN Centre for trade facilitation and electronic business provide a platform for</a:t>
            </a:r>
            <a:endParaRPr b="1" lang="en-US" sz="32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sector neutral work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public-private partnership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focus on user needs together with IT-industry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transparency in work process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sustainability and maintenance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42896"/>
                </a:solidFill>
                <a:latin typeface="TradeGothic"/>
              </a:rPr>
              <a:t>UN/CEFACT has produced</a:t>
            </a: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34 recommendations (general and specific)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2 recommendations are UN rec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Best practice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Standards and other tools for electronic communications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42896"/>
                </a:solidFill>
                <a:latin typeface="TradeGothic"/>
              </a:rPr>
              <a:t>UN/CEFACT focuses onward on</a:t>
            </a: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modelling of business processes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buy-ship-pay model for supply chain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semantic content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implementation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capacity building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42896"/>
                </a:solidFill>
                <a:latin typeface="TradeGothic"/>
              </a:rPr>
              <a:t>Swedish engagement and implementation</a:t>
            </a:r>
            <a:endParaRPr b="1" lang="en-US" sz="32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Initiated document standardisation in 1960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Participated in development of UN/EDIFACT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Participated in development of recommendations e g rec no 18, LOCODES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UN/EDIFACT use in public-private sector e g Customs, retail sector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Now great support for “new generation CEFACT products” for implementation in all sectors incl governmental agencies and local authorities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42896"/>
                </a:solidFill>
                <a:latin typeface="TradeGothic"/>
              </a:rPr>
              <a:t>At last</a:t>
            </a: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Countries and organisations worldwide create UN/CEFACT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Active support by human resources and funding gives UN/CEFACT possibilities to work better, faster and broader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6T20:59:46Z</dcterms:created>
  <dc:creator>Christina Rahlén</dc:creator>
  <dc:description/>
  <dc:language>en-US</dc:language>
  <cp:lastModifiedBy>Costa</cp:lastModifiedBy>
  <cp:lastPrinted>1999-06-29T12:53:15Z</cp:lastPrinted>
  <dcterms:modified xsi:type="dcterms:W3CDTF">2008-09-15T07:08:02Z</dcterms:modified>
  <cp:revision>174</cp:revision>
  <dc:subject/>
  <dc:title>Trade Facilitation what is it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pID">
    <vt:lpwstr>3;0;0;224</vt:lpwstr>
  </property>
  <property fmtid="{D5CDD505-2E9C-101B-9397-08002B2CF9AE}" pid="3" name="DokID">
    <vt:r8>44</vt:r8>
  </property>
  <property fmtid="{D5CDD505-2E9C-101B-9397-08002B2CF9AE}" pid="4" name="SprakID">
    <vt:r8>1</vt:r8>
  </property>
</Properties>
</file>