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523044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869840" y="119160"/>
            <a:ext cx="549756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6400" y="4314600"/>
            <a:ext cx="7388280" cy="25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523044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ABA6-A734-4CE1-8BEC-476A96037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23044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10AD-B948-4A4E-9007-BB8A5966B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23044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870200" y="119160"/>
            <a:ext cx="5497560" cy="4122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204920" y="4314600"/>
            <a:ext cx="6772320" cy="25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23044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E6B9-BB8A-4D3E-84E1-FF1D11E0A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23044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990800" y="135000"/>
            <a:ext cx="4416480" cy="3311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04920" y="4314600"/>
            <a:ext cx="6772320" cy="25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98D5-2580-46EC-9FC3-964634850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80448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BC47-9507-4E5A-AC1A-92152334E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0F1F-642C-459F-B14A-A2B88B8A0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06632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06632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80448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80448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80448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E200-E8C5-4D63-99D0-F612A470F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0663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115560"/>
            <a:ext cx="864216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0663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D78D-B5A3-46E1-B2F7-05D552FBE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80448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80448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06632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06632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80448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80448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804480"/>
            <a:ext cx="25761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EC69-71AD-4F12-9DC5-DD514FCAD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EA06-0965-44FC-B22E-D5B4FD640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6E55-69C5-40B5-AA73-2E70DCADF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15560"/>
            <a:ext cx="864216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B1CB-F2BC-4250-B30D-2AC540CCB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728A-62B7-4B8F-96F5-29239E2DC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80448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C9B9-2551-4529-BA15-53F60E226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80448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CE2C-31D1-4B0E-BACF-5F0809F06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78920" y="6381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FECA-F061-4AF8-A34B-798F8F5F5CBF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50920" y="4724280"/>
            <a:ext cx="871380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1052640"/>
            <a:ext cx="8424720" cy="7272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9933"/>
          </a:solidFill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566280" y="10663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6305400"/>
            <a:ext cx="212400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49680" y="5516640"/>
            <a:ext cx="4594320" cy="1193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hyperlink" Target="http://www.apec.org/apec/tools/home.html" TargetMode="External"/><Relationship Id="rId5" Type="http://schemas.openxmlformats.org/officeDocument/2006/relationships/image" Target="../media/image6.png"/><Relationship Id="rId6" Type="http://schemas.openxmlformats.org/officeDocument/2006/relationships/hyperlink" Target="http://en.wikipedia.org/wiki/Image:SAARC.JPG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UN/CEFACT Plenary Session, 16-17 September 2008, Geneva</a:t>
            </a:r>
            <a:endParaRPr b="1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0560" y="2420640"/>
            <a:ext cx="84978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UNESCAP’s Approach to Trade Facil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661000"/>
            <a:ext cx="38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Dr. Ravi Ratnay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Trade and Investment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UNESCAP, Thailan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49680" y="5516640"/>
            <a:ext cx="45943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9840" y="2637000"/>
            <a:ext cx="810252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Arial"/>
              </a:rPr>
              <a:t>Thank you!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www.unescap.org/tid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674F-8C5A-4AD0-A5EC-2863FE88A912}" type="slidenum">
              <a:t>10</a:t>
            </a:fld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SCAP in a nutshell 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f five United Nations Regional Commissions under ECOS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 member stated and 9 associate members, of whi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Landlocked developing (out of 31) and 14 Least-developed countries (out of 50) are in UNESCAP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ing an inclusive economic and social development in Asia-Pacif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and Investmen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TO accession and negoti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As/R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e facil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ment and enterprise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F503-0BC2-4390-8C73-E6AE221179DC}" type="slidenum">
              <a:t>2</a:t>
            </a:fld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2581" t="14715" r="12878" b="153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39800" y="1677960"/>
            <a:ext cx="1590840" cy="1555920"/>
          </a:xfrm>
          <a:custGeom>
            <a:avLst/>
            <a:gdLst/>
            <a:ahLst/>
            <a:rect l="l" t="t" r="r" b="b"/>
            <a:pathLst>
              <a:path w="1002" h="980">
                <a:moveTo>
                  <a:pt x="971" y="291"/>
                </a:moveTo>
                <a:cubicBezTo>
                  <a:pt x="970" y="292"/>
                  <a:pt x="970" y="296"/>
                  <a:pt x="963" y="299"/>
                </a:cubicBezTo>
                <a:cubicBezTo>
                  <a:pt x="964" y="302"/>
                  <a:pt x="980" y="306"/>
                  <a:pt x="975" y="307"/>
                </a:cubicBezTo>
                <a:cubicBezTo>
                  <a:pt x="970" y="308"/>
                  <a:pt x="943" y="304"/>
                  <a:pt x="931" y="307"/>
                </a:cubicBezTo>
                <a:cubicBezTo>
                  <a:pt x="919" y="310"/>
                  <a:pt x="914" y="322"/>
                  <a:pt x="903" y="327"/>
                </a:cubicBezTo>
                <a:cubicBezTo>
                  <a:pt x="892" y="332"/>
                  <a:pt x="875" y="338"/>
                  <a:pt x="863" y="339"/>
                </a:cubicBezTo>
                <a:cubicBezTo>
                  <a:pt x="851" y="340"/>
                  <a:pt x="839" y="330"/>
                  <a:pt x="831" y="331"/>
                </a:cubicBezTo>
                <a:cubicBezTo>
                  <a:pt x="823" y="332"/>
                  <a:pt x="824" y="341"/>
                  <a:pt x="815" y="347"/>
                </a:cubicBezTo>
                <a:cubicBezTo>
                  <a:pt x="713" y="447"/>
                  <a:pt x="787" y="372"/>
                  <a:pt x="779" y="367"/>
                </a:cubicBezTo>
                <a:cubicBezTo>
                  <a:pt x="771" y="362"/>
                  <a:pt x="774" y="324"/>
                  <a:pt x="767" y="315"/>
                </a:cubicBezTo>
                <a:cubicBezTo>
                  <a:pt x="752" y="320"/>
                  <a:pt x="754" y="306"/>
                  <a:pt x="739" y="311"/>
                </a:cubicBezTo>
                <a:cubicBezTo>
                  <a:pt x="729" y="325"/>
                  <a:pt x="722" y="313"/>
                  <a:pt x="707" y="307"/>
                </a:cubicBezTo>
                <a:cubicBezTo>
                  <a:pt x="692" y="285"/>
                  <a:pt x="713" y="293"/>
                  <a:pt x="683" y="291"/>
                </a:cubicBezTo>
                <a:cubicBezTo>
                  <a:pt x="637" y="258"/>
                  <a:pt x="748" y="266"/>
                  <a:pt x="647" y="263"/>
                </a:cubicBezTo>
                <a:cubicBezTo>
                  <a:pt x="634" y="262"/>
                  <a:pt x="644" y="247"/>
                  <a:pt x="631" y="243"/>
                </a:cubicBezTo>
                <a:cubicBezTo>
                  <a:pt x="624" y="241"/>
                  <a:pt x="621" y="252"/>
                  <a:pt x="615" y="247"/>
                </a:cubicBezTo>
                <a:cubicBezTo>
                  <a:pt x="607" y="219"/>
                  <a:pt x="609" y="243"/>
                  <a:pt x="583" y="239"/>
                </a:cubicBezTo>
                <a:cubicBezTo>
                  <a:pt x="514" y="314"/>
                  <a:pt x="610" y="167"/>
                  <a:pt x="543" y="243"/>
                </a:cubicBezTo>
                <a:cubicBezTo>
                  <a:pt x="516" y="232"/>
                  <a:pt x="523" y="232"/>
                  <a:pt x="499" y="215"/>
                </a:cubicBezTo>
                <a:cubicBezTo>
                  <a:pt x="493" y="202"/>
                  <a:pt x="472" y="179"/>
                  <a:pt x="475" y="163"/>
                </a:cubicBezTo>
                <a:cubicBezTo>
                  <a:pt x="478" y="147"/>
                  <a:pt x="515" y="134"/>
                  <a:pt x="520" y="116"/>
                </a:cubicBezTo>
                <a:cubicBezTo>
                  <a:pt x="525" y="98"/>
                  <a:pt x="506" y="64"/>
                  <a:pt x="503" y="55"/>
                </a:cubicBezTo>
                <a:cubicBezTo>
                  <a:pt x="500" y="46"/>
                  <a:pt x="503" y="60"/>
                  <a:pt x="503" y="63"/>
                </a:cubicBezTo>
                <a:cubicBezTo>
                  <a:pt x="503" y="66"/>
                  <a:pt x="506" y="74"/>
                  <a:pt x="503" y="71"/>
                </a:cubicBezTo>
                <a:cubicBezTo>
                  <a:pt x="500" y="68"/>
                  <a:pt x="494" y="44"/>
                  <a:pt x="483" y="43"/>
                </a:cubicBezTo>
                <a:cubicBezTo>
                  <a:pt x="472" y="42"/>
                  <a:pt x="448" y="71"/>
                  <a:pt x="435" y="67"/>
                </a:cubicBezTo>
                <a:cubicBezTo>
                  <a:pt x="422" y="63"/>
                  <a:pt x="409" y="30"/>
                  <a:pt x="403" y="19"/>
                </a:cubicBezTo>
                <a:cubicBezTo>
                  <a:pt x="397" y="8"/>
                  <a:pt x="404" y="0"/>
                  <a:pt x="399" y="3"/>
                </a:cubicBezTo>
                <a:cubicBezTo>
                  <a:pt x="394" y="6"/>
                  <a:pt x="384" y="24"/>
                  <a:pt x="371" y="35"/>
                </a:cubicBezTo>
                <a:cubicBezTo>
                  <a:pt x="358" y="46"/>
                  <a:pt x="333" y="66"/>
                  <a:pt x="319" y="71"/>
                </a:cubicBezTo>
                <a:cubicBezTo>
                  <a:pt x="305" y="76"/>
                  <a:pt x="295" y="60"/>
                  <a:pt x="287" y="67"/>
                </a:cubicBezTo>
                <a:cubicBezTo>
                  <a:pt x="279" y="74"/>
                  <a:pt x="278" y="97"/>
                  <a:pt x="271" y="111"/>
                </a:cubicBezTo>
                <a:cubicBezTo>
                  <a:pt x="264" y="125"/>
                  <a:pt x="254" y="137"/>
                  <a:pt x="247" y="151"/>
                </a:cubicBezTo>
                <a:cubicBezTo>
                  <a:pt x="240" y="165"/>
                  <a:pt x="229" y="190"/>
                  <a:pt x="231" y="195"/>
                </a:cubicBezTo>
                <a:cubicBezTo>
                  <a:pt x="233" y="200"/>
                  <a:pt x="268" y="182"/>
                  <a:pt x="259" y="179"/>
                </a:cubicBezTo>
                <a:cubicBezTo>
                  <a:pt x="250" y="176"/>
                  <a:pt x="186" y="171"/>
                  <a:pt x="175" y="179"/>
                </a:cubicBezTo>
                <a:cubicBezTo>
                  <a:pt x="164" y="187"/>
                  <a:pt x="194" y="220"/>
                  <a:pt x="191" y="227"/>
                </a:cubicBezTo>
                <a:cubicBezTo>
                  <a:pt x="188" y="234"/>
                  <a:pt x="164" y="224"/>
                  <a:pt x="159" y="223"/>
                </a:cubicBezTo>
                <a:cubicBezTo>
                  <a:pt x="154" y="222"/>
                  <a:pt x="161" y="216"/>
                  <a:pt x="159" y="223"/>
                </a:cubicBezTo>
                <a:cubicBezTo>
                  <a:pt x="157" y="230"/>
                  <a:pt x="154" y="260"/>
                  <a:pt x="147" y="267"/>
                </a:cubicBezTo>
                <a:cubicBezTo>
                  <a:pt x="140" y="274"/>
                  <a:pt x="126" y="263"/>
                  <a:pt x="115" y="263"/>
                </a:cubicBezTo>
                <a:cubicBezTo>
                  <a:pt x="104" y="263"/>
                  <a:pt x="90" y="266"/>
                  <a:pt x="79" y="267"/>
                </a:cubicBezTo>
                <a:cubicBezTo>
                  <a:pt x="68" y="268"/>
                  <a:pt x="56" y="267"/>
                  <a:pt x="51" y="267"/>
                </a:cubicBezTo>
                <a:cubicBezTo>
                  <a:pt x="46" y="267"/>
                  <a:pt x="58" y="268"/>
                  <a:pt x="51" y="267"/>
                </a:cubicBezTo>
                <a:cubicBezTo>
                  <a:pt x="44" y="266"/>
                  <a:pt x="14" y="264"/>
                  <a:pt x="7" y="263"/>
                </a:cubicBezTo>
                <a:cubicBezTo>
                  <a:pt x="0" y="262"/>
                  <a:pt x="3" y="258"/>
                  <a:pt x="7" y="263"/>
                </a:cubicBezTo>
                <a:cubicBezTo>
                  <a:pt x="11" y="268"/>
                  <a:pt x="25" y="284"/>
                  <a:pt x="31" y="295"/>
                </a:cubicBezTo>
                <a:cubicBezTo>
                  <a:pt x="37" y="306"/>
                  <a:pt x="41" y="325"/>
                  <a:pt x="43" y="331"/>
                </a:cubicBezTo>
                <a:cubicBezTo>
                  <a:pt x="45" y="337"/>
                  <a:pt x="48" y="329"/>
                  <a:pt x="43" y="331"/>
                </a:cubicBezTo>
                <a:cubicBezTo>
                  <a:pt x="38" y="333"/>
                  <a:pt x="20" y="334"/>
                  <a:pt x="15" y="343"/>
                </a:cubicBezTo>
                <a:cubicBezTo>
                  <a:pt x="10" y="352"/>
                  <a:pt x="7" y="378"/>
                  <a:pt x="11" y="383"/>
                </a:cubicBezTo>
                <a:cubicBezTo>
                  <a:pt x="15" y="388"/>
                  <a:pt x="28" y="376"/>
                  <a:pt x="39" y="375"/>
                </a:cubicBezTo>
                <a:cubicBezTo>
                  <a:pt x="50" y="374"/>
                  <a:pt x="68" y="378"/>
                  <a:pt x="79" y="379"/>
                </a:cubicBezTo>
                <a:cubicBezTo>
                  <a:pt x="90" y="380"/>
                  <a:pt x="94" y="376"/>
                  <a:pt x="107" y="379"/>
                </a:cubicBezTo>
                <a:cubicBezTo>
                  <a:pt x="120" y="382"/>
                  <a:pt x="142" y="390"/>
                  <a:pt x="155" y="399"/>
                </a:cubicBezTo>
                <a:cubicBezTo>
                  <a:pt x="168" y="408"/>
                  <a:pt x="176" y="421"/>
                  <a:pt x="183" y="431"/>
                </a:cubicBezTo>
                <a:cubicBezTo>
                  <a:pt x="190" y="441"/>
                  <a:pt x="183" y="444"/>
                  <a:pt x="195" y="459"/>
                </a:cubicBezTo>
                <a:cubicBezTo>
                  <a:pt x="207" y="474"/>
                  <a:pt x="240" y="510"/>
                  <a:pt x="255" y="519"/>
                </a:cubicBezTo>
                <a:cubicBezTo>
                  <a:pt x="270" y="528"/>
                  <a:pt x="286" y="510"/>
                  <a:pt x="287" y="511"/>
                </a:cubicBezTo>
                <a:cubicBezTo>
                  <a:pt x="288" y="512"/>
                  <a:pt x="254" y="527"/>
                  <a:pt x="259" y="523"/>
                </a:cubicBezTo>
                <a:cubicBezTo>
                  <a:pt x="264" y="519"/>
                  <a:pt x="308" y="490"/>
                  <a:pt x="319" y="487"/>
                </a:cubicBezTo>
                <a:cubicBezTo>
                  <a:pt x="330" y="484"/>
                  <a:pt x="324" y="496"/>
                  <a:pt x="323" y="503"/>
                </a:cubicBezTo>
                <a:cubicBezTo>
                  <a:pt x="322" y="510"/>
                  <a:pt x="312" y="526"/>
                  <a:pt x="315" y="531"/>
                </a:cubicBezTo>
                <a:cubicBezTo>
                  <a:pt x="318" y="536"/>
                  <a:pt x="340" y="526"/>
                  <a:pt x="339" y="531"/>
                </a:cubicBezTo>
                <a:cubicBezTo>
                  <a:pt x="338" y="536"/>
                  <a:pt x="308" y="552"/>
                  <a:pt x="307" y="559"/>
                </a:cubicBezTo>
                <a:cubicBezTo>
                  <a:pt x="306" y="566"/>
                  <a:pt x="328" y="566"/>
                  <a:pt x="331" y="571"/>
                </a:cubicBezTo>
                <a:cubicBezTo>
                  <a:pt x="334" y="576"/>
                  <a:pt x="326" y="581"/>
                  <a:pt x="323" y="587"/>
                </a:cubicBezTo>
                <a:cubicBezTo>
                  <a:pt x="320" y="593"/>
                  <a:pt x="314" y="596"/>
                  <a:pt x="315" y="607"/>
                </a:cubicBezTo>
                <a:cubicBezTo>
                  <a:pt x="316" y="618"/>
                  <a:pt x="324" y="639"/>
                  <a:pt x="327" y="651"/>
                </a:cubicBezTo>
                <a:cubicBezTo>
                  <a:pt x="330" y="663"/>
                  <a:pt x="325" y="673"/>
                  <a:pt x="331" y="679"/>
                </a:cubicBezTo>
                <a:cubicBezTo>
                  <a:pt x="337" y="685"/>
                  <a:pt x="357" y="678"/>
                  <a:pt x="363" y="687"/>
                </a:cubicBezTo>
                <a:cubicBezTo>
                  <a:pt x="369" y="696"/>
                  <a:pt x="363" y="722"/>
                  <a:pt x="367" y="735"/>
                </a:cubicBezTo>
                <a:cubicBezTo>
                  <a:pt x="371" y="748"/>
                  <a:pt x="383" y="748"/>
                  <a:pt x="387" y="763"/>
                </a:cubicBezTo>
                <a:cubicBezTo>
                  <a:pt x="391" y="778"/>
                  <a:pt x="388" y="807"/>
                  <a:pt x="391" y="823"/>
                </a:cubicBezTo>
                <a:cubicBezTo>
                  <a:pt x="394" y="839"/>
                  <a:pt x="396" y="846"/>
                  <a:pt x="403" y="859"/>
                </a:cubicBezTo>
                <a:cubicBezTo>
                  <a:pt x="410" y="872"/>
                  <a:pt x="426" y="898"/>
                  <a:pt x="435" y="899"/>
                </a:cubicBezTo>
                <a:cubicBezTo>
                  <a:pt x="444" y="900"/>
                  <a:pt x="448" y="874"/>
                  <a:pt x="459" y="863"/>
                </a:cubicBezTo>
                <a:cubicBezTo>
                  <a:pt x="470" y="852"/>
                  <a:pt x="493" y="826"/>
                  <a:pt x="499" y="831"/>
                </a:cubicBezTo>
                <a:cubicBezTo>
                  <a:pt x="505" y="836"/>
                  <a:pt x="496" y="878"/>
                  <a:pt x="495" y="895"/>
                </a:cubicBezTo>
                <a:cubicBezTo>
                  <a:pt x="494" y="912"/>
                  <a:pt x="487" y="920"/>
                  <a:pt x="491" y="931"/>
                </a:cubicBezTo>
                <a:cubicBezTo>
                  <a:pt x="495" y="942"/>
                  <a:pt x="515" y="951"/>
                  <a:pt x="519" y="959"/>
                </a:cubicBezTo>
                <a:cubicBezTo>
                  <a:pt x="523" y="967"/>
                  <a:pt x="505" y="978"/>
                  <a:pt x="515" y="979"/>
                </a:cubicBezTo>
                <a:cubicBezTo>
                  <a:pt x="525" y="980"/>
                  <a:pt x="570" y="973"/>
                  <a:pt x="579" y="963"/>
                </a:cubicBezTo>
                <a:cubicBezTo>
                  <a:pt x="588" y="953"/>
                  <a:pt x="575" y="932"/>
                  <a:pt x="571" y="919"/>
                </a:cubicBezTo>
                <a:cubicBezTo>
                  <a:pt x="567" y="906"/>
                  <a:pt x="564" y="899"/>
                  <a:pt x="555" y="887"/>
                </a:cubicBezTo>
                <a:cubicBezTo>
                  <a:pt x="546" y="875"/>
                  <a:pt x="521" y="864"/>
                  <a:pt x="515" y="847"/>
                </a:cubicBezTo>
                <a:cubicBezTo>
                  <a:pt x="509" y="830"/>
                  <a:pt x="518" y="802"/>
                  <a:pt x="519" y="783"/>
                </a:cubicBezTo>
                <a:cubicBezTo>
                  <a:pt x="523" y="766"/>
                  <a:pt x="517" y="822"/>
                  <a:pt x="523" y="731"/>
                </a:cubicBezTo>
                <a:cubicBezTo>
                  <a:pt x="524" y="717"/>
                  <a:pt x="521" y="710"/>
                  <a:pt x="527" y="699"/>
                </a:cubicBezTo>
                <a:cubicBezTo>
                  <a:pt x="533" y="688"/>
                  <a:pt x="548" y="674"/>
                  <a:pt x="559" y="663"/>
                </a:cubicBezTo>
                <a:cubicBezTo>
                  <a:pt x="570" y="652"/>
                  <a:pt x="590" y="644"/>
                  <a:pt x="595" y="635"/>
                </a:cubicBezTo>
                <a:cubicBezTo>
                  <a:pt x="600" y="626"/>
                  <a:pt x="585" y="615"/>
                  <a:pt x="591" y="611"/>
                </a:cubicBezTo>
                <a:cubicBezTo>
                  <a:pt x="597" y="607"/>
                  <a:pt x="624" y="616"/>
                  <a:pt x="631" y="611"/>
                </a:cubicBezTo>
                <a:cubicBezTo>
                  <a:pt x="638" y="611"/>
                  <a:pt x="628" y="581"/>
                  <a:pt x="635" y="583"/>
                </a:cubicBezTo>
                <a:cubicBezTo>
                  <a:pt x="647" y="573"/>
                  <a:pt x="688" y="564"/>
                  <a:pt x="703" y="551"/>
                </a:cubicBezTo>
                <a:cubicBezTo>
                  <a:pt x="711" y="553"/>
                  <a:pt x="723" y="503"/>
                  <a:pt x="723" y="503"/>
                </a:cubicBezTo>
                <a:cubicBezTo>
                  <a:pt x="746" y="500"/>
                  <a:pt x="747" y="484"/>
                  <a:pt x="759" y="503"/>
                </a:cubicBezTo>
                <a:cubicBezTo>
                  <a:pt x="770" y="502"/>
                  <a:pt x="785" y="495"/>
                  <a:pt x="803" y="503"/>
                </a:cubicBezTo>
                <a:cubicBezTo>
                  <a:pt x="821" y="511"/>
                  <a:pt x="855" y="554"/>
                  <a:pt x="867" y="551"/>
                </a:cubicBezTo>
                <a:cubicBezTo>
                  <a:pt x="879" y="548"/>
                  <a:pt x="870" y="502"/>
                  <a:pt x="875" y="483"/>
                </a:cubicBezTo>
                <a:cubicBezTo>
                  <a:pt x="880" y="464"/>
                  <a:pt x="891" y="450"/>
                  <a:pt x="895" y="439"/>
                </a:cubicBezTo>
                <a:cubicBezTo>
                  <a:pt x="899" y="428"/>
                  <a:pt x="897" y="424"/>
                  <a:pt x="899" y="419"/>
                </a:cubicBezTo>
                <a:cubicBezTo>
                  <a:pt x="901" y="414"/>
                  <a:pt x="904" y="411"/>
                  <a:pt x="907" y="407"/>
                </a:cubicBezTo>
                <a:cubicBezTo>
                  <a:pt x="910" y="403"/>
                  <a:pt x="917" y="401"/>
                  <a:pt x="919" y="395"/>
                </a:cubicBezTo>
                <a:cubicBezTo>
                  <a:pt x="921" y="389"/>
                  <a:pt x="918" y="377"/>
                  <a:pt x="919" y="371"/>
                </a:cubicBezTo>
                <a:cubicBezTo>
                  <a:pt x="920" y="365"/>
                  <a:pt x="924" y="360"/>
                  <a:pt x="927" y="359"/>
                </a:cubicBezTo>
                <a:cubicBezTo>
                  <a:pt x="930" y="358"/>
                  <a:pt x="923" y="370"/>
                  <a:pt x="935" y="363"/>
                </a:cubicBezTo>
                <a:cubicBezTo>
                  <a:pt x="947" y="356"/>
                  <a:pt x="1002" y="311"/>
                  <a:pt x="999" y="315"/>
                </a:cubicBezTo>
                <a:cubicBezTo>
                  <a:pt x="996" y="319"/>
                  <a:pt x="934" y="369"/>
                  <a:pt x="919" y="387"/>
                </a:cubicBezTo>
                <a:cubicBezTo>
                  <a:pt x="904" y="405"/>
                  <a:pt x="917" y="402"/>
                  <a:pt x="911" y="423"/>
                </a:cubicBezTo>
                <a:cubicBezTo>
                  <a:pt x="905" y="444"/>
                  <a:pt x="890" y="498"/>
                  <a:pt x="883" y="515"/>
                </a:cubicBezTo>
                <a:cubicBezTo>
                  <a:pt x="876" y="532"/>
                  <a:pt x="868" y="535"/>
                  <a:pt x="867" y="527"/>
                </a:cubicBezTo>
                <a:cubicBezTo>
                  <a:pt x="866" y="519"/>
                  <a:pt x="858" y="506"/>
                  <a:pt x="875" y="467"/>
                </a:cubicBezTo>
                <a:cubicBezTo>
                  <a:pt x="875" y="467"/>
                  <a:pt x="971" y="291"/>
                  <a:pt x="971" y="291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650880"/>
            <a:ext cx="1857240" cy="1461960"/>
          </a:xfrm>
          <a:custGeom>
            <a:avLst/>
            <a:gdLst/>
            <a:ahLst/>
            <a:rect l="l" t="t" r="r" b="b"/>
            <a:pathLst>
              <a:path w="1170" h="921">
                <a:moveTo>
                  <a:pt x="456" y="902"/>
                </a:moveTo>
                <a:cubicBezTo>
                  <a:pt x="453" y="883"/>
                  <a:pt x="439" y="807"/>
                  <a:pt x="436" y="786"/>
                </a:cubicBezTo>
                <a:cubicBezTo>
                  <a:pt x="433" y="765"/>
                  <a:pt x="435" y="791"/>
                  <a:pt x="436" y="778"/>
                </a:cubicBezTo>
                <a:cubicBezTo>
                  <a:pt x="437" y="765"/>
                  <a:pt x="446" y="726"/>
                  <a:pt x="444" y="706"/>
                </a:cubicBezTo>
                <a:cubicBezTo>
                  <a:pt x="442" y="686"/>
                  <a:pt x="429" y="667"/>
                  <a:pt x="424" y="658"/>
                </a:cubicBezTo>
                <a:cubicBezTo>
                  <a:pt x="419" y="649"/>
                  <a:pt x="419" y="657"/>
                  <a:pt x="412" y="654"/>
                </a:cubicBezTo>
                <a:cubicBezTo>
                  <a:pt x="405" y="651"/>
                  <a:pt x="397" y="643"/>
                  <a:pt x="384" y="638"/>
                </a:cubicBezTo>
                <a:cubicBezTo>
                  <a:pt x="371" y="633"/>
                  <a:pt x="344" y="626"/>
                  <a:pt x="336" y="622"/>
                </a:cubicBezTo>
                <a:cubicBezTo>
                  <a:pt x="328" y="618"/>
                  <a:pt x="333" y="613"/>
                  <a:pt x="336" y="614"/>
                </a:cubicBezTo>
                <a:cubicBezTo>
                  <a:pt x="339" y="615"/>
                  <a:pt x="341" y="619"/>
                  <a:pt x="356" y="630"/>
                </a:cubicBezTo>
                <a:cubicBezTo>
                  <a:pt x="371" y="641"/>
                  <a:pt x="411" y="665"/>
                  <a:pt x="424" y="682"/>
                </a:cubicBezTo>
                <a:cubicBezTo>
                  <a:pt x="437" y="699"/>
                  <a:pt x="434" y="726"/>
                  <a:pt x="436" y="734"/>
                </a:cubicBezTo>
                <a:cubicBezTo>
                  <a:pt x="438" y="742"/>
                  <a:pt x="437" y="715"/>
                  <a:pt x="436" y="730"/>
                </a:cubicBezTo>
                <a:cubicBezTo>
                  <a:pt x="435" y="745"/>
                  <a:pt x="431" y="803"/>
                  <a:pt x="432" y="822"/>
                </a:cubicBezTo>
                <a:cubicBezTo>
                  <a:pt x="433" y="841"/>
                  <a:pt x="441" y="840"/>
                  <a:pt x="444" y="842"/>
                </a:cubicBezTo>
                <a:cubicBezTo>
                  <a:pt x="447" y="844"/>
                  <a:pt x="455" y="829"/>
                  <a:pt x="448" y="834"/>
                </a:cubicBezTo>
                <a:cubicBezTo>
                  <a:pt x="441" y="839"/>
                  <a:pt x="402" y="865"/>
                  <a:pt x="400" y="870"/>
                </a:cubicBezTo>
                <a:cubicBezTo>
                  <a:pt x="398" y="875"/>
                  <a:pt x="425" y="859"/>
                  <a:pt x="436" y="866"/>
                </a:cubicBezTo>
                <a:cubicBezTo>
                  <a:pt x="447" y="873"/>
                  <a:pt x="453" y="907"/>
                  <a:pt x="464" y="914"/>
                </a:cubicBezTo>
                <a:cubicBezTo>
                  <a:pt x="475" y="921"/>
                  <a:pt x="487" y="909"/>
                  <a:pt x="504" y="906"/>
                </a:cubicBezTo>
                <a:cubicBezTo>
                  <a:pt x="510" y="881"/>
                  <a:pt x="563" y="921"/>
                  <a:pt x="564" y="894"/>
                </a:cubicBezTo>
                <a:cubicBezTo>
                  <a:pt x="596" y="903"/>
                  <a:pt x="603" y="886"/>
                  <a:pt x="596" y="878"/>
                </a:cubicBezTo>
                <a:cubicBezTo>
                  <a:pt x="592" y="854"/>
                  <a:pt x="615" y="886"/>
                  <a:pt x="596" y="874"/>
                </a:cubicBezTo>
                <a:cubicBezTo>
                  <a:pt x="602" y="858"/>
                  <a:pt x="610" y="870"/>
                  <a:pt x="616" y="854"/>
                </a:cubicBezTo>
                <a:cubicBezTo>
                  <a:pt x="623" y="849"/>
                  <a:pt x="635" y="813"/>
                  <a:pt x="644" y="810"/>
                </a:cubicBezTo>
                <a:cubicBezTo>
                  <a:pt x="653" y="807"/>
                  <a:pt x="664" y="843"/>
                  <a:pt x="672" y="838"/>
                </a:cubicBezTo>
                <a:cubicBezTo>
                  <a:pt x="671" y="811"/>
                  <a:pt x="698" y="815"/>
                  <a:pt x="692" y="782"/>
                </a:cubicBezTo>
                <a:cubicBezTo>
                  <a:pt x="706" y="769"/>
                  <a:pt x="701" y="772"/>
                  <a:pt x="708" y="754"/>
                </a:cubicBezTo>
                <a:cubicBezTo>
                  <a:pt x="712" y="744"/>
                  <a:pt x="711" y="725"/>
                  <a:pt x="720" y="722"/>
                </a:cubicBezTo>
                <a:cubicBezTo>
                  <a:pt x="707" y="703"/>
                  <a:pt x="729" y="696"/>
                  <a:pt x="708" y="690"/>
                </a:cubicBezTo>
                <a:cubicBezTo>
                  <a:pt x="700" y="685"/>
                  <a:pt x="761" y="702"/>
                  <a:pt x="780" y="698"/>
                </a:cubicBezTo>
                <a:cubicBezTo>
                  <a:pt x="799" y="694"/>
                  <a:pt x="818" y="679"/>
                  <a:pt x="820" y="668"/>
                </a:cubicBezTo>
                <a:cubicBezTo>
                  <a:pt x="827" y="635"/>
                  <a:pt x="816" y="635"/>
                  <a:pt x="795" y="629"/>
                </a:cubicBezTo>
                <a:cubicBezTo>
                  <a:pt x="793" y="625"/>
                  <a:pt x="791" y="621"/>
                  <a:pt x="788" y="618"/>
                </a:cubicBezTo>
                <a:cubicBezTo>
                  <a:pt x="785" y="615"/>
                  <a:pt x="779" y="615"/>
                  <a:pt x="777" y="611"/>
                </a:cubicBezTo>
                <a:cubicBezTo>
                  <a:pt x="773" y="600"/>
                  <a:pt x="802" y="587"/>
                  <a:pt x="802" y="587"/>
                </a:cubicBezTo>
                <a:cubicBezTo>
                  <a:pt x="812" y="558"/>
                  <a:pt x="798" y="593"/>
                  <a:pt x="816" y="569"/>
                </a:cubicBezTo>
                <a:cubicBezTo>
                  <a:pt x="818" y="566"/>
                  <a:pt x="818" y="561"/>
                  <a:pt x="820" y="558"/>
                </a:cubicBezTo>
                <a:cubicBezTo>
                  <a:pt x="832" y="543"/>
                  <a:pt x="860" y="546"/>
                  <a:pt x="876" y="541"/>
                </a:cubicBezTo>
                <a:cubicBezTo>
                  <a:pt x="887" y="534"/>
                  <a:pt x="892" y="527"/>
                  <a:pt x="905" y="523"/>
                </a:cubicBezTo>
                <a:cubicBezTo>
                  <a:pt x="917" y="510"/>
                  <a:pt x="930" y="507"/>
                  <a:pt x="947" y="502"/>
                </a:cubicBezTo>
                <a:cubicBezTo>
                  <a:pt x="958" y="495"/>
                  <a:pt x="968" y="491"/>
                  <a:pt x="979" y="484"/>
                </a:cubicBezTo>
                <a:cubicBezTo>
                  <a:pt x="996" y="457"/>
                  <a:pt x="985" y="442"/>
                  <a:pt x="975" y="417"/>
                </a:cubicBezTo>
                <a:cubicBezTo>
                  <a:pt x="980" y="392"/>
                  <a:pt x="979" y="395"/>
                  <a:pt x="1000" y="389"/>
                </a:cubicBezTo>
                <a:cubicBezTo>
                  <a:pt x="1008" y="368"/>
                  <a:pt x="1017" y="371"/>
                  <a:pt x="1035" y="378"/>
                </a:cubicBezTo>
                <a:cubicBezTo>
                  <a:pt x="1041" y="363"/>
                  <a:pt x="1044" y="347"/>
                  <a:pt x="1050" y="332"/>
                </a:cubicBezTo>
                <a:cubicBezTo>
                  <a:pt x="1054" y="307"/>
                  <a:pt x="1058" y="310"/>
                  <a:pt x="1081" y="314"/>
                </a:cubicBezTo>
                <a:cubicBezTo>
                  <a:pt x="1119" y="311"/>
                  <a:pt x="1124" y="318"/>
                  <a:pt x="1131" y="283"/>
                </a:cubicBezTo>
                <a:cubicBezTo>
                  <a:pt x="1125" y="266"/>
                  <a:pt x="1134" y="267"/>
                  <a:pt x="1148" y="261"/>
                </a:cubicBezTo>
                <a:cubicBezTo>
                  <a:pt x="1154" y="256"/>
                  <a:pt x="1161" y="253"/>
                  <a:pt x="1166" y="247"/>
                </a:cubicBezTo>
                <a:cubicBezTo>
                  <a:pt x="1168" y="244"/>
                  <a:pt x="1170" y="237"/>
                  <a:pt x="1170" y="237"/>
                </a:cubicBezTo>
                <a:cubicBezTo>
                  <a:pt x="1170" y="237"/>
                  <a:pt x="1167" y="244"/>
                  <a:pt x="1166" y="247"/>
                </a:cubicBezTo>
                <a:cubicBezTo>
                  <a:pt x="1161" y="196"/>
                  <a:pt x="1163" y="217"/>
                  <a:pt x="1131" y="230"/>
                </a:cubicBezTo>
                <a:cubicBezTo>
                  <a:pt x="1114" y="219"/>
                  <a:pt x="1104" y="202"/>
                  <a:pt x="1085" y="194"/>
                </a:cubicBezTo>
                <a:cubicBezTo>
                  <a:pt x="1079" y="180"/>
                  <a:pt x="1081" y="175"/>
                  <a:pt x="1067" y="166"/>
                </a:cubicBezTo>
                <a:cubicBezTo>
                  <a:pt x="1038" y="178"/>
                  <a:pt x="1066" y="182"/>
                  <a:pt x="1018" y="177"/>
                </a:cubicBezTo>
                <a:cubicBezTo>
                  <a:pt x="995" y="169"/>
                  <a:pt x="1017" y="159"/>
                  <a:pt x="986" y="166"/>
                </a:cubicBezTo>
                <a:cubicBezTo>
                  <a:pt x="984" y="170"/>
                  <a:pt x="983" y="179"/>
                  <a:pt x="979" y="177"/>
                </a:cubicBezTo>
                <a:cubicBezTo>
                  <a:pt x="968" y="171"/>
                  <a:pt x="963" y="146"/>
                  <a:pt x="951" y="138"/>
                </a:cubicBezTo>
                <a:cubicBezTo>
                  <a:pt x="942" y="114"/>
                  <a:pt x="908" y="76"/>
                  <a:pt x="883" y="67"/>
                </a:cubicBezTo>
                <a:cubicBezTo>
                  <a:pt x="876" y="40"/>
                  <a:pt x="899" y="40"/>
                  <a:pt x="855" y="46"/>
                </a:cubicBezTo>
                <a:cubicBezTo>
                  <a:pt x="840" y="51"/>
                  <a:pt x="835" y="63"/>
                  <a:pt x="820" y="67"/>
                </a:cubicBezTo>
                <a:cubicBezTo>
                  <a:pt x="806" y="76"/>
                  <a:pt x="803" y="73"/>
                  <a:pt x="788" y="67"/>
                </a:cubicBezTo>
                <a:cubicBezTo>
                  <a:pt x="781" y="43"/>
                  <a:pt x="767" y="52"/>
                  <a:pt x="746" y="46"/>
                </a:cubicBezTo>
                <a:cubicBezTo>
                  <a:pt x="729" y="57"/>
                  <a:pt x="734" y="46"/>
                  <a:pt x="724" y="32"/>
                </a:cubicBezTo>
                <a:cubicBezTo>
                  <a:pt x="719" y="1"/>
                  <a:pt x="709" y="7"/>
                  <a:pt x="682" y="0"/>
                </a:cubicBezTo>
                <a:cubicBezTo>
                  <a:pt x="669" y="3"/>
                  <a:pt x="663" y="0"/>
                  <a:pt x="650" y="3"/>
                </a:cubicBezTo>
                <a:cubicBezTo>
                  <a:pt x="628" y="28"/>
                  <a:pt x="642" y="20"/>
                  <a:pt x="594" y="25"/>
                </a:cubicBezTo>
                <a:cubicBezTo>
                  <a:pt x="583" y="28"/>
                  <a:pt x="572" y="28"/>
                  <a:pt x="562" y="32"/>
                </a:cubicBezTo>
                <a:cubicBezTo>
                  <a:pt x="554" y="35"/>
                  <a:pt x="541" y="46"/>
                  <a:pt x="541" y="46"/>
                </a:cubicBezTo>
                <a:cubicBezTo>
                  <a:pt x="511" y="39"/>
                  <a:pt x="482" y="53"/>
                  <a:pt x="452" y="56"/>
                </a:cubicBezTo>
                <a:cubicBezTo>
                  <a:pt x="440" y="70"/>
                  <a:pt x="453" y="70"/>
                  <a:pt x="466" y="74"/>
                </a:cubicBezTo>
                <a:cubicBezTo>
                  <a:pt x="473" y="92"/>
                  <a:pt x="458" y="88"/>
                  <a:pt x="442" y="92"/>
                </a:cubicBezTo>
                <a:cubicBezTo>
                  <a:pt x="417" y="108"/>
                  <a:pt x="438" y="89"/>
                  <a:pt x="438" y="109"/>
                </a:cubicBezTo>
                <a:cubicBezTo>
                  <a:pt x="438" y="113"/>
                  <a:pt x="423" y="123"/>
                  <a:pt x="421" y="124"/>
                </a:cubicBezTo>
                <a:cubicBezTo>
                  <a:pt x="425" y="143"/>
                  <a:pt x="430" y="144"/>
                  <a:pt x="449" y="148"/>
                </a:cubicBezTo>
                <a:cubicBezTo>
                  <a:pt x="468" y="178"/>
                  <a:pt x="421" y="175"/>
                  <a:pt x="403" y="177"/>
                </a:cubicBezTo>
                <a:cubicBezTo>
                  <a:pt x="380" y="198"/>
                  <a:pt x="384" y="178"/>
                  <a:pt x="364" y="166"/>
                </a:cubicBezTo>
                <a:cubicBezTo>
                  <a:pt x="356" y="144"/>
                  <a:pt x="361" y="163"/>
                  <a:pt x="343" y="170"/>
                </a:cubicBezTo>
                <a:cubicBezTo>
                  <a:pt x="321" y="165"/>
                  <a:pt x="302" y="171"/>
                  <a:pt x="283" y="184"/>
                </a:cubicBezTo>
                <a:cubicBezTo>
                  <a:pt x="272" y="180"/>
                  <a:pt x="262" y="177"/>
                  <a:pt x="251" y="173"/>
                </a:cubicBezTo>
                <a:cubicBezTo>
                  <a:pt x="241" y="158"/>
                  <a:pt x="229" y="150"/>
                  <a:pt x="212" y="145"/>
                </a:cubicBezTo>
                <a:cubicBezTo>
                  <a:pt x="197" y="149"/>
                  <a:pt x="194" y="143"/>
                  <a:pt x="180" y="152"/>
                </a:cubicBezTo>
                <a:cubicBezTo>
                  <a:pt x="167" y="143"/>
                  <a:pt x="163" y="140"/>
                  <a:pt x="148" y="145"/>
                </a:cubicBezTo>
                <a:cubicBezTo>
                  <a:pt x="144" y="159"/>
                  <a:pt x="137" y="158"/>
                  <a:pt x="124" y="162"/>
                </a:cubicBezTo>
                <a:cubicBezTo>
                  <a:pt x="119" y="177"/>
                  <a:pt x="114" y="176"/>
                  <a:pt x="99" y="180"/>
                </a:cubicBezTo>
                <a:cubicBezTo>
                  <a:pt x="106" y="227"/>
                  <a:pt x="98" y="204"/>
                  <a:pt x="85" y="194"/>
                </a:cubicBezTo>
                <a:cubicBezTo>
                  <a:pt x="82" y="192"/>
                  <a:pt x="78" y="192"/>
                  <a:pt x="74" y="191"/>
                </a:cubicBezTo>
                <a:cubicBezTo>
                  <a:pt x="51" y="195"/>
                  <a:pt x="58" y="198"/>
                  <a:pt x="46" y="215"/>
                </a:cubicBezTo>
                <a:cubicBezTo>
                  <a:pt x="50" y="231"/>
                  <a:pt x="48" y="241"/>
                  <a:pt x="39" y="254"/>
                </a:cubicBezTo>
                <a:cubicBezTo>
                  <a:pt x="46" y="293"/>
                  <a:pt x="34" y="259"/>
                  <a:pt x="53" y="276"/>
                </a:cubicBezTo>
                <a:cubicBezTo>
                  <a:pt x="56" y="278"/>
                  <a:pt x="54" y="283"/>
                  <a:pt x="57" y="286"/>
                </a:cubicBezTo>
                <a:cubicBezTo>
                  <a:pt x="62" y="291"/>
                  <a:pt x="86" y="293"/>
                  <a:pt x="88" y="293"/>
                </a:cubicBezTo>
                <a:cubicBezTo>
                  <a:pt x="94" y="310"/>
                  <a:pt x="92" y="330"/>
                  <a:pt x="110" y="336"/>
                </a:cubicBezTo>
                <a:cubicBezTo>
                  <a:pt x="127" y="333"/>
                  <a:pt x="141" y="334"/>
                  <a:pt x="152" y="321"/>
                </a:cubicBezTo>
                <a:cubicBezTo>
                  <a:pt x="173" y="322"/>
                  <a:pt x="195" y="320"/>
                  <a:pt x="216" y="325"/>
                </a:cubicBezTo>
                <a:cubicBezTo>
                  <a:pt x="229" y="328"/>
                  <a:pt x="212" y="346"/>
                  <a:pt x="212" y="346"/>
                </a:cubicBezTo>
                <a:cubicBezTo>
                  <a:pt x="201" y="368"/>
                  <a:pt x="24" y="483"/>
                  <a:pt x="8" y="502"/>
                </a:cubicBezTo>
                <a:cubicBezTo>
                  <a:pt x="4" y="516"/>
                  <a:pt x="5" y="480"/>
                  <a:pt x="0" y="494"/>
                </a:cubicBezTo>
                <a:cubicBezTo>
                  <a:pt x="5" y="508"/>
                  <a:pt x="17" y="521"/>
                  <a:pt x="24" y="534"/>
                </a:cubicBezTo>
                <a:cubicBezTo>
                  <a:pt x="28" y="542"/>
                  <a:pt x="2" y="576"/>
                  <a:pt x="8" y="582"/>
                </a:cubicBezTo>
                <a:cubicBezTo>
                  <a:pt x="13" y="587"/>
                  <a:pt x="230" y="492"/>
                  <a:pt x="237" y="495"/>
                </a:cubicBezTo>
                <a:cubicBezTo>
                  <a:pt x="253" y="519"/>
                  <a:pt x="244" y="511"/>
                  <a:pt x="261" y="523"/>
                </a:cubicBezTo>
                <a:cubicBezTo>
                  <a:pt x="271" y="550"/>
                  <a:pt x="248" y="526"/>
                  <a:pt x="258" y="551"/>
                </a:cubicBezTo>
                <a:cubicBezTo>
                  <a:pt x="237" y="558"/>
                  <a:pt x="237" y="574"/>
                  <a:pt x="233" y="594"/>
                </a:cubicBezTo>
                <a:cubicBezTo>
                  <a:pt x="238" y="607"/>
                  <a:pt x="240" y="614"/>
                  <a:pt x="254" y="618"/>
                </a:cubicBezTo>
                <a:cubicBezTo>
                  <a:pt x="261" y="626"/>
                  <a:pt x="329" y="618"/>
                  <a:pt x="344" y="618"/>
                </a:cubicBezTo>
              </a:path>
            </a:pathLst>
          </a:custGeom>
          <a:noFill/>
          <a:ln w="25560">
            <a:solidFill>
              <a:srgbClr val="1fff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09960" y="2152800"/>
            <a:ext cx="2158920" cy="1823760"/>
            <a:chOff x="3009960" y="2152800"/>
            <a:chExt cx="2158920" cy="1823760"/>
          </a:xfrm>
        </p:grpSpPr>
        <p:sp>
          <p:nvSpPr>
            <p:cNvPr id="100" name=""/>
            <p:cNvSpPr/>
            <p:nvPr/>
          </p:nvSpPr>
          <p:spPr>
            <a:xfrm>
              <a:off x="3009960" y="2152800"/>
              <a:ext cx="1514520" cy="1823760"/>
            </a:xfrm>
            <a:custGeom>
              <a:avLst/>
              <a:gdLst/>
              <a:ahLst/>
              <a:rect l="l" t="t" r="r" b="b"/>
              <a:pathLst>
                <a:path w="954" h="1149">
                  <a:moveTo>
                    <a:pt x="116" y="15"/>
                  </a:moveTo>
                  <a:cubicBezTo>
                    <a:pt x="108" y="42"/>
                    <a:pt x="103" y="38"/>
                    <a:pt x="74" y="43"/>
                  </a:cubicBezTo>
                  <a:cubicBezTo>
                    <a:pt x="70" y="45"/>
                    <a:pt x="66" y="47"/>
                    <a:pt x="63" y="50"/>
                  </a:cubicBezTo>
                  <a:cubicBezTo>
                    <a:pt x="61" y="53"/>
                    <a:pt x="63" y="58"/>
                    <a:pt x="60" y="61"/>
                  </a:cubicBezTo>
                  <a:cubicBezTo>
                    <a:pt x="54" y="67"/>
                    <a:pt x="39" y="75"/>
                    <a:pt x="39" y="75"/>
                  </a:cubicBezTo>
                  <a:cubicBezTo>
                    <a:pt x="29" y="100"/>
                    <a:pt x="25" y="127"/>
                    <a:pt x="17" y="152"/>
                  </a:cubicBezTo>
                  <a:cubicBezTo>
                    <a:pt x="13" y="163"/>
                    <a:pt x="0" y="184"/>
                    <a:pt x="0" y="184"/>
                  </a:cubicBezTo>
                  <a:cubicBezTo>
                    <a:pt x="2" y="212"/>
                    <a:pt x="6" y="272"/>
                    <a:pt x="31" y="290"/>
                  </a:cubicBezTo>
                  <a:cubicBezTo>
                    <a:pt x="42" y="318"/>
                    <a:pt x="29" y="360"/>
                    <a:pt x="53" y="375"/>
                  </a:cubicBezTo>
                  <a:cubicBezTo>
                    <a:pt x="87" y="372"/>
                    <a:pt x="84" y="369"/>
                    <a:pt x="109" y="361"/>
                  </a:cubicBezTo>
                  <a:cubicBezTo>
                    <a:pt x="128" y="366"/>
                    <a:pt x="124" y="381"/>
                    <a:pt x="138" y="393"/>
                  </a:cubicBezTo>
                  <a:cubicBezTo>
                    <a:pt x="143" y="411"/>
                    <a:pt x="153" y="428"/>
                    <a:pt x="159" y="446"/>
                  </a:cubicBezTo>
                  <a:cubicBezTo>
                    <a:pt x="161" y="462"/>
                    <a:pt x="165" y="473"/>
                    <a:pt x="169" y="488"/>
                  </a:cubicBezTo>
                  <a:cubicBezTo>
                    <a:pt x="162" y="512"/>
                    <a:pt x="150" y="538"/>
                    <a:pt x="141" y="562"/>
                  </a:cubicBezTo>
                  <a:cubicBezTo>
                    <a:pt x="143" y="584"/>
                    <a:pt x="137" y="609"/>
                    <a:pt x="159" y="615"/>
                  </a:cubicBezTo>
                  <a:cubicBezTo>
                    <a:pt x="186" y="633"/>
                    <a:pt x="208" y="659"/>
                    <a:pt x="219" y="690"/>
                  </a:cubicBezTo>
                  <a:cubicBezTo>
                    <a:pt x="222" y="706"/>
                    <a:pt x="227" y="714"/>
                    <a:pt x="233" y="728"/>
                  </a:cubicBezTo>
                  <a:cubicBezTo>
                    <a:pt x="236" y="751"/>
                    <a:pt x="230" y="750"/>
                    <a:pt x="244" y="760"/>
                  </a:cubicBezTo>
                  <a:cubicBezTo>
                    <a:pt x="251" y="765"/>
                    <a:pt x="265" y="774"/>
                    <a:pt x="265" y="774"/>
                  </a:cubicBezTo>
                  <a:cubicBezTo>
                    <a:pt x="277" y="792"/>
                    <a:pt x="297" y="802"/>
                    <a:pt x="318" y="806"/>
                  </a:cubicBezTo>
                  <a:cubicBezTo>
                    <a:pt x="308" y="812"/>
                    <a:pt x="298" y="816"/>
                    <a:pt x="289" y="824"/>
                  </a:cubicBezTo>
                  <a:cubicBezTo>
                    <a:pt x="282" y="819"/>
                    <a:pt x="275" y="815"/>
                    <a:pt x="268" y="810"/>
                  </a:cubicBezTo>
                  <a:cubicBezTo>
                    <a:pt x="265" y="808"/>
                    <a:pt x="258" y="803"/>
                    <a:pt x="258" y="803"/>
                  </a:cubicBezTo>
                  <a:cubicBezTo>
                    <a:pt x="245" y="768"/>
                    <a:pt x="215" y="741"/>
                    <a:pt x="180" y="728"/>
                  </a:cubicBezTo>
                  <a:cubicBezTo>
                    <a:pt x="173" y="711"/>
                    <a:pt x="166" y="702"/>
                    <a:pt x="148" y="697"/>
                  </a:cubicBezTo>
                  <a:cubicBezTo>
                    <a:pt x="120" y="667"/>
                    <a:pt x="129" y="679"/>
                    <a:pt x="67" y="683"/>
                  </a:cubicBezTo>
                  <a:cubicBezTo>
                    <a:pt x="59" y="704"/>
                    <a:pt x="70" y="706"/>
                    <a:pt x="88" y="718"/>
                  </a:cubicBezTo>
                  <a:cubicBezTo>
                    <a:pt x="95" y="723"/>
                    <a:pt x="109" y="732"/>
                    <a:pt x="109" y="732"/>
                  </a:cubicBezTo>
                  <a:cubicBezTo>
                    <a:pt x="118" y="756"/>
                    <a:pt x="124" y="761"/>
                    <a:pt x="148" y="771"/>
                  </a:cubicBezTo>
                  <a:cubicBezTo>
                    <a:pt x="162" y="791"/>
                    <a:pt x="161" y="816"/>
                    <a:pt x="183" y="831"/>
                  </a:cubicBezTo>
                  <a:cubicBezTo>
                    <a:pt x="196" y="866"/>
                    <a:pt x="237" y="922"/>
                    <a:pt x="261" y="951"/>
                  </a:cubicBezTo>
                  <a:cubicBezTo>
                    <a:pt x="272" y="964"/>
                    <a:pt x="283" y="981"/>
                    <a:pt x="300" y="986"/>
                  </a:cubicBezTo>
                  <a:cubicBezTo>
                    <a:pt x="318" y="997"/>
                    <a:pt x="333" y="1001"/>
                    <a:pt x="353" y="1004"/>
                  </a:cubicBezTo>
                  <a:cubicBezTo>
                    <a:pt x="368" y="1013"/>
                    <a:pt x="366" y="1020"/>
                    <a:pt x="350" y="1025"/>
                  </a:cubicBezTo>
                  <a:cubicBezTo>
                    <a:pt x="344" y="1042"/>
                    <a:pt x="353" y="1037"/>
                    <a:pt x="367" y="1043"/>
                  </a:cubicBezTo>
                  <a:cubicBezTo>
                    <a:pt x="389" y="1035"/>
                    <a:pt x="380" y="1046"/>
                    <a:pt x="395" y="1054"/>
                  </a:cubicBezTo>
                  <a:cubicBezTo>
                    <a:pt x="421" y="1069"/>
                    <a:pt x="475" y="1070"/>
                    <a:pt x="498" y="1071"/>
                  </a:cubicBezTo>
                  <a:cubicBezTo>
                    <a:pt x="505" y="1072"/>
                    <a:pt x="512" y="1075"/>
                    <a:pt x="519" y="1075"/>
                  </a:cubicBezTo>
                  <a:cubicBezTo>
                    <a:pt x="525" y="1075"/>
                    <a:pt x="531" y="1070"/>
                    <a:pt x="537" y="1071"/>
                  </a:cubicBezTo>
                  <a:cubicBezTo>
                    <a:pt x="545" y="1073"/>
                    <a:pt x="550" y="1083"/>
                    <a:pt x="558" y="1085"/>
                  </a:cubicBezTo>
                  <a:cubicBezTo>
                    <a:pt x="573" y="1082"/>
                    <a:pt x="583" y="1086"/>
                    <a:pt x="597" y="1082"/>
                  </a:cubicBezTo>
                  <a:cubicBezTo>
                    <a:pt x="615" y="1085"/>
                    <a:pt x="626" y="1090"/>
                    <a:pt x="643" y="1096"/>
                  </a:cubicBezTo>
                  <a:cubicBezTo>
                    <a:pt x="700" y="1093"/>
                    <a:pt x="711" y="1099"/>
                    <a:pt x="749" y="1085"/>
                  </a:cubicBezTo>
                  <a:cubicBezTo>
                    <a:pt x="751" y="1089"/>
                    <a:pt x="758" y="1092"/>
                    <a:pt x="756" y="1096"/>
                  </a:cubicBezTo>
                  <a:cubicBezTo>
                    <a:pt x="752" y="1103"/>
                    <a:pt x="735" y="1110"/>
                    <a:pt x="735" y="1110"/>
                  </a:cubicBezTo>
                  <a:cubicBezTo>
                    <a:pt x="739" y="1126"/>
                    <a:pt x="754" y="1127"/>
                    <a:pt x="770" y="1131"/>
                  </a:cubicBezTo>
                  <a:cubicBezTo>
                    <a:pt x="799" y="1149"/>
                    <a:pt x="777" y="1108"/>
                    <a:pt x="774" y="1096"/>
                  </a:cubicBezTo>
                  <a:cubicBezTo>
                    <a:pt x="795" y="1092"/>
                    <a:pt x="816" y="1088"/>
                    <a:pt x="837" y="1085"/>
                  </a:cubicBezTo>
                  <a:cubicBezTo>
                    <a:pt x="853" y="1091"/>
                    <a:pt x="864" y="1083"/>
                    <a:pt x="880" y="1089"/>
                  </a:cubicBezTo>
                  <a:cubicBezTo>
                    <a:pt x="897" y="1084"/>
                    <a:pt x="909" y="1073"/>
                    <a:pt x="926" y="1068"/>
                  </a:cubicBezTo>
                  <a:cubicBezTo>
                    <a:pt x="942" y="1073"/>
                    <a:pt x="944" y="1080"/>
                    <a:pt x="954" y="1064"/>
                  </a:cubicBezTo>
                  <a:cubicBezTo>
                    <a:pt x="941" y="1046"/>
                    <a:pt x="934" y="1052"/>
                    <a:pt x="915" y="1057"/>
                  </a:cubicBezTo>
                  <a:cubicBezTo>
                    <a:pt x="911" y="1059"/>
                    <a:pt x="907" y="1061"/>
                    <a:pt x="904" y="1064"/>
                  </a:cubicBezTo>
                  <a:cubicBezTo>
                    <a:pt x="902" y="1067"/>
                    <a:pt x="905" y="1074"/>
                    <a:pt x="901" y="1075"/>
                  </a:cubicBezTo>
                  <a:cubicBezTo>
                    <a:pt x="872" y="1083"/>
                    <a:pt x="842" y="1079"/>
                    <a:pt x="812" y="1082"/>
                  </a:cubicBezTo>
                  <a:cubicBezTo>
                    <a:pt x="793" y="1079"/>
                    <a:pt x="780" y="1077"/>
                    <a:pt x="763" y="1071"/>
                  </a:cubicBezTo>
                  <a:cubicBezTo>
                    <a:pt x="757" y="1072"/>
                    <a:pt x="751" y="1073"/>
                    <a:pt x="745" y="1075"/>
                  </a:cubicBezTo>
                  <a:cubicBezTo>
                    <a:pt x="741" y="1076"/>
                    <a:pt x="739" y="1081"/>
                    <a:pt x="735" y="1082"/>
                  </a:cubicBezTo>
                  <a:cubicBezTo>
                    <a:pt x="726" y="1083"/>
                    <a:pt x="712" y="1070"/>
                    <a:pt x="703" y="1068"/>
                  </a:cubicBezTo>
                  <a:cubicBezTo>
                    <a:pt x="669" y="1077"/>
                    <a:pt x="692" y="1079"/>
                    <a:pt x="636" y="1075"/>
                  </a:cubicBezTo>
                  <a:cubicBezTo>
                    <a:pt x="622" y="1066"/>
                    <a:pt x="617" y="1071"/>
                    <a:pt x="600" y="1068"/>
                  </a:cubicBezTo>
                  <a:cubicBezTo>
                    <a:pt x="594" y="1046"/>
                    <a:pt x="603" y="1065"/>
                    <a:pt x="572" y="1054"/>
                  </a:cubicBezTo>
                  <a:cubicBezTo>
                    <a:pt x="565" y="1051"/>
                    <a:pt x="561" y="1042"/>
                    <a:pt x="554" y="1039"/>
                  </a:cubicBezTo>
                  <a:cubicBezTo>
                    <a:pt x="537" y="1031"/>
                    <a:pt x="516" y="1027"/>
                    <a:pt x="498" y="1022"/>
                  </a:cubicBezTo>
                  <a:cubicBezTo>
                    <a:pt x="483" y="1044"/>
                    <a:pt x="464" y="1032"/>
                    <a:pt x="441" y="1029"/>
                  </a:cubicBezTo>
                  <a:cubicBezTo>
                    <a:pt x="418" y="1020"/>
                    <a:pt x="402" y="1008"/>
                    <a:pt x="378" y="1001"/>
                  </a:cubicBezTo>
                  <a:cubicBezTo>
                    <a:pt x="363" y="984"/>
                    <a:pt x="368" y="972"/>
                    <a:pt x="374" y="951"/>
                  </a:cubicBezTo>
                  <a:cubicBezTo>
                    <a:pt x="363" y="933"/>
                    <a:pt x="355" y="922"/>
                    <a:pt x="381" y="916"/>
                  </a:cubicBezTo>
                  <a:cubicBezTo>
                    <a:pt x="377" y="903"/>
                    <a:pt x="363" y="888"/>
                    <a:pt x="350" y="884"/>
                  </a:cubicBezTo>
                  <a:cubicBezTo>
                    <a:pt x="321" y="892"/>
                    <a:pt x="336" y="884"/>
                    <a:pt x="325" y="873"/>
                  </a:cubicBezTo>
                  <a:cubicBezTo>
                    <a:pt x="319" y="867"/>
                    <a:pt x="304" y="859"/>
                    <a:pt x="304" y="859"/>
                  </a:cubicBezTo>
                  <a:cubicBezTo>
                    <a:pt x="308" y="845"/>
                    <a:pt x="317" y="845"/>
                    <a:pt x="321" y="831"/>
                  </a:cubicBezTo>
                  <a:cubicBezTo>
                    <a:pt x="316" y="811"/>
                    <a:pt x="315" y="802"/>
                    <a:pt x="321" y="781"/>
                  </a:cubicBezTo>
                  <a:cubicBezTo>
                    <a:pt x="316" y="764"/>
                    <a:pt x="307" y="743"/>
                    <a:pt x="297" y="728"/>
                  </a:cubicBezTo>
                  <a:cubicBezTo>
                    <a:pt x="310" y="686"/>
                    <a:pt x="298" y="670"/>
                    <a:pt x="261" y="651"/>
                  </a:cubicBezTo>
                  <a:cubicBezTo>
                    <a:pt x="252" y="641"/>
                    <a:pt x="246" y="631"/>
                    <a:pt x="236" y="622"/>
                  </a:cubicBezTo>
                  <a:cubicBezTo>
                    <a:pt x="232" y="610"/>
                    <a:pt x="229" y="601"/>
                    <a:pt x="222" y="591"/>
                  </a:cubicBezTo>
                  <a:cubicBezTo>
                    <a:pt x="216" y="567"/>
                    <a:pt x="202" y="550"/>
                    <a:pt x="194" y="527"/>
                  </a:cubicBezTo>
                  <a:cubicBezTo>
                    <a:pt x="204" y="500"/>
                    <a:pt x="208" y="474"/>
                    <a:pt x="219" y="446"/>
                  </a:cubicBezTo>
                  <a:cubicBezTo>
                    <a:pt x="225" y="465"/>
                    <a:pt x="238" y="470"/>
                    <a:pt x="254" y="481"/>
                  </a:cubicBezTo>
                  <a:cubicBezTo>
                    <a:pt x="258" y="483"/>
                    <a:pt x="265" y="488"/>
                    <a:pt x="265" y="488"/>
                  </a:cubicBezTo>
                  <a:cubicBezTo>
                    <a:pt x="266" y="492"/>
                    <a:pt x="265" y="496"/>
                    <a:pt x="268" y="499"/>
                  </a:cubicBezTo>
                  <a:cubicBezTo>
                    <a:pt x="271" y="502"/>
                    <a:pt x="276" y="500"/>
                    <a:pt x="279" y="502"/>
                  </a:cubicBezTo>
                  <a:cubicBezTo>
                    <a:pt x="291" y="508"/>
                    <a:pt x="297" y="519"/>
                    <a:pt x="307" y="527"/>
                  </a:cubicBezTo>
                  <a:cubicBezTo>
                    <a:pt x="314" y="532"/>
                    <a:pt x="328" y="541"/>
                    <a:pt x="328" y="541"/>
                  </a:cubicBezTo>
                  <a:cubicBezTo>
                    <a:pt x="333" y="555"/>
                    <a:pt x="341" y="558"/>
                    <a:pt x="335" y="573"/>
                  </a:cubicBezTo>
                  <a:cubicBezTo>
                    <a:pt x="340" y="588"/>
                    <a:pt x="345" y="588"/>
                    <a:pt x="360" y="584"/>
                  </a:cubicBezTo>
                  <a:cubicBezTo>
                    <a:pt x="367" y="576"/>
                    <a:pt x="368" y="561"/>
                    <a:pt x="374" y="555"/>
                  </a:cubicBezTo>
                  <a:cubicBezTo>
                    <a:pt x="396" y="533"/>
                    <a:pt x="428" y="526"/>
                    <a:pt x="456" y="516"/>
                  </a:cubicBezTo>
                  <a:cubicBezTo>
                    <a:pt x="459" y="500"/>
                    <a:pt x="461" y="491"/>
                    <a:pt x="470" y="478"/>
                  </a:cubicBezTo>
                  <a:cubicBezTo>
                    <a:pt x="475" y="442"/>
                    <a:pt x="478" y="398"/>
                    <a:pt x="448" y="372"/>
                  </a:cubicBezTo>
                  <a:cubicBezTo>
                    <a:pt x="442" y="350"/>
                    <a:pt x="425" y="338"/>
                    <a:pt x="406" y="326"/>
                  </a:cubicBezTo>
                  <a:cubicBezTo>
                    <a:pt x="398" y="296"/>
                    <a:pt x="410" y="332"/>
                    <a:pt x="395" y="308"/>
                  </a:cubicBezTo>
                  <a:cubicBezTo>
                    <a:pt x="390" y="300"/>
                    <a:pt x="387" y="285"/>
                    <a:pt x="385" y="276"/>
                  </a:cubicBezTo>
                  <a:cubicBezTo>
                    <a:pt x="389" y="245"/>
                    <a:pt x="394" y="241"/>
                    <a:pt x="410" y="216"/>
                  </a:cubicBezTo>
                  <a:cubicBezTo>
                    <a:pt x="414" y="201"/>
                    <a:pt x="414" y="197"/>
                    <a:pt x="399" y="191"/>
                  </a:cubicBezTo>
                  <a:cubicBezTo>
                    <a:pt x="392" y="181"/>
                    <a:pt x="390" y="168"/>
                    <a:pt x="378" y="163"/>
                  </a:cubicBezTo>
                  <a:cubicBezTo>
                    <a:pt x="366" y="158"/>
                    <a:pt x="342" y="152"/>
                    <a:pt x="342" y="152"/>
                  </a:cubicBezTo>
                  <a:cubicBezTo>
                    <a:pt x="308" y="166"/>
                    <a:pt x="353" y="164"/>
                    <a:pt x="300" y="170"/>
                  </a:cubicBezTo>
                  <a:cubicBezTo>
                    <a:pt x="286" y="175"/>
                    <a:pt x="282" y="171"/>
                    <a:pt x="268" y="167"/>
                  </a:cubicBezTo>
                  <a:cubicBezTo>
                    <a:pt x="244" y="183"/>
                    <a:pt x="249" y="173"/>
                    <a:pt x="244" y="191"/>
                  </a:cubicBezTo>
                  <a:cubicBezTo>
                    <a:pt x="247" y="203"/>
                    <a:pt x="262" y="221"/>
                    <a:pt x="240" y="205"/>
                  </a:cubicBezTo>
                  <a:cubicBezTo>
                    <a:pt x="234" y="191"/>
                    <a:pt x="230" y="187"/>
                    <a:pt x="215" y="191"/>
                  </a:cubicBezTo>
                  <a:cubicBezTo>
                    <a:pt x="199" y="216"/>
                    <a:pt x="210" y="185"/>
                    <a:pt x="187" y="177"/>
                  </a:cubicBezTo>
                  <a:cubicBezTo>
                    <a:pt x="193" y="162"/>
                    <a:pt x="190" y="158"/>
                    <a:pt x="176" y="149"/>
                  </a:cubicBezTo>
                  <a:cubicBezTo>
                    <a:pt x="167" y="135"/>
                    <a:pt x="171" y="125"/>
                    <a:pt x="155" y="121"/>
                  </a:cubicBezTo>
                  <a:cubicBezTo>
                    <a:pt x="139" y="132"/>
                    <a:pt x="142" y="121"/>
                    <a:pt x="138" y="107"/>
                  </a:cubicBezTo>
                  <a:cubicBezTo>
                    <a:pt x="141" y="96"/>
                    <a:pt x="156" y="77"/>
                    <a:pt x="166" y="71"/>
                  </a:cubicBezTo>
                  <a:cubicBezTo>
                    <a:pt x="164" y="50"/>
                    <a:pt x="158" y="9"/>
                    <a:pt x="134" y="0"/>
                  </a:cubicBezTo>
                  <a:cubicBezTo>
                    <a:pt x="130" y="1"/>
                    <a:pt x="126" y="1"/>
                    <a:pt x="123" y="4"/>
                  </a:cubicBezTo>
                  <a:cubicBezTo>
                    <a:pt x="120" y="7"/>
                    <a:pt x="123" y="12"/>
                    <a:pt x="120" y="15"/>
                  </a:cubicBezTo>
                  <a:cubicBezTo>
                    <a:pt x="117" y="18"/>
                    <a:pt x="113" y="18"/>
                    <a:pt x="109" y="18"/>
                  </a:cubicBezTo>
                  <a:cubicBezTo>
                    <a:pt x="106" y="18"/>
                    <a:pt x="114" y="16"/>
                    <a:pt x="116" y="15"/>
                  </a:cubicBez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95760" y="3143160"/>
              <a:ext cx="444240" cy="522360"/>
            </a:xfrm>
            <a:custGeom>
              <a:avLst/>
              <a:gdLst/>
              <a:ahLst/>
              <a:rect l="l" t="t" r="r" b="b"/>
              <a:pathLst>
                <a:path w="280" h="329">
                  <a:moveTo>
                    <a:pt x="22" y="159"/>
                  </a:moveTo>
                  <a:cubicBezTo>
                    <a:pt x="10" y="167"/>
                    <a:pt x="5" y="170"/>
                    <a:pt x="1" y="184"/>
                  </a:cubicBezTo>
                  <a:cubicBezTo>
                    <a:pt x="2" y="196"/>
                    <a:pt x="0" y="211"/>
                    <a:pt x="8" y="219"/>
                  </a:cubicBezTo>
                  <a:cubicBezTo>
                    <a:pt x="14" y="225"/>
                    <a:pt x="29" y="233"/>
                    <a:pt x="29" y="233"/>
                  </a:cubicBezTo>
                  <a:cubicBezTo>
                    <a:pt x="36" y="252"/>
                    <a:pt x="34" y="283"/>
                    <a:pt x="54" y="290"/>
                  </a:cubicBezTo>
                  <a:cubicBezTo>
                    <a:pt x="75" y="309"/>
                    <a:pt x="84" y="303"/>
                    <a:pt x="114" y="300"/>
                  </a:cubicBezTo>
                  <a:cubicBezTo>
                    <a:pt x="130" y="302"/>
                    <a:pt x="156" y="312"/>
                    <a:pt x="171" y="307"/>
                  </a:cubicBezTo>
                  <a:cubicBezTo>
                    <a:pt x="192" y="316"/>
                    <a:pt x="173" y="329"/>
                    <a:pt x="195" y="322"/>
                  </a:cubicBezTo>
                  <a:cubicBezTo>
                    <a:pt x="206" y="309"/>
                    <a:pt x="218" y="319"/>
                    <a:pt x="213" y="300"/>
                  </a:cubicBezTo>
                  <a:cubicBezTo>
                    <a:pt x="217" y="256"/>
                    <a:pt x="218" y="280"/>
                    <a:pt x="227" y="251"/>
                  </a:cubicBezTo>
                  <a:cubicBezTo>
                    <a:pt x="233" y="211"/>
                    <a:pt x="232" y="233"/>
                    <a:pt x="248" y="208"/>
                  </a:cubicBezTo>
                  <a:cubicBezTo>
                    <a:pt x="256" y="174"/>
                    <a:pt x="263" y="201"/>
                    <a:pt x="280" y="177"/>
                  </a:cubicBezTo>
                  <a:cubicBezTo>
                    <a:pt x="276" y="162"/>
                    <a:pt x="268" y="156"/>
                    <a:pt x="255" y="148"/>
                  </a:cubicBezTo>
                  <a:cubicBezTo>
                    <a:pt x="244" y="132"/>
                    <a:pt x="241" y="102"/>
                    <a:pt x="259" y="88"/>
                  </a:cubicBezTo>
                  <a:cubicBezTo>
                    <a:pt x="265" y="83"/>
                    <a:pt x="273" y="84"/>
                    <a:pt x="280" y="81"/>
                  </a:cubicBezTo>
                  <a:cubicBezTo>
                    <a:pt x="275" y="57"/>
                    <a:pt x="271" y="56"/>
                    <a:pt x="248" y="49"/>
                  </a:cubicBezTo>
                  <a:cubicBezTo>
                    <a:pt x="252" y="48"/>
                    <a:pt x="257" y="49"/>
                    <a:pt x="259" y="46"/>
                  </a:cubicBezTo>
                  <a:cubicBezTo>
                    <a:pt x="261" y="43"/>
                    <a:pt x="257" y="38"/>
                    <a:pt x="255" y="35"/>
                  </a:cubicBezTo>
                  <a:cubicBezTo>
                    <a:pt x="253" y="32"/>
                    <a:pt x="235" y="4"/>
                    <a:pt x="234" y="3"/>
                  </a:cubicBezTo>
                  <a:cubicBezTo>
                    <a:pt x="232" y="1"/>
                    <a:pt x="227" y="1"/>
                    <a:pt x="224" y="0"/>
                  </a:cubicBezTo>
                  <a:cubicBezTo>
                    <a:pt x="202" y="19"/>
                    <a:pt x="202" y="59"/>
                    <a:pt x="171" y="71"/>
                  </a:cubicBezTo>
                  <a:cubicBezTo>
                    <a:pt x="156" y="66"/>
                    <a:pt x="152" y="69"/>
                    <a:pt x="139" y="78"/>
                  </a:cubicBezTo>
                  <a:cubicBezTo>
                    <a:pt x="118" y="108"/>
                    <a:pt x="147" y="65"/>
                    <a:pt x="128" y="102"/>
                  </a:cubicBezTo>
                  <a:cubicBezTo>
                    <a:pt x="120" y="118"/>
                    <a:pt x="95" y="129"/>
                    <a:pt x="79" y="134"/>
                  </a:cubicBezTo>
                  <a:cubicBezTo>
                    <a:pt x="57" y="148"/>
                    <a:pt x="74" y="167"/>
                    <a:pt x="50" y="173"/>
                  </a:cubicBezTo>
                  <a:cubicBezTo>
                    <a:pt x="40" y="163"/>
                    <a:pt x="36" y="159"/>
                    <a:pt x="22" y="159"/>
                  </a:cubicBez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52960" y="2622600"/>
              <a:ext cx="330120" cy="1130400"/>
            </a:xfrm>
            <a:custGeom>
              <a:avLst/>
              <a:gdLst/>
              <a:ahLst/>
              <a:rect l="l" t="t" r="r" b="b"/>
              <a:pathLst>
                <a:path w="208" h="712">
                  <a:moveTo>
                    <a:pt x="95" y="9"/>
                  </a:moveTo>
                  <a:cubicBezTo>
                    <a:pt x="79" y="3"/>
                    <a:pt x="63" y="0"/>
                    <a:pt x="46" y="5"/>
                  </a:cubicBezTo>
                  <a:cubicBezTo>
                    <a:pt x="38" y="27"/>
                    <a:pt x="52" y="53"/>
                    <a:pt x="31" y="72"/>
                  </a:cubicBezTo>
                  <a:cubicBezTo>
                    <a:pt x="27" y="87"/>
                    <a:pt x="27" y="97"/>
                    <a:pt x="39" y="108"/>
                  </a:cubicBezTo>
                  <a:cubicBezTo>
                    <a:pt x="45" y="129"/>
                    <a:pt x="45" y="167"/>
                    <a:pt x="67" y="175"/>
                  </a:cubicBezTo>
                  <a:cubicBezTo>
                    <a:pt x="76" y="189"/>
                    <a:pt x="79" y="190"/>
                    <a:pt x="95" y="186"/>
                  </a:cubicBezTo>
                  <a:cubicBezTo>
                    <a:pt x="101" y="201"/>
                    <a:pt x="96" y="214"/>
                    <a:pt x="84" y="224"/>
                  </a:cubicBezTo>
                  <a:cubicBezTo>
                    <a:pt x="85" y="232"/>
                    <a:pt x="80" y="246"/>
                    <a:pt x="88" y="249"/>
                  </a:cubicBezTo>
                  <a:cubicBezTo>
                    <a:pt x="96" y="252"/>
                    <a:pt x="109" y="235"/>
                    <a:pt x="109" y="235"/>
                  </a:cubicBezTo>
                  <a:cubicBezTo>
                    <a:pt x="126" y="241"/>
                    <a:pt x="120" y="248"/>
                    <a:pt x="106" y="253"/>
                  </a:cubicBezTo>
                  <a:cubicBezTo>
                    <a:pt x="99" y="263"/>
                    <a:pt x="94" y="263"/>
                    <a:pt x="106" y="274"/>
                  </a:cubicBezTo>
                  <a:cubicBezTo>
                    <a:pt x="112" y="280"/>
                    <a:pt x="127" y="288"/>
                    <a:pt x="127" y="288"/>
                  </a:cubicBezTo>
                  <a:cubicBezTo>
                    <a:pt x="133" y="309"/>
                    <a:pt x="117" y="306"/>
                    <a:pt x="99" y="309"/>
                  </a:cubicBezTo>
                  <a:cubicBezTo>
                    <a:pt x="83" y="319"/>
                    <a:pt x="75" y="338"/>
                    <a:pt x="81" y="359"/>
                  </a:cubicBezTo>
                  <a:cubicBezTo>
                    <a:pt x="82" y="363"/>
                    <a:pt x="88" y="356"/>
                    <a:pt x="92" y="355"/>
                  </a:cubicBezTo>
                  <a:cubicBezTo>
                    <a:pt x="97" y="354"/>
                    <a:pt x="101" y="353"/>
                    <a:pt x="106" y="352"/>
                  </a:cubicBezTo>
                  <a:cubicBezTo>
                    <a:pt x="115" y="337"/>
                    <a:pt x="118" y="331"/>
                    <a:pt x="134" y="341"/>
                  </a:cubicBezTo>
                  <a:cubicBezTo>
                    <a:pt x="133" y="350"/>
                    <a:pt x="132" y="360"/>
                    <a:pt x="130" y="369"/>
                  </a:cubicBezTo>
                  <a:cubicBezTo>
                    <a:pt x="129" y="373"/>
                    <a:pt x="127" y="380"/>
                    <a:pt x="127" y="380"/>
                  </a:cubicBezTo>
                  <a:cubicBezTo>
                    <a:pt x="151" y="387"/>
                    <a:pt x="133" y="423"/>
                    <a:pt x="159" y="440"/>
                  </a:cubicBezTo>
                  <a:cubicBezTo>
                    <a:pt x="166" y="451"/>
                    <a:pt x="169" y="460"/>
                    <a:pt x="173" y="472"/>
                  </a:cubicBezTo>
                  <a:cubicBezTo>
                    <a:pt x="164" y="495"/>
                    <a:pt x="161" y="500"/>
                    <a:pt x="134" y="507"/>
                  </a:cubicBezTo>
                  <a:cubicBezTo>
                    <a:pt x="118" y="517"/>
                    <a:pt x="106" y="512"/>
                    <a:pt x="88" y="507"/>
                  </a:cubicBezTo>
                  <a:cubicBezTo>
                    <a:pt x="74" y="509"/>
                    <a:pt x="59" y="507"/>
                    <a:pt x="46" y="514"/>
                  </a:cubicBezTo>
                  <a:cubicBezTo>
                    <a:pt x="38" y="518"/>
                    <a:pt x="24" y="528"/>
                    <a:pt x="24" y="528"/>
                  </a:cubicBezTo>
                  <a:cubicBezTo>
                    <a:pt x="19" y="546"/>
                    <a:pt x="17" y="564"/>
                    <a:pt x="10" y="581"/>
                  </a:cubicBezTo>
                  <a:cubicBezTo>
                    <a:pt x="16" y="602"/>
                    <a:pt x="6" y="618"/>
                    <a:pt x="0" y="638"/>
                  </a:cubicBezTo>
                  <a:cubicBezTo>
                    <a:pt x="25" y="655"/>
                    <a:pt x="19" y="644"/>
                    <a:pt x="24" y="666"/>
                  </a:cubicBezTo>
                  <a:cubicBezTo>
                    <a:pt x="20" y="684"/>
                    <a:pt x="13" y="706"/>
                    <a:pt x="35" y="712"/>
                  </a:cubicBezTo>
                  <a:cubicBezTo>
                    <a:pt x="39" y="711"/>
                    <a:pt x="44" y="712"/>
                    <a:pt x="46" y="709"/>
                  </a:cubicBezTo>
                  <a:cubicBezTo>
                    <a:pt x="50" y="701"/>
                    <a:pt x="57" y="656"/>
                    <a:pt x="60" y="641"/>
                  </a:cubicBezTo>
                  <a:cubicBezTo>
                    <a:pt x="64" y="655"/>
                    <a:pt x="63" y="662"/>
                    <a:pt x="77" y="666"/>
                  </a:cubicBezTo>
                  <a:cubicBezTo>
                    <a:pt x="87" y="693"/>
                    <a:pt x="72" y="662"/>
                    <a:pt x="95" y="680"/>
                  </a:cubicBezTo>
                  <a:cubicBezTo>
                    <a:pt x="101" y="685"/>
                    <a:pt x="96" y="697"/>
                    <a:pt x="102" y="701"/>
                  </a:cubicBezTo>
                  <a:cubicBezTo>
                    <a:pt x="108" y="705"/>
                    <a:pt x="123" y="709"/>
                    <a:pt x="123" y="709"/>
                  </a:cubicBezTo>
                  <a:cubicBezTo>
                    <a:pt x="127" y="689"/>
                    <a:pt x="138" y="670"/>
                    <a:pt x="113" y="663"/>
                  </a:cubicBezTo>
                  <a:cubicBezTo>
                    <a:pt x="104" y="638"/>
                    <a:pt x="109" y="643"/>
                    <a:pt x="84" y="634"/>
                  </a:cubicBezTo>
                  <a:cubicBezTo>
                    <a:pt x="79" y="619"/>
                    <a:pt x="83" y="609"/>
                    <a:pt x="77" y="592"/>
                  </a:cubicBezTo>
                  <a:cubicBezTo>
                    <a:pt x="97" y="588"/>
                    <a:pt x="101" y="591"/>
                    <a:pt x="120" y="595"/>
                  </a:cubicBezTo>
                  <a:cubicBezTo>
                    <a:pt x="122" y="597"/>
                    <a:pt x="134" y="616"/>
                    <a:pt x="130" y="592"/>
                  </a:cubicBezTo>
                  <a:cubicBezTo>
                    <a:pt x="128" y="580"/>
                    <a:pt x="102" y="567"/>
                    <a:pt x="102" y="567"/>
                  </a:cubicBezTo>
                  <a:cubicBezTo>
                    <a:pt x="91" y="571"/>
                    <a:pt x="81" y="574"/>
                    <a:pt x="70" y="578"/>
                  </a:cubicBezTo>
                  <a:cubicBezTo>
                    <a:pt x="42" y="570"/>
                    <a:pt x="46" y="575"/>
                    <a:pt x="39" y="550"/>
                  </a:cubicBezTo>
                  <a:cubicBezTo>
                    <a:pt x="44" y="531"/>
                    <a:pt x="64" y="532"/>
                    <a:pt x="81" y="528"/>
                  </a:cubicBezTo>
                  <a:cubicBezTo>
                    <a:pt x="102" y="534"/>
                    <a:pt x="124" y="531"/>
                    <a:pt x="145" y="539"/>
                  </a:cubicBezTo>
                  <a:cubicBezTo>
                    <a:pt x="157" y="531"/>
                    <a:pt x="165" y="530"/>
                    <a:pt x="173" y="518"/>
                  </a:cubicBezTo>
                  <a:cubicBezTo>
                    <a:pt x="178" y="501"/>
                    <a:pt x="183" y="485"/>
                    <a:pt x="187" y="468"/>
                  </a:cubicBezTo>
                  <a:cubicBezTo>
                    <a:pt x="182" y="455"/>
                    <a:pt x="178" y="448"/>
                    <a:pt x="166" y="440"/>
                  </a:cubicBezTo>
                  <a:cubicBezTo>
                    <a:pt x="169" y="407"/>
                    <a:pt x="171" y="408"/>
                    <a:pt x="180" y="383"/>
                  </a:cubicBezTo>
                  <a:cubicBezTo>
                    <a:pt x="174" y="367"/>
                    <a:pt x="185" y="354"/>
                    <a:pt x="198" y="345"/>
                  </a:cubicBezTo>
                  <a:cubicBezTo>
                    <a:pt x="201" y="332"/>
                    <a:pt x="205" y="321"/>
                    <a:pt x="208" y="309"/>
                  </a:cubicBezTo>
                  <a:cubicBezTo>
                    <a:pt x="205" y="295"/>
                    <a:pt x="200" y="288"/>
                    <a:pt x="205" y="274"/>
                  </a:cubicBezTo>
                  <a:cubicBezTo>
                    <a:pt x="199" y="257"/>
                    <a:pt x="192" y="250"/>
                    <a:pt x="183" y="235"/>
                  </a:cubicBezTo>
                  <a:cubicBezTo>
                    <a:pt x="180" y="217"/>
                    <a:pt x="181" y="213"/>
                    <a:pt x="187" y="196"/>
                  </a:cubicBezTo>
                  <a:cubicBezTo>
                    <a:pt x="186" y="193"/>
                    <a:pt x="186" y="188"/>
                    <a:pt x="183" y="186"/>
                  </a:cubicBezTo>
                  <a:cubicBezTo>
                    <a:pt x="177" y="182"/>
                    <a:pt x="162" y="178"/>
                    <a:pt x="162" y="178"/>
                  </a:cubicBezTo>
                  <a:cubicBezTo>
                    <a:pt x="153" y="165"/>
                    <a:pt x="153" y="159"/>
                    <a:pt x="169" y="154"/>
                  </a:cubicBezTo>
                  <a:cubicBezTo>
                    <a:pt x="175" y="137"/>
                    <a:pt x="166" y="142"/>
                    <a:pt x="152" y="136"/>
                  </a:cubicBezTo>
                  <a:cubicBezTo>
                    <a:pt x="144" y="138"/>
                    <a:pt x="135" y="146"/>
                    <a:pt x="127" y="143"/>
                  </a:cubicBezTo>
                  <a:cubicBezTo>
                    <a:pt x="123" y="141"/>
                    <a:pt x="123" y="135"/>
                    <a:pt x="120" y="133"/>
                  </a:cubicBezTo>
                  <a:cubicBezTo>
                    <a:pt x="117" y="131"/>
                    <a:pt x="113" y="130"/>
                    <a:pt x="109" y="129"/>
                  </a:cubicBezTo>
                  <a:cubicBezTo>
                    <a:pt x="106" y="130"/>
                    <a:pt x="103" y="133"/>
                    <a:pt x="99" y="133"/>
                  </a:cubicBezTo>
                  <a:cubicBezTo>
                    <a:pt x="91" y="132"/>
                    <a:pt x="77" y="125"/>
                    <a:pt x="77" y="125"/>
                  </a:cubicBezTo>
                  <a:cubicBezTo>
                    <a:pt x="80" y="106"/>
                    <a:pt x="85" y="94"/>
                    <a:pt x="81" y="76"/>
                  </a:cubicBezTo>
                  <a:cubicBezTo>
                    <a:pt x="94" y="71"/>
                    <a:pt x="101" y="69"/>
                    <a:pt x="106" y="55"/>
                  </a:cubicBezTo>
                  <a:cubicBezTo>
                    <a:pt x="90" y="45"/>
                    <a:pt x="91" y="41"/>
                    <a:pt x="95" y="23"/>
                  </a:cubicBezTo>
                  <a:cubicBezTo>
                    <a:pt x="92" y="8"/>
                    <a:pt x="87" y="9"/>
                    <a:pt x="95" y="9"/>
                  </a:cubicBez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86240" y="3352680"/>
              <a:ext cx="782640" cy="540000"/>
            </a:xfrm>
            <a:custGeom>
              <a:avLst/>
              <a:gdLst/>
              <a:ahLst/>
              <a:rect l="l" t="t" r="r" b="b"/>
              <a:pathLst>
                <a:path w="493" h="340">
                  <a:moveTo>
                    <a:pt x="0" y="117"/>
                  </a:moveTo>
                  <a:cubicBezTo>
                    <a:pt x="4" y="116"/>
                    <a:pt x="7" y="114"/>
                    <a:pt x="11" y="113"/>
                  </a:cubicBezTo>
                  <a:cubicBezTo>
                    <a:pt x="23" y="111"/>
                    <a:pt x="35" y="113"/>
                    <a:pt x="46" y="110"/>
                  </a:cubicBezTo>
                  <a:cubicBezTo>
                    <a:pt x="53" y="108"/>
                    <a:pt x="70" y="79"/>
                    <a:pt x="71" y="78"/>
                  </a:cubicBezTo>
                  <a:cubicBezTo>
                    <a:pt x="73" y="74"/>
                    <a:pt x="78" y="67"/>
                    <a:pt x="78" y="67"/>
                  </a:cubicBezTo>
                  <a:cubicBezTo>
                    <a:pt x="71" y="37"/>
                    <a:pt x="84" y="12"/>
                    <a:pt x="113" y="0"/>
                  </a:cubicBezTo>
                  <a:cubicBezTo>
                    <a:pt x="109" y="19"/>
                    <a:pt x="96" y="20"/>
                    <a:pt x="113" y="25"/>
                  </a:cubicBezTo>
                  <a:cubicBezTo>
                    <a:pt x="114" y="29"/>
                    <a:pt x="117" y="32"/>
                    <a:pt x="117" y="36"/>
                  </a:cubicBezTo>
                  <a:cubicBezTo>
                    <a:pt x="117" y="40"/>
                    <a:pt x="111" y="43"/>
                    <a:pt x="113" y="46"/>
                  </a:cubicBezTo>
                  <a:cubicBezTo>
                    <a:pt x="118" y="53"/>
                    <a:pt x="134" y="60"/>
                    <a:pt x="134" y="60"/>
                  </a:cubicBezTo>
                  <a:cubicBezTo>
                    <a:pt x="136" y="64"/>
                    <a:pt x="137" y="70"/>
                    <a:pt x="141" y="71"/>
                  </a:cubicBezTo>
                  <a:cubicBezTo>
                    <a:pt x="144" y="72"/>
                    <a:pt x="145" y="64"/>
                    <a:pt x="149" y="64"/>
                  </a:cubicBezTo>
                  <a:cubicBezTo>
                    <a:pt x="159" y="63"/>
                    <a:pt x="170" y="66"/>
                    <a:pt x="180" y="67"/>
                  </a:cubicBezTo>
                  <a:cubicBezTo>
                    <a:pt x="189" y="93"/>
                    <a:pt x="200" y="78"/>
                    <a:pt x="223" y="75"/>
                  </a:cubicBezTo>
                  <a:cubicBezTo>
                    <a:pt x="242" y="81"/>
                    <a:pt x="239" y="86"/>
                    <a:pt x="251" y="96"/>
                  </a:cubicBezTo>
                  <a:cubicBezTo>
                    <a:pt x="257" y="101"/>
                    <a:pt x="265" y="100"/>
                    <a:pt x="272" y="103"/>
                  </a:cubicBezTo>
                  <a:cubicBezTo>
                    <a:pt x="273" y="106"/>
                    <a:pt x="276" y="109"/>
                    <a:pt x="276" y="113"/>
                  </a:cubicBezTo>
                  <a:cubicBezTo>
                    <a:pt x="276" y="117"/>
                    <a:pt x="271" y="120"/>
                    <a:pt x="272" y="124"/>
                  </a:cubicBezTo>
                  <a:cubicBezTo>
                    <a:pt x="275" y="133"/>
                    <a:pt x="287" y="135"/>
                    <a:pt x="293" y="142"/>
                  </a:cubicBezTo>
                  <a:cubicBezTo>
                    <a:pt x="294" y="145"/>
                    <a:pt x="294" y="150"/>
                    <a:pt x="297" y="152"/>
                  </a:cubicBezTo>
                  <a:cubicBezTo>
                    <a:pt x="300" y="155"/>
                    <a:pt x="306" y="153"/>
                    <a:pt x="308" y="156"/>
                  </a:cubicBezTo>
                  <a:cubicBezTo>
                    <a:pt x="310" y="159"/>
                    <a:pt x="300" y="166"/>
                    <a:pt x="304" y="166"/>
                  </a:cubicBezTo>
                  <a:cubicBezTo>
                    <a:pt x="313" y="166"/>
                    <a:pt x="311" y="149"/>
                    <a:pt x="318" y="142"/>
                  </a:cubicBezTo>
                  <a:cubicBezTo>
                    <a:pt x="321" y="139"/>
                    <a:pt x="341" y="136"/>
                    <a:pt x="343" y="135"/>
                  </a:cubicBezTo>
                  <a:cubicBezTo>
                    <a:pt x="339" y="133"/>
                    <a:pt x="332" y="132"/>
                    <a:pt x="332" y="128"/>
                  </a:cubicBezTo>
                  <a:cubicBezTo>
                    <a:pt x="332" y="124"/>
                    <a:pt x="340" y="126"/>
                    <a:pt x="343" y="124"/>
                  </a:cubicBezTo>
                  <a:cubicBezTo>
                    <a:pt x="371" y="109"/>
                    <a:pt x="335" y="123"/>
                    <a:pt x="364" y="113"/>
                  </a:cubicBezTo>
                  <a:cubicBezTo>
                    <a:pt x="394" y="124"/>
                    <a:pt x="420" y="135"/>
                    <a:pt x="452" y="138"/>
                  </a:cubicBezTo>
                  <a:cubicBezTo>
                    <a:pt x="493" y="174"/>
                    <a:pt x="437" y="243"/>
                    <a:pt x="467" y="290"/>
                  </a:cubicBezTo>
                  <a:cubicBezTo>
                    <a:pt x="464" y="319"/>
                    <a:pt x="463" y="340"/>
                    <a:pt x="445" y="311"/>
                  </a:cubicBezTo>
                  <a:cubicBezTo>
                    <a:pt x="441" y="296"/>
                    <a:pt x="435" y="295"/>
                    <a:pt x="421" y="301"/>
                  </a:cubicBezTo>
                  <a:cubicBezTo>
                    <a:pt x="396" y="333"/>
                    <a:pt x="426" y="297"/>
                    <a:pt x="389" y="308"/>
                  </a:cubicBezTo>
                  <a:cubicBezTo>
                    <a:pt x="383" y="307"/>
                    <a:pt x="375" y="309"/>
                    <a:pt x="371" y="304"/>
                  </a:cubicBezTo>
                  <a:cubicBezTo>
                    <a:pt x="360" y="290"/>
                    <a:pt x="391" y="285"/>
                    <a:pt x="396" y="283"/>
                  </a:cubicBezTo>
                  <a:cubicBezTo>
                    <a:pt x="394" y="261"/>
                    <a:pt x="399" y="240"/>
                    <a:pt x="378" y="234"/>
                  </a:cubicBezTo>
                  <a:cubicBezTo>
                    <a:pt x="369" y="224"/>
                    <a:pt x="369" y="213"/>
                    <a:pt x="357" y="205"/>
                  </a:cubicBezTo>
                  <a:cubicBezTo>
                    <a:pt x="338" y="193"/>
                    <a:pt x="307" y="192"/>
                    <a:pt x="286" y="184"/>
                  </a:cubicBezTo>
                  <a:cubicBezTo>
                    <a:pt x="271" y="190"/>
                    <a:pt x="264" y="185"/>
                    <a:pt x="251" y="177"/>
                  </a:cubicBezTo>
                  <a:cubicBezTo>
                    <a:pt x="229" y="191"/>
                    <a:pt x="230" y="171"/>
                    <a:pt x="212" y="159"/>
                  </a:cubicBezTo>
                  <a:cubicBezTo>
                    <a:pt x="207" y="142"/>
                    <a:pt x="217" y="144"/>
                    <a:pt x="230" y="149"/>
                  </a:cubicBezTo>
                  <a:cubicBezTo>
                    <a:pt x="233" y="148"/>
                    <a:pt x="242" y="148"/>
                    <a:pt x="240" y="145"/>
                  </a:cubicBezTo>
                  <a:cubicBezTo>
                    <a:pt x="236" y="138"/>
                    <a:pt x="219" y="131"/>
                    <a:pt x="219" y="131"/>
                  </a:cubicBezTo>
                  <a:cubicBezTo>
                    <a:pt x="214" y="111"/>
                    <a:pt x="203" y="117"/>
                    <a:pt x="184" y="120"/>
                  </a:cubicBezTo>
                  <a:cubicBezTo>
                    <a:pt x="159" y="129"/>
                    <a:pt x="182" y="123"/>
                    <a:pt x="180" y="113"/>
                  </a:cubicBezTo>
                  <a:cubicBezTo>
                    <a:pt x="179" y="109"/>
                    <a:pt x="173" y="108"/>
                    <a:pt x="170" y="106"/>
                  </a:cubicBezTo>
                  <a:cubicBezTo>
                    <a:pt x="176" y="87"/>
                    <a:pt x="156" y="86"/>
                    <a:pt x="141" y="82"/>
                  </a:cubicBezTo>
                  <a:cubicBezTo>
                    <a:pt x="131" y="75"/>
                    <a:pt x="127" y="70"/>
                    <a:pt x="113" y="71"/>
                  </a:cubicBezTo>
                  <a:cubicBezTo>
                    <a:pt x="104" y="72"/>
                    <a:pt x="88" y="78"/>
                    <a:pt x="88" y="78"/>
                  </a:cubicBezTo>
                  <a:cubicBezTo>
                    <a:pt x="91" y="80"/>
                    <a:pt x="97" y="82"/>
                    <a:pt x="96" y="85"/>
                  </a:cubicBezTo>
                  <a:cubicBezTo>
                    <a:pt x="95" y="89"/>
                    <a:pt x="88" y="86"/>
                    <a:pt x="85" y="89"/>
                  </a:cubicBezTo>
                  <a:cubicBezTo>
                    <a:pt x="82" y="91"/>
                    <a:pt x="84" y="96"/>
                    <a:pt x="81" y="99"/>
                  </a:cubicBezTo>
                  <a:cubicBezTo>
                    <a:pt x="75" y="105"/>
                    <a:pt x="67" y="106"/>
                    <a:pt x="60" y="110"/>
                  </a:cubicBezTo>
                  <a:cubicBezTo>
                    <a:pt x="45" y="132"/>
                    <a:pt x="28" y="117"/>
                    <a:pt x="0" y="117"/>
                  </a:cubicBez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821120" y="2432160"/>
            <a:ext cx="5241960" cy="3090600"/>
          </a:xfrm>
          <a:custGeom>
            <a:avLst/>
            <a:gdLst/>
            <a:ahLst/>
            <a:rect l="l" t="t" r="r" b="b"/>
            <a:pathLst>
              <a:path w="3302" h="1947">
                <a:moveTo>
                  <a:pt x="1259" y="148"/>
                </a:moveTo>
                <a:cubicBezTo>
                  <a:pt x="1250" y="141"/>
                  <a:pt x="1227" y="120"/>
                  <a:pt x="1193" y="106"/>
                </a:cubicBezTo>
                <a:cubicBezTo>
                  <a:pt x="1159" y="92"/>
                  <a:pt x="1107" y="73"/>
                  <a:pt x="1055" y="64"/>
                </a:cubicBezTo>
                <a:cubicBezTo>
                  <a:pt x="1003" y="55"/>
                  <a:pt x="938" y="54"/>
                  <a:pt x="881" y="52"/>
                </a:cubicBezTo>
                <a:cubicBezTo>
                  <a:pt x="824" y="50"/>
                  <a:pt x="771" y="50"/>
                  <a:pt x="713" y="52"/>
                </a:cubicBezTo>
                <a:cubicBezTo>
                  <a:pt x="655" y="54"/>
                  <a:pt x="601" y="62"/>
                  <a:pt x="533" y="64"/>
                </a:cubicBezTo>
                <a:cubicBezTo>
                  <a:pt x="465" y="66"/>
                  <a:pt x="393" y="0"/>
                  <a:pt x="305" y="64"/>
                </a:cubicBezTo>
                <a:cubicBezTo>
                  <a:pt x="217" y="128"/>
                  <a:pt x="10" y="353"/>
                  <a:pt x="5" y="448"/>
                </a:cubicBezTo>
                <a:cubicBezTo>
                  <a:pt x="0" y="543"/>
                  <a:pt x="231" y="585"/>
                  <a:pt x="275" y="634"/>
                </a:cubicBezTo>
                <a:cubicBezTo>
                  <a:pt x="319" y="683"/>
                  <a:pt x="278" y="713"/>
                  <a:pt x="269" y="740"/>
                </a:cubicBezTo>
                <a:cubicBezTo>
                  <a:pt x="242" y="768"/>
                  <a:pt x="222" y="785"/>
                  <a:pt x="221" y="796"/>
                </a:cubicBezTo>
                <a:cubicBezTo>
                  <a:pt x="244" y="826"/>
                  <a:pt x="277" y="816"/>
                  <a:pt x="233" y="820"/>
                </a:cubicBezTo>
                <a:cubicBezTo>
                  <a:pt x="229" y="838"/>
                  <a:pt x="217" y="876"/>
                  <a:pt x="221" y="892"/>
                </a:cubicBezTo>
                <a:cubicBezTo>
                  <a:pt x="225" y="908"/>
                  <a:pt x="245" y="910"/>
                  <a:pt x="255" y="915"/>
                </a:cubicBezTo>
                <a:cubicBezTo>
                  <a:pt x="262" y="920"/>
                  <a:pt x="272" y="920"/>
                  <a:pt x="281" y="923"/>
                </a:cubicBezTo>
                <a:cubicBezTo>
                  <a:pt x="282" y="926"/>
                  <a:pt x="284" y="929"/>
                  <a:pt x="284" y="933"/>
                </a:cubicBezTo>
                <a:cubicBezTo>
                  <a:pt x="284" y="937"/>
                  <a:pt x="276" y="944"/>
                  <a:pt x="281" y="944"/>
                </a:cubicBezTo>
                <a:cubicBezTo>
                  <a:pt x="286" y="944"/>
                  <a:pt x="288" y="936"/>
                  <a:pt x="293" y="933"/>
                </a:cubicBezTo>
                <a:cubicBezTo>
                  <a:pt x="297" y="931"/>
                  <a:pt x="301" y="931"/>
                  <a:pt x="306" y="929"/>
                </a:cubicBezTo>
                <a:cubicBezTo>
                  <a:pt x="341" y="949"/>
                  <a:pt x="328" y="988"/>
                  <a:pt x="364" y="1008"/>
                </a:cubicBezTo>
                <a:cubicBezTo>
                  <a:pt x="382" y="1029"/>
                  <a:pt x="401" y="1041"/>
                  <a:pt x="414" y="1055"/>
                </a:cubicBezTo>
                <a:cubicBezTo>
                  <a:pt x="420" y="1093"/>
                  <a:pt x="422" y="1064"/>
                  <a:pt x="443" y="1090"/>
                </a:cubicBezTo>
                <a:cubicBezTo>
                  <a:pt x="450" y="1117"/>
                  <a:pt x="445" y="1097"/>
                  <a:pt x="472" y="1105"/>
                </a:cubicBezTo>
                <a:cubicBezTo>
                  <a:pt x="473" y="1105"/>
                  <a:pt x="495" y="1097"/>
                  <a:pt x="496" y="1098"/>
                </a:cubicBezTo>
                <a:cubicBezTo>
                  <a:pt x="500" y="1099"/>
                  <a:pt x="498" y="1106"/>
                  <a:pt x="501" y="1108"/>
                </a:cubicBezTo>
                <a:cubicBezTo>
                  <a:pt x="504" y="1110"/>
                  <a:pt x="510" y="1110"/>
                  <a:pt x="513" y="1111"/>
                </a:cubicBezTo>
                <a:cubicBezTo>
                  <a:pt x="524" y="1121"/>
                  <a:pt x="551" y="1136"/>
                  <a:pt x="551" y="1136"/>
                </a:cubicBezTo>
                <a:cubicBezTo>
                  <a:pt x="560" y="1148"/>
                  <a:pt x="559" y="1172"/>
                  <a:pt x="546" y="1183"/>
                </a:cubicBezTo>
                <a:cubicBezTo>
                  <a:pt x="540" y="1188"/>
                  <a:pt x="518" y="1191"/>
                  <a:pt x="510" y="1193"/>
                </a:cubicBezTo>
                <a:cubicBezTo>
                  <a:pt x="520" y="1197"/>
                  <a:pt x="534" y="1193"/>
                  <a:pt x="542" y="1201"/>
                </a:cubicBezTo>
                <a:cubicBezTo>
                  <a:pt x="545" y="1203"/>
                  <a:pt x="534" y="1203"/>
                  <a:pt x="530" y="1205"/>
                </a:cubicBezTo>
                <a:cubicBezTo>
                  <a:pt x="522" y="1209"/>
                  <a:pt x="505" y="1218"/>
                  <a:pt x="505" y="1218"/>
                </a:cubicBezTo>
                <a:cubicBezTo>
                  <a:pt x="509" y="1220"/>
                  <a:pt x="519" y="1219"/>
                  <a:pt x="517" y="1222"/>
                </a:cubicBezTo>
                <a:cubicBezTo>
                  <a:pt x="512" y="1230"/>
                  <a:pt x="493" y="1237"/>
                  <a:pt x="493" y="1237"/>
                </a:cubicBezTo>
                <a:cubicBezTo>
                  <a:pt x="508" y="1255"/>
                  <a:pt x="496" y="1248"/>
                  <a:pt x="476" y="1255"/>
                </a:cubicBezTo>
                <a:cubicBezTo>
                  <a:pt x="484" y="1265"/>
                  <a:pt x="496" y="1271"/>
                  <a:pt x="510" y="1276"/>
                </a:cubicBezTo>
                <a:cubicBezTo>
                  <a:pt x="519" y="1279"/>
                  <a:pt x="539" y="1283"/>
                  <a:pt x="539" y="1283"/>
                </a:cubicBezTo>
                <a:cubicBezTo>
                  <a:pt x="551" y="1293"/>
                  <a:pt x="562" y="1300"/>
                  <a:pt x="572" y="1312"/>
                </a:cubicBezTo>
                <a:cubicBezTo>
                  <a:pt x="599" y="1303"/>
                  <a:pt x="628" y="1309"/>
                  <a:pt x="655" y="1315"/>
                </a:cubicBezTo>
                <a:cubicBezTo>
                  <a:pt x="672" y="1326"/>
                  <a:pt x="685" y="1335"/>
                  <a:pt x="705" y="1340"/>
                </a:cubicBezTo>
                <a:cubicBezTo>
                  <a:pt x="738" y="1338"/>
                  <a:pt x="790" y="1445"/>
                  <a:pt x="827" y="1444"/>
                </a:cubicBezTo>
                <a:cubicBezTo>
                  <a:pt x="865" y="1462"/>
                  <a:pt x="906" y="1452"/>
                  <a:pt x="935" y="1450"/>
                </a:cubicBezTo>
                <a:cubicBezTo>
                  <a:pt x="947" y="1465"/>
                  <a:pt x="983" y="1421"/>
                  <a:pt x="1001" y="1432"/>
                </a:cubicBezTo>
                <a:cubicBezTo>
                  <a:pt x="1020" y="1427"/>
                  <a:pt x="1017" y="1352"/>
                  <a:pt x="1037" y="1347"/>
                </a:cubicBezTo>
                <a:cubicBezTo>
                  <a:pt x="1051" y="1326"/>
                  <a:pt x="1075" y="1305"/>
                  <a:pt x="1083" y="1308"/>
                </a:cubicBezTo>
                <a:cubicBezTo>
                  <a:pt x="1087" y="1321"/>
                  <a:pt x="1073" y="1356"/>
                  <a:pt x="1087" y="1365"/>
                </a:cubicBezTo>
                <a:cubicBezTo>
                  <a:pt x="1096" y="1371"/>
                  <a:pt x="1109" y="1368"/>
                  <a:pt x="1120" y="1368"/>
                </a:cubicBezTo>
                <a:cubicBezTo>
                  <a:pt x="1134" y="1377"/>
                  <a:pt x="1144" y="1376"/>
                  <a:pt x="1149" y="1390"/>
                </a:cubicBezTo>
                <a:cubicBezTo>
                  <a:pt x="1154" y="1417"/>
                  <a:pt x="1154" y="1413"/>
                  <a:pt x="1182" y="1418"/>
                </a:cubicBezTo>
                <a:cubicBezTo>
                  <a:pt x="1206" y="1431"/>
                  <a:pt x="1223" y="1448"/>
                  <a:pt x="1249" y="1455"/>
                </a:cubicBezTo>
                <a:cubicBezTo>
                  <a:pt x="1267" y="1464"/>
                  <a:pt x="1270" y="1457"/>
                  <a:pt x="1291" y="1462"/>
                </a:cubicBezTo>
                <a:cubicBezTo>
                  <a:pt x="1304" y="1480"/>
                  <a:pt x="1308" y="1480"/>
                  <a:pt x="1332" y="1476"/>
                </a:cubicBezTo>
                <a:cubicBezTo>
                  <a:pt x="1338" y="1460"/>
                  <a:pt x="1344" y="1460"/>
                  <a:pt x="1361" y="1465"/>
                </a:cubicBezTo>
                <a:cubicBezTo>
                  <a:pt x="1373" y="1451"/>
                  <a:pt x="1378" y="1445"/>
                  <a:pt x="1390" y="1462"/>
                </a:cubicBezTo>
                <a:cubicBezTo>
                  <a:pt x="1391" y="1467"/>
                  <a:pt x="1390" y="1475"/>
                  <a:pt x="1394" y="1480"/>
                </a:cubicBezTo>
                <a:cubicBezTo>
                  <a:pt x="1404" y="1491"/>
                  <a:pt x="1438" y="1475"/>
                  <a:pt x="1449" y="1472"/>
                </a:cubicBezTo>
                <a:cubicBezTo>
                  <a:pt x="1473" y="1479"/>
                  <a:pt x="1474" y="1482"/>
                  <a:pt x="1481" y="1505"/>
                </a:cubicBezTo>
                <a:cubicBezTo>
                  <a:pt x="1489" y="1525"/>
                  <a:pt x="1567" y="1532"/>
                  <a:pt x="1577" y="1533"/>
                </a:cubicBezTo>
                <a:cubicBezTo>
                  <a:pt x="1594" y="1535"/>
                  <a:pt x="1618" y="1537"/>
                  <a:pt x="1611" y="1547"/>
                </a:cubicBezTo>
                <a:cubicBezTo>
                  <a:pt x="1606" y="1554"/>
                  <a:pt x="1594" y="1557"/>
                  <a:pt x="1586" y="1562"/>
                </a:cubicBezTo>
                <a:cubicBezTo>
                  <a:pt x="1582" y="1564"/>
                  <a:pt x="1573" y="1569"/>
                  <a:pt x="1573" y="1569"/>
                </a:cubicBezTo>
                <a:cubicBezTo>
                  <a:pt x="1562" y="1583"/>
                  <a:pt x="1567" y="1585"/>
                  <a:pt x="1573" y="1600"/>
                </a:cubicBezTo>
                <a:cubicBezTo>
                  <a:pt x="1559" y="1642"/>
                  <a:pt x="1601" y="1646"/>
                  <a:pt x="1632" y="1662"/>
                </a:cubicBezTo>
                <a:cubicBezTo>
                  <a:pt x="1655" y="1673"/>
                  <a:pt x="1672" y="1687"/>
                  <a:pt x="1698" y="1694"/>
                </a:cubicBezTo>
                <a:cubicBezTo>
                  <a:pt x="1730" y="1712"/>
                  <a:pt x="1766" y="1721"/>
                  <a:pt x="1802" y="1729"/>
                </a:cubicBezTo>
                <a:cubicBezTo>
                  <a:pt x="1822" y="1741"/>
                  <a:pt x="1821" y="1744"/>
                  <a:pt x="1856" y="1733"/>
                </a:cubicBezTo>
                <a:cubicBezTo>
                  <a:pt x="1860" y="1731"/>
                  <a:pt x="1858" y="1725"/>
                  <a:pt x="1860" y="1722"/>
                </a:cubicBezTo>
                <a:cubicBezTo>
                  <a:pt x="1863" y="1720"/>
                  <a:pt x="1869" y="1720"/>
                  <a:pt x="1873" y="1719"/>
                </a:cubicBezTo>
                <a:lnTo>
                  <a:pt x="1914" y="1737"/>
                </a:lnTo>
                <a:cubicBezTo>
                  <a:pt x="1914" y="1737"/>
                  <a:pt x="1914" y="1737"/>
                  <a:pt x="1914" y="1737"/>
                </a:cubicBezTo>
                <a:cubicBezTo>
                  <a:pt x="1927" y="1740"/>
                  <a:pt x="1939" y="1744"/>
                  <a:pt x="1951" y="1747"/>
                </a:cubicBezTo>
                <a:cubicBezTo>
                  <a:pt x="1969" y="1744"/>
                  <a:pt x="1988" y="1741"/>
                  <a:pt x="2006" y="1737"/>
                </a:cubicBezTo>
                <a:cubicBezTo>
                  <a:pt x="2015" y="1734"/>
                  <a:pt x="2035" y="1729"/>
                  <a:pt x="2035" y="1729"/>
                </a:cubicBezTo>
                <a:cubicBezTo>
                  <a:pt x="2053" y="1719"/>
                  <a:pt x="2072" y="1728"/>
                  <a:pt x="2093" y="1733"/>
                </a:cubicBezTo>
                <a:cubicBezTo>
                  <a:pt x="2120" y="1749"/>
                  <a:pt x="2099" y="1785"/>
                  <a:pt x="2080" y="1801"/>
                </a:cubicBezTo>
                <a:cubicBezTo>
                  <a:pt x="2090" y="1804"/>
                  <a:pt x="2098" y="1804"/>
                  <a:pt x="2105" y="1812"/>
                </a:cubicBezTo>
                <a:cubicBezTo>
                  <a:pt x="2112" y="1818"/>
                  <a:pt x="2122" y="1833"/>
                  <a:pt x="2122" y="1833"/>
                </a:cubicBezTo>
                <a:cubicBezTo>
                  <a:pt x="2127" y="1847"/>
                  <a:pt x="2128" y="1853"/>
                  <a:pt x="2143" y="1862"/>
                </a:cubicBezTo>
                <a:cubicBezTo>
                  <a:pt x="2166" y="1856"/>
                  <a:pt x="2190" y="1848"/>
                  <a:pt x="2213" y="1844"/>
                </a:cubicBezTo>
                <a:cubicBezTo>
                  <a:pt x="2228" y="1841"/>
                  <a:pt x="2259" y="1837"/>
                  <a:pt x="2259" y="1837"/>
                </a:cubicBezTo>
                <a:cubicBezTo>
                  <a:pt x="2274" y="1840"/>
                  <a:pt x="2291" y="1838"/>
                  <a:pt x="2305" y="1844"/>
                </a:cubicBezTo>
                <a:cubicBezTo>
                  <a:pt x="2309" y="1845"/>
                  <a:pt x="2318" y="1862"/>
                  <a:pt x="2321" y="1865"/>
                </a:cubicBezTo>
                <a:cubicBezTo>
                  <a:pt x="2331" y="1872"/>
                  <a:pt x="2359" y="1876"/>
                  <a:pt x="2372" y="1879"/>
                </a:cubicBezTo>
                <a:cubicBezTo>
                  <a:pt x="2375" y="1891"/>
                  <a:pt x="2392" y="1912"/>
                  <a:pt x="2392" y="1912"/>
                </a:cubicBezTo>
                <a:cubicBezTo>
                  <a:pt x="2359" y="1930"/>
                  <a:pt x="2378" y="1940"/>
                  <a:pt x="2405" y="1947"/>
                </a:cubicBezTo>
                <a:cubicBezTo>
                  <a:pt x="2420" y="1928"/>
                  <a:pt x="2410" y="1919"/>
                  <a:pt x="2421" y="1897"/>
                </a:cubicBezTo>
                <a:cubicBezTo>
                  <a:pt x="2425" y="1891"/>
                  <a:pt x="2438" y="1893"/>
                  <a:pt x="2446" y="1890"/>
                </a:cubicBezTo>
                <a:cubicBezTo>
                  <a:pt x="2475" y="1877"/>
                  <a:pt x="2476" y="1879"/>
                  <a:pt x="2517" y="1876"/>
                </a:cubicBezTo>
                <a:cubicBezTo>
                  <a:pt x="2539" y="1847"/>
                  <a:pt x="2539" y="1853"/>
                  <a:pt x="2575" y="1844"/>
                </a:cubicBezTo>
                <a:cubicBezTo>
                  <a:pt x="2585" y="1831"/>
                  <a:pt x="2591" y="1824"/>
                  <a:pt x="2608" y="1819"/>
                </a:cubicBezTo>
                <a:cubicBezTo>
                  <a:pt x="2607" y="1815"/>
                  <a:pt x="2602" y="1811"/>
                  <a:pt x="2604" y="1808"/>
                </a:cubicBezTo>
                <a:cubicBezTo>
                  <a:pt x="2606" y="1804"/>
                  <a:pt x="2613" y="1807"/>
                  <a:pt x="2617" y="1804"/>
                </a:cubicBezTo>
                <a:cubicBezTo>
                  <a:pt x="2620" y="1802"/>
                  <a:pt x="2621" y="1797"/>
                  <a:pt x="2625" y="1794"/>
                </a:cubicBezTo>
                <a:cubicBezTo>
                  <a:pt x="2629" y="1791"/>
                  <a:pt x="2633" y="1789"/>
                  <a:pt x="2637" y="1787"/>
                </a:cubicBezTo>
                <a:cubicBezTo>
                  <a:pt x="2650" y="1770"/>
                  <a:pt x="2657" y="1758"/>
                  <a:pt x="2675" y="1747"/>
                </a:cubicBezTo>
                <a:cubicBezTo>
                  <a:pt x="2679" y="1738"/>
                  <a:pt x="2687" y="1731"/>
                  <a:pt x="2692" y="1722"/>
                </a:cubicBezTo>
                <a:cubicBezTo>
                  <a:pt x="2698" y="1710"/>
                  <a:pt x="2699" y="1698"/>
                  <a:pt x="2708" y="1687"/>
                </a:cubicBezTo>
                <a:cubicBezTo>
                  <a:pt x="2702" y="1658"/>
                  <a:pt x="2688" y="1655"/>
                  <a:pt x="2708" y="1625"/>
                </a:cubicBezTo>
                <a:cubicBezTo>
                  <a:pt x="2702" y="1610"/>
                  <a:pt x="2714" y="1607"/>
                  <a:pt x="2695" y="1600"/>
                </a:cubicBezTo>
                <a:cubicBezTo>
                  <a:pt x="2689" y="1582"/>
                  <a:pt x="2677" y="1561"/>
                  <a:pt x="2658" y="1550"/>
                </a:cubicBezTo>
                <a:cubicBezTo>
                  <a:pt x="2633" y="1521"/>
                  <a:pt x="2672" y="1521"/>
                  <a:pt x="2692" y="1505"/>
                </a:cubicBezTo>
                <a:cubicBezTo>
                  <a:pt x="2708" y="1491"/>
                  <a:pt x="2699" y="1496"/>
                  <a:pt x="2716" y="1487"/>
                </a:cubicBezTo>
                <a:cubicBezTo>
                  <a:pt x="2707" y="1451"/>
                  <a:pt x="2658" y="1467"/>
                  <a:pt x="2617" y="1465"/>
                </a:cubicBezTo>
                <a:cubicBezTo>
                  <a:pt x="2598" y="1442"/>
                  <a:pt x="2618" y="1444"/>
                  <a:pt x="2637" y="1433"/>
                </a:cubicBezTo>
                <a:cubicBezTo>
                  <a:pt x="2651" y="1415"/>
                  <a:pt x="2641" y="1425"/>
                  <a:pt x="2671" y="1408"/>
                </a:cubicBezTo>
                <a:cubicBezTo>
                  <a:pt x="2675" y="1405"/>
                  <a:pt x="2683" y="1401"/>
                  <a:pt x="2683" y="1401"/>
                </a:cubicBezTo>
                <a:cubicBezTo>
                  <a:pt x="2686" y="1405"/>
                  <a:pt x="2690" y="1408"/>
                  <a:pt x="2692" y="1412"/>
                </a:cubicBezTo>
                <a:cubicBezTo>
                  <a:pt x="2693" y="1416"/>
                  <a:pt x="2691" y="1422"/>
                  <a:pt x="2695" y="1426"/>
                </a:cubicBezTo>
                <a:cubicBezTo>
                  <a:pt x="2703" y="1430"/>
                  <a:pt x="2712" y="1421"/>
                  <a:pt x="2721" y="1418"/>
                </a:cubicBezTo>
                <a:cubicBezTo>
                  <a:pt x="2750" y="1410"/>
                  <a:pt x="2780" y="1403"/>
                  <a:pt x="2808" y="1393"/>
                </a:cubicBezTo>
                <a:cubicBezTo>
                  <a:pt x="2808" y="1392"/>
                  <a:pt x="2814" y="1373"/>
                  <a:pt x="2816" y="1372"/>
                </a:cubicBezTo>
                <a:cubicBezTo>
                  <a:pt x="2831" y="1366"/>
                  <a:pt x="2850" y="1368"/>
                  <a:pt x="2866" y="1365"/>
                </a:cubicBezTo>
                <a:cubicBezTo>
                  <a:pt x="2879" y="1363"/>
                  <a:pt x="2891" y="1358"/>
                  <a:pt x="2904" y="1355"/>
                </a:cubicBezTo>
                <a:cubicBezTo>
                  <a:pt x="2908" y="1348"/>
                  <a:pt x="2909" y="1338"/>
                  <a:pt x="2916" y="1333"/>
                </a:cubicBezTo>
                <a:cubicBezTo>
                  <a:pt x="2928" y="1322"/>
                  <a:pt x="2949" y="1314"/>
                  <a:pt x="2965" y="1308"/>
                </a:cubicBezTo>
                <a:cubicBezTo>
                  <a:pt x="2986" y="1314"/>
                  <a:pt x="2992" y="1315"/>
                  <a:pt x="3015" y="1312"/>
                </a:cubicBezTo>
                <a:cubicBezTo>
                  <a:pt x="3024" y="1309"/>
                  <a:pt x="3033" y="1309"/>
                  <a:pt x="3041" y="1305"/>
                </a:cubicBezTo>
                <a:cubicBezTo>
                  <a:pt x="3071" y="1287"/>
                  <a:pt x="3036" y="1297"/>
                  <a:pt x="3066" y="1290"/>
                </a:cubicBezTo>
                <a:cubicBezTo>
                  <a:pt x="3085" y="1264"/>
                  <a:pt x="3073" y="1272"/>
                  <a:pt x="3095" y="1262"/>
                </a:cubicBezTo>
                <a:cubicBezTo>
                  <a:pt x="3103" y="1249"/>
                  <a:pt x="3109" y="1241"/>
                  <a:pt x="3124" y="1233"/>
                </a:cubicBezTo>
                <a:cubicBezTo>
                  <a:pt x="3136" y="1200"/>
                  <a:pt x="3163" y="1176"/>
                  <a:pt x="3186" y="1147"/>
                </a:cubicBezTo>
                <a:cubicBezTo>
                  <a:pt x="3199" y="1108"/>
                  <a:pt x="3193" y="1069"/>
                  <a:pt x="3219" y="1033"/>
                </a:cubicBezTo>
                <a:cubicBezTo>
                  <a:pt x="3223" y="1064"/>
                  <a:pt x="3228" y="1083"/>
                  <a:pt x="3236" y="1111"/>
                </a:cubicBezTo>
                <a:cubicBezTo>
                  <a:pt x="3244" y="1144"/>
                  <a:pt x="3267" y="1221"/>
                  <a:pt x="3269" y="1230"/>
                </a:cubicBezTo>
                <a:cubicBezTo>
                  <a:pt x="3276" y="1198"/>
                  <a:pt x="3259" y="1195"/>
                  <a:pt x="3248" y="1168"/>
                </a:cubicBezTo>
                <a:cubicBezTo>
                  <a:pt x="3254" y="1154"/>
                  <a:pt x="3253" y="1149"/>
                  <a:pt x="3269" y="1140"/>
                </a:cubicBezTo>
                <a:cubicBezTo>
                  <a:pt x="3288" y="1145"/>
                  <a:pt x="3283" y="1157"/>
                  <a:pt x="3302" y="1151"/>
                </a:cubicBezTo>
                <a:cubicBezTo>
                  <a:pt x="3297" y="1135"/>
                  <a:pt x="3286" y="1122"/>
                  <a:pt x="3278" y="1108"/>
                </a:cubicBezTo>
                <a:cubicBezTo>
                  <a:pt x="3269" y="1085"/>
                  <a:pt x="3259" y="1024"/>
                  <a:pt x="3248" y="1011"/>
                </a:cubicBezTo>
                <a:cubicBezTo>
                  <a:pt x="3233" y="1016"/>
                  <a:pt x="3228" y="1025"/>
                  <a:pt x="3215" y="1033"/>
                </a:cubicBezTo>
                <a:cubicBezTo>
                  <a:pt x="3204" y="1019"/>
                  <a:pt x="3206" y="1002"/>
                  <a:pt x="3186" y="998"/>
                </a:cubicBezTo>
                <a:cubicBezTo>
                  <a:pt x="3155" y="969"/>
                  <a:pt x="3167" y="989"/>
                  <a:pt x="3140" y="998"/>
                </a:cubicBezTo>
                <a:cubicBezTo>
                  <a:pt x="3104" y="992"/>
                  <a:pt x="3109" y="955"/>
                  <a:pt x="3077" y="946"/>
                </a:cubicBezTo>
                <a:cubicBezTo>
                  <a:pt x="3065" y="933"/>
                  <a:pt x="3063" y="923"/>
                  <a:pt x="3065" y="922"/>
                </a:cubicBezTo>
                <a:cubicBezTo>
                  <a:pt x="3062" y="915"/>
                  <a:pt x="3055" y="901"/>
                  <a:pt x="3059" y="904"/>
                </a:cubicBezTo>
                <a:cubicBezTo>
                  <a:pt x="3063" y="907"/>
                  <a:pt x="3081" y="939"/>
                  <a:pt x="3090" y="940"/>
                </a:cubicBezTo>
                <a:cubicBezTo>
                  <a:pt x="3101" y="927"/>
                  <a:pt x="3100" y="920"/>
                  <a:pt x="3116" y="911"/>
                </a:cubicBezTo>
                <a:cubicBezTo>
                  <a:pt x="3132" y="890"/>
                  <a:pt x="3115" y="908"/>
                  <a:pt x="3136" y="898"/>
                </a:cubicBezTo>
                <a:cubicBezTo>
                  <a:pt x="3145" y="894"/>
                  <a:pt x="3161" y="883"/>
                  <a:pt x="3161" y="883"/>
                </a:cubicBezTo>
                <a:cubicBezTo>
                  <a:pt x="3076" y="863"/>
                  <a:pt x="2941" y="718"/>
                  <a:pt x="2591" y="646"/>
                </a:cubicBezTo>
                <a:cubicBezTo>
                  <a:pt x="2455" y="583"/>
                  <a:pt x="2424" y="543"/>
                  <a:pt x="2345" y="502"/>
                </a:cubicBezTo>
                <a:cubicBezTo>
                  <a:pt x="2266" y="461"/>
                  <a:pt x="2216" y="430"/>
                  <a:pt x="2117" y="400"/>
                </a:cubicBezTo>
                <a:cubicBezTo>
                  <a:pt x="2018" y="370"/>
                  <a:pt x="1857" y="343"/>
                  <a:pt x="1751" y="322"/>
                </a:cubicBezTo>
                <a:cubicBezTo>
                  <a:pt x="1645" y="301"/>
                  <a:pt x="1565" y="305"/>
                  <a:pt x="1481" y="274"/>
                </a:cubicBezTo>
                <a:cubicBezTo>
                  <a:pt x="1397" y="243"/>
                  <a:pt x="1296" y="165"/>
                  <a:pt x="1247" y="136"/>
                </a:cubicBezTo>
              </a:path>
            </a:pathLst>
          </a:custGeom>
          <a:noFill/>
          <a:ln w="25560">
            <a:solidFill>
              <a:srgbClr val="b00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97000" y="-239760"/>
            <a:ext cx="8539200" cy="6389640"/>
          </a:xfrm>
          <a:custGeom>
            <a:avLst/>
            <a:gdLst/>
            <a:ahLst/>
            <a:rect l="l" t="t" r="r" b="b"/>
            <a:pathLst>
              <a:path w="5379" h="4025">
                <a:moveTo>
                  <a:pt x="3035" y="111"/>
                </a:moveTo>
                <a:cubicBezTo>
                  <a:pt x="2596" y="111"/>
                  <a:pt x="806" y="0"/>
                  <a:pt x="403" y="111"/>
                </a:cubicBezTo>
                <a:cubicBezTo>
                  <a:pt x="0" y="222"/>
                  <a:pt x="519" y="690"/>
                  <a:pt x="619" y="775"/>
                </a:cubicBezTo>
                <a:cubicBezTo>
                  <a:pt x="719" y="860"/>
                  <a:pt x="914" y="648"/>
                  <a:pt x="1003" y="623"/>
                </a:cubicBezTo>
                <a:cubicBezTo>
                  <a:pt x="1092" y="598"/>
                  <a:pt x="1110" y="634"/>
                  <a:pt x="1155" y="623"/>
                </a:cubicBezTo>
                <a:cubicBezTo>
                  <a:pt x="1200" y="612"/>
                  <a:pt x="1236" y="574"/>
                  <a:pt x="1275" y="559"/>
                </a:cubicBezTo>
                <a:cubicBezTo>
                  <a:pt x="1314" y="544"/>
                  <a:pt x="1340" y="542"/>
                  <a:pt x="1387" y="535"/>
                </a:cubicBezTo>
                <a:cubicBezTo>
                  <a:pt x="1434" y="528"/>
                  <a:pt x="1498" y="502"/>
                  <a:pt x="1555" y="519"/>
                </a:cubicBezTo>
                <a:cubicBezTo>
                  <a:pt x="1612" y="536"/>
                  <a:pt x="1680" y="606"/>
                  <a:pt x="1731" y="639"/>
                </a:cubicBezTo>
                <a:cubicBezTo>
                  <a:pt x="1782" y="672"/>
                  <a:pt x="1820" y="702"/>
                  <a:pt x="1859" y="719"/>
                </a:cubicBezTo>
                <a:cubicBezTo>
                  <a:pt x="1898" y="736"/>
                  <a:pt x="1874" y="756"/>
                  <a:pt x="1963" y="743"/>
                </a:cubicBezTo>
                <a:cubicBezTo>
                  <a:pt x="2052" y="730"/>
                  <a:pt x="2319" y="643"/>
                  <a:pt x="2395" y="639"/>
                </a:cubicBezTo>
                <a:cubicBezTo>
                  <a:pt x="2471" y="635"/>
                  <a:pt x="2390" y="700"/>
                  <a:pt x="2419" y="719"/>
                </a:cubicBezTo>
                <a:cubicBezTo>
                  <a:pt x="2448" y="738"/>
                  <a:pt x="2536" y="747"/>
                  <a:pt x="2571" y="751"/>
                </a:cubicBezTo>
                <a:cubicBezTo>
                  <a:pt x="2606" y="755"/>
                  <a:pt x="2610" y="750"/>
                  <a:pt x="2627" y="743"/>
                </a:cubicBezTo>
                <a:cubicBezTo>
                  <a:pt x="2644" y="736"/>
                  <a:pt x="2646" y="742"/>
                  <a:pt x="2675" y="711"/>
                </a:cubicBezTo>
                <a:cubicBezTo>
                  <a:pt x="2704" y="680"/>
                  <a:pt x="2768" y="538"/>
                  <a:pt x="2803" y="559"/>
                </a:cubicBezTo>
                <a:cubicBezTo>
                  <a:pt x="2838" y="580"/>
                  <a:pt x="2910" y="760"/>
                  <a:pt x="2883" y="839"/>
                </a:cubicBezTo>
                <a:cubicBezTo>
                  <a:pt x="2856" y="918"/>
                  <a:pt x="2714" y="1000"/>
                  <a:pt x="2643" y="1031"/>
                </a:cubicBezTo>
                <a:cubicBezTo>
                  <a:pt x="2572" y="1062"/>
                  <a:pt x="2523" y="1024"/>
                  <a:pt x="2459" y="1023"/>
                </a:cubicBezTo>
                <a:cubicBezTo>
                  <a:pt x="2395" y="1022"/>
                  <a:pt x="2321" y="1037"/>
                  <a:pt x="2259" y="1023"/>
                </a:cubicBezTo>
                <a:cubicBezTo>
                  <a:pt x="2197" y="1009"/>
                  <a:pt x="2152" y="953"/>
                  <a:pt x="2085" y="939"/>
                </a:cubicBezTo>
                <a:cubicBezTo>
                  <a:pt x="2018" y="925"/>
                  <a:pt x="1945" y="875"/>
                  <a:pt x="1857" y="939"/>
                </a:cubicBezTo>
                <a:cubicBezTo>
                  <a:pt x="1769" y="1003"/>
                  <a:pt x="1669" y="1213"/>
                  <a:pt x="1557" y="1323"/>
                </a:cubicBezTo>
                <a:cubicBezTo>
                  <a:pt x="1445" y="1433"/>
                  <a:pt x="1243" y="1542"/>
                  <a:pt x="1187" y="1599"/>
                </a:cubicBezTo>
                <a:cubicBezTo>
                  <a:pt x="1131" y="1656"/>
                  <a:pt x="1188" y="1643"/>
                  <a:pt x="1219" y="1663"/>
                </a:cubicBezTo>
                <a:cubicBezTo>
                  <a:pt x="1192" y="1691"/>
                  <a:pt x="1372" y="1708"/>
                  <a:pt x="1371" y="1719"/>
                </a:cubicBezTo>
                <a:cubicBezTo>
                  <a:pt x="1394" y="1749"/>
                  <a:pt x="1527" y="1771"/>
                  <a:pt x="1483" y="1775"/>
                </a:cubicBezTo>
                <a:cubicBezTo>
                  <a:pt x="1479" y="1793"/>
                  <a:pt x="1445" y="1869"/>
                  <a:pt x="1499" y="1871"/>
                </a:cubicBezTo>
                <a:cubicBezTo>
                  <a:pt x="1510" y="1902"/>
                  <a:pt x="1531" y="1934"/>
                  <a:pt x="1547" y="1959"/>
                </a:cubicBezTo>
                <a:cubicBezTo>
                  <a:pt x="1554" y="1964"/>
                  <a:pt x="1586" y="2020"/>
                  <a:pt x="1595" y="2023"/>
                </a:cubicBezTo>
                <a:cubicBezTo>
                  <a:pt x="1596" y="2026"/>
                  <a:pt x="1659" y="2155"/>
                  <a:pt x="1659" y="2159"/>
                </a:cubicBezTo>
                <a:cubicBezTo>
                  <a:pt x="1659" y="2163"/>
                  <a:pt x="1726" y="2071"/>
                  <a:pt x="1731" y="2071"/>
                </a:cubicBezTo>
                <a:cubicBezTo>
                  <a:pt x="1736" y="2071"/>
                  <a:pt x="1718" y="2114"/>
                  <a:pt x="1723" y="2111"/>
                </a:cubicBezTo>
                <a:cubicBezTo>
                  <a:pt x="1727" y="2109"/>
                  <a:pt x="1686" y="2137"/>
                  <a:pt x="1691" y="2135"/>
                </a:cubicBezTo>
                <a:cubicBezTo>
                  <a:pt x="1726" y="2155"/>
                  <a:pt x="1880" y="1863"/>
                  <a:pt x="1916" y="1883"/>
                </a:cubicBezTo>
                <a:cubicBezTo>
                  <a:pt x="1934" y="1904"/>
                  <a:pt x="1953" y="1916"/>
                  <a:pt x="1966" y="1930"/>
                </a:cubicBezTo>
                <a:cubicBezTo>
                  <a:pt x="1972" y="1968"/>
                  <a:pt x="1974" y="1939"/>
                  <a:pt x="1995" y="1965"/>
                </a:cubicBezTo>
                <a:cubicBezTo>
                  <a:pt x="2002" y="1992"/>
                  <a:pt x="1997" y="1972"/>
                  <a:pt x="2024" y="1980"/>
                </a:cubicBezTo>
                <a:cubicBezTo>
                  <a:pt x="2025" y="1980"/>
                  <a:pt x="2047" y="1972"/>
                  <a:pt x="2048" y="1973"/>
                </a:cubicBezTo>
                <a:cubicBezTo>
                  <a:pt x="2052" y="1974"/>
                  <a:pt x="2050" y="1981"/>
                  <a:pt x="2053" y="1983"/>
                </a:cubicBezTo>
                <a:cubicBezTo>
                  <a:pt x="2056" y="1985"/>
                  <a:pt x="2062" y="1985"/>
                  <a:pt x="2065" y="1986"/>
                </a:cubicBezTo>
                <a:cubicBezTo>
                  <a:pt x="2076" y="1996"/>
                  <a:pt x="2103" y="2011"/>
                  <a:pt x="2103" y="2011"/>
                </a:cubicBezTo>
                <a:cubicBezTo>
                  <a:pt x="2112" y="2023"/>
                  <a:pt x="2111" y="2047"/>
                  <a:pt x="2098" y="2058"/>
                </a:cubicBezTo>
                <a:cubicBezTo>
                  <a:pt x="2092" y="2063"/>
                  <a:pt x="2070" y="2066"/>
                  <a:pt x="2062" y="2068"/>
                </a:cubicBezTo>
                <a:cubicBezTo>
                  <a:pt x="2072" y="2072"/>
                  <a:pt x="2086" y="2068"/>
                  <a:pt x="2094" y="2076"/>
                </a:cubicBezTo>
                <a:cubicBezTo>
                  <a:pt x="2097" y="2078"/>
                  <a:pt x="2086" y="2078"/>
                  <a:pt x="2082" y="2080"/>
                </a:cubicBezTo>
                <a:cubicBezTo>
                  <a:pt x="2074" y="2084"/>
                  <a:pt x="2057" y="2093"/>
                  <a:pt x="2057" y="2093"/>
                </a:cubicBezTo>
                <a:cubicBezTo>
                  <a:pt x="2061" y="2095"/>
                  <a:pt x="2071" y="2094"/>
                  <a:pt x="2069" y="2097"/>
                </a:cubicBezTo>
                <a:cubicBezTo>
                  <a:pt x="2064" y="2105"/>
                  <a:pt x="2045" y="2112"/>
                  <a:pt x="2045" y="2112"/>
                </a:cubicBezTo>
                <a:cubicBezTo>
                  <a:pt x="2060" y="2130"/>
                  <a:pt x="2048" y="2123"/>
                  <a:pt x="2028" y="2130"/>
                </a:cubicBezTo>
                <a:cubicBezTo>
                  <a:pt x="2036" y="2140"/>
                  <a:pt x="2048" y="2146"/>
                  <a:pt x="2062" y="2151"/>
                </a:cubicBezTo>
                <a:cubicBezTo>
                  <a:pt x="2071" y="2154"/>
                  <a:pt x="2091" y="2158"/>
                  <a:pt x="2091" y="2158"/>
                </a:cubicBezTo>
                <a:cubicBezTo>
                  <a:pt x="2103" y="2168"/>
                  <a:pt x="2114" y="2175"/>
                  <a:pt x="2124" y="2187"/>
                </a:cubicBezTo>
                <a:cubicBezTo>
                  <a:pt x="2151" y="2178"/>
                  <a:pt x="2180" y="2184"/>
                  <a:pt x="2207" y="2190"/>
                </a:cubicBezTo>
                <a:cubicBezTo>
                  <a:pt x="2224" y="2201"/>
                  <a:pt x="2127" y="2266"/>
                  <a:pt x="2147" y="2271"/>
                </a:cubicBezTo>
                <a:cubicBezTo>
                  <a:pt x="2180" y="2269"/>
                  <a:pt x="2200" y="2299"/>
                  <a:pt x="2219" y="2319"/>
                </a:cubicBezTo>
                <a:cubicBezTo>
                  <a:pt x="2238" y="2339"/>
                  <a:pt x="2243" y="2374"/>
                  <a:pt x="2259" y="2391"/>
                </a:cubicBezTo>
                <a:cubicBezTo>
                  <a:pt x="2271" y="2406"/>
                  <a:pt x="2297" y="2412"/>
                  <a:pt x="2315" y="2423"/>
                </a:cubicBezTo>
                <a:cubicBezTo>
                  <a:pt x="2334" y="2418"/>
                  <a:pt x="2287" y="2508"/>
                  <a:pt x="2307" y="2503"/>
                </a:cubicBezTo>
                <a:cubicBezTo>
                  <a:pt x="2321" y="2482"/>
                  <a:pt x="2347" y="2548"/>
                  <a:pt x="2355" y="2551"/>
                </a:cubicBezTo>
                <a:cubicBezTo>
                  <a:pt x="2359" y="2564"/>
                  <a:pt x="2357" y="2590"/>
                  <a:pt x="2371" y="2599"/>
                </a:cubicBezTo>
                <a:cubicBezTo>
                  <a:pt x="2380" y="2605"/>
                  <a:pt x="2480" y="2639"/>
                  <a:pt x="2491" y="2639"/>
                </a:cubicBezTo>
                <a:cubicBezTo>
                  <a:pt x="2505" y="2648"/>
                  <a:pt x="2446" y="2625"/>
                  <a:pt x="2451" y="2639"/>
                </a:cubicBezTo>
                <a:cubicBezTo>
                  <a:pt x="2456" y="2666"/>
                  <a:pt x="2503" y="2642"/>
                  <a:pt x="2531" y="2647"/>
                </a:cubicBezTo>
                <a:cubicBezTo>
                  <a:pt x="2555" y="2660"/>
                  <a:pt x="2545" y="2640"/>
                  <a:pt x="2571" y="2647"/>
                </a:cubicBezTo>
                <a:cubicBezTo>
                  <a:pt x="2589" y="2656"/>
                  <a:pt x="2566" y="2722"/>
                  <a:pt x="2587" y="2727"/>
                </a:cubicBezTo>
                <a:cubicBezTo>
                  <a:pt x="2600" y="2745"/>
                  <a:pt x="2611" y="2879"/>
                  <a:pt x="2619" y="3095"/>
                </a:cubicBezTo>
                <a:cubicBezTo>
                  <a:pt x="2624" y="3144"/>
                  <a:pt x="2618" y="3022"/>
                  <a:pt x="2619" y="3023"/>
                </a:cubicBezTo>
                <a:cubicBezTo>
                  <a:pt x="2629" y="3034"/>
                  <a:pt x="2616" y="3106"/>
                  <a:pt x="2627" y="3103"/>
                </a:cubicBezTo>
                <a:cubicBezTo>
                  <a:pt x="2651" y="3110"/>
                  <a:pt x="2652" y="3192"/>
                  <a:pt x="2659" y="3215"/>
                </a:cubicBezTo>
                <a:cubicBezTo>
                  <a:pt x="2667" y="3235"/>
                  <a:pt x="2665" y="3310"/>
                  <a:pt x="2675" y="3311"/>
                </a:cubicBezTo>
                <a:cubicBezTo>
                  <a:pt x="2692" y="3313"/>
                  <a:pt x="2722" y="3325"/>
                  <a:pt x="2715" y="3335"/>
                </a:cubicBezTo>
                <a:cubicBezTo>
                  <a:pt x="2710" y="3342"/>
                  <a:pt x="2723" y="3362"/>
                  <a:pt x="2715" y="3367"/>
                </a:cubicBezTo>
                <a:cubicBezTo>
                  <a:pt x="2711" y="3369"/>
                  <a:pt x="2731" y="3391"/>
                  <a:pt x="2731" y="3391"/>
                </a:cubicBezTo>
                <a:cubicBezTo>
                  <a:pt x="2720" y="3405"/>
                  <a:pt x="2725" y="3384"/>
                  <a:pt x="2731" y="3399"/>
                </a:cubicBezTo>
                <a:cubicBezTo>
                  <a:pt x="2717" y="3441"/>
                  <a:pt x="2756" y="3415"/>
                  <a:pt x="2787" y="3431"/>
                </a:cubicBezTo>
                <a:cubicBezTo>
                  <a:pt x="2810" y="3442"/>
                  <a:pt x="2849" y="3408"/>
                  <a:pt x="2875" y="3415"/>
                </a:cubicBezTo>
                <a:cubicBezTo>
                  <a:pt x="2907" y="3433"/>
                  <a:pt x="2919" y="3343"/>
                  <a:pt x="2955" y="3351"/>
                </a:cubicBezTo>
                <a:cubicBezTo>
                  <a:pt x="2975" y="3363"/>
                  <a:pt x="2976" y="3386"/>
                  <a:pt x="3011" y="3375"/>
                </a:cubicBezTo>
                <a:cubicBezTo>
                  <a:pt x="3015" y="3373"/>
                  <a:pt x="3057" y="3346"/>
                  <a:pt x="3059" y="3343"/>
                </a:cubicBezTo>
                <a:cubicBezTo>
                  <a:pt x="3062" y="3341"/>
                  <a:pt x="3095" y="3344"/>
                  <a:pt x="3099" y="3343"/>
                </a:cubicBezTo>
                <a:lnTo>
                  <a:pt x="3059" y="3343"/>
                </a:lnTo>
                <a:cubicBezTo>
                  <a:pt x="3059" y="3343"/>
                  <a:pt x="3099" y="3351"/>
                  <a:pt x="3099" y="3351"/>
                </a:cubicBezTo>
                <a:cubicBezTo>
                  <a:pt x="3112" y="3354"/>
                  <a:pt x="3103" y="3348"/>
                  <a:pt x="3115" y="3351"/>
                </a:cubicBezTo>
                <a:cubicBezTo>
                  <a:pt x="3133" y="3348"/>
                  <a:pt x="3153" y="3379"/>
                  <a:pt x="3171" y="3375"/>
                </a:cubicBezTo>
                <a:cubicBezTo>
                  <a:pt x="3180" y="3372"/>
                  <a:pt x="3203" y="3319"/>
                  <a:pt x="3203" y="3319"/>
                </a:cubicBezTo>
                <a:cubicBezTo>
                  <a:pt x="3221" y="3309"/>
                  <a:pt x="3206" y="3386"/>
                  <a:pt x="3227" y="3391"/>
                </a:cubicBezTo>
                <a:cubicBezTo>
                  <a:pt x="3254" y="3407"/>
                  <a:pt x="3310" y="3431"/>
                  <a:pt x="3291" y="3447"/>
                </a:cubicBezTo>
                <a:cubicBezTo>
                  <a:pt x="3301" y="3450"/>
                  <a:pt x="3348" y="3455"/>
                  <a:pt x="3355" y="3463"/>
                </a:cubicBezTo>
                <a:cubicBezTo>
                  <a:pt x="3362" y="3469"/>
                  <a:pt x="3395" y="3447"/>
                  <a:pt x="3395" y="3447"/>
                </a:cubicBezTo>
                <a:cubicBezTo>
                  <a:pt x="3400" y="3461"/>
                  <a:pt x="3404" y="3518"/>
                  <a:pt x="3419" y="3527"/>
                </a:cubicBezTo>
                <a:cubicBezTo>
                  <a:pt x="3442" y="3521"/>
                  <a:pt x="3412" y="3531"/>
                  <a:pt x="3435" y="3527"/>
                </a:cubicBezTo>
                <a:cubicBezTo>
                  <a:pt x="3450" y="3524"/>
                  <a:pt x="3435" y="3583"/>
                  <a:pt x="3435" y="3583"/>
                </a:cubicBezTo>
                <a:cubicBezTo>
                  <a:pt x="3450" y="3586"/>
                  <a:pt x="3429" y="3529"/>
                  <a:pt x="3443" y="3535"/>
                </a:cubicBezTo>
                <a:cubicBezTo>
                  <a:pt x="3447" y="3536"/>
                  <a:pt x="3512" y="3660"/>
                  <a:pt x="3515" y="3663"/>
                </a:cubicBezTo>
                <a:cubicBezTo>
                  <a:pt x="3525" y="3670"/>
                  <a:pt x="3598" y="3668"/>
                  <a:pt x="3611" y="3671"/>
                </a:cubicBezTo>
                <a:cubicBezTo>
                  <a:pt x="3614" y="3683"/>
                  <a:pt x="4195" y="4007"/>
                  <a:pt x="4195" y="4007"/>
                </a:cubicBezTo>
                <a:cubicBezTo>
                  <a:pt x="4162" y="4025"/>
                  <a:pt x="4272" y="3976"/>
                  <a:pt x="4299" y="3983"/>
                </a:cubicBezTo>
                <a:cubicBezTo>
                  <a:pt x="4314" y="3964"/>
                  <a:pt x="4312" y="3973"/>
                  <a:pt x="4323" y="3951"/>
                </a:cubicBezTo>
                <a:cubicBezTo>
                  <a:pt x="4327" y="3945"/>
                  <a:pt x="4323" y="3914"/>
                  <a:pt x="4331" y="3911"/>
                </a:cubicBezTo>
                <a:cubicBezTo>
                  <a:pt x="4360" y="3898"/>
                  <a:pt x="4370" y="3778"/>
                  <a:pt x="4411" y="3775"/>
                </a:cubicBezTo>
                <a:cubicBezTo>
                  <a:pt x="4433" y="3746"/>
                  <a:pt x="4503" y="3688"/>
                  <a:pt x="4539" y="3679"/>
                </a:cubicBezTo>
                <a:cubicBezTo>
                  <a:pt x="4549" y="3666"/>
                  <a:pt x="4546" y="3204"/>
                  <a:pt x="4563" y="3199"/>
                </a:cubicBezTo>
                <a:cubicBezTo>
                  <a:pt x="4562" y="3195"/>
                  <a:pt x="4154" y="2686"/>
                  <a:pt x="4156" y="2683"/>
                </a:cubicBezTo>
                <a:cubicBezTo>
                  <a:pt x="4158" y="2679"/>
                  <a:pt x="4165" y="2682"/>
                  <a:pt x="4169" y="2679"/>
                </a:cubicBezTo>
                <a:cubicBezTo>
                  <a:pt x="4172" y="2677"/>
                  <a:pt x="4173" y="2672"/>
                  <a:pt x="4177" y="2669"/>
                </a:cubicBezTo>
                <a:cubicBezTo>
                  <a:pt x="4181" y="2666"/>
                  <a:pt x="4185" y="2664"/>
                  <a:pt x="4189" y="2662"/>
                </a:cubicBezTo>
                <a:cubicBezTo>
                  <a:pt x="4202" y="2645"/>
                  <a:pt x="4209" y="2633"/>
                  <a:pt x="4227" y="2622"/>
                </a:cubicBezTo>
                <a:cubicBezTo>
                  <a:pt x="4231" y="2613"/>
                  <a:pt x="4239" y="2606"/>
                  <a:pt x="4244" y="2597"/>
                </a:cubicBezTo>
                <a:cubicBezTo>
                  <a:pt x="4250" y="2585"/>
                  <a:pt x="4251" y="2573"/>
                  <a:pt x="4260" y="2562"/>
                </a:cubicBezTo>
                <a:cubicBezTo>
                  <a:pt x="4254" y="2533"/>
                  <a:pt x="4240" y="2530"/>
                  <a:pt x="4260" y="2500"/>
                </a:cubicBezTo>
                <a:cubicBezTo>
                  <a:pt x="4254" y="2485"/>
                  <a:pt x="4266" y="2482"/>
                  <a:pt x="4247" y="2475"/>
                </a:cubicBezTo>
                <a:cubicBezTo>
                  <a:pt x="4241" y="2457"/>
                  <a:pt x="4229" y="2436"/>
                  <a:pt x="4210" y="2425"/>
                </a:cubicBezTo>
                <a:cubicBezTo>
                  <a:pt x="4185" y="2396"/>
                  <a:pt x="4224" y="2396"/>
                  <a:pt x="4244" y="2380"/>
                </a:cubicBezTo>
                <a:cubicBezTo>
                  <a:pt x="4260" y="2366"/>
                  <a:pt x="4251" y="2371"/>
                  <a:pt x="4268" y="2362"/>
                </a:cubicBezTo>
                <a:cubicBezTo>
                  <a:pt x="4259" y="2326"/>
                  <a:pt x="4210" y="2342"/>
                  <a:pt x="4169" y="2340"/>
                </a:cubicBezTo>
                <a:cubicBezTo>
                  <a:pt x="4150" y="2317"/>
                  <a:pt x="4170" y="2319"/>
                  <a:pt x="4189" y="2308"/>
                </a:cubicBezTo>
                <a:cubicBezTo>
                  <a:pt x="4203" y="2290"/>
                  <a:pt x="4193" y="2300"/>
                  <a:pt x="4223" y="2283"/>
                </a:cubicBezTo>
                <a:cubicBezTo>
                  <a:pt x="4227" y="2280"/>
                  <a:pt x="4235" y="2276"/>
                  <a:pt x="4235" y="2276"/>
                </a:cubicBezTo>
                <a:cubicBezTo>
                  <a:pt x="4238" y="2280"/>
                  <a:pt x="4242" y="2283"/>
                  <a:pt x="4244" y="2287"/>
                </a:cubicBezTo>
                <a:cubicBezTo>
                  <a:pt x="4245" y="2291"/>
                  <a:pt x="4243" y="2297"/>
                  <a:pt x="4247" y="2301"/>
                </a:cubicBezTo>
                <a:cubicBezTo>
                  <a:pt x="4255" y="2305"/>
                  <a:pt x="4264" y="2296"/>
                  <a:pt x="4273" y="2293"/>
                </a:cubicBezTo>
                <a:cubicBezTo>
                  <a:pt x="4302" y="2285"/>
                  <a:pt x="4332" y="2278"/>
                  <a:pt x="4360" y="2268"/>
                </a:cubicBezTo>
                <a:cubicBezTo>
                  <a:pt x="4360" y="2267"/>
                  <a:pt x="4366" y="2248"/>
                  <a:pt x="4368" y="2247"/>
                </a:cubicBezTo>
                <a:cubicBezTo>
                  <a:pt x="4383" y="2241"/>
                  <a:pt x="4402" y="2243"/>
                  <a:pt x="4418" y="2240"/>
                </a:cubicBezTo>
                <a:cubicBezTo>
                  <a:pt x="4431" y="2238"/>
                  <a:pt x="4443" y="2233"/>
                  <a:pt x="4456" y="2230"/>
                </a:cubicBezTo>
                <a:cubicBezTo>
                  <a:pt x="4460" y="2223"/>
                  <a:pt x="4461" y="2213"/>
                  <a:pt x="4468" y="2208"/>
                </a:cubicBezTo>
                <a:cubicBezTo>
                  <a:pt x="4480" y="2197"/>
                  <a:pt x="4501" y="2189"/>
                  <a:pt x="4517" y="2183"/>
                </a:cubicBezTo>
                <a:cubicBezTo>
                  <a:pt x="4538" y="2189"/>
                  <a:pt x="4544" y="2190"/>
                  <a:pt x="4567" y="2187"/>
                </a:cubicBezTo>
                <a:cubicBezTo>
                  <a:pt x="4576" y="2184"/>
                  <a:pt x="4585" y="2184"/>
                  <a:pt x="4593" y="2180"/>
                </a:cubicBezTo>
                <a:cubicBezTo>
                  <a:pt x="4623" y="2162"/>
                  <a:pt x="4588" y="2172"/>
                  <a:pt x="4618" y="2165"/>
                </a:cubicBezTo>
                <a:cubicBezTo>
                  <a:pt x="4637" y="2139"/>
                  <a:pt x="4625" y="2147"/>
                  <a:pt x="4647" y="2137"/>
                </a:cubicBezTo>
                <a:cubicBezTo>
                  <a:pt x="4655" y="2124"/>
                  <a:pt x="4661" y="2116"/>
                  <a:pt x="4676" y="2108"/>
                </a:cubicBezTo>
                <a:cubicBezTo>
                  <a:pt x="4688" y="2075"/>
                  <a:pt x="4715" y="2051"/>
                  <a:pt x="4738" y="2022"/>
                </a:cubicBezTo>
                <a:cubicBezTo>
                  <a:pt x="4751" y="1983"/>
                  <a:pt x="4745" y="1944"/>
                  <a:pt x="4771" y="1908"/>
                </a:cubicBezTo>
                <a:cubicBezTo>
                  <a:pt x="4776" y="1889"/>
                  <a:pt x="4772" y="1914"/>
                  <a:pt x="4767" y="1908"/>
                </a:cubicBezTo>
                <a:cubicBezTo>
                  <a:pt x="4756" y="1894"/>
                  <a:pt x="4758" y="1877"/>
                  <a:pt x="4738" y="1873"/>
                </a:cubicBezTo>
                <a:cubicBezTo>
                  <a:pt x="4707" y="1844"/>
                  <a:pt x="4719" y="1864"/>
                  <a:pt x="4692" y="1873"/>
                </a:cubicBezTo>
                <a:cubicBezTo>
                  <a:pt x="4656" y="1867"/>
                  <a:pt x="4661" y="1830"/>
                  <a:pt x="4629" y="1821"/>
                </a:cubicBezTo>
                <a:cubicBezTo>
                  <a:pt x="4617" y="1808"/>
                  <a:pt x="4615" y="1798"/>
                  <a:pt x="4617" y="1797"/>
                </a:cubicBezTo>
                <a:cubicBezTo>
                  <a:pt x="4614" y="1790"/>
                  <a:pt x="4607" y="1776"/>
                  <a:pt x="4611" y="1779"/>
                </a:cubicBezTo>
                <a:cubicBezTo>
                  <a:pt x="4615" y="1782"/>
                  <a:pt x="4633" y="1814"/>
                  <a:pt x="4642" y="1815"/>
                </a:cubicBezTo>
                <a:cubicBezTo>
                  <a:pt x="4653" y="1802"/>
                  <a:pt x="4652" y="1795"/>
                  <a:pt x="4668" y="1786"/>
                </a:cubicBezTo>
                <a:cubicBezTo>
                  <a:pt x="4684" y="1765"/>
                  <a:pt x="4667" y="1783"/>
                  <a:pt x="4688" y="1773"/>
                </a:cubicBezTo>
                <a:cubicBezTo>
                  <a:pt x="4697" y="1769"/>
                  <a:pt x="4713" y="1758"/>
                  <a:pt x="4713" y="1758"/>
                </a:cubicBezTo>
                <a:cubicBezTo>
                  <a:pt x="4628" y="1738"/>
                  <a:pt x="4493" y="1593"/>
                  <a:pt x="4143" y="1521"/>
                </a:cubicBezTo>
                <a:cubicBezTo>
                  <a:pt x="4007" y="1458"/>
                  <a:pt x="3828" y="1465"/>
                  <a:pt x="3897" y="1377"/>
                </a:cubicBezTo>
                <a:cubicBezTo>
                  <a:pt x="3966" y="1289"/>
                  <a:pt x="4313" y="1178"/>
                  <a:pt x="4555" y="991"/>
                </a:cubicBezTo>
                <a:cubicBezTo>
                  <a:pt x="4797" y="804"/>
                  <a:pt x="5379" y="375"/>
                  <a:pt x="5347" y="255"/>
                </a:cubicBezTo>
                <a:cubicBezTo>
                  <a:pt x="5315" y="135"/>
                  <a:pt x="4563" y="272"/>
                  <a:pt x="4363" y="271"/>
                </a:cubicBezTo>
                <a:cubicBezTo>
                  <a:pt x="4163" y="270"/>
                  <a:pt x="4323" y="283"/>
                  <a:pt x="4147" y="247"/>
                </a:cubicBezTo>
                <a:cubicBezTo>
                  <a:pt x="3971" y="211"/>
                  <a:pt x="3492" y="79"/>
                  <a:pt x="3307" y="55"/>
                </a:cubicBezTo>
                <a:cubicBezTo>
                  <a:pt x="3122" y="31"/>
                  <a:pt x="3092" y="93"/>
                  <a:pt x="3035" y="103"/>
                </a:cubicBezTo>
              </a:path>
            </a:pathLst>
          </a:custGeom>
          <a:noFill/>
          <a:ln w="255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03640" y="2421000"/>
          <a:ext cx="93492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421000"/>
                    <a:ext cx="9349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" descr="Asia-Pacific Economic Cooperat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3640" y="1773360"/>
            <a:ext cx="1368720" cy="64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" descr="SAARC logo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63640" y="2205000"/>
            <a:ext cx="719280" cy="69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211640" y="2276640"/>
            <a:ext cx="72072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108000" y="765000"/>
            <a:ext cx="855720" cy="44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693080" y="285264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A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97F3-8ED1-4F65-BCB2-697290B21074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9560" y="3317760"/>
            <a:ext cx="5678640" cy="368280"/>
          </a:xfrm>
          <a:custGeom>
            <a:avLst/>
            <a:gdLst>
              <a:gd name="textAreaLeft" fmla="*/ 0 w 5678640"/>
              <a:gd name="textAreaRight" fmla="*/ 5679000 w 56786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7" y="0"/>
                </a:lnTo>
                <a:lnTo>
                  <a:pt x="21600" y="10800"/>
                </a:lnTo>
                <a:lnTo>
                  <a:pt x="2062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66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ngsana New"/>
              </a:rPr>
              <a:t>TRADE FACILI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4640" y="3095640"/>
            <a:ext cx="1136880" cy="741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ngsana New"/>
              </a:rPr>
              <a:t>Produc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3669000">
            <a:off x="1024200" y="2135880"/>
            <a:ext cx="2587680" cy="61920"/>
          </a:xfrm>
          <a:custGeom>
            <a:avLst/>
            <a:gdLst>
              <a:gd name="textAreaLeft" fmla="*/ 0 w 2587680"/>
              <a:gd name="textAreaRight" fmla="*/ 2587680 w 2587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6" y="0"/>
                </a:lnTo>
                <a:lnTo>
                  <a:pt x="21600" y="10800"/>
                </a:lnTo>
                <a:lnTo>
                  <a:pt x="195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840" y="466560"/>
            <a:ext cx="1573200" cy="81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Publication and Availability of Information on Trade Regulation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3669000">
            <a:off x="2877120" y="2135880"/>
            <a:ext cx="2587680" cy="61920"/>
          </a:xfrm>
          <a:custGeom>
            <a:avLst/>
            <a:gdLst>
              <a:gd name="textAreaLeft" fmla="*/ 0 w 2587680"/>
              <a:gd name="textAreaRight" fmla="*/ 2587680 w 2587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6" y="0"/>
                </a:lnTo>
                <a:lnTo>
                  <a:pt x="21600" y="10800"/>
                </a:lnTo>
                <a:lnTo>
                  <a:pt x="195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3669000">
            <a:off x="4727880" y="2135880"/>
            <a:ext cx="2587680" cy="61920"/>
          </a:xfrm>
          <a:custGeom>
            <a:avLst/>
            <a:gdLst>
              <a:gd name="textAreaLeft" fmla="*/ 0 w 2587680"/>
              <a:gd name="textAreaRight" fmla="*/ 2587680 w 2587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6" y="0"/>
                </a:lnTo>
                <a:lnTo>
                  <a:pt x="21600" y="10800"/>
                </a:lnTo>
                <a:lnTo>
                  <a:pt x="195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5400" y="466560"/>
            <a:ext cx="1573200" cy="81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Non-tariff Measur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48200" y="466560"/>
            <a:ext cx="1573200" cy="81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Trade and Customs Rules, Procedures and Formaliti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7888400">
            <a:off x="1024920" y="4838760"/>
            <a:ext cx="2586240" cy="61920"/>
          </a:xfrm>
          <a:custGeom>
            <a:avLst/>
            <a:gdLst>
              <a:gd name="textAreaLeft" fmla="*/ 0 w 2586240"/>
              <a:gd name="textAreaRight" fmla="*/ 2586600 w 2586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6" y="0"/>
                </a:lnTo>
                <a:lnTo>
                  <a:pt x="21600" y="10800"/>
                </a:lnTo>
                <a:lnTo>
                  <a:pt x="195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4640" y="5613480"/>
            <a:ext cx="1575000" cy="814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Trade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19480" y="5613480"/>
            <a:ext cx="1573200" cy="814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Transpo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and Logistic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7888400">
            <a:off x="2907720" y="4838760"/>
            <a:ext cx="2586240" cy="61920"/>
          </a:xfrm>
          <a:custGeom>
            <a:avLst/>
            <a:gdLst>
              <a:gd name="textAreaLeft" fmla="*/ 0 w 2586240"/>
              <a:gd name="textAreaRight" fmla="*/ 2586600 w 2586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6" y="0"/>
                </a:lnTo>
                <a:lnTo>
                  <a:pt x="21600" y="10800"/>
                </a:lnTo>
                <a:lnTo>
                  <a:pt x="195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7888400">
            <a:off x="4761000" y="4801680"/>
            <a:ext cx="2585880" cy="61920"/>
          </a:xfrm>
          <a:custGeom>
            <a:avLst/>
            <a:gdLst>
              <a:gd name="textAreaLeft" fmla="*/ 0 w 2585880"/>
              <a:gd name="textAreaRight" fmla="*/ 2586240 w 25858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6" y="0"/>
                </a:lnTo>
                <a:lnTo>
                  <a:pt x="21600" y="10800"/>
                </a:lnTo>
                <a:lnTo>
                  <a:pt x="195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4960" y="1244520"/>
            <a:ext cx="16369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rnational Conventions, Standards &amp; Best Practic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30960" y="1798560"/>
            <a:ext cx="142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ustoms Clearance Formalities and Fe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76840" y="2317680"/>
            <a:ext cx="1297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ustoms Valuation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48160" y="1614600"/>
            <a:ext cx="9572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les of Origin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133720"/>
            <a:ext cx="1049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port Licens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33880" y="2651040"/>
            <a:ext cx="895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eshipment Inspection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7040" y="1430280"/>
            <a:ext cx="955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chnical Regulations and Standard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74960" y="2058840"/>
            <a:ext cx="955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itary &amp; Phytosanitary Measur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6080" y="4132440"/>
            <a:ext cx="11412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ectronic One-stop Solutions (Single Window)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4005360"/>
            <a:ext cx="9572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-Commerce &amp; E-Busines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33920" y="4799160"/>
            <a:ext cx="98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ectronic Trade Document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98800" y="3873600"/>
            <a:ext cx="1141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port documents &amp; formaliti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81360" y="4429080"/>
            <a:ext cx="1143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eight Forwarders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35120" y="4948200"/>
            <a:ext cx="1141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istics &amp; Port Handling Servic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3836880"/>
            <a:ext cx="1141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port Credit Faciliti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8320" y="4317840"/>
            <a:ext cx="1141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yment Servic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4836960"/>
            <a:ext cx="1141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eign Exchange Measure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2614680"/>
            <a:ext cx="957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mestic Regulation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557360"/>
            <a:ext cx="957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ngle Inquiry Point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2276640"/>
            <a:ext cx="957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b-Portals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70240" y="5613480"/>
            <a:ext cx="1573200" cy="814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"/>
              </a:rPr>
              <a:t>ICT Applications and e-solution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653000"/>
            <a:ext cx="2592360" cy="188748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ESCAP’s Integrated &amp; Comprehensive Approach to Trade Facilitation of (Fishbone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48680" y="3095640"/>
            <a:ext cx="1136520" cy="7412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120" rIns="42120" tIns="21240" bIns="21240" anchor="t">
            <a:noAutofit/>
          </a:bodyPr>
          <a:p>
            <a:pPr algn="ct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ngsana New"/>
              </a:rPr>
              <a:t>Access to Mar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1476000" y="177336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>
            <a:off x="2050560" y="2565000"/>
            <a:ext cx="313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>
            <a:off x="3492000" y="170028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>
            <a:off x="3780000" y="2349000"/>
            <a:ext cx="3132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>
            <a:off x="3995280" y="292428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5435280" y="177336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" name=""/>
          <p:cNvCxnSpPr/>
          <p:nvPr/>
        </p:nvCxnSpPr>
        <p:spPr>
          <a:xfrm>
            <a:off x="5940000" y="2852280"/>
            <a:ext cx="313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/>
          <p:nvPr/>
        </p:nvCxnSpPr>
        <p:spPr>
          <a:xfrm>
            <a:off x="5579640" y="227664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/>
          <p:nvPr/>
        </p:nvCxnSpPr>
        <p:spPr>
          <a:xfrm>
            <a:off x="2123640" y="400536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8" name=""/>
          <p:cNvCxnSpPr/>
          <p:nvPr/>
        </p:nvCxnSpPr>
        <p:spPr>
          <a:xfrm>
            <a:off x="2050560" y="450864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9" name=""/>
          <p:cNvCxnSpPr/>
          <p:nvPr/>
        </p:nvCxnSpPr>
        <p:spPr>
          <a:xfrm>
            <a:off x="1835280" y="4941360"/>
            <a:ext cx="3132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>
            <a:off x="4140360" y="4076280"/>
            <a:ext cx="3132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/>
          <p:nvPr/>
        </p:nvCxnSpPr>
        <p:spPr>
          <a:xfrm>
            <a:off x="3850920" y="465300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>
            <a:off x="3634920" y="5157360"/>
            <a:ext cx="313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>
            <a:off x="5795640" y="4365720"/>
            <a:ext cx="313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>
            <a:off x="5508720" y="4941360"/>
            <a:ext cx="3132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>
            <a:off x="5795640" y="141264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>
            <a:off x="6011640" y="191592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H="1">
            <a:off x="6372000" y="242064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H="1">
            <a:off x="6587640" y="422064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11280" y="6237360"/>
            <a:ext cx="1295640" cy="620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8A73-954E-41FE-B498-9CB3810A70FD}" type="slidenum">
              <a:t>4</a:t>
            </a:fld>
          </a:p>
        </p:txBody>
      </p:sp>
    </p:spTree>
  </p:cSld>
  <p:transition>
    <p:cover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4211640" y="4076640"/>
            <a:ext cx="4248000" cy="1873080"/>
            <a:chOff x="4211640" y="4076640"/>
            <a:chExt cx="4248000" cy="1873080"/>
          </a:xfrm>
        </p:grpSpPr>
        <p:sp>
          <p:nvSpPr>
            <p:cNvPr id="171" name=""/>
            <p:cNvSpPr/>
            <p:nvPr/>
          </p:nvSpPr>
          <p:spPr>
            <a:xfrm>
              <a:off x="4211640" y="4076640"/>
              <a:ext cx="4248000" cy="187308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11640" y="4865400"/>
              <a:ext cx="388764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mplementation of TF measures at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tional/ subregion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level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(APEC, ASEAN, SAARC, SPECA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211640" y="2708280"/>
            <a:ext cx="4248000" cy="1872720"/>
            <a:chOff x="4211640" y="2708280"/>
            <a:chExt cx="4248000" cy="1872720"/>
          </a:xfrm>
        </p:grpSpPr>
        <p:sp>
          <p:nvSpPr>
            <p:cNvPr id="174" name=""/>
            <p:cNvSpPr/>
            <p:nvPr/>
          </p:nvSpPr>
          <p:spPr>
            <a:xfrm>
              <a:off x="4211640" y="2708280"/>
              <a:ext cx="4248000" cy="1872720"/>
            </a:xfrm>
            <a:prstGeom prst="cube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11640" y="3497040"/>
              <a:ext cx="388764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Unicode MS"/>
                </a:rPr>
                <a:t>ESCAP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11640" y="1341360"/>
            <a:ext cx="4248000" cy="1871280"/>
            <a:chOff x="4211640" y="1341360"/>
            <a:chExt cx="4248000" cy="1871280"/>
          </a:xfrm>
        </p:grpSpPr>
        <p:sp>
          <p:nvSpPr>
            <p:cNvPr id="177" name=""/>
            <p:cNvSpPr/>
            <p:nvPr/>
          </p:nvSpPr>
          <p:spPr>
            <a:xfrm>
              <a:off x="4211640" y="1341360"/>
              <a:ext cx="4248000" cy="187128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11640" y="2129400"/>
              <a:ext cx="38876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Global rules &amp; standards setting organizations (WTO, WCO, UN/CEFACT, IS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00000" y="1413000"/>
            <a:ext cx="2933640" cy="2302920"/>
            <a:chOff x="900000" y="1413000"/>
            <a:chExt cx="2933640" cy="2302920"/>
          </a:xfrm>
        </p:grpSpPr>
        <p:sp>
          <p:nvSpPr>
            <p:cNvPr id="180" name=""/>
            <p:cNvSpPr/>
            <p:nvPr/>
          </p:nvSpPr>
          <p:spPr>
            <a:xfrm>
              <a:off x="900000" y="1565280"/>
              <a:ext cx="244800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 Unicode MS"/>
                </a:rPr>
                <a:t>International Standards &amp; Technolog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48000" y="1413000"/>
              <a:ext cx="485640" cy="2302920"/>
            </a:xfrm>
            <a:prstGeom prst="downArrow">
              <a:avLst>
                <a:gd name="adj1" fmla="val 50000"/>
                <a:gd name="adj2" fmla="val 118551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187280" y="3789360"/>
            <a:ext cx="2644560" cy="2160720"/>
            <a:chOff x="1187280" y="3789360"/>
            <a:chExt cx="2644560" cy="2160720"/>
          </a:xfrm>
        </p:grpSpPr>
        <p:sp>
          <p:nvSpPr>
            <p:cNvPr id="183" name=""/>
            <p:cNvSpPr/>
            <p:nvPr/>
          </p:nvSpPr>
          <p:spPr>
            <a:xfrm>
              <a:off x="1187280" y="4137120"/>
              <a:ext cx="1942920" cy="15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 Unicode MS"/>
                </a:rPr>
                <a:t>National/ Subregional TF Policies &amp; Strate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6200" y="3789360"/>
              <a:ext cx="485640" cy="2160720"/>
            </a:xfrm>
            <a:prstGeom prst="upArrow">
              <a:avLst>
                <a:gd name="adj1" fmla="val 50000"/>
                <a:gd name="adj2" fmla="val 111231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Bridging the implementation gaps…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F196-7BDB-48CE-82B8-9C98DE004A1D}" type="slidenum">
              <a:t>5</a:t>
            </a:fld>
          </a:p>
        </p:txBody>
      </p:sp>
    </p:spTree>
  </p:cSld>
  <p:transition>
    <p:cover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he role of ESCAP (1)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41680" y="2992320"/>
            <a:ext cx="1384200" cy="2021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Developing the implementation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65560" y="2979720"/>
            <a:ext cx="1409760" cy="203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Promoting regional harmonization &amp;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7600" y="2979720"/>
            <a:ext cx="1346400" cy="203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Providing capacity-building &amp; experience-sharing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01080" y="2954160"/>
            <a:ext cx="1396800" cy="2059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Collaboration with regional &amp; global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(ECE/CEFACT, APEC, ASEAN…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5084640"/>
            <a:ext cx="6184800" cy="53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UN Regional Network of Experts for Paperless Trade (UN NExT) – community of knowledge &amp; best practice (ESCAP/UNE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5661000"/>
            <a:ext cx="640872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Committee on Trade and Inves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705200">
            <a:off x="2260080" y="2293560"/>
            <a:ext cx="976320" cy="193680"/>
          </a:xfrm>
          <a:prstGeom prst="rightArrow">
            <a:avLst>
              <a:gd name="adj1" fmla="val 50000"/>
              <a:gd name="adj2" fmla="val 12602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60400" y="1476360"/>
            <a:ext cx="126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1413000"/>
            <a:ext cx="2247840" cy="642600"/>
          </a:xfrm>
          <a:prstGeom prst="rect">
            <a:avLst/>
          </a:prstGeom>
          <a:noFill/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e benefit from a regional pre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2240" y="2779560"/>
            <a:ext cx="3257640" cy="642600"/>
          </a:xfrm>
          <a:prstGeom prst="rect">
            <a:avLst/>
          </a:prstGeom>
          <a:noFill/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e understand the 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needs &amp; sensi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" y="4149720"/>
            <a:ext cx="3937320" cy="916920"/>
          </a:xfrm>
          <a:prstGeom prst="rect">
            <a:avLst/>
          </a:prstGeom>
          <a:noFill/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e provide linkages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olicy-makers &amp; technical expe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under the UN b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705200">
            <a:off x="1258560" y="5444640"/>
            <a:ext cx="976320" cy="193680"/>
          </a:xfrm>
          <a:prstGeom prst="rightArrow">
            <a:avLst>
              <a:gd name="adj1" fmla="val 50000"/>
              <a:gd name="adj2" fmla="val 12602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705200">
            <a:off x="1739520" y="3690720"/>
            <a:ext cx="976320" cy="193680"/>
          </a:xfrm>
          <a:prstGeom prst="rightArrow">
            <a:avLst>
              <a:gd name="adj1" fmla="val 50000"/>
              <a:gd name="adj2" fmla="val 12602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27280" y="1341360"/>
            <a:ext cx="5977080" cy="1511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-Pa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for Efficient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6451-80CC-46D9-AF6F-A961F6D33859}" type="slidenum">
              <a:t>6</a:t>
            </a:fld>
          </a:p>
        </p:txBody>
      </p:sp>
    </p:spTree>
  </p:cSld>
  <p:transition>
    <p:cover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he role of ESCAP (2)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723920" y="1628640"/>
            <a:ext cx="441972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is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vide  community of knowledge &amp; practice in Asia-Pacific to empower local experts through: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er-to-Peer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ergy in capacity 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int methodologies and implementation of standard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regional approach to problem sol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ing of experience, solutions and lessons lear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exchange at the regional level (web-based platfo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int use work group solutions  and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uzzle1"/>
          <p:cNvSpPr/>
          <p:nvPr/>
        </p:nvSpPr>
        <p:spPr>
          <a:xfrm>
            <a:off x="250920" y="2492280"/>
            <a:ext cx="3031920" cy="16891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3141720"/>
            <a:ext cx="216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Regional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uzzle3"/>
          <p:cNvSpPr/>
          <p:nvPr/>
        </p:nvSpPr>
        <p:spPr>
          <a:xfrm>
            <a:off x="2556000" y="1700280"/>
            <a:ext cx="1827000" cy="24778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1224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Exchang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uzzle4"/>
          <p:cNvSpPr/>
          <p:nvPr/>
        </p:nvSpPr>
        <p:spPr>
          <a:xfrm>
            <a:off x="826920" y="3429000"/>
            <a:ext cx="1857600" cy="29574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uzzle2"/>
          <p:cNvSpPr/>
          <p:nvPr/>
        </p:nvSpPr>
        <p:spPr>
          <a:xfrm>
            <a:off x="2050920" y="3500280"/>
            <a:ext cx="2917800" cy="22766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4221000"/>
            <a:ext cx="1414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Train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4437000"/>
            <a:ext cx="17575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tern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5440" y="1197000"/>
            <a:ext cx="76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 Network of Experts for Paperless Trade in Asia Pacific (UN N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E235-B762-4A3A-A414-80EA93AC4B42}" type="slidenum">
              <a:t>7</a:t>
            </a:fld>
          </a:p>
        </p:txBody>
      </p:sp>
    </p:spTree>
  </p:cSld>
  <p:transition>
    <p:zoom dir="in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5183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What can ESCAP offer?  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640" y="1412640"/>
            <a:ext cx="8182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user groups of UN/CEFACT’s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e between global solutions and regional implementation needs (developing implementation too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assistance and Capacity building projects funded by UN (2004-present: three major trade facilitation projects between ESCAP &amp; ECE funded under the UN Development Account project in Asia Pacif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&amp; analytical work to provide realistic overview of the implementation needs in the reg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tise &amp; neutral role of the secretaria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9555-37AF-46E2-A692-D8828A6EC46A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2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How can UN/CEFACT contribute? 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expertise &amp; knowledge-sha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raining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 in the awareness-raising and consensus building for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 in the workshops and training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6E30-DCE4-46D5-8F18-64470A51330E}" type="slidenum">
              <a:t>9</a:t>
            </a:fld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7:33:33Z</dcterms:created>
  <dc:creator>UNESCAP</dc:creator>
  <dc:description/>
  <dc:language>en-US</dc:language>
  <cp:lastModifiedBy>Costa</cp:lastModifiedBy>
  <dcterms:modified xsi:type="dcterms:W3CDTF">2008-09-15T07:17:26Z</dcterms:modified>
  <cp:revision>70</cp:revision>
  <dc:subject/>
  <dc:title>Expediting the implementation process of the Almaty Programme of Action</dc:title>
</cp:coreProperties>
</file>