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88400" cy="10220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88040" cy="10220400"/>
          </a:xfrm>
          <a:custGeom>
            <a:avLst/>
            <a:gdLst>
              <a:gd name="textAreaLeft" fmla="*/ 360 w 7088040"/>
              <a:gd name="textAreaRight" fmla="*/ 7087680 w 7088040"/>
              <a:gd name="textAreaTop" fmla="*/ 360 h 10220400"/>
              <a:gd name="textAreaBottom" fmla="*/ 10220040 h 10220400"/>
            </a:gdLst>
            <a:ahLst/>
            <a:rect l="textAreaLeft" t="textAreaTop" r="textAreaRight" b="textAreaBottom"/>
            <a:pathLst>
              <a:path w="21600" h="31145">
                <a:moveTo>
                  <a:pt x="4" y="0"/>
                </a:moveTo>
                <a:arcTo wR="4" hR="4" stAng="16200000" swAng="-5400000"/>
                <a:lnTo>
                  <a:pt x="0" y="31141"/>
                </a:lnTo>
                <a:arcTo wR="4" hR="4" stAng="10800000" swAng="-5400000"/>
                <a:lnTo>
                  <a:pt x="21596" y="311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864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6864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020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46080" y="4855680"/>
            <a:ext cx="519264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6864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016520" y="9710640"/>
            <a:ext cx="306864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EDC7B-661E-476C-BAF4-B672846AF6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88920" y="766800"/>
            <a:ext cx="5108760" cy="383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45720" y="4856040"/>
            <a:ext cx="519444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01652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E18FC6-66C4-4B1D-A6AA-022FF890AD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9080" y="766800"/>
            <a:ext cx="524988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4440" cy="4599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ooking first at our eInvoice initi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ur goal in Denmark is to increase the e-procurement between public and private sector to 90% by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hing this goal requires a great deal of effort and willin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 make things move we need incen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can use the stick or lure with carr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Denmark we have used the stick a l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ny countries have envied us this approach  - no discussion - just do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t has not all been a bed of 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have gained a lot of experiences: good and b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01652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BCCB29-8A87-4726-ABB2-2E2DF4D082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9080" y="766800"/>
            <a:ext cx="524988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4440" cy="4599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ooking first at our eInvoice initi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ur goal in Denmark is to increase the e-procurement between public and private sector to 90% by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hing this goal requires a great deal of effort and willin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 make things move we need incen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can use the stick or lure with carr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Denmark we have used the stick a l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ny countries have envied us this approach  - no discussion - just do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t has not all been a bed of 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have gained a lot of experiences: good and b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1652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6791C9-D86D-49CD-B943-F5BD22FE40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9080" y="766800"/>
            <a:ext cx="524988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4440" cy="4599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ooking first at our eInvoice initi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ur goal in Denmark is to increase the e-procurement between public and private sector to 90% by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hing this goal requires a great deal of effort and willin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 make things move we need incen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can use the stick or lure with carr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Denmark we have used the stick a l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ny countries have envied us this approach  - no discussion - just do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t has not all been a bed of 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have gained a lot of experiences: good and b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1652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BADB32-CCEE-4D24-9704-54EDBCA13B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9080" y="766800"/>
            <a:ext cx="524988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4440" cy="4599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king a standard part of the legislation– does make things change very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d one common standard have shown to be very valuable for the private sector, especially the large compan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t does not quarantie that we get the small companies on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t does not </a:t>
            </a:r>
            <a:r>
              <a:rPr b="0" lang="en-US" sz="1200" spc="-1" strike="noStrike">
                <a:solidFill>
                  <a:srgbClr val="222222"/>
                </a:solidFill>
                <a:latin typeface="Times New Roman"/>
                <a:ea typeface="Lucida Sans Unicode"/>
              </a:rPr>
              <a:t>guarantee the we gain all the efficiency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aving two years of experience has taught us that making a law on invoice is not enough i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fore we have now made tools to help the IT- and ERP vendors implement the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have broaden our scope and made a standard covering the procurement proces from catalogue to in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d we are working on an internetbased infrastructure – reliable and sec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ending an electronic invoice should be just as easy as sending an e-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01652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316884-5D7D-4B59-AC8D-1D853CB717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9080" y="766800"/>
            <a:ext cx="524988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4440" cy="4599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ooking first at our eInvoice initi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ur goal in Denmark is to increase the e-procurement between public and private sector to 90% by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hing this goal requires a great deal of effort and willin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 make things move we need incen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can use the stick or lure with carr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Denmark we have used the stick a l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ny countries have envied us this approach  - no discussion - just do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t has not all been a bed of 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have gained a lot of experiences: good and b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01652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F5C124-F975-4213-B5DB-137F8DB09F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923AA4-EEE8-4376-9F86-7EA05272B0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33480" y="665280"/>
            <a:ext cx="4567320" cy="33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45720" y="4856040"/>
            <a:ext cx="519444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9360" y="429228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3012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0488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040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936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0488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040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39360" y="1773360"/>
            <a:ext cx="817884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817884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39360" y="907920"/>
            <a:ext cx="8178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9360" y="1773360"/>
            <a:ext cx="817884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012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9360" y="429228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012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0488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040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3936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0488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040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817884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39360" y="907920"/>
            <a:ext cx="8178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012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44801"/>
          <a:stretch/>
        </p:blipFill>
        <p:spPr>
          <a:xfrm>
            <a:off x="0" y="0"/>
            <a:ext cx="9144000" cy="88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39360" y="1773360"/>
            <a:ext cx="817884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601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601"/>
              </a:spcBef>
              <a:buClr>
                <a:srgbClr val="c7d1d1"/>
              </a:buClr>
              <a:buSzPct val="55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601"/>
              </a:spcBef>
              <a:buClr>
                <a:srgbClr val="c7d1d1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0" r="0" b="44801"/>
          <a:stretch/>
        </p:blipFill>
        <p:spPr>
          <a:xfrm>
            <a:off x="0" y="0"/>
            <a:ext cx="9144000" cy="8888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9360" y="1676520"/>
            <a:ext cx="71960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09480" y="914400"/>
            <a:ext cx="2514600" cy="514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601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601"/>
              </a:spcBef>
              <a:buClr>
                <a:srgbClr val="c7d1d1"/>
              </a:buClr>
              <a:buSzPct val="55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601"/>
              </a:spcBef>
              <a:buClr>
                <a:srgbClr val="c7d1d1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dk/imgres?imgurl=http://uts.cc.utexas.edu/~danish/webpage/Dannebrog2.jpg&amp;imgrefurl=http://uts.cc.utexas.edu/~danish/webpage/Study%2520Abroad.htm&amp;h=284&amp;w=264&amp;sz=36&amp;hl=da&amp;start=13&amp;um=1&amp;tbnid=AovM3b3f0IegDM:&amp;tbnh=114&amp;tbnw=106&amp;prev=/images%3Fq%3Ddannebrog%26svnum%3D10%26um%3D1%26hl%3Dda%26rls%3DGGLG,GGLG:2004-50,GGLG: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dk/imgres?imgurl=http://uts.cc.utexas.edu/~danish/webpage/Dannebrog2.jpg&amp;imgrefurl=http://uts.cc.utexas.edu/~danish/webpage/Study%2520Abroad.htm&amp;h=284&amp;w=264&amp;sz=36&amp;hl=da&amp;start=13&amp;um=1&amp;tbnid=AovM3b3f0IegDM:&amp;tbnh=114&amp;tbnw=106&amp;prev=/images%3Fq%3Ddannebrog%26svnum%3D10%26um%3D1%26hl%3Dda%26rls%3DGGLG,GGLG:2004-50,GGLG: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472464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464840"/>
            <a:ext cx="8532720" cy="95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nmark and UN/CEFACT – an early adopters persp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39360" y="4535640"/>
            <a:ext cx="6675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lvl="1" marL="45720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Adam Arndt (adar@itst.d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Danish National IT- and Telecom A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Head of Delegation for Denma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11320" y="1068480"/>
            <a:ext cx="82296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99280" y="0"/>
            <a:ext cx="1044720" cy="1260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803160"/>
            <a:ext cx="8180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The story so far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1802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Early adopters - Danish eProcurement Project started in 2003 (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Ambition to drive digitization of trade in Denmark using the public sector as a le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February 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Palatino Linotype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 2005: Law stating that all invoices to the public sector have to be sent electronical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Originally based on UBL because it was seen to be closer to market than UN/CEFA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Updated 2006/07 - CEFACT still not there y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ince 2005/06 focus on getting CEFACT t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99280" y="0"/>
            <a:ext cx="1044720" cy="1260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843480"/>
            <a:ext cx="8180640" cy="63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The Danish Government in CEF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0080" y="1619280"/>
            <a:ext cx="8180280" cy="4618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Government joined late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-28260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NITA has Head of Dele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Average forum participation 2 persons since Vancou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Active in TBG1 and TBG6 - possibly more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-28260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Leadership in multiple pro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Increasing interest and involvement from both government and private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803160"/>
            <a:ext cx="8180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Resource allo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9360" y="1618920"/>
            <a:ext cx="8180280" cy="4786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Total annual budget of approx. USD 1.5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Split over multiple areas of eff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National implementation (3 man years + $50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Infrastructure project (3 man years + $50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UN/CEFACT (0,50 man year + $4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UBL (0,25 man year + $5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NES (0,25 man year + $4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CEN BII (0,50 man year + $5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PPOL - EU pilot project (1 man year + $2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58156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835560"/>
            <a:ext cx="8180640" cy="63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Denmark and CCTS, UMM and ND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180280" cy="3285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eviously: national NDR without CCTS and UM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w national reg/rep with CCTS 3.0 in m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-28260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will be available for reuse as 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vising national N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-28260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ximum compatibility with UN/CEFACT NDR 3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965240" cy="6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809280"/>
            <a:ext cx="8180640" cy="7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Denmark and CEFACT synta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9360" y="1554120"/>
            <a:ext cx="81802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 international syntax where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FACT preferred where it ex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unctionality valued over orig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Intention to use CEFACT syntax for Tendering n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After enrichment with CEN BII business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Intention to use CEFACT syntax for new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Transport, Payment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General switch to full CEFACT syntax projected in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205740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71640" y="2997360"/>
            <a:ext cx="621216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Adam Arn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Head of Delegation for Den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adar@itst.d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Learn more about CEN/ISS workshop 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www.en.ds.dk/b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Learn more about NES 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www.nesubl.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Learn more about OIOUBL 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www.oioubl.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266480"/>
            <a:ext cx="81820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ank you for your tim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07200" y="0"/>
            <a:ext cx="3736800" cy="192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sta</cp:lastModifiedBy>
  <dcterms:modified xsi:type="dcterms:W3CDTF">2008-09-15T07:05:12Z</dcterms:modified>
  <cp:revision>3</cp:revision>
  <dc:subject/>
  <dc:title>eCommerce in the Real World  - the Danish approach</dc:title>
</cp:coreProperties>
</file>