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E484C753-DFC5-457C-BCF5-3BF2C4A4D629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8280" y="2932200"/>
            <a:ext cx="915516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untry Stakehol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Virginia Cram-Ma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Director UNECE Trade and Timber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00200" y="70488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3 count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040" y="1247760"/>
            <a:ext cx="9191520" cy="79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Secretaria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UN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support to national «Pro»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Looking at backward compatibility issues and the timing of re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promotion and the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roviding more assistance to countries for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00200" y="0"/>
            <a:ext cx="92059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2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1609560"/>
            <a:ext cx="919188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Making more information available in R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ncreasing use/referencing by the European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public sector input and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0200" y="0"/>
            <a:ext cx="92059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1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0680" y="1241280"/>
            <a:ext cx="941544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Expanding the work to include other standards based on the core components technical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mplementing IPR Task Team Repor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Establishing a monitoring group to review project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mplementing the electronic Business, Government and Trade (eBGT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Making better use of current participants to promote UN/CEFAC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204840">
              <a:lnSpc>
                <a:spcPct val="100000"/>
              </a:lnSpc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273240">
              <a:lnSpc>
                <a:spcPct val="100000"/>
              </a:lnSpc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4560" y="588960"/>
            <a:ext cx="91663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Standards Development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through the e-business MoU and, in particular, with ISO TC154, OASIS (its UBL group) and ISO 20022.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C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their participation and the MoU between UNECE and W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T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UN/CEFACT’s input and supporting any eventual agreement on trade fac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international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in the Global Facilitation Partnership for Trade and Transport with the World Bank, WCO, UNCTAD, ICC and U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UN regional com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7480" y="0"/>
            <a:ext cx="6518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Collab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906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21040" y="2211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60960" y="559908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28840" y="2446200"/>
            <a:ext cx="4129200" cy="3504960"/>
            <a:chOff x="3228840" y="2446200"/>
            <a:chExt cx="4129200" cy="3504960"/>
          </a:xfrm>
        </p:grpSpPr>
        <p:sp>
          <p:nvSpPr>
            <p:cNvPr id="230" name="Puzzle1"/>
            <p:cNvSpPr/>
            <p:nvPr/>
          </p:nvSpPr>
          <p:spPr>
            <a:xfrm>
              <a:off x="3228840" y="297936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Puzzle3"/>
            <p:cNvSpPr/>
            <p:nvPr/>
          </p:nvSpPr>
          <p:spPr>
            <a:xfrm>
              <a:off x="5210280" y="244620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Puzzle4"/>
            <p:cNvSpPr/>
            <p:nvPr/>
          </p:nvSpPr>
          <p:spPr>
            <a:xfrm>
              <a:off x="3806640" y="374148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Puzzle2"/>
            <p:cNvSpPr/>
            <p:nvPr/>
          </p:nvSpPr>
          <p:spPr>
            <a:xfrm>
              <a:off x="4714920" y="374148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665000" y="158760"/>
            <a:ext cx="67474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vernment and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Working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3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6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operable, intersectora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43560" y="568944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8000" y="1122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uzzle3"/>
          <p:cNvSpPr/>
          <p:nvPr/>
        </p:nvSpPr>
        <p:spPr>
          <a:xfrm>
            <a:off x="5640480" y="1441440"/>
            <a:ext cx="1568520" cy="1905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uzzle2"/>
          <p:cNvSpPr/>
          <p:nvPr/>
        </p:nvSpPr>
        <p:spPr>
          <a:xfrm>
            <a:off x="5062680" y="3879720"/>
            <a:ext cx="264312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uzzle4"/>
          <p:cNvSpPr/>
          <p:nvPr/>
        </p:nvSpPr>
        <p:spPr>
          <a:xfrm>
            <a:off x="2751120" y="3803760"/>
            <a:ext cx="149400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uzzle1"/>
          <p:cNvSpPr/>
          <p:nvPr/>
        </p:nvSpPr>
        <p:spPr>
          <a:xfrm>
            <a:off x="2173320" y="1898640"/>
            <a:ext cx="27622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620000">
            <a:off x="4154040" y="3270240"/>
            <a:ext cx="1414440" cy="91440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165200">
            <a:off x="3247920" y="3219120"/>
            <a:ext cx="327240" cy="558720"/>
          </a:xfrm>
          <a:prstGeom prst="upDownArrow">
            <a:avLst>
              <a:gd name="adj1" fmla="val 50000"/>
              <a:gd name="adj2" fmla="val 339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65200">
            <a:off x="6052680" y="33465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19200">
            <a:off x="5116320" y="2212920"/>
            <a:ext cx="304560" cy="743040"/>
          </a:xfrm>
          <a:prstGeom prst="upDownArrow">
            <a:avLst>
              <a:gd name="adj1" fmla="val 50000"/>
              <a:gd name="adj2" fmla="val 4856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19200">
            <a:off x="4455360" y="4575240"/>
            <a:ext cx="304920" cy="742680"/>
          </a:xfrm>
          <a:prstGeom prst="upDownArrow">
            <a:avLst>
              <a:gd name="adj1" fmla="val 50000"/>
              <a:gd name="adj2" fmla="val 484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205092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53120" y="21636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680" y="447984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16160" y="3498840"/>
            <a:ext cx="247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174240"/>
            <a:ext cx="908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untries need Trade Facilitation</a:t>
            </a:r>
            <a:endParaRPr b="0" lang="en-US" sz="40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1640" y="2623680"/>
            <a:ext cx="43387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TRADE FACILITATION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Simplification and standardisation  of procedures and associated information flows required to move goods internationally from buyer to seller and to pass payment in the other direction”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"/>
          <p:cNvSpPr/>
          <p:nvPr/>
        </p:nvSpPr>
        <p:spPr>
          <a:xfrm>
            <a:off x="2724120" y="1828800"/>
            <a:ext cx="4457880" cy="3886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28760" y="1600200"/>
            <a:ext cx="1486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8840" y="159696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82000" y="4419720"/>
            <a:ext cx="1898640" cy="825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440" y="2211480"/>
            <a:ext cx="255564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8400" y="297180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97560" y="2971800"/>
            <a:ext cx="2332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46880" y="3733920"/>
            <a:ext cx="1486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2560" y="390060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220968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5600" y="4800600"/>
            <a:ext cx="173376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rease efficiency &amp; competi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8680" y="170820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2800" y="520236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40200" y="255420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6120" y="2216160"/>
            <a:ext cx="267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79080" y="411948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15120" y="3405240"/>
            <a:ext cx="250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035080"/>
            <a:ext cx="4129200" cy="3504960"/>
            <a:chOff x="3124080" y="2035080"/>
            <a:chExt cx="4129200" cy="3504960"/>
          </a:xfrm>
        </p:grpSpPr>
        <p:sp>
          <p:nvSpPr>
            <p:cNvPr id="203" name="Puzzle1"/>
            <p:cNvSpPr/>
            <p:nvPr/>
          </p:nvSpPr>
          <p:spPr>
            <a:xfrm>
              <a:off x="3124080" y="256824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Puzzle3"/>
            <p:cNvSpPr/>
            <p:nvPr/>
          </p:nvSpPr>
          <p:spPr>
            <a:xfrm>
              <a:off x="5105520" y="203508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Puzzle4"/>
            <p:cNvSpPr/>
            <p:nvPr/>
          </p:nvSpPr>
          <p:spPr>
            <a:xfrm>
              <a:off x="3701880" y="333036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Puzzle2"/>
            <p:cNvSpPr/>
            <p:nvPr/>
          </p:nvSpPr>
          <p:spPr>
            <a:xfrm>
              <a:off x="4610160" y="333036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4280" y="0"/>
            <a:ext cx="9324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00"/>
                </a:solidFill>
                <a:latin typeface="Arial"/>
              </a:rPr>
              <a:t>The most requested priori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Development of eBusi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6640" y="1784520"/>
            <a:ext cx="8116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-Invoicing (6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-Procurement and e-Tendering (5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Customs,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Phytosanitary certificates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Transport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8920" y="0"/>
            <a:ext cx="9221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2</a:t>
            </a:r>
            <a:r>
              <a:rPr b="1" lang="en-GB" sz="4400" spc="-1" strike="noStrike" baseline="30000">
                <a:solidFill>
                  <a:srgbClr val="ffff00"/>
                </a:solidFill>
                <a:latin typeface="Tahoma"/>
              </a:rPr>
              <a:t>nd</a:t>
            </a: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 most requested priority:</a:t>
            </a:r>
            <a:br>
              <a:rPr sz="4000"/>
            </a:br>
            <a:br>
              <a:rPr sz="1200"/>
            </a:b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Implementation (6 Countr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8600" y="1509840"/>
            <a:ext cx="940752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As well as other, related priorities &amp; opportun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Developing more case studies (1p+3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Increasing recognition, use and reference by national, regional &amp; international organizations (2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Providing more implementation assistance (3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Increasing involvement by business and            government (2p+1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rade facilitation (1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WTO agreement implementation (1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00200" y="39996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ther Priorities request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by 3 or 4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8880" y="1690560"/>
            <a:ext cx="919152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Single Windows and related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Cooperation with UBL and migration from U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Standardization &amp; Standards supporting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UN electronic Trade Documents (UNeDo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00200" y="39996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Priorities mention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by 2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4240" y="1490760"/>
            <a:ext cx="9191880" cy="64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Buy-Ship-Pay (entire supply ch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Establishment of Registry/Global trade dat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olicy Guidance from Governments to CE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ncreased transparency, in particular more accessi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00200" y="62532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4 to 8 count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289160"/>
            <a:ext cx="9191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Accelerate production of outputs 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reparing more information materials: Case studies, implementation examples, non-technical information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Clarifying UNeDocs next step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SD</cp:lastModifiedBy>
  <cp:lastPrinted>2001-03-15T16:33:27Z</cp:lastPrinted>
  <dcterms:modified xsi:type="dcterms:W3CDTF">2008-09-16T12:42:15Z</dcterms:modified>
  <cp:revision>350</cp:revision>
  <dc:subject/>
  <dc:title>UN/CEAFACT Bureau report to 8th Forum</dc:title>
</cp:coreProperties>
</file>