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728640" y="740880"/>
            <a:ext cx="5345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6"/>
          </p:nvPr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78CE-574C-4852-B800-B9F14DDDF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23E7-7109-4F0D-8AB1-E5FA115B6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728640" y="74124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B52-68F6-4166-8C5E-009F56F2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F0D-646B-43DA-B03E-7CE7EC27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054-BF90-49AE-8DE5-7442C48B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855-63D6-496D-869A-97C1B189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740-FFD4-4128-8A8E-EB16CE65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452-2796-4FE1-BEF7-9B71BAB9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A9D-EE3B-4068-BAC8-380EE730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78D-94EE-4E83-86B0-1B160B4D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CA0-4337-4AF8-9423-1F607ABF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6C3-B630-4482-B74E-D6AD4137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092-2295-4E3D-AA89-29C20011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911-D485-40D6-A535-C35BF20D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00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Line 101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103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" name="Group 104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Freeform 105"/>
            <p:cNvSpPr/>
            <p:nvPr/>
          </p:nvSpPr>
          <p:spPr>
            <a:xfrm>
              <a:off x="8367840" y="5638680"/>
              <a:ext cx="114480" cy="112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106"/>
            <p:cNvSpPr/>
            <p:nvPr/>
          </p:nvSpPr>
          <p:spPr>
            <a:xfrm>
              <a:off x="8255160" y="5938200"/>
              <a:ext cx="122040" cy="166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107"/>
            <p:cNvSpPr/>
            <p:nvPr/>
          </p:nvSpPr>
          <p:spPr>
            <a:xfrm>
              <a:off x="9018000" y="5638680"/>
              <a:ext cx="114120" cy="112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108"/>
            <p:cNvSpPr/>
            <p:nvPr/>
          </p:nvSpPr>
          <p:spPr>
            <a:xfrm>
              <a:off x="9123120" y="5938200"/>
              <a:ext cx="122040" cy="166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9"/>
            <p:cNvSpPr/>
            <p:nvPr/>
          </p:nvSpPr>
          <p:spPr>
            <a:xfrm>
              <a:off x="8913600" y="6101640"/>
              <a:ext cx="231480" cy="145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0"/>
            <p:cNvSpPr/>
            <p:nvPr/>
          </p:nvSpPr>
          <p:spPr>
            <a:xfrm>
              <a:off x="8841600" y="5716440"/>
              <a:ext cx="27720" cy="14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11"/>
            <p:cNvSpPr/>
            <p:nvPr/>
          </p:nvSpPr>
          <p:spPr>
            <a:xfrm>
              <a:off x="8894160" y="5832720"/>
              <a:ext cx="39600" cy="34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12"/>
            <p:cNvSpPr/>
            <p:nvPr/>
          </p:nvSpPr>
          <p:spPr>
            <a:xfrm>
              <a:off x="8904960" y="6057720"/>
              <a:ext cx="22320" cy="28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13"/>
            <p:cNvSpPr/>
            <p:nvPr/>
          </p:nvSpPr>
          <p:spPr>
            <a:xfrm>
              <a:off x="8896680" y="5731920"/>
              <a:ext cx="15480" cy="10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14"/>
            <p:cNvSpPr/>
            <p:nvPr/>
          </p:nvSpPr>
          <p:spPr>
            <a:xfrm>
              <a:off x="8825760" y="5784480"/>
              <a:ext cx="39240" cy="42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15"/>
            <p:cNvSpPr/>
            <p:nvPr/>
          </p:nvSpPr>
          <p:spPr>
            <a:xfrm>
              <a:off x="8850960" y="5740560"/>
              <a:ext cx="140760" cy="107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16"/>
            <p:cNvSpPr/>
            <p:nvPr/>
          </p:nvSpPr>
          <p:spPr>
            <a:xfrm>
              <a:off x="8592840" y="5938200"/>
              <a:ext cx="9000" cy="2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" name="Freeform 117"/>
            <p:cNvSpPr/>
            <p:nvPr/>
          </p:nvSpPr>
          <p:spPr>
            <a:xfrm>
              <a:off x="8453520" y="5866560"/>
              <a:ext cx="286560" cy="195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" name="Freeform 118"/>
            <p:cNvSpPr/>
            <p:nvPr/>
          </p:nvSpPr>
          <p:spPr>
            <a:xfrm>
              <a:off x="8691480" y="5927040"/>
              <a:ext cx="47160" cy="34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" name="Freeform 119"/>
            <p:cNvSpPr/>
            <p:nvPr/>
          </p:nvSpPr>
          <p:spPr>
            <a:xfrm>
              <a:off x="8726040" y="5959080"/>
              <a:ext cx="7560" cy="39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" name="Freeform 120"/>
            <p:cNvSpPr/>
            <p:nvPr/>
          </p:nvSpPr>
          <p:spPr>
            <a:xfrm>
              <a:off x="8717760" y="5838480"/>
              <a:ext cx="237960" cy="291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" name="Freeform 121"/>
            <p:cNvSpPr/>
            <p:nvPr/>
          </p:nvSpPr>
          <p:spPr>
            <a:xfrm>
              <a:off x="8746920" y="6073200"/>
              <a:ext cx="2520" cy="1141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" name="Freeform 122"/>
            <p:cNvSpPr/>
            <p:nvPr/>
          </p:nvSpPr>
          <p:spPr>
            <a:xfrm>
              <a:off x="8687880" y="5875560"/>
              <a:ext cx="115560" cy="9504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" name="Freeform 123"/>
            <p:cNvSpPr/>
            <p:nvPr/>
          </p:nvSpPr>
          <p:spPr>
            <a:xfrm>
              <a:off x="8424720" y="5923800"/>
              <a:ext cx="165600" cy="2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" name="Freeform 124"/>
            <p:cNvSpPr/>
            <p:nvPr/>
          </p:nvSpPr>
          <p:spPr>
            <a:xfrm>
              <a:off x="8887680" y="5923800"/>
              <a:ext cx="174960" cy="2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" name="Freeform 125"/>
            <p:cNvSpPr/>
            <p:nvPr/>
          </p:nvSpPr>
          <p:spPr>
            <a:xfrm>
              <a:off x="8285400" y="6022800"/>
              <a:ext cx="173520" cy="174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" name="Freeform 126"/>
            <p:cNvSpPr/>
            <p:nvPr/>
          </p:nvSpPr>
          <p:spPr>
            <a:xfrm>
              <a:off x="8286480" y="5737320"/>
              <a:ext cx="115560" cy="188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" name="Freeform 127"/>
            <p:cNvSpPr/>
            <p:nvPr/>
          </p:nvSpPr>
          <p:spPr>
            <a:xfrm>
              <a:off x="9097920" y="5737320"/>
              <a:ext cx="115560" cy="188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" name="Freeform 128"/>
            <p:cNvSpPr/>
            <p:nvPr/>
          </p:nvSpPr>
          <p:spPr>
            <a:xfrm>
              <a:off x="8424720" y="6239880"/>
              <a:ext cx="646920" cy="84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" name="Freeform 129"/>
            <p:cNvSpPr/>
            <p:nvPr/>
          </p:nvSpPr>
          <p:spPr>
            <a:xfrm>
              <a:off x="8428680" y="5660280"/>
              <a:ext cx="636480" cy="52668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" name="Freeform 130"/>
            <p:cNvSpPr/>
            <p:nvPr/>
          </p:nvSpPr>
          <p:spPr>
            <a:xfrm>
              <a:off x="8622000" y="5819760"/>
              <a:ext cx="250920" cy="20844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30" name="Group 131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Freeform 132"/>
              <p:cNvSpPr/>
              <p:nvPr/>
            </p:nvSpPr>
            <p:spPr>
              <a:xfrm>
                <a:off x="8258760" y="5841720"/>
                <a:ext cx="115200" cy="17028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2" name="Freeform 133"/>
              <p:cNvSpPr/>
              <p:nvPr/>
            </p:nvSpPr>
            <p:spPr>
              <a:xfrm>
                <a:off x="8358120" y="6104160"/>
                <a:ext cx="229320" cy="1440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3" name="Freeform 134"/>
              <p:cNvSpPr/>
              <p:nvPr/>
            </p:nvSpPr>
            <p:spPr>
              <a:xfrm>
                <a:off x="9125640" y="5841720"/>
                <a:ext cx="112680" cy="17028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4" name="Freeform 135"/>
              <p:cNvSpPr/>
              <p:nvPr/>
            </p:nvSpPr>
            <p:spPr>
              <a:xfrm>
                <a:off x="9040680" y="6025320"/>
                <a:ext cx="169920" cy="1724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5" name="Freeform 136"/>
              <p:cNvSpPr/>
              <p:nvPr/>
            </p:nvSpPr>
            <p:spPr>
              <a:xfrm>
                <a:off x="8358120" y="5675400"/>
                <a:ext cx="91440" cy="1530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6" name="Freeform 137"/>
              <p:cNvSpPr/>
              <p:nvPr/>
            </p:nvSpPr>
            <p:spPr>
              <a:xfrm>
                <a:off x="9051120" y="5682240"/>
                <a:ext cx="123120" cy="1440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7" name="Freeform 138"/>
              <p:cNvSpPr/>
              <p:nvPr/>
            </p:nvSpPr>
            <p:spPr>
              <a:xfrm>
                <a:off x="8495640" y="5721480"/>
                <a:ext cx="506880" cy="41400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8" name="Freeform 139"/>
              <p:cNvSpPr/>
              <p:nvPr/>
            </p:nvSpPr>
            <p:spPr>
              <a:xfrm>
                <a:off x="8557560" y="5774040"/>
                <a:ext cx="380880" cy="31248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" name="Freeform 140"/>
              <p:cNvSpPr/>
              <p:nvPr/>
            </p:nvSpPr>
            <p:spPr>
              <a:xfrm>
                <a:off x="8749800" y="5669280"/>
                <a:ext cx="360" cy="21168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40" name="Freeform 141"/>
            <p:cNvSpPr/>
            <p:nvPr/>
          </p:nvSpPr>
          <p:spPr>
            <a:xfrm>
              <a:off x="8870400" y="6033600"/>
              <a:ext cx="93240" cy="788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" name="Freeform 142"/>
            <p:cNvSpPr/>
            <p:nvPr/>
          </p:nvSpPr>
          <p:spPr>
            <a:xfrm>
              <a:off x="8521920" y="5738400"/>
              <a:ext cx="178920" cy="148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" name="Freeform 143"/>
            <p:cNvSpPr/>
            <p:nvPr/>
          </p:nvSpPr>
          <p:spPr>
            <a:xfrm>
              <a:off x="8521920" y="5962320"/>
              <a:ext cx="182520" cy="1501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" name="Freeform 144"/>
            <p:cNvSpPr/>
            <p:nvPr/>
          </p:nvSpPr>
          <p:spPr>
            <a:xfrm>
              <a:off x="8798040" y="5738400"/>
              <a:ext cx="178920" cy="148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Text Box 149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16A52FA1-53C9-4E49-A698-D11AF074C779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464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e464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7098840" y="6476760"/>
            <a:ext cx="23115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99F8F87-A00C-48B4-947B-1FFE0963F0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322200" y="2841480"/>
            <a:ext cx="9290160" cy="28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FuturaBookTBWA"/>
              </a:rPr>
              <a:t>Standards Development Organizations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FuturaBookTBWA"/>
              </a:rPr>
              <a:t>Stakeholders Perspectiv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FuturaBookTBWA"/>
              </a:rPr>
              <a:t>16 September 200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FuturaBookTBWA"/>
              </a:rPr>
              <a:t>Mark Palm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FuturaBookTBWA"/>
              </a:rPr>
              <a:t>UN/CEFACT Vice Chai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925720" y="1943280"/>
            <a:ext cx="3578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40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3" name="Group 8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74" name="Freeform 9"/>
            <p:cNvSpPr/>
            <p:nvPr/>
          </p:nvSpPr>
          <p:spPr>
            <a:xfrm>
              <a:off x="4237920" y="552600"/>
              <a:ext cx="198000" cy="211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4040280" y="1118160"/>
              <a:ext cx="213840" cy="317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5377320" y="552600"/>
              <a:ext cx="197640" cy="211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5559480" y="1118160"/>
              <a:ext cx="213840" cy="317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5193000" y="1429200"/>
              <a:ext cx="405360" cy="275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5068800" y="699480"/>
              <a:ext cx="46440" cy="2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5158440" y="919440"/>
              <a:ext cx="71280" cy="66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Freeform 16"/>
            <p:cNvSpPr/>
            <p:nvPr/>
          </p:nvSpPr>
          <p:spPr>
            <a:xfrm>
              <a:off x="5174640" y="1344240"/>
              <a:ext cx="38880" cy="53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5163120" y="730440"/>
              <a:ext cx="27360" cy="2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5041080" y="828360"/>
              <a:ext cx="69120" cy="80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5080320" y="745200"/>
              <a:ext cx="248760" cy="202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4631400" y="1119960"/>
              <a:ext cx="15840" cy="37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6" name="Freeform 21"/>
            <p:cNvSpPr/>
            <p:nvPr/>
          </p:nvSpPr>
          <p:spPr>
            <a:xfrm>
              <a:off x="4387680" y="985680"/>
              <a:ext cx="501480" cy="368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4804200" y="1097640"/>
              <a:ext cx="82800" cy="66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4866120" y="1157760"/>
              <a:ext cx="14040" cy="7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Freeform 24"/>
            <p:cNvSpPr/>
            <p:nvPr/>
          </p:nvSpPr>
          <p:spPr>
            <a:xfrm>
              <a:off x="4849920" y="931680"/>
              <a:ext cx="416880" cy="549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0" name="Freeform 25"/>
            <p:cNvSpPr/>
            <p:nvPr/>
          </p:nvSpPr>
          <p:spPr>
            <a:xfrm>
              <a:off x="4900680" y="1373040"/>
              <a:ext cx="7200" cy="2156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1" name="Freeform 26"/>
            <p:cNvSpPr/>
            <p:nvPr/>
          </p:nvSpPr>
          <p:spPr>
            <a:xfrm>
              <a:off x="4799520" y="997920"/>
              <a:ext cx="202320" cy="18216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2" name="Freeform 27"/>
            <p:cNvSpPr/>
            <p:nvPr/>
          </p:nvSpPr>
          <p:spPr>
            <a:xfrm>
              <a:off x="4336920" y="1091520"/>
              <a:ext cx="290160" cy="57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3" name="Freeform 28"/>
            <p:cNvSpPr/>
            <p:nvPr/>
          </p:nvSpPr>
          <p:spPr>
            <a:xfrm>
              <a:off x="5149800" y="1091520"/>
              <a:ext cx="303480" cy="57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4" name="Freeform 29"/>
            <p:cNvSpPr/>
            <p:nvPr/>
          </p:nvSpPr>
          <p:spPr>
            <a:xfrm>
              <a:off x="4093200" y="1278000"/>
              <a:ext cx="303480" cy="329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5" name="Freeform 30"/>
            <p:cNvSpPr/>
            <p:nvPr/>
          </p:nvSpPr>
          <p:spPr>
            <a:xfrm>
              <a:off x="4095360" y="737280"/>
              <a:ext cx="202320" cy="358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5515560" y="737280"/>
              <a:ext cx="202320" cy="358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>
              <a:off x="4336920" y="1690200"/>
              <a:ext cx="1134360" cy="157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>
              <a:off x="4343760" y="593640"/>
              <a:ext cx="1111320" cy="99648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4682520" y="894600"/>
              <a:ext cx="439200" cy="39348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200" name="Group 35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201" name="Freeform 36"/>
              <p:cNvSpPr/>
              <p:nvPr/>
            </p:nvSpPr>
            <p:spPr>
              <a:xfrm>
                <a:off x="4046760" y="933480"/>
                <a:ext cx="198000" cy="3229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2" name="Freeform 37"/>
              <p:cNvSpPr/>
              <p:nvPr/>
            </p:nvSpPr>
            <p:spPr>
              <a:xfrm>
                <a:off x="4214520" y="1430640"/>
                <a:ext cx="402480" cy="2732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3" name="Freeform 38"/>
              <p:cNvSpPr/>
              <p:nvPr/>
            </p:nvSpPr>
            <p:spPr>
              <a:xfrm>
                <a:off x="5565600" y="933480"/>
                <a:ext cx="195480" cy="3229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4" name="Freeform 39"/>
              <p:cNvSpPr/>
              <p:nvPr/>
            </p:nvSpPr>
            <p:spPr>
              <a:xfrm>
                <a:off x="5413680" y="1281240"/>
                <a:ext cx="300960" cy="3272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5" name="Freeform 40"/>
              <p:cNvSpPr/>
              <p:nvPr/>
            </p:nvSpPr>
            <p:spPr>
              <a:xfrm>
                <a:off x="4214520" y="622440"/>
                <a:ext cx="163080" cy="2858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6" name="Freeform 41"/>
              <p:cNvSpPr/>
              <p:nvPr/>
            </p:nvSpPr>
            <p:spPr>
              <a:xfrm>
                <a:off x="5432040" y="631080"/>
                <a:ext cx="213840" cy="2732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7" name="Freeform 42"/>
              <p:cNvSpPr/>
              <p:nvPr/>
            </p:nvSpPr>
            <p:spPr>
              <a:xfrm>
                <a:off x="4458600" y="709560"/>
                <a:ext cx="887760" cy="78696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8" name="Freeform 43"/>
              <p:cNvSpPr/>
              <p:nvPr/>
            </p:nvSpPr>
            <p:spPr>
              <a:xfrm>
                <a:off x="4568760" y="804960"/>
                <a:ext cx="664920" cy="59220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9" name="Freeform 44"/>
              <p:cNvSpPr/>
              <p:nvPr/>
            </p:nvSpPr>
            <p:spPr>
              <a:xfrm>
                <a:off x="4902840" y="610560"/>
                <a:ext cx="4680" cy="40572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210" name="Freeform 45"/>
            <p:cNvSpPr/>
            <p:nvPr/>
          </p:nvSpPr>
          <p:spPr>
            <a:xfrm>
              <a:off x="5117400" y="1298520"/>
              <a:ext cx="167760" cy="151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1" name="Freeform 46"/>
            <p:cNvSpPr/>
            <p:nvPr/>
          </p:nvSpPr>
          <p:spPr>
            <a:xfrm>
              <a:off x="4507200" y="740880"/>
              <a:ext cx="312840" cy="280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2" name="Freeform 47"/>
            <p:cNvSpPr/>
            <p:nvPr/>
          </p:nvSpPr>
          <p:spPr>
            <a:xfrm>
              <a:off x="4507200" y="1163880"/>
              <a:ext cx="317520" cy="2858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3" name="Freeform 48"/>
            <p:cNvSpPr/>
            <p:nvPr/>
          </p:nvSpPr>
          <p:spPr>
            <a:xfrm>
              <a:off x="4990320" y="740880"/>
              <a:ext cx="312840" cy="280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14" name="Text Box 49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711360" y="24444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BookTBWA"/>
              </a:rPr>
              <a:t>Working with other SDO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41080" y="883800"/>
            <a:ext cx="8924760" cy="57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ts val="2200"/>
              </a:lnSpc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Strengthening cooperation with SDOs to achieve common vision for public-private eBusiness capabilitie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ISO, WCO, WTO, APEC, CEN, ANSI, OMG, W3C, IETF,…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inclusive: de jure, consortia, de facto SDO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recognize how other SDOs deliverables contribute to that vision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spcAft>
                <a:spcPts val="60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cus UN/CEFACT resources to deliver </a:t>
            </a:r>
            <a:r>
              <a:rPr b="0" lang="en-US" sz="1800" spc="-1" strike="noStrike">
                <a:solidFill>
                  <a:srgbClr val="ffff00"/>
                </a:solidFill>
                <a:latin typeface="FuturaBookTBWA"/>
              </a:rPr>
              <a:t>unique value=&gt; Semantic Framework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spcAft>
                <a:spcPts val="60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MoUMG for eBusiness (ISO, ITU, IEC, UN/ECE,…): central to coordination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spcAft>
                <a:spcPts val="60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International conference: Advancing Public-Private Partnerships for e-Business Standard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1280" indent="-341280">
              <a:lnSpc>
                <a:spcPts val="2200"/>
              </a:lnSpc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Soliciting input from SDOs for improving our deliverable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DRs, CCTS, CCL, harmonized process models and data model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341280" indent="-341280">
              <a:lnSpc>
                <a:spcPts val="2200"/>
              </a:lnSpc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New mechanism for communication and coordination: </a:t>
            </a:r>
            <a:r>
              <a:rPr b="1" i="1" lang="en-US" sz="2000" spc="-1" strike="noStrike">
                <a:solidFill>
                  <a:srgbClr val="ffff00"/>
                </a:solidFill>
                <a:latin typeface="FuturaBookTBWA"/>
              </a:rPr>
              <a:t>eBusiness Standards and Standards Projects Federated Registry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prototype in development by ANSI, with MoUMG guidance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input from multiple SDOs: ISO/IEC JCT1, OAGi, OASIS,…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provide the “big picture”: how SDOs’ methods and specs fit together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82440" y="-228600"/>
            <a:ext cx="10566360" cy="73152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3"/>
          <p:cNvSpPr/>
          <p:nvPr/>
        </p:nvSpPr>
        <p:spPr>
          <a:xfrm>
            <a:off x="6356520" y="3886200"/>
            <a:ext cx="3632040" cy="2209680"/>
          </a:xfrm>
          <a:prstGeom prst="wedgeEllipseCallout">
            <a:avLst>
              <a:gd name="adj1" fmla="val -98912"/>
              <a:gd name="adj2" fmla="val -375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top level node expands to show the sub-area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711360" y="3715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BookTBWA"/>
              </a:rPr>
              <a:t>Recent Ac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71680" y="1147680"/>
            <a:ext cx="8920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spcBef>
                <a:spcPts val="624"/>
              </a:spcBef>
              <a:spcAft>
                <a:spcPts val="4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pdated Open Development Process for greater external participation, e.g., other SDO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ts val="2200"/>
              </a:lnSpc>
              <a:spcBef>
                <a:spcPts val="624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Promoting recognition of the value of UN/CEFACT’s common semantic framework and ways for other SDOs to leverage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ts val="2200"/>
              </a:lnSpc>
              <a:spcBef>
                <a:spcPts val="624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Established UN/CEFACT SDOs Coordination Matrix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200"/>
              </a:lnSpc>
              <a:spcBef>
                <a:spcPts val="4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Organization and url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200"/>
              </a:lnSpc>
              <a:spcBef>
                <a:spcPts val="4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Existing UN/CEFACT liaison or cooperation agreement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200"/>
              </a:lnSpc>
              <a:spcBef>
                <a:spcPts val="4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Work relevant to electronic business capabilitie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200"/>
              </a:lnSpc>
              <a:spcBef>
                <a:spcPts val="4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Deliverables relevant to UN/CEFACT Programme of Work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200"/>
              </a:lnSpc>
              <a:spcBef>
                <a:spcPts val="4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Joint work items with UN/CEFACT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200"/>
              </a:lnSpc>
              <a:spcBef>
                <a:spcPts val="4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UN/CEFACT deliverables currently used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200"/>
              </a:lnSpc>
              <a:spcBef>
                <a:spcPts val="4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maintained by the Secretariat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200"/>
              </a:lnSpc>
              <a:spcBef>
                <a:spcPts val="4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manage and communicate our interactions with other SDO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711360" y="3715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BookTBWA"/>
              </a:rPr>
              <a:t>Additional Achievements and Ac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71680" y="1147680"/>
            <a:ext cx="863424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624"/>
              </a:spcBef>
              <a:spcAft>
                <a:spcPts val="4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Harmonized process model for Buy-Ship-Pay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ts val="2398"/>
              </a:lnSpc>
              <a:spcBef>
                <a:spcPts val="624"/>
              </a:spcBef>
              <a:spcAft>
                <a:spcPts val="4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Continuing collaboration with OASIS/UBL TC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398"/>
              </a:lnSpc>
              <a:spcBef>
                <a:spcPts val="561"/>
              </a:spcBef>
              <a:spcAft>
                <a:spcPts val="45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results moved into CCL and updating of UN/CEFACT method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398"/>
              </a:lnSpc>
              <a:spcBef>
                <a:spcPts val="561"/>
              </a:spcBef>
              <a:spcAft>
                <a:spcPts val="45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migration from UBL to UN/CEFACT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ts val="2398"/>
              </a:lnSpc>
              <a:spcBef>
                <a:spcPts val="624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Other SDOs working with UN/CEFACT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398"/>
              </a:lnSpc>
              <a:spcBef>
                <a:spcPts val="56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IS0 TC 154: partner for foundational documents, advancing ebXML concept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398"/>
              </a:lnSpc>
              <a:spcBef>
                <a:spcPts val="56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CORD, GS1, OAGi, OASIS, SWIFT,…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398"/>
              </a:lnSpc>
              <a:spcBef>
                <a:spcPts val="56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ubmitting candidate core components to UN/CEFACT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ts val="2398"/>
              </a:lnSpc>
              <a:spcBef>
                <a:spcPts val="624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Reviewing the “European Interoperability Framework”, how it supports UN/CEFACT practices and how to best contribute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ts val="2398"/>
              </a:lnSpc>
              <a:spcBef>
                <a:spcPts val="624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Updating how UN/CEFACT deliverables fit in the “big picture”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Dan</cp:lastModifiedBy>
  <cp:lastPrinted>2001-03-15T16:33:27Z</cp:lastPrinted>
  <dcterms:modified xsi:type="dcterms:W3CDTF">2008-09-15T21:16:32Z</dcterms:modified>
  <cp:revision>378</cp:revision>
  <dc:subject/>
  <dc:title>UN/CEAFACT Bureau report to 8th Forum</dc:title>
</cp:coreProperties>
</file>