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728640" y="740880"/>
            <a:ext cx="53452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7F51-0D7E-4F20-99CD-445D28C18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4984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BE68-0F8C-4CE6-A9B7-C0A131452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725400" y="738360"/>
            <a:ext cx="5353200" cy="37051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408BC19D-9013-4476-835E-94E039E817CD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09560" y="3146400"/>
            <a:ext cx="915516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Going forwar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FuturaBookTBWA"/>
              </a:rPr>
              <a:t>UN/CEFACT Burea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FuturaBookTBWA"/>
              </a:rPr>
              <a:t>14 May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34040" y="605952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1464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259160" y="571680"/>
            <a:ext cx="1733400" cy="1294920"/>
            <a:chOff x="4259160" y="571680"/>
            <a:chExt cx="1733400" cy="1294920"/>
          </a:xfrm>
        </p:grpSpPr>
        <p:sp>
          <p:nvSpPr>
            <p:cNvPr id="132" name=""/>
            <p:cNvSpPr/>
            <p:nvPr/>
          </p:nvSpPr>
          <p:spPr>
            <a:xfrm>
              <a:off x="4456800" y="571680"/>
              <a:ext cx="19836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5916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96200" y="57168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7872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12240" y="144828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88040" y="71856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77680" y="93852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93880" y="136332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82360" y="74952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60320" y="84744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99200" y="76428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50280" y="113904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06560" y="100476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3080" y="111672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85360" y="117684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69160" y="95076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19920" y="139212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18400" y="101700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56160" y="111060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68680" y="111060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12080" y="129708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1424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3480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56160" y="1709280"/>
              <a:ext cx="113472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2640" y="612720"/>
              <a:ext cx="111168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01400" y="91368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4265640" y="629640"/>
              <a:ext cx="1714320" cy="1093320"/>
              <a:chOff x="4265640" y="629640"/>
              <a:chExt cx="1714320" cy="1093320"/>
            </a:xfrm>
          </p:grpSpPr>
          <p:sp>
            <p:nvSpPr>
              <p:cNvPr id="159" name=""/>
              <p:cNvSpPr/>
              <p:nvPr/>
            </p:nvSpPr>
            <p:spPr>
              <a:xfrm>
                <a:off x="4265640" y="95256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433400" y="1449720"/>
                <a:ext cx="40284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84480" y="95256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632920" y="130032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33400" y="64152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650920" y="65016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677840" y="728640"/>
                <a:ext cx="88812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788000" y="824040"/>
                <a:ext cx="66528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121720" y="62964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5336280" y="131760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26080" y="759960"/>
              <a:ext cx="31320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26080" y="1182960"/>
              <a:ext cx="31788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09560" y="759960"/>
              <a:ext cx="31320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97000" y="609480"/>
            <a:ext cx="960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ERNATIONAL TRADE TRANSACTION PROCES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99" name=""/>
          <p:cNvSpPr/>
          <p:nvPr/>
        </p:nvSpPr>
        <p:spPr>
          <a:xfrm>
            <a:off x="1155600" y="4124160"/>
            <a:ext cx="1636920" cy="215928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9ffff"/>
                </a:solidFill>
                <a:latin typeface="Arial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9ffff"/>
                </a:solidFill>
                <a:latin typeface="Arial"/>
              </a:rPr>
              <a:t>Proced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Establish Contr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Order Go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Advise On Deliv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9ffff"/>
                </a:solidFill>
                <a:latin typeface="Arial"/>
              </a:rPr>
              <a:t>Request Pay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82760" y="4110120"/>
            <a:ext cx="1636920" cy="215892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9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9ffff"/>
                </a:solidFill>
                <a:latin typeface="Arial"/>
              </a:rPr>
              <a:t>Proced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Establish Transport Contr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Collect,Transport and Deliver Go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Provide Waybills, Goods Receipts Status reports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35400" y="4124160"/>
            <a:ext cx="1636920" cy="215928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9ffff"/>
                </a:solidFill>
                <a:latin typeface="Arial"/>
              </a:rPr>
              <a:t>Regula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9ffff"/>
                </a:solidFill>
                <a:latin typeface="Arial"/>
              </a:rPr>
              <a:t>Procud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Obtain Import/Export Licences et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Provide Customs Declar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Provide Cargo Decla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Apply Trade Security Proced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Clear Goods for Export/Im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31160" y="4122720"/>
            <a:ext cx="1636560" cy="213192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9ffff"/>
                </a:solidFill>
                <a:latin typeface="Arial"/>
              </a:rPr>
              <a:t>Financ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9ffff"/>
                </a:solidFill>
                <a:latin typeface="Arial"/>
              </a:rPr>
              <a:t>Proced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Provide Credit Ra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Provide Insu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Provide Cred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Execute Pay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Issue Stat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36640" y="380844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VOL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97760" y="2766960"/>
            <a:ext cx="1660320" cy="990720"/>
          </a:xfrm>
          <a:custGeom>
            <a:avLst/>
            <a:gdLst>
              <a:gd name="textAreaLeft" fmla="*/ 0 w 1660320"/>
              <a:gd name="textAreaRight" fmla="*/ 1660680 w 1660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25960" y="2795760"/>
            <a:ext cx="1660320" cy="990360"/>
          </a:xfrm>
          <a:custGeom>
            <a:avLst/>
            <a:gdLst>
              <a:gd name="textAreaLeft" fmla="*/ 0 w 1660320"/>
              <a:gd name="textAreaRight" fmla="*/ 1660680 w 16603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55600" y="2809800"/>
            <a:ext cx="1658880" cy="99072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39880" y="2795760"/>
            <a:ext cx="1660680" cy="990360"/>
          </a:xfrm>
          <a:custGeom>
            <a:avLst/>
            <a:gdLst>
              <a:gd name="textAreaLeft" fmla="*/ 0 w 1660680"/>
              <a:gd name="textAreaRight" fmla="*/ 1661040 w 16606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11680" y="2795760"/>
            <a:ext cx="1660680" cy="990360"/>
          </a:xfrm>
          <a:custGeom>
            <a:avLst/>
            <a:gdLst>
              <a:gd name="textAreaLeft" fmla="*/ 0 w 1660680"/>
              <a:gd name="textAreaRight" fmla="*/ 1661040 w 16606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86080" y="3056040"/>
            <a:ext cx="1155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Prepare F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Ex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71800" y="3119400"/>
            <a:ext cx="107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Ex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40320" y="3133800"/>
            <a:ext cx="107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29680" y="3119400"/>
            <a:ext cx="107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Im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155600" y="2476080"/>
            <a:ext cx="3054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65800" y="2433600"/>
            <a:ext cx="297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11560" y="1400040"/>
            <a:ext cx="1636560" cy="990720"/>
          </a:xfrm>
          <a:custGeom>
            <a:avLst/>
            <a:gdLst>
              <a:gd name="textAreaLeft" fmla="*/ 0 w 1636560"/>
              <a:gd name="textAreaRight" fmla="*/ 1636920 w 16365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35680" y="1386000"/>
            <a:ext cx="1636560" cy="990360"/>
          </a:xfrm>
          <a:custGeom>
            <a:avLst/>
            <a:gdLst>
              <a:gd name="textAreaLeft" fmla="*/ 0 w 1636560"/>
              <a:gd name="textAreaRight" fmla="*/ 1636920 w 16365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9480" y="1414440"/>
            <a:ext cx="1636920" cy="990720"/>
          </a:xfrm>
          <a:custGeom>
            <a:avLst/>
            <a:gdLst>
              <a:gd name="textAreaLeft" fmla="*/ 0 w 1636920"/>
              <a:gd name="textAreaRight" fmla="*/ 1637280 w 16369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92640" y="1790640"/>
            <a:ext cx="13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3c8c"/>
                </a:solidFill>
                <a:latin typeface="Arial"/>
              </a:rPr>
              <a:t>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41680" y="175752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3c8c"/>
                </a:solidFill>
                <a:latin typeface="Arial"/>
              </a:rPr>
              <a:t>BU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91280" y="17938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3c8c"/>
                </a:solidFill>
                <a:latin typeface="Arial"/>
              </a:rPr>
              <a:t>P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83200" y="3056040"/>
            <a:ext cx="1155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Prepare F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Im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362640" y="5716440"/>
            <a:ext cx="596880" cy="551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8010360" y="5587920"/>
            <a:ext cx="597240" cy="550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219560" y="5730840"/>
            <a:ext cx="596880" cy="5508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2178000" y="5730840"/>
            <a:ext cx="59688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uturaBookTBWA"/>
              </a:rPr>
              <a:t>UN/CEFACT Project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38240" y="1195200"/>
            <a:ext cx="8261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58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Y - Commercial Procedure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465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8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Procurement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1457280" indent="-379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5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Tendering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1457280" indent="-379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5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Catalogues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1457280" indent="-379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5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Documents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465120" indent="-465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58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IP - Transport &amp; Regulatory Procedure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1457280" indent="-379440">
              <a:lnSpc>
                <a:spcPct val="100000"/>
              </a:lnSpc>
              <a:spcBef>
                <a:spcPts val="499"/>
              </a:spcBef>
              <a:buClr>
                <a:srgbClr val="e9ffff"/>
              </a:buClr>
              <a:buFont typeface="Arial"/>
              <a:buChar char="•"/>
              <a:tabLst>
                <a:tab algn="l" pos="5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9ffff"/>
                </a:solidFill>
                <a:latin typeface="Arial"/>
              </a:rPr>
              <a:t>UNeDocs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1457280" indent="-379440">
              <a:lnSpc>
                <a:spcPct val="100000"/>
              </a:lnSpc>
              <a:spcBef>
                <a:spcPts val="499"/>
              </a:spcBef>
              <a:buClr>
                <a:srgbClr val="e9ffff"/>
              </a:buClr>
              <a:buFont typeface="Arial"/>
              <a:buChar char="•"/>
              <a:tabLst>
                <a:tab algn="l" pos="5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9ffff"/>
                </a:solidFill>
                <a:latin typeface="Arial"/>
              </a:rPr>
              <a:t>Transport messages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1457280" indent="-379440">
              <a:lnSpc>
                <a:spcPct val="100000"/>
              </a:lnSpc>
              <a:spcBef>
                <a:spcPts val="499"/>
              </a:spcBef>
              <a:buClr>
                <a:srgbClr val="e9ffff"/>
              </a:buClr>
              <a:buFont typeface="Arial"/>
              <a:buChar char="•"/>
              <a:tabLst>
                <a:tab algn="l" pos="5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9ffff"/>
                </a:solidFill>
                <a:latin typeface="Arial"/>
              </a:rPr>
              <a:t>Cross Border Reference Data Model (in preparation)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1457280" indent="-379440">
              <a:lnSpc>
                <a:spcPct val="100000"/>
              </a:lnSpc>
              <a:spcBef>
                <a:spcPts val="499"/>
              </a:spcBef>
              <a:buClr>
                <a:srgbClr val="e9ffff"/>
              </a:buClr>
              <a:buFont typeface="Arial"/>
              <a:buChar char="•"/>
              <a:tabLst>
                <a:tab algn="l" pos="5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9ffff"/>
                </a:solidFill>
                <a:latin typeface="Arial"/>
              </a:rPr>
              <a:t>Single Window projects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465120" indent="-465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58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y - Payment Procedure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465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8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9ffff"/>
                </a:solidFill>
                <a:latin typeface="Arial"/>
              </a:rPr>
              <a:t>              </a:t>
            </a:r>
            <a:r>
              <a:rPr b="0" lang="en-GB" sz="2000" spc="-1" strike="noStrike">
                <a:solidFill>
                  <a:srgbClr val="e9ffff"/>
                </a:solidFill>
                <a:latin typeface="Arial"/>
              </a:rPr>
              <a:t>Cross Industry Invo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465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8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 flipV="1">
            <a:off x="1600200" y="3657240"/>
            <a:ext cx="0" cy="609480"/>
          </a:xfrm>
          <a:prstGeom prst="line">
            <a:avLst/>
          </a:prstGeom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32160" y="5300640"/>
            <a:ext cx="1336680" cy="48420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pplied 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Group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2852640"/>
            <a:ext cx="1746000" cy="863640"/>
          </a:xfrm>
          <a:prstGeom prst="rect">
            <a:avLst/>
          </a:prstGeom>
          <a:solidFill>
            <a:srgbClr val="cccc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NEC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cretari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24160" y="1268280"/>
            <a:ext cx="2735280" cy="127980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2160" y="5300640"/>
            <a:ext cx="1346400" cy="48564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ternational Tra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nd Busi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rocesses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2960" y="5281560"/>
            <a:ext cx="1430280" cy="49860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formation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anagement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08640" y="5259240"/>
            <a:ext cx="1344600" cy="54324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chniques a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ethodologies Group</a:t>
            </a:r>
            <a:br>
              <a:rPr sz="12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40360" y="5284800"/>
            <a:ext cx="1133640" cy="51264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egal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88520" y="29052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cxnSp>
        <p:nvCxnSpPr>
          <p:cNvPr id="237" name=""/>
          <p:cNvCxnSpPr/>
          <p:nvPr/>
        </p:nvCxnSpPr>
        <p:spPr>
          <a:xfrm flipH="1" flipV="1" rot="5400000">
            <a:off x="2910240" y="3598920"/>
            <a:ext cx="343800" cy="302796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38" name=""/>
          <p:cNvCxnSpPr/>
          <p:nvPr/>
        </p:nvCxnSpPr>
        <p:spPr>
          <a:xfrm flipH="1" flipV="1">
            <a:off x="4590360" y="5074920"/>
            <a:ext cx="11880" cy="200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39" name=""/>
          <p:cNvCxnSpPr/>
          <p:nvPr/>
        </p:nvCxnSpPr>
        <p:spPr>
          <a:xfrm flipH="1" rot="16200000">
            <a:off x="5192280" y="4357080"/>
            <a:ext cx="343800" cy="151200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0" name=""/>
          <p:cNvCxnSpPr/>
          <p:nvPr/>
        </p:nvCxnSpPr>
        <p:spPr>
          <a:xfrm>
            <a:off x="6108840" y="5114880"/>
            <a:ext cx="1224720" cy="21672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1" name=""/>
          <p:cNvCxnSpPr/>
          <p:nvPr/>
        </p:nvCxnSpPr>
        <p:spPr>
          <a:xfrm flipV="1">
            <a:off x="2520720" y="2658240"/>
            <a:ext cx="2083320" cy="483480"/>
          </a:xfrm>
          <a:prstGeom prst="bentConnector2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3584520" y="1916280"/>
            <a:ext cx="2016360" cy="792000"/>
          </a:xfrm>
          <a:prstGeom prst="rect">
            <a:avLst/>
          </a:prstGeom>
          <a:solidFill>
            <a:srgbClr val="cccc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1080" indent="-181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enary C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___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ur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48520" y="1916280"/>
            <a:ext cx="2295360" cy="806400"/>
          </a:xfrm>
          <a:prstGeom prst="rect">
            <a:avLst/>
          </a:prstGeom>
          <a:solidFill>
            <a:srgbClr val="ccffff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dvisory 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o Plenary Cha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ads of National Delegations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national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00880" y="2276640"/>
            <a:ext cx="64764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"/>
          <p:cNvCxnSpPr/>
          <p:nvPr/>
        </p:nvCxnSpPr>
        <p:spPr>
          <a:xfrm flipH="1" rot="16200000">
            <a:off x="1404000" y="5884920"/>
            <a:ext cx="361080" cy="21672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568520" y="5883120"/>
            <a:ext cx="6408720" cy="55728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Arial"/>
              </a:rPr>
              <a:t>Domains: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ccounting &amp; Audit  -  Agriculture  -  Architecture, Engineering &amp; Construction  -  Business Process Analysis  -  Customs   -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Government   -   Electronic Trade Documents   -   Environmental Management  -  Finance  -  Harmonization  -  Health Care 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surance  -  International Trade Procedures  -  Social Services  -  Statistics Collection and Reporting  -  Supply Chain  -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  -  Travel,Tourism and Lei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70040" y="2852640"/>
            <a:ext cx="1746000" cy="863640"/>
          </a:xfrm>
          <a:prstGeom prst="rect">
            <a:avLst/>
          </a:prstGeom>
          <a:solidFill>
            <a:srgbClr val="cccc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NEC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cretari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eBGT Trust Fun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dministr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/>
          <p:nvPr/>
        </p:nvCxnSpPr>
        <p:spPr>
          <a:xfrm flipV="1">
            <a:off x="4599000" y="2732040"/>
            <a:ext cx="8640" cy="237996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3801960" y="3878280"/>
            <a:ext cx="1582920" cy="774720"/>
          </a:xfrm>
          <a:prstGeom prst="rect">
            <a:avLst/>
          </a:prstGeom>
          <a:solidFill>
            <a:srgbClr val="cccc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or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roup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4267080"/>
            <a:ext cx="22096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57400" y="3886200"/>
            <a:ext cx="1447920" cy="719280"/>
          </a:xfrm>
          <a:prstGeom prst="rect">
            <a:avLst/>
          </a:prstGeom>
          <a:solidFill>
            <a:srgbClr val="ccffff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BG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upport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Voluntary &amp; Funded Expe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9360" y="45072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FuturaBookTBWA"/>
              </a:rPr>
              <a:t>UN/CEFACT:</a:t>
            </a:r>
            <a:br>
              <a:rPr sz="2400"/>
            </a:br>
            <a:r>
              <a:rPr b="1" lang="de-DE" sz="2100" spc="-1" strike="noStrike">
                <a:solidFill>
                  <a:srgbClr val="ffff00"/>
                </a:solidFill>
                <a:latin typeface="FuturaBookTBWA"/>
              </a:rPr>
              <a:t> </a:t>
            </a:r>
            <a:r>
              <a:rPr b="1" lang="de-DE" sz="1800" spc="-1" strike="noStrike">
                <a:solidFill>
                  <a:srgbClr val="ffff00"/>
                </a:solidFill>
                <a:latin typeface="FuturaBookTBWA"/>
              </a:rPr>
              <a:t>electronic Business, Government and Trade (eBGT) Initi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/>
          <p:nvPr/>
        </p:nvCxnSpPr>
        <p:spPr>
          <a:xfrm flipV="1">
            <a:off x="3080880" y="5108040"/>
            <a:ext cx="1080" cy="289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54" name=""/>
          <p:cNvSpPr/>
          <p:nvPr/>
        </p:nvSpPr>
        <p:spPr>
          <a:xfrm>
            <a:off x="8408880" y="13032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FuturaBookTBWA"/>
              </a:rPr>
              <a:t>preliminary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42680" y="480960"/>
            <a:ext cx="916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00"/>
                </a:solidFill>
                <a:latin typeface="FuturaBookTBWA"/>
              </a:rPr>
              <a:t>Target Support and Funding Tranches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8440" y="1158480"/>
            <a:ext cx="933768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one-third for eBGT support team (2-5 staff)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13160" indent="-274320">
              <a:spcBef>
                <a:spcPts val="11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funded experts and travel costs (including secretariat)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13160" indent="-274320">
              <a:spcBef>
                <a:spcPts val="11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core set of competencies (contact point, coordination,   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1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drafting, communication, websites, capacity building, gap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1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analyses, technical work to assist FMG, groups and projects)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-329040">
              <a:spcBef>
                <a:spcPts val="11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one-third focused on phased development of warehouse /  registry for core components and business process models, including expert staff for tasks (eg Help Desk)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-329040">
              <a:spcBef>
                <a:spcPts val="11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one-third for special projects / tasks / tool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400" spc="-1" strike="noStrike">
                <a:solidFill>
                  <a:srgbClr val="ffff00"/>
                </a:solidFill>
                <a:latin typeface="FuturaBookTBWA"/>
              </a:rPr>
              <a:t>        </a:t>
            </a:r>
            <a:r>
              <a:rPr b="0" i="1" lang="de-CH" sz="2400" spc="-1" strike="noStrike">
                <a:solidFill>
                  <a:srgbClr val="ffff00"/>
                </a:solidFill>
                <a:latin typeface="FuturaBookTBWA"/>
              </a:rPr>
              <a:t>current estimate for all of the above:  about $3 million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400" spc="-1" strike="noStrike">
                <a:solidFill>
                  <a:srgbClr val="ffff00"/>
                </a:solidFill>
                <a:latin typeface="FuturaBookTBWA"/>
              </a:rPr>
              <a:t>              </a:t>
            </a:r>
            <a:r>
              <a:rPr b="0" i="1" lang="de-CH" sz="2400" spc="-1" strike="noStrike">
                <a:solidFill>
                  <a:srgbClr val="ffff00"/>
                </a:solidFill>
                <a:latin typeface="FuturaBookTBWA"/>
              </a:rPr>
              <a:t>initiative target timeframe: eighteen month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2680" y="552240"/>
            <a:ext cx="8420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00"/>
                </a:solidFill>
                <a:latin typeface="FuturaBookTBWA"/>
              </a:rPr>
              <a:t>Target Timetable - Launch in Stockholm</a:t>
            </a:r>
            <a:r>
              <a:rPr b="1" lang="de-CH" sz="3600" spc="-1" strike="noStrike">
                <a:solidFill>
                  <a:srgbClr val="ffff00"/>
                </a:solidFill>
                <a:latin typeface="FuturaBookTBWA"/>
              </a:rPr>
              <a:t> </a:t>
            </a:r>
            <a:r>
              <a:rPr b="0" lang="de-CH" sz="3600" spc="-1" strike="noStrike">
                <a:solidFill>
                  <a:srgbClr val="ffff00"/>
                </a:solidFill>
                <a:latin typeface="FuturaBookTBW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68440" y="1515600"/>
            <a:ext cx="933768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00"/>
                </a:solidFill>
                <a:latin typeface="FuturaBookTBWA"/>
              </a:rPr>
              <a:t>stage one</a:t>
            </a: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     (three months):    </a:t>
            </a:r>
            <a:r>
              <a:rPr b="0" i="1" lang="de-CH" sz="2400" spc="-1" strike="noStrike">
                <a:solidFill>
                  <a:srgbClr val="ffff00"/>
                </a:solidFill>
                <a:latin typeface="FuturaBookTBWA"/>
              </a:rPr>
              <a:t>getting started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ffffff"/>
                </a:solidFill>
                <a:latin typeface="FuturaBookTBWA"/>
              </a:rPr>
              <a:t>launch projects on core deliverables and tools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ffffff"/>
                </a:solidFill>
                <a:latin typeface="FuturaBookTBWA"/>
              </a:rPr>
              <a:t>document  scope for vendor / academic involvement, 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de-CH" sz="2000" spc="-1" strike="noStrike">
                <a:solidFill>
                  <a:srgbClr val="ffffff"/>
                </a:solidFill>
                <a:latin typeface="FuturaBookTBWA"/>
              </a:rPr>
              <a:t>eg demos / case studies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00"/>
                </a:solidFill>
                <a:latin typeface="FuturaBookTBWA"/>
              </a:rPr>
              <a:t>stage two</a:t>
            </a: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      (six months):      </a:t>
            </a:r>
            <a:r>
              <a:rPr b="0" i="1" lang="de-CH" sz="2400" spc="-1" strike="noStrike">
                <a:solidFill>
                  <a:srgbClr val="ffff00"/>
                </a:solidFill>
                <a:latin typeface="FuturaBookTBWA"/>
              </a:rPr>
              <a:t>focus on priority developments</a:t>
            </a: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00"/>
                </a:solidFill>
                <a:latin typeface="FuturaBookTBWA"/>
              </a:rPr>
              <a:t>stage three</a:t>
            </a: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   (three months):   </a:t>
            </a:r>
            <a:r>
              <a:rPr b="0" i="1" lang="de-CH" sz="2400" spc="-1" strike="noStrike">
                <a:solidFill>
                  <a:srgbClr val="ffff00"/>
                </a:solidFill>
                <a:latin typeface="FuturaBookTBWA"/>
              </a:rPr>
              <a:t>triage review of progres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00"/>
                </a:solidFill>
                <a:latin typeface="FuturaBookTBWA"/>
              </a:rPr>
              <a:t>stage four</a:t>
            </a: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     (three months):   </a:t>
            </a:r>
            <a:r>
              <a:rPr b="0" i="1" lang="de-CH" sz="2400" spc="-1" strike="noStrike">
                <a:solidFill>
                  <a:srgbClr val="ffff00"/>
                </a:solidFill>
                <a:latin typeface="FuturaBookTBWA"/>
              </a:rPr>
              <a:t>focus on demos / case studies</a:t>
            </a: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00"/>
                </a:solidFill>
                <a:latin typeface="FuturaBookTBWA"/>
              </a:rPr>
              <a:t>stage five</a:t>
            </a: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      (three months):   </a:t>
            </a:r>
            <a:r>
              <a:rPr b="0" i="1" lang="de-CH" sz="2400" spc="-1" strike="noStrike">
                <a:solidFill>
                  <a:srgbClr val="ffff00"/>
                </a:solidFill>
                <a:latin typeface="FuturaBookTBWA"/>
              </a:rPr>
              <a:t>evaluate / formulate next step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400" spc="-1" strike="noStrike">
                <a:solidFill>
                  <a:srgbClr val="ffff00"/>
                </a:solidFill>
                <a:latin typeface="FuturaBookTBW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00"/>
                </a:solidFill>
                <a:latin typeface="FuturaBookTBWA"/>
              </a:rPr>
              <a:t>Governance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06040" y="1609200"/>
            <a:ext cx="8828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Budget proposal to Plenary for approval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UNECE administration of Trust Fund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Quarterly reports to Plenar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Detailed FMG funding recommendations to UNECE secretariat - subject to Bureau due diligenc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5040" y="63828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uturaBookTBWA"/>
              </a:rPr>
              <a:t>Preparing for eBGT Laun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84360" y="741240"/>
            <a:ext cx="922176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FMG completes specification of eBGT deliverables / tasks / skill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FMG drafts proposal, including roadmap and budget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Drafting of governance principles for Trust Fund (legal review)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Invitation to participate in Advisory Group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Promote support for eBGT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05040" y="58104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uturaBookTBWA"/>
              </a:rPr>
              <a:t>Help is Needed from the Ple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83920" y="341280"/>
            <a:ext cx="1028844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Comment on Draft Proposal for eBGT Initiative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Serve on Heads of Delegation National Advisory Group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Endorse Proposal via Inter-sessional Approval Proces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Quarterly Oversight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Contribute to the Trust Fund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Promote support for eBGT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079280" y="164736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00"/>
                </a:solidFill>
                <a:latin typeface="FuturaBookTBWA"/>
              </a:rPr>
              <a:t>           </a:t>
            </a:r>
            <a:r>
              <a:rPr b="1" lang="de-CH" sz="3200" spc="-1" strike="noStrike">
                <a:solidFill>
                  <a:srgbClr val="ffff00"/>
                </a:solidFill>
                <a:latin typeface="FuturaBookTBWA"/>
              </a:rPr>
              <a:t>Comments and Question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984400" y="3657600"/>
            <a:ext cx="412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700" spc="-1" strike="noStrike">
                <a:solidFill>
                  <a:srgbClr val="ffffff"/>
                </a:solidFill>
                <a:latin typeface="FuturaBookTBWA"/>
              </a:rPr>
              <a:t>UN/</a:t>
            </a:r>
            <a:r>
              <a:rPr b="0" lang="en-US" sz="4100" spc="-1" strike="noStrike">
                <a:solidFill>
                  <a:srgbClr val="ffffff"/>
                </a:solidFill>
                <a:latin typeface="FuturaBookTBWA"/>
              </a:rPr>
              <a:t>CEFAC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933720" y="1828800"/>
            <a:ext cx="2228400" cy="1751760"/>
            <a:chOff x="3933720" y="1828800"/>
            <a:chExt cx="2228400" cy="1751760"/>
          </a:xfrm>
        </p:grpSpPr>
        <p:sp>
          <p:nvSpPr>
            <p:cNvPr id="268" name=""/>
            <p:cNvSpPr/>
            <p:nvPr/>
          </p:nvSpPr>
          <p:spPr>
            <a:xfrm>
              <a:off x="4187880" y="1828800"/>
              <a:ext cx="25488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3372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53080" y="1828800"/>
              <a:ext cx="25416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8708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16200" y="3015000"/>
              <a:ext cx="521280" cy="3722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360" y="2027520"/>
              <a:ext cx="59400" cy="3672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71920" y="2325240"/>
              <a:ext cx="91800" cy="896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92440" y="2899800"/>
              <a:ext cx="50040" cy="7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77680" y="2069640"/>
              <a:ext cx="35280" cy="284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20720" y="2201760"/>
              <a:ext cx="88920" cy="1090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71120" y="2089440"/>
              <a:ext cx="320040" cy="27432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94040" y="2596680"/>
              <a:ext cx="20520" cy="5076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80480" y="2414880"/>
              <a:ext cx="644760" cy="49896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16160" y="2566080"/>
              <a:ext cx="106560" cy="896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96080" y="2647440"/>
              <a:ext cx="18000" cy="108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75200" y="2341800"/>
              <a:ext cx="536040" cy="74304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40360" y="2938680"/>
              <a:ext cx="9360" cy="2916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10040" y="2431440"/>
              <a:ext cx="260280" cy="24660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15320" y="2557800"/>
              <a:ext cx="372960" cy="792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60400" y="2557800"/>
              <a:ext cx="390240" cy="792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02120" y="2810160"/>
              <a:ext cx="390240" cy="44568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0464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3092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15320" y="3367800"/>
              <a:ext cx="1458720" cy="2127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23960" y="1884600"/>
              <a:ext cx="1429200" cy="134820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59560" y="2291400"/>
              <a:ext cx="564840" cy="532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3942360" y="1907280"/>
              <a:ext cx="2204280" cy="1479240"/>
              <a:chOff x="3942360" y="1907280"/>
              <a:chExt cx="2204280" cy="1479240"/>
            </a:xfrm>
          </p:grpSpPr>
          <p:sp>
            <p:nvSpPr>
              <p:cNvPr id="295" name=""/>
              <p:cNvSpPr/>
              <p:nvPr/>
            </p:nvSpPr>
            <p:spPr>
              <a:xfrm>
                <a:off x="3942360" y="2344320"/>
                <a:ext cx="254880" cy="43704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158360" y="3016800"/>
                <a:ext cx="517680" cy="369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895360" y="2344320"/>
                <a:ext cx="251280" cy="43704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99880" y="2814840"/>
                <a:ext cx="387000" cy="44280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58360" y="1923480"/>
                <a:ext cx="209880" cy="3870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723640" y="1935000"/>
                <a:ext cx="275040" cy="369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472280" y="2041200"/>
                <a:ext cx="1141920" cy="106524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613760" y="2170080"/>
                <a:ext cx="855360" cy="8013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043240" y="1907280"/>
                <a:ext cx="5760" cy="54900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5318640" y="2838240"/>
              <a:ext cx="216000" cy="20448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3420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34200" y="2655720"/>
              <a:ext cx="408600" cy="38700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5556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371600" y="4591080"/>
            <a:ext cx="77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SIMPLE, TRANSPARENT AND EFFECTIV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OR GLOBAL BUSI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308240" y="1414440"/>
            <a:ext cx="847080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tarting poin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FuturaBookTBWA"/>
              </a:rPr>
              <a:t>Setting the Stage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FuturaBookTBWA"/>
              </a:rPr>
              <a:t>Towards a New Initiative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FuturaBookTBWA"/>
              </a:rPr>
              <a:t>Next steps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FuturaBookTBWA"/>
              </a:rPr>
              <a:t>Comments and Questions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58680" y="27288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Starting po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20280" y="1268280"/>
            <a:ext cx="886644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rack record speaks for itself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New Delhi Forum (October 2006)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Dublin Forum (March 2007)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FuturaBookTBWA"/>
              </a:rPr>
              <a:t>Advanc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Coordination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Project review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Prioriti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Pinpointing and resolving constraint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FuturaBookTBWA"/>
              </a:rPr>
              <a:t>Work programme - integrated strategy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6400" y="374760"/>
            <a:ext cx="9125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Towards Strengthening 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74640" y="1187280"/>
            <a:ext cx="899784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Workflow gap review, constraints of volunteer expert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UNECE secretariat resource constraints to support coordination of deliverables, currently fully allocated to ongoing tasks after recent review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Limited tools and assistance for specific processes, e.g., core component harmonization / registry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Compelling demand for bringing together end-to-end global core of interoperable standards for buy-ship-pay model in support of e-business, e-government and e-trade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Scope for extra-budgetary funding</a:t>
            </a:r>
            <a:br>
              <a:rPr sz="2400"/>
            </a:b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16120" y="730080"/>
            <a:ext cx="8947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fff00"/>
                </a:solidFill>
                <a:latin typeface="FuturaBookTBWA"/>
              </a:rPr>
              <a:t>Coordination and Funding Challenges </a:t>
            </a:r>
            <a:r>
              <a:rPr b="0" i="1" lang="de-CH" sz="2400" spc="-1" strike="noStrike">
                <a:solidFill>
                  <a:srgbClr val="ffff00"/>
                </a:solidFill>
                <a:latin typeface="FuturaBookTBWA"/>
              </a:rPr>
              <a:t>background presentations to follow</a:t>
            </a:r>
            <a:r>
              <a:rPr b="1" lang="de-CH" sz="3600" spc="-1" strike="noStrike">
                <a:solidFill>
                  <a:srgbClr val="ffff00"/>
                </a:solidFill>
                <a:latin typeface="FuturaBookTBW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34760" y="1841400"/>
            <a:ext cx="91710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Programme of Work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260640" indent="-260640"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Sweden's case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260640" indent="-260640"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Significance of the Cross-Border Reference Data Model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260640" indent="-260640"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Information Technology for Adoption and Intelligent Design for e-Government (ITAIDE)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260640" indent="-260640"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 Registry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260640" indent="-260640"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 Core Component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260640" indent="-260640"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Trust Fund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34760" y="1270080"/>
            <a:ext cx="917100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726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FuturaBookTBWA"/>
              </a:rPr>
              <a:t>Creation of cross domain project (TBG1, TBG6 and TBG19) on Public Electronic Procurement</a:t>
            </a:r>
            <a:endParaRPr b="0" lang="en-US" sz="23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575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FuturaBookTBWA"/>
              </a:rPr>
              <a:t>European Committee for Standardization / Information Society Standardization System (CEN/ISSS) Workshop on Interoperability in the Implementation of Electronic Public Procurement in Europe (WS/ePPE)</a:t>
            </a:r>
            <a:endParaRPr b="0" lang="en-US" sz="23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575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300" spc="-1" strike="noStrike">
                <a:solidFill>
                  <a:srgbClr val="ffffff"/>
                </a:solidFill>
                <a:latin typeface="FuturaBookTBWA"/>
              </a:rPr>
              <a:t>European Commission efforts on e-Invoicing and ISO 20022, especially given formation of Single European Payments Area (SEPA)</a:t>
            </a:r>
            <a:endParaRPr b="0" lang="en-US" sz="23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82" name=""/>
          <p:cNvSpPr/>
          <p:nvPr/>
        </p:nvSpPr>
        <p:spPr>
          <a:xfrm>
            <a:off x="773280" y="658800"/>
            <a:ext cx="8947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fff00"/>
                </a:solidFill>
                <a:latin typeface="FuturaBookTBWA"/>
              </a:rPr>
              <a:t>Coordination and Funding Challenges </a:t>
            </a:r>
            <a:r>
              <a:rPr b="1" i="1" lang="de-CH" sz="2400" spc="-1" strike="noStrike">
                <a:solidFill>
                  <a:srgbClr val="ffff00"/>
                </a:solidFill>
                <a:latin typeface="FuturaBookTBWA"/>
              </a:rPr>
              <a:t>  </a:t>
            </a:r>
            <a:br>
              <a:rPr sz="2400"/>
            </a:br>
            <a:r>
              <a:rPr b="0" i="1" lang="de-CH" sz="2400" spc="-1" strike="noStrike">
                <a:solidFill>
                  <a:srgbClr val="ffff00"/>
                </a:solidFill>
                <a:latin typeface="FuturaBookTBWA"/>
              </a:rPr>
              <a:t>a few more to keep in mind</a:t>
            </a:r>
            <a:r>
              <a:rPr b="1" lang="de-CH" sz="3600" spc="-1" strike="noStrike">
                <a:solidFill>
                  <a:srgbClr val="ffff00"/>
                </a:solidFill>
                <a:latin typeface="FuturaBookTBW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47720" y="43956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uturaBookTBWA"/>
              </a:rPr>
              <a:t>Towards a New Initi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11000" y="1503360"/>
            <a:ext cx="896292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25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ffffff"/>
                </a:solidFill>
                <a:latin typeface="FuturaBookTBWA"/>
              </a:rPr>
              <a:t>Background presentations highlight the work in progress, but also the coordination and resource challenge at the heart of UN/CEFACT deliverables</a:t>
            </a:r>
            <a:endParaRPr b="0" lang="en-US" sz="26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325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ffffff"/>
                </a:solidFill>
                <a:latin typeface="FuturaBookTBWA"/>
              </a:rPr>
              <a:t>Need to focus on a support team for the FMG, scaling up productivity</a:t>
            </a:r>
            <a:endParaRPr b="0" lang="en-US" sz="26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325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ffffff"/>
                </a:solidFill>
                <a:latin typeface="FuturaBookTBWA"/>
              </a:rPr>
              <a:t>Need to identify resources for time-critical projects</a:t>
            </a:r>
            <a:endParaRPr b="0" lang="en-US" sz="26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3251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05040" y="38268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uturaBookTBWA"/>
              </a:rPr>
              <a:t>Towards a New Initi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725400" y="1382760"/>
            <a:ext cx="896328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624"/>
              </a:spcBef>
              <a:spcAft>
                <a:spcPts val="1624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BookTBWA"/>
              </a:rPr>
              <a:t>The time seems to have come to launch a new idea - an initiative on </a:t>
            </a:r>
            <a:r>
              <a:rPr b="1" i="1" lang="en-US" sz="2600" spc="-1" strike="noStrike">
                <a:solidFill>
                  <a:srgbClr val="ffff00"/>
                </a:solidFill>
                <a:latin typeface="FuturaBookTBWA"/>
              </a:rPr>
              <a:t>        </a:t>
            </a:r>
            <a:endParaRPr b="0" lang="en-US" sz="2600" spc="-1" strike="noStrike">
              <a:solidFill>
                <a:srgbClr val="ffffff"/>
              </a:solidFill>
              <a:latin typeface="FuturaBookTBWA"/>
            </a:endParaRPr>
          </a:p>
          <a:p>
            <a:pPr marL="332640" indent="0" algn="ctr">
              <a:spcBef>
                <a:spcPts val="1301"/>
              </a:spcBef>
              <a:spcAft>
                <a:spcPts val="2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FuturaBookTBWA"/>
              </a:rPr>
              <a:t>    </a:t>
            </a:r>
            <a:r>
              <a:rPr b="1" i="1" lang="en-US" sz="2600" spc="-1" strike="noStrike">
                <a:solidFill>
                  <a:srgbClr val="ffff00"/>
                </a:solidFill>
                <a:latin typeface="FuturaBookTBWA"/>
              </a:rPr>
              <a:t>electronic Business, Government and Trade</a:t>
            </a:r>
            <a:endParaRPr b="0" lang="en-US" sz="2600" spc="-1" strike="noStrike">
              <a:solidFill>
                <a:srgbClr val="ffffff"/>
              </a:solidFill>
              <a:latin typeface="FuturaBookTBWA"/>
            </a:endParaRPr>
          </a:p>
          <a:p>
            <a:pPr marL="332640" indent="0" algn="ctr">
              <a:spcAft>
                <a:spcPts val="36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FuturaBookTBWA"/>
              </a:rPr>
              <a:t>eBGT </a:t>
            </a:r>
            <a:endParaRPr b="0" lang="en-US" sz="4800" spc="-1" strike="noStrike">
              <a:solidFill>
                <a:srgbClr val="ffffff"/>
              </a:solidFill>
              <a:latin typeface="FuturaBookTBWA"/>
            </a:endParaRPr>
          </a:p>
          <a:p>
            <a:pPr marL="332640" indent="-332640"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BookTBWA"/>
              </a:rPr>
              <a:t>Initial secretariat consultation with the UNECE Executive Committee indicates UNECE extra-budgetary Trust Fund rules can be applied and that eBGT has its support</a:t>
            </a:r>
            <a:endParaRPr b="0" lang="en-US" sz="2600" spc="-1" strike="noStrike">
              <a:solidFill>
                <a:srgbClr val="ffffff"/>
              </a:solidFill>
              <a:latin typeface="FuturaBookTBWA"/>
            </a:endParaRPr>
          </a:p>
          <a:p>
            <a:pPr marL="33264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000" y="85716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A Priority eBGT Interoperability Target: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-business, e-government and e-trade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146320" y="2590200"/>
            <a:ext cx="2063880" cy="1143000"/>
          </a:xfrm>
          <a:custGeom>
            <a:avLst/>
            <a:gdLst>
              <a:gd name="textAreaLeft" fmla="*/ 0 w 2063880"/>
              <a:gd name="textAreaRight" fmla="*/ 2064240 w 206388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9480" y="2590920"/>
            <a:ext cx="1906560" cy="11430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35680" y="2590920"/>
            <a:ext cx="1824120" cy="1143000"/>
          </a:xfrm>
          <a:custGeom>
            <a:avLst/>
            <a:gdLst>
              <a:gd name="textAreaLeft" fmla="*/ 0 w 1824120"/>
              <a:gd name="textAreaRight" fmla="*/ 1824480 w 18241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971800"/>
            <a:ext cx="123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19840" y="301320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pp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27400" y="220968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termedi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75080" y="380988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utho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55600" y="4572000"/>
            <a:ext cx="817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c8c"/>
                </a:solidFill>
                <a:latin typeface="FuturaBookTBWA"/>
              </a:rPr>
              <a:t>The International Trade Transaction Process consist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33400" y="4800600"/>
            <a:ext cx="709956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ffff"/>
                </a:solidFill>
                <a:latin typeface="Times New Roman"/>
              </a:rPr>
              <a:t>International Supply Chains consist of </a:t>
            </a:r>
            <a:r>
              <a:rPr b="0" lang="en-US" sz="2000" spc="-1" strike="noStrike" u="sng">
                <a:solidFill>
                  <a:srgbClr val="e9ffff"/>
                </a:solidFill>
                <a:uFillTx/>
                <a:latin typeface="Times New Roman"/>
              </a:rPr>
              <a:t>integrated </a:t>
            </a:r>
            <a:r>
              <a:rPr b="0" lang="en-US" sz="2000" spc="-1" strike="noStrike">
                <a:solidFill>
                  <a:srgbClr val="e9ffff"/>
                </a:solidFill>
                <a:latin typeface="Times New Roman"/>
              </a:rPr>
              <a:t>and </a:t>
            </a:r>
            <a:r>
              <a:rPr b="0" lang="en-US" sz="2000" spc="-1" strike="noStrike" u="sng">
                <a:solidFill>
                  <a:srgbClr val="e9ffff"/>
                </a:solidFill>
                <a:uFillTx/>
                <a:latin typeface="Times New Roman"/>
              </a:rPr>
              <a:t>coordinated flows </a:t>
            </a:r>
            <a:r>
              <a:rPr b="0" lang="en-US" sz="2000" spc="-1" strike="noStrike">
                <a:solidFill>
                  <a:srgbClr val="e9ffff"/>
                </a:solidFill>
                <a:latin typeface="Times New Roman"/>
              </a:rPr>
              <a:t>of information, goods &amp; pay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ource: UN/CEFACT International Supply Chain Reference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Plenary Chair </dc:creator>
  <dc:description/>
  <dc:language>en-US</dc:language>
  <cp:lastModifiedBy>Corporate User</cp:lastModifiedBy>
  <cp:lastPrinted>2001-03-15T16:33:27Z</cp:lastPrinted>
  <dcterms:modified xsi:type="dcterms:W3CDTF">2007-05-14T21:00:52Z</dcterms:modified>
  <cp:revision>351</cp:revision>
  <dc:subject/>
  <dc:title>Challenges for the 12th Plenary</dc:title>
</cp:coreProperties>
</file>