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64E-3A2E-4C98-9FA0-E0735BB7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595-A622-450C-B8B2-9ABCFA37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2DB-3870-4DD7-9572-E0425712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7D0-0C92-4343-9122-0DF4EC28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800C-CB0A-4B44-898F-E9448842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D6E2-BDCE-413A-828C-9CC73F29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9A02-F477-4DC8-AD89-4B7F97A7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9C25-FE5F-48AB-97D3-DA3D0D7B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8FC2-211C-4076-8981-FE49AE2F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03A7-C1A5-44D0-AD5A-0BED3FB3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F354-E753-45A3-8FAB-ACD1033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169-A42A-48ED-9FEE-33C89C64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EEE6-0D04-474D-BB9E-606A669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DB0D-FA4E-4D44-A7DC-9D3A890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9710-27F5-4F08-9E09-D51AC2CC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65FC-7706-4933-ABCB-2CC00BE5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B4A8-B6C8-4245-AD3F-5002E480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37D-8EE9-4117-8A40-366DB54D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A8A-D7A9-4B2F-AD44-E7F8446A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D7C-4E82-4E21-835E-D65ABABF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C8A-4090-4F90-972C-A3E2CDA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38B-0503-430A-AAA1-A2FF00B4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AD0-9511-430B-A4A5-CB3EA9C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AE1-F89F-44D1-9191-4DA14338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48D-7D25-4835-B77F-551507EB4648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CFE8-E086-4771-B8BF-EF2104D44D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AC0C-9B20-459E-91B3-6651C0C2D548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5118-D4FE-470B-9E52-E8DD108E80E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765000"/>
            <a:ext cx="7921440" cy="2206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8ec"/>
                </a:solidFill>
                <a:latin typeface="Arial Black"/>
              </a:rPr>
              <a:t>UN/CEFACT Registry</a:t>
            </a:r>
            <a:endParaRPr b="0" lang="en-US" sz="32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vid DOBBING, ICG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720" y="563868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http://www.cen.eu/uncefactforum/IC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7749-8DAB-4D5C-BCF4-5BFADD4397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1DC09EF-700E-490F-A71D-65AE46DF1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4754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initiated by the ICG, Sept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specification of the UN/CEFACT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registration, storage, and publication of UN/CEFACT deliver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y components, library components, and technical specific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draft </a:t>
            </a: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nal 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val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ccess and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y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OASIS ebXML registr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RS – ebXML Registry Services and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RIM – ebXML Registry Information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take proof-of-concept / prototype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l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brice Bourge – Orange (formerly France Teleco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264"/>
              </a:spcAft>
              <a:buClr>
                <a:srgbClr val="395da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n Bedini – Orange (formerly France Tele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9d8ec"/>
                </a:solidFill>
                <a:latin typeface="Arial Black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966-50BE-4963-BFA8-7E99498772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45493-82E3-47FF-9CA9-E5FDA1CE5A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847548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ization of UN/CEFACT Registry Implementation Requirements Specification, V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sued proof of concept testing with ICG members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Ame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 (2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draft of the implementation requirements plan for the UN/CEFACT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ied Registry Versioning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Registry Interface/Connector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9d8ec"/>
                </a:solidFill>
                <a:latin typeface="Arial Black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02F-997B-4E75-B910-1C4298F7A3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A632A-00DA-421B-A4C8-87F0FEA2FA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1628640"/>
            <a:ext cx="8035920" cy="4537080"/>
          </a:xfrm>
          <a:prstGeom prst="roundRect">
            <a:avLst>
              <a:gd name="adj" fmla="val 16667"/>
            </a:avLst>
          </a:prstGeom>
          <a:solidFill>
            <a:srgbClr val="3366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76360" y="1803240"/>
          <a:ext cx="7010280" cy="42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03240"/>
                    <a:ext cx="7010280" cy="42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9d8ec"/>
                </a:solidFill>
                <a:latin typeface="Arial Black"/>
              </a:rPr>
              <a:t>The Big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C81-2FF2-4A07-9789-849673F3011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5F45B-E9F3-4093-9661-D587D6F13F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1628640"/>
            <a:ext cx="8035920" cy="4537080"/>
          </a:xfrm>
          <a:prstGeom prst="roundRect">
            <a:avLst>
              <a:gd name="adj" fmla="val 16667"/>
            </a:avLst>
          </a:prstGeom>
          <a:solidFill>
            <a:srgbClr val="3366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4400" y="43466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-publication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56160" y="2060640"/>
            <a:ext cx="1692360" cy="1174680"/>
          </a:xfrm>
          <a:prstGeom prst="can">
            <a:avLst>
              <a:gd name="adj" fmla="val 25000"/>
            </a:avLst>
          </a:prstGeom>
          <a:solidFill>
            <a:srgbClr val="ffee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56160" y="2941560"/>
            <a:ext cx="1692360" cy="1174680"/>
          </a:xfrm>
          <a:prstGeom prst="can">
            <a:avLst>
              <a:gd name="adj" fmla="val 25000"/>
            </a:avLst>
          </a:prstGeom>
          <a:solidFill>
            <a:srgbClr val="ffee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6160" y="3821040"/>
            <a:ext cx="1692360" cy="1176480"/>
          </a:xfrm>
          <a:prstGeom prst="can">
            <a:avLst>
              <a:gd name="adj" fmla="val 25000"/>
            </a:avLst>
          </a:prstGeom>
          <a:solidFill>
            <a:srgbClr val="ffee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4680" y="258444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Work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5840" y="346536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alidation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21120" y="2500200"/>
            <a:ext cx="343080" cy="392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21120" y="3381480"/>
            <a:ext cx="343080" cy="392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21120" y="4262400"/>
            <a:ext cx="343080" cy="3920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92840" y="2894040"/>
            <a:ext cx="0" cy="48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92840" y="3773520"/>
            <a:ext cx="0" cy="48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47920" y="3578400"/>
            <a:ext cx="120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91560" y="252576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af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91200" y="3382920"/>
            <a:ext cx="10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bmitted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90120" y="4286160"/>
            <a:ext cx="83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35320" y="5389560"/>
            <a:ext cx="120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1400" y="52912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ll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4703760"/>
            <a:ext cx="1692360" cy="1174680"/>
          </a:xfrm>
          <a:prstGeom prst="can">
            <a:avLst>
              <a:gd name="adj" fmla="val 25000"/>
            </a:avLst>
          </a:prstGeom>
          <a:solidFill>
            <a:srgbClr val="ffee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2520" y="522288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ublication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247920" y="4459320"/>
            <a:ext cx="120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21120" y="5159520"/>
            <a:ext cx="343080" cy="3902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76800" y="5168880"/>
            <a:ext cx="8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47920" y="2647800"/>
            <a:ext cx="120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92840" y="4654440"/>
            <a:ext cx="0" cy="490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4067280"/>
            <a:ext cx="1239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UN/CEF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03400" y="2598840"/>
            <a:ext cx="230400" cy="1909800"/>
          </a:xfrm>
          <a:custGeom>
            <a:avLst/>
            <a:gdLst>
              <a:gd name="textAreaLeft" fmla="*/ 147240 w 230400"/>
              <a:gd name="textAreaRight" fmla="*/ 230760 w 230400"/>
              <a:gd name="textAreaTop" fmla="*/ 49680 h 1909800"/>
              <a:gd name="textAreaBottom" fmla="*/ 1860120 h 19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984"/>
                </a:lnTo>
                <a:cubicBezTo>
                  <a:pt x="10800" y="11884"/>
                  <a:pt x="5400" y="12784"/>
                  <a:pt x="0" y="12784"/>
                </a:cubicBezTo>
                <a:cubicBezTo>
                  <a:pt x="5400" y="12784"/>
                  <a:pt x="10800" y="13684"/>
                  <a:pt x="10800" y="1458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97600" y="2746440"/>
            <a:ext cx="355680" cy="782640"/>
          </a:xfrm>
          <a:custGeom>
            <a:avLst/>
            <a:gdLst>
              <a:gd name="textAreaLeft" fmla="*/ 47520 w 355680"/>
              <a:gd name="textAreaRight" fmla="*/ 308160 w 355680"/>
              <a:gd name="textAreaTop" fmla="*/ 136800 h 782640"/>
              <a:gd name="textAreaBottom" fmla="*/ 56736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90000" y="297504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6600"/>
                </a:solidFill>
                <a:latin typeface="Arial"/>
                <a:ea typeface="Arial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69120" y="385776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6600"/>
                </a:solidFill>
                <a:latin typeface="Arial"/>
                <a:ea typeface="Arial"/>
              </a:rPr>
              <a:t>appr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0560" y="473724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6600"/>
                </a:solidFill>
                <a:latin typeface="Arial"/>
                <a:ea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627360"/>
            <a:ext cx="355320" cy="784440"/>
          </a:xfrm>
          <a:custGeom>
            <a:avLst/>
            <a:gdLst>
              <a:gd name="textAreaLeft" fmla="*/ 47520 w 355320"/>
              <a:gd name="textAreaRight" fmla="*/ 307800 w 355320"/>
              <a:gd name="textAreaTop" fmla="*/ 137160 h 784440"/>
              <a:gd name="textAreaBottom" fmla="*/ 568800 h 78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508640"/>
            <a:ext cx="355320" cy="782640"/>
          </a:xfrm>
          <a:custGeom>
            <a:avLst/>
            <a:gdLst>
              <a:gd name="textAreaLeft" fmla="*/ 47520 w 355320"/>
              <a:gd name="textAreaRight" fmla="*/ 307800 w 355320"/>
              <a:gd name="textAreaTop" fmla="*/ 136800 h 782640"/>
              <a:gd name="textAreaBottom" fmla="*/ 56736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4520" y="2421000"/>
            <a:ext cx="69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TBG W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AT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6360" y="3357720"/>
            <a:ext cx="61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TBG 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AT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6720" y="422100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C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3840" y="2781360"/>
            <a:ext cx="12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Organis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23640" y="264780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32000" y="4948200"/>
            <a:ext cx="1056960" cy="907920"/>
            <a:chOff x="1332000" y="4948200"/>
            <a:chExt cx="1056960" cy="907920"/>
          </a:xfrm>
        </p:grpSpPr>
        <p:graphicFrame>
          <p:nvGraphicFramePr>
            <p:cNvPr id="134" name=""/>
            <p:cNvGraphicFramePr/>
            <p:nvPr/>
          </p:nvGraphicFramePr>
          <p:xfrm>
            <a:off x="1438200" y="4948200"/>
            <a:ext cx="846000" cy="71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8200" y="4948200"/>
                      <a:ext cx="846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1332000" y="5143320"/>
            <a:ext cx="846360" cy="71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2000" y="5143320"/>
                      <a:ext cx="84636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1542960" y="5143320"/>
            <a:ext cx="846000" cy="71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42960" y="5143320"/>
                      <a:ext cx="846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" name=""/>
          <p:cNvGrpSpPr/>
          <p:nvPr/>
        </p:nvGrpSpPr>
        <p:grpSpPr>
          <a:xfrm>
            <a:off x="1187280" y="2060640"/>
            <a:ext cx="1056960" cy="907920"/>
            <a:chOff x="1187280" y="2060640"/>
            <a:chExt cx="1056960" cy="907920"/>
          </a:xfrm>
        </p:grpSpPr>
        <p:graphicFrame>
          <p:nvGraphicFramePr>
            <p:cNvPr id="141" name=""/>
            <p:cNvGraphicFramePr/>
            <p:nvPr/>
          </p:nvGraphicFramePr>
          <p:xfrm>
            <a:off x="1293480" y="2060640"/>
            <a:ext cx="846000" cy="712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93480" y="2060640"/>
                      <a:ext cx="846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1187280" y="2255760"/>
            <a:ext cx="846360" cy="712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87280" y="2255760"/>
                      <a:ext cx="84636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1398240" y="2255760"/>
            <a:ext cx="846000" cy="712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98240" y="2255760"/>
                      <a:ext cx="846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"/>
          <p:cNvGrpSpPr/>
          <p:nvPr/>
        </p:nvGrpSpPr>
        <p:grpSpPr>
          <a:xfrm>
            <a:off x="1806480" y="3382920"/>
            <a:ext cx="1152360" cy="858600"/>
            <a:chOff x="1806480" y="3382920"/>
            <a:chExt cx="1152360" cy="858600"/>
          </a:xfrm>
        </p:grpSpPr>
        <p:graphicFrame>
          <p:nvGraphicFramePr>
            <p:cNvPr id="148" name=""/>
            <p:cNvGraphicFramePr/>
            <p:nvPr/>
          </p:nvGraphicFramePr>
          <p:xfrm>
            <a:off x="1953360" y="3382920"/>
            <a:ext cx="846720" cy="712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53360" y="3382920"/>
                      <a:ext cx="846720" cy="71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2111760" y="3529080"/>
            <a:ext cx="847080" cy="712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111760" y="3529080"/>
                      <a:ext cx="847080" cy="71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1806480" y="3529080"/>
            <a:ext cx="846720" cy="71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06480" y="3529080"/>
                      <a:ext cx="846720" cy="71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4" name=""/>
          <p:cNvSpPr/>
          <p:nvPr/>
        </p:nvSpPr>
        <p:spPr>
          <a:xfrm>
            <a:off x="4356000" y="170028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N/CEFACT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9d8ec"/>
                </a:solidFill>
                <a:latin typeface="Arial Black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14E-FD54-45A5-B3EB-82F340C79EA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D6862-9B1E-4E54-92BD-B21868E931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0720" y="1700280"/>
            <a:ext cx="84758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 is fundamental to the ongoing evolution of 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for the registration, storage and publication of all UN/CEFACT delive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Internet based technologies and collaborative based work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support for federation with other compliant regist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raft of Implementation Plan under revi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sideration of a phased implementation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simple, evolve over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Consideratio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day, 24 hour, 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access by some 500 UN/CEFACT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access by some 1000 users per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of some 2000 plus artifacts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76500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9d8ec"/>
                </a:solidFill>
                <a:latin typeface="Arial Black"/>
              </a:rPr>
              <a:t>Implementation</a:t>
            </a:r>
            <a:br>
              <a:rPr sz="2400"/>
            </a:br>
            <a:r>
              <a:rPr b="0" lang="en-AU" sz="2400" spc="-1" strike="noStrike">
                <a:solidFill>
                  <a:srgbClr val="d9d8ec"/>
                </a:solidFill>
                <a:latin typeface="Arial Black"/>
              </a:rPr>
              <a:t>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7BE-CD50-4095-A577-85BCA582DD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A7100-C2BE-4AB3-953E-E6D7146993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0720" y="1699920"/>
            <a:ext cx="8475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iv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0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pplicatio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cludes hardw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nual Recur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395da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ons / support / hot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ine &amp; Approve Implement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mplemen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y Development &amp; Operation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395d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y Resource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 UN/CEFACT Plenary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76500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1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9d8ec"/>
                </a:solidFill>
                <a:latin typeface="Arial Black"/>
              </a:rPr>
              <a:t>Implementation</a:t>
            </a:r>
            <a:br>
              <a:rPr sz="2400"/>
            </a:br>
            <a:r>
              <a:rPr b="0" lang="en-AU" sz="2400" spc="-1" strike="noStrike">
                <a:solidFill>
                  <a:srgbClr val="d9d8ec"/>
                </a:solidFill>
                <a:latin typeface="Arial Black"/>
              </a:rPr>
              <a:t> Plan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/CEFACT Regist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7E2-4ADF-45AB-9401-DDE355C4FD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FE0D3-7C9A-4832-8F2A-723AC774C6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cp:lastPrinted>1900-12-31T22:00:00Z</cp:lastPrinted>
  <dcterms:modified xsi:type="dcterms:W3CDTF">2007-05-15T07:13:30Z</dcterms:modified>
  <cp:revision>15</cp:revision>
  <dc:subject/>
  <dc:title>UN/CEFACT Registry</dc:title>
</cp:coreProperties>
</file>