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689-DEBB-4DF5-AF6F-CB3B7B0B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1C3-6F65-45E4-A985-6F326873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5AC-0C38-44D5-A983-0CB132C2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9EA-5105-4608-B472-142A3B85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3D93-1F25-4B67-80AB-071FF7A3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C0A1-A914-40F9-B19E-19E9A720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3007-F57B-42CA-B158-49265EB6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6262-A5B8-4E30-BA4E-4BAF072B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6A86-9778-4812-92DE-3E394165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4E66-C894-4F29-AED2-6A29E20E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4569-D454-4C8E-AC30-2BFDA50D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6B5-D1ED-4BB1-A8BE-E6DEFE3A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17E3-F8B3-4EC7-999B-0FC5565B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BA7E-AB1D-452F-831D-5C757642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4676-EBC2-4A95-BF18-54C1F690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5112-FCCD-4D6A-A487-C7F5493C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A3F9-A571-40F8-96FD-7CEB7829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DCA-E6DE-490A-B86D-35913D59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D64-FB6F-4AB8-9796-A5EA588F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995-83D4-4715-B072-02B07BF4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FFFE-B0A5-4142-BA14-349D007E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0DD4-8693-4326-A09E-05C48259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2DA-264F-420B-A962-44B74CA7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BA0-B6DC-439F-8586-DDC0B470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8644-AD40-40A6-A908-A19ADBB9C23E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EC11-C871-4BD2-BEFD-758E1D9608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D401-34B8-4458-AEDE-11B592839879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32EE-F913-41CB-9C1C-75BA0566A529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44882"/>
          <a:stretch/>
        </p:blipFill>
        <p:spPr>
          <a:xfrm>
            <a:off x="611280" y="765000"/>
            <a:ext cx="7921440" cy="2206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d8e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395da5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8ec"/>
                </a:solidFill>
                <a:latin typeface="Arial Black"/>
              </a:rPr>
              <a:t>UN/CEFACT Registry</a:t>
            </a:r>
            <a:endParaRPr b="0" lang="en-US" sz="32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4343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vid DOBBING, ICG Vic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2720" y="5638680"/>
            <a:ext cx="40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http://www.cen.eu/uncefactforum/IC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N/CEFACT Registry Re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860D-7022-46DE-84EE-17DF403C3D6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47E4242-B5CC-4511-9D8D-F387E1FC64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84754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initiated by the ICG, Sept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specification of the UN/CEFACT 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registration, storage, and publication of UN/CEFACT deliver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264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ory components, library components, and technical specific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264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 draft </a:t>
            </a:r>
            <a:r>
              <a:rPr b="0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inal 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264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264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vali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264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access and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264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y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OASIS ebXML registry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264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RS – ebXML Registry Services and Protoc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264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RIM – ebXML Registry Information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take proof-of-concept / prototype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lea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264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brice Bourge – Orange (formerly France Teleco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264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n Bedini – Orange (formerly France Telec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3840" y="804960"/>
            <a:ext cx="7404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9d8ec"/>
                </a:solidFill>
                <a:latin typeface="Arial Black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/CEFACT Registry Re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D44-C2B9-42D2-A6F0-C42CFCF7F09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2ED36-EC3F-49A2-AE0C-7CCD36394B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000" y="1773000"/>
            <a:ext cx="847548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ization of UN/CEFACT Registry Implementation Requirements Specification, V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sued proof of concept testing with ICG members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Ame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a (2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draft of the implementation requirements plan for the UN/CEFACT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rified Registry Versioning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Registry Interface/Connector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93840" y="804960"/>
            <a:ext cx="7404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9d8ec"/>
                </a:solidFill>
                <a:latin typeface="Arial Black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/CEFACT Registry Re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400-926F-4F8E-9019-A0353A613AF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6F198-F023-41DA-B08C-C2FFDA3CAD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55640" y="1628640"/>
            <a:ext cx="8035920" cy="4537080"/>
          </a:xfrm>
          <a:prstGeom prst="roundRect">
            <a:avLst>
              <a:gd name="adj" fmla="val 16667"/>
            </a:avLst>
          </a:prstGeom>
          <a:solidFill>
            <a:srgbClr val="3366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76360" y="1803240"/>
          <a:ext cx="7010280" cy="42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803240"/>
                    <a:ext cx="7010280" cy="42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293840" y="804960"/>
            <a:ext cx="7404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9d8ec"/>
                </a:solidFill>
                <a:latin typeface="Arial Black"/>
              </a:rPr>
              <a:t>The Big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/CEFACT Registry Repo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E7A4-DF3E-4EBB-8709-662C854EA19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3F547-6693-4210-B2C8-8CBC6D0F31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55640" y="1628640"/>
            <a:ext cx="8035920" cy="4537080"/>
          </a:xfrm>
          <a:prstGeom prst="roundRect">
            <a:avLst>
              <a:gd name="adj" fmla="val 16667"/>
            </a:avLst>
          </a:prstGeom>
          <a:solidFill>
            <a:srgbClr val="3366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14400" y="434664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re-publication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56160" y="2060640"/>
            <a:ext cx="1692360" cy="1174680"/>
          </a:xfrm>
          <a:prstGeom prst="can">
            <a:avLst>
              <a:gd name="adj" fmla="val 25000"/>
            </a:avLst>
          </a:prstGeom>
          <a:solidFill>
            <a:srgbClr val="ffee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56160" y="2941560"/>
            <a:ext cx="1692360" cy="1174680"/>
          </a:xfrm>
          <a:prstGeom prst="can">
            <a:avLst>
              <a:gd name="adj" fmla="val 25000"/>
            </a:avLst>
          </a:prstGeom>
          <a:solidFill>
            <a:srgbClr val="ffee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56160" y="3821040"/>
            <a:ext cx="1692360" cy="1176480"/>
          </a:xfrm>
          <a:prstGeom prst="can">
            <a:avLst>
              <a:gd name="adj" fmla="val 25000"/>
            </a:avLst>
          </a:prstGeom>
          <a:solidFill>
            <a:srgbClr val="ffee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4680" y="258444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Work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15840" y="3465360"/>
            <a:ext cx="14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alidation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21120" y="2500200"/>
            <a:ext cx="343080" cy="392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21120" y="3381480"/>
            <a:ext cx="343080" cy="3920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21120" y="4262400"/>
            <a:ext cx="343080" cy="392040"/>
          </a:xfrm>
          <a:prstGeom prst="rect">
            <a:avLst/>
          </a:prstGeom>
          <a:solidFill>
            <a:srgbClr val="99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92840" y="2894040"/>
            <a:ext cx="0" cy="48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92840" y="3773520"/>
            <a:ext cx="0" cy="48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47920" y="3578400"/>
            <a:ext cx="1201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91560" y="252576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af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91200" y="3382920"/>
            <a:ext cx="10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bmitted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90120" y="4286160"/>
            <a:ext cx="83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35320" y="5389560"/>
            <a:ext cx="1201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11400" y="52912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ll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56160" y="4703760"/>
            <a:ext cx="1692360" cy="1174680"/>
          </a:xfrm>
          <a:prstGeom prst="can">
            <a:avLst>
              <a:gd name="adj" fmla="val 25000"/>
            </a:avLst>
          </a:prstGeom>
          <a:solidFill>
            <a:srgbClr val="ffee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2520" y="5222880"/>
            <a:ext cx="155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ublication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247920" y="4459320"/>
            <a:ext cx="1201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21120" y="5159520"/>
            <a:ext cx="343080" cy="39024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76800" y="5168880"/>
            <a:ext cx="8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47920" y="2647800"/>
            <a:ext cx="1201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92840" y="4654440"/>
            <a:ext cx="0" cy="490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4067280"/>
            <a:ext cx="12398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UN/CEF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Regist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03400" y="2598840"/>
            <a:ext cx="230400" cy="1909800"/>
          </a:xfrm>
          <a:custGeom>
            <a:avLst/>
            <a:gdLst>
              <a:gd name="textAreaLeft" fmla="*/ 147240 w 230400"/>
              <a:gd name="textAreaRight" fmla="*/ 230760 w 230400"/>
              <a:gd name="textAreaTop" fmla="*/ 49680 h 1909800"/>
              <a:gd name="textAreaBottom" fmla="*/ 1860120 h 19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984"/>
                </a:lnTo>
                <a:cubicBezTo>
                  <a:pt x="10800" y="11884"/>
                  <a:pt x="5400" y="12784"/>
                  <a:pt x="0" y="12784"/>
                </a:cubicBezTo>
                <a:cubicBezTo>
                  <a:pt x="5400" y="12784"/>
                  <a:pt x="10800" y="13684"/>
                  <a:pt x="10800" y="1458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97600" y="2746440"/>
            <a:ext cx="355680" cy="782640"/>
          </a:xfrm>
          <a:custGeom>
            <a:avLst/>
            <a:gdLst>
              <a:gd name="textAreaLeft" fmla="*/ 47520 w 355680"/>
              <a:gd name="textAreaRight" fmla="*/ 308160 w 355680"/>
              <a:gd name="textAreaTop" fmla="*/ 136800 h 782640"/>
              <a:gd name="textAreaBottom" fmla="*/ 567360 h 78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90000" y="297504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6600"/>
                </a:solidFill>
                <a:latin typeface="Arial"/>
                <a:ea typeface="Arial"/>
              </a:rPr>
              <a:t>sub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69120" y="385776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6600"/>
                </a:solidFill>
                <a:latin typeface="Arial"/>
                <a:ea typeface="Arial"/>
              </a:rPr>
              <a:t>appr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0560" y="473724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6600"/>
                </a:solidFill>
                <a:latin typeface="Arial"/>
                <a:ea typeface="Arial"/>
              </a:rPr>
              <a:t>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3627360"/>
            <a:ext cx="355320" cy="784440"/>
          </a:xfrm>
          <a:custGeom>
            <a:avLst/>
            <a:gdLst>
              <a:gd name="textAreaLeft" fmla="*/ 47520 w 355320"/>
              <a:gd name="textAreaRight" fmla="*/ 307800 w 355320"/>
              <a:gd name="textAreaTop" fmla="*/ 137160 h 784440"/>
              <a:gd name="textAreaBottom" fmla="*/ 568800 h 78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4508640"/>
            <a:ext cx="355320" cy="782640"/>
          </a:xfrm>
          <a:custGeom>
            <a:avLst/>
            <a:gdLst>
              <a:gd name="textAreaLeft" fmla="*/ 47520 w 355320"/>
              <a:gd name="textAreaRight" fmla="*/ 307800 w 355320"/>
              <a:gd name="textAreaTop" fmla="*/ 136800 h 782640"/>
              <a:gd name="textAreaBottom" fmla="*/ 567360 h 78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4520" y="2421000"/>
            <a:ext cx="69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TBG W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AT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6360" y="3357720"/>
            <a:ext cx="616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TBG 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AT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36720" y="422100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IC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3840" y="2781360"/>
            <a:ext cx="128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Ex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Organis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123640" y="2647800"/>
            <a:ext cx="784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332000" y="4948200"/>
            <a:ext cx="1056960" cy="907920"/>
            <a:chOff x="1332000" y="4948200"/>
            <a:chExt cx="1056960" cy="907920"/>
          </a:xfrm>
        </p:grpSpPr>
        <p:graphicFrame>
          <p:nvGraphicFramePr>
            <p:cNvPr id="134" name=""/>
            <p:cNvGraphicFramePr/>
            <p:nvPr/>
          </p:nvGraphicFramePr>
          <p:xfrm>
            <a:off x="1438200" y="4948200"/>
            <a:ext cx="846000" cy="712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8200" y="4948200"/>
                      <a:ext cx="84600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"/>
            <p:cNvGraphicFramePr/>
            <p:nvPr/>
          </p:nvGraphicFramePr>
          <p:xfrm>
            <a:off x="1332000" y="5143320"/>
            <a:ext cx="846360" cy="71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32000" y="5143320"/>
                      <a:ext cx="84636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1542960" y="5143320"/>
            <a:ext cx="846000" cy="712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42960" y="5143320"/>
                      <a:ext cx="84600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0" name=""/>
          <p:cNvGrpSpPr/>
          <p:nvPr/>
        </p:nvGrpSpPr>
        <p:grpSpPr>
          <a:xfrm>
            <a:off x="1187280" y="2060640"/>
            <a:ext cx="1056960" cy="907920"/>
            <a:chOff x="1187280" y="2060640"/>
            <a:chExt cx="1056960" cy="907920"/>
          </a:xfrm>
        </p:grpSpPr>
        <p:graphicFrame>
          <p:nvGraphicFramePr>
            <p:cNvPr id="141" name=""/>
            <p:cNvGraphicFramePr/>
            <p:nvPr/>
          </p:nvGraphicFramePr>
          <p:xfrm>
            <a:off x="1293480" y="2060640"/>
            <a:ext cx="846000" cy="712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93480" y="2060640"/>
                      <a:ext cx="84600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"/>
            <p:cNvGraphicFramePr/>
            <p:nvPr/>
          </p:nvGraphicFramePr>
          <p:xfrm>
            <a:off x="1187280" y="2255760"/>
            <a:ext cx="846360" cy="712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87280" y="2255760"/>
                      <a:ext cx="84636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"/>
            <p:cNvGraphicFramePr/>
            <p:nvPr/>
          </p:nvGraphicFramePr>
          <p:xfrm>
            <a:off x="1398240" y="2255760"/>
            <a:ext cx="846000" cy="712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398240" y="2255760"/>
                      <a:ext cx="84600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"/>
          <p:cNvGrpSpPr/>
          <p:nvPr/>
        </p:nvGrpSpPr>
        <p:grpSpPr>
          <a:xfrm>
            <a:off x="1806480" y="3382920"/>
            <a:ext cx="1152360" cy="858600"/>
            <a:chOff x="1806480" y="3382920"/>
            <a:chExt cx="1152360" cy="858600"/>
          </a:xfrm>
        </p:grpSpPr>
        <p:graphicFrame>
          <p:nvGraphicFramePr>
            <p:cNvPr id="148" name=""/>
            <p:cNvGraphicFramePr/>
            <p:nvPr/>
          </p:nvGraphicFramePr>
          <p:xfrm>
            <a:off x="1953360" y="3382920"/>
            <a:ext cx="846720" cy="712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953360" y="3382920"/>
                      <a:ext cx="846720" cy="71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2111760" y="3529080"/>
            <a:ext cx="847080" cy="7124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111760" y="3529080"/>
                      <a:ext cx="847080" cy="71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"/>
            <p:cNvGraphicFramePr/>
            <p:nvPr/>
          </p:nvGraphicFramePr>
          <p:xfrm>
            <a:off x="1806480" y="3529080"/>
            <a:ext cx="846720" cy="71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806480" y="3529080"/>
                      <a:ext cx="846720" cy="71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4" name=""/>
          <p:cNvSpPr/>
          <p:nvPr/>
        </p:nvSpPr>
        <p:spPr>
          <a:xfrm>
            <a:off x="4356000" y="170028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UN/CEFACT Reg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3840" y="804960"/>
            <a:ext cx="7404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9d8ec"/>
                </a:solidFill>
                <a:latin typeface="Arial Black"/>
              </a:rPr>
              <a:t>Work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/CEFACT Registry Repo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0EB4-9996-4F36-87A8-3F3ABCBA5F9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D355D-DD7B-4326-8FD1-75EBFAD4D9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0720" y="1700280"/>
            <a:ext cx="84758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y is fundamental to the ongoing evolution of UN/CE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300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hicle for the registration, storage and publication of all UN/CEFACT delive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300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rage Internet based technologies and collaborative based work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support for federation with other compliant regist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74"/>
              </a:spcAft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Draft of Implementation Plan under revi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300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sideration of a phased implementation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300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simple, evolve over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74"/>
              </a:spcAft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Consideration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300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day, 24 hour, avail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300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access by some 500 UN/CEFACT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300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access by some 1000 users per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 of some 2000 plus artifacts per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58920" y="765000"/>
            <a:ext cx="7404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d9d8ec"/>
                </a:solidFill>
                <a:latin typeface="Arial Black"/>
              </a:rPr>
              <a:t>Implementation</a:t>
            </a:r>
            <a:br>
              <a:rPr sz="2400"/>
            </a:br>
            <a:r>
              <a:rPr b="0" lang="en-AU" sz="2400" spc="-1" strike="noStrike">
                <a:solidFill>
                  <a:srgbClr val="d9d8ec"/>
                </a:solidFill>
                <a:latin typeface="Arial Black"/>
              </a:rPr>
              <a:t>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/CEFACT Registry Re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91CD-B1FF-4A11-9199-9C492BB3E32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32C7C-F5F4-4DD0-95A5-8632022790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0720" y="1699920"/>
            <a:ext cx="84758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iv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0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395da5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ment of application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395da5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cludes hardw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nual Recur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395da5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ons / support / hot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ine &amp; Approve Implementa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implementation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y Development &amp; Operation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y Resource require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k UN/CEFACT Plenary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58920" y="765000"/>
            <a:ext cx="7404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1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d9d8ec"/>
                </a:solidFill>
                <a:latin typeface="Arial Black"/>
              </a:rPr>
              <a:t>Implementation</a:t>
            </a:r>
            <a:br>
              <a:rPr sz="2400"/>
            </a:br>
            <a:r>
              <a:rPr b="0" lang="en-AU" sz="2400" spc="-1" strike="noStrike">
                <a:solidFill>
                  <a:srgbClr val="d9d8ec"/>
                </a:solidFill>
                <a:latin typeface="Arial Black"/>
              </a:rPr>
              <a:t> Plan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/CEFACT Registry Re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2AFC-4E1F-4C9D-BF53-3036053396E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C7D9E-0870-4541-8802-9C53B4D8FB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cp:lastPrinted>1900-12-31T22:00:00Z</cp:lastPrinted>
  <dcterms:modified xsi:type="dcterms:W3CDTF">2007-05-15T07:13:30Z</dcterms:modified>
  <cp:revision>15</cp:revision>
  <dc:subject/>
  <dc:title>UN/CEFACT Registry</dc:title>
</cp:coreProperties>
</file>