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989CBF2C-DC99-4B6C-80BE-D98D76048E77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4280" y="3144960"/>
            <a:ext cx="9155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Draft Programme of Work 2008-20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-16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380880" y="9360"/>
          <a:ext cx="9033120" cy="6775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360"/>
                    <a:ext cx="9033120" cy="67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Regular budget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35120" y="1854360"/>
            <a:ext cx="7617960" cy="2858400"/>
            <a:chOff x="735120" y="1854360"/>
            <a:chExt cx="7617960" cy="2858400"/>
          </a:xfrm>
        </p:grpSpPr>
        <p:grpSp>
          <p:nvGrpSpPr>
            <p:cNvPr id="260" name=""/>
            <p:cNvGrpSpPr/>
            <p:nvPr/>
          </p:nvGrpSpPr>
          <p:grpSpPr>
            <a:xfrm>
              <a:off x="743760" y="1859400"/>
              <a:ext cx="7599240" cy="2846880"/>
              <a:chOff x="743760" y="1859400"/>
              <a:chExt cx="7599240" cy="284688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43760" y="1859400"/>
                <a:ext cx="2901240" cy="711360"/>
                <a:chOff x="743760" y="1859400"/>
                <a:chExt cx="2901240" cy="7113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871200" y="1859400"/>
                  <a:ext cx="26460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egular budg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43760" y="1859400"/>
                  <a:ext cx="29012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645360" y="1859400"/>
                <a:ext cx="4697640" cy="711360"/>
                <a:chOff x="3645360" y="1859400"/>
                <a:chExt cx="4697640" cy="711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772080" y="1859400"/>
                  <a:ext cx="444312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                       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8-0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645360" y="1859400"/>
                  <a:ext cx="46976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43760" y="2571120"/>
                <a:ext cx="2901240" cy="711360"/>
                <a:chOff x="743760" y="2571120"/>
                <a:chExt cx="2901240" cy="7113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871200" y="2571120"/>
                  <a:ext cx="26460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s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43760" y="2571120"/>
                  <a:ext cx="29012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645360" y="2571120"/>
                <a:ext cx="4697640" cy="711360"/>
                <a:chOff x="3645360" y="2571120"/>
                <a:chExt cx="4697640" cy="7113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772080" y="2571120"/>
                  <a:ext cx="444312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645360" y="2571120"/>
                  <a:ext cx="46976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3760" y="3282840"/>
                <a:ext cx="2901240" cy="711360"/>
                <a:chOff x="743760" y="3282840"/>
                <a:chExt cx="2901240" cy="7113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871200" y="3282840"/>
                  <a:ext cx="26460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nsultan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3760" y="3282840"/>
                  <a:ext cx="29012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645360" y="3282840"/>
                <a:ext cx="4697640" cy="711360"/>
                <a:chOff x="3645360" y="3282840"/>
                <a:chExt cx="4697640" cy="7113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772080" y="3282840"/>
                  <a:ext cx="444312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7.000 US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645360" y="3282840"/>
                  <a:ext cx="46976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43760" y="3994920"/>
                <a:ext cx="2901240" cy="711360"/>
                <a:chOff x="743760" y="3994920"/>
                <a:chExt cx="2901240" cy="7113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871200" y="3994920"/>
                  <a:ext cx="26460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rave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3760" y="3994920"/>
                  <a:ext cx="29012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645360" y="3994920"/>
                <a:ext cx="4697640" cy="711360"/>
                <a:chOff x="3645360" y="3994920"/>
                <a:chExt cx="4697640" cy="711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772080" y="3994920"/>
                  <a:ext cx="444312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.000 US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645360" y="3994920"/>
                  <a:ext cx="46976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735120" y="1854360"/>
              <a:ext cx="7617960" cy="2858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88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315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74600" y="1289160"/>
            <a:ext cx="7437240" cy="4539960"/>
            <a:chOff x="1074600" y="1289160"/>
            <a:chExt cx="7437240" cy="4539960"/>
          </a:xfrm>
        </p:grpSpPr>
        <p:grpSp>
          <p:nvGrpSpPr>
            <p:cNvPr id="168" name=""/>
            <p:cNvGrpSpPr/>
            <p:nvPr/>
          </p:nvGrpSpPr>
          <p:grpSpPr>
            <a:xfrm>
              <a:off x="1082160" y="1294560"/>
              <a:ext cx="7420680" cy="4528440"/>
              <a:chOff x="1082160" y="1294560"/>
              <a:chExt cx="7420680" cy="45284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082160" y="1294560"/>
                <a:ext cx="2642760" cy="754200"/>
                <a:chOff x="1082160" y="1294560"/>
                <a:chExt cx="2642760" cy="7542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123560" y="129456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U country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ustoms Syste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lectronic messages (2006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82160" y="129456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725280" y="1294560"/>
                <a:ext cx="1626480" cy="754200"/>
                <a:chOff x="3725280" y="1294560"/>
                <a:chExt cx="1626480" cy="754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66320" y="129456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725280" y="129456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352120" y="1294560"/>
                <a:ext cx="1824120" cy="754200"/>
                <a:chOff x="5352120" y="1294560"/>
                <a:chExt cx="1824120" cy="754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93520" y="129456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Ou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352120" y="129456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176960" y="1294560"/>
                <a:ext cx="1325880" cy="754200"/>
                <a:chOff x="7176960" y="1294560"/>
                <a:chExt cx="1325880" cy="754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218000" y="129456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176960" y="129456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082160" y="2049120"/>
                <a:ext cx="2642760" cy="754200"/>
                <a:chOff x="1082160" y="2049120"/>
                <a:chExt cx="2642760" cy="7542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123560" y="204912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Import declar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82160" y="204912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725280" y="2049120"/>
                <a:ext cx="1626480" cy="754200"/>
                <a:chOff x="3725280" y="2049120"/>
                <a:chExt cx="1626480" cy="7542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766320" y="204912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.035.34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725280" y="204912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352120" y="2049120"/>
                <a:ext cx="1824120" cy="754200"/>
                <a:chOff x="5352120" y="2049120"/>
                <a:chExt cx="1824120" cy="7542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393520" y="204912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.151.2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52120" y="204912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7176960" y="2049120"/>
                <a:ext cx="1325880" cy="754200"/>
                <a:chOff x="7176960" y="2049120"/>
                <a:chExt cx="1325880" cy="7542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7218000" y="204912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7.186.5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176960" y="204912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082160" y="2804040"/>
                <a:ext cx="2642760" cy="754200"/>
                <a:chOff x="1082160" y="2804040"/>
                <a:chExt cx="2642760" cy="754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123560" y="280404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xport declar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082160" y="280404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725280" y="2804040"/>
                <a:ext cx="1626480" cy="754200"/>
                <a:chOff x="3725280" y="2804040"/>
                <a:chExt cx="1626480" cy="7542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766320" y="280404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.977.9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25280" y="280404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352120" y="2804040"/>
                <a:ext cx="1824120" cy="754200"/>
                <a:chOff x="5352120" y="2804040"/>
                <a:chExt cx="1824120" cy="7542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393520" y="280404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.580.07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52120" y="280404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7176960" y="2804040"/>
                <a:ext cx="1325880" cy="754200"/>
                <a:chOff x="7176960" y="2804040"/>
                <a:chExt cx="1325880" cy="754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218000" y="280404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7.558.0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176960" y="280404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82160" y="3558600"/>
                <a:ext cx="2642760" cy="754200"/>
                <a:chOff x="1082160" y="3558600"/>
                <a:chExt cx="2642760" cy="7542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123560" y="355860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argo Report Import (CRI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82160" y="355860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725280" y="3558600"/>
                <a:ext cx="1626480" cy="754200"/>
                <a:chOff x="3725280" y="3558600"/>
                <a:chExt cx="1626480" cy="7542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766320" y="355860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50.8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25280" y="355860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352120" y="3558600"/>
                <a:ext cx="1824120" cy="754200"/>
                <a:chOff x="5352120" y="3558600"/>
                <a:chExt cx="1824120" cy="7542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393520" y="355860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54.2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52120" y="355860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176960" y="3558600"/>
                <a:ext cx="1325880" cy="754200"/>
                <a:chOff x="7176960" y="3558600"/>
                <a:chExt cx="1325880" cy="7542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218000" y="355860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05.0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176960" y="355860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082160" y="4313520"/>
                <a:ext cx="2642760" cy="754560"/>
                <a:chOff x="1082160" y="4313520"/>
                <a:chExt cx="2642760" cy="7545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123560" y="4313520"/>
                  <a:ext cx="255924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NCTS (Transi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082160" y="4313520"/>
                  <a:ext cx="264276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725280" y="4313520"/>
                <a:ext cx="1626480" cy="754560"/>
                <a:chOff x="3725280" y="4313520"/>
                <a:chExt cx="1626480" cy="7545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766320" y="4313520"/>
                  <a:ext cx="154404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5.978.8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25280" y="4313520"/>
                  <a:ext cx="162648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352120" y="4313520"/>
                <a:ext cx="1824120" cy="754560"/>
                <a:chOff x="5352120" y="4313520"/>
                <a:chExt cx="1824120" cy="754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393520" y="4313520"/>
                  <a:ext cx="174060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1.533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352120" y="4313520"/>
                  <a:ext cx="182412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176960" y="4313520"/>
                <a:ext cx="1325880" cy="754560"/>
                <a:chOff x="7176960" y="4313520"/>
                <a:chExt cx="1325880" cy="7545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7218000" y="4313520"/>
                  <a:ext cx="124344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7.512.5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76960" y="4313520"/>
                  <a:ext cx="132588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082160" y="5068800"/>
                <a:ext cx="2642760" cy="754200"/>
                <a:chOff x="1082160" y="5068800"/>
                <a:chExt cx="2642760" cy="7542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123560" y="506880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082160" y="506880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725280" y="5068800"/>
                <a:ext cx="1626480" cy="754200"/>
                <a:chOff x="3725280" y="5068800"/>
                <a:chExt cx="1626480" cy="75420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766320" y="506880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2.143.0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725280" y="506880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52120" y="5068800"/>
                <a:ext cx="1824120" cy="754200"/>
                <a:chOff x="5352120" y="5068800"/>
                <a:chExt cx="1824120" cy="7542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393520" y="506880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0.419.17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352120" y="506880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176960" y="5068800"/>
                <a:ext cx="1325880" cy="754200"/>
                <a:chOff x="7176960" y="5068800"/>
                <a:chExt cx="1325880" cy="754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218000" y="506880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Arial"/>
                      <a:ea typeface="Times New Roman"/>
                    </a:rPr>
                    <a:t>32.562.17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176960" y="506880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1074600" y="1289160"/>
              <a:ext cx="7437240" cy="4539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49000" y="2247480"/>
            <a:ext cx="888372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Today average clearance times vary between two  days (European Union and United States) and eight days (Eastern Europe, Middle Eats and Africa)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t is estimated that even a modest 10% increase in the efficiency of the clearance processes would decrease costs for a company by 10.5 million EURO per day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average customs declaration costs in a European country is 31 EUR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Expect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28200" y="2520720"/>
            <a:ext cx="88837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87"/>
              </a:spcBef>
              <a:spcAft>
                <a:spcPts val="349"/>
              </a:spcAft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, effective, transparent processes for international trade</a:t>
            </a: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so that the activities between the buyer, seller and relevant authorities are more efficient, cost-effective and supportive of automation.</a:t>
            </a:r>
            <a:br>
              <a:rPr sz="19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32960" y="156852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87"/>
              </a:spcBef>
              <a:spcAft>
                <a:spcPts val="349"/>
              </a:spcAft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 Centre develops and maintains instruments:</a:t>
            </a:r>
            <a:br>
              <a:rPr sz="1900"/>
            </a:b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- that are open and technology neutral </a:t>
            </a:r>
            <a:br>
              <a:rPr sz="1900"/>
            </a:b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- have global remit </a:t>
            </a:r>
            <a:br>
              <a:rPr sz="1900"/>
            </a:b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- are open to the participation of any business or</a:t>
            </a: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  government</a:t>
            </a:r>
            <a:br>
              <a:rPr sz="1900"/>
            </a:b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- will cater to the needs of large or small companies and of developed and developing countries alike</a:t>
            </a:r>
            <a:endParaRPr b="0" lang="en-US" sz="19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Main areas of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28200" y="18032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Key work area 1: Facilitating national and international trading and business transactions and working towards the elimination of constraint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Key work area 2: Engaging in open dialogue to achieve improved coordination and cooperation 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Key work area 3: Improving the ability of business, trade and administrative organizations to exchange products and relevant services effectively 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ut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28200" y="12938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Meetings 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6 meetings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6 Meetings of the MoU on Electronic Business and the GFP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Documentation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2 agendas of the Centre for Trade Facilitation and Electronic Business 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12 reports of the Centre, the Forum, the Bureau and selected topics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Recurrent publication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UN/EDIFACT Directories, Internet publication, 2 issues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Standards and Recommendations for Trade and Electronic Business, Internet publication, 1 issue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UN/LOCODE) Internet publication, 2 issues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CCL, Internet publication, 2 issues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UN/CEFACT Schema Library, Internet publication, 1 issue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Core Component to UN/EDIFACT mappings and MIGs, Internet publication, 1 issue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BRS Library, Internet publication, 2 issues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ut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28200" y="12938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Non-recurrent publications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UNeDocs publications and web services 1 issue each year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mmendations 34 (Single Window Interoperability)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mmendation 35 (A Legal Framework for Single Windows).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Electronic invoicing Annex to UN/CEFACT Recommendation 6: Aligned Invoice Layout Key for International Trade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vision of UN/CEFACT Recommendation 11: Documentary Aspects of the Transport of Dangerous Goods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UN/CEFACT Guide to Trade Facilitation Implementation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Revised base line study on the implementation of UN/CEFACT products and services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vision of the Unified Modeling Methodology Specification, Internet publ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vision of the UN/CEFACT Core Component Technical Specif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Context Methodology Technical Specif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source-Event-Agent Unified Modeling Methodology Economic Ontology Specialization Technical Specification, Internet pbl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Electronic business Architecture Vision Document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Message Assembly Technical Specification, Internet publ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dure for Core Components modification rules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dure for Requirements Specifications Mapping (RSM) validation rules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dure for the Data Maintenance Request Process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Unified Business Agreements and Contracts Technical Specification, Internet publication, 1 issue in 2009 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Verdana"/>
                <a:ea typeface="Times New Roman"/>
              </a:rPr>
              <a:t>etc.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ut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28200" y="12938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eminars/Forums 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1 joint workshop between WCO and UN/CEFACT on the Cross-Border Reference Data Model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6 workshops to promote the UN/CEFACT Guide to trade Facilitation Implementation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1 workshop for national trade facilitation organizations in transition economies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ooklets, pamphlets, fact sheets, wall charts, information kits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UN/CEFACT Quarterly Reports, 4 issues in 2008, 4 issues in 2009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Information brochure on UN/CEFACT products and services, 1 issue in 2009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ress releases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55 press releases to be issued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Technical Material for Outside Users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Maintenance of the Internet World Wide Web (WWW) of documents and other information on the activities and work 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WebServices on the Internet for the UN/CEFACT Registry (XB), 2009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Kubler</cp:lastModifiedBy>
  <cp:lastPrinted>2001-03-15T16:33:27Z</cp:lastPrinted>
  <dcterms:modified xsi:type="dcterms:W3CDTF">2007-05-11T14:24:03Z</dcterms:modified>
  <cp:revision>328</cp:revision>
  <dc:subject/>
  <dc:title>UN/CEAFACT Bureau report to 8th Forum</dc:title>
</cp:coreProperties>
</file>