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F80-4007-4753-B89E-6795E792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040-9652-473A-AFCD-20ED5361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BA6-F3D0-485B-8D09-C7723B91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3CD-7021-4DFD-9963-60E7171C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175-DE0F-4062-82B6-570A7541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E46-364A-4840-9036-5F61D08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B44C-F5BD-4788-85A3-1198685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6BD-AA5D-4E15-B9E0-07BCCF9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C6AB-B12B-4250-A8B1-CE756A0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DD1E-FF3A-482A-8DDF-95EB6104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A7B-9162-4451-B1DF-6BBB4B7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137-F486-45C3-AF77-8E4AB33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1C4-0E63-4C52-8C6C-CA5D116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E94A-27E1-43E4-9F7D-3D132B0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1A9-C624-4012-B8A4-9B85F39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320-C54F-4483-89D2-01864AD7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1B4-F605-4075-96D2-DE36A6B8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CEA-1D5B-4705-9E15-DBFD0CE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9EA-820D-4B8F-8673-586534C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FDA-9D3D-4E05-9A42-6873DFE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16A-9435-4FFD-BC0A-AA9F9F69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016-0FB6-49CA-84ED-A850AFE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423-CEBF-43B7-9897-F52FB06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3B0-7C48-45E5-B0AC-35EF2997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May 15, 2007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1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 Session of UN/CEFACT Plenar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055-C3EB-4647-A96E-39A900DCEC6B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act2007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13th UN/CEFACT Plena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Geneva, 14-16 May 2007</a:t>
            </a:r>
            <a:endParaRPr b="0" lang="en-US" sz="24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798984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port on the Development in Asia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ngwon 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/CEFACT Rapporteur for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Observations &amp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Recommenda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ynamism i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Keen interest on the development of paperless trading &amp; e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lso active in the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Harmonization is still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Capacity Building Is Needed, But in a Coordinat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pport from UN/CEFACT on Capacity Building activities of the regional bodies with prac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hancement of UN/CEFACT Efforts on Phased Development Capacity of Paperless Trading Instruments (SW, UNeDoc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oser Collaboration between UN/CEFACT and AFACT at the Working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63640" y="171756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To be Repo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36800" y="2637000"/>
            <a:ext cx="5348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A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Regiona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ogress in Inter-regiona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bservations &amp;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6320" y="2492280"/>
            <a:ext cx="550404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AF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ia Pacific Council for Trade Facilitation &amp; Electronic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OCOM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Karachi, Pakistan on Aug. 7-10, 2006 with 10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fghanistan joined as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ed for the development of AFACT Roadmap re-affi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Iran and Philippines elected as StC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FACT JWGs focused their discussions on such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sues as Single Window, UNeDocs, Electronic Certificat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rig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hailand to host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&amp; EDICOM as well as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ia Award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EDICOM 2006 on Aug. 10: UNeDocs Single Window for Pape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AFACT (Cont’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7 AFACT StC Mid-ter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huket, Thailand on April 26 &amp; 27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Extensive discussion on the development of AFACT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lanning on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, EDICOM 2007 and  e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ward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Discussion on collaboration with UNESCAP, APEC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Presence of UNeDocs project leaders in T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all for strengthening of collaboration between WGs of AFAC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lan for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July 29 - Aug. 3 in Bangkok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eAsia Award final evaluation and Ceremon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ea typeface="굴림"/>
                <a:hlinkClick r:id="rId1"/>
              </a:rPr>
              <a:t>www.afact2007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FACT Meeting: Korea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7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Regional Bod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C (eBusiness Asia Committ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2006 meetings: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May, Tokyo Japan) &amp;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Nov. Seoul Ko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ITG: ebMS 3.0 issues and Web Services Relia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CTG: eLogistics with focus on U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Scheduled to hold its meeting during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FAC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A (Pan Asian e-commerce All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ontinues its meetings and efforts for data exchange among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Electronic Certificate of Origin between KTNET and Trade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ir Way Bills and other commerci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Inter-regional Bod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SEM e-Commerce Seminar &amp; TFAP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ov. 2-3, 2006 in China with 200 participants from 1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“Basic Guideline for Paperless Trade in AS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EAL (Asia Europe Alliance for Paperless T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Cross regional alliance among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eeting: Jan. 9-11, 2007 in France with 11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w member: DagangNet of Malay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Observers: Luxembourg, Morocco, Senegal, Spain, Thailand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EC (Asia Pacific Economic Co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wo APEC fora in close relevance (ECSG and SC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CSG (Electronic Commerce Steering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Sep. 2006, Vietnam) &amp;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Jan. 2007, Australia)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APEC Symposium on Paperless Business Trans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Work on e-Invoicing, Electronic Certificate of Origi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Joint Capacity Building Symposium on Paperless Trading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Single Window Initiative launched and SWWG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Deliverables: APEC Single Window Strategic Plan &amp;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UN/CEFACT presence by one of Vice-chairs (Kick-off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h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굴림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eDocs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New Delhi on Oct. 3, 2007 (in conjunction with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N/CEFACT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argeted for Asian countries, especially India and South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echnical session on UNeDocs modedling practice (Oc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5 recommendation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ESCAP Workshop on UNeDocs for SPECA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Bangkok, Thailand on April 23 &amp; 2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 TBG2 presence for present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standard</cp:lastModifiedBy>
  <dcterms:modified xsi:type="dcterms:W3CDTF">2007-05-14T08:35:19Z</dcterms:modified>
  <cp:revision>12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