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5FE-E16C-45B9-B708-E635256C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3EA-ACC4-4170-BC02-C27BC5A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A87-9C9A-42D4-9AF0-0CD28750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F97-0248-45AD-AE17-EF42901E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9B1-1EB4-4D11-86CF-16934839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7DD0-C864-45AE-B08A-198BA73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E6B9-33AB-4482-BBC0-CF23FCA9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2E1A-1D2A-4484-96CB-FD9D126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FF4-DFC4-4B6F-AB2A-96B448D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E17-0059-4A51-85CF-74951DCB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EF44-0E1D-456D-ACF4-E200D12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731-FF30-4F7C-AA0B-0E4C024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1A23-8BB0-4904-B882-89A4D88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37A-82E0-4780-8FBE-EAE6D71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27EF-1215-4E51-83D3-05E1F4D4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F750-5E8A-427F-B67F-3D394373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598-539C-471C-9539-AF832FF2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6D3-3A71-4768-96B6-9E19572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FDE-355C-477E-8625-DCED0BA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E1C-7D7B-4F45-BAB9-BAF526A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919-6681-4A15-A45F-77B78A77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2D2-39E3-43EE-B857-3F579E3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BBD-AF80-494F-A8AF-F71CB5A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F82-71B4-458A-8E7E-852C436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May 15, 2007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1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 Session of UN/CEFACT Plenar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935-9C7D-4823-846B-FF0BF2D16974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act2007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13th UN/CEFACT Plena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Geneva, 14-16 May 2007</a:t>
            </a:r>
            <a:endParaRPr b="0" lang="en-US" sz="24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7989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port on the Development in Asia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ngwon 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/CEFACT Rapporteur for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Observations &amp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Recommenda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ynamism i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Keen interest on the development of paperless trading &amp; e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lso active in the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Harmonization is still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Capacity Building Is Needed, But in a Coordinat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pport from UN/CEFACT on Capacity Building activities of the regional bodies with prac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hancement of UN/CEFACT Efforts on Phased Development Capacity of Paperless Trading Instruments (SW, UNeDoc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oser Collaboration between UN/CEFACT and AFACT at the Working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63640" y="171756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To be Repo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36800" y="2637000"/>
            <a:ext cx="5348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A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Regiona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Inter-regiona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bservations &amp;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6320" y="2492280"/>
            <a:ext cx="550404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AF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ia Pacific Council for Trade Facilitation &amp; Electronic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OCOM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Karachi, Pakistan on Aug. 7-10, 2006 with 10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fghanistan joined as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ed for the development of AFACT Roadmap re-affi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Iran and Philippines elected as StC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FACT JWGs focused their discussions on such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sues as Single Window, UNeDocs, Electronic Certificat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rig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hailand to host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ICOM as well as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ia Award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EDICOM 2006 on Aug. 10: UNeDocs Single Window for Pape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AFACT (Cont’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7 AFACT StC Mid-ter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huket, Thailand on April 26 &amp; 27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xtensive discussion on the development of AFACT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anning on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, EDICOM 2007 and  e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ward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iscussion on collaboration with UNESCAP, APEC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resence of UNeDocs project leaders in T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all for strengthening of collaboration between WGs of AFAC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lan for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July 29 - Aug. 3 in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Asia Award final evaluation and Ceremon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ea typeface="굴림"/>
                <a:hlinkClick r:id="rId1"/>
              </a:rPr>
              <a:t>www.afact2007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: Korea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7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Regional Bod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C (eBusiness Asia Committ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2006 meetings: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May, Tokyo Japan) &amp;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Nov. Seoul Ko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ITG: ebMS 3.0 issues and Web Services Relia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CTG: eLogistics with focus on U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Scheduled to hold its meeting during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A (Pan Asian e-commerce All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ontinues its meetings and efforts for data exchange among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Electronic Certificate of Origin between KTNET and Trade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ir Way Bills and other commerci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Inter-regional Bod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SEM e-Commerce Seminar &amp; TFAP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ov. 2-3, 2006 in China with 200 participants from 1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“Basic Guideline for Paperless Trade in AS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EAL (Asia Europe Alliance for Paperless T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ross regional alliance among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eeting: Jan. 9-11, 2007 in France with 11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w member: DagangNet of Malay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Observers: Luxembourg, Morocco, Senegal, Spain, Thailand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EC (Asia Pacific Economic Co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wo APEC fora in close relevance (ECSG and SC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CSG (Electronic Commerce Steering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Sep. 2006, Vietnam) &amp;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Jan. 2007, Australia)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PEC Symposium on Paperless Business Trans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Work on e-Invoicing, Electronic Certificate of Origi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Joint Capacity Building Symposium on Paperless Trading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Single Window Initiative launched and SWWG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Deliverables: APEC Single Window Strategic Plan &amp;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UN/CEFACT presence by one of Vice-chairs (Kick-off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h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eDocs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w Delhi on Oct. 3, 2007 (in conjunction with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N/CEFACT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argeted for Asian countries, especially India and South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echnical session on UNeDocs modedling practice (Oc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5 recommendation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ESCAP Workshop on UNeDocs for SPECA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Bangkok, Thailand on April 23 &amp; 2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BG2 presence for present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standard</cp:lastModifiedBy>
  <dcterms:modified xsi:type="dcterms:W3CDTF">2007-05-14T08:35:19Z</dcterms:modified>
  <cp:revision>12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