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1C1-D200-4C10-A55A-73EF5147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86E7-8832-4C8B-9A1B-90FACD36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C394-779D-4488-A910-ECFE3B4F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5E71-B007-4FAF-9998-24DA7EAA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697E-DDB2-41EC-A7B4-C8196DDB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4E43-B393-4B1E-BE92-E5B51919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C542-7441-4BAB-977A-FD19C7CE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33A7-16F4-4D98-A772-BA70B900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6D05-CB2C-454D-83D6-4417459D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0626-635A-438E-B440-3AC7597F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153C-E506-45C2-AD8C-F6FAF9B8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EA5-7E17-4B2C-BE73-6835295D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359C-4749-4A56-ADDC-CCEDB21F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DB5C-E03C-4FE2-8507-DD6046DE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743C-8042-4BD6-ABDB-28653D83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7403-ED4D-41EF-8B6F-53A154D6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EBF8-926F-4DA1-9D23-6D73CD03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01F3-6C9E-4D3B-9FF8-FB16C65F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43C2-00E3-435F-8073-DB03DF57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218F-6EF2-436D-9EFC-0379F420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FEE8-0769-4AE5-A857-59940C85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E3B-6035-4787-8B63-54C7975A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D53-5B00-4741-9317-2C2E9BD4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B5E-FB7A-4FF7-B0A7-B9A651A2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ottom Lin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7F71-42B4-4D95-8DAF-E0489A3F79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e/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ottom-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4488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d8e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395da5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 Black"/>
              </a:rPr>
              <a:t>Report of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Arial Black"/>
              </a:rPr>
              <a:t>rapporteur of Africa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brahima Nour Eddine DI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Black"/>
              </a:rPr>
              <a:t>Activ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C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ganization of a workshop to launch African initiative for IT, Trade and growth (Addis march 2006)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ole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icipation of 5 African countries: Ghana, Cameroon, Senegal, Morocco, Mauritius. (May 200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EAP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st Africa regional study on trade facilitation with a specific emphasis on single window (July 2006)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st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EDC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ganization of a regional workshop on Trade Facilitation (September 2006)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entral and West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Black"/>
              </a:rPr>
              <a:t>Activ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EHUB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workshop on trade facilitation (September 2006)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uth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MAES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unication on Trade facilitation and single window.(Novembre 2006)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st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E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negal and Morocco admitted as observers (January 200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Black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policy makers to consider TF as a necessity not only an opportu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more intensive participation of African experts in trade facilitation mee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regional pilot projects integrating CEFACT recommendations and standards among African countries and with countries from other reg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Black"/>
              </a:rPr>
              <a:t>Recommanda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a regional alliance of SW operators to promote TF, share experiences, build a local solid expertise and contribute significantly to standard elabo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donors and specialized organizations involved in trade facilitation to support pilot projects among members of the alli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4:41:44Z</dcterms:created>
  <dc:creator>D029024</dc:creator>
  <dc:description/>
  <dc:language>en-US</dc:language>
  <cp:lastModifiedBy>Ibrahima DIAGNE</cp:lastModifiedBy>
  <dcterms:modified xsi:type="dcterms:W3CDTF">2007-05-15T08:53:40Z</dcterms:modified>
  <cp:revision>29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