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3F3-F28A-4AEE-8845-4B4D725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1F5-DF18-45E1-B4B1-64BDC86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804-478A-430E-AB0A-3A767304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458-2FFC-4051-B4C3-2A877D24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2DC3-D7CC-4424-B22B-F4358F7B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98B-BA33-4C14-A6AA-D30F458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AC12-C69D-4164-A2F4-57AED5D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DD0D-0081-4437-972C-30334E3C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424C-AC03-43DE-938A-3C89AE5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87E-7D2B-47C2-9ED2-D7794B7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49C4-EF10-41A1-A3A9-543F7A8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328-DF52-4EDB-825C-ED0EE4C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22AA-DD18-46D2-BB65-9F7EED5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42C4-1AC1-408D-9197-52AB956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EED-C16A-4CB8-A8AA-AE79F88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EA5-3366-438B-A28D-64BF99A2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D5D2-A74E-4743-82E8-6A91F30D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C91-CFD6-4C5F-A2F2-BCBCEAF2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829-7530-49F6-BE20-0D92B109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4F7-B5C4-4FDC-999B-F441DE22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4DA-D5BF-4AAC-84B1-95A00CF1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114-C4D7-48B5-B875-DE40FF4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C46-6DE4-40A3-A2E7-F71A302F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823-E3E4-45F4-AE06-144616E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A3B4-7ED8-4D5E-A073-0533522310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eport of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 Black"/>
              </a:rPr>
              <a:t>rapporteur of Africa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brahima Nour Eddine DI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ization of a workshop to launch African initiative for IT, Trade and growth (Addis march 2006)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ole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ipation of 5 African countries: Ghana, Cameroon, Senegal, Morocco, Mauritius. (May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EA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st Africa regional study on trade facilitation with a specific emphasis on single window (July 2006)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s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ED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ization of a regional workshop on Trade Facilitation (September 2006)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al and Wes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HUB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workshop on trade facilitation (September 2006)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AES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nication on Trade facilitation and single window.(Novembre 2006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E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egal and Morocco admitted as observers (January 200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policy makers to consider TF as a necessity not only an opport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more intensive participation of African experts in trade facilitation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regional pilot projects integrating CEFACT recommendations and standards among African countries and with countries from other reg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Black"/>
              </a:rPr>
              <a:t>Recomma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regional alliance of SW operators to promote TF, share experiences, build a local solid expertise and contribute significantly to standard elab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donors and specialized organizations involved in trade facilitation to support pilot projects among members of the alli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Ibrahima DIAGNE</cp:lastModifiedBy>
  <dcterms:modified xsi:type="dcterms:W3CDTF">2007-05-15T08:53:40Z</dcterms:modified>
  <cp:revision>2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