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A51EE5FA-A0AB-4663-AF6E-C7D1121388EA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4280" y="3144960"/>
            <a:ext cx="9155160" cy="15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ecretariat Servic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FuturaBookTBWA"/>
              </a:rPr>
              <a:t>14-16 Ma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68640" y="602136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572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552600"/>
            <a:ext cx="1733040" cy="1294920"/>
            <a:chOff x="4040280" y="552600"/>
            <a:chExt cx="1733040" cy="1294920"/>
          </a:xfrm>
        </p:grpSpPr>
        <p:sp>
          <p:nvSpPr>
            <p:cNvPr id="125" name=""/>
            <p:cNvSpPr/>
            <p:nvPr/>
          </p:nvSpPr>
          <p:spPr>
            <a:xfrm>
              <a:off x="4237920" y="552600"/>
              <a:ext cx="19800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02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77320" y="55260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94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3000" y="142920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8800" y="69948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58440" y="91944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74640" y="134424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3120" y="73044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1080" y="82836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80320" y="74520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31400" y="111996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87680" y="98568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4200" y="109764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6120" y="115776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9920" y="93168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0680" y="137304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99520" y="99792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36920" y="109152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9800" y="109152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3200" y="127800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953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155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36920" y="1690200"/>
              <a:ext cx="113436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760" y="593640"/>
              <a:ext cx="111132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2520" y="89460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046760" y="610560"/>
              <a:ext cx="1714320" cy="1093320"/>
              <a:chOff x="4046760" y="61056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046760" y="93348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14520" y="1430640"/>
                <a:ext cx="40248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65600" y="93348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13680" y="128124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14520" y="62244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32040" y="63108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58600" y="709560"/>
                <a:ext cx="88776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68760" y="804960"/>
                <a:ext cx="66492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02840" y="61056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117400" y="129852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720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7200" y="1163880"/>
              <a:ext cx="31752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032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17560" y="2135160"/>
            <a:ext cx="84200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Based on a plan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agreed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by the Bureau and the Secretari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3040" y="1446120"/>
            <a:ext cx="888372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Ensure the quality of services provided to the Centre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Allocate available resources in line with the priorities set by the Plenary and the Bureau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rovide a framework for the accountability of the secretari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Identify resource gap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23960" y="26676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Allocation of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28200" y="1173240"/>
            <a:ext cx="888372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The Chief of the Section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Overall responsibility for coordinating with               the Bureau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 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A </a:t>
            </a:r>
            <a:r>
              <a:rPr b="0" i="1" lang="en-GB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UN/CEFACT Plenary Group Support Team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eaded by the Secretary to UN/CEFACT (P4 level post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upports the UN/CEFACT Bureau and promotes UN/CEFACT’s work, particularly in EECA countri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0" algn="just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23960" y="20016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Allocation of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1160" y="789120"/>
            <a:ext cx="9264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 algn="just">
              <a:lnSpc>
                <a:spcPct val="90000"/>
              </a:lnSpc>
              <a:spcBef>
                <a:spcPts val="2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FuturaBookTBWA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 </a:t>
            </a:r>
            <a:r>
              <a:rPr b="0" i="1" lang="en-GB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A Process Support Team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eaded by a Team Leader (P4 level post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upport to UN/CEFACT Forum Management Group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cludes one Support Staff (P2 level post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BookTBWA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A </a:t>
            </a:r>
            <a:r>
              <a:rPr b="0" i="1" lang="en-GB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ore Standards Support Team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eaded by a Team Leader (P4 level post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upport to the electronic business standards development within UN/CEFACT and the cross-domain project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cludes  a Technical Expert (P3) and                       two “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ssociate Programmers”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(at P2 level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ignificant Chang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in Basis for Allo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34760" y="1539720"/>
            <a:ext cx="888372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876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Resources are allocated for the: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 algn="just">
              <a:lnSpc>
                <a:spcPct val="100000"/>
              </a:lnSpc>
              <a:spcBef>
                <a:spcPts val="876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lenary, Bureau, FMG, TBG Steering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 algn="just">
              <a:lnSpc>
                <a:spcPct val="100000"/>
              </a:lnSpc>
              <a:spcBef>
                <a:spcPts val="275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o ensure adequate management of the proces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 algn="just">
              <a:lnSpc>
                <a:spcPct val="100000"/>
              </a:lnSpc>
              <a:spcBef>
                <a:spcPts val="876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ll other resources are allocated by: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 algn="just">
              <a:lnSpc>
                <a:spcPct val="100000"/>
              </a:lnSpc>
              <a:spcBef>
                <a:spcPts val="876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 u="sng">
                <a:solidFill>
                  <a:srgbClr val="ffffff"/>
                </a:solidFill>
                <a:uFillTx/>
                <a:latin typeface="Verdana"/>
                <a:ea typeface="ＭＳ Ｐゴシック"/>
              </a:rPr>
              <a:t>project</a:t>
            </a:r>
            <a:r>
              <a:rPr b="0" lang="fr-CH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and </a:t>
            </a:r>
            <a:r>
              <a:rPr b="1" lang="fr-CH" sz="2800" spc="-1" strike="noStrike" u="sng">
                <a:solidFill>
                  <a:srgbClr val="ffffff"/>
                </a:solidFill>
                <a:uFillTx/>
                <a:latin typeface="Verdana"/>
                <a:ea typeface="ＭＳ Ｐゴシック"/>
              </a:rPr>
              <a:t>not</a:t>
            </a:r>
            <a:r>
              <a:rPr b="0" lang="fr-CH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by group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 algn="just">
              <a:lnSpc>
                <a:spcPct val="100000"/>
              </a:lnSpc>
              <a:spcBef>
                <a:spcPts val="275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o ensure that work programme priorities are me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0" algn="just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0160" y="584280"/>
            <a:ext cx="842004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THE SECRETARIA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I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YOUR PART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57760" y="3311640"/>
            <a:ext cx="45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BD04972_" descr=""/>
          <p:cNvPicPr/>
          <p:nvPr/>
        </p:nvPicPr>
        <p:blipFill>
          <a:blip r:embed="rId1"/>
          <a:stretch/>
        </p:blipFill>
        <p:spPr>
          <a:xfrm>
            <a:off x="2646360" y="2608200"/>
            <a:ext cx="50436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180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07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Cram</cp:lastModifiedBy>
  <cp:lastPrinted>2001-03-15T16:33:27Z</cp:lastPrinted>
  <dcterms:modified xsi:type="dcterms:W3CDTF">2007-05-14T08:02:30Z</dcterms:modified>
  <cp:revision>320</cp:revision>
  <dc:subject/>
  <dc:title>UN/CEAFACT Bureau report to 8th Forum</dc:title>
</cp:coreProperties>
</file>