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1F0069E7-42CC-45A7-8910-E42C87DCAD9A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4280" y="3144960"/>
            <a:ext cx="9155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ecretariat Servic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-16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7560" y="2135160"/>
            <a:ext cx="8420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Based on a pla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gree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by the Bureau and the Secretari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3040" y="144612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sure the quality of services provided to the Centr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llocate available resources in line with the priorities set by the Plenary and the Bureau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vide a framework for the accountability of the secretari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dentify resource gap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23960" y="2667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llocation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28200" y="11732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he Chief of the Sectio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verall responsibility for coordinating with               the Bureau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 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 </a:t>
            </a: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UN/CEFACT Plenary Group Support Team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ed by the Secretary to UN/CEFACT (P4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pports the UN/CEFACT Bureau and promotes UN/CEFACT’s work, particularly in EECA countr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23960" y="20016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llocation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1160" y="789120"/>
            <a:ext cx="9264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 algn="just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 </a:t>
            </a: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 Process Support Team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ed by a Team Leader (P4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pport to UN/CEFACT Forum Management Group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cludes one Support Staff (P2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 </a:t>
            </a: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ore Standards Support Team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ed by a Team Leader (P4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pport to the electronic business standards development within UN/CEFACT and the cross-domain projec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cludes  a Technical Expert (P3) and                       two “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ssociate Programmers”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(at P2 level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ignificant Chang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n Basis for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34760" y="153972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esources are allocated for the: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lenary, Bureau, FMG, TBG Steer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o ensure adequate management of the proces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ll other resources are allocated by: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ffffff"/>
                </a:solidFill>
                <a:uFillTx/>
                <a:latin typeface="Verdana"/>
                <a:ea typeface="ＭＳ Ｐゴシック"/>
              </a:rPr>
              <a:t>project</a:t>
            </a: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and </a:t>
            </a:r>
            <a:r>
              <a:rPr b="1" lang="fr-CH" sz="2800" spc="-1" strike="noStrike" u="sng">
                <a:solidFill>
                  <a:srgbClr val="ffffff"/>
                </a:solidFill>
                <a:uFillTx/>
                <a:latin typeface="Verdana"/>
                <a:ea typeface="ＭＳ Ｐゴシック"/>
              </a:rPr>
              <a:t>not</a:t>
            </a: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by group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o ensure that work programme priorities are me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0160" y="584280"/>
            <a:ext cx="84200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HE SECRETARIA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57760" y="3311640"/>
            <a:ext cx="45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BD04972_" descr=""/>
          <p:cNvPicPr/>
          <p:nvPr/>
        </p:nvPicPr>
        <p:blipFill>
          <a:blip r:embed="rId1"/>
          <a:stretch/>
        </p:blipFill>
        <p:spPr>
          <a:xfrm>
            <a:off x="2646360" y="2608200"/>
            <a:ext cx="50436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0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7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Cram</cp:lastModifiedBy>
  <cp:lastPrinted>2001-03-15T16:33:27Z</cp:lastPrinted>
  <dcterms:modified xsi:type="dcterms:W3CDTF">2007-05-14T08:02:30Z</dcterms:modified>
  <cp:revision>320</cp:revision>
  <dc:subject/>
  <dc:title>UN/CEAFACT Bureau report to 8th Forum</dc:title>
</cp:coreProperties>
</file>