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570-8384-4EA1-B301-A298E6CF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250-D4BB-4FFE-8B0B-897CAD59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79C-F7FD-4618-8559-C55044BF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DD8-7795-4F74-917D-A4C434D1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2A1-CAC1-4E89-847F-FF200AF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3E98-3D96-428F-8261-3E97E86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CE38-63FC-4FE6-B3E2-06ACCA9A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8DA-2B7E-41DB-B51F-7979CF94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5DB-6E36-46AD-BD4F-6AE20E9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566-5D34-4856-A66D-EC726EB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314C-5369-4530-AA5A-81C9972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29E-E639-4D59-B02D-E7C2D1A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50EB-2EBF-487D-AEBA-799BB9A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B22-0B6E-4E5B-9C0D-5AD6CC4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943-EC5E-4B31-B304-D8A6F6E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B9F-00FB-4B67-8366-58448627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C46-A12F-45F4-9358-655BFFA6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365-78AE-4BC8-B12C-97D3F7E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AEE-1B24-4B08-ACA6-4DCEB91A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CC2-8C12-4952-8A9A-E2C74A6C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728-F979-42DF-A01A-DF76D7B2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D2E-E045-4F55-894B-FB61440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2E3-6BEB-412D-A239-459D737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FED-5AE3-4F70-9DCD-BDA67D47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06AC-5ED2-4F29-B1EE-58EB0E8288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E50-07E3-4399-BAD0-DE9ED175E19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9d8ec"/>
                </a:solidFill>
                <a:latin typeface="Arial Black"/>
              </a:rPr>
              <a:t>ODP</a:t>
            </a:r>
            <a:br>
              <a:rPr sz="3600"/>
            </a:br>
            <a:r>
              <a:rPr b="0" lang="en-GB" sz="2400" spc="-1" strike="noStrike">
                <a:solidFill>
                  <a:srgbClr val="d9d8ec"/>
                </a:solidFill>
                <a:latin typeface="Arial Black"/>
              </a:rPr>
              <a:t>The Open Development Process</a:t>
            </a:r>
            <a:endParaRPr b="0" lang="en-US" sz="24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nders Gra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ce Chair F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echnical Spec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145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150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154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159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164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169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176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Business Spec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180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185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629080" y="2276640"/>
            <a:ext cx="1150920" cy="2447640"/>
            <a:chOff x="2629080" y="2276640"/>
            <a:chExt cx="1150920" cy="2447640"/>
          </a:xfrm>
        </p:grpSpPr>
        <p:sp>
          <p:nvSpPr>
            <p:cNvPr id="189" name=""/>
            <p:cNvSpPr/>
            <p:nvPr/>
          </p:nvSpPr>
          <p:spPr>
            <a:xfrm>
              <a:off x="262908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393228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193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198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rove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03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S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10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UNECE Re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214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219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223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228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0072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46600" y="2276640"/>
            <a:ext cx="7351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3932280"/>
            <a:ext cx="86328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36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c/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43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Implementation Guid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247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252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256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261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266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71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78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Document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tionally repet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General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ull details for each deliver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58920" y="4797360"/>
            <a:ext cx="65530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5589720"/>
            <a:ext cx="583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LE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SPARENT AN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FECTIV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BA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IN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457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ed to encourage electronic working methods and virtu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ed at Technica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d during the ebXML project – 10 times more virtual participants than meeting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en very successful in engaging wide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xample: CCTS &gt;700 com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Princip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-wide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 Black"/>
              </a:rPr>
              <a:t>New ver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ver all UN/CEFACT 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Technical Spec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Business Stand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ECE Recommend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Implementation Gu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 external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ODP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360" y="422100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9640" y="2039760"/>
            <a:ext cx="1152720" cy="3549960"/>
            <a:chOff x="539640" y="2039760"/>
            <a:chExt cx="1152720" cy="3549960"/>
          </a:xfrm>
        </p:grpSpPr>
        <p:sp>
          <p:nvSpPr>
            <p:cNvPr id="96" name=""/>
            <p:cNvSpPr/>
            <p:nvPr/>
          </p:nvSpPr>
          <p:spPr>
            <a:xfrm>
              <a:off x="539640" y="2060640"/>
              <a:ext cx="1152720" cy="1008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640" y="2039760"/>
              <a:ext cx="1079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4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4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76360" y="2060640"/>
            <a:ext cx="1150920" cy="2448000"/>
            <a:chOff x="1476360" y="2060640"/>
            <a:chExt cx="1150920" cy="2448000"/>
          </a:xfrm>
        </p:grpSpPr>
        <p:sp>
          <p:nvSpPr>
            <p:cNvPr id="101" name=""/>
            <p:cNvSpPr/>
            <p:nvPr/>
          </p:nvSpPr>
          <p:spPr>
            <a:xfrm>
              <a:off x="147636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22600" y="2060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11280" y="2060640"/>
            <a:ext cx="1152720" cy="3529080"/>
            <a:chOff x="2411280" y="2060640"/>
            <a:chExt cx="1152720" cy="3529080"/>
          </a:xfrm>
        </p:grpSpPr>
        <p:sp>
          <p:nvSpPr>
            <p:cNvPr id="105" name=""/>
            <p:cNvSpPr/>
            <p:nvPr/>
          </p:nvSpPr>
          <p:spPr>
            <a:xfrm>
              <a:off x="241308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8960" y="2060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308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128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48000" y="2060640"/>
            <a:ext cx="1150920" cy="3529080"/>
            <a:chOff x="3348000" y="2060640"/>
            <a:chExt cx="1150920" cy="3529080"/>
          </a:xfrm>
        </p:grpSpPr>
        <p:sp>
          <p:nvSpPr>
            <p:cNvPr id="110" name=""/>
            <p:cNvSpPr/>
            <p:nvPr/>
          </p:nvSpPr>
          <p:spPr>
            <a:xfrm>
              <a:off x="334800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94240" y="2060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800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284720" y="2060640"/>
            <a:ext cx="1150920" cy="3529080"/>
            <a:chOff x="4284720" y="2060640"/>
            <a:chExt cx="1150920" cy="3529080"/>
          </a:xfrm>
        </p:grpSpPr>
        <p:sp>
          <p:nvSpPr>
            <p:cNvPr id="115" name=""/>
            <p:cNvSpPr/>
            <p:nvPr/>
          </p:nvSpPr>
          <p:spPr>
            <a:xfrm>
              <a:off x="428472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30600" y="2060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8472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472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19640" y="2060640"/>
            <a:ext cx="1152720" cy="2448000"/>
            <a:chOff x="5219640" y="2060640"/>
            <a:chExt cx="1152720" cy="2448000"/>
          </a:xfrm>
        </p:grpSpPr>
        <p:sp>
          <p:nvSpPr>
            <p:cNvPr id="120" name=""/>
            <p:cNvSpPr/>
            <p:nvPr/>
          </p:nvSpPr>
          <p:spPr>
            <a:xfrm>
              <a:off x="522144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67320" y="2060640"/>
              <a:ext cx="90504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964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56360" y="2060640"/>
            <a:ext cx="1152360" cy="2448000"/>
            <a:chOff x="6156360" y="2060640"/>
            <a:chExt cx="1152360" cy="2448000"/>
          </a:xfrm>
        </p:grpSpPr>
        <p:sp>
          <p:nvSpPr>
            <p:cNvPr id="124" name=""/>
            <p:cNvSpPr/>
            <p:nvPr/>
          </p:nvSpPr>
          <p:spPr>
            <a:xfrm>
              <a:off x="615780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4040" y="2060640"/>
              <a:ext cx="9046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Pub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36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93080" y="2060640"/>
            <a:ext cx="1265040" cy="1008000"/>
            <a:chOff x="7093080" y="2060640"/>
            <a:chExt cx="1265040" cy="1008000"/>
          </a:xfrm>
        </p:grpSpPr>
        <p:sp>
          <p:nvSpPr>
            <p:cNvPr id="128" name=""/>
            <p:cNvSpPr/>
            <p:nvPr/>
          </p:nvSpPr>
          <p:spPr>
            <a:xfrm>
              <a:off x="709308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08720" y="2060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/CEFACT Data Maintenance Request, DM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ed for  UN/EDIFACT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stricted to “Dat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1655640"/>
            <a:ext cx="45576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rom DMR to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2360" y="429264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/CEFACT Activity Request, 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ed for any development activity within UN/CEF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ract between stakeholder and UN/CEFACT For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imple vs. Project CARs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4557600" cy="36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rom DMR to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429264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5094360"/>
        </p:xfrm>
        <a:graphic>
          <a:graphicData uri="http://schemas.openxmlformats.org/drawingml/2006/table">
            <a:tbl>
              <a:tblPr/>
              <a:tblGrid>
                <a:gridCol w="6108840"/>
                <a:gridCol w="531720"/>
                <a:gridCol w="531720"/>
                <a:gridCol w="530280"/>
                <a:gridCol w="52704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ep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SM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anent Group conducts internal review of the Internal Draft among its members and contributing stakehol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anent Group conducts internal review of the Internal RSM Draft among its members and contributing stakehol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tef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Dra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RSM Dra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 L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557360"/>
            <a:ext cx="7920000" cy="530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559160"/>
            <a:ext cx="7993080" cy="45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152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PARTICIPATIO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der/Email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/CEFACT Call for Participation: [Project Nam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N/CEFACT [Permanent Group Name] is pleased to announce its plans to launch the [Project Name]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proposal, sign-up information, and other details are available at [URL to web page with such information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Optionally provide additional information about the project (e.g., description, contact)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anders.grangard</cp:lastModifiedBy>
  <dcterms:modified xsi:type="dcterms:W3CDTF">2007-05-16T12:13:10Z</dcterms:modified>
  <cp:revision>38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