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264-D585-441A-A3A7-105908EA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DAA-58CC-46AA-BFE9-D4C21D78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491-B010-4402-9E07-A232329C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809-E397-4C64-9185-B045C774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6372-A27D-44EE-A1FA-D989636E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3474-0193-4838-8DE1-A51BA6A5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BE8E-BCDC-42BB-9E9B-475FB5FA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3F74-C8F2-4988-9B93-68F8266B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F904-A755-4AA4-B0E3-3FDA4ADA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4EA2-817F-41CD-B26D-BEA56EE8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D4A1-841F-48BF-B290-BCB9BF2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947-4B3E-4E6E-8801-DE2B78A2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6C2E-FA8F-4D5C-ACD0-53576CE4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9E7D-8731-4FEB-8520-DF045C7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53AF-3A13-47E6-9223-A44FD79D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BF04-8E6A-40B4-8FC9-70E09921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BA45-AFED-4F54-B913-B56EC03F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EC6-9E81-4DEF-B19B-29399518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7AB-7F70-4E8A-9BE0-76C42342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BBD-EF76-43F3-8732-18A169CE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480" y="804600"/>
            <a:ext cx="740412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493-A1FE-4F6F-BEDF-EB822B8F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6C7-770C-403D-9157-ECA67367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DE8-13B3-4ACF-96B0-D32711A8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BB4-7F18-4DB4-AE16-1B702C56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2451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ottom Lin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2F2B-609B-4AD2-9FC4-ABE2462675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e/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ottom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B9CD-3C85-4671-87C4-5560F411BF58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4488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8e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95da5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95da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9d8ec"/>
                </a:solidFill>
                <a:latin typeface="Arial Black"/>
              </a:rPr>
              <a:t>ODP</a:t>
            </a:r>
            <a:br>
              <a:rPr sz="3600"/>
            </a:br>
            <a:r>
              <a:rPr b="0" lang="en-GB" sz="2400" spc="-1" strike="noStrike">
                <a:solidFill>
                  <a:srgbClr val="d9d8ec"/>
                </a:solidFill>
                <a:latin typeface="Arial Black"/>
              </a:rPr>
              <a:t>The Open Development Process</a:t>
            </a:r>
            <a:endParaRPr b="0" lang="en-US" sz="2400" spc="-1" strike="noStrike">
              <a:solidFill>
                <a:srgbClr val="d9d8e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nders Gra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ice Chair F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OPD fo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Technical Specific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55640" y="2255760"/>
            <a:ext cx="1152360" cy="3549240"/>
            <a:chOff x="755640" y="2255760"/>
            <a:chExt cx="1152360" cy="3549240"/>
          </a:xfrm>
        </p:grpSpPr>
        <p:sp>
          <p:nvSpPr>
            <p:cNvPr id="145" name=""/>
            <p:cNvSpPr/>
            <p:nvPr/>
          </p:nvSpPr>
          <p:spPr>
            <a:xfrm>
              <a:off x="755640" y="2276280"/>
              <a:ext cx="1152360" cy="100764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5640" y="2255760"/>
              <a:ext cx="107928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roject &amp; Team 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5640" y="501300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i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92360" y="2276640"/>
            <a:ext cx="1150920" cy="2447280"/>
            <a:chOff x="1692360" y="2276640"/>
            <a:chExt cx="1150920" cy="2447280"/>
          </a:xfrm>
        </p:grpSpPr>
        <p:sp>
          <p:nvSpPr>
            <p:cNvPr id="150" name=""/>
            <p:cNvSpPr/>
            <p:nvPr/>
          </p:nvSpPr>
          <p:spPr>
            <a:xfrm>
              <a:off x="169236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38600" y="2276640"/>
              <a:ext cx="76176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9236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627280" y="2276640"/>
            <a:ext cx="1152720" cy="3528360"/>
            <a:chOff x="2627280" y="2276640"/>
            <a:chExt cx="1152720" cy="3528360"/>
          </a:xfrm>
        </p:grpSpPr>
        <p:sp>
          <p:nvSpPr>
            <p:cNvPr id="154" name=""/>
            <p:cNvSpPr/>
            <p:nvPr/>
          </p:nvSpPr>
          <p:spPr>
            <a:xfrm>
              <a:off x="262908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7496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908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2728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564000" y="2276640"/>
            <a:ext cx="1150920" cy="3528360"/>
            <a:chOff x="3564000" y="2276640"/>
            <a:chExt cx="1150920" cy="3528360"/>
          </a:xfrm>
        </p:grpSpPr>
        <p:sp>
          <p:nvSpPr>
            <p:cNvPr id="159" name=""/>
            <p:cNvSpPr/>
            <p:nvPr/>
          </p:nvSpPr>
          <p:spPr>
            <a:xfrm>
              <a:off x="356400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10240" y="2276640"/>
              <a:ext cx="73476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400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6400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00720" y="2276640"/>
            <a:ext cx="1150920" cy="3528360"/>
            <a:chOff x="4500720" y="2276640"/>
            <a:chExt cx="1150920" cy="3528360"/>
          </a:xfrm>
        </p:grpSpPr>
        <p:sp>
          <p:nvSpPr>
            <p:cNvPr id="164" name=""/>
            <p:cNvSpPr/>
            <p:nvPr/>
          </p:nvSpPr>
          <p:spPr>
            <a:xfrm>
              <a:off x="450072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4660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0072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0072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mp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35640" y="2276640"/>
            <a:ext cx="1152000" cy="2447280"/>
            <a:chOff x="5435640" y="2276640"/>
            <a:chExt cx="1152000" cy="2447280"/>
          </a:xfrm>
        </p:grpSpPr>
        <p:sp>
          <p:nvSpPr>
            <p:cNvPr id="169" name=""/>
            <p:cNvSpPr/>
            <p:nvPr/>
          </p:nvSpPr>
          <p:spPr>
            <a:xfrm>
              <a:off x="5437080" y="2276640"/>
              <a:ext cx="1150560" cy="100764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2960" y="2276640"/>
              <a:ext cx="90468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mpl</a:t>
              </a: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.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3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373800" y="2276640"/>
            <a:ext cx="1150920" cy="1008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20040" y="2276640"/>
            <a:ext cx="90468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D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ub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72360" y="3932280"/>
            <a:ext cx="863640" cy="792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308720" y="2276640"/>
            <a:ext cx="1265040" cy="1008000"/>
            <a:chOff x="7308720" y="2276640"/>
            <a:chExt cx="1265040" cy="1008000"/>
          </a:xfrm>
        </p:grpSpPr>
        <p:sp>
          <p:nvSpPr>
            <p:cNvPr id="176" name=""/>
            <p:cNvSpPr/>
            <p:nvPr/>
          </p:nvSpPr>
          <p:spPr>
            <a:xfrm>
              <a:off x="7308720" y="2276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24360" y="2276640"/>
              <a:ext cx="104940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OPD fo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Business Specific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55640" y="2255760"/>
            <a:ext cx="1152360" cy="3549240"/>
            <a:chOff x="755640" y="2255760"/>
            <a:chExt cx="1152360" cy="3549240"/>
          </a:xfrm>
        </p:grpSpPr>
        <p:sp>
          <p:nvSpPr>
            <p:cNvPr id="180" name=""/>
            <p:cNvSpPr/>
            <p:nvPr/>
          </p:nvSpPr>
          <p:spPr>
            <a:xfrm>
              <a:off x="755640" y="2276280"/>
              <a:ext cx="1152360" cy="100764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640" y="2255760"/>
              <a:ext cx="107928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roject &amp; Team 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5640" y="501300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i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692360" y="2276640"/>
            <a:ext cx="1150920" cy="2447280"/>
            <a:chOff x="1692360" y="2276640"/>
            <a:chExt cx="1150920" cy="2447280"/>
          </a:xfrm>
        </p:grpSpPr>
        <p:sp>
          <p:nvSpPr>
            <p:cNvPr id="185" name=""/>
            <p:cNvSpPr/>
            <p:nvPr/>
          </p:nvSpPr>
          <p:spPr>
            <a:xfrm>
              <a:off x="169236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38600" y="2276640"/>
              <a:ext cx="76176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9236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629080" y="2276640"/>
            <a:ext cx="1150920" cy="2447640"/>
            <a:chOff x="2629080" y="2276640"/>
            <a:chExt cx="1150920" cy="2447640"/>
          </a:xfrm>
        </p:grpSpPr>
        <p:sp>
          <p:nvSpPr>
            <p:cNvPr id="189" name=""/>
            <p:cNvSpPr/>
            <p:nvPr/>
          </p:nvSpPr>
          <p:spPr>
            <a:xfrm>
              <a:off x="2629080" y="2276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7496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9080" y="393228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64000" y="2276640"/>
            <a:ext cx="1150920" cy="3528360"/>
            <a:chOff x="3564000" y="2276640"/>
            <a:chExt cx="1150920" cy="3528360"/>
          </a:xfrm>
        </p:grpSpPr>
        <p:sp>
          <p:nvSpPr>
            <p:cNvPr id="193" name=""/>
            <p:cNvSpPr/>
            <p:nvPr/>
          </p:nvSpPr>
          <p:spPr>
            <a:xfrm>
              <a:off x="356400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0240" y="2276640"/>
              <a:ext cx="73476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6400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6400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500720" y="2276640"/>
            <a:ext cx="1150920" cy="3528360"/>
            <a:chOff x="4500720" y="2276640"/>
            <a:chExt cx="1150920" cy="3528360"/>
          </a:xfrm>
        </p:grpSpPr>
        <p:sp>
          <p:nvSpPr>
            <p:cNvPr id="198" name=""/>
            <p:cNvSpPr/>
            <p:nvPr/>
          </p:nvSpPr>
          <p:spPr>
            <a:xfrm>
              <a:off x="450072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4660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0072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0072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pprove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435640" y="2276640"/>
            <a:ext cx="1152000" cy="2447280"/>
            <a:chOff x="5435640" y="2276640"/>
            <a:chExt cx="1152000" cy="2447280"/>
          </a:xfrm>
        </p:grpSpPr>
        <p:sp>
          <p:nvSpPr>
            <p:cNvPr id="203" name=""/>
            <p:cNvSpPr/>
            <p:nvPr/>
          </p:nvSpPr>
          <p:spPr>
            <a:xfrm>
              <a:off x="5437080" y="2276640"/>
              <a:ext cx="1150560" cy="100764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82960" y="2276640"/>
              <a:ext cx="90468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mpl</a:t>
              </a: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.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3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S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ynt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373800" y="2276640"/>
            <a:ext cx="1150920" cy="1008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040" y="2276640"/>
            <a:ext cx="90468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D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ub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72360" y="3932280"/>
            <a:ext cx="863640" cy="792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308720" y="2276640"/>
            <a:ext cx="1265040" cy="1008000"/>
            <a:chOff x="7308720" y="2276640"/>
            <a:chExt cx="1265040" cy="1008000"/>
          </a:xfrm>
        </p:grpSpPr>
        <p:sp>
          <p:nvSpPr>
            <p:cNvPr id="210" name=""/>
            <p:cNvSpPr/>
            <p:nvPr/>
          </p:nvSpPr>
          <p:spPr>
            <a:xfrm>
              <a:off x="7308720" y="2276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24360" y="2276640"/>
              <a:ext cx="104940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OPD fo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UNECE Rec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5640" y="2255760"/>
            <a:ext cx="1152360" cy="3549240"/>
            <a:chOff x="755640" y="2255760"/>
            <a:chExt cx="1152360" cy="3549240"/>
          </a:xfrm>
        </p:grpSpPr>
        <p:sp>
          <p:nvSpPr>
            <p:cNvPr id="214" name=""/>
            <p:cNvSpPr/>
            <p:nvPr/>
          </p:nvSpPr>
          <p:spPr>
            <a:xfrm>
              <a:off x="755640" y="2276280"/>
              <a:ext cx="1152360" cy="100764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5640" y="2255760"/>
              <a:ext cx="107928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roject &amp; Team 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5640" y="501300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i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692360" y="2276640"/>
            <a:ext cx="1150920" cy="2447280"/>
            <a:chOff x="1692360" y="2276640"/>
            <a:chExt cx="1150920" cy="2447280"/>
          </a:xfrm>
        </p:grpSpPr>
        <p:sp>
          <p:nvSpPr>
            <p:cNvPr id="219" name=""/>
            <p:cNvSpPr/>
            <p:nvPr/>
          </p:nvSpPr>
          <p:spPr>
            <a:xfrm>
              <a:off x="169236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38600" y="2276640"/>
              <a:ext cx="76176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9236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627280" y="2276640"/>
            <a:ext cx="1152720" cy="3528360"/>
            <a:chOff x="2627280" y="2276640"/>
            <a:chExt cx="1152720" cy="3528360"/>
          </a:xfrm>
        </p:grpSpPr>
        <p:sp>
          <p:nvSpPr>
            <p:cNvPr id="223" name=""/>
            <p:cNvSpPr/>
            <p:nvPr/>
          </p:nvSpPr>
          <p:spPr>
            <a:xfrm>
              <a:off x="262908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496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2908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564000" y="2276640"/>
            <a:ext cx="1150920" cy="3528360"/>
            <a:chOff x="3564000" y="2276640"/>
            <a:chExt cx="1150920" cy="3528360"/>
          </a:xfrm>
        </p:grpSpPr>
        <p:sp>
          <p:nvSpPr>
            <p:cNvPr id="228" name=""/>
            <p:cNvSpPr/>
            <p:nvPr/>
          </p:nvSpPr>
          <p:spPr>
            <a:xfrm>
              <a:off x="356400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10240" y="2276640"/>
              <a:ext cx="73476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6400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6400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500720" y="2276640"/>
            <a:ext cx="1150920" cy="1008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46600" y="2276640"/>
            <a:ext cx="7351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DP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00720" y="3932280"/>
            <a:ext cx="863280" cy="792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435640" y="2276640"/>
            <a:ext cx="1152000" cy="2447280"/>
            <a:chOff x="5435640" y="2276640"/>
            <a:chExt cx="1152000" cy="2447280"/>
          </a:xfrm>
        </p:grpSpPr>
        <p:sp>
          <p:nvSpPr>
            <p:cNvPr id="236" name=""/>
            <p:cNvSpPr/>
            <p:nvPr/>
          </p:nvSpPr>
          <p:spPr>
            <a:xfrm>
              <a:off x="5437080" y="2276640"/>
              <a:ext cx="1150560" cy="100764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82960" y="2276640"/>
              <a:ext cx="90468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mpl</a:t>
              </a: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.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c/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373800" y="2276640"/>
            <a:ext cx="1150920" cy="1008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20040" y="2276640"/>
            <a:ext cx="90468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D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ub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3932280"/>
            <a:ext cx="863640" cy="792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308720" y="2276640"/>
            <a:ext cx="1265040" cy="1008000"/>
            <a:chOff x="7308720" y="2276640"/>
            <a:chExt cx="1265040" cy="1008000"/>
          </a:xfrm>
        </p:grpSpPr>
        <p:sp>
          <p:nvSpPr>
            <p:cNvPr id="243" name=""/>
            <p:cNvSpPr/>
            <p:nvPr/>
          </p:nvSpPr>
          <p:spPr>
            <a:xfrm>
              <a:off x="7308720" y="2276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24360" y="2276640"/>
              <a:ext cx="104940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OPD fo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 Implementation Guid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55640" y="2255760"/>
            <a:ext cx="1152360" cy="3549240"/>
            <a:chOff x="755640" y="2255760"/>
            <a:chExt cx="1152360" cy="3549240"/>
          </a:xfrm>
        </p:grpSpPr>
        <p:sp>
          <p:nvSpPr>
            <p:cNvPr id="247" name=""/>
            <p:cNvSpPr/>
            <p:nvPr/>
          </p:nvSpPr>
          <p:spPr>
            <a:xfrm>
              <a:off x="755640" y="2276280"/>
              <a:ext cx="1152360" cy="100764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5640" y="2255760"/>
              <a:ext cx="107928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roject &amp; Team 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640" y="501300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i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692360" y="2276640"/>
            <a:ext cx="1150920" cy="2447280"/>
            <a:chOff x="1692360" y="2276640"/>
            <a:chExt cx="1150920" cy="2447280"/>
          </a:xfrm>
        </p:grpSpPr>
        <p:sp>
          <p:nvSpPr>
            <p:cNvPr id="252" name=""/>
            <p:cNvSpPr/>
            <p:nvPr/>
          </p:nvSpPr>
          <p:spPr>
            <a:xfrm>
              <a:off x="169236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38600" y="2276640"/>
              <a:ext cx="76176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9236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627280" y="2276640"/>
            <a:ext cx="1152720" cy="3528360"/>
            <a:chOff x="2627280" y="2276640"/>
            <a:chExt cx="1152720" cy="3528360"/>
          </a:xfrm>
        </p:grpSpPr>
        <p:sp>
          <p:nvSpPr>
            <p:cNvPr id="256" name=""/>
            <p:cNvSpPr/>
            <p:nvPr/>
          </p:nvSpPr>
          <p:spPr>
            <a:xfrm>
              <a:off x="262908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7496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2908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564000" y="2276640"/>
            <a:ext cx="1150920" cy="3528360"/>
            <a:chOff x="3564000" y="2276640"/>
            <a:chExt cx="1150920" cy="3528360"/>
          </a:xfrm>
        </p:grpSpPr>
        <p:sp>
          <p:nvSpPr>
            <p:cNvPr id="261" name=""/>
            <p:cNvSpPr/>
            <p:nvPr/>
          </p:nvSpPr>
          <p:spPr>
            <a:xfrm>
              <a:off x="356400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10240" y="2276640"/>
              <a:ext cx="73476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6400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6400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500720" y="2276640"/>
            <a:ext cx="1150920" cy="3528360"/>
            <a:chOff x="4500720" y="2276640"/>
            <a:chExt cx="1150920" cy="3528360"/>
          </a:xfrm>
        </p:grpSpPr>
        <p:sp>
          <p:nvSpPr>
            <p:cNvPr id="266" name=""/>
            <p:cNvSpPr/>
            <p:nvPr/>
          </p:nvSpPr>
          <p:spPr>
            <a:xfrm>
              <a:off x="4500720" y="2276640"/>
              <a:ext cx="1150920" cy="10076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46600" y="2276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00720" y="501300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00720" y="3931920"/>
              <a:ext cx="86364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mp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435640" y="2276640"/>
            <a:ext cx="1152000" cy="2447280"/>
            <a:chOff x="5435640" y="2276640"/>
            <a:chExt cx="1152000" cy="2447280"/>
          </a:xfrm>
        </p:grpSpPr>
        <p:sp>
          <p:nvSpPr>
            <p:cNvPr id="271" name=""/>
            <p:cNvSpPr/>
            <p:nvPr/>
          </p:nvSpPr>
          <p:spPr>
            <a:xfrm>
              <a:off x="5437080" y="2276640"/>
              <a:ext cx="1150560" cy="100764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82960" y="2276640"/>
              <a:ext cx="90468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mpl</a:t>
              </a: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.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35640" y="3931920"/>
              <a:ext cx="863280" cy="7920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373800" y="2276640"/>
            <a:ext cx="1150920" cy="1008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20040" y="2276640"/>
            <a:ext cx="90468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D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ub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3932280"/>
            <a:ext cx="863640" cy="792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308720" y="2276640"/>
            <a:ext cx="1265040" cy="1008000"/>
            <a:chOff x="7308720" y="2276640"/>
            <a:chExt cx="1265040" cy="1008000"/>
          </a:xfrm>
        </p:grpSpPr>
        <p:sp>
          <p:nvSpPr>
            <p:cNvPr id="278" name=""/>
            <p:cNvSpPr/>
            <p:nvPr/>
          </p:nvSpPr>
          <p:spPr>
            <a:xfrm>
              <a:off x="7308720" y="2276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276640"/>
              <a:ext cx="104940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 Black"/>
              </a:rPr>
              <a:t>Document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 Black"/>
              </a:rPr>
              <a:t>Organis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tionally repet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General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Full details for each deliver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002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08640" y="4428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58920" y="4797360"/>
            <a:ext cx="65530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00"/>
                </a:solidFill>
                <a:latin typeface="Arial"/>
              </a:rPr>
              <a:t>UN/CEFAC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5589720"/>
            <a:ext cx="583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MPLE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ANSPARENT AND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FECTIV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OBAL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SIN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4574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ed to encourage electronic working methods and virtu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ed at Technical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ed during the ebXML project – 10 times more virtual participants than meeting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en very successful in engaging wide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xample: CCTS &gt;700 com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Principl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-wide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excel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 Black"/>
              </a:rPr>
              <a:t>New vers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over all UN/CEFACT deliver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N/CEFACT Technical Specif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N/CEFACT Business Stand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NECE Recommend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N/CEFACT Implementation Gu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able external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ODP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2360" y="4221000"/>
            <a:ext cx="5076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9640" y="2039760"/>
            <a:ext cx="1152720" cy="3549960"/>
            <a:chOff x="539640" y="2039760"/>
            <a:chExt cx="1152720" cy="3549960"/>
          </a:xfrm>
        </p:grpSpPr>
        <p:sp>
          <p:nvSpPr>
            <p:cNvPr id="96" name=""/>
            <p:cNvSpPr/>
            <p:nvPr/>
          </p:nvSpPr>
          <p:spPr>
            <a:xfrm>
              <a:off x="539640" y="2060640"/>
              <a:ext cx="1152720" cy="100800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9640" y="2039760"/>
              <a:ext cx="107964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roject &amp; Team 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64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9640" y="479736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i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476360" y="2060640"/>
            <a:ext cx="1150920" cy="2448000"/>
            <a:chOff x="1476360" y="2060640"/>
            <a:chExt cx="1150920" cy="2448000"/>
          </a:xfrm>
        </p:grpSpPr>
        <p:sp>
          <p:nvSpPr>
            <p:cNvPr id="101" name=""/>
            <p:cNvSpPr/>
            <p:nvPr/>
          </p:nvSpPr>
          <p:spPr>
            <a:xfrm>
              <a:off x="147636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22600" y="2060640"/>
              <a:ext cx="76176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411280" y="2060640"/>
            <a:ext cx="1152720" cy="3529080"/>
            <a:chOff x="2411280" y="2060640"/>
            <a:chExt cx="1152720" cy="3529080"/>
          </a:xfrm>
        </p:grpSpPr>
        <p:sp>
          <p:nvSpPr>
            <p:cNvPr id="105" name=""/>
            <p:cNvSpPr/>
            <p:nvPr/>
          </p:nvSpPr>
          <p:spPr>
            <a:xfrm>
              <a:off x="241308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58960" y="2060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1308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11280" y="479736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48000" y="2060640"/>
            <a:ext cx="1150920" cy="3529080"/>
            <a:chOff x="3348000" y="2060640"/>
            <a:chExt cx="1150920" cy="3529080"/>
          </a:xfrm>
        </p:grpSpPr>
        <p:sp>
          <p:nvSpPr>
            <p:cNvPr id="110" name=""/>
            <p:cNvSpPr/>
            <p:nvPr/>
          </p:nvSpPr>
          <p:spPr>
            <a:xfrm>
              <a:off x="334800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94240" y="2060640"/>
              <a:ext cx="73476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4800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48000" y="479736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284720" y="2060640"/>
            <a:ext cx="1150920" cy="3529080"/>
            <a:chOff x="4284720" y="2060640"/>
            <a:chExt cx="1150920" cy="3529080"/>
          </a:xfrm>
        </p:grpSpPr>
        <p:sp>
          <p:nvSpPr>
            <p:cNvPr id="115" name=""/>
            <p:cNvSpPr/>
            <p:nvPr/>
          </p:nvSpPr>
          <p:spPr>
            <a:xfrm>
              <a:off x="428472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30600" y="2060640"/>
              <a:ext cx="735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84720" y="479736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8472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mp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219640" y="2060640"/>
            <a:ext cx="1152720" cy="2448000"/>
            <a:chOff x="5219640" y="2060640"/>
            <a:chExt cx="1152720" cy="2448000"/>
          </a:xfrm>
        </p:grpSpPr>
        <p:sp>
          <p:nvSpPr>
            <p:cNvPr id="120" name=""/>
            <p:cNvSpPr/>
            <p:nvPr/>
          </p:nvSpPr>
          <p:spPr>
            <a:xfrm>
              <a:off x="522144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67320" y="2060640"/>
              <a:ext cx="90504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Impl</a:t>
              </a: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. Ver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1964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56360" y="2060640"/>
            <a:ext cx="1152360" cy="2448000"/>
            <a:chOff x="6156360" y="2060640"/>
            <a:chExt cx="1152360" cy="2448000"/>
          </a:xfrm>
        </p:grpSpPr>
        <p:sp>
          <p:nvSpPr>
            <p:cNvPr id="124" name=""/>
            <p:cNvSpPr/>
            <p:nvPr/>
          </p:nvSpPr>
          <p:spPr>
            <a:xfrm>
              <a:off x="615780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4040" y="2060640"/>
              <a:ext cx="90468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Pub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56360" y="3716280"/>
              <a:ext cx="863640" cy="79236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093080" y="2060640"/>
            <a:ext cx="1265040" cy="1008000"/>
            <a:chOff x="7093080" y="2060640"/>
            <a:chExt cx="1265040" cy="1008000"/>
          </a:xfrm>
        </p:grpSpPr>
        <p:sp>
          <p:nvSpPr>
            <p:cNvPr id="128" name=""/>
            <p:cNvSpPr/>
            <p:nvPr/>
          </p:nvSpPr>
          <p:spPr>
            <a:xfrm>
              <a:off x="7093080" y="2060640"/>
              <a:ext cx="1150920" cy="100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08720" y="2060640"/>
              <a:ext cx="104940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ODP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/CEFACT Data Maintenance Request, DM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signed for  UN/EDIFACT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stricted to “Data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1655640"/>
            <a:ext cx="455760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From DMR to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2360" y="4292640"/>
            <a:ext cx="5076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/CEFACT Activity Request, C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signed for any development activity within UN/CEF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tract between stakeholder and UN/CEFACT For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95da5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imple vs. Project CARs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4557600" cy="364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93840" y="804960"/>
            <a:ext cx="740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From DMR to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4292640"/>
            <a:ext cx="5076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Implementa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5094360"/>
        </p:xfrm>
        <a:graphic>
          <a:graphicData uri="http://schemas.openxmlformats.org/drawingml/2006/table">
            <a:tbl>
              <a:tblPr/>
              <a:tblGrid>
                <a:gridCol w="6108840"/>
                <a:gridCol w="531720"/>
                <a:gridCol w="531720"/>
                <a:gridCol w="530280"/>
                <a:gridCol w="52704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ep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l Re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l RSM Re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anent Group conducts internal review of the Internal Draft among its members and contributing stakehold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anent Group conducts internal review of the Internal RSM Draft among its members and contributing stakehold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tef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Dra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RSM Dra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 Lo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557360"/>
            <a:ext cx="7920000" cy="5300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3480" y="804600"/>
            <a:ext cx="7404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Implementa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559160"/>
            <a:ext cx="7993080" cy="45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152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PARTICIPATION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der/Email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/CEFACT Call for Participation: [Project Nam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UN/CEFACT [Permanent Group Name] is pleased to announce its plans to launch the [Project Name]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 proposal, sign-up information, and other details are available at [URL to web page with such information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Optionally provide additional information about the project (e.g., description, contact)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41:44Z</dcterms:created>
  <dc:creator>D029024</dc:creator>
  <dc:description/>
  <dc:language>en-US</dc:language>
  <cp:lastModifiedBy>anders.grangard</cp:lastModifiedBy>
  <dcterms:modified xsi:type="dcterms:W3CDTF">2007-05-16T12:13:10Z</dcterms:modified>
  <cp:revision>38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