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9d8ec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d9d8ec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1D1E-D8FF-4F4B-A0C4-4A3168139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F1CA-F4D9-4A65-95EE-777006F55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MG plenary reviewed the Draft TMG and approve it with minor changes as indicated in the slides follow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anges to the Purpose and Scope stat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419C-EAA3-4156-B258-2E9D247A8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4AAE-4F70-4072-9E20-13E54799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ACE5-A728-4396-BDD0-33159179C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4051-FCB5-4E10-9D8B-28419704A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3E89-F7DA-4FDF-88D8-889A19154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2F45-69BD-4845-8636-C17AC1C4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D90A-2CF9-47E8-AE75-4A464133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DF90-8029-47FB-ACF9-64745EEF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B8A4C-7A81-439A-9CBF-B4660273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93480" y="804600"/>
            <a:ext cx="740412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3B29-581A-4E75-84BF-D8C215E0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EA39-65F8-469E-B5A6-8A6DDBB7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6885-796D-49B0-A506-42B19397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46BDE-8044-4FC7-8977-106C2E88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B509-0189-49BA-8489-4BFF18DA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5E9A-FBC8-48F4-B286-075AAC2F3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0109A-FBBB-42F0-9B77-05948F642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0605-77D2-4E16-83E7-F68A396FE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7FEE-AE04-408E-BF3A-8C69FD06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BEC8-82FD-4523-AC5C-9A45A504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EE67-65D4-4D09-A45A-14022A62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93480" y="804600"/>
            <a:ext cx="740412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5C7D-DDB3-41C9-972F-139477C6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0620-0DE3-4322-9C0E-A94E098B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480D-79FB-47C5-9E1D-398C6123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0967-8C47-4503-9CD6-25951C12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72451"/>
          <a:stretch/>
        </p:blipFill>
        <p:spPr>
          <a:xfrm>
            <a:off x="539640" y="333360"/>
            <a:ext cx="8136000" cy="1133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spcBef>
                <a:spcPts val="799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16160" indent="-33516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85880" indent="-255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5000" indent="-228600">
              <a:spcBef>
                <a:spcPts val="799"/>
              </a:spcBef>
              <a:buClr>
                <a:srgbClr val="395d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05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05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.-16.05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TMG Report to the Plen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6775-95B4-4268-B3F7-11F7E7FD8D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.-16.052007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TMG Report to the Plen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N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0" b="44882"/>
          <a:stretch/>
        </p:blipFill>
        <p:spPr>
          <a:xfrm>
            <a:off x="611280" y="1052640"/>
            <a:ext cx="7921440" cy="22064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9d8ec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9d8ec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66600" algn="ctr">
              <a:spcBef>
                <a:spcPts val="575"/>
              </a:spcBef>
              <a:buClr>
                <a:srgbClr val="395da5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8680" algn="ctr"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47600" algn="ctr">
              <a:spcBef>
                <a:spcPts val="499"/>
              </a:spcBef>
              <a:buClr>
                <a:srgbClr val="395da5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476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476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9d8ec"/>
                </a:solidFill>
                <a:latin typeface="Arial Black"/>
              </a:rPr>
              <a:t>UN/CEFACT TMG Report</a:t>
            </a:r>
            <a:endParaRPr b="0" lang="en-US" sz="3600" spc="-1" strike="noStrike">
              <a:solidFill>
                <a:srgbClr val="d9d8ec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: Gunther Stuh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ce Chair: Christian Hue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PWG Projec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ML Profile for Core Components (UPCC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42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Was formerly Business Collaboration Specification Schema (BCS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42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Transferred to Core Components Working Group (CCWG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42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At ODP step 6, Implementation Verificatio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42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Supports both UML versions 1.4 and 2.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Process Schema Specification (BP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42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OASIS’ BPSS version 2.4 will be submitted to ISO’s TC 154 for approv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42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MG recommends supporting this submission of OASIS BPSS to ISO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42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f OASIS starts next version, TMG will provide business process experts for reaching the consistency between BPSS and UM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fied Business Agreements and Contracts (UBA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42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o resources and time to proceed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42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MG transferred UBAC to Legal Group (LG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42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MG will assist the L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cope of CCWG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68360" y="1600200"/>
          <a:ext cx="8218440" cy="4862520"/>
        </p:xfrm>
        <a:graphic>
          <a:graphicData uri="http://schemas.openxmlformats.org/drawingml/2006/table">
            <a:tbl>
              <a:tblPr/>
              <a:tblGrid>
                <a:gridCol w="5327640"/>
                <a:gridCol w="2890800"/>
              </a:tblGrid>
              <a:tr h="138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6767ff"/>
                          </a:solidFill>
                          <a:latin typeface="Arial"/>
                        </a:rPr>
                        <a:t>CCTS (Core Component Technical Specificat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les for naming, structuring and reusing core component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16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6767ff"/>
                          </a:solidFill>
                          <a:latin typeface="Arial"/>
                        </a:rPr>
                        <a:t>UCM (Universal Context Methodolog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les for clarifying how to structure and use CCs in specific contexts, such as a Shipping Address for Germany or the U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6767ff"/>
                          </a:solidFill>
                          <a:latin typeface="Arial"/>
                        </a:rPr>
                        <a:t>CCMA (Core Component Message Assembly Specificat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les for assembling messages from CCs such as – Purchase Order, Ship Notice, Invo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pSp>
        <p:nvGrpSpPr>
          <p:cNvPr id="135" name=""/>
          <p:cNvGrpSpPr/>
          <p:nvPr/>
        </p:nvGrpSpPr>
        <p:grpSpPr>
          <a:xfrm>
            <a:off x="2986200" y="1712880"/>
            <a:ext cx="1730160" cy="1128600"/>
            <a:chOff x="2986200" y="1712880"/>
            <a:chExt cx="1730160" cy="1128600"/>
          </a:xfrm>
        </p:grpSpPr>
        <p:sp>
          <p:nvSpPr>
            <p:cNvPr id="136" name=""/>
            <p:cNvSpPr/>
            <p:nvPr/>
          </p:nvSpPr>
          <p:spPr>
            <a:xfrm>
              <a:off x="2986200" y="1712880"/>
              <a:ext cx="1730160" cy="1128600"/>
            </a:xfrm>
            <a:prstGeom prst="rect">
              <a:avLst/>
            </a:prstGeom>
            <a:solidFill>
              <a:srgbClr val="ffecc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86200" y="1712880"/>
              <a:ext cx="1730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000" spc="-1" strike="noStrike">
                  <a:solidFill>
                    <a:srgbClr val="3636a4"/>
                  </a:solidFill>
                  <a:latin typeface="Courier New"/>
                </a:rPr>
                <a:t>Addres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986200" y="1938240"/>
              <a:ext cx="173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86200" y="2035800"/>
              <a:ext cx="1730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3636a4"/>
                  </a:solidFill>
                  <a:latin typeface="Courier New"/>
                </a:rPr>
                <a:t>House Number. Text</a:t>
              </a:r>
              <a:br>
                <a:rPr sz="1000"/>
              </a:br>
              <a:r>
                <a:rPr b="1" lang="de-DE" sz="1000" spc="-1" strike="noStrike">
                  <a:solidFill>
                    <a:srgbClr val="3636a4"/>
                  </a:solidFill>
                  <a:latin typeface="Courier New"/>
                </a:rPr>
                <a:t>Street. Name</a:t>
              </a:r>
              <a:br>
                <a:rPr sz="1000"/>
              </a:br>
              <a:r>
                <a:rPr b="1" lang="de-DE" sz="1000" spc="-1" strike="noStrike">
                  <a:solidFill>
                    <a:srgbClr val="3636a4"/>
                  </a:solidFill>
                  <a:latin typeface="Courier New"/>
                </a:rPr>
                <a:t>Postal Code. ID</a:t>
              </a:r>
              <a:br>
                <a:rPr sz="1000"/>
              </a:br>
              <a:r>
                <a:rPr b="1" lang="de-DE" sz="1000" spc="-1" strike="noStrike">
                  <a:solidFill>
                    <a:srgbClr val="3636a4"/>
                  </a:solidFill>
                  <a:latin typeface="Courier New"/>
                </a:rPr>
                <a:t>Country. C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116000" y="1701720"/>
            <a:ext cx="1623960" cy="1128960"/>
            <a:chOff x="1116000" y="1701720"/>
            <a:chExt cx="1623960" cy="1128960"/>
          </a:xfrm>
        </p:grpSpPr>
        <p:sp>
          <p:nvSpPr>
            <p:cNvPr id="141" name=""/>
            <p:cNvSpPr/>
            <p:nvPr/>
          </p:nvSpPr>
          <p:spPr>
            <a:xfrm>
              <a:off x="1116000" y="1701720"/>
              <a:ext cx="1623960" cy="1128960"/>
            </a:xfrm>
            <a:prstGeom prst="rect">
              <a:avLst/>
            </a:prstGeom>
            <a:solidFill>
              <a:srgbClr val="ffecc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16000" y="1701720"/>
              <a:ext cx="162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000" spc="-1" strike="noStrike">
                  <a:solidFill>
                    <a:srgbClr val="3636a4"/>
                  </a:solidFill>
                  <a:latin typeface="Courier New"/>
                </a:rPr>
                <a:t>Person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16000" y="1927080"/>
              <a:ext cx="162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16000" y="1950480"/>
              <a:ext cx="162396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3636a4"/>
                  </a:solidFill>
                  <a:latin typeface="Courier New"/>
                </a:rPr>
                <a:t>Identification. ID</a:t>
              </a:r>
              <a:br>
                <a:rPr sz="1000"/>
              </a:br>
              <a:r>
                <a:rPr b="1" lang="de-DE" sz="1000" spc="-1" strike="noStrike">
                  <a:solidFill>
                    <a:srgbClr val="3636a4"/>
                  </a:solidFill>
                  <a:latin typeface="Courier New"/>
                </a:rPr>
                <a:t>First. Name</a:t>
              </a:r>
              <a:br>
                <a:rPr sz="1000"/>
              </a:br>
              <a:r>
                <a:rPr b="1" lang="de-DE" sz="1000" spc="-1" strike="noStrike">
                  <a:solidFill>
                    <a:srgbClr val="3636a4"/>
                  </a:solidFill>
                  <a:latin typeface="Courier New"/>
                </a:rPr>
                <a:t>Last. Name</a:t>
              </a:r>
              <a:br>
                <a:rPr sz="1000"/>
              </a:br>
              <a:r>
                <a:rPr b="1" lang="de-DE" sz="1000" spc="-1" strike="noStrike">
                  <a:solidFill>
                    <a:srgbClr val="3636a4"/>
                  </a:solidFill>
                  <a:latin typeface="Courier New"/>
                </a:rPr>
                <a:t>Work. Address</a:t>
              </a:r>
              <a:br>
                <a:rPr sz="1000"/>
              </a:br>
              <a:r>
                <a:rPr b="1" lang="de-DE" sz="1000" spc="-1" strike="noStrike">
                  <a:solidFill>
                    <a:srgbClr val="3636a4"/>
                  </a:solidFill>
                  <a:latin typeface="Courier New"/>
                </a:rPr>
                <a:t>Home. Addre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 flipV="1">
            <a:off x="2330280" y="1903320"/>
            <a:ext cx="714600" cy="533520"/>
          </a:xfrm>
          <a:prstGeom prst="line">
            <a:avLst/>
          </a:prstGeom>
          <a:ln w="12600">
            <a:solidFill>
              <a:srgbClr val="67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324160" y="1905120"/>
            <a:ext cx="720720" cy="658800"/>
          </a:xfrm>
          <a:prstGeom prst="line">
            <a:avLst/>
          </a:prstGeom>
          <a:ln w="12600">
            <a:solidFill>
              <a:srgbClr val="67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9280" y="2062080"/>
            <a:ext cx="7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How to nam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746280" y="2089080"/>
            <a:ext cx="590400" cy="13176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847960" y="1727280"/>
            <a:ext cx="12600" cy="29664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81080" y="1413000"/>
            <a:ext cx="20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How to associ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59280" y="2060640"/>
            <a:ext cx="100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How to structur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240000" y="2436840"/>
            <a:ext cx="0" cy="13824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88000" y="1959120"/>
            <a:ext cx="88920" cy="893520"/>
          </a:xfrm>
          <a:custGeom>
            <a:avLst/>
            <a:gdLst>
              <a:gd name="textAreaLeft" fmla="*/ 0 w 88920"/>
              <a:gd name="textAreaRight" fmla="*/ 32040 w 88920"/>
              <a:gd name="textAreaTop" fmla="*/ 23040 h 893520"/>
              <a:gd name="textAreaBottom" fmla="*/ 870480 h 89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42157" t="0" r="0" b="0"/>
          <a:stretch/>
        </p:blipFill>
        <p:spPr>
          <a:xfrm>
            <a:off x="1793880" y="4795920"/>
            <a:ext cx="703080" cy="1049400"/>
          </a:xfrm>
          <a:prstGeom prst="rect">
            <a:avLst/>
          </a:prstGeom>
          <a:ln w="0">
            <a:noFill/>
          </a:ln>
        </p:spPr>
      </p:pic>
      <p:grpSp>
        <p:nvGrpSpPr>
          <p:cNvPr id="155" name=""/>
          <p:cNvGrpSpPr/>
          <p:nvPr/>
        </p:nvGrpSpPr>
        <p:grpSpPr>
          <a:xfrm>
            <a:off x="3909960" y="4861080"/>
            <a:ext cx="1598760" cy="1191960"/>
            <a:chOff x="3909960" y="4861080"/>
            <a:chExt cx="1598760" cy="1191960"/>
          </a:xfrm>
        </p:grpSpPr>
        <p:sp>
          <p:nvSpPr>
            <p:cNvPr id="156" name=""/>
            <p:cNvSpPr/>
            <p:nvPr/>
          </p:nvSpPr>
          <p:spPr>
            <a:xfrm>
              <a:off x="3909960" y="4861080"/>
              <a:ext cx="1598760" cy="1191960"/>
            </a:xfrm>
            <a:prstGeom prst="rect">
              <a:avLst/>
            </a:prstGeom>
            <a:solidFill>
              <a:srgbClr val="ffecc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909960" y="4861080"/>
              <a:ext cx="1598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000" spc="-1" strike="noStrike">
                  <a:solidFill>
                    <a:srgbClr val="3636a4"/>
                  </a:solidFill>
                  <a:latin typeface="Courier New"/>
                </a:rPr>
                <a:t>Person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909960" y="5099040"/>
              <a:ext cx="159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909960" y="5149440"/>
              <a:ext cx="159876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3636a4"/>
                  </a:solidFill>
                  <a:latin typeface="Courier New"/>
                </a:rPr>
                <a:t>Identification. ID</a:t>
              </a:r>
              <a:br>
                <a:rPr sz="1000"/>
              </a:br>
              <a:r>
                <a:rPr b="1" lang="de-DE" sz="1000" spc="-1" strike="noStrike">
                  <a:solidFill>
                    <a:srgbClr val="3636a4"/>
                  </a:solidFill>
                  <a:latin typeface="Courier New"/>
                </a:rPr>
                <a:t>First. Name</a:t>
              </a:r>
              <a:br>
                <a:rPr sz="1000"/>
              </a:br>
              <a:r>
                <a:rPr b="1" lang="de-DE" sz="1000" spc="-1" strike="noStrike">
                  <a:solidFill>
                    <a:srgbClr val="3636a4"/>
                  </a:solidFill>
                  <a:latin typeface="Courier New"/>
                </a:rPr>
                <a:t>Last. Name</a:t>
              </a:r>
              <a:br>
                <a:rPr sz="1000"/>
              </a:br>
              <a:r>
                <a:rPr b="1" lang="de-DE" sz="1000" spc="-1" strike="noStrike">
                  <a:solidFill>
                    <a:srgbClr val="3636a4"/>
                  </a:solidFill>
                  <a:latin typeface="Courier New"/>
                </a:rPr>
                <a:t>Work. Address</a:t>
              </a:r>
              <a:br>
                <a:rPr sz="1000"/>
              </a:br>
              <a:r>
                <a:rPr b="1" lang="de-DE" sz="1000" spc="-1" strike="noStrike">
                  <a:solidFill>
                    <a:srgbClr val="3636a4"/>
                  </a:solidFill>
                  <a:latin typeface="Courier New"/>
                </a:rPr>
                <a:t>Home. Addre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395440" y="4951440"/>
            <a:ext cx="1516320" cy="417600"/>
          </a:xfrm>
          <a:custGeom>
            <a:avLst/>
            <a:gdLst/>
            <a:ahLst/>
            <a:rect l="l" t="t" r="r" b="b"/>
            <a:pathLst>
              <a:path w="445" h="263">
                <a:moveTo>
                  <a:pt x="445" y="23"/>
                </a:moveTo>
                <a:cubicBezTo>
                  <a:pt x="362" y="11"/>
                  <a:pt x="279" y="0"/>
                  <a:pt x="205" y="40"/>
                </a:cubicBezTo>
                <a:cubicBezTo>
                  <a:pt x="131" y="80"/>
                  <a:pt x="36" y="227"/>
                  <a:pt x="0" y="263"/>
                </a:cubicBezTo>
              </a:path>
            </a:pathLst>
          </a:custGeom>
          <a:noFill/>
          <a:ln w="12600">
            <a:solidFill>
              <a:srgbClr val="6767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5083200"/>
            <a:ext cx="130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How to structure a messag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265400" y="4937040"/>
            <a:ext cx="428400" cy="21600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098880" y="5018040"/>
            <a:ext cx="54000" cy="30168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83000" y="5294160"/>
            <a:ext cx="14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How to assemble data types in a messag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4920" y="3151080"/>
            <a:ext cx="5729400" cy="1434600"/>
            <a:chOff x="34920" y="3151080"/>
            <a:chExt cx="5729400" cy="1434600"/>
          </a:xfrm>
        </p:grpSpPr>
        <p:grpSp>
          <p:nvGrpSpPr>
            <p:cNvPr id="166" name=""/>
            <p:cNvGrpSpPr/>
            <p:nvPr/>
          </p:nvGrpSpPr>
          <p:grpSpPr>
            <a:xfrm>
              <a:off x="2986200" y="3156120"/>
              <a:ext cx="1657080" cy="1125360"/>
              <a:chOff x="2986200" y="3156120"/>
              <a:chExt cx="1657080" cy="1125360"/>
            </a:xfrm>
          </p:grpSpPr>
          <p:sp>
            <p:nvSpPr>
              <p:cNvPr id="167" name=""/>
              <p:cNvSpPr/>
              <p:nvPr/>
            </p:nvSpPr>
            <p:spPr>
              <a:xfrm>
                <a:off x="2986200" y="3156120"/>
                <a:ext cx="1657080" cy="1125360"/>
              </a:xfrm>
              <a:prstGeom prst="rect">
                <a:avLst/>
              </a:prstGeom>
              <a:solidFill>
                <a:srgbClr val="ffecc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986200" y="3156120"/>
                <a:ext cx="1657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1000" spc="-1" strike="noStrike">
                    <a:solidFill>
                      <a:srgbClr val="3636a4"/>
                    </a:solidFill>
                    <a:latin typeface="Courier New"/>
                  </a:rPr>
                  <a:t>Address</a:t>
                </a:r>
                <a:r>
                  <a:rPr b="1" i="1" lang="de-DE" sz="1000" spc="-1" strike="noStrike">
                    <a:solidFill>
                      <a:srgbClr val="ccccff"/>
                    </a:solidFill>
                    <a:latin typeface="Courier New"/>
                  </a:rPr>
                  <a:t>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986200" y="3380760"/>
                <a:ext cx="165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986200" y="3477600"/>
                <a:ext cx="165708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3636a4"/>
                    </a:solidFill>
                    <a:latin typeface="Courier New"/>
                  </a:rPr>
                  <a:t>House Number. Text</a:t>
                </a:r>
                <a:br>
                  <a:rPr sz="1000"/>
                </a:br>
                <a:r>
                  <a:rPr b="1" lang="de-DE" sz="1000" spc="-1" strike="noStrike">
                    <a:solidFill>
                      <a:srgbClr val="3636a4"/>
                    </a:solidFill>
                    <a:latin typeface="Courier New"/>
                  </a:rPr>
                  <a:t>Street. Name</a:t>
                </a:r>
                <a:br>
                  <a:rPr sz="1000"/>
                </a:br>
                <a:r>
                  <a:rPr b="1" lang="de-DE" sz="1000" spc="-1" strike="noStrike">
                    <a:solidFill>
                      <a:srgbClr val="3636a4"/>
                    </a:solidFill>
                    <a:latin typeface="Courier New"/>
                  </a:rPr>
                  <a:t>Postal Code. ID</a:t>
                </a:r>
                <a:br>
                  <a:rPr sz="1000"/>
                </a:br>
                <a:r>
                  <a:rPr b="1" lang="de-DE" sz="1000" spc="-1" strike="noStrike">
                    <a:solidFill>
                      <a:srgbClr val="3636a4"/>
                    </a:solidFill>
                    <a:latin typeface="Courier New"/>
                  </a:rPr>
                  <a:t>Country. Co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1114560" y="3151080"/>
              <a:ext cx="1657080" cy="1154160"/>
              <a:chOff x="1114560" y="3151080"/>
              <a:chExt cx="1657080" cy="1154160"/>
            </a:xfrm>
          </p:grpSpPr>
          <p:sp>
            <p:nvSpPr>
              <p:cNvPr id="172" name=""/>
              <p:cNvSpPr/>
              <p:nvPr/>
            </p:nvSpPr>
            <p:spPr>
              <a:xfrm>
                <a:off x="1114560" y="3151080"/>
                <a:ext cx="1657080" cy="1154160"/>
              </a:xfrm>
              <a:prstGeom prst="rect">
                <a:avLst/>
              </a:prstGeom>
              <a:solidFill>
                <a:srgbClr val="ffecc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114560" y="3151080"/>
                <a:ext cx="1657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1000" spc="-1" strike="noStrike">
                    <a:solidFill>
                      <a:srgbClr val="3636a4"/>
                    </a:solidFill>
                    <a:latin typeface="Courier New"/>
                  </a:rPr>
                  <a:t>Person</a:t>
                </a:r>
                <a:r>
                  <a:rPr b="1" i="1" lang="de-DE" sz="1000" spc="-1" strike="noStrike">
                    <a:solidFill>
                      <a:srgbClr val="ccccff"/>
                    </a:solidFill>
                    <a:latin typeface="Courier New"/>
                  </a:rPr>
                  <a:t>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114560" y="3381480"/>
                <a:ext cx="165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114560" y="3414960"/>
                <a:ext cx="165708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3636a4"/>
                    </a:solidFill>
                    <a:latin typeface="Courier New"/>
                  </a:rPr>
                  <a:t>Identification. ID</a:t>
                </a:r>
                <a:br>
                  <a:rPr sz="1000"/>
                </a:br>
                <a:r>
                  <a:rPr b="1" lang="de-DE" sz="1000" spc="-1" strike="noStrike">
                    <a:solidFill>
                      <a:srgbClr val="3636a4"/>
                    </a:solidFill>
                    <a:latin typeface="Courier New"/>
                  </a:rPr>
                  <a:t>First. Name</a:t>
                </a:r>
                <a:br>
                  <a:rPr sz="1000"/>
                </a:br>
                <a:r>
                  <a:rPr b="1" lang="de-DE" sz="1000" spc="-1" strike="noStrike">
                    <a:solidFill>
                      <a:srgbClr val="3636a4"/>
                    </a:solidFill>
                    <a:latin typeface="Courier New"/>
                  </a:rPr>
                  <a:t>Last. Name</a:t>
                </a:r>
                <a:br>
                  <a:rPr sz="1000"/>
                </a:br>
                <a:r>
                  <a:rPr b="1" lang="de-DE" sz="1000" spc="-1" strike="noStrike">
                    <a:solidFill>
                      <a:srgbClr val="3636a4"/>
                    </a:solidFill>
                    <a:latin typeface="Courier New"/>
                  </a:rPr>
                  <a:t>Work. Address</a:t>
                </a:r>
                <a:br>
                  <a:rPr sz="1000"/>
                </a:br>
                <a:r>
                  <a:rPr b="1" lang="de-DE" sz="1000" spc="-1" strike="noStrike">
                    <a:solidFill>
                      <a:srgbClr val="3636a4"/>
                    </a:solidFill>
                    <a:latin typeface="Courier New"/>
                  </a:rPr>
                  <a:t>Home. Addr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34920" y="3201840"/>
              <a:ext cx="12747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808080"/>
                  </a:solidFill>
                  <a:latin typeface="Arial"/>
                </a:rPr>
                <a:t>Is „Work Address“ necessary in all industries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684000" y="3992400"/>
              <a:ext cx="502920" cy="0"/>
            </a:xfrm>
            <a:prstGeom prst="line">
              <a:avLst/>
            </a:prstGeom>
            <a:ln cap="rnd" w="1908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51200" y="3213000"/>
              <a:ext cx="111312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808080"/>
                  </a:solidFill>
                  <a:latin typeface="Arial"/>
                </a:rPr>
                <a:t>Which „Postal Code. IDs“ are required in Germany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4242960" y="3564000"/>
              <a:ext cx="520920" cy="212760"/>
            </a:xfrm>
            <a:prstGeom prst="line">
              <a:avLst/>
            </a:prstGeom>
            <a:ln cap="rnd" w="1908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CWG Projec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mponents Technical Specification (C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499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essed CCTS V3.0 to second public review in ODP Step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499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s ambiguities, strengthens reuse, modularizes standards stack (i.e. removal of registry ru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499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ed content (data types, CCTS V3.0 does not consider any content anymo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499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CCTs (Core Components Types) in CCTS V2.01 are moved to ATG (Applied Technologies Group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499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is to reach ODP7 – approved technical specification by end of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CWG Projec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mponent Message Assembly (CC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499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an with ODP step 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499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itial draft is underw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499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MA specification will  bridge the current gap between UMM and C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499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 model allows an easy and consistent mapping into technical protocols such as WSDL (Web Services Definition Langu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ied Context Methodology (UCM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499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ed ODP 2 ph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499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was required at the request of many major contribu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499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ificant interest is being realized in this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230040" y="1490760"/>
            <a:ext cx="1073160" cy="718920"/>
            <a:chOff x="230040" y="1490760"/>
            <a:chExt cx="1073160" cy="718920"/>
          </a:xfrm>
        </p:grpSpPr>
        <p:pic>
          <p:nvPicPr>
            <p:cNvPr id="185" name="" descr=""/>
            <p:cNvPicPr/>
            <p:nvPr/>
          </p:nvPicPr>
          <p:blipFill>
            <a:blip r:embed="rId1"/>
            <a:stretch/>
          </p:blipFill>
          <p:spPr>
            <a:xfrm>
              <a:off x="230040" y="1490760"/>
              <a:ext cx="1073160" cy="7189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186" name=""/>
            <p:cNvSpPr/>
            <p:nvPr/>
          </p:nvSpPr>
          <p:spPr>
            <a:xfrm>
              <a:off x="286200" y="1540800"/>
              <a:ext cx="9637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700" spc="-1" strike="noStrike">
                  <a:solidFill>
                    <a:srgbClr val="ffffff"/>
                  </a:solidFill>
                  <a:latin typeface="Arial"/>
                </a:rPr>
                <a:t>Business</a:t>
              </a:r>
              <a:br>
                <a:rPr sz="1700"/>
              </a:br>
              <a:r>
                <a:rPr b="1" lang="de-DE" sz="1700" spc="-1" strike="noStrike">
                  <a:solidFill>
                    <a:srgbClr val="ffffff"/>
                  </a:solidFill>
                  <a:latin typeface="Arial"/>
                </a:rPr>
                <a:t>Partn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7819200" y="1486080"/>
            <a:ext cx="1137960" cy="745920"/>
            <a:chOff x="7819200" y="1486080"/>
            <a:chExt cx="1137960" cy="745920"/>
          </a:xfrm>
        </p:grpSpPr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7867080" y="1486080"/>
              <a:ext cx="1043640" cy="7459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189" name=""/>
            <p:cNvSpPr/>
            <p:nvPr/>
          </p:nvSpPr>
          <p:spPr>
            <a:xfrm>
              <a:off x="7819200" y="1486080"/>
              <a:ext cx="1137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Business </a:t>
              </a:r>
              <a:br>
                <a:rPr sz="1600"/>
              </a:b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Partn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BAWG Scop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1278720" y="2224080"/>
            <a:ext cx="6566040" cy="24084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135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353960" y="2735280"/>
            <a:ext cx="360720" cy="295200"/>
          </a:xfrm>
          <a:prstGeom prst="flowChartAlternateProcess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63680" y="3467160"/>
            <a:ext cx="360360" cy="295200"/>
          </a:xfrm>
          <a:prstGeom prst="flowChartAlternateProcess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7344720" y="2708280"/>
            <a:ext cx="360360" cy="295200"/>
          </a:xfrm>
          <a:prstGeom prst="flowChartAlternateProcess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7354080" y="3440160"/>
            <a:ext cx="360360" cy="295200"/>
          </a:xfrm>
          <a:prstGeom prst="flowChartAlternateProcess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7844760" y="2224080"/>
            <a:ext cx="1066680" cy="240840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ffffff"/>
              </a:gs>
            </a:gsLst>
            <a:lin ang="135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8454240" y="3176640"/>
            <a:ext cx="381240" cy="24768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8454240" y="2295360"/>
            <a:ext cx="381240" cy="24624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"/>
          <p:cNvCxnSpPr>
            <a:stCxn id="198" idx="2"/>
            <a:endCxn id="200" idx="0"/>
          </p:cNvCxnSpPr>
          <p:nvPr/>
        </p:nvCxnSpPr>
        <p:spPr>
          <a:xfrm>
            <a:off x="8645040" y="2541600"/>
            <a:ext cx="1080" cy="195840"/>
          </a:xfrm>
          <a:prstGeom prst="straightConnector1">
            <a:avLst/>
          </a:prstGeom>
          <a:ln w="12600">
            <a:solidFill>
              <a:srgbClr val="000066"/>
            </a:solidFill>
            <a:miter/>
            <a:tailEnd len="sm" type="triangle" w="sm"/>
          </a:ln>
        </p:spPr>
      </p:cxnSp>
      <p:cxnSp>
        <p:nvCxnSpPr>
          <p:cNvPr id="201" name=""/>
          <p:cNvCxnSpPr>
            <a:stCxn id="200" idx="2"/>
            <a:endCxn id="197" idx="0"/>
          </p:cNvCxnSpPr>
          <p:nvPr/>
        </p:nvCxnSpPr>
        <p:spPr>
          <a:xfrm>
            <a:off x="8645040" y="2980800"/>
            <a:ext cx="1080" cy="196200"/>
          </a:xfrm>
          <a:prstGeom prst="straightConnector1">
            <a:avLst/>
          </a:prstGeom>
          <a:ln w="12600">
            <a:solidFill>
              <a:srgbClr val="000066"/>
            </a:solidFill>
            <a:miter/>
            <a:tailEnd len="sm" type="triangle" w="sm"/>
          </a:ln>
        </p:spPr>
      </p:cxnSp>
      <p:cxnSp>
        <p:nvCxnSpPr>
          <p:cNvPr id="202" name=""/>
          <p:cNvCxnSpPr>
            <a:stCxn id="197" idx="2"/>
            <a:endCxn id="203" idx="0"/>
          </p:cNvCxnSpPr>
          <p:nvPr/>
        </p:nvCxnSpPr>
        <p:spPr>
          <a:xfrm>
            <a:off x="8645040" y="3424320"/>
            <a:ext cx="1080" cy="194400"/>
          </a:xfrm>
          <a:prstGeom prst="straightConnector1">
            <a:avLst/>
          </a:prstGeom>
          <a:ln w="12600">
            <a:solidFill>
              <a:srgbClr val="000066"/>
            </a:solidFill>
            <a:miter/>
            <a:tailEnd len="sm" type="triangle" w="sm"/>
          </a:ln>
        </p:spPr>
      </p:cxnSp>
      <p:sp>
        <p:nvSpPr>
          <p:cNvPr id="204" name=""/>
          <p:cNvSpPr/>
          <p:nvPr/>
        </p:nvSpPr>
        <p:spPr>
          <a:xfrm flipH="1">
            <a:off x="8454240" y="4060800"/>
            <a:ext cx="381240" cy="163440"/>
          </a:xfrm>
          <a:prstGeom prst="flowChartTerminator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"/>
          <p:cNvCxnSpPr>
            <a:stCxn id="203" idx="2"/>
            <a:endCxn id="204" idx="0"/>
          </p:cNvCxnSpPr>
          <p:nvPr/>
        </p:nvCxnSpPr>
        <p:spPr>
          <a:xfrm>
            <a:off x="8645040" y="3865680"/>
            <a:ext cx="1080" cy="195840"/>
          </a:xfrm>
          <a:prstGeom prst="straightConnector1">
            <a:avLst/>
          </a:prstGeom>
          <a:ln w="12600">
            <a:solidFill>
              <a:srgbClr val="000066"/>
            </a:solidFill>
            <a:miter/>
            <a:tailEnd len="sm" type="triangle" w="sm"/>
          </a:ln>
        </p:spPr>
      </p:cxnSp>
      <p:cxnSp>
        <p:nvCxnSpPr>
          <p:cNvPr id="206" name=""/>
          <p:cNvCxnSpPr>
            <a:stCxn id="200" idx="3"/>
            <a:endCxn id="207" idx="2"/>
          </p:cNvCxnSpPr>
          <p:nvPr/>
        </p:nvCxnSpPr>
        <p:spPr>
          <a:xfrm flipH="1">
            <a:off x="8262360" y="2858760"/>
            <a:ext cx="192600" cy="1080"/>
          </a:xfrm>
          <a:prstGeom prst="straightConnector1">
            <a:avLst/>
          </a:prstGeom>
          <a:ln w="12600">
            <a:solidFill>
              <a:srgbClr val="000066"/>
            </a:solidFill>
            <a:miter/>
            <a:tailEnd len="sm" type="triangle" w="sm"/>
          </a:ln>
        </p:spPr>
      </p:cxnSp>
      <p:cxnSp>
        <p:nvCxnSpPr>
          <p:cNvPr id="208" name=""/>
          <p:cNvCxnSpPr>
            <a:stCxn id="203" idx="3"/>
            <a:endCxn id="209" idx="2"/>
          </p:cNvCxnSpPr>
          <p:nvPr/>
        </p:nvCxnSpPr>
        <p:spPr>
          <a:xfrm rot="10800000">
            <a:off x="8262360" y="3741120"/>
            <a:ext cx="192600" cy="1080"/>
          </a:xfrm>
          <a:prstGeom prst="bentConnector2">
            <a:avLst/>
          </a:prstGeom>
          <a:ln w="12600">
            <a:solidFill>
              <a:srgbClr val="000066"/>
            </a:solidFill>
            <a:miter/>
            <a:tailEnd len="sm" type="triangle" w="sm"/>
          </a:ln>
        </p:spPr>
      </p:cxnSp>
      <p:cxnSp>
        <p:nvCxnSpPr>
          <p:cNvPr id="210" name=""/>
          <p:cNvCxnSpPr>
            <a:stCxn id="207" idx="3"/>
            <a:endCxn id="197" idx="3"/>
          </p:cNvCxnSpPr>
          <p:nvPr/>
        </p:nvCxnSpPr>
        <p:spPr>
          <a:xfrm flipH="1" rot="16200000">
            <a:off x="8142840" y="2988000"/>
            <a:ext cx="320040" cy="305280"/>
          </a:xfrm>
          <a:prstGeom prst="bentConnector2">
            <a:avLst/>
          </a:prstGeom>
          <a:ln w="12600">
            <a:solidFill>
              <a:srgbClr val="000066"/>
            </a:solidFill>
            <a:miter/>
            <a:tailEnd len="sm" type="triangle" w="sm"/>
          </a:ln>
        </p:spPr>
      </p:cxnSp>
      <p:sp>
        <p:nvSpPr>
          <p:cNvPr id="200" name=""/>
          <p:cNvSpPr/>
          <p:nvPr/>
        </p:nvSpPr>
        <p:spPr>
          <a:xfrm flipH="1">
            <a:off x="8454240" y="2736720"/>
            <a:ext cx="381240" cy="244440"/>
          </a:xfrm>
          <a:prstGeom prst="flowChartDecision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7921800" y="2736720"/>
            <a:ext cx="380880" cy="244440"/>
          </a:xfrm>
          <a:prstGeom prst="flowChartInputOutpu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8454240" y="3618000"/>
            <a:ext cx="381240" cy="247680"/>
          </a:xfrm>
          <a:prstGeom prst="flowChartDecision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7921800" y="3618000"/>
            <a:ext cx="380880" cy="247680"/>
          </a:xfrm>
          <a:prstGeom prst="flowChartInputOutpu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207" idx="5"/>
            <a:endCxn id="194" idx="1"/>
          </p:cNvCxnSpPr>
          <p:nvPr/>
        </p:nvCxnSpPr>
        <p:spPr>
          <a:xfrm rot="10800000">
            <a:off x="7706520" y="2855160"/>
            <a:ext cx="253080" cy="3960"/>
          </a:xfrm>
          <a:prstGeom prst="bentConnector3">
            <a:avLst>
              <a:gd name="adj1" fmla="val 57834"/>
            </a:avLst>
          </a:prstGeom>
          <a:ln w="12600">
            <a:solidFill>
              <a:srgbClr val="000066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212" name=""/>
          <p:cNvCxnSpPr>
            <a:stCxn id="209" idx="5"/>
            <a:endCxn id="195" idx="1"/>
          </p:cNvCxnSpPr>
          <p:nvPr/>
        </p:nvCxnSpPr>
        <p:spPr>
          <a:xfrm rot="10800000">
            <a:off x="7716240" y="3587040"/>
            <a:ext cx="243360" cy="154800"/>
          </a:xfrm>
          <a:prstGeom prst="bentConnector3">
            <a:avLst>
              <a:gd name="adj1" fmla="val 58074"/>
            </a:avLst>
          </a:prstGeom>
          <a:ln w="12600">
            <a:solidFill>
              <a:srgbClr val="000066"/>
            </a:solidFill>
            <a:miter/>
            <a:headEnd len="sm" type="triangle" w="sm"/>
            <a:tailEnd len="sm" type="triangle" w="sm"/>
          </a:ln>
        </p:spPr>
      </p:cxnSp>
      <p:sp>
        <p:nvSpPr>
          <p:cNvPr id="213" name=""/>
          <p:cNvSpPr/>
          <p:nvPr/>
        </p:nvSpPr>
        <p:spPr>
          <a:xfrm>
            <a:off x="8001720" y="4149720"/>
            <a:ext cx="7765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ter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83000" y="2206800"/>
            <a:ext cx="38671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ollaborative (external) Business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(how, wh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5360" y="2224080"/>
            <a:ext cx="1067040" cy="240840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ffffff"/>
              </a:gs>
            </a:gsLst>
            <a:lin ang="135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1680" y="3176640"/>
            <a:ext cx="380880" cy="24768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01680" y="2295360"/>
            <a:ext cx="380880" cy="24624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"/>
          <p:cNvCxnSpPr>
            <a:stCxn id="217" idx="2"/>
            <a:endCxn id="219" idx="0"/>
          </p:cNvCxnSpPr>
          <p:nvPr/>
        </p:nvCxnSpPr>
        <p:spPr>
          <a:xfrm>
            <a:off x="491760" y="2541600"/>
            <a:ext cx="1080" cy="195840"/>
          </a:xfrm>
          <a:prstGeom prst="straightConnector1">
            <a:avLst/>
          </a:prstGeom>
          <a:ln w="12600">
            <a:solidFill>
              <a:srgbClr val="000066"/>
            </a:solidFill>
            <a:miter/>
            <a:tailEnd len="sm" type="triangle" w="sm"/>
          </a:ln>
        </p:spPr>
      </p:cxnSp>
      <p:cxnSp>
        <p:nvCxnSpPr>
          <p:cNvPr id="220" name=""/>
          <p:cNvCxnSpPr>
            <a:stCxn id="219" idx="2"/>
            <a:endCxn id="216" idx="0"/>
          </p:cNvCxnSpPr>
          <p:nvPr/>
        </p:nvCxnSpPr>
        <p:spPr>
          <a:xfrm>
            <a:off x="491760" y="2980800"/>
            <a:ext cx="1080" cy="196200"/>
          </a:xfrm>
          <a:prstGeom prst="straightConnector1">
            <a:avLst/>
          </a:prstGeom>
          <a:ln w="12600">
            <a:solidFill>
              <a:srgbClr val="000066"/>
            </a:solidFill>
            <a:miter/>
            <a:tailEnd len="sm" type="triangle" w="sm"/>
          </a:ln>
        </p:spPr>
      </p:cxnSp>
      <p:cxnSp>
        <p:nvCxnSpPr>
          <p:cNvPr id="221" name=""/>
          <p:cNvCxnSpPr>
            <a:stCxn id="216" idx="2"/>
            <a:endCxn id="222" idx="0"/>
          </p:cNvCxnSpPr>
          <p:nvPr/>
        </p:nvCxnSpPr>
        <p:spPr>
          <a:xfrm>
            <a:off x="491760" y="3424320"/>
            <a:ext cx="1080" cy="194400"/>
          </a:xfrm>
          <a:prstGeom prst="straightConnector1">
            <a:avLst/>
          </a:prstGeom>
          <a:ln w="12600">
            <a:solidFill>
              <a:srgbClr val="000066"/>
            </a:solidFill>
            <a:miter/>
            <a:tailEnd len="sm" type="triangle" w="sm"/>
          </a:ln>
        </p:spPr>
      </p:cxnSp>
      <p:sp>
        <p:nvSpPr>
          <p:cNvPr id="223" name=""/>
          <p:cNvSpPr/>
          <p:nvPr/>
        </p:nvSpPr>
        <p:spPr>
          <a:xfrm>
            <a:off x="301680" y="4060800"/>
            <a:ext cx="380880" cy="163440"/>
          </a:xfrm>
          <a:prstGeom prst="flowChartTerminator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"/>
          <p:cNvCxnSpPr>
            <a:stCxn id="222" idx="2"/>
            <a:endCxn id="223" idx="0"/>
          </p:cNvCxnSpPr>
          <p:nvPr/>
        </p:nvCxnSpPr>
        <p:spPr>
          <a:xfrm>
            <a:off x="491760" y="3865680"/>
            <a:ext cx="1080" cy="195840"/>
          </a:xfrm>
          <a:prstGeom prst="straightConnector1">
            <a:avLst/>
          </a:prstGeom>
          <a:ln w="12600">
            <a:solidFill>
              <a:srgbClr val="000066"/>
            </a:solidFill>
            <a:miter/>
            <a:tailEnd len="sm" type="triangle" w="sm"/>
          </a:ln>
        </p:spPr>
      </p:cxnSp>
      <p:cxnSp>
        <p:nvCxnSpPr>
          <p:cNvPr id="225" name=""/>
          <p:cNvCxnSpPr>
            <a:stCxn id="219" idx="3"/>
            <a:endCxn id="226" idx="2"/>
          </p:cNvCxnSpPr>
          <p:nvPr/>
        </p:nvCxnSpPr>
        <p:spPr>
          <a:xfrm>
            <a:off x="682200" y="2858760"/>
            <a:ext cx="191160" cy="1080"/>
          </a:xfrm>
          <a:prstGeom prst="straightConnector1">
            <a:avLst/>
          </a:prstGeom>
          <a:ln w="12600">
            <a:solidFill>
              <a:srgbClr val="000066"/>
            </a:solidFill>
            <a:miter/>
            <a:tailEnd len="sm" type="triangle" w="sm"/>
          </a:ln>
        </p:spPr>
      </p:cxnSp>
      <p:cxnSp>
        <p:nvCxnSpPr>
          <p:cNvPr id="227" name=""/>
          <p:cNvCxnSpPr>
            <a:stCxn id="222" idx="3"/>
            <a:endCxn id="228" idx="2"/>
          </p:cNvCxnSpPr>
          <p:nvPr/>
        </p:nvCxnSpPr>
        <p:spPr>
          <a:xfrm>
            <a:off x="682200" y="3741480"/>
            <a:ext cx="191160" cy="1080"/>
          </a:xfrm>
          <a:prstGeom prst="bentConnector2">
            <a:avLst/>
          </a:prstGeom>
          <a:ln w="12600">
            <a:solidFill>
              <a:srgbClr val="000066"/>
            </a:solidFill>
            <a:miter/>
            <a:tailEnd len="sm" type="triangle" w="sm"/>
          </a:ln>
        </p:spPr>
      </p:cxnSp>
      <p:cxnSp>
        <p:nvCxnSpPr>
          <p:cNvPr id="229" name=""/>
          <p:cNvCxnSpPr>
            <a:stCxn id="226" idx="3"/>
            <a:endCxn id="216" idx="3"/>
          </p:cNvCxnSpPr>
          <p:nvPr/>
        </p:nvCxnSpPr>
        <p:spPr>
          <a:xfrm rot="5400000">
            <a:off x="674640" y="2988000"/>
            <a:ext cx="320040" cy="305640"/>
          </a:xfrm>
          <a:prstGeom prst="bentConnector2">
            <a:avLst/>
          </a:prstGeom>
          <a:ln w="12600">
            <a:solidFill>
              <a:srgbClr val="000066"/>
            </a:solidFill>
            <a:miter/>
            <a:tailEnd len="sm" type="triangle" w="sm"/>
          </a:ln>
        </p:spPr>
      </p:cxnSp>
      <p:sp>
        <p:nvSpPr>
          <p:cNvPr id="219" name=""/>
          <p:cNvSpPr/>
          <p:nvPr/>
        </p:nvSpPr>
        <p:spPr>
          <a:xfrm>
            <a:off x="301680" y="2736720"/>
            <a:ext cx="380880" cy="244440"/>
          </a:xfrm>
          <a:prstGeom prst="flowChartDecision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35200" y="2736720"/>
            <a:ext cx="380880" cy="244440"/>
          </a:xfrm>
          <a:prstGeom prst="flowChartInputOutpu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1680" y="3618000"/>
            <a:ext cx="380880" cy="247680"/>
          </a:xfrm>
          <a:prstGeom prst="flowChartDecision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35200" y="3618000"/>
            <a:ext cx="380880" cy="247680"/>
          </a:xfrm>
          <a:prstGeom prst="flowChartInputOutpu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"/>
          <p:cNvCxnSpPr>
            <a:stCxn id="226" idx="5"/>
            <a:endCxn id="192" idx="1"/>
          </p:cNvCxnSpPr>
          <p:nvPr/>
        </p:nvCxnSpPr>
        <p:spPr>
          <a:xfrm>
            <a:off x="1177560" y="2859120"/>
            <a:ext cx="176760" cy="24480"/>
          </a:xfrm>
          <a:prstGeom prst="bentConnector3">
            <a:avLst>
              <a:gd name="adj1" fmla="val 60204"/>
            </a:avLst>
          </a:prstGeom>
          <a:ln w="12600">
            <a:solidFill>
              <a:srgbClr val="000066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231" name=""/>
          <p:cNvCxnSpPr>
            <a:stCxn id="228" idx="5"/>
            <a:endCxn id="193" idx="1"/>
          </p:cNvCxnSpPr>
          <p:nvPr/>
        </p:nvCxnSpPr>
        <p:spPr>
          <a:xfrm flipV="1">
            <a:off x="1177920" y="3614040"/>
            <a:ext cx="186480" cy="129240"/>
          </a:xfrm>
          <a:prstGeom prst="bentConnector3">
            <a:avLst>
              <a:gd name="adj1" fmla="val 59767"/>
            </a:avLst>
          </a:prstGeom>
          <a:ln w="12600">
            <a:solidFill>
              <a:srgbClr val="000066"/>
            </a:solidFill>
            <a:miter/>
            <a:headEnd len="sm" type="triangle" w="sm"/>
            <a:tailEnd len="sm" type="triangle" w="sm"/>
          </a:ln>
        </p:spPr>
      </p:cxnSp>
      <p:sp>
        <p:nvSpPr>
          <p:cNvPr id="232" name=""/>
          <p:cNvSpPr/>
          <p:nvPr/>
        </p:nvSpPr>
        <p:spPr>
          <a:xfrm>
            <a:off x="381600" y="4149720"/>
            <a:ext cx="7765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ter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"/>
          <p:cNvCxnSpPr>
            <a:stCxn id="193" idx="3"/>
            <a:endCxn id="195" idx="3"/>
          </p:cNvCxnSpPr>
          <p:nvPr/>
        </p:nvCxnSpPr>
        <p:spPr>
          <a:xfrm flipV="1">
            <a:off x="1724040" y="3587040"/>
            <a:ext cx="5633280" cy="27720"/>
          </a:xfrm>
          <a:prstGeom prst="straightConnector1">
            <a:avLst/>
          </a:prstGeom>
          <a:ln w="38160">
            <a:solidFill>
              <a:srgbClr val="6767ff"/>
            </a:solidFill>
            <a:miter/>
            <a:headEnd len="med" type="triangle" w="med"/>
          </a:ln>
        </p:spPr>
      </p:cxnSp>
      <p:cxnSp>
        <p:nvCxnSpPr>
          <p:cNvPr id="234" name=""/>
          <p:cNvCxnSpPr>
            <a:stCxn id="192" idx="3"/>
            <a:endCxn id="194" idx="3"/>
          </p:cNvCxnSpPr>
          <p:nvPr/>
        </p:nvCxnSpPr>
        <p:spPr>
          <a:xfrm flipV="1">
            <a:off x="1714320" y="2855160"/>
            <a:ext cx="5632560" cy="27720"/>
          </a:xfrm>
          <a:prstGeom prst="straightConnector1">
            <a:avLst/>
          </a:prstGeom>
          <a:ln w="38160">
            <a:solidFill>
              <a:srgbClr val="6767ff"/>
            </a:solidFill>
            <a:miter/>
            <a:tailEnd len="med" type="triangle" w="med"/>
          </a:ln>
        </p:spPr>
      </p:cxnSp>
      <p:pic>
        <p:nvPicPr>
          <p:cNvPr id="235" name="" descr=""/>
          <p:cNvPicPr/>
          <p:nvPr/>
        </p:nvPicPr>
        <p:blipFill>
          <a:blip r:embed="rId3"/>
          <a:srcRect l="42157" t="0" r="0" b="0"/>
          <a:stretch/>
        </p:blipFill>
        <p:spPr>
          <a:xfrm>
            <a:off x="3419640" y="2533680"/>
            <a:ext cx="703080" cy="8604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rcRect l="42157" t="0" r="0" b="0"/>
          <a:stretch/>
        </p:blipFill>
        <p:spPr>
          <a:xfrm>
            <a:off x="2322360" y="3057480"/>
            <a:ext cx="703440" cy="860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6245280" y="2236680"/>
            <a:ext cx="1324080" cy="3207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48160" y="3956040"/>
            <a:ext cx="2486160" cy="571680"/>
          </a:xfrm>
          <a:prstGeom prst="rect">
            <a:avLst/>
          </a:prstGeom>
          <a:solidFill>
            <a:srgbClr val="ffecc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siness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wha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19880" y="4221000"/>
            <a:ext cx="1352520" cy="303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46600" y="3013200"/>
            <a:ext cx="576000" cy="768240"/>
          </a:xfrm>
          <a:custGeom>
            <a:avLst/>
            <a:gdLst/>
            <a:ahLst/>
            <a:rect l="l" t="t" r="r" b="b"/>
            <a:pathLst>
              <a:path w="344" h="590">
                <a:moveTo>
                  <a:pt x="0" y="0"/>
                </a:moveTo>
                <a:lnTo>
                  <a:pt x="344" y="28"/>
                </a:lnTo>
                <a:lnTo>
                  <a:pt x="339" y="590"/>
                </a:lnTo>
                <a:lnTo>
                  <a:pt x="0" y="0"/>
                </a:lnTo>
                <a:close/>
              </a:path>
            </a:pathLst>
          </a:custGeom>
          <a:solidFill>
            <a:srgbClr val="ffecc5">
              <a:alpha val="5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392720" y="3052800"/>
            <a:ext cx="1346040" cy="800640"/>
            <a:chOff x="4392720" y="3052800"/>
            <a:chExt cx="1346040" cy="800640"/>
          </a:xfrm>
        </p:grpSpPr>
        <p:sp>
          <p:nvSpPr>
            <p:cNvPr id="242" name=""/>
            <p:cNvSpPr/>
            <p:nvPr/>
          </p:nvSpPr>
          <p:spPr>
            <a:xfrm>
              <a:off x="4392720" y="3052800"/>
              <a:ext cx="1346040" cy="747360"/>
            </a:xfrm>
            <a:prstGeom prst="rect">
              <a:avLst/>
            </a:prstGeom>
            <a:solidFill>
              <a:srgbClr val="ffecc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92720" y="3052800"/>
              <a:ext cx="134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800" spc="-1" strike="noStrike">
                  <a:solidFill>
                    <a:srgbClr val="ccccff"/>
                  </a:solidFill>
                  <a:latin typeface="Courier New"/>
                </a:rPr>
                <a:t>Person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392720" y="3201840"/>
              <a:ext cx="134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92720" y="3151080"/>
              <a:ext cx="13460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6699ff"/>
                  </a:solidFill>
                  <a:latin typeface="Courier New"/>
                </a:rPr>
                <a:t>Identification.</a:t>
              </a:r>
              <a:r>
                <a:rPr b="1" lang="de-DE" sz="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de-DE" sz="800" spc="-1" strike="noStrike">
                  <a:solidFill>
                    <a:srgbClr val="808080"/>
                  </a:solidFill>
                  <a:latin typeface="Courier New"/>
                </a:rPr>
                <a:t>ID</a:t>
              </a:r>
              <a:br>
                <a:rPr sz="800"/>
              </a:br>
              <a:r>
                <a:rPr b="1" lang="de-DE" sz="800" spc="-1" strike="noStrike">
                  <a:solidFill>
                    <a:srgbClr val="6699ff"/>
                  </a:solidFill>
                  <a:latin typeface="Courier New"/>
                </a:rPr>
                <a:t>First</a:t>
              </a:r>
              <a:r>
                <a:rPr b="1" lang="de-DE" sz="800" spc="-1" strike="noStrike">
                  <a:solidFill>
                    <a:srgbClr val="808080"/>
                  </a:solidFill>
                  <a:latin typeface="Courier New"/>
                </a:rPr>
                <a:t>. Name</a:t>
              </a:r>
              <a:br>
                <a:rPr sz="800"/>
              </a:br>
              <a:r>
                <a:rPr b="1" lang="de-DE" sz="800" spc="-1" strike="noStrike">
                  <a:solidFill>
                    <a:srgbClr val="6699ff"/>
                  </a:solidFill>
                  <a:latin typeface="Courier New"/>
                </a:rPr>
                <a:t>Last</a:t>
              </a:r>
              <a:r>
                <a:rPr b="1" lang="de-DE" sz="800" spc="-1" strike="noStrike">
                  <a:solidFill>
                    <a:srgbClr val="808080"/>
                  </a:solidFill>
                  <a:latin typeface="Courier New"/>
                </a:rPr>
                <a:t>. Name</a:t>
              </a:r>
              <a:br>
                <a:rPr sz="800"/>
              </a:br>
              <a:r>
                <a:rPr b="1" lang="de-DE" sz="800" spc="-1" strike="noStrike">
                  <a:solidFill>
                    <a:srgbClr val="de7878"/>
                  </a:solidFill>
                  <a:latin typeface="Courier New"/>
                </a:rPr>
                <a:t>Work. </a:t>
              </a:r>
              <a:r>
                <a:rPr b="1" lang="de-DE" sz="800" spc="-1" strike="noStrike">
                  <a:solidFill>
                    <a:srgbClr val="ccccff"/>
                  </a:solidFill>
                  <a:latin typeface="Courier New"/>
                </a:rPr>
                <a:t>Address</a:t>
              </a:r>
              <a:br>
                <a:rPr sz="800"/>
              </a:br>
              <a:r>
                <a:rPr b="1" lang="de-DE" sz="800" spc="-1" strike="noStrike">
                  <a:solidFill>
                    <a:srgbClr val="de7878"/>
                  </a:solidFill>
                  <a:latin typeface="Courier New"/>
                </a:rPr>
                <a:t>Home. </a:t>
              </a:r>
              <a:r>
                <a:rPr b="1" lang="de-DE" sz="800" spc="-1" strike="noStrike">
                  <a:solidFill>
                    <a:srgbClr val="ccccff"/>
                  </a:solidFill>
                  <a:latin typeface="Courier New"/>
                </a:rPr>
                <a:t>Addres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4392720" y="3794040"/>
            <a:ext cx="2543040" cy="163440"/>
          </a:xfrm>
          <a:custGeom>
            <a:avLst/>
            <a:gdLst/>
            <a:ahLst/>
            <a:rect l="l" t="t" r="r" b="b"/>
            <a:pathLst>
              <a:path w="1602" h="125">
                <a:moveTo>
                  <a:pt x="0" y="0"/>
                </a:moveTo>
                <a:lnTo>
                  <a:pt x="32" y="125"/>
                </a:lnTo>
                <a:lnTo>
                  <a:pt x="1602" y="120"/>
                </a:lnTo>
                <a:lnTo>
                  <a:pt x="85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ecc5">
              <a:alpha val="5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98480" y="4062240"/>
            <a:ext cx="2486160" cy="546120"/>
          </a:xfrm>
          <a:prstGeom prst="rect">
            <a:avLst/>
          </a:prstGeom>
          <a:solidFill>
            <a:srgbClr val="ffecc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siness Message Assem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wha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771640" y="4303800"/>
            <a:ext cx="1352520" cy="3016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C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87680" y="3908520"/>
            <a:ext cx="2492280" cy="153720"/>
          </a:xfrm>
          <a:custGeom>
            <a:avLst/>
            <a:gdLst/>
            <a:ahLst/>
            <a:rect l="l" t="t" r="r" b="b"/>
            <a:pathLst>
              <a:path w="1570" h="117">
                <a:moveTo>
                  <a:pt x="398" y="4"/>
                </a:moveTo>
                <a:lnTo>
                  <a:pt x="0" y="117"/>
                </a:lnTo>
                <a:lnTo>
                  <a:pt x="1570" y="112"/>
                </a:lnTo>
                <a:lnTo>
                  <a:pt x="835" y="0"/>
                </a:lnTo>
                <a:lnTo>
                  <a:pt x="398" y="4"/>
                </a:lnTo>
                <a:close/>
              </a:path>
            </a:pathLst>
          </a:custGeom>
          <a:solidFill>
            <a:srgbClr val="ffecc5">
              <a:alpha val="5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95280" y="4640400"/>
            <a:ext cx="6554880" cy="560160"/>
          </a:xfrm>
          <a:prstGeom prst="rect">
            <a:avLst/>
          </a:prstGeom>
          <a:gradFill rotWithShape="0">
            <a:gsLst>
              <a:gs pos="0">
                <a:srgbClr val="ffecc5"/>
              </a:gs>
              <a:gs pos="100000">
                <a:srgbClr val="ffffff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965240" y="4643280"/>
            <a:ext cx="3554640" cy="547920"/>
          </a:xfrm>
          <a:prstGeom prst="rect">
            <a:avLst/>
          </a:prstGeom>
          <a:solidFill>
            <a:srgbClr val="eddc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CTS &amp; CC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591160" y="4846680"/>
            <a:ext cx="1152720" cy="350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C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03640" y="4869000"/>
            <a:ext cx="1297080" cy="35064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P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4680" y="4740120"/>
            <a:ext cx="1105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ML/XMI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95280" y="5203800"/>
            <a:ext cx="6554880" cy="560520"/>
          </a:xfrm>
          <a:prstGeom prst="rect">
            <a:avLst/>
          </a:prstGeom>
          <a:gradFill rotWithShape="0">
            <a:gsLst>
              <a:gs pos="0">
                <a:srgbClr val="ffecc5"/>
              </a:gs>
              <a:gs pos="100000">
                <a:srgbClr val="ffffff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65240" y="5203800"/>
            <a:ext cx="3554640" cy="555480"/>
          </a:xfrm>
          <a:prstGeom prst="rect">
            <a:avLst/>
          </a:prstGeom>
          <a:solidFill>
            <a:srgbClr val="eddc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778800" y="5408640"/>
            <a:ext cx="1004760" cy="352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MI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BP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46480" y="5408640"/>
            <a:ext cx="1292040" cy="352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MI 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XMLND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5840" y="528480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994040" y="5410080"/>
            <a:ext cx="1234800" cy="352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MI 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EDIF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5767560"/>
            <a:ext cx="6554880" cy="560160"/>
          </a:xfrm>
          <a:prstGeom prst="rect">
            <a:avLst/>
          </a:prstGeom>
          <a:gradFill rotWithShape="0">
            <a:gsLst>
              <a:gs pos="0">
                <a:srgbClr val="ffecc5"/>
              </a:gs>
              <a:gs pos="100000">
                <a:srgbClr val="ffffff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967040" y="5767560"/>
            <a:ext cx="3554280" cy="555480"/>
          </a:xfrm>
          <a:prstGeom prst="rect">
            <a:avLst/>
          </a:prstGeom>
          <a:solidFill>
            <a:srgbClr val="eddc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772320" y="5973840"/>
            <a:ext cx="1004760" cy="35064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S-BP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127320" y="5973840"/>
            <a:ext cx="1249560" cy="35064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MLN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987560" y="5975280"/>
            <a:ext cx="1116000" cy="3510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DIF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-1080" y="5846760"/>
            <a:ext cx="129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580000" y="5408640"/>
            <a:ext cx="1154160" cy="3524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MI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BP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11760" y="5973840"/>
            <a:ext cx="1005120" cy="35064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P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410000" y="5975280"/>
            <a:ext cx="954000" cy="3510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eDo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295280" y="6326280"/>
            <a:ext cx="6553080" cy="487080"/>
            <a:chOff x="1295280" y="6326280"/>
            <a:chExt cx="6553080" cy="487080"/>
          </a:xfrm>
        </p:grpSpPr>
        <p:sp>
          <p:nvSpPr>
            <p:cNvPr id="271" name=""/>
            <p:cNvSpPr/>
            <p:nvPr/>
          </p:nvSpPr>
          <p:spPr>
            <a:xfrm>
              <a:off x="1295280" y="6326280"/>
              <a:ext cx="1640160" cy="485640"/>
            </a:xfrm>
            <a:prstGeom prst="rect">
              <a:avLst/>
            </a:prstGeom>
            <a:gradFill rotWithShape="0">
              <a:gsLst>
                <a:gs pos="0">
                  <a:srgbClr val="ffecc5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aditional EDI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68400" y="6326280"/>
              <a:ext cx="1639440" cy="485640"/>
            </a:xfrm>
            <a:prstGeom prst="rect">
              <a:avLst/>
            </a:prstGeom>
            <a:gradFill rotWithShape="0">
              <a:gsLst>
                <a:gs pos="0">
                  <a:srgbClr val="ffecc5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usine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eb Servi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931840" y="6326280"/>
              <a:ext cx="1639440" cy="485640"/>
            </a:xfrm>
            <a:prstGeom prst="rect">
              <a:avLst/>
            </a:prstGeom>
            <a:gradFill rotWithShape="0">
              <a:gsLst>
                <a:gs pos="0">
                  <a:srgbClr val="ffecc5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bXM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208200" y="6328080"/>
              <a:ext cx="1640160" cy="485280"/>
            </a:xfrm>
            <a:prstGeom prst="rect">
              <a:avLst/>
            </a:prstGeom>
            <a:gradFill rotWithShape="0">
              <a:gsLst>
                <a:gs pos="0">
                  <a:srgbClr val="ffecc5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OA, POA,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212760" y="6323040"/>
            <a:ext cx="10764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ame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1297080" y="1859040"/>
            <a:ext cx="6565680" cy="3664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135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tivation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why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ganiz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wh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245280" y="1889280"/>
            <a:ext cx="1324080" cy="3204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297080" y="1488960"/>
            <a:ext cx="6565680" cy="366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135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siness 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245280" y="1519200"/>
            <a:ext cx="1324080" cy="3207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BAWG Projec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ic Business Architecture Specification (EBA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40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BAS will describe the relationships between all defined UN/CEFACT technical specifications, and non UN/CEFACT specifica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40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ized project propo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40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goal for 2007 is complete ODP Step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ormance and Compliance Definition (CO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40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 a clear and unambiguous definition of compliance/conformance rules for each of the UN/CEFACT specifica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40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ly established in March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40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ased at direction of FM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40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goal for 2007 is complete phase 1 and commence phas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ssary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40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a centralized, common UN/CEFACT Gloss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40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going project that will interface with all other methodology projects in the fo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40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draft available at the TMG web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394160" y="4254480"/>
            <a:ext cx="4505400" cy="24145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New Websit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(Prototype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82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prise Wiki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registered user c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lnSpc>
                <a:spcPct val="80000"/>
              </a:lnSpc>
              <a:spcBef>
                <a:spcPts val="451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, update and generate we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lnSpc>
                <a:spcPct val="80000"/>
              </a:lnSpc>
              <a:spcBef>
                <a:spcPts val="451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news and submit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lnSpc>
                <a:spcPct val="80000"/>
              </a:lnSpc>
              <a:spcBef>
                <a:spcPts val="451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/download attach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s the daily standardization work more efficient and eff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s a consistent  and clear representation of required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be used for all UN/CEFACT standardization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4356000" y="1484280"/>
            <a:ext cx="4581720" cy="26193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6107040" y="3789360"/>
            <a:ext cx="1079640" cy="79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279400" y="2527200"/>
            <a:ext cx="273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 Black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 Black"/>
              </a:rPr>
              <a:t>Template / Edit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474160" y="5048280"/>
            <a:ext cx="24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 Black"/>
              </a:rPr>
              <a:t>Presentatio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quirement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r of new TMG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nistrator of TMG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body who helps us on 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control on mailing 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invitations for prospective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e need Member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re not fin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the concepts and ideas, but members are still requir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spcBef>
                <a:spcPts val="67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nalize the whole stac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spcBef>
                <a:spcPts val="67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stribute our methodologi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spcBef>
                <a:spcPts val="67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o training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MG Mand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spcBef>
                <a:spcPts val="57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purpose of the Techniques &amp; Methodologies Group (TMG) is to provide all UN/CEFACT Groups with Meta (base) Business Process, Information and Communications Technology specifications, methodologies, recommendations and education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spcBef>
                <a:spcPts val="57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TMG shall also function as a research group evaluating new information and communication technologies (ICT), as well as, techniques and methodologies that may assist UN/CEFACT and its groups to fulfill their mandate and vision in Trade Facilitation and e-Busines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hy TMG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the required key methodologies that are necessary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lnSpc>
                <a:spcPct val="80000"/>
              </a:lnSpc>
              <a:spcBef>
                <a:spcPts val="40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ly dynamic and context driven next generation B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lnSpc>
                <a:spcPct val="80000"/>
              </a:lnSpc>
              <a:spcBef>
                <a:spcPts val="40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on and unambiguous understanding on semantic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lnSpc>
                <a:spcPct val="80000"/>
              </a:lnSpc>
              <a:spcBef>
                <a:spcPts val="40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aborative business processes that considers the aspects of contracts / agre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lnSpc>
                <a:spcPct val="80000"/>
              </a:lnSpc>
              <a:spcBef>
                <a:spcPts val="40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ly reusable and flexible building blocks of business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methodologies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lnSpc>
                <a:spcPct val="80000"/>
              </a:lnSpc>
              <a:spcBef>
                <a:spcPts val="40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able with a natural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lnSpc>
                <a:spcPct val="80000"/>
              </a:lnSpc>
              <a:spcBef>
                <a:spcPts val="40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ust for doing collaborative business effectivel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lnSpc>
                <a:spcPct val="80000"/>
              </a:lnSpc>
              <a:spcBef>
                <a:spcPts val="40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key differentiatior to all other existing business stand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lnSpc>
                <a:spcPct val="80000"/>
              </a:lnSpc>
              <a:spcBef>
                <a:spcPts val="40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ly required to realize next generation eBusiness environment (ESO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MG has experience since more than 10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lnSpc>
                <a:spcPct val="80000"/>
              </a:lnSpc>
              <a:spcBef>
                <a:spcPts val="40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derstands the current problematic in deta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lnSpc>
                <a:spcPct val="80000"/>
              </a:lnSpc>
              <a:spcBef>
                <a:spcPts val="40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ve concepts and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lnSpc>
                <a:spcPct val="80000"/>
              </a:lnSpc>
              <a:spcBef>
                <a:spcPts val="40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ificant value add for UN/CEF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lnSpc>
                <a:spcPct val="80000"/>
              </a:lnSpc>
              <a:spcBef>
                <a:spcPts val="40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ables UN/CEFACT to drive future B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eneral Info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880" indent="-405360">
              <a:spcBef>
                <a:spcPts val="57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~ 35 Active Memb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7880" indent="-405360">
              <a:spcBef>
                <a:spcPts val="57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00 Mailing list registrants who participate electronicall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880" indent="-405360">
              <a:spcBef>
                <a:spcPts val="57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nvened during the UN/CEFACT Forum meetings in New Delhi and Dublin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7880" indent="-405360">
              <a:spcBef>
                <a:spcPts val="57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ace-to-face meeting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-331560">
              <a:spcBef>
                <a:spcPts val="524"/>
              </a:spcBef>
              <a:buClr>
                <a:srgbClr val="395da5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June 2006 at SWIFT headquarters in Brusse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-331560">
              <a:spcBef>
                <a:spcPts val="524"/>
              </a:spcBef>
              <a:buClr>
                <a:srgbClr val="395da5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cember 2006 at Oracle in Redwood City, Californ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-331560">
              <a:spcBef>
                <a:spcPts val="524"/>
              </a:spcBef>
              <a:buClr>
                <a:srgbClr val="395da5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ext in July 2007 in Kansas Ci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orking Group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Process Working Group (BPW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spcBef>
                <a:spcPts val="57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vides techniques and methodologies for the description of inter-organizational business processes and the resulting information exchang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spcBef>
                <a:spcPts val="57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~ 15 Active Members (5 also in CCWG and 3 in eBAWG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spcBef>
                <a:spcPts val="57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ttp://www.untmg.org/index.php?option=com_content&amp;task=view&amp;id=26&amp;Itemid=5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Components Working Group (CCW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spcBef>
                <a:spcPts val="57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vides required techniques and methodologies for the development and reuse of business inform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spcBef>
                <a:spcPts val="57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~ 20 Active Members (5 also in BPWG and 7 in eBAWG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spcBef>
                <a:spcPts val="57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ttp://www.untmg.org/index.php?option=com_content&amp;task=view&amp;id=25&amp;Itemid=5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Business Architecture Working Group (EBAW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spcBef>
                <a:spcPts val="57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vides the framework for the different modeling and infrastructure concep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spcBef>
                <a:spcPts val="57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~ 10 Active Members (3 also in BPWG and 7 in CCWG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spcBef>
                <a:spcPts val="57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ttp://www.untmg.org/index.php?option=com_content&amp;task=view&amp;id=28&amp;Itemid=5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227160" y="1628640"/>
          <a:ext cx="8661240" cy="4321440"/>
        </p:xfrm>
        <a:graphic>
          <a:graphicData uri="http://schemas.openxmlformats.org/drawingml/2006/table">
            <a:tbl>
              <a:tblPr/>
              <a:tblGrid>
                <a:gridCol w="4687920"/>
                <a:gridCol w="3973320"/>
              </a:tblGrid>
              <a:tr h="15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6767ff"/>
                          </a:solidFill>
                          <a:latin typeface="Arial"/>
                        </a:rPr>
                        <a:t>UMM UN/CEFACT Modeling Method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les for analyze, design, and maintain collaborative business processes on semantic level. It especially consider the formal realization from contracts, and agreements to collaborative business process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15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6767ff"/>
                          </a:solidFill>
                          <a:latin typeface="Arial"/>
                        </a:rPr>
                        <a:t>UMM Transaction Patter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xed set of smallest pieces of collaborative business process transaction patterns that cover all the known legally binding collaborations at lowest level of request/response interaction between two business partner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128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6767ff"/>
                          </a:solidFill>
                          <a:latin typeface="Arial"/>
                        </a:rPr>
                        <a:t>UMM REA Modu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les for linking economic events together that are required fulfill a  contract of a collaborative business process. The links are activity-to-activity or agent-to-agent or person-to-person, not just company-to-compan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195640" y="1844640"/>
            <a:ext cx="1773000" cy="120960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250920" y="1924200"/>
            <a:ext cx="728640" cy="1073160"/>
            <a:chOff x="250920" y="1924200"/>
            <a:chExt cx="728640" cy="1073160"/>
          </a:xfrm>
        </p:grpSpPr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250920" y="1924200"/>
              <a:ext cx="728640" cy="1073160"/>
            </a:xfrm>
            <a:prstGeom prst="rect">
              <a:avLst/>
            </a:prstGeom>
            <a:ln w="9360">
              <a:solidFill>
                <a:srgbClr val="6767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09" name=""/>
            <p:cNvSpPr/>
            <p:nvPr/>
          </p:nvSpPr>
          <p:spPr>
            <a:xfrm>
              <a:off x="302400" y="2811600"/>
              <a:ext cx="6271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208160" y="2276640"/>
            <a:ext cx="842760" cy="385560"/>
          </a:xfrm>
          <a:prstGeom prst="rightArrow">
            <a:avLst>
              <a:gd name="adj1" fmla="val 50000"/>
              <a:gd name="adj2" fmla="val 54645"/>
            </a:avLst>
          </a:prstGeom>
          <a:solidFill>
            <a:srgbClr val="cccc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35080" y="2301840"/>
            <a:ext cx="88920" cy="335160"/>
          </a:xfrm>
          <a:custGeom>
            <a:avLst/>
            <a:gdLst>
              <a:gd name="textAreaLeft" fmla="*/ 56880 w 88920"/>
              <a:gd name="textAreaRight" fmla="*/ 89280 w 88920"/>
              <a:gd name="textAreaTop" fmla="*/ 8640 h 335160"/>
              <a:gd name="textAreaBottom" fmla="*/ 326520 h 335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95640" y="1916280"/>
            <a:ext cx="882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808080"/>
                </a:solidFill>
                <a:latin typeface="Arial"/>
              </a:rPr>
              <a:t>What are the agreed process step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63840" y="2155680"/>
            <a:ext cx="27000" cy="16848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3796560" y="2206800"/>
            <a:ext cx="88920" cy="334800"/>
          </a:xfrm>
          <a:custGeom>
            <a:avLst/>
            <a:gdLst>
              <a:gd name="textAreaLeft" fmla="*/ 56520 w 88920"/>
              <a:gd name="textAreaRight" fmla="*/ 88920 w 88920"/>
              <a:gd name="textAreaTop" fmla="*/ 8640 h 334800"/>
              <a:gd name="textAreaBottom" fmla="*/ 326160 h 33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75040" y="2378160"/>
            <a:ext cx="117360" cy="1116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cope of BPW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"/>
          <p:cNvSpPr/>
          <p:nvPr/>
        </p:nvSpPr>
        <p:spPr>
          <a:xfrm>
            <a:off x="971640" y="1484280"/>
            <a:ext cx="1231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808080"/>
                </a:solidFill>
                <a:latin typeface="Arial"/>
              </a:rPr>
              <a:t>How to formalize contract paragrap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195640" y="3429000"/>
          <a:ext cx="2376360" cy="112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3429000"/>
                    <a:ext cx="237636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179280" y="3573360"/>
            <a:ext cx="187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808080"/>
                </a:solidFill>
                <a:latin typeface="Arial"/>
              </a:rPr>
              <a:t>What are the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808080"/>
                </a:solidFill>
                <a:latin typeface="Arial"/>
              </a:rPr>
              <a:t>process steps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808080"/>
                </a:solidFill>
                <a:latin typeface="Arial"/>
              </a:rPr>
              <a:t>considers the smallest legal aspe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639800" y="3908520"/>
            <a:ext cx="368280" cy="3816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2413080" y="5013360"/>
            <a:ext cx="1773000" cy="1209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24000" y="5157720"/>
            <a:ext cx="1873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How must the economic events linked together that they are fulfill the contra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19160" y="5335560"/>
            <a:ext cx="725760" cy="28728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19160" y="5622840"/>
            <a:ext cx="739800" cy="29232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947960" y="5322960"/>
            <a:ext cx="1170000" cy="29376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27080" y="5624640"/>
            <a:ext cx="1212840" cy="32832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PWG Projec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/CEFACT Modeling Methodology (UM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55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rst technical specification was released in December 200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55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new project for the next version was started in March 200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55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UMM concepts will be based on UML 2.0 pro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ources-Events-Agents Economic Ontology (REA) Specialization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55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A describes an enterprise ontology, which explains the types of entities or classes that are expected to see in a specific business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55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pproved requirements specification (ODP Step 2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0T14:41:44Z</dcterms:created>
  <dc:creator>D029024</dc:creator>
  <dc:description/>
  <dc:language>en-US</dc:language>
  <cp:lastModifiedBy>Mika Vepsalainen</cp:lastModifiedBy>
  <dcterms:modified xsi:type="dcterms:W3CDTF">2007-08-24T09:41:24Z</dcterms:modified>
  <cp:revision>82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