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D5BC-DEEE-4A56-B436-88494514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96C3-224C-4807-A7B2-732FBDAF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MG plenary reviewed the Draft TMG and approve it with minor changes as indicated in the slides follo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s to the Purpose and Scope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503-C71F-4D8F-9F6D-671080AC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0DD-6FC5-4ECA-808D-18D63919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26A-D2B4-45C4-B6A8-0D9EDAC4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B13-101F-4E21-A1BD-D710A283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A07C-9086-4FFA-A62F-EE6A1F36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4D92-8CF1-4407-9B0A-05755E8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1835-0CE8-4C69-8E2E-982B18F6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3032-B174-4D03-81D2-15E5C872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8969-3550-4F0B-982F-BAFDFC10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088B-E4B9-4D24-886E-21AA1E3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6324-2A7D-4F08-B1E1-C562494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85D-D26A-4BCD-A98E-05539F87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BB36-F640-430B-A317-7B63771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673E-40C8-4D3B-AFF7-6AF6B14A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8386-1814-4861-BD0D-B87B390E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93B1-D5CF-4329-9AD7-4EC6ACFC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CEF9-1392-45CF-841A-CEA33E31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61A-EB58-4E4B-9ADA-232EB72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A7E-7870-41C8-94A7-3488B1B7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B58-93D3-49F0-9336-FCE4A527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525-4B4A-4DA6-8B4F-6C4CDB23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9C5-4032-41D5-87F6-C6BF69A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DFA-A16C-46CE-95A0-59F86BB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E6E-382D-49A5-AEF4-ED563DC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33516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255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5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5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5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.-16.05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MG Report to the Ple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4A5-2A07-4F8B-9018-D28D04637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.-16.05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MG Report to the Ple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666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868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476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UN/CEFACT TMG Repor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Gunther Stuh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: Christian Hu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P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L Profile for Core Components (UPC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as formerly Business Collaboration Specification Schema (BCS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ransferred to Core Components Working Group (CCW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t ODP step 6, Implementation Verific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s both UML versions 1.4 and 2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 Schema Specification (BP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OASIS’ BPSS version 2.4 will be submitted to ISO’s TC 154 for approv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G recommends supporting this submission of OASIS BPSS to IS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OASIS starts next version, TMG will provide business process experts for reaching the consistency between BPSS and UM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Business Agreements and Contracts (UB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resources and time to proce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G transferred UBAC to Legal Group (L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2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G will assist the L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of CCW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600200"/>
          <a:ext cx="8218440" cy="4862520"/>
        </p:xfrm>
        <a:graphic>
          <a:graphicData uri="http://schemas.openxmlformats.org/drawingml/2006/table">
            <a:tbl>
              <a:tblPr/>
              <a:tblGrid>
                <a:gridCol w="5327640"/>
                <a:gridCol w="2890800"/>
              </a:tblGrid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CCTS (Core Component Technical Specif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naming, structuring and reusing core compone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CM (Universal Context Methodolog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clarifying how to structure and use CCs in specific contexts, such as a Shipping Address for Germany or the U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CCMA (Core Component Message Assembly Specific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assembling messages from CCs such as – Purchase Order, Ship Notice, Inv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986200" y="1712880"/>
            <a:ext cx="1730160" cy="1128600"/>
            <a:chOff x="2986200" y="1712880"/>
            <a:chExt cx="1730160" cy="1128600"/>
          </a:xfrm>
        </p:grpSpPr>
        <p:sp>
          <p:nvSpPr>
            <p:cNvPr id="136" name=""/>
            <p:cNvSpPr/>
            <p:nvPr/>
          </p:nvSpPr>
          <p:spPr>
            <a:xfrm>
              <a:off x="2986200" y="1712880"/>
              <a:ext cx="1730160" cy="112860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86200" y="1712880"/>
              <a:ext cx="173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000" spc="-1" strike="noStrike">
                  <a:solidFill>
                    <a:srgbClr val="3636a4"/>
                  </a:solidFill>
                  <a:latin typeface="Courier New"/>
                </a:rPr>
                <a:t>Addres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6200" y="1938240"/>
              <a:ext cx="17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86200" y="2035800"/>
              <a:ext cx="1730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House Number. Text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Stree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Postal Code. ID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Country. 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16000" y="1701720"/>
            <a:ext cx="1623960" cy="1128960"/>
            <a:chOff x="1116000" y="1701720"/>
            <a:chExt cx="1623960" cy="1128960"/>
          </a:xfrm>
        </p:grpSpPr>
        <p:sp>
          <p:nvSpPr>
            <p:cNvPr id="141" name=""/>
            <p:cNvSpPr/>
            <p:nvPr/>
          </p:nvSpPr>
          <p:spPr>
            <a:xfrm>
              <a:off x="1116000" y="1701720"/>
              <a:ext cx="1623960" cy="112896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6000" y="1701720"/>
              <a:ext cx="16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000" spc="-1" strike="noStrike">
                  <a:solidFill>
                    <a:srgbClr val="3636a4"/>
                  </a:solidFill>
                  <a:latin typeface="Courier New"/>
                </a:rPr>
                <a:t>Pers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6000" y="1927080"/>
              <a:ext cx="16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6000" y="1950480"/>
              <a:ext cx="162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Identification. ID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Fir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La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Work. Address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Home. Add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2330280" y="1903320"/>
            <a:ext cx="714600" cy="533520"/>
          </a:xfrm>
          <a:prstGeom prst="line">
            <a:avLst/>
          </a:prstGeom>
          <a:ln w="1260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24160" y="1905120"/>
            <a:ext cx="720720" cy="658800"/>
          </a:xfrm>
          <a:prstGeom prst="line">
            <a:avLst/>
          </a:prstGeom>
          <a:ln w="1260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2062080"/>
            <a:ext cx="7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n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46280" y="2089080"/>
            <a:ext cx="590400" cy="1317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47960" y="1727280"/>
            <a:ext cx="12600" cy="296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41300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associ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206064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struct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40000" y="2436840"/>
            <a:ext cx="0" cy="1382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959120"/>
            <a:ext cx="88920" cy="893520"/>
          </a:xfrm>
          <a:custGeom>
            <a:avLst/>
            <a:gdLst>
              <a:gd name="textAreaLeft" fmla="*/ 0 w 88920"/>
              <a:gd name="textAreaRight" fmla="*/ 32040 w 88920"/>
              <a:gd name="textAreaTop" fmla="*/ 23040 h 893520"/>
              <a:gd name="textAreaBottom" fmla="*/ 870480 h 89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42157" t="0" r="0" b="0"/>
          <a:stretch/>
        </p:blipFill>
        <p:spPr>
          <a:xfrm>
            <a:off x="1793880" y="4795920"/>
            <a:ext cx="70308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3909960" y="4861080"/>
            <a:ext cx="1598760" cy="1191960"/>
            <a:chOff x="3909960" y="4861080"/>
            <a:chExt cx="1598760" cy="1191960"/>
          </a:xfrm>
        </p:grpSpPr>
        <p:sp>
          <p:nvSpPr>
            <p:cNvPr id="156" name=""/>
            <p:cNvSpPr/>
            <p:nvPr/>
          </p:nvSpPr>
          <p:spPr>
            <a:xfrm>
              <a:off x="3909960" y="4861080"/>
              <a:ext cx="1598760" cy="119196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09960" y="4861080"/>
              <a:ext cx="15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000" spc="-1" strike="noStrike">
                  <a:solidFill>
                    <a:srgbClr val="3636a4"/>
                  </a:solidFill>
                  <a:latin typeface="Courier New"/>
                </a:rPr>
                <a:t>Pers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09960" y="5099040"/>
              <a:ext cx="15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09960" y="5149440"/>
              <a:ext cx="1598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Identification. ID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Fir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Last. Name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Work. Address</a:t>
              </a:r>
              <a:br>
                <a:rPr sz="1000"/>
              </a:br>
              <a:r>
                <a:rPr b="1" lang="de-DE" sz="1000" spc="-1" strike="noStrike">
                  <a:solidFill>
                    <a:srgbClr val="3636a4"/>
                  </a:solidFill>
                  <a:latin typeface="Courier New"/>
                </a:rPr>
                <a:t>Home. Add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395440" y="4951440"/>
            <a:ext cx="1516320" cy="417600"/>
          </a:xfrm>
          <a:custGeom>
            <a:avLst/>
            <a:gdLst/>
            <a:ahLst/>
            <a:rect l="l" t="t" r="r" b="b"/>
            <a:pathLst>
              <a:path w="445" h="263">
                <a:moveTo>
                  <a:pt x="445" y="23"/>
                </a:moveTo>
                <a:cubicBezTo>
                  <a:pt x="362" y="11"/>
                  <a:pt x="279" y="0"/>
                  <a:pt x="205" y="40"/>
                </a:cubicBezTo>
                <a:cubicBezTo>
                  <a:pt x="131" y="80"/>
                  <a:pt x="36" y="227"/>
                  <a:pt x="0" y="263"/>
                </a:cubicBezTo>
              </a:path>
            </a:pathLst>
          </a:custGeom>
          <a:noFill/>
          <a:ln w="12600">
            <a:solidFill>
              <a:srgbClr val="6767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5083200"/>
            <a:ext cx="130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structure a messa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265400" y="4937040"/>
            <a:ext cx="42840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98880" y="5018040"/>
            <a:ext cx="54000" cy="3016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3000" y="529416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How to assemble data types in a messa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920" y="3151080"/>
            <a:ext cx="5729400" cy="1434600"/>
            <a:chOff x="34920" y="3151080"/>
            <a:chExt cx="5729400" cy="1434600"/>
          </a:xfrm>
        </p:grpSpPr>
        <p:grpSp>
          <p:nvGrpSpPr>
            <p:cNvPr id="166" name=""/>
            <p:cNvGrpSpPr/>
            <p:nvPr/>
          </p:nvGrpSpPr>
          <p:grpSpPr>
            <a:xfrm>
              <a:off x="2986200" y="3156120"/>
              <a:ext cx="1657080" cy="1125360"/>
              <a:chOff x="2986200" y="3156120"/>
              <a:chExt cx="1657080" cy="1125360"/>
            </a:xfrm>
          </p:grpSpPr>
          <p:sp>
            <p:nvSpPr>
              <p:cNvPr id="167" name=""/>
              <p:cNvSpPr/>
              <p:nvPr/>
            </p:nvSpPr>
            <p:spPr>
              <a:xfrm>
                <a:off x="2986200" y="3156120"/>
                <a:ext cx="1657080" cy="1125360"/>
              </a:xfrm>
              <a:prstGeom prst="rect">
                <a:avLst/>
              </a:prstGeom>
              <a:solidFill>
                <a:srgbClr val="ffecc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86200" y="3156120"/>
                <a:ext cx="1657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000" spc="-1" strike="noStrike">
                    <a:solidFill>
                      <a:srgbClr val="3636a4"/>
                    </a:solidFill>
                    <a:latin typeface="Courier New"/>
                  </a:rPr>
                  <a:t>Address</a:t>
                </a:r>
                <a:r>
                  <a:rPr b="1" i="1" lang="de-DE" sz="1000" spc="-1" strike="noStrike">
                    <a:solidFill>
                      <a:srgbClr val="ccccff"/>
                    </a:solidFill>
                    <a:latin typeface="Courier New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86200" y="3380760"/>
                <a:ext cx="165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86200" y="3477600"/>
                <a:ext cx="16570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House Number. Text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Street. Name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Postal Code. ID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Country. 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114560" y="3151080"/>
              <a:ext cx="1657080" cy="1154160"/>
              <a:chOff x="1114560" y="3151080"/>
              <a:chExt cx="1657080" cy="1154160"/>
            </a:xfrm>
          </p:grpSpPr>
          <p:sp>
            <p:nvSpPr>
              <p:cNvPr id="172" name=""/>
              <p:cNvSpPr/>
              <p:nvPr/>
            </p:nvSpPr>
            <p:spPr>
              <a:xfrm>
                <a:off x="1114560" y="3151080"/>
                <a:ext cx="1657080" cy="1154160"/>
              </a:xfrm>
              <a:prstGeom prst="rect">
                <a:avLst/>
              </a:prstGeom>
              <a:solidFill>
                <a:srgbClr val="ffecc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14560" y="3151080"/>
                <a:ext cx="1657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000" spc="-1" strike="noStrike">
                    <a:solidFill>
                      <a:srgbClr val="3636a4"/>
                    </a:solidFill>
                    <a:latin typeface="Courier New"/>
                  </a:rPr>
                  <a:t>Person</a:t>
                </a:r>
                <a:r>
                  <a:rPr b="1" i="1" lang="de-DE" sz="1000" spc="-1" strike="noStrike">
                    <a:solidFill>
                      <a:srgbClr val="ccccff"/>
                    </a:solidFill>
                    <a:latin typeface="Courier New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14560" y="3381480"/>
                <a:ext cx="165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14560" y="3414960"/>
                <a:ext cx="165708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Identification. ID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First. Name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Last. Name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Work. Address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3636a4"/>
                    </a:solidFill>
                    <a:latin typeface="Courier New"/>
                  </a:rPr>
                  <a:t>Home. Addr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4920" y="3201840"/>
              <a:ext cx="12747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08080"/>
                  </a:solidFill>
                  <a:latin typeface="Arial"/>
                </a:rPr>
                <a:t>Is „Work Address“ necessary in all industri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84000" y="3992400"/>
              <a:ext cx="502920" cy="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1200" y="3213000"/>
              <a:ext cx="11131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08080"/>
                  </a:solidFill>
                  <a:latin typeface="Arial"/>
                </a:rPr>
                <a:t>Which „Postal Code. IDs“ are required in Germany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242960" y="3564000"/>
              <a:ext cx="520920" cy="21276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C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s Technical Specification (C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ed CCTS V3.0 to second public review in ODP Step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ambiguities, strengthens reuse, modularizes standards stack (i.e. removal of registry r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content (data types, CCTS V3.0 does not consider any content anym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CTs (Core Components Types) in CCTS V2.01 are moved to ATG (Applied Technologies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is to reach ODP7 – approved technical specification by end of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C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 Message Assembly (CC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with ODP step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itial draft is under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MA specification will  bridge the current gap between UMM and C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 model allows an easy and consistent mapping into technical protocols such as WSDL (Web Services Defini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Context Methodology (UC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ODP 2 p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required at the request of many major contribu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4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terest is being realized in thi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30040" y="1490760"/>
            <a:ext cx="1073160" cy="718920"/>
            <a:chOff x="230040" y="1490760"/>
            <a:chExt cx="1073160" cy="7189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30040" y="1490760"/>
              <a:ext cx="1073160" cy="718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6" name=""/>
            <p:cNvSpPr/>
            <p:nvPr/>
          </p:nvSpPr>
          <p:spPr>
            <a:xfrm>
              <a:off x="286200" y="1540800"/>
              <a:ext cx="96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7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br>
                <a:rPr sz="1700"/>
              </a:br>
              <a:r>
                <a:rPr b="1" lang="de-DE" sz="17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819200" y="1486080"/>
            <a:ext cx="1137960" cy="745920"/>
            <a:chOff x="7819200" y="1486080"/>
            <a:chExt cx="1137960" cy="7459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7867080" y="1486080"/>
              <a:ext cx="1043640" cy="745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9" name=""/>
            <p:cNvSpPr/>
            <p:nvPr/>
          </p:nvSpPr>
          <p:spPr>
            <a:xfrm>
              <a:off x="7819200" y="1486080"/>
              <a:ext cx="113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Business 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BAWG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78720" y="2224080"/>
            <a:ext cx="6566040" cy="2408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3960" y="2735280"/>
            <a:ext cx="36072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63680" y="3467160"/>
            <a:ext cx="36036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344720" y="2708280"/>
            <a:ext cx="36036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354080" y="3440160"/>
            <a:ext cx="360360" cy="295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844760" y="2224080"/>
            <a:ext cx="1066680" cy="24084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454240" y="3176640"/>
            <a:ext cx="381240" cy="2476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454240" y="2295360"/>
            <a:ext cx="381240" cy="246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2"/>
            <a:endCxn id="200" idx="0"/>
          </p:cNvCxnSpPr>
          <p:nvPr/>
        </p:nvCxnSpPr>
        <p:spPr>
          <a:xfrm>
            <a:off x="8645040" y="254160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1" name=""/>
          <p:cNvCxnSpPr>
            <a:stCxn id="200" idx="2"/>
            <a:endCxn id="197" idx="0"/>
          </p:cNvCxnSpPr>
          <p:nvPr/>
        </p:nvCxnSpPr>
        <p:spPr>
          <a:xfrm>
            <a:off x="8645040" y="2980800"/>
            <a:ext cx="1080" cy="1962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2" name=""/>
          <p:cNvCxnSpPr>
            <a:stCxn id="197" idx="2"/>
            <a:endCxn id="203" idx="0"/>
          </p:cNvCxnSpPr>
          <p:nvPr/>
        </p:nvCxnSpPr>
        <p:spPr>
          <a:xfrm>
            <a:off x="8645040" y="3424320"/>
            <a:ext cx="1080" cy="1944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04" name=""/>
          <p:cNvSpPr/>
          <p:nvPr/>
        </p:nvSpPr>
        <p:spPr>
          <a:xfrm flipH="1">
            <a:off x="8454240" y="4060800"/>
            <a:ext cx="381240" cy="16344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3" idx="2"/>
            <a:endCxn id="204" idx="0"/>
          </p:cNvCxnSpPr>
          <p:nvPr/>
        </p:nvCxnSpPr>
        <p:spPr>
          <a:xfrm>
            <a:off x="8645040" y="386568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6" name=""/>
          <p:cNvCxnSpPr>
            <a:stCxn id="200" idx="3"/>
            <a:endCxn id="207" idx="2"/>
          </p:cNvCxnSpPr>
          <p:nvPr/>
        </p:nvCxnSpPr>
        <p:spPr>
          <a:xfrm flipH="1">
            <a:off x="8262360" y="2858760"/>
            <a:ext cx="192600" cy="10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08" name=""/>
          <p:cNvCxnSpPr>
            <a:stCxn id="203" idx="3"/>
            <a:endCxn id="209" idx="2"/>
          </p:cNvCxnSpPr>
          <p:nvPr/>
        </p:nvCxnSpPr>
        <p:spPr>
          <a:xfrm rot="10800000">
            <a:off x="8262360" y="3741120"/>
            <a:ext cx="192600" cy="108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10" name=""/>
          <p:cNvCxnSpPr>
            <a:stCxn id="207" idx="3"/>
            <a:endCxn id="197" idx="3"/>
          </p:cNvCxnSpPr>
          <p:nvPr/>
        </p:nvCxnSpPr>
        <p:spPr>
          <a:xfrm flipH="1" rot="16200000">
            <a:off x="8142840" y="2988000"/>
            <a:ext cx="320040" cy="30528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 flipH="1">
            <a:off x="8454240" y="2736720"/>
            <a:ext cx="381240" cy="24444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21800" y="2736720"/>
            <a:ext cx="380880" cy="24444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454240" y="3618000"/>
            <a:ext cx="381240" cy="24768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921800" y="3618000"/>
            <a:ext cx="380880" cy="24768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7" idx="5"/>
            <a:endCxn id="194" idx="1"/>
          </p:cNvCxnSpPr>
          <p:nvPr/>
        </p:nvCxnSpPr>
        <p:spPr>
          <a:xfrm rot="10800000">
            <a:off x="7706520" y="2855160"/>
            <a:ext cx="253080" cy="3960"/>
          </a:xfrm>
          <a:prstGeom prst="bentConnector3">
            <a:avLst>
              <a:gd name="adj1" fmla="val 57834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12" name=""/>
          <p:cNvCxnSpPr>
            <a:stCxn id="209" idx="5"/>
            <a:endCxn id="195" idx="1"/>
          </p:cNvCxnSpPr>
          <p:nvPr/>
        </p:nvCxnSpPr>
        <p:spPr>
          <a:xfrm rot="10800000">
            <a:off x="7716240" y="3587040"/>
            <a:ext cx="243360" cy="154800"/>
          </a:xfrm>
          <a:prstGeom prst="bentConnector3">
            <a:avLst>
              <a:gd name="adj1" fmla="val 58074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sp>
        <p:nvSpPr>
          <p:cNvPr id="213" name=""/>
          <p:cNvSpPr/>
          <p:nvPr/>
        </p:nvSpPr>
        <p:spPr>
          <a:xfrm>
            <a:off x="8001720" y="4149720"/>
            <a:ext cx="776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83000" y="2206800"/>
            <a:ext cx="3867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llaborative (external) Busines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360" y="2224080"/>
            <a:ext cx="1067040" cy="24084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1680" y="3176640"/>
            <a:ext cx="380880" cy="2476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1680" y="2295360"/>
            <a:ext cx="380880" cy="246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7" idx="2"/>
            <a:endCxn id="219" idx="0"/>
          </p:cNvCxnSpPr>
          <p:nvPr/>
        </p:nvCxnSpPr>
        <p:spPr>
          <a:xfrm>
            <a:off x="491760" y="254160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0" name=""/>
          <p:cNvCxnSpPr>
            <a:stCxn id="219" idx="2"/>
            <a:endCxn id="216" idx="0"/>
          </p:cNvCxnSpPr>
          <p:nvPr/>
        </p:nvCxnSpPr>
        <p:spPr>
          <a:xfrm>
            <a:off x="491760" y="2980800"/>
            <a:ext cx="1080" cy="1962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491760" y="3424320"/>
            <a:ext cx="1080" cy="1944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23" name=""/>
          <p:cNvSpPr/>
          <p:nvPr/>
        </p:nvSpPr>
        <p:spPr>
          <a:xfrm>
            <a:off x="301680" y="4060800"/>
            <a:ext cx="380880" cy="16344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22" idx="2"/>
            <a:endCxn id="223" idx="0"/>
          </p:cNvCxnSpPr>
          <p:nvPr/>
        </p:nvCxnSpPr>
        <p:spPr>
          <a:xfrm>
            <a:off x="491760" y="3865680"/>
            <a:ext cx="1080" cy="1958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5" name=""/>
          <p:cNvCxnSpPr>
            <a:stCxn id="219" idx="3"/>
            <a:endCxn id="226" idx="2"/>
          </p:cNvCxnSpPr>
          <p:nvPr/>
        </p:nvCxnSpPr>
        <p:spPr>
          <a:xfrm>
            <a:off x="682200" y="2858760"/>
            <a:ext cx="191160" cy="10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7" name=""/>
          <p:cNvCxnSpPr>
            <a:stCxn id="222" idx="3"/>
            <a:endCxn id="228" idx="2"/>
          </p:cNvCxnSpPr>
          <p:nvPr/>
        </p:nvCxnSpPr>
        <p:spPr>
          <a:xfrm>
            <a:off x="682200" y="3741480"/>
            <a:ext cx="191160" cy="108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cxnSp>
        <p:nvCxnSpPr>
          <p:cNvPr id="229" name=""/>
          <p:cNvCxnSpPr>
            <a:stCxn id="226" idx="3"/>
            <a:endCxn id="216" idx="3"/>
          </p:cNvCxnSpPr>
          <p:nvPr/>
        </p:nvCxnSpPr>
        <p:spPr>
          <a:xfrm rot="5400000">
            <a:off x="674640" y="2988000"/>
            <a:ext cx="320040" cy="305640"/>
          </a:xfrm>
          <a:prstGeom prst="bentConnector2">
            <a:avLst/>
          </a:prstGeom>
          <a:ln w="12600">
            <a:solidFill>
              <a:srgbClr val="000066"/>
            </a:solidFill>
            <a:miter/>
            <a:tailEnd len="sm" type="triangle" w="sm"/>
          </a:ln>
        </p:spPr>
      </p:cxnSp>
      <p:sp>
        <p:nvSpPr>
          <p:cNvPr id="219" name=""/>
          <p:cNvSpPr/>
          <p:nvPr/>
        </p:nvSpPr>
        <p:spPr>
          <a:xfrm>
            <a:off x="301680" y="2736720"/>
            <a:ext cx="380880" cy="24444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5200" y="2736720"/>
            <a:ext cx="380880" cy="24444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1680" y="3618000"/>
            <a:ext cx="380880" cy="24768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5200" y="3618000"/>
            <a:ext cx="380880" cy="24768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6" idx="5"/>
            <a:endCxn id="192" idx="1"/>
          </p:cNvCxnSpPr>
          <p:nvPr/>
        </p:nvCxnSpPr>
        <p:spPr>
          <a:xfrm>
            <a:off x="1177560" y="2859120"/>
            <a:ext cx="176760" cy="24480"/>
          </a:xfrm>
          <a:prstGeom prst="bentConnector3">
            <a:avLst>
              <a:gd name="adj1" fmla="val 60204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31" name=""/>
          <p:cNvCxnSpPr>
            <a:stCxn id="228" idx="5"/>
            <a:endCxn id="193" idx="1"/>
          </p:cNvCxnSpPr>
          <p:nvPr/>
        </p:nvCxnSpPr>
        <p:spPr>
          <a:xfrm flipV="1">
            <a:off x="1177920" y="3614040"/>
            <a:ext cx="186480" cy="129240"/>
          </a:xfrm>
          <a:prstGeom prst="bentConnector3">
            <a:avLst>
              <a:gd name="adj1" fmla="val 59767"/>
            </a:avLst>
          </a:prstGeom>
          <a:ln w="12600">
            <a:solidFill>
              <a:srgbClr val="000066"/>
            </a:solidFill>
            <a:miter/>
            <a:headEnd len="sm" type="triangle" w="sm"/>
            <a:tailEnd len="sm" type="triangle" w="sm"/>
          </a:ln>
        </p:spPr>
      </p:cxnSp>
      <p:sp>
        <p:nvSpPr>
          <p:cNvPr id="232" name=""/>
          <p:cNvSpPr/>
          <p:nvPr/>
        </p:nvSpPr>
        <p:spPr>
          <a:xfrm>
            <a:off x="381600" y="4149720"/>
            <a:ext cx="776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193" idx="3"/>
            <a:endCxn id="195" idx="3"/>
          </p:cNvCxnSpPr>
          <p:nvPr/>
        </p:nvCxnSpPr>
        <p:spPr>
          <a:xfrm flipV="1">
            <a:off x="1724040" y="3587040"/>
            <a:ext cx="5633280" cy="27720"/>
          </a:xfrm>
          <a:prstGeom prst="straightConnector1">
            <a:avLst/>
          </a:prstGeom>
          <a:ln w="38160">
            <a:solidFill>
              <a:srgbClr val="6767ff"/>
            </a:solidFill>
            <a:miter/>
            <a:headEnd len="med" type="triangle" w="med"/>
          </a:ln>
        </p:spPr>
      </p:cxnSp>
      <p:cxnSp>
        <p:nvCxnSpPr>
          <p:cNvPr id="234" name=""/>
          <p:cNvCxnSpPr>
            <a:stCxn id="192" idx="3"/>
            <a:endCxn id="194" idx="3"/>
          </p:cNvCxnSpPr>
          <p:nvPr/>
        </p:nvCxnSpPr>
        <p:spPr>
          <a:xfrm flipV="1">
            <a:off x="1714320" y="2855160"/>
            <a:ext cx="5632560" cy="27720"/>
          </a:xfrm>
          <a:prstGeom prst="straightConnector1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</p:cxnSp>
      <p:pic>
        <p:nvPicPr>
          <p:cNvPr id="235" name="" descr=""/>
          <p:cNvPicPr/>
          <p:nvPr/>
        </p:nvPicPr>
        <p:blipFill>
          <a:blip r:embed="rId3"/>
          <a:srcRect l="42157" t="0" r="0" b="0"/>
          <a:stretch/>
        </p:blipFill>
        <p:spPr>
          <a:xfrm>
            <a:off x="3419640" y="2533680"/>
            <a:ext cx="703080" cy="860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rcRect l="42157" t="0" r="0" b="0"/>
          <a:stretch/>
        </p:blipFill>
        <p:spPr>
          <a:xfrm>
            <a:off x="2322360" y="3057480"/>
            <a:ext cx="703440" cy="86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245280" y="2236680"/>
            <a:ext cx="1324080" cy="320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8160" y="3956040"/>
            <a:ext cx="2486160" cy="571680"/>
          </a:xfrm>
          <a:prstGeom prst="rect">
            <a:avLst/>
          </a:prstGeom>
          <a:solidFill>
            <a:srgbClr val="ffecc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a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9880" y="4221000"/>
            <a:ext cx="1352520" cy="303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46600" y="3013200"/>
            <a:ext cx="576000" cy="768240"/>
          </a:xfrm>
          <a:custGeom>
            <a:avLst/>
            <a:gdLst/>
            <a:ahLst/>
            <a:rect l="l" t="t" r="r" b="b"/>
            <a:pathLst>
              <a:path w="344" h="590">
                <a:moveTo>
                  <a:pt x="0" y="0"/>
                </a:moveTo>
                <a:lnTo>
                  <a:pt x="344" y="28"/>
                </a:lnTo>
                <a:lnTo>
                  <a:pt x="339" y="590"/>
                </a:lnTo>
                <a:lnTo>
                  <a:pt x="0" y="0"/>
                </a:lnTo>
                <a:close/>
              </a:path>
            </a:pathLst>
          </a:custGeom>
          <a:solidFill>
            <a:srgbClr val="ffecc5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92720" y="3052800"/>
            <a:ext cx="1346040" cy="800640"/>
            <a:chOff x="4392720" y="3052800"/>
            <a:chExt cx="1346040" cy="800640"/>
          </a:xfrm>
        </p:grpSpPr>
        <p:sp>
          <p:nvSpPr>
            <p:cNvPr id="242" name=""/>
            <p:cNvSpPr/>
            <p:nvPr/>
          </p:nvSpPr>
          <p:spPr>
            <a:xfrm>
              <a:off x="4392720" y="3052800"/>
              <a:ext cx="1346040" cy="747360"/>
            </a:xfrm>
            <a:prstGeom prst="rect">
              <a:avLst/>
            </a:prstGeom>
            <a:solidFill>
              <a:srgbClr val="ffec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92720" y="3052800"/>
              <a:ext cx="134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ccccff"/>
                  </a:solidFill>
                  <a:latin typeface="Courier New"/>
                </a:rPr>
                <a:t>Person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92720" y="320184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2720" y="3151080"/>
              <a:ext cx="1346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6699ff"/>
                  </a:solidFill>
                  <a:latin typeface="Courier New"/>
                </a:rPr>
                <a:t>Identification.</a:t>
              </a:r>
              <a:r>
                <a:rPr b="1" lang="de-DE" sz="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800" spc="-1" strike="noStrike">
                  <a:solidFill>
                    <a:srgbClr val="808080"/>
                  </a:solidFill>
                  <a:latin typeface="Courier New"/>
                </a:rPr>
                <a:t>ID</a:t>
              </a:r>
              <a:br>
                <a:rPr sz="800"/>
              </a:br>
              <a:r>
                <a:rPr b="1" lang="de-DE" sz="800" spc="-1" strike="noStrike">
                  <a:solidFill>
                    <a:srgbClr val="6699ff"/>
                  </a:solidFill>
                  <a:latin typeface="Courier New"/>
                </a:rPr>
                <a:t>First</a:t>
              </a:r>
              <a:r>
                <a:rPr b="1" lang="de-DE" sz="800" spc="-1" strike="noStrike">
                  <a:solidFill>
                    <a:srgbClr val="808080"/>
                  </a:solidFill>
                  <a:latin typeface="Courier New"/>
                </a:rPr>
                <a:t>. Name</a:t>
              </a:r>
              <a:br>
                <a:rPr sz="800"/>
              </a:br>
              <a:r>
                <a:rPr b="1" lang="de-DE" sz="800" spc="-1" strike="noStrike">
                  <a:solidFill>
                    <a:srgbClr val="6699ff"/>
                  </a:solidFill>
                  <a:latin typeface="Courier New"/>
                </a:rPr>
                <a:t>Last</a:t>
              </a:r>
              <a:r>
                <a:rPr b="1" lang="de-DE" sz="800" spc="-1" strike="noStrike">
                  <a:solidFill>
                    <a:srgbClr val="808080"/>
                  </a:solidFill>
                  <a:latin typeface="Courier New"/>
                </a:rPr>
                <a:t>. Name</a:t>
              </a:r>
              <a:br>
                <a:rPr sz="800"/>
              </a:br>
              <a:r>
                <a:rPr b="1" lang="de-DE" sz="800" spc="-1" strike="noStrike">
                  <a:solidFill>
                    <a:srgbClr val="de7878"/>
                  </a:solidFill>
                  <a:latin typeface="Courier New"/>
                </a:rPr>
                <a:t>Work. </a:t>
              </a:r>
              <a:r>
                <a:rPr b="1" lang="de-DE" sz="800" spc="-1" strike="noStrike">
                  <a:solidFill>
                    <a:srgbClr val="ccccff"/>
                  </a:solidFill>
                  <a:latin typeface="Courier New"/>
                </a:rPr>
                <a:t>Address</a:t>
              </a:r>
              <a:br>
                <a:rPr sz="800"/>
              </a:br>
              <a:r>
                <a:rPr b="1" lang="de-DE" sz="800" spc="-1" strike="noStrike">
                  <a:solidFill>
                    <a:srgbClr val="de7878"/>
                  </a:solidFill>
                  <a:latin typeface="Courier New"/>
                </a:rPr>
                <a:t>Home. </a:t>
              </a:r>
              <a:r>
                <a:rPr b="1" lang="de-DE" sz="800" spc="-1" strike="noStrike">
                  <a:solidFill>
                    <a:srgbClr val="ccccff"/>
                  </a:solidFill>
                  <a:latin typeface="Courier New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392720" y="3794040"/>
            <a:ext cx="2543040" cy="163440"/>
          </a:xfrm>
          <a:custGeom>
            <a:avLst/>
            <a:gdLst/>
            <a:ahLst/>
            <a:rect l="l" t="t" r="r" b="b"/>
            <a:pathLst>
              <a:path w="1602" h="125">
                <a:moveTo>
                  <a:pt x="0" y="0"/>
                </a:moveTo>
                <a:lnTo>
                  <a:pt x="32" y="125"/>
                </a:lnTo>
                <a:lnTo>
                  <a:pt x="1602" y="120"/>
                </a:lnTo>
                <a:lnTo>
                  <a:pt x="8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ecc5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8480" y="4062240"/>
            <a:ext cx="2486160" cy="546120"/>
          </a:xfrm>
          <a:prstGeom prst="rect">
            <a:avLst/>
          </a:prstGeom>
          <a:solidFill>
            <a:srgbClr val="ffecc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Messag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a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4303800"/>
            <a:ext cx="1352520" cy="3016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7680" y="3908520"/>
            <a:ext cx="2492280" cy="153720"/>
          </a:xfrm>
          <a:custGeom>
            <a:avLst/>
            <a:gdLst/>
            <a:ahLst/>
            <a:rect l="l" t="t" r="r" b="b"/>
            <a:pathLst>
              <a:path w="1570" h="117">
                <a:moveTo>
                  <a:pt x="398" y="4"/>
                </a:moveTo>
                <a:lnTo>
                  <a:pt x="0" y="117"/>
                </a:lnTo>
                <a:lnTo>
                  <a:pt x="1570" y="112"/>
                </a:lnTo>
                <a:lnTo>
                  <a:pt x="835" y="0"/>
                </a:lnTo>
                <a:lnTo>
                  <a:pt x="398" y="4"/>
                </a:lnTo>
                <a:close/>
              </a:path>
            </a:pathLst>
          </a:custGeom>
          <a:solidFill>
            <a:srgbClr val="ffecc5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4640400"/>
            <a:ext cx="6554880" cy="560160"/>
          </a:xfrm>
          <a:prstGeom prst="rect">
            <a:avLst/>
          </a:prstGeom>
          <a:gradFill rotWithShape="0">
            <a:gsLst>
              <a:gs pos="0">
                <a:srgbClr val="ffecc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5240" y="4643280"/>
            <a:ext cx="3554640" cy="547920"/>
          </a:xfrm>
          <a:prstGeom prst="rect">
            <a:avLst/>
          </a:prstGeom>
          <a:solidFill>
            <a:srgbClr val="eddc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TS &amp; CC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91160" y="4846680"/>
            <a:ext cx="1152720" cy="350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3640" y="4869000"/>
            <a:ext cx="129708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4680" y="4740120"/>
            <a:ext cx="11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/XM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203800"/>
            <a:ext cx="6554880" cy="560520"/>
          </a:xfrm>
          <a:prstGeom prst="rect">
            <a:avLst/>
          </a:prstGeom>
          <a:gradFill rotWithShape="0">
            <a:gsLst>
              <a:gs pos="0">
                <a:srgbClr val="ffecc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65240" y="5203800"/>
            <a:ext cx="3554640" cy="555480"/>
          </a:xfrm>
          <a:prstGeom prst="rect">
            <a:avLst/>
          </a:prstGeom>
          <a:solidFill>
            <a:srgbClr val="eddc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78800" y="5408640"/>
            <a:ext cx="1004760" cy="352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6480" y="5408640"/>
            <a:ext cx="1292040" cy="352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XMLND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5840" y="528480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94040" y="5410080"/>
            <a:ext cx="1234800" cy="352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F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5767560"/>
            <a:ext cx="6554880" cy="560160"/>
          </a:xfrm>
          <a:prstGeom prst="rect">
            <a:avLst/>
          </a:prstGeom>
          <a:gradFill rotWithShape="0">
            <a:gsLst>
              <a:gs pos="0">
                <a:srgbClr val="ffecc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67040" y="5767560"/>
            <a:ext cx="3554280" cy="555480"/>
          </a:xfrm>
          <a:prstGeom prst="rect">
            <a:avLst/>
          </a:prstGeom>
          <a:solidFill>
            <a:srgbClr val="eddc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72320" y="5973840"/>
            <a:ext cx="100476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S-B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7320" y="5973840"/>
            <a:ext cx="124956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N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7560" y="5975280"/>
            <a:ext cx="1116000" cy="351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080" y="584676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0000" y="5408640"/>
            <a:ext cx="1154160" cy="35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I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P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1760" y="5973840"/>
            <a:ext cx="1005120" cy="350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10000" y="5975280"/>
            <a:ext cx="954000" cy="351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D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6326280"/>
            <a:ext cx="6553080" cy="487080"/>
            <a:chOff x="1295280" y="6326280"/>
            <a:chExt cx="6553080" cy="487080"/>
          </a:xfrm>
        </p:grpSpPr>
        <p:sp>
          <p:nvSpPr>
            <p:cNvPr id="271" name=""/>
            <p:cNvSpPr/>
            <p:nvPr/>
          </p:nvSpPr>
          <p:spPr>
            <a:xfrm>
              <a:off x="1295280" y="6326280"/>
              <a:ext cx="1640160" cy="48564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ditional ED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8400" y="6326280"/>
              <a:ext cx="1639440" cy="48564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1840" y="6326280"/>
              <a:ext cx="1639440" cy="48564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b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08200" y="6328080"/>
              <a:ext cx="1640160" cy="485280"/>
            </a:xfrm>
            <a:prstGeom prst="rect">
              <a:avLst/>
            </a:prstGeom>
            <a:gradFill rotWithShape="0">
              <a:gsLst>
                <a:gs pos="0">
                  <a:srgbClr val="ffecc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A, POA,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12760" y="6323040"/>
            <a:ext cx="1076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297080" y="1859040"/>
            <a:ext cx="6565680" cy="366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at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y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h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45280" y="1889280"/>
            <a:ext cx="1324080" cy="3204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297080" y="1488960"/>
            <a:ext cx="6565680" cy="366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5280" y="1519200"/>
            <a:ext cx="1324080" cy="320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BA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Business Architecture Specification (EB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BAS will describe the relationships between all defined UN/CEFACT technical specifications, and non UN/CEFACT specif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d project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oal for 2007 is complete ODP 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rmance and Compliance Definition (CO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clear and unambiguous definition of compliance/conformance rules for each of the UN/CEFACT specif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ly established in Marc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d at direction of F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oal for 2007 is complete phase 1 and commence pha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ssar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centralized, common UN/CEFACT Gloss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project that will interface with all other methodology projects in the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raft available at the TMG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394160" y="4254480"/>
            <a:ext cx="4505400" cy="24145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w Websi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Prototype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Wiki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gistered user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, update and generate we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news and submit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/download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the daily standardization work more efficient and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a consistent  and clear representation of requi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used for all UN/CEFACT standardizatio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4581720" cy="2619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07040" y="3789360"/>
            <a:ext cx="107964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79400" y="2527200"/>
            <a:ext cx="27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Template / Edi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74160" y="50482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Presenta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quire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of new TMG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or of TMG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body who helps us on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ntrol on mailin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invitations for prospective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e need Memb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not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he concepts and ideas, but members are still requir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ize the whole st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ribute our method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train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MG Man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urpose of the Techniques &amp; Methodologies Group (TMG) is to provide all UN/CEFACT Groups with Meta (base) Business Process, Information and Communications Technology specifications, methodologies, recommendations and educatio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TMG shall also function as a research group evaluating new information and communication technologies (ICT), as well as, techniques and methodologies that may assist UN/CEFACT and its groups to fulfill their mandate and vision in Trade Facilitation and e-Busin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y TMG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required key methodologies that are necessar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dynamic and context driven next generation B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d unambiguous understanding on semantic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ve business processes that considers the aspects of contracts /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reusable and flexible building blocks of busines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methodologi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with a natura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ust for doing collaborative business effectivel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differentiatior to all other existing business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required to realize next generation eBusiness environment (ESO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MG has experience since more than 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s the current problematic in det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concepts and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t value add for UN/CE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lnSpc>
                <a:spcPct val="80000"/>
              </a:lnSpc>
              <a:spcBef>
                <a:spcPts val="40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UN/CEFACT to drive future B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neral Inf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35 Active Memb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 Mailing list registrants who participate electronical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vened during the UN/CEFACT Forum meetings in New Delhi and Dubli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40536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ce-to-face meeting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33156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ne 2006 at SWIFT headquarters in Bruss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33156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ember 2006 at Oracle in Redwood City,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331560">
              <a:spcBef>
                <a:spcPts val="524"/>
              </a:spcBef>
              <a:buClr>
                <a:srgbClr val="395da5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xt in July 2007 in Kansas C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rking Grou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 Working Group (BPW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techniques and methodologies for the description of inter-organizational business processes and the resulting information exchan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15 Active Members (5 also in CCWG and 3 in eBAW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untmg.org/index.php?option=com_content&amp;task=view&amp;id=26&amp;Itemid=5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s Working Group (CCW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required techniques and methodologies for the development and reuse of business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20 Active Members (5 also in BPWG and 7 in eBAW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untmg.org/index.php?option=com_content&amp;task=view&amp;id=25&amp;Itemid=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usiness Architecture Working Group (EBAW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the framework for the different modeling and infrastructure concep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 10 Active Members (3 also in BPWG and 7 in CCW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40968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untmg.org/index.php?option=com_content&amp;task=view&amp;id=28&amp;Itemid=5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7160" y="1628640"/>
          <a:ext cx="8661240" cy="4321440"/>
        </p:xfrm>
        <a:graphic>
          <a:graphicData uri="http://schemas.openxmlformats.org/drawingml/2006/table">
            <a:tbl>
              <a:tblPr/>
              <a:tblGrid>
                <a:gridCol w="4687920"/>
                <a:gridCol w="3973320"/>
              </a:tblGrid>
              <a:tr h="15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MM UN/CEFACT Modeling Method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analyze, design, and maintain collaborative business processes on semantic level. It especially consider the formal realization from contracts, and agreements to collaborative business process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MM Transaction Patter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set of smallest pieces of collaborative business process transaction patterns that cover all the known legally binding collaborations at lowest level of request/response interaction between two business partner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2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UMM REA Mo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for linking economic events together that are required fulfill a  contract of a collaborative business process. The links are activity-to-activity or agent-to-agent or person-to-person, not just company-to-compan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177300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50920" y="1924200"/>
            <a:ext cx="728640" cy="1073160"/>
            <a:chOff x="250920" y="1924200"/>
            <a:chExt cx="728640" cy="107316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50920" y="1924200"/>
              <a:ext cx="728640" cy="1073160"/>
            </a:xfrm>
            <a:prstGeom prst="rect">
              <a:avLst/>
            </a:prstGeom>
            <a:ln w="9360">
              <a:solidFill>
                <a:srgbClr val="6767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9" name=""/>
            <p:cNvSpPr/>
            <p:nvPr/>
          </p:nvSpPr>
          <p:spPr>
            <a:xfrm>
              <a:off x="302400" y="2811600"/>
              <a:ext cx="6271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08160" y="2276640"/>
            <a:ext cx="842760" cy="385560"/>
          </a:xfrm>
          <a:prstGeom prst="rightArrow">
            <a:avLst>
              <a:gd name="adj1" fmla="val 50000"/>
              <a:gd name="adj2" fmla="val 54645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5080" y="2301840"/>
            <a:ext cx="88920" cy="335160"/>
          </a:xfrm>
          <a:custGeom>
            <a:avLst/>
            <a:gdLst>
              <a:gd name="textAreaLeft" fmla="*/ 56880 w 88920"/>
              <a:gd name="textAreaRight" fmla="*/ 89280 w 88920"/>
              <a:gd name="textAreaTop" fmla="*/ 8640 h 335160"/>
              <a:gd name="textAreaBottom" fmla="*/ 326520 h 33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916280"/>
            <a:ext cx="88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What are the agreed process ste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3840" y="2155680"/>
            <a:ext cx="27000" cy="1684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796560" y="2206800"/>
            <a:ext cx="88920" cy="334800"/>
          </a:xfrm>
          <a:custGeom>
            <a:avLst/>
            <a:gdLst>
              <a:gd name="textAreaLeft" fmla="*/ 56520 w 88920"/>
              <a:gd name="textAreaRight" fmla="*/ 88920 w 88920"/>
              <a:gd name="textAreaTop" fmla="*/ 8640 h 334800"/>
              <a:gd name="textAreaBottom" fmla="*/ 326160 h 33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5040" y="2378160"/>
            <a:ext cx="117360" cy="111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of BPW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484280"/>
            <a:ext cx="123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How to formalize contrac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95640" y="3429000"/>
          <a:ext cx="23763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429000"/>
                    <a:ext cx="23763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79280" y="357336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What are the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process step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considers the smallest legal asp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39800" y="3908520"/>
            <a:ext cx="368280" cy="381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413080" y="5013360"/>
            <a:ext cx="1773000" cy="1209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5157720"/>
            <a:ext cx="187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How must the economic events linked together that they are fulfill the contr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19160" y="5335560"/>
            <a:ext cx="725760" cy="287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9160" y="5622840"/>
            <a:ext cx="739800" cy="29232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47960" y="5322960"/>
            <a:ext cx="1170000" cy="29376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7080" y="5624640"/>
            <a:ext cx="1212840" cy="32832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PWG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/CEFACT Modeling Methodology (UM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technical specification was released in December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project for the next version was started in March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UMM concepts will be based on UML 2.0 pro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s-Events-Agents Economic Ontology (REA) Specializ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 describes an enterprise ontology, which explains the types of entities or classes that are expected to see in a specific business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550"/>
              </a:spcBef>
              <a:buClr>
                <a:srgbClr val="395da5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ved requirements specification (ODP Step 2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Mika Vepsalainen</cp:lastModifiedBy>
  <dcterms:modified xsi:type="dcterms:W3CDTF">2007-08-24T09:41:24Z</dcterms:modified>
  <cp:revision>8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