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599-C681-4ECD-8287-6FC12C63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A19-D44C-4474-940D-95EF084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222-FEED-44D5-873E-BAB84CFC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229-123D-4119-ABC9-A8A7C2C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BEB7-45D1-42FF-9208-812BC2B4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5DB-FBF8-4D18-9668-AC7185C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18F-CC9C-4BE9-88DE-3AC1D25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63F-362F-4A39-B865-87B4E7D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C47-C97A-4667-93DC-FA510D5A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6DCE-38F8-4C28-A3A7-45A7D9FB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4326-78A0-46B4-A60F-6217A32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9A9-CABD-40CE-855D-D6EA7E25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0281-E49F-40CA-AFDB-4C57366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AD04-86C8-475F-8A7D-A0F0316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2F0-53B5-47AE-AD96-8838A8A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1CA-CD5B-4FB9-9739-D57B0928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083-F438-4A97-8474-E3718070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819-E1C8-48BD-91DE-8D64B821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FFA-9041-4798-AEA2-642F2483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644-BABC-456A-90D9-207AB783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664-1005-4E22-AB6F-F67C7150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674-4AAC-47FD-AF63-8B28838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33C-7FD3-4280-A3AE-9F88B404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3B0-1F4F-4F00-A1C0-E8B7469F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6D42-986D-4403-AA00-DDD28E562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1EC-5642-4BF4-81D9-A2473FFFA4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Legal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Usva Kuusiholma (Fin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Bart Schermer (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3640" y="918720"/>
            <a:ext cx="3600720" cy="4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25560" indent="0" algn="r">
              <a:lnSpc>
                <a:spcPct val="10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Group purpo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216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e Legal Group (LG) is to ensure that the legal aspects of electronic business and international trade facilitation are considered in the work of the UN/CEFACT. To this end the Legal Group analyses current legal processes and issues within the mission and objectives of UN/CEFACT, identifies legal constraints that adversely affect the mission and objectives of the Centre, and proposes practical improvements to these legal processes and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16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65E-45D6-47BE-9EF6-C235CCCC9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G activ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fied Business agreements and contract (U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commendation 35 Single Window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view of current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ening ties with UNCI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uncefactforum.org/LG/L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313-E839-4B2A-B054-4E8238F024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G activities in 2006/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etings in Dehli and 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ditional meetings in Vienna (UNCITRAL) and Helsinki (S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thly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11A-695D-4634-BCF5-333292052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BA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operation with TMG / Business Proces Working Group Reached phase 2 of the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55A-41E7-4C3E-B9AA-24FE9E3DE9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c. 3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t with several SW operators to discuss 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alized draft text of the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D21-072C-4177-AEAC-92AD3378C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NCITR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ital to work of leg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nlist help of UNCITR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rticipated in UNCITRAL expert group on e-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present the LG work (SWF) on UNCITRAL cong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1A2-4CDA-4E4A-8BDE-7A74518010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use for concern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re Group (FIN(?), US, 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mited secretar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mited participation from LG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k of the LG can be speeded up with proper support and commit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FDC-8020-42AF-A8B0-F1314320A9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a Vepsalainen</cp:lastModifiedBy>
  <dcterms:modified xsi:type="dcterms:W3CDTF">2007-08-24T09:44:50Z</dcterms:modified>
  <cp:revision>112</cp:revision>
  <dc:subject/>
  <dc:title>PowerPoint Presentation</dc:title>
</cp:coreProperties>
</file>