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C68-9F23-442E-85D2-17876115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9F9-D6F4-4AC1-9C0A-A4867C84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1C3-0A20-4B0C-ABD0-5C6A240B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76D-0F9E-4AAB-803F-DEB8F5C3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D627-FAF2-4981-B7D7-0674C2F0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4CD1-A538-43FD-96B0-0CD12F55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AB29-EDBF-4C21-A445-D484954D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3053-C57E-47BE-9DB2-04059AE4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2017-DE38-42E5-823D-126FC078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6BEE-F989-4C66-8A62-EBF5EB42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45D9-548B-42F3-8AED-7389A97D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A3C-83A9-4DBF-B6EB-AC36B069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9839-F12B-4FE1-9FBD-CEA256BD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6169-E1B9-4282-8195-9D9D05F9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2481-7D18-48D3-8BB5-DC3290E9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ABDD-3EF8-4B3B-9138-DA457BC2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5183-DC58-41B5-BEE1-42784818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884-1D61-4BEA-B3E7-388D7437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0E4-EA21-45A1-91B5-0694CDBF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78C-BA65-40B5-A58F-6FED11C7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255-BDED-446A-B77E-57BB79CB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FAF-5056-4D01-9C5A-430FD98C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4E2-4B23-4B3E-8AFE-6A9493E7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CEC-1D04-46C6-87D3-82D7B722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6F5C-0F5E-4C8E-A263-1AE45DBC64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F936-A034-420C-8F99-B0CEC5F247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Legal Grou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ort to the UN/CEFACT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: Usva Kuusiholma (Fin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ce-Chair: Bart Schermer (Netherla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3640" y="918720"/>
            <a:ext cx="3600720" cy="4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25560" indent="0" algn="r">
              <a:lnSpc>
                <a:spcPct val="10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Group purpo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77240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6216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the Legal Group (LG) is to ensure that the legal aspects of electronic business and international trade facilitation are considered in the work of the UN/CEFACT. To this end the Legal Group analyses current legal processes and issues within the mission and objectives of UN/CEFACT, identifies legal constraints that adversely affect the mission and objectives of the Centre, and proposes practical improvements to these legal processes and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16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FF6-3BEE-462B-ACE9-F5F63A2E7F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620280"/>
            <a:ext cx="769464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G activi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040" y="1917360"/>
            <a:ext cx="66819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nified Business agreements and contract (UB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commendation 35 Single Window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view of current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rengthening ties with UNCI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www.uncefactforum.org/LG/L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265-0706-43EA-A592-71A3E1D237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620280"/>
            <a:ext cx="769464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G activities in 2006/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040" y="1917360"/>
            <a:ext cx="66819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etings in Dehli and Dub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dditional meetings in Vienna (UNCITRAL) and Helsinki (SW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thly conferenc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A60-5A19-4CF3-92DC-E3A86FDF06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69464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BAC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8040" y="1917360"/>
            <a:ext cx="66819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operation with TMG / Business Proces Working Group Reached phase 2 of the 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64D-839B-4563-BEDE-373A7FE42E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69464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c. 35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98040" y="1917360"/>
            <a:ext cx="66819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t with several SW operators to discuss leg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alized draft text of the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EF6-1262-47E5-9F3C-CBE3CDCC80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69464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NCITR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040" y="1917360"/>
            <a:ext cx="66819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ital to work of legal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nlist help of UNCITR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articipated in UNCITRAL expert group on e-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present the LG work (SWF) on UNCITRAL cong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E43-3D39-4836-9696-C2DDD5A12D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69464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use for concern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8040" y="1917360"/>
            <a:ext cx="66819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ore Group (FIN(?), US, 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imited secretari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imited participation from LG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395d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ork of the LG can be speeded up with proper support and commit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th UN/CEFACT Plenary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7C8-2CA2-408F-8B26-E5DC8DCCA8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7</a:t>
            </a: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ka Vepsalainen</cp:lastModifiedBy>
  <dcterms:modified xsi:type="dcterms:W3CDTF">2007-08-24T09:44:50Z</dcterms:modified>
  <cp:revision>112</cp:revision>
  <dc:subject/>
  <dc:title>PowerPoint Presentation</dc:title>
</cp:coreProperties>
</file>