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631-D768-444D-A8DA-D55EA144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C62-FE53-4A68-9645-296B1839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833-D6F2-43FB-A964-EA88376D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519-F828-4CB1-8B18-7D89233D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B13B-6FB4-4F33-A821-4B590BA1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327C-F271-4A78-83E3-0B7FBBC9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01E8-37D2-4EFC-AD30-C089A1AE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350A-1649-4D50-AFE7-43FA02E5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3EDD-A492-4E50-903F-C52ADC41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F661-25D3-482E-9670-6D718D1A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97C4-08AA-4806-BEC4-BC0F1311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2B7-A9AD-4B94-B47B-949533AA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143C-7C5C-4E35-819E-CD4207C8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7BC3-BECE-4B10-B3D7-588C2BC1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5FF9-157B-4DC0-8632-F1F37BFA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A590-E670-43BE-8639-82C08C1A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311C-9CF7-41D1-A5C3-0CB2F7D4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88C-E0AB-47AD-8D6D-345A9BAA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DB9-97E0-4B92-8E49-9F3FE980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57E-BC96-48F7-88E2-2E8815F8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63F-E843-402F-B181-765DC42F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BCB-2DB9-4AA8-9BD2-85D4EC01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2A4-9B11-4B9A-BB27-FF221FAF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17B-1853-4391-A56C-020C50F4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4F2E-CADB-49B3-AA0B-C33FB83B2C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8136000" cy="113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8764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82DD-1998-4A94-9FE6-2971F5A6A7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24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2.pn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UN/CEFACT Plenar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neva, 14-16 May 2007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55640" y="3499920"/>
            <a:ext cx="777384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/CEFACT Forum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um Manage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: Mike Do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e-Chair: Anders Grang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57240" y="761760"/>
            <a:ext cx="49640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9th UN/CEFACT Forum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al support from the Government of India - Minister of State, Department of Commerce - Commerce Secretary, Member Secretary of the Indian Planning Commission, Director General, National Informatics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 participants from Africa, Asia Pacific,Europe &amp;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uccessful UNeDocs Capacity Building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hosts &amp; organization - led by Tahseen Kh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ions of UN/CEFACT Forum officers h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D3F-729A-4AD2-8CD7-3D9F925871A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280" y="525600"/>
            <a:ext cx="9144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152280"/>
            <a:ext cx="56167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8000" rIns="288000" tIns="144000" bIns="144000" anchor="t">
            <a:noAutofit/>
          </a:bodyPr>
          <a:p>
            <a:pPr algn="ctr"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10th UN/CEFACT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Arial"/>
              </a:rPr>
              <a:t>March 26-30 2007 Dublin, Ir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1905120" cy="889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02320" y="518148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um Host &amp; Supporting Sponsors:</a:t>
            </a: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581280" y="6321600"/>
          <a:ext cx="2057400" cy="23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6321600"/>
                    <a:ext cx="2057400" cy="23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62520" y="5638680"/>
          <a:ext cx="1523880" cy="46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2520" y="5638680"/>
                    <a:ext cx="15238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28600" y="6357960"/>
          <a:ext cx="993600" cy="27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6357960"/>
                    <a:ext cx="99360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324480" y="5638680"/>
          <a:ext cx="1067040" cy="324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24480" y="5638680"/>
                    <a:ext cx="10670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133720" y="5608800"/>
          <a:ext cx="761760" cy="563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33720" y="5608800"/>
                    <a:ext cx="761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28600" y="5638680"/>
          <a:ext cx="990720" cy="433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" y="5638680"/>
                    <a:ext cx="990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8153280" y="5638680"/>
          <a:ext cx="652680" cy="636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153280" y="5638680"/>
                    <a:ext cx="6526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16"/>
          <a:stretch/>
        </p:blipFill>
        <p:spPr>
          <a:xfrm>
            <a:off x="0" y="1066680"/>
            <a:ext cx="9144000" cy="409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EADD-4D59-498C-83EA-212CCA13189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81280" y="609120"/>
            <a:ext cx="49644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10th UN/CEFACT Forum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um was hosted by CP3 Group and Forfas, and had the shortest lead time of any Forum to date. The Forum organization was excell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rish Minister for the Information Society opened the Forum and there was excellent support from the Irish Government and Business Se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0 participants from all continents atten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uccessful Trade Facilitation Open Session was held during which it was announced that Ireland would develop a Single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4D3-A098-4327-83A3-92285F4536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527040"/>
            <a:ext cx="8440920" cy="6330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260280"/>
            <a:ext cx="8569080" cy="611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00000"/>
                </a:solidFill>
                <a:latin typeface="Verdana"/>
              </a:rPr>
              <a:t>UN/CEFACT FORUM Web Site</a:t>
            </a:r>
            <a:br>
              <a:rPr sz="1600"/>
            </a:b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uncefactforum.org/MEETINGS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91120" y="609480"/>
            <a:ext cx="43639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 Challeng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Accelerating Delivery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We have in place: a mandate, strategy, programme of work, IPR policy &amp; a development process (ODP). What we now need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/CEFACT Priority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driven/Stakeholder requi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- Human &amp;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- Right skill sets to match priority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- UN/CEFACT needs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orum meeting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Building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what UN/CEFACT can de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017-0AEF-4FAD-A268-42BB4D24D6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23920" y="609480"/>
            <a:ext cx="38782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 Challeng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he UNECE Executive Committee will review in October 200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G Mandates &amp; TORs which terminate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UN rules, there are no Permanent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s can be extended for two years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btain extensions each PG will have to provide serious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that each PG will have to show its POW, what it has achieved in terms of deliverables, future plans &amp; deliverables over the next two years.UN/CEFACT will have to report back every ye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6FA-831C-4FA2-B7F7-F35944209E5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 since the 12th UN/CEFACT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ing on Deli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th UN/CEFACT Forum - New Del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th UN/CEFACT Forum - Dub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from the Permanen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7F9-21C9-4295-89DE-FCA0495864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66520" y="609480"/>
            <a:ext cx="57214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gress sinc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12th Plena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What did we say we would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delivering UN/CEFACT products &amp;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O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 a cohesive UN/CEFACT Website pre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Forum Project Portfolio information, including dependencies &amp; 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 &amp; prioritise POW projects with the UN/CEFACT Integrated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4D2-4F42-43E6-BE2F-075976972C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6520" y="609480"/>
            <a:ext cx="57214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gress sinc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12th Plena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What did we say we would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requests for extra budgetary resources, including due diligence process in project proposal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communication, coordination &amp; synergy between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virtual collaboration &amp; engage exter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approved Code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B28-D477-400A-87BE-B9A6667DD7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90560" y="685440"/>
            <a:ext cx="60195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cusing on Delive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39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What have we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Development Process (ODP) updated &amp; submitted to the Plenary for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UM Workflow &amp; Procedures being further refined in order to improve cooperation between the Permanent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ortfolio (&gt; 80 projects) reviewed &amp; priorities for 2007/2008 identified, including timelines &amp;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to the Programme of Work &amp; “Buy-Ship-Pay” model under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 for following project progress developed by T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AF8-CE97-4CD8-B770-AC8099C6F7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90560" y="685440"/>
            <a:ext cx="60195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cusing on Delive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39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What have we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for Extra Budgetary projects agreed with UN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Facilitation Guide Project launched - funded by Sida, Sw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Docs funded largely by SITPRO,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Docs Gap Analysis - funded by Norstella, 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092-0652-49E0-AF85-34E4B08DE7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560" y="685440"/>
            <a:ext cx="60195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cusing on Delive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44792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What have we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operation with Standards Development Organizations (SDO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CE IEC/ISO/ITU MoU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CE-WCO 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/CEFACT-OASIS Cooperation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Os working with CEFACT include: GS1,OAGi,SWIFT, ACORD,CIDX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Forum management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-weekly conferenc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tes circulated to all Perman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F meetings at UN/CEFACT Forums - tac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ed Bureau Meetings (Bureau + FMG) - strate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Website to facilitate Forum’s development work -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4B5-FC29-4F78-A02D-A45C8339EB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560" y="685440"/>
            <a:ext cx="60195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cusing on Delive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New 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Industry Invoice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endering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mponent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Docs Business Requirements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 the pipeline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New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/CEFACT Registry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Border Reference 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IDE (IT for Adoption &amp; Intelligent Design for eGov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048-81B5-43E0-BD6B-B990E499DC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th UN/CEFACT Forum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-6 Oct 2006 - New Delhi, Indi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rganized b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Department of Commer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Ministry of Commerce &amp;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Government of 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120960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067280" y="5229360"/>
          <a:ext cx="4516200" cy="15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5229360"/>
                    <a:ext cx="4516200" cy="15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059280" y="4869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-ho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ka Vepsalainen</cp:lastModifiedBy>
  <dcterms:modified xsi:type="dcterms:W3CDTF">2007-05-29T14:52:19Z</dcterms:modified>
  <cp:revision>112</cp:revision>
  <dc:subject/>
  <dc:title>PowerPoint Presentation</dc:title>
</cp:coreProperties>
</file>