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B5B-6003-435E-8362-E687E315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23D-6759-48B3-8D20-1FA584B8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5E1-CF5D-4BCA-9E51-4F6C2469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576-A396-4A5A-AE1D-04A39D83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F82-FE79-4025-A9BC-BC03737C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AD27-C691-4606-98F3-BA66126F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2367-46D4-42FD-B17C-C456EB7F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3430-941C-4643-B8DB-36C746F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14B-489E-4569-9706-5511E0D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2045-462B-4757-B993-4BAD3E0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8260-2440-4E9B-BAD6-6ACCD85C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C72-705C-4B94-87E7-F17C555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891D-1183-4091-9079-E79B898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CDBF-B6AA-4B9B-839C-5164C13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4DA8-D6CE-4434-B3B4-4EBC411A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EED8-1B41-4AF2-9445-3CA48174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2564-9C1C-4F3B-B975-A63D5650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9DE-6C7E-437C-9836-90CA7DF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8BB-18EF-4E19-BDAF-35A84243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C28-25ED-40CC-8ABB-15620393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728-8F59-457C-AAD2-412DED44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103-5A92-4235-8B45-7AD01D4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F6D-56A7-41B5-9BFD-3815573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1F5-92B0-4521-825F-FE509F4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05D8-1A15-442D-8ADB-DB0D00A9F0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3F9-22B2-4783-86D8-D2ACC149AE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.pn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UN/CEFACT Plena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neva, 14-16 May 2007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7384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/CEFACT Forum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: Mike Do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-Chair: Anders Gran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57240" y="761760"/>
            <a:ext cx="49640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9th UN/CEFACT Foru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al support from the Government of India - Minister of State, Department of Commerce - Commerce Secretary, Member Secretary of the Indian Planning Commission, Director General, National Informatics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participants from Africa, Asia Pacific,Europe &amp;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uccessful UNeDocs Capacity Build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hosts &amp; organization - led by Tahseen K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s of UN/CEFACT Forum officers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E72-BCFD-4F58-BAC1-18D0FAE2DA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280" y="525600"/>
            <a:ext cx="9144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52280"/>
            <a:ext cx="5616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 algn="ctr"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10th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March 26-30 2007 Dublin,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1905120" cy="88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02320" y="518148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um Host &amp; Supporting Sponsors: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81280" y="6321600"/>
          <a:ext cx="2057400" cy="23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6321600"/>
                    <a:ext cx="2057400" cy="23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62520" y="5638680"/>
          <a:ext cx="1523880" cy="4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5638680"/>
                    <a:ext cx="15238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28600" y="6357960"/>
          <a:ext cx="99360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6357960"/>
                    <a:ext cx="993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24480" y="5638680"/>
          <a:ext cx="106704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5638680"/>
                    <a:ext cx="10670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133720" y="5608800"/>
          <a:ext cx="761760" cy="56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5608800"/>
                    <a:ext cx="76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28600" y="5638680"/>
          <a:ext cx="990720" cy="433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5638680"/>
                    <a:ext cx="990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8153280" y="5638680"/>
          <a:ext cx="652680" cy="636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153280" y="5638680"/>
                    <a:ext cx="6526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0" y="1066680"/>
            <a:ext cx="9144000" cy="409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C14-050D-4554-AC5E-B046971048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4964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10th UN/CEFACT Foru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um was hosted by CP3 Group and Forfas, and had the shortest lead time of any Forum to date. The Forum organization was excel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rish Minister for the Information Society opened the Forum and there was excellent support from the Irish Government and Business S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0 participants from all continents atten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uccessful Trade Facilitation Open Session was held during which it was announced that Ireland would develop a Singl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4ED-D406-4BF3-8441-6FC4945548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527040"/>
            <a:ext cx="8440920" cy="6330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0000"/>
                </a:solidFill>
                <a:latin typeface="Verdana"/>
              </a:rPr>
              <a:t>UN/CEFACT FORUM Web Site</a:t>
            </a:r>
            <a:br>
              <a:rPr sz="1600"/>
            </a:b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uncefactforum.org/MEETINGS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1120" y="609480"/>
            <a:ext cx="43639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Accelerating Delivery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e have in place: a mandate, strategy, programme of work, IPR policy &amp; a development process (ODP). What we now ne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Priority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riven/Stakeholder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- Human &amp;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- Right skill sets to match priorit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- UN/CEFACT needs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orum meeting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Building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UN/CEFACT can de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A18-61BD-443B-8E15-956460F755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23920" y="609480"/>
            <a:ext cx="38782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he UNECE Executive Committee will review in October 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G Mandates &amp; TORs which terminate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UN rules, there are no Permanent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s can be extended for two year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extensions each PG will have to provide serious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each PG will have to show its POW, what it has achieved in terms of deliverables, future plans &amp; deliverables over the next two years.UN/CEFACT will have to report back every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A07-2B96-4019-9E43-5DCCF02278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since the 12th UN/CEFACT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Deli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th UN/CEFACT Forum - New Del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th UN/CEFACT Forum - Dub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from the Perman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54E-C7A1-4211-A555-8E29E37F62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7214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 sin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12th Plena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did we say we would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delivering UN/CEFACT products &amp;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 a cohesive UN/CEFACT Website 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um Project Portfolio information, including dependencies &amp; 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&amp; prioritise POW projects with the UN/CEFACT Integrated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41C-08A5-47B1-91F8-518B5D2081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7214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 sin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12th Plena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did we say we would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requests for extra budgetary resources, including due diligence process in project propos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ommunication, coordination &amp; synergy between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virtual collaboration &amp; engage exter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pproved Code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CAD-38B4-43D2-9CA7-C2FA3386FB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have w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Development Process (ODP) updated &amp; submitted to the Plenary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 Workflow &amp; Procedures being further refined in order to improve cooperation between the Permanent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ortfolio (&gt; 80 projects) reviewed &amp; priorities for 2007/2008 identified, including timelines &amp;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to the Programme of Work &amp; “Buy-Ship-Pay” model unde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for following project progress developed by T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4C5-5DD4-4357-AB82-1A37F50E10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have w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for Extra Budgetary projects agreed with 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Facilitation Guide Project launched - funded by Sida,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funded largely by SITPRO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Gap Analysis - funded by Norstella,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097-9D5A-4B3C-BF54-3E2D79D0B2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4792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have w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operation with Standards Development Organizations (SD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IEC/ISO/ITU MoU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-WCO 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/CEFACT-OASIS Cooperation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Os working with CEFACT include: GS1,OAGi,SWIFT, ACORD,CIDX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rum management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-weekly confere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s circulated to all Perman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F meetings at UN/CEFACT Forums - t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Bureau Meetings (Bureau + FMG) - strate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Website to facilitate Forum’s development work -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833-D9F8-4F74-BE9C-61E087E19A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New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Industry Invoice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ender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Business Requirements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 the pipeline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New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Registr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Border Reference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IDE (IT for Adoption &amp; Intelligent Design for eGov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19A-4ED3-437B-92CA-860AFF1D66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th UN/CEFACT Foru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6 Oct 2006 - New Delhi, Indi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rganized b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epartment of Commer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inistry of Commerce &amp;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overnment of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120960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067280" y="5229360"/>
          <a:ext cx="4516200" cy="15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5229360"/>
                    <a:ext cx="45162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059280" y="486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-h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a Vepsalainen</cp:lastModifiedBy>
  <dcterms:modified xsi:type="dcterms:W3CDTF">2007-05-29T14:52:19Z</dcterms:modified>
  <cp:revision>112</cp:revision>
  <dc:subject/>
  <dc:title>PowerPoint Presentation</dc:title>
</cp:coreProperties>
</file>