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B47-0D1D-4666-8672-416D2C50D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FAEE-9D56-4C40-8D12-3E28A426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tent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) Com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) Official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sunderstandings between trade and the auth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ssistance in overcoming commerc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AF339D28-156A-4E98-A74B-82305012A5B3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0960" y="2797200"/>
            <a:ext cx="9155160" cy="36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32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9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2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5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12th Plenary Business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87280" y="1676160"/>
            <a:ext cx="932328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 Business Sector stakeholders noted that UN/CEFACT should continue to provid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Benefits from the collaboration with other organizations and opportunities from cross-sector collabor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Opportunities for broader sectoral participation and involvement of national and governmental operational experts in the work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502480" y="1828800"/>
            <a:ext cx="990720" cy="3429000"/>
          </a:xfrm>
          <a:prstGeom prst="rect">
            <a:avLst/>
          </a:prstGeom>
          <a:solidFill>
            <a:srgbClr val="eaeaea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5480" y="1828800"/>
            <a:ext cx="985680" cy="3429000"/>
          </a:xfrm>
          <a:prstGeom prst="rect">
            <a:avLst/>
          </a:prstGeom>
          <a:solidFill>
            <a:srgbClr val="eaeaea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41840" y="620280"/>
            <a:ext cx="4687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listic Approach to Stakeholder Requireme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4870440" y="2819520"/>
            <a:ext cx="1219320" cy="1447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5480" y="1828800"/>
            <a:ext cx="61128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832960" y="1828800"/>
            <a:ext cx="914400" cy="79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6200000">
            <a:off x="1013400" y="29732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226000" y="26431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4566600" y="1751400"/>
            <a:ext cx="1218960" cy="655488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6554880"/>
              <a:gd name="textAreaBottom" fmla="*/ 6555240 h 655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53" y="0"/>
                </a:lnTo>
                <a:lnTo>
                  <a:pt x="21600" y="10800"/>
                </a:lnTo>
                <a:lnTo>
                  <a:pt x="146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2040" y="2819520"/>
            <a:ext cx="1143000" cy="14475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91280" y="2819520"/>
            <a:ext cx="1219320" cy="1447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4120" y="-1130040"/>
            <a:ext cx="1143000" cy="6603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603840"/>
              <a:gd name="textAreaBottom" fmla="*/ 6604200 h 660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sector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4648320"/>
            <a:ext cx="46227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ector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9480" y="3352680"/>
            <a:ext cx="4540320" cy="42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y-cha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6320" y="4191120"/>
            <a:ext cx="3467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otive - JA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s - CI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- A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l - G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191120"/>
            <a:ext cx="2971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reight - 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s - W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warders - F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s - I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48240" y="4191120"/>
            <a:ext cx="3054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Payments - SW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Payments - B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kers Associations -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ew sector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5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447920"/>
            <a:ext cx="859788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sectors are entering the e-business arena, enhancing the sectoral work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riculture (for the tracking and tracing of food product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vernment, for new e-government services to the private sector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sectors are also renewing their engag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9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1200" y="1468440"/>
            <a:ext cx="859788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nance (developing end-to-end e-processing of a payment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 freight industry (e-freight programme with UNeDoc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roposed new projec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3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1200" y="1468440"/>
            <a:ext cx="859788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oss Border Reference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UN/CEFACT and WCO will address how “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To guide and support work in UN/CEFACT and the WCO related to the development of a Cross Border Reference Data Model to allow data interoperability for end-to-end trade transactions; and to support Single Window initiatives at both the national and regional le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electronic procuremen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view government requirements for electronic procurement documents. These include semantic interoperability within the public sector and between the public and privat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9:32:38Z</dcterms:created>
  <dc:creator>CERN User</dc:creator>
  <dc:description/>
  <dc:language>en-US</dc:language>
  <cp:lastModifiedBy>Consultant</cp:lastModifiedBy>
  <cp:lastPrinted>2001-03-15T16:33:27Z</cp:lastPrinted>
  <dcterms:modified xsi:type="dcterms:W3CDTF">2007-05-13T13:32:08Z</dcterms:modified>
  <cp:revision>9</cp:revision>
  <dc:subject/>
  <dc:title>PowerPoint Presentation</dc:title>
</cp:coreProperties>
</file>