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728640" y="740880"/>
            <a:ext cx="53452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1499-5BF6-45CF-83C5-A9F2939D6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AB89-3621-4909-821C-5BFE67D5F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otential 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) Com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) Official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isunderstandings between trade and the autho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ssistance in overcoming commercial 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DA3E0D0C-1C25-4564-900A-5BC3F9EEAD3A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0960" y="2797200"/>
            <a:ext cx="9155160" cy="36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takeholder Prio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e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FuturaBookTBWA"/>
              </a:rPr>
              <a:t>UN/CEFACT Burea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BookTBWA"/>
              </a:rPr>
              <a:t>14 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34040" y="605952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1464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259160" y="571680"/>
            <a:ext cx="1733400" cy="1294920"/>
            <a:chOff x="4259160" y="571680"/>
            <a:chExt cx="1733400" cy="1294920"/>
          </a:xfrm>
        </p:grpSpPr>
        <p:sp>
          <p:nvSpPr>
            <p:cNvPr id="132" name=""/>
            <p:cNvSpPr/>
            <p:nvPr/>
          </p:nvSpPr>
          <p:spPr>
            <a:xfrm>
              <a:off x="4456800" y="571680"/>
              <a:ext cx="19836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916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96200" y="57168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7872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2240" y="144828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88040" y="71856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77680" y="93852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93880" y="136332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82360" y="74952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60320" y="84744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99200" y="76428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50280" y="113904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06560" y="100476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3080" y="111672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5360" y="117684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9160" y="95076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19920" y="139212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18400" y="101700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56160" y="111060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68680" y="111060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12080" y="129708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1424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3480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56160" y="1709280"/>
              <a:ext cx="113472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2640" y="612720"/>
              <a:ext cx="111168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01400" y="91368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265640" y="629640"/>
              <a:ext cx="1714320" cy="1093320"/>
              <a:chOff x="4265640" y="629640"/>
              <a:chExt cx="1714320" cy="1093320"/>
            </a:xfrm>
          </p:grpSpPr>
          <p:sp>
            <p:nvSpPr>
              <p:cNvPr id="159" name=""/>
              <p:cNvSpPr/>
              <p:nvPr/>
            </p:nvSpPr>
            <p:spPr>
              <a:xfrm>
                <a:off x="4265640" y="95256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33400" y="1449720"/>
                <a:ext cx="40284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84480" y="95256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632920" y="130032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33400" y="64152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50920" y="65016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677840" y="728640"/>
                <a:ext cx="88812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788000" y="824040"/>
                <a:ext cx="66528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121720" y="62964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5336280" y="131760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2608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26080" y="1182960"/>
              <a:ext cx="31788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0956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227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54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12th Plenary Business 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87280" y="1676160"/>
            <a:ext cx="932328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The Business Sector stakeholders noted that UN/CEFACT should continue to provide: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Benefits from the collaboration with other organizations and opportunities from cross-sector collabor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Opportunities for broader sectoral participation and involvement of national and governmental operational experts in the work.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502480" y="1828800"/>
            <a:ext cx="990720" cy="3429000"/>
          </a:xfrm>
          <a:prstGeom prst="rect">
            <a:avLst/>
          </a:prstGeom>
          <a:solidFill>
            <a:srgbClr val="eaeaea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5480" y="1828800"/>
            <a:ext cx="985680" cy="3429000"/>
          </a:xfrm>
          <a:prstGeom prst="rect">
            <a:avLst/>
          </a:prstGeom>
          <a:solidFill>
            <a:srgbClr val="eaeaea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41840" y="620280"/>
            <a:ext cx="46879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Holistic Approach to Stakeholder Requirement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8" name=""/>
          <p:cNvSpPr/>
          <p:nvPr/>
        </p:nvSpPr>
        <p:spPr>
          <a:xfrm>
            <a:off x="4870440" y="2819520"/>
            <a:ext cx="1219320" cy="14475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5" y="0"/>
                </a:lnTo>
                <a:lnTo>
                  <a:pt x="21600" y="10800"/>
                </a:lnTo>
                <a:lnTo>
                  <a:pt x="18495" y="21600"/>
                </a:lnTo>
                <a:lnTo>
                  <a:pt x="0" y="21600"/>
                </a:lnTo>
                <a:lnTo>
                  <a:pt x="3105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25480" y="1828800"/>
            <a:ext cx="61128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832960" y="1828800"/>
            <a:ext cx="914400" cy="798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rot="16200000">
            <a:off x="1013400" y="29732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226000" y="264312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5400000">
            <a:off x="4566600" y="1751400"/>
            <a:ext cx="1218960" cy="6554880"/>
          </a:xfrm>
          <a:custGeom>
            <a:avLst/>
            <a:gdLst>
              <a:gd name="textAreaLeft" fmla="*/ 360 w 1218960"/>
              <a:gd name="textAreaRight" fmla="*/ 1219680 w 1218960"/>
              <a:gd name="textAreaTop" fmla="*/ 0 h 6554880"/>
              <a:gd name="textAreaBottom" fmla="*/ 6555240 h 655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653" y="0"/>
                </a:lnTo>
                <a:lnTo>
                  <a:pt x="21600" y="10800"/>
                </a:lnTo>
                <a:lnTo>
                  <a:pt x="146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32040" y="2819520"/>
            <a:ext cx="1143000" cy="14475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5" y="0"/>
                </a:lnTo>
                <a:lnTo>
                  <a:pt x="21600" y="10800"/>
                </a:lnTo>
                <a:lnTo>
                  <a:pt x="18495" y="21600"/>
                </a:lnTo>
                <a:lnTo>
                  <a:pt x="0" y="21600"/>
                </a:lnTo>
                <a:lnTo>
                  <a:pt x="3105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91280" y="2819520"/>
            <a:ext cx="1219320" cy="14475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5" y="0"/>
                </a:lnTo>
                <a:lnTo>
                  <a:pt x="21600" y="10800"/>
                </a:lnTo>
                <a:lnTo>
                  <a:pt x="18495" y="21600"/>
                </a:lnTo>
                <a:lnTo>
                  <a:pt x="0" y="21600"/>
                </a:lnTo>
                <a:lnTo>
                  <a:pt x="3105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794120" y="-1130040"/>
            <a:ext cx="1143000" cy="66038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603840"/>
              <a:gd name="textAreaBottom" fmla="*/ 6604200 h 660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 sector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4648320"/>
            <a:ext cx="46227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ivate sector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19480" y="3352680"/>
            <a:ext cx="4540320" cy="42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ly-chai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Sector Participation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146320" y="2590200"/>
            <a:ext cx="2063880" cy="1143000"/>
          </a:xfrm>
          <a:custGeom>
            <a:avLst/>
            <a:gdLst>
              <a:gd name="textAreaLeft" fmla="*/ 0 w 2063880"/>
              <a:gd name="textAreaRight" fmla="*/ 2064240 w 206388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9480" y="2590920"/>
            <a:ext cx="1906560" cy="11430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35680" y="2590920"/>
            <a:ext cx="1824120" cy="1143000"/>
          </a:xfrm>
          <a:custGeom>
            <a:avLst/>
            <a:gdLst>
              <a:gd name="textAreaLeft" fmla="*/ 0 w 1824120"/>
              <a:gd name="textAreaRight" fmla="*/ 1824480 w 1824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55600" y="4572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c8c"/>
                </a:solidFill>
                <a:latin typeface="FuturaBookTBWA"/>
              </a:rPr>
              <a:t>The International Trade Transaction Process consist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68520" y="4114800"/>
            <a:ext cx="338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46320" y="4191120"/>
            <a:ext cx="3467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otive - JA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s - CI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rance - A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ail - G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Sector Participation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146320" y="2590200"/>
            <a:ext cx="2063880" cy="1143000"/>
          </a:xfrm>
          <a:custGeom>
            <a:avLst/>
            <a:gdLst>
              <a:gd name="textAreaLeft" fmla="*/ 0 w 2063880"/>
              <a:gd name="textAreaRight" fmla="*/ 2064240 w 206388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9480" y="2590920"/>
            <a:ext cx="1906560" cy="11430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35680" y="2590920"/>
            <a:ext cx="1824120" cy="1143000"/>
          </a:xfrm>
          <a:custGeom>
            <a:avLst/>
            <a:gdLst>
              <a:gd name="textAreaLeft" fmla="*/ 0 w 1824120"/>
              <a:gd name="textAreaRight" fmla="*/ 1824480 w 1824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55600" y="4572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c8c"/>
                </a:solidFill>
                <a:latin typeface="FuturaBookTBWA"/>
              </a:rPr>
              <a:t>The International Trade Transaction Process consist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68520" y="4114800"/>
            <a:ext cx="338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4191120"/>
            <a:ext cx="2971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reight - I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s - W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warders - FI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ts - I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Sector Participation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146320" y="2590200"/>
            <a:ext cx="2063880" cy="1143000"/>
          </a:xfrm>
          <a:custGeom>
            <a:avLst/>
            <a:gdLst>
              <a:gd name="textAreaLeft" fmla="*/ 0 w 2063880"/>
              <a:gd name="textAreaRight" fmla="*/ 2064240 w 206388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9480" y="2590920"/>
            <a:ext cx="1906560" cy="11430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35680" y="2590920"/>
            <a:ext cx="1824120" cy="1143000"/>
          </a:xfrm>
          <a:custGeom>
            <a:avLst/>
            <a:gdLst>
              <a:gd name="textAreaLeft" fmla="*/ 0 w 1824120"/>
              <a:gd name="textAreaRight" fmla="*/ 1824480 w 1824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55600" y="4572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c8c"/>
                </a:solidFill>
                <a:latin typeface="FuturaBookTBWA"/>
              </a:rPr>
              <a:t>The International Trade Transaction Process consist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68520" y="4114800"/>
            <a:ext cx="338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48240" y="4191120"/>
            <a:ext cx="30542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ational Payments - SW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Payments - BA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nkers Associations -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5120" y="533160"/>
            <a:ext cx="863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New sector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15" name=""/>
          <p:cNvSpPr/>
          <p:nvPr/>
        </p:nvSpPr>
        <p:spPr>
          <a:xfrm>
            <a:off x="4127400" y="2209680"/>
            <a:ext cx="1733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1447920"/>
            <a:ext cx="8597880" cy="51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w sectors are entering the e-business arena, enhancing the sectoral work, inclu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riculture (for the tracking and tracing of food product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vernment, for new e-government services to the private sector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5120" y="533160"/>
            <a:ext cx="863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sectors are also renewing their engagemen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19" name=""/>
          <p:cNvSpPr/>
          <p:nvPr/>
        </p:nvSpPr>
        <p:spPr>
          <a:xfrm>
            <a:off x="4127400" y="2209680"/>
            <a:ext cx="1733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81200" y="1468440"/>
            <a:ext cx="859788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inance (developing end-to-end e-processing of a payment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ir freight industry (e-freight programme with UNeDoc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5120" y="533160"/>
            <a:ext cx="863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Proposed new project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223" name=""/>
          <p:cNvSpPr/>
          <p:nvPr/>
        </p:nvSpPr>
        <p:spPr>
          <a:xfrm>
            <a:off x="4127400" y="2209680"/>
            <a:ext cx="1733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1200" y="1468440"/>
            <a:ext cx="859788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ross Border Reference Dat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UN/CEFACT and WCO will address how “</a:t>
            </a:r>
            <a:r>
              <a:rPr b="0" lang="en-US" sz="2000" spc="-1" strike="noStrike">
                <a:solidFill>
                  <a:srgbClr val="ffffff"/>
                </a:solidFill>
                <a:latin typeface="FuturaBookTBWA"/>
                <a:ea typeface="Times New Roman"/>
              </a:rPr>
              <a:t>To guide and support work in UN/CEFACT and the WCO related to the development of a Cross Border Reference Data Model to allow data interoperability for end-to-end trade transactions; and to support Single Window initiatives at both the national and regional lev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electronic procurement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Review government requirements for electronic procurement documents. These include semantic interoperability within the public sector and between the public and private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09:32:38Z</dcterms:created>
  <dc:creator>CERN User</dc:creator>
  <dc:description/>
  <dc:language>en-US</dc:language>
  <cp:lastModifiedBy>Consultant</cp:lastModifiedBy>
  <cp:lastPrinted>2001-03-15T16:33:27Z</cp:lastPrinted>
  <dcterms:modified xsi:type="dcterms:W3CDTF">2007-05-13T13:32:08Z</dcterms:modified>
  <cp:revision>9</cp:revision>
  <dc:subject/>
  <dc:title>PowerPoint Presentation</dc:title>
</cp:coreProperties>
</file>