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7E98541D-64CE-45EE-975F-273DEBC45B71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8680" y="2841480"/>
            <a:ext cx="915516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ndards Development Organiza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 Recommendations and  Follow-up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uturaBookTBWA"/>
              </a:rPr>
              <a:t>14 May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bjectives of SDO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 Session at 1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FuturaBookTBWA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 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15600" y="1703520"/>
            <a:ext cx="88837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nderstand current and envisioned SDOs collaboration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876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clusive: de jure, consortia, de facto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dentify insights on evolving SDO environme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876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ocus UN/CEFACT resources to deliver unique value and build synerg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olicit input for UN/CEFACT strate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11360" y="3715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680" y="1147320"/>
            <a:ext cx="892008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Improve communications between the Plenary and the Forum participants and with SDO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Reinforce cooperation and coordination with other SDO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pdate the Open Development Process for greater participation from external interes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romote recognition of the value of UN/CEFACT’s common semantic framework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11360" y="3715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Follow-Up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80960" y="1058760"/>
            <a:ext cx="920448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Improve communications: Plenary, Forum + SDO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Extended Bureau meetings (FMG and Bureau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trategy and priorit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ncreased participation by SDOs at Plenary and Forum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inforce cooperation and coordination with SDO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Established UN/CEFACT SDO Coordination Matrix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Organization and ur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Existing  UN/CEFACT liaison or cooperation agreemen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Work relevant to electronic business capabilit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Deliverables relevant to UN/CEFACT Programme of Work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Joint work items with UN/CEFAC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UN/CEFACT deliverables currently used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11360" y="3715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Follow-Up Actions </a:t>
            </a:r>
            <a:r>
              <a:rPr b="1" lang="en-US" sz="2800" spc="-1" strike="noStrike">
                <a:solidFill>
                  <a:srgbClr val="ffff00"/>
                </a:solidFill>
                <a:latin typeface="FuturaBookTBWA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02840" y="1006200"/>
            <a:ext cx="925668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Additional cooperation and coordination with SDO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working with MoUMG (IEC, ISO, ITU,+)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working with ISO TC 154 + OASIS on path for ebXM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transition of Standards Liaison Rapporteur remit to Bureau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Architecture Project + MoUMG eBusiness Capabilities Framework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pdate ODP for external inpu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mproved ODP submitted for approva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omote recognition of the value of UN/CEFACT’s common semantic framework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participating in many forums for this, example: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EN/ISSS workshop - </a:t>
            </a: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electronic public procuremen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User</cp:lastModifiedBy>
  <cp:lastPrinted>2001-03-15T16:33:27Z</cp:lastPrinted>
  <dcterms:modified xsi:type="dcterms:W3CDTF">2007-05-13T14:33:19Z</dcterms:modified>
  <cp:revision>328</cp:revision>
  <dc:subject/>
  <dc:title>UN/CEAFACT Bureau report to 8th Forum</dc:title>
</cp:coreProperties>
</file>