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3C5CEF68-BF1A-4F8E-B5BA-BDC3691288FE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8680" y="2841480"/>
            <a:ext cx="91551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ndards Development Organiz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Recommendations and  Follow-up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68640" y="602136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572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552600"/>
            <a:ext cx="1733040" cy="1294920"/>
            <a:chOff x="4040280" y="552600"/>
            <a:chExt cx="1733040" cy="1294920"/>
          </a:xfrm>
        </p:grpSpPr>
        <p:sp>
          <p:nvSpPr>
            <p:cNvPr id="125" name=""/>
            <p:cNvSpPr/>
            <p:nvPr/>
          </p:nvSpPr>
          <p:spPr>
            <a:xfrm>
              <a:off x="4237920" y="552600"/>
              <a:ext cx="19800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77320" y="55260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480" y="111816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3000" y="142920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8800" y="69948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8440" y="91944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4640" y="134424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3120" y="73044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82836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74520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1400" y="111996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87680" y="98568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4200" y="109764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6120" y="115776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9920" y="93168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0680" y="137304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99520" y="99792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6920" y="109152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9800" y="109152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3200" y="127800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53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5560" y="73728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6920" y="1690200"/>
              <a:ext cx="113436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760" y="593640"/>
              <a:ext cx="111132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2520" y="89460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46760" y="610560"/>
              <a:ext cx="1714320" cy="1093320"/>
              <a:chOff x="4046760" y="61056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046760" y="93348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520" y="1430640"/>
                <a:ext cx="40248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65600" y="93348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3680" y="128124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4520" y="62244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32040" y="63108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8600" y="709560"/>
                <a:ext cx="88776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68760" y="804960"/>
                <a:ext cx="66492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2840" y="61056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117400" y="129852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720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7200" y="1163880"/>
              <a:ext cx="31752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0320" y="740880"/>
              <a:ext cx="31284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1360" y="452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bjectives of SDO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 Session at 1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FuturaBookTBWA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5600" y="1703520"/>
            <a:ext cx="88837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nderstand current and envisioned SDOs collaboration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nclusive: de jure, consortia, de facto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Identify insights on evolving SDO environmen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876"/>
              </a:spcBef>
              <a:spcAft>
                <a:spcPts val="524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cus UN/CEFACT resources to deliver unique value and build syner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olicit input for UN/CEFACT strategy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680" y="1147320"/>
            <a:ext cx="892008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uturaBookTBWA"/>
              </a:rPr>
              <a:t>Improve communications between the Plenary and the Forum participants and with SDO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Reinforce cooperation and coordination with other SDOs 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Update the Open Development Process for greater participation from external interes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Promote recognition of the value of UN/CEFACT’s common semantic framework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Follow-Up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80960" y="1058760"/>
            <a:ext cx="920448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uturaBookTBWA"/>
              </a:rPr>
              <a:t>Improve communications: Plenary, Forum +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xtended Bureau meetings (FMG and Bureau)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strategy and prior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ncreased participation by SDOs at Plenary and Forum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Reinforce cooperation and coordin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Established UN/CEFACT SDO Coordination Matrix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Organization and ur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Existing  UN/CEFACT liaison or cooperation agre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Work relevant to electronic business capabilities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Deliverables relevant to UN/CEFACT Programme of 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Joint work items with UN/CEFAC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BookTB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UN/CEFACT deliverables currently used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1360" y="3715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Follow-Up Actions </a:t>
            </a:r>
            <a:r>
              <a:rPr b="1" lang="en-US" sz="2800" spc="-1" strike="noStrike">
                <a:solidFill>
                  <a:srgbClr val="ffff00"/>
                </a:solidFill>
                <a:latin typeface="FuturaBookTBW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02840" y="1006200"/>
            <a:ext cx="925668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dditional cooperation and coordination with SDO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ing with MoUMG (IEC, ISO, ITU,+) 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working with ISO TC 154 + OASIS on path for ebXM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transition of Standards Liaison Rapporteur remit to Bureau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Architecture Project + MoUMG eBusiness Capabilities Framework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pdate ODP for external input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improved ODP submitted for approval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Promote recognition of the value of UN/CEFACT’s common semantic frame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participating in many forums for this, example: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EN/ISSS workshop - </a:t>
            </a:r>
            <a:r>
              <a:rPr b="0" lang="en-GB" sz="2400" spc="-1" strike="noStrike">
                <a:solidFill>
                  <a:srgbClr val="ffffff"/>
                </a:solidFill>
                <a:latin typeface="FuturaBookTBWA"/>
              </a:rPr>
              <a:t>electronic public procuremen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Mark Palmer</dc:creator>
  <dc:description/>
  <dc:language>en-US</dc:language>
  <cp:lastModifiedBy>User</cp:lastModifiedBy>
  <cp:lastPrinted>2001-03-15T16:33:27Z</cp:lastPrinted>
  <dcterms:modified xsi:type="dcterms:W3CDTF">2007-05-13T14:33:19Z</dcterms:modified>
  <cp:revision>328</cp:revision>
  <dc:subject/>
  <dc:title>UN/CEAFACT Bureau report to 8th Forum</dc:title>
</cp:coreProperties>
</file>