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CA6D0811-0AC8-4804-8574-0AE81124A3E8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09560" y="3146400"/>
            <a:ext cx="91551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 of stakeholder prio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FuturaBookTBWA"/>
              </a:rPr>
              <a:t>UN/CEFACT Burea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14 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25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08240" y="1676160"/>
            <a:ext cx="847080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keholder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Key action poin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Key developmen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Key challenges ahead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Follow-up Present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4935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84280" y="1292040"/>
            <a:ext cx="93787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untries around the world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FuturaBookTBWA"/>
              </a:rPr>
              <a:t>internal and external (eg regional, global) perspectiv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ectoral domains across the spectrum of business, government and trade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FuturaBookTBWA"/>
              </a:rPr>
              <a:t>     </a:t>
            </a:r>
            <a:r>
              <a:rPr b="0" i="1" lang="en-GB" sz="1800" spc="-1" strike="noStrike">
                <a:solidFill>
                  <a:srgbClr val="ffffff"/>
                </a:solidFill>
                <a:latin typeface="FuturaBookTBWA"/>
              </a:rPr>
              <a:t>Accounting &amp; Audit - Agriculture - Architecture, Engineering &amp; Construction -  Business Process Analysis - Customs - eGovernment - Electronic Trade Documents - Environmental Management - Finance - Harmonization - Health Care - Insurance - International Trade Procedures - Social Services - Statistics Collection and Reporting - Supply Chain - Transport - Travel, Tourism and Leisure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Global community of standards development organisations and grouping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11360" y="4413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Key Action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50680" y="1222200"/>
            <a:ext cx="90550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oster growing recognition of the value of UN/CEFACT’s common semantic framework, providing a neutral platform for convergence independent of technolog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mprove coordination to avoid duplication of work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Strengthen communic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Aim at a consistent set of implementable standards that support a complete set of practical deliverables, eg advancing e-invoice develop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52480" y="29520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Key Develop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09560" y="1020600"/>
            <a:ext cx="8470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/CEFACT standards framework playing a stronger facilitating rol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Internal and external coordination helping to reduce duplic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eople-to-people and web-based communication efforts improved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Core Component Library and Cross Industry Invoice progress, as examples, advancing consistent set of across-the-board standards for e-business, e-government and e-trad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01800" y="34308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Key Challenges A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19240" y="1082520"/>
            <a:ext cx="84708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Ensuring Stakeholder Attention to Defining High Value Global Priorit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ffffff"/>
                </a:solidFill>
                <a:latin typeface="FuturaBookTBW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-253800"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UN/CEFACT‘S Business Mod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ffffff"/>
                </a:solidFill>
                <a:latin typeface="FuturaBookTBWA"/>
              </a:rPr>
              <a:t>     </a:t>
            </a:r>
            <a:r>
              <a:rPr b="0" i="1" lang="de-CH" sz="2000" spc="-1" strike="noStrike">
                <a:solidFill>
                  <a:srgbClr val="ffffff"/>
                </a:solidFill>
                <a:latin typeface="FuturaBookTBWA"/>
              </a:rPr>
              <a:t>public-private partnership, global remit, freely available products and services, UNECE secretariat and volunteer experts around the globe, UN budget and extra-budgetary resources, constraints in addressing identified gaps in achieving priority deliverabl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-253800">
              <a:spcBef>
                <a:spcPts val="14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Good Governanc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ffffff"/>
                </a:solidFill>
                <a:latin typeface="FuturaBookTBWA"/>
              </a:rPr>
              <a:t>     </a:t>
            </a:r>
            <a:r>
              <a:rPr b="0" i="1" lang="de-CH" sz="2000" spc="-1" strike="noStrike">
                <a:solidFill>
                  <a:srgbClr val="ffffff"/>
                </a:solidFill>
                <a:latin typeface="FuturaBookTBWA"/>
              </a:rPr>
              <a:t>as an intergovernmental body - there is a special continuing need to give priority to due diligence: management oversight, transparency, open processes, accountability, controls, avoidance of appearance and actual conflicts of interest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-253800">
              <a:spcBef>
                <a:spcPts val="14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Timing is everything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73080" y="6793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Tracking Progress: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26680" y="2422440"/>
            <a:ext cx="93790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untrie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ector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tandards Development Organisation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8" name=""/>
          <p:cNvSpPr/>
          <p:nvPr/>
        </p:nvSpPr>
        <p:spPr>
          <a:xfrm>
            <a:off x="1228680" y="4307040"/>
            <a:ext cx="847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ffff00"/>
                </a:solidFill>
                <a:latin typeface="FuturaBookTBWA"/>
              </a:rPr>
              <a:t>  </a:t>
            </a:r>
            <a:br>
              <a:rPr sz="3000"/>
            </a:br>
            <a:br>
              <a:rPr sz="3000"/>
            </a:br>
            <a:r>
              <a:rPr b="1" lang="de-CH" sz="3000" spc="-1" strike="noStrike">
                <a:solidFill>
                  <a:srgbClr val="ffff00"/>
                </a:solidFill>
                <a:latin typeface="FuturaBookTBWA"/>
              </a:rPr>
              <a:t>Plenary Questions, Comments and Recommend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90520" y="151776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ffff00"/>
                </a:solidFill>
                <a:latin typeface="FuturaBookTBWA"/>
              </a:rPr>
              <a:t>Bureau Follow-up Present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82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09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Plenary Chair </dc:creator>
  <dc:description/>
  <dc:language>en-US</dc:language>
  <cp:lastModifiedBy>Corporate User</cp:lastModifiedBy>
  <cp:lastPrinted>2001-03-15T16:33:27Z</cp:lastPrinted>
  <dcterms:modified xsi:type="dcterms:W3CDTF">2007-05-14T06:51:11Z</dcterms:modified>
  <cp:revision>281</cp:revision>
  <dc:subject/>
  <dc:title>Challenges for the 12th Plenary</dc:title>
</cp:coreProperties>
</file>