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268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8992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6800" y="42494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2494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494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1141560"/>
            <a:ext cx="0" cy="53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5960" y="6519960"/>
            <a:ext cx="73850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59800" y="62485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255160" y="5638680"/>
            <a:ext cx="990000" cy="685440"/>
            <a:chOff x="8255160" y="5638680"/>
            <a:chExt cx="990000" cy="685440"/>
          </a:xfrm>
        </p:grpSpPr>
        <p:sp>
          <p:nvSpPr>
            <p:cNvPr id="4" name=""/>
            <p:cNvSpPr/>
            <p:nvPr/>
          </p:nvSpPr>
          <p:spPr>
            <a:xfrm>
              <a:off x="8367840" y="5638680"/>
              <a:ext cx="11304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5516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019080" y="5638680"/>
              <a:ext cx="112680" cy="11196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23120" y="5938200"/>
              <a:ext cx="122040" cy="1677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13600" y="6103080"/>
              <a:ext cx="231480" cy="14580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42680" y="5716440"/>
              <a:ext cx="26280" cy="144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94160" y="5832720"/>
              <a:ext cx="40680" cy="3492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03160" y="6057720"/>
              <a:ext cx="22320" cy="280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6680" y="5733000"/>
              <a:ext cx="15480" cy="111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6840" y="5784480"/>
              <a:ext cx="39600" cy="424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49520" y="5740560"/>
              <a:ext cx="142200" cy="1072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92840" y="5939280"/>
              <a:ext cx="9000" cy="198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53520" y="5868000"/>
              <a:ext cx="286560" cy="19512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1480" y="5927040"/>
              <a:ext cx="47160" cy="3492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7120" y="5959080"/>
              <a:ext cx="7920" cy="39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7760" y="5839200"/>
              <a:ext cx="237960" cy="29088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46920" y="6073200"/>
              <a:ext cx="3960" cy="11412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88960" y="5874480"/>
              <a:ext cx="115560" cy="964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4720" y="5923800"/>
              <a:ext cx="165600" cy="288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89120" y="5923800"/>
              <a:ext cx="173520" cy="288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400" y="6022800"/>
              <a:ext cx="173520" cy="17424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8648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97920" y="5736240"/>
              <a:ext cx="115560" cy="1897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24720" y="6240960"/>
              <a:ext cx="648000" cy="831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28680" y="5660280"/>
              <a:ext cx="635040" cy="52776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2000" y="5819760"/>
              <a:ext cx="250920" cy="208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" name=""/>
            <p:cNvGrpSpPr/>
            <p:nvPr/>
          </p:nvGrpSpPr>
          <p:grpSpPr>
            <a:xfrm>
              <a:off x="8258760" y="5669280"/>
              <a:ext cx="979560" cy="578880"/>
              <a:chOff x="8258760" y="5669280"/>
              <a:chExt cx="979560" cy="578880"/>
            </a:xfrm>
          </p:grpSpPr>
          <p:sp>
            <p:nvSpPr>
              <p:cNvPr id="31" name=""/>
              <p:cNvSpPr/>
              <p:nvPr/>
            </p:nvSpPr>
            <p:spPr>
              <a:xfrm>
                <a:off x="8258760" y="5840280"/>
                <a:ext cx="113040" cy="17100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54520" y="6103440"/>
                <a:ext cx="230040" cy="144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126720" y="5840280"/>
                <a:ext cx="111600" cy="17100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039960" y="6024600"/>
                <a:ext cx="171720" cy="17316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354520" y="5675400"/>
                <a:ext cx="93240" cy="151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50400" y="5680080"/>
                <a:ext cx="122040" cy="144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94200" y="5721480"/>
                <a:ext cx="507240" cy="41688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557200" y="5772240"/>
                <a:ext cx="380160" cy="3135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748000" y="5669280"/>
                <a:ext cx="2520" cy="2149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" name=""/>
            <p:cNvSpPr/>
            <p:nvPr/>
          </p:nvSpPr>
          <p:spPr>
            <a:xfrm>
              <a:off x="8870400" y="6033600"/>
              <a:ext cx="95760" cy="7992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2192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521920" y="5962320"/>
              <a:ext cx="181440" cy="15156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8040" y="5738400"/>
              <a:ext cx="178920" cy="1483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uturaBookTBW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524640"/>
            <a:ext cx="2160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BookTBWA"/>
              </a:rPr>
              <a:t>Slide </a:t>
            </a:r>
            <a:fld id="{C6B36D2E-7D20-4555-B44E-05FF223089B7}" type="slidenum">
              <a:rPr b="0" lang="en-US" sz="900" spc="-1" strike="noStrike">
                <a:solidFill>
                  <a:srgbClr val="ffffff"/>
                </a:solidFill>
                <a:latin typeface="FuturaBookTBW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BookTBW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9560" y="3146400"/>
            <a:ext cx="9155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 of stakeholder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FuturaBookTBWA"/>
              </a:rPr>
              <a:t>UN/CEFACT Bur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BookTBWA"/>
              </a:rPr>
              <a:t>14 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4040" y="6059520"/>
            <a:ext cx="72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BookTBWA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4640" y="19432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FuturaBookTBWA"/>
              </a:rPr>
              <a:t>UN/CE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59160" y="571680"/>
            <a:ext cx="1733400" cy="1294920"/>
            <a:chOff x="4259160" y="571680"/>
            <a:chExt cx="1733400" cy="1294920"/>
          </a:xfrm>
        </p:grpSpPr>
        <p:sp>
          <p:nvSpPr>
            <p:cNvPr id="125" name=""/>
            <p:cNvSpPr/>
            <p:nvPr/>
          </p:nvSpPr>
          <p:spPr>
            <a:xfrm>
              <a:off x="4456800" y="571680"/>
              <a:ext cx="19836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916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6200" y="571680"/>
              <a:ext cx="197640" cy="21132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8720" y="1137240"/>
              <a:ext cx="213840" cy="31716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2240" y="1448280"/>
              <a:ext cx="405360" cy="2750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8040" y="718560"/>
              <a:ext cx="46440" cy="2700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7680" y="938520"/>
              <a:ext cx="71280" cy="662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3880" y="1363320"/>
              <a:ext cx="38880" cy="532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360" y="749520"/>
              <a:ext cx="27360" cy="2088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0320" y="847440"/>
              <a:ext cx="69120" cy="806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9200" y="764280"/>
              <a:ext cx="248760" cy="20268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280" y="1139040"/>
              <a:ext cx="15840" cy="374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6560" y="1004760"/>
              <a:ext cx="501480" cy="368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3080" y="1116720"/>
              <a:ext cx="82800" cy="662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5360" y="1176840"/>
              <a:ext cx="14040" cy="79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9160" y="950760"/>
              <a:ext cx="416880" cy="54936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920" y="1392120"/>
              <a:ext cx="7200" cy="21564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8400" y="1017000"/>
              <a:ext cx="202320" cy="18216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1110600"/>
              <a:ext cx="290160" cy="576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8680" y="1110600"/>
              <a:ext cx="303480" cy="576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12080" y="1297080"/>
              <a:ext cx="303480" cy="32940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24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4800" y="756360"/>
              <a:ext cx="202320" cy="35856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1709280"/>
              <a:ext cx="1134720" cy="15732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2640" y="612720"/>
              <a:ext cx="1111680" cy="99648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400" y="913680"/>
              <a:ext cx="439200" cy="39348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265640" y="629640"/>
              <a:ext cx="1714320" cy="1093320"/>
              <a:chOff x="4265640" y="629640"/>
              <a:chExt cx="1714320" cy="1093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265640" y="952560"/>
                <a:ext cx="198000" cy="32292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3400" y="1449720"/>
                <a:ext cx="402840" cy="27324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4480" y="952560"/>
                <a:ext cx="195480" cy="32292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2920" y="1300320"/>
                <a:ext cx="300960" cy="327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33400" y="641520"/>
                <a:ext cx="163080" cy="28584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0920" y="650160"/>
                <a:ext cx="213840" cy="27324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77840" y="728640"/>
                <a:ext cx="888120" cy="78696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8000" y="824040"/>
                <a:ext cx="665280" cy="59220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21720" y="629640"/>
                <a:ext cx="4680" cy="40572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336280" y="1317600"/>
              <a:ext cx="167760" cy="1512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608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1182960"/>
              <a:ext cx="317880" cy="28584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9560" y="759960"/>
              <a:ext cx="313200" cy="28008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5680" y="18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58680" y="6159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08240" y="1676160"/>
            <a:ext cx="847080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action poi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development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Key challenges ahead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FuturaBookTBWA"/>
              </a:rPr>
              <a:t>Follow-up Presentations</a:t>
            </a: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58680" y="49356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84280" y="1292040"/>
            <a:ext cx="93787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untries around the world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BookTBW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FuturaBookTBWA"/>
              </a:rPr>
              <a:t>internal and external (eg regional, global) perspectiv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Aft>
                <a:spcPts val="700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toral domains across the spectrum of business, government and trade: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BookTBWA"/>
              </a:rPr>
              <a:t>     </a:t>
            </a:r>
            <a:r>
              <a:rPr b="0" i="1" lang="en-GB" sz="1800" spc="-1" strike="noStrike">
                <a:solidFill>
                  <a:srgbClr val="ffffff"/>
                </a:solidFill>
                <a:latin typeface="FuturaBookTBWA"/>
              </a:rPr>
              <a:t>Accounting &amp; Audit - Agriculture - Architecture, Engineering &amp; Construction -  Business Process Analysis - Customs - eGovernment - Electronic Trade Documents - Environmental Management - Finance - Harmonization - Health Care - Insurance - International Trade Procedures - Social Services - Statistics Collection and Reporting - Supply Chain - Transport - Travel, Tourism and Leisure</a:t>
            </a:r>
            <a:endParaRPr b="0" lang="en-US" sz="1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Global community of standards development organisations and grouping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1360" y="44136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Action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50680" y="1222200"/>
            <a:ext cx="9055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Foster growing recognition of the value of UN/CEFACT’s common semantic framework, providing a neutral platform for convergence independent of technology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Improve coordination to avoid duplication of work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Strengthen communic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Aim at a consistent set of implementable standards that support a complete set of practical deliverables, eg advancing e-invoice development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52480" y="29520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09560" y="1020600"/>
            <a:ext cx="8470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UN/CEFACT standards framework playing a stronger facilitating rol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Internal and external coordination helping to reduce duplication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People-to-people and web-based communication efforts improved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39480" indent="-33948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Core Component Library and Cross Industry Invoice progress, as examples, advancing consistent set of across-the-board standards for e-business, e-government and e-trad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01800" y="34308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BookTBWA"/>
              </a:rPr>
              <a:t>Key Challenges A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19240" y="1082520"/>
            <a:ext cx="84708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21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Ensuring Stakeholder Attention to Defining High Value Global Prioritie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UN/CEFACT‘S Business Model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     </a:t>
            </a: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public-private partnership, global remit, freely available products and services, UNECE secretariat and volunteer experts around the globe, UN budget and extra-budgetary resources, constraints in addressing identified gaps in achieving priority deliverables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Good Governance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     </a:t>
            </a:r>
            <a:r>
              <a:rPr b="0" i="1" lang="de-CH" sz="2000" spc="-1" strike="noStrike">
                <a:solidFill>
                  <a:srgbClr val="ffffff"/>
                </a:solidFill>
                <a:latin typeface="FuturaBookTBWA"/>
              </a:rPr>
              <a:t>as an intergovernmental body - there is a special continuing need to give priority to due diligence: management oversight, transparency, open processes, accountability, controls, avoidance of appearance and actual conflicts of interest</a:t>
            </a:r>
            <a:endParaRPr b="0" lang="en-US" sz="2000" spc="-1" strike="noStrike">
              <a:solidFill>
                <a:srgbClr val="ffffff"/>
              </a:solidFill>
              <a:latin typeface="FuturaBookTBWA"/>
            </a:endParaRPr>
          </a:p>
          <a:p>
            <a:pPr marL="253800" indent="-25380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FuturaBookTBWA"/>
              </a:rPr>
              <a:t>Timing is everything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3080" y="67932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00"/>
                </a:solidFill>
                <a:latin typeface="FuturaBookTBWA"/>
              </a:rPr>
              <a:t>Tracking Progress: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26680" y="2422440"/>
            <a:ext cx="9379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Countries 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ector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FuturaBookTB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BookTBWA"/>
              </a:rPr>
              <a:t>Standards Development Organisations</a:t>
            </a:r>
            <a:endParaRPr b="0" lang="en-US" sz="2800" spc="-1" strike="noStrike">
              <a:solidFill>
                <a:srgbClr val="ffffff"/>
              </a:solidFill>
              <a:latin typeface="FuturaBookTBWA"/>
            </a:endParaRPr>
          </a:p>
        </p:txBody>
      </p:sp>
      <p:sp>
        <p:nvSpPr>
          <p:cNvPr id="178" name=""/>
          <p:cNvSpPr/>
          <p:nvPr/>
        </p:nvSpPr>
        <p:spPr>
          <a:xfrm>
            <a:off x="1228680" y="4307040"/>
            <a:ext cx="847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  </a:t>
            </a:r>
            <a:br>
              <a:rPr sz="3000"/>
            </a:br>
            <a:br>
              <a:rPr sz="3000"/>
            </a:b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Plenary Questions, Comments and Recommend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90520" y="151776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ffff00"/>
                </a:solidFill>
                <a:latin typeface="FuturaBookTBWA"/>
              </a:rPr>
              <a:t>Bureau Follow-up Present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c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84400" y="3657600"/>
            <a:ext cx="412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700" spc="-1" strike="noStrike">
                <a:solidFill>
                  <a:srgbClr val="ffffff"/>
                </a:solidFill>
                <a:latin typeface="FuturaBookTBWA"/>
              </a:rPr>
              <a:t>UN/</a:t>
            </a:r>
            <a:r>
              <a:rPr b="0" lang="en-US" sz="4100" spc="-1" strike="noStrike">
                <a:solidFill>
                  <a:srgbClr val="ffffff"/>
                </a:solidFill>
                <a:latin typeface="FuturaBookTBWA"/>
              </a:rPr>
              <a:t>CEFAC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933720" y="1828800"/>
            <a:ext cx="2228400" cy="1751760"/>
            <a:chOff x="3933720" y="1828800"/>
            <a:chExt cx="2228400" cy="1751760"/>
          </a:xfrm>
        </p:grpSpPr>
        <p:sp>
          <p:nvSpPr>
            <p:cNvPr id="182" name=""/>
            <p:cNvSpPr/>
            <p:nvPr/>
          </p:nvSpPr>
          <p:spPr>
            <a:xfrm>
              <a:off x="4187880" y="1828800"/>
              <a:ext cx="25488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3372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53080" y="1828800"/>
              <a:ext cx="254160" cy="2858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87080" y="2594160"/>
              <a:ext cx="275040" cy="42912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6200" y="3015000"/>
              <a:ext cx="521280" cy="37224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6360" y="2027520"/>
              <a:ext cx="59400" cy="367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1920" y="2325240"/>
              <a:ext cx="91800" cy="8964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2440" y="2899800"/>
              <a:ext cx="50040" cy="7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77680" y="2069640"/>
              <a:ext cx="35280" cy="284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20720" y="2201760"/>
              <a:ext cx="88920" cy="10908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1120" y="2089440"/>
              <a:ext cx="320040" cy="27432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4040" y="2596680"/>
              <a:ext cx="20520" cy="5076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0480" y="2414880"/>
              <a:ext cx="644760" cy="49896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6160" y="2566080"/>
              <a:ext cx="106560" cy="8964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6080" y="2647440"/>
              <a:ext cx="18000" cy="10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5200" y="2341800"/>
              <a:ext cx="536040" cy="7430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0360" y="2938680"/>
              <a:ext cx="9360" cy="291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10040" y="2431440"/>
              <a:ext cx="260280" cy="24660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5320" y="2557800"/>
              <a:ext cx="372960" cy="792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60400" y="2557800"/>
              <a:ext cx="390240" cy="792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2120" y="2810160"/>
              <a:ext cx="390240" cy="44568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464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30920" y="2078640"/>
              <a:ext cx="260280" cy="4849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5320" y="3367800"/>
              <a:ext cx="1458720" cy="21276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3960" y="1884600"/>
              <a:ext cx="1429200" cy="13482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59560" y="2291400"/>
              <a:ext cx="564840" cy="53244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42360" y="1907280"/>
              <a:ext cx="2204280" cy="1479240"/>
              <a:chOff x="3942360" y="1907280"/>
              <a:chExt cx="2204280" cy="1479240"/>
            </a:xfrm>
          </p:grpSpPr>
          <p:sp>
            <p:nvSpPr>
              <p:cNvPr id="209" name=""/>
              <p:cNvSpPr/>
              <p:nvPr/>
            </p:nvSpPr>
            <p:spPr>
              <a:xfrm>
                <a:off x="3942360" y="2344320"/>
                <a:ext cx="254880" cy="43704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58360" y="3016800"/>
                <a:ext cx="517680" cy="36972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95360" y="2344320"/>
                <a:ext cx="251280" cy="43704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99880" y="2814840"/>
                <a:ext cx="387000" cy="44280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58360" y="1923480"/>
                <a:ext cx="209880" cy="3870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23640" y="1935000"/>
                <a:ext cx="275040" cy="36972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72280" y="2041200"/>
                <a:ext cx="1141920" cy="106524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13760" y="2170080"/>
                <a:ext cx="855360" cy="80136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43240" y="1907280"/>
                <a:ext cx="5760" cy="54900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18640" y="2838240"/>
              <a:ext cx="216000" cy="20448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420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4200" y="2655720"/>
              <a:ext cx="408600" cy="3870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5560" y="2083680"/>
              <a:ext cx="402480" cy="37872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71600" y="4591080"/>
            <a:ext cx="77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SIMPLE, TRANSPARENT AND EFFE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BookTBWA"/>
              </a:rPr>
              <a:t>FOR GLOBAL BUSI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0:00Z</dcterms:created>
  <dc:creator>Plenary Chair </dc:creator>
  <dc:description/>
  <dc:language>en-US</dc:language>
  <cp:lastModifiedBy>Corporate User</cp:lastModifiedBy>
  <cp:lastPrinted>2001-03-15T16:33:27Z</cp:lastPrinted>
  <dcterms:modified xsi:type="dcterms:W3CDTF">2007-05-14T06:51:11Z</dcterms:modified>
  <cp:revision>281</cp:revision>
  <dc:subject/>
  <dc:title>Challenges for the 12th Plenary</dc:title>
</cp:coreProperties>
</file>