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D7D61F8B-EB2C-4618-B537-4BFBCAEE538C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8280" y="2932200"/>
            <a:ext cx="915516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Country Stakehold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Persp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Virginia Cram-Ma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Director UNECE Trade and Timber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217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44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90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Countries ne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interoperable, intersectoral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43560" y="568944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48000" y="112248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uzzle3"/>
          <p:cNvSpPr/>
          <p:nvPr/>
        </p:nvSpPr>
        <p:spPr>
          <a:xfrm>
            <a:off x="5640480" y="1441440"/>
            <a:ext cx="1568520" cy="190512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uzzle2"/>
          <p:cNvSpPr/>
          <p:nvPr/>
        </p:nvSpPr>
        <p:spPr>
          <a:xfrm>
            <a:off x="5062680" y="3879720"/>
            <a:ext cx="2643120" cy="16527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uzzle4"/>
          <p:cNvSpPr/>
          <p:nvPr/>
        </p:nvSpPr>
        <p:spPr>
          <a:xfrm>
            <a:off x="2751120" y="3803760"/>
            <a:ext cx="1494000" cy="22860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uzzle1"/>
          <p:cNvSpPr/>
          <p:nvPr/>
        </p:nvSpPr>
        <p:spPr>
          <a:xfrm>
            <a:off x="2173320" y="1898640"/>
            <a:ext cx="2762280" cy="12952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9620000">
            <a:off x="4154040" y="3270240"/>
            <a:ext cx="1414440" cy="91440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165200">
            <a:off x="3247920" y="3219120"/>
            <a:ext cx="327240" cy="558720"/>
          </a:xfrm>
          <a:prstGeom prst="upDownArrow">
            <a:avLst>
              <a:gd name="adj1" fmla="val 50000"/>
              <a:gd name="adj2" fmla="val 339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165200">
            <a:off x="6052680" y="3346560"/>
            <a:ext cx="330120" cy="609480"/>
          </a:xfrm>
          <a:prstGeom prst="upDownArrow">
            <a:avLst>
              <a:gd name="adj1" fmla="val 50000"/>
              <a:gd name="adj2" fmla="val 367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19200">
            <a:off x="5116320" y="2212920"/>
            <a:ext cx="304560" cy="743040"/>
          </a:xfrm>
          <a:prstGeom prst="upDownArrow">
            <a:avLst>
              <a:gd name="adj1" fmla="val 50000"/>
              <a:gd name="adj2" fmla="val 4856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19200">
            <a:off x="4455360" y="4575240"/>
            <a:ext cx="304920" cy="742680"/>
          </a:xfrm>
          <a:prstGeom prst="upDownArrow">
            <a:avLst>
              <a:gd name="adj1" fmla="val 50000"/>
              <a:gd name="adj2" fmla="val 484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440" y="2050920"/>
            <a:ext cx="170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ies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, et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53120" y="2163600"/>
            <a:ext cx="26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s, Bor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Agenci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9680" y="4479840"/>
            <a:ext cx="213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compan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ssoci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arious se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16160" y="3498840"/>
            <a:ext cx="247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 forwarder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compan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s, SM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90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Increase efficiency &amp; competit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Protect investments in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8680" y="170820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22800" y="520236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40200" y="2554200"/>
            <a:ext cx="170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ies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26120" y="2216160"/>
            <a:ext cx="267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s, Bor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Agenci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9080" y="4119480"/>
            <a:ext cx="213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compan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ssoci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arious se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15120" y="3405240"/>
            <a:ext cx="250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 forwarder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compan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s, SM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124080" y="2035080"/>
            <a:ext cx="4129200" cy="3504960"/>
            <a:chOff x="3124080" y="2035080"/>
            <a:chExt cx="4129200" cy="3504960"/>
          </a:xfrm>
        </p:grpSpPr>
        <p:sp>
          <p:nvSpPr>
            <p:cNvPr id="190" name="Puzzle1"/>
            <p:cNvSpPr/>
            <p:nvPr/>
          </p:nvSpPr>
          <p:spPr>
            <a:xfrm>
              <a:off x="3124080" y="2568240"/>
              <a:ext cx="2597400" cy="12956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Puzzle3"/>
            <p:cNvSpPr/>
            <p:nvPr/>
          </p:nvSpPr>
          <p:spPr>
            <a:xfrm>
              <a:off x="5105520" y="2035080"/>
              <a:ext cx="1650960" cy="18288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Puzzle4"/>
            <p:cNvSpPr/>
            <p:nvPr/>
          </p:nvSpPr>
          <p:spPr>
            <a:xfrm>
              <a:off x="3701880" y="3330360"/>
              <a:ext cx="1494000" cy="22096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Puzzle2"/>
            <p:cNvSpPr/>
            <p:nvPr/>
          </p:nvSpPr>
          <p:spPr>
            <a:xfrm>
              <a:off x="4610160" y="3330360"/>
              <a:ext cx="2643120" cy="17524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Invoice%20image" descr=""/>
          <p:cNvPicPr/>
          <p:nvPr/>
        </p:nvPicPr>
        <p:blipFill>
          <a:blip r:embed="rId1"/>
          <a:stretch/>
        </p:blipFill>
        <p:spPr>
          <a:xfrm>
            <a:off x="1147680" y="1488960"/>
            <a:ext cx="7029360" cy="4343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76000" y="173160"/>
            <a:ext cx="6214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Among the top priori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e-invoicing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11360" y="28116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FuturaBookTBWA"/>
              </a:rPr>
              <a:t>UN/CEFACT</a:t>
            </a:r>
            <a:r>
              <a:rPr b="1" lang="en-GB" sz="4000" spc="-1" strike="noStrike">
                <a:solidFill>
                  <a:srgbClr val="ffff00"/>
                </a:solidFill>
                <a:latin typeface="FuturaBookTBWA"/>
              </a:rPr>
              <a:t>’s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5120" y="1198440"/>
            <a:ext cx="7518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The cross-industry invoice and e-tendering candidate release XML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Two releases of the Core Component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Eleven Business Requirements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Three releases of the UN/EDIFACT Dir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Two releases of the UN/LOCODE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Four revised code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Launched eGov data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95160" y="1676520"/>
            <a:ext cx="81885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00"/>
                </a:solidFill>
                <a:latin typeface="Times New Roman"/>
              </a:rPr>
              <a:t>UN/CEFACT h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Updated its open development process (O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Reviewed its project portfolio &amp; set pri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Worked on improving work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Developed a procedure for managing extra-budgetary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9880" y="212760"/>
            <a:ext cx="859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7560" y="0"/>
            <a:ext cx="9710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Countries ne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open, transparent &amp; efficient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22280" y="1193760"/>
            <a:ext cx="884412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other Standards Development Organizations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through the e-business MoU and the secretariat to ISO TC1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WTO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by reinforcing UN/CEFACT’s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other international organizations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as a founding partner in the Global Facilitation Partnership for Trade and Transport with the World Bank, WCO, UNCTAD, ICC and U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With other UN regional commissions: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         through joint pro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9880" y="212760"/>
            <a:ext cx="859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1120" y="0"/>
            <a:ext cx="6773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UN/CEFACT needs to ha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good partners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00200" y="1587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uturaBookTBWA"/>
              </a:rPr>
              <a:t>Implementation help is reque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3240" y="760320"/>
            <a:ext cx="840600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Guidelines, models, case studies and bes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Started Trade facilitation implementation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Published Single Window case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Made available a trade facilitation tool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Better on-line access to the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Published registry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specification + draft implementa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Improved website for the permanent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Times New Roman"/>
              </a:rPr>
              <a:t>Promotion and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Seminars/workshops: India, Ireland, Mosc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Presentations: APEC, SWIFT, EU Single Wind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273240">
              <a:lnSpc>
                <a:spcPct val="100000"/>
              </a:lnSpc>
              <a:tabLst>
                <a:tab algn="l" pos="0"/>
                <a:tab algn="l" pos="124308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  <a:tab algn="l" pos="495288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Times New Roman"/>
              </a:rPr>
              <a:t>meetings, ITAID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906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21040" y="221148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60960" y="559908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28840" y="2446200"/>
            <a:ext cx="4129200" cy="3504960"/>
            <a:chOff x="3228840" y="2446200"/>
            <a:chExt cx="4129200" cy="3504960"/>
          </a:xfrm>
        </p:grpSpPr>
        <p:sp>
          <p:nvSpPr>
            <p:cNvPr id="210" name="Puzzle1"/>
            <p:cNvSpPr/>
            <p:nvPr/>
          </p:nvSpPr>
          <p:spPr>
            <a:xfrm>
              <a:off x="3228840" y="2979360"/>
              <a:ext cx="2597400" cy="12956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Puzzle3"/>
            <p:cNvSpPr/>
            <p:nvPr/>
          </p:nvSpPr>
          <p:spPr>
            <a:xfrm>
              <a:off x="5210280" y="2446200"/>
              <a:ext cx="1650960" cy="18288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Puzzle4"/>
            <p:cNvSpPr/>
            <p:nvPr/>
          </p:nvSpPr>
          <p:spPr>
            <a:xfrm>
              <a:off x="3806640" y="3741480"/>
              <a:ext cx="1494000" cy="22096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Puzzle2"/>
            <p:cNvSpPr/>
            <p:nvPr/>
          </p:nvSpPr>
          <p:spPr>
            <a:xfrm>
              <a:off x="4714920" y="3741480"/>
              <a:ext cx="2643120" cy="17524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65000" y="158760"/>
            <a:ext cx="67474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UN/CEFACT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Government and Busi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Working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Cram</cp:lastModifiedBy>
  <cp:lastPrinted>2001-03-15T16:33:27Z</cp:lastPrinted>
  <dcterms:modified xsi:type="dcterms:W3CDTF">2007-05-14T07:03:13Z</dcterms:modified>
  <cp:revision>337</cp:revision>
  <dc:subject/>
  <dc:title>UN/CEAFACT Bureau report to 8th Forum</dc:title>
</cp:coreProperties>
</file>