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D523-4294-4425-8501-8C6DF411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990B-C4C5-4230-B2F2-2B5971C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BB85-1B13-4F75-B4A6-89579A35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029E-104D-4C4D-9B65-09DD4848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A7B1-95C1-4E57-9C3C-F1EA6B75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6374-04A7-4F6A-9E09-C1DA1636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0E07-2FDD-467E-8AAA-D283509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969-ADD1-4C83-9786-389A650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97E-F735-4BBC-A027-63FDD7F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41E-D0AE-4B9B-A030-0758558A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43B8-E920-46F6-A8CD-C4CEB3A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856D-9839-4A8B-B10E-8F60FAA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4DE-723E-4338-B09A-60070F7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9242-0F1D-4851-8D76-95D8625C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B4D1-6796-4470-9EB9-301C63A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F0C1-265B-4D98-A81E-0DB64E8E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F980-11D5-47CB-89B8-93850FAE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6EC0-AA9C-4159-89DF-53339AC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5B34-B60D-4217-862E-2267D7A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3149-99AC-420C-8B00-71A0FFD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8807-FAC0-490F-854F-07313EC3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432E-A739-4AB2-A5E9-622F7A3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FF6E-8BD1-4C38-840F-19C59FB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11FF-8606-47CC-8A26-2FE9156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457200" y="333360"/>
            <a:ext cx="830592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24 Ma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875-002A-4D47-AFE1-7ED45E0D5319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port of UN/CEFACT Rapporteur for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23.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port of UN/CEFACT Rapporteur for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457200" y="914400"/>
            <a:ext cx="8229600" cy="23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95320" y="2362320"/>
            <a:ext cx="4343400" cy="79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TRADE/</a:t>
            </a:r>
            <a:r>
              <a:rPr b="1" lang="en-GB" sz="2400" spc="-1" strike="noStrike">
                <a:solidFill>
                  <a:srgbClr val="ffffff"/>
                </a:solidFill>
                <a:latin typeface="Arial Black"/>
                <a:ea typeface="굴림"/>
              </a:rPr>
              <a:t>CEFACT/2006/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276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ort o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굴림"/>
              </a:rPr>
              <a:t>Development in the Asia and Pacific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3280" y="5334120"/>
            <a:ext cx="48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/CEFACT Rapporteur for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ASEAN (Association of South East Asian N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rade facilitation: Good tracking on the development of ASEAN Sing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-Business: e-ASEAN Working Group (EA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issolved in 2005 and integrated into the activitie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elecommunications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rther tracking on the e-Business activities of ASEAN is neces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APEC (Asia Pacific Economic Co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CSG (Electronic Commerce Steering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perless Trading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ata Privacy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cipated in the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CSG and Sub-group meetings with official 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ep. 2005,Kyung-Ju,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ntroduced UN/CEFACT and proposed collaboration on paperless t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pacity building, promotion &amp; paperless trading standards 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ent into internal process to grant a guest status to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cipated in th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CSG and Sub-group mee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Feb. 2006, Ha Noi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CSG granted a guest status to UN/CEF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PPP(Public Private Partnership) Dialogue on Paperless Trading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Private Sector-led Regional Effo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ebXML (e-Business) Asia Committee (e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gional body to promote the implementation of ebXML(e-Business)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AC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: Jun. 20 - 24, 2005, Hong Kong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: Nov. 22 – 25, 2005, Taipei, Chinese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enary, two task groups (CCTG &amp; ITG) and one project (R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RF (Registry and Repository Federation)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Joint project with ISO/IEC JTC1 SC32 WG2(Met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eld several interim meetings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mpleted a pilot test and guideline at the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G (Interoperability Task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anning on future activities on testing ebMS 3.0 and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002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ebXML (e-Business) Asia Committee (eAC)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CTG (Core Component Task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ntinues working on the development of Asian Cor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llaborates with TBG 17 of UN/CEF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w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hanged its name to e-Business Asia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xpanded its scope to cover e-Business and e-Trad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xt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May 29 – 31, 2006, Tokyo,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PAA (Pan Asian eCommerce All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dustry-led alliance of service providers to enable secure and rel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oss-border trade and logistics relat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mbership: 9 member organizations from regional econ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IEC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radeVan of Chinese Tai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radeLink of Hong Kong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EDI of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KTNET of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edMev of Macau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DagangNet of Malay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rimsonLogic of Singap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AT Telecom of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inues its effort to develop data exchange formats with focus on 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2280" y="1371600"/>
            <a:ext cx="6781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Observations &amp;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굴림"/>
              </a:rPr>
              <a:t>Suggestions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25108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uch efforts on trade facilitation and e-Business are on-going in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ort to Coordinate among regional bodies and with UN/CEFACT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 should be at the centre of this coordination effort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itment for this effort should come from within UN/CEFACT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FACT: Much closer collaboration and support from UN/CEFACT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ormal liaison at the working group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joi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PEC: Next ECSG on Sep. 2006 for official UN/CEFACT pres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SEM: Next meeting on Nov. 2006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A, eAC, ASEA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inue seeking collaboration with regional bodies whenever circumst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AFAC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(Asia Pacific Council for Trade Facilitation &amp; e-Busines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1. 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ates: Oct. 24 – 2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Venue: Sheraton Hanoi Hotel, Ha Noi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osted by: E-Commerce Dept., Ministry of Trade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rticipants: 60 from 12 member countries and economies and tw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ociate members (ebXML Asia Committee &amp; P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tC Meeting, Joint Working Group Meetings, Plenary &amp; EDI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0512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cisions of the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One minute silence to offer condolence and sympathy to the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ctims in Pakistan and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ider distribution of its annual AFACT Yearbook for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solved to organize the eAsia Award event bi-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t the Working group level, BCFWG resolved to change its 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nancial group to initiate a new project on cross-border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 to host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this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im StC Meeting: Apr. 10-11, Lahore,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FACT Meeting: Aug. 7-10, Karachi, Pakista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73392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DICOM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eld on Oct. 2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heme: “Total Solution for e-Busi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 Presentation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CT indicator in AS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-Business implementation policies of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esentation on available e-Business solutions from vendo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7652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cisions of the Plenary Meeting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dentified hosts for future meetings up 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7: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8: Republic of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9: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10: Chinese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2006 Interim AFACT St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r. 10-11, 2006, Lahore,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Discussions and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Next eAsia Award: to be organized by Thailand in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im StC Meeting: Apr. 18-19, 2007, Phuket, Thai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nual AFACT Meeting: Jul. 31-Aug. 3,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: Intention to host future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llaboration with other regional bodies: APEC, ASEAN, SEA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FACT Roadmap for future AFACT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UNeDocs Assessment taskforce wa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60020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.  AFACT Supported UNCEFAC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pacity Building Workshop  on Single Windows Dev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eb. 19 – 23, 2006, Kuala Lumpur, Malay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9-20: Capacity build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1-23: Technical workshop on UNeDocs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ver 80 participants from 19 countries in Asia, Europe and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bring together key partners for the development of 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rade single windows (WCO, AFACT, SITPRO, IATA, PAA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Presentations and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CO: Alignment of WCO and UNeDocs data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: UNeDocsPK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A: Possible benefits of UNeDocs platform to PAA single wind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ITPRO: ASEAL’s plan to adopt UNe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Presentations and Discussions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ATA: e-freight Paperless Trad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U research project: ITAIDE for pan-European interoperability of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xation and custom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mmercial pilots in the maritime oil industry: UNeDocs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Other presentations: Cost/benefits of UNeDocs, customization strateg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eDocsUK, Senegal &amp; Kenya Single Window, Hong Kong SAR DTT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laysia E-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eDocs Implementati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ntroduction of data modeling techniques based on UNTDED and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ractice on the development of a draft UNeDocs Customs docume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laysian Customs Export Decl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 briefing on UN Document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re details a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www.unece.org/trade/workshop/malaysia_feb06/welco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Other Regional &amp; Inter-regional Bo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4:42:40Z</dcterms:created>
  <dc:creator>Adobe Employee</dc:creator>
  <dc:description/>
  <dc:language>en-US</dc:language>
  <cp:lastModifiedBy>Mika Vepsalainen</cp:lastModifiedBy>
  <dcterms:modified xsi:type="dcterms:W3CDTF">2006-05-24T06:42:36Z</dcterms:modified>
  <cp:revision>164</cp:revision>
  <dc:subject/>
  <dc:title>eBusines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