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CBA-B6B7-4BAA-97DA-B74BA4AD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36936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B16-0B7B-4AF1-982F-0A5ED3A0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09200" y="10666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36936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09200" y="36936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0C8-CB88-448E-8E8B-B836465A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47960" y="106668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81880" y="106668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36936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47960" y="36936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81880" y="36936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653-678B-4160-8DF1-75CF50AE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24E-DE04-41CC-A0E9-4EFC3EDC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2DD-CD87-4A0D-8ADB-DDE7A3A4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09200" y="106668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325-20EF-4322-BCCF-B9E89A4E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052-25F4-493D-B29B-BDAB0DF7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151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559-C3B7-404C-8668-7D420C84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9200" y="106668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36936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75D-4B57-401A-99CE-F289C97E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9200" y="10666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09200" y="36936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C6C-B390-4F2B-9553-DD33520A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9200" y="10666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6936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72F-863B-4514-A1D5-C93FFE89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88AF-E187-4A2E-A9A1-BF942656C2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Click to edit the title text format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3085920" y="308592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MoU on e-Business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42241" t="0" r="40321" b="0"/>
          <a:stretch/>
        </p:blipFill>
        <p:spPr>
          <a:xfrm>
            <a:off x="9372600" y="2475000"/>
            <a:ext cx="990720" cy="87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"/>
          <p:cNvGraphicFramePr/>
          <p:nvPr/>
        </p:nvGraphicFramePr>
        <p:xfrm>
          <a:off x="9372600" y="3733920"/>
          <a:ext cx="9144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72600" y="3733920"/>
                    <a:ext cx="914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" descr=""/>
          <p:cNvPicPr/>
          <p:nvPr/>
        </p:nvPicPr>
        <p:blipFill>
          <a:blip r:embed="rId5"/>
          <a:srcRect l="-333" t="-6202" r="-333" b="-6202"/>
          <a:stretch/>
        </p:blipFill>
        <p:spPr>
          <a:xfrm>
            <a:off x="9372600" y="4876920"/>
            <a:ext cx="91440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9428040" y="1197000"/>
          <a:ext cx="85896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428040" y="1197000"/>
                    <a:ext cx="858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Times New Roman"/>
              </a:rPr>
              <a:t>Working Together for Interoperability</a:t>
            </a:r>
            <a:endParaRPr b="1" lang="en-US" sz="36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520" y="34290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he IEC/ISO/ITU/UNECE MoU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on e-Business Standard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50" name=""/>
          <p:cNvSpPr/>
          <p:nvPr/>
        </p:nvSpPr>
        <p:spPr>
          <a:xfrm>
            <a:off x="7245000" y="62578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History of the MoU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5800" indent="-32580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January, 1995 - original MoU was signed by IEC,  ISO and UN/ECE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5800" indent="-32580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17 November, 1998 - revised MoU established the need/ability to add Participating International User Group input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5800" indent="-32580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24 March, 2000 - ITU signed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5800" indent="-32580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Actual PDF of the latest MoU is available from the web at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ootlight MT Light"/>
              </a:rPr>
              <a:t>http://www.itu.int/ITU-T/e-business/mou/index.html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Commitment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Formal Memorandum of Understanding (MoU) commits participants to: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Avoid divergent and conflicting approaches to standardization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liminate duplication of effort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Provide a clear roadmap for user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nsure intersectoral coherence in the field of electronic busines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Principle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-3052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nformation on work programmes will be shared openly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-3052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he cooperation will focus on action, not discussion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-3052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he process shall not represent an additional layer of bureaucracy in the standardization proces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-3052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Recommendations will be agreed by consensus among the participant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-3052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ach organization will retain its own decision making proces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Operation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2200" indent="-32220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Monitors new initiativ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2200" indent="-32220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dentifies topics of mutual interest and potential overlaps/conflict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2200" indent="-32220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Makes recommendations for action to resolve issues and harmonise activiti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2200" indent="-32220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Monitors progres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2200" indent="-32220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Facilitates expert participation in the most appropriate development programm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22200" indent="-32220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Promotes role of the MoU to external organisation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Organisation 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Management Group comprising representatives of participating organization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Meets twice a year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lectronic dialogue between meeting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Feedback into organization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MoU Management Group has no formal power but a great deal of moral authority !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CEFACT in the MoU/MG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Active participation from FMG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5880" indent="-3358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Joint ISO/CEFACT working group on EDIFACT syntax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5880" indent="-3358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Framework for OASIS/CEFACT cooperation on ebXML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5880" indent="-3358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Harmonisation strategy for Core Component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Agreement to focus core component development through CEFACT TBG17 - OASIS, OAGIS 9.0, AIAG, CEFACT,….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Core component open development process to be clearly articulated by May 2006, based on initial experience with UBL and TDED components.   Library administration process drafted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5880" indent="-3358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UBL harmonisation being tracked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key message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he e-Business MoU Management Group works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o foster cooperation among standards developers,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so as to minimize the risk of divergent and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competing approaches to standardization,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o avoid duplication of efforts,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and to avoid confusion amongst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users of e-Business standard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For more information on the MoU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and the events that are being held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under its umbrella,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please see the website at: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http://www.itu.int/ITU-T/e_business/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More information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Backup slide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Business Requirement 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-Business is a cornerstone of the world economy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Full benefits for consumers, industry and government demand a coherent set of Information and Communication Technology standard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open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nteroperable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nternationally accepted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Key successes to date  - Technical coordination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Summit on business information objects, leading to increased cooperation between developer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Joint ISO/CEFACT working group on EDIFACT syntax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Framework for OASIS/CEFACT cooperation on ebXML, including Joint Coordinating Committee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Harmonisation strategy for Core Components 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Joint approach to UNTDED maintenance and update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Recommendation on e-Business character set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Information exchange on XML usage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Recommendation on XML schema language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Integration of permanent part marking for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aerospace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Agreed approach to RFID application standards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Key successes to date - Facilitation 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Facilitation of consortium involvement with standards bodies - OASIS, OAGIS, GS1, SWIFT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Greater visibility of potential conflicts in standards work, leading to scope adjustments - eg TC171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Recognition of value of coordination function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Extension to collaboration between CEFACT and OASIS on ebXML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MoUs between standardisation groups to recognise shared activities - eg Freight Forwarding, eHealth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Support for open information sources - eg DIFFUSE project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Cross-organisational assessment of change management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Growing level of cooperation between meetings!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Active areas of coordination (1) 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Framework for eBusiness standard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Includes CEFACT and OASIS model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Actively supported by NIST eBSC activity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Aligned with open-edi model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Supported by matrix of descriptions and exampl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Being used for standards planning by the US Aerospace industry and other group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600" y="476280"/>
            <a:ext cx="10247400" cy="589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22400" y="612720"/>
            <a:ext cx="6858000" cy="352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1040" y="882720"/>
            <a:ext cx="9235800" cy="404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03400" y="1477800"/>
            <a:ext cx="2179800" cy="14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72360" y="1477800"/>
            <a:ext cx="3144600" cy="14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formation content/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lassification sche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onent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nterprise data and meta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ferenc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01960" y="3103560"/>
            <a:ext cx="330840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ss definition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1360" y="3103560"/>
            <a:ext cx="330660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formation definition mechani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01960" y="4336920"/>
            <a:ext cx="675000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03400" y="4946760"/>
            <a:ext cx="67485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3400" y="5489640"/>
            <a:ext cx="67485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83720" y="1441440"/>
            <a:ext cx="401760" cy="45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formance and interoperability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59000" y="1357200"/>
            <a:ext cx="399960" cy="453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1357200"/>
            <a:ext cx="401760" cy="453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ctual and regul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73480" y="1357200"/>
            <a:ext cx="401400" cy="453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13440" y="591336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1040" y="1357200"/>
            <a:ext cx="401400" cy="451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gistry/Repostory for Discovery, Presence, Avail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880" y="54936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antics - Terminolo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9760" y="884160"/>
            <a:ext cx="401760" cy="506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75000" y="5962680"/>
            <a:ext cx="54072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ysical re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62400" y="1477800"/>
            <a:ext cx="1128960" cy="14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74960" y="3645000"/>
            <a:ext cx="559116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definition 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83200" y="1287360"/>
            <a:ext cx="804960" cy="206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19960" y="1268280"/>
            <a:ext cx="806400" cy="206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1600" y="1268280"/>
            <a:ext cx="804960" cy="206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05360" y="4130640"/>
            <a:ext cx="806400" cy="20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05360" y="4740120"/>
            <a:ext cx="806400" cy="206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05360" y="5343480"/>
            <a:ext cx="806400" cy="20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040" y="2036880"/>
            <a:ext cx="2457360" cy="311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7320" y="1268280"/>
            <a:ext cx="804960" cy="206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60680" y="1268280"/>
            <a:ext cx="806400" cy="206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93680" y="1268280"/>
            <a:ext cx="804960" cy="206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365760" y="1006560"/>
            <a:ext cx="716040" cy="231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56120" y="658332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 4 – 2005-06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Active areas of coordination (2) 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60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Open registry for eBusiness standards work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13160" indent="-27432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Based on MoU/MG Framework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13160" indent="-27432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Metadata and mechanism to be defined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13160" indent="-27432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Need federated approach, with moderation for consistency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13160" indent="-27432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ANSI offering to host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13160" indent="-27432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e2761c"/>
                </a:solidFill>
                <a:latin typeface="Footlight MT Light"/>
              </a:rPr>
              <a:t>All members to highlight relevant NWI for visibility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29040" indent="-32904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Terminology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13160" indent="-27432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Federated structure of definition database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13160" indent="-27432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Appropriate business model required for free downloads from the web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13160" indent="-27432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Semantic interoperability principles document agreed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Active areas of coordination (3) 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60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nformation architecture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Product classification schemes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-Catalogues/Dictionaries - JWG1 defining consistent structure and content based on PLIB (ISO 13584/IEC61360)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nterprise information model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Master data/code lists - repositories of valid values to support core components - multilingual support needed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Product information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30" name=""/>
          <p:cNvSpPr/>
          <p:nvPr/>
        </p:nvSpPr>
        <p:spPr>
          <a:xfrm>
            <a:off x="4875120" y="2049480"/>
            <a:ext cx="3754440" cy="1031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loguing (8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21320" y="4554360"/>
            <a:ext cx="332424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c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303, 159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63960" y="3656160"/>
            <a:ext cx="332424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303, 159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63960" y="2755800"/>
            <a:ext cx="332424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scription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8360" y="1600200"/>
            <a:ext cx="209556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03880" y="1600200"/>
            <a:ext cx="209556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braries (1358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46200" y="4554360"/>
            <a:ext cx="245736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641400" y="2243160"/>
            <a:ext cx="361800" cy="512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881680" y="2243160"/>
            <a:ext cx="289080" cy="512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26080" y="3398400"/>
            <a:ext cx="0" cy="2574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6387840" y="4041720"/>
            <a:ext cx="361800" cy="512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387840" y="3077640"/>
            <a:ext cx="866520" cy="1476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701800" y="4041720"/>
            <a:ext cx="362160" cy="512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197080" y="3077640"/>
            <a:ext cx="866880" cy="1476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6600" y="5389560"/>
            <a:ext cx="86724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ustrial terminology (2274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Active areas of coordination (4) 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ebXML Core Components methods and procedure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First four ebXML specifications from OASIS adopted as ISO 15000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CCTS 2.01 from CEFACT adopted as ISO 15000-5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Updates to be forwarded for ISO standardisation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Agreement to focus core component development through CEFACT TBG17 - OASIS, OAGIS 9.0, AIAG, CEFACT,….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Core component open development process to be clearly articulated by May 2006, based on initial experience with UBL and TDED components.   Library administration process drafted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Naming and Design Rules being harmonised between UBL and the other group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Harmonisation of information modelling method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Active areas of coordination (5)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Universal Business Language (UBL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Version 1.0 accepted as OASIS standard - may go to ISO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Localisation in the Far East - opportunity for TC37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UBL 2.0 due 4Q2006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Transfer to CEFACT after 2.0 being negotiated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2" marL="1017000" indent="-20340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Test case for CCTS 3.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Convergence with UNeDOCS and TDED being explored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Open tools for generating UN Layout Key documents and HTML form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Global name and address standard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UPU standard for postal addresse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Need further consideration of location for deliveries, etc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Harmonised taxonomy of eGovernment service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Active areas of coordination (6) 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Feasibility study to converge the GS1 GPC and UNSPSC classification schemes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Biometric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Secure container transportation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Web services – relaunch of JTC1 study group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Cultural diversity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Consistent URN for standards – ISO proposal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Clear set of definitions for different elements of security to be defined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Data protection/privacy requirements to be defined by government bodies, for action by standards group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Role of Standards  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Standards required to: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support dynamic development of e-business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across the manufacturing and service industri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along the global supply chain from supplier to consumer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hroughout the lifecycle of products - may be decad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provide effective services to the citizen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Other highlights of Vancouver meeting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Common IPR policy for standards from different group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Facilitates use of combinations of standards to meet business need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ISO/IEC/ITU agreement welcomed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Rolling review of MoU/MG recommendations – not more than three year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Valuable exchange with collocated UN/CEFACT and ISO TC154 meeting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Howard Mason of BAE Systems, Chair of ISO TC184/SC4 confirmed as MoU/MG chair for 2006-2007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Future Event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Next plenary meetings: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Geneva, 16-17 October 2006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Key topics include: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rmonisation of ebXML Naming and Design Ru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ation of revised scope and work programme of ISO TC37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itiatives related to legal archiv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 source software used to support standards deploy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inition of security issu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Standards groups involved (1)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ISO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90000"/>
              </a:lnSpc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TC 37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Terminology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and language resourc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90000"/>
              </a:lnSpc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TC 46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nformation and documentation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90000"/>
              </a:lnSpc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TC 68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Banking, securities &amp; other financial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servic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90000"/>
              </a:lnSpc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TC 154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Processes, data elements &amp; document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n commerce, industry &amp; administration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90000"/>
              </a:lnSpc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TC 184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Industrial automation systems and 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integration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2" marL="1017000" indent="-20340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C 184/SC 4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Industrial Da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C 184/SC 5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rchitecture, communications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nd integration framework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C 204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Intelligent transport system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lnSpc>
                <a:spcPct val="90000"/>
              </a:lnSpc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C 215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Health informatic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Standards groups involved (2)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EC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C 3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Documentation and graphical symbol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TC 52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Printed circuit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TC 56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Dependability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TC 93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Design automation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Standards groups involved (3)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9320" y="765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ISO/IEC JTC 1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594360" indent="-22860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SC 27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T Security techniqu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594360" indent="-22860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SC 31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Automatic identification/ data capture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594360" indent="-22860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SC 32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Data management and Interchange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594360" indent="-22860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SC 34</a:t>
            </a: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Doc. description &amp; processing langs.</a:t>
            </a:r>
            <a:r>
              <a:rPr b="0" i="1" lang="en-US" sz="28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594360" indent="-22860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SC 35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274320" indent="-27432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Footlight MT Light"/>
              </a:rPr>
              <a:t>ITU-T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594360" indent="-22860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SG 3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ariff and accounting principl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594360" indent="-22860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SG 4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elecommunication management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594360" indent="-22860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SG 13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Next Generation Network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594360" indent="-22860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SG 16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Multimedia terminals, systems and 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application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594360" indent="-22860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SG 17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Security, languages and 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elecommunication software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Standards groups involved (4)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UN/CEFACT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FMG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Forum Management Group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BG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International Trade and Business 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Processes Group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MG 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echniques and Methodologies Group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ATG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Applied Technologies Group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ICG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Information Content Management 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Group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LG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Legal Group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Participating International User Group - OASI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Business Transaction Processing (BTP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Controlled Trade (CTML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ebXML Collaborative Partner (CPPA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ebXML Implementation, Interoperability, Conformance (IIC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ebXML Messaging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ebXML Registry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Universal Business Language (UBL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Access Control (XACML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Common Biometric Format (XCBF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Rights Language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Security Services (SAML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08520" indent="-3085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Web Services Security (WSS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Participating International User Group - OAGI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OAGIS 9.0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  <a:ea typeface="Times New Roman"/>
              </a:rPr>
              <a:t>CCTS 2.01 Alignment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  <a:ea typeface="Times New Roman"/>
              </a:rPr>
              <a:t>68 Business Scenario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  <a:ea typeface="Times New Roman"/>
              </a:rPr>
              <a:t>Approx 360 Message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  <a:ea typeface="Times New Roman"/>
              </a:rPr>
              <a:t>10 new Nouns for 71 total (Objects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  <a:ea typeface="Times New Roman"/>
              </a:rPr>
              <a:t>Web Services support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  <a:ea typeface="Times New Roman"/>
              </a:rPr>
              <a:t>Run Time BOD option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  <a:ea typeface="Times New Roman"/>
              </a:rPr>
              <a:t>Design enhancement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  <a:ea typeface="Times New Roman"/>
              </a:rPr>
              <a:t>Defect removal</a:t>
            </a: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Participating International User Group – GS1 </a:t>
            </a:r>
            <a:r>
              <a:rPr b="1" lang="en-US" sz="2000" spc="-1" strike="noStrike">
                <a:solidFill>
                  <a:srgbClr val="eaec5e"/>
                </a:solidFill>
                <a:latin typeface="Footlight MT Light"/>
              </a:rPr>
              <a:t>(formerly EAN International)</a:t>
            </a:r>
            <a:endParaRPr b="1" lang="en-US" sz="20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Global Standards Management Process (GSMP)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AN.UCC Identification numbering system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Bar coding standard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Radio Frequency Identification (EPCglobal)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Global Data Synchronisation Network (GDSN)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-Business Methodology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Global Data Dictionary (GDD)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ANCOM (subset of UN/EDIFACT)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AN•UCC XML standard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Participating International User Group – SWIFT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Standards for payments, treasury, securities and trade finance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UML business modelling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Automatic generation of XML schemas from UML model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Financial repository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UML/XML standards for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Customer to Bank Payments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Interbank Retail Bulk Payments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Cash Reporting and Management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Securities Trading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Investment Funds Business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Registration Authority for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ISO 9362 - Bank Identifier Code (BIC)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ISO 10383 - Market Identification Code (MIC)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ISO 15022 - Scheme for Messages  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MoU Vision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Our vision is to offer the environment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n which all key international organizations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can cooperate and contribute to the delivery and 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promotion of the evolving set of e-Business standards,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and maximize their contribution to global commerce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Participating International User Group - CEN/ISS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Electronic Commerce Workshop (WS/EC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e-Business Board for European Standardization (WS/eBES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Workshop on Multilingual Catalogue Strategies for e-Commerce and e-Business (WS/ECAT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Sector Workshops on e-Business issues: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Footwear (WS/FINEC)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Clothing and Textiles (WS/Tex-Spin)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Construction (WS/eConstruct)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Furniture Product and Business Data (WS/fUN-STEP2)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marL="332640" indent="-33264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Pre-standardization Focus Groups: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e-Business standards roadmap, 2003-2005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20720" indent="-277200"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ootlight MT Light"/>
              </a:rPr>
              <a:t>Electronic Invoicing </a:t>
            </a:r>
            <a:endParaRPr b="1" lang="en-US" sz="20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Key e-Business standard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SO 10303 STEP for product data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SO 13584/IEC 61360 for component librari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SO 15000 ebXML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ISO 9735 EDIFACT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MoU Objective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he objective of the MoU is to encourage interoperability by: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Recognizing the risk of divergent or conflicting approaches to standardization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Avoiding duplication of efforts and, therefore, confusion amongst user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Ensuring intersectoral coherence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Stakeholder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he MoU on e-Business Standards brings together: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The four global de jure standardisation bodie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Participating international user groups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The four global de jure bodie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he International Electrotechnical Commission (IEC)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http://www.iec.ch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he International Organization for Standardization (ISO)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http://www.iso.org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he International Telecommunication Union (ITU)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http://www.itu.int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The United Nations Economic Commission for Europe (UN/ECE)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60960" indent="-25416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otlight MT Light"/>
              </a:rPr>
              <a:t>http://www.unece.org/cefact</a:t>
            </a: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Participating International User Groups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CALS International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76080" indent="-25992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Ceased operations – objectives achieved through MoU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NATO CAL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76080" indent="-25992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http://www.dcnicn.com/ncmb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OASI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76080" indent="-25992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http://www.oasis-open.org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CEN/ISS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76080" indent="-25992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http://www.cenorm.be/isss 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GS1 (formerly EAN.UCC)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76080" indent="-25992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http://www.gs1.org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OAGI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76080" indent="-25992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http://www.openapplications.org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SWIFT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lvl="1" marL="676080" indent="-259920"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otlight MT Light"/>
              </a:rPr>
              <a:t>http://www.swift.com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aec5e"/>
                </a:solidFill>
                <a:latin typeface="Footlight MT Light"/>
              </a:rPr>
              <a:t>Criteria for a Participating User Group </a:t>
            </a:r>
            <a:endParaRPr b="1" lang="en-US" sz="3200" spc="-1" strike="noStrike">
              <a:solidFill>
                <a:srgbClr val="eaec5e"/>
              </a:solidFill>
              <a:latin typeface="Footlight MT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Approved by the MoU signatorie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-3121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Legally "organized" group or registered consortium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-3121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International in scope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-3121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International in membership, and open to new member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-3121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Multiple industry sectors, or a broad range of  industry groups in a single sector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-3121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Standards or specification development as a reason they were formed or exist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-3121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Organized for at least one year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-3121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Willing and  interested to cooperate on interoperability and other common e-business technical issue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-312120">
              <a:spcBef>
                <a:spcPts val="601"/>
              </a:spcBef>
              <a:buClr>
                <a:srgbClr val="eaec5e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Willing and able to send representatives to MoU/MG meetings</a:t>
            </a: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0:33:14Z</dcterms:created>
  <dc:creator/>
  <dc:description/>
  <dc:language>en-US</dc:language>
  <cp:lastModifiedBy>ONU</cp:lastModifiedBy>
  <cp:lastPrinted>2001-12-18T11:54:58Z</cp:lastPrinted>
  <dcterms:modified xsi:type="dcterms:W3CDTF">2006-05-23T07:45:15Z</dcterms:modified>
  <cp:revision>156</cp:revision>
  <dc:subject/>
  <dc:title>Ray Walker OBE</dc:title>
</cp:coreProperties>
</file>