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20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wmf" ContentType="image/x-wmf"/>
  <Override PartName="/ppt/media/image25.jpeg" ContentType="image/jpe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4EEA-5D75-4850-923C-5178F942D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EDAF-2456-428D-B60D-6DD25671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582-2139-4993-A30F-8A91C2D4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378-FE30-4B82-A396-5C9B6B33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27C-4A45-4340-AE04-9D913612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BC3-E5E2-48D5-891E-3C92B7E7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E7D5-0BF3-44CD-8D74-8470D10E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9FD2-9946-48AD-98E0-60A59287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707-9A3F-4E1D-BBD3-5F50C45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79DC-0EB2-472A-8F18-9061B21F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80CE-5AC2-4658-A65B-15087733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360" y="836280"/>
            <a:ext cx="44132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372D-BC9C-4C51-9C52-DC12269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4919-AC8F-4178-9C99-CE0590BC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D2A-EE1F-4AE1-B91C-2AD25E31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E96B-8DCF-4D57-8E1F-6AD1F52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87EA-ED2E-45E6-BFF6-341602BE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0423-E5F6-451F-8901-C81BCBF6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27E-8535-46A7-9507-C9B1C155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866D-A468-4362-B2FE-FCA652BB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15D-BE23-40CA-B26E-A9EF8704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373-EEF5-4C05-8FED-6D37CDBE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306-82C0-483E-8876-2DA4B241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360" y="836280"/>
            <a:ext cx="44132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EED-88F5-477B-9801-4030350E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323-E0D2-49B1-B3F6-98035B12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584-CC27-4F6C-AAD7-139F2ECF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6BA-0EF8-4366-B8D1-3665A8E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68E-4A4D-42B8-9C44-579EDEF66F5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B343-0869-40C6-BDED-9AF1B3DD4F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3E9E-BFBC-4820-AE90-23111E32B9F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AF09-89E8-4A41-8F0C-CE562A38DF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UN/CEFACT Plena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640" y="3499920"/>
            <a:ext cx="777384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/CEFACT Forum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um Manage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: Dick R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-Chair: Sue Pro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372360" y="404640"/>
            <a:ext cx="2592360" cy="165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08840" cy="686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260280"/>
            <a:ext cx="31734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144000" bIns="144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3600" spc="-1" strike="noStrike">
                <a:solidFill>
                  <a:srgbClr val="800000"/>
                </a:solidFill>
                <a:latin typeface="Arial Black"/>
              </a:rPr>
              <a:t>7th UN/CEFACT </a:t>
            </a:r>
            <a:br>
              <a:rPr sz="3600"/>
            </a:br>
            <a:r>
              <a:rPr b="1" i="1" lang="fr-FR" sz="3600" spc="-1" strike="noStrike">
                <a:solidFill>
                  <a:srgbClr val="800000"/>
                </a:solidFill>
                <a:latin typeface="Arial Black"/>
              </a:rPr>
              <a:t>FO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653000"/>
            <a:ext cx="482436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288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3600" spc="-1" strike="noStrike">
                <a:solidFill>
                  <a:srgbClr val="f1781d"/>
                </a:solidFill>
                <a:latin typeface="Arial Black"/>
              </a:rPr>
              <a:t>September 26-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3600" spc="-1" strike="noStrike">
                <a:solidFill>
                  <a:srgbClr val="f1781d"/>
                </a:solidFill>
                <a:latin typeface="Arial Black"/>
              </a:rPr>
              <a:t>Lyon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12661" r="0" b="0"/>
          <a:stretch/>
        </p:blipFill>
        <p:spPr>
          <a:xfrm>
            <a:off x="6156360" y="4005360"/>
            <a:ext cx="1463760" cy="103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67640" y="4149720"/>
            <a:ext cx="1173240" cy="581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0" t="13598" r="0" b="13598"/>
          <a:stretch/>
        </p:blipFill>
        <p:spPr>
          <a:xfrm>
            <a:off x="6877080" y="6237360"/>
            <a:ext cx="147960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7812000" y="5013360"/>
          <a:ext cx="1077840" cy="1000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12000" y="5013360"/>
                    <a:ext cx="10778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7"/>
          <a:srcRect l="16245" t="0" r="312" b="7722"/>
          <a:stretch/>
        </p:blipFill>
        <p:spPr>
          <a:xfrm>
            <a:off x="0" y="6230880"/>
            <a:ext cx="6084720" cy="627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rcRect l="12300" t="0" r="14760" b="0"/>
          <a:stretch/>
        </p:blipFill>
        <p:spPr>
          <a:xfrm>
            <a:off x="5148360" y="6218280"/>
            <a:ext cx="930240" cy="639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372360" y="5300640"/>
            <a:ext cx="1112760" cy="64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17800" y="476280"/>
            <a:ext cx="24422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I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117-1A8E-4F6F-AA49-C6E98758452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F45F2-7B0D-4890-A22D-06B69D165AEA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 attend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man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Reception – Mayor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ch &amp; Le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ocs (Sitpro &amp; IATA), GS1, XBR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M (U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B94-CD5F-45B3-9DD2-EA040B726A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DB570-573C-4B88-814D-4A50304EEEFE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55640" y="836280"/>
            <a:ext cx="6141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software developer presented how the new UN/CEFACT standards are at the core of their new generation of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Group reconv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Aspects of the PG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group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vernment group f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re Components Library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227-D31B-4D3F-BC2D-84DF423DF0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96EB1-13DC-4BC5-B6C1-82BF12648426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19280" y="150840"/>
            <a:ext cx="5616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144000" bIns="144000" anchor="t">
            <a:noAutofit/>
          </a:bodyPr>
          <a:p>
            <a:pPr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8th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rch 12-17 2006 Vancouver,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68360"/>
            <a:ext cx="6588000" cy="4940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588000" y="1371600"/>
            <a:ext cx="2556000" cy="493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1339920"/>
            <a:ext cx="13669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144000" bIns="144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 Black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1843200"/>
            <a:ext cx="2160720" cy="4321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4321080"/>
              <a:gd name="textAreaBottom" fmla="*/ 4215600 h 4321080"/>
            </a:gdLst>
            <a:ahLst/>
            <a:rect l="textAreaLeft" t="textAreaTop" r="textAreaRight" b="textAreaBottom"/>
            <a:pathLst>
              <a:path w="21600" h="43193">
                <a:moveTo>
                  <a:pt x="3600" y="0"/>
                </a:moveTo>
                <a:arcTo wR="3600" hR="3600" stAng="16200000" swAng="-5400000"/>
                <a:lnTo>
                  <a:pt x="0" y="39593"/>
                </a:lnTo>
                <a:arcTo wR="3600" hR="3600" stAng="10800000" swAng="-5400000"/>
                <a:lnTo>
                  <a:pt x="18000" y="431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Francois Vuilleumeir, ISO/TC 154 Chai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uane Nickull, Individu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77080" y="5227560"/>
            <a:ext cx="644400" cy="484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77080" y="2492280"/>
            <a:ext cx="927000" cy="27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020000" y="2903400"/>
            <a:ext cx="1685880" cy="381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028000" y="2131920"/>
            <a:ext cx="485640" cy="58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877080" y="3355920"/>
            <a:ext cx="1008000" cy="500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877080" y="4003560"/>
            <a:ext cx="2028960" cy="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8101080" y="3284640"/>
            <a:ext cx="664920" cy="66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7812000" y="5227560"/>
            <a:ext cx="846360" cy="414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7164360" y="4292640"/>
            <a:ext cx="1409760" cy="35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6851520" y="4789440"/>
            <a:ext cx="2016360" cy="15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3132000" y="6343560"/>
            <a:ext cx="190836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AF8-0042-4FD9-8D98-68BE7A8353C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8FE35-693A-491E-85B7-DCAF480304F1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31640" y="836280"/>
            <a:ext cx="5565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UN/CEFACT Foru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ganizers did a tremendous jo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to the Sponso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to the Volunte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over 230 delega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by Canadian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O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04A-DB4B-4FAA-8DBF-02D7E815D4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FC860-2D70-4AD7-B55C-81A404F88613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during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our Core Component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interest in TBG18 (Agricul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start of TBG19 (eGover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gal Group met the P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ch &amp; Le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2, CIDX, UBL, OAG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89D-6C6D-4235-B358-9FE8808E87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5A5DD-01C7-46AE-8C2B-53B28405BF81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y implementation verification team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chemas to be delivered in Q3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Industry Invoi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Tend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Outputs on a semi-annual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I needs more perman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8D3-D54B-4224-9170-C6AA3F9459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4F1B4-4486-4521-89EF-2CB044A322AC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34280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pplied Technologies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Anders Grangå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Chair: Mark Craw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ork Programm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Business Documen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of CCTS in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sation of representation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 for XML 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to UN/EDIFACT Transform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to XML Desig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of BPSS in X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Naming and Desig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P-CPA Implementers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947-976F-404C-938A-B2F07390F3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71B82-EF0B-46BE-B800-DEF89EDED3C4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836280"/>
            <a:ext cx="5638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em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lenary Approv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/CEFACT XML NDR, Naming and Design Rules, have successfully gone through the ODP process and reached full consensus from the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G hence request the UN/CEFACT Plenary to approve this specification as a UN/CEFACT Technical Specific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A2B-2AAC-4CB1-870C-99C3D6187B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5A7A4-F689-4531-B974-4E0E3EFB3AB8}" type="datetime1">
              <a:rPr lang="en-US"/>
              <a:t>07/31/26</a:t>
            </a:fld>
          </a:p>
        </p:txBody>
      </p:sp>
    </p:spTree>
  </p:cSld>
  <p:transition spd="med"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up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Forum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um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um Vancou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from the Permanen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AEC-F924-41B9-9E65-51743C2446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D2C80-2287-4B6B-B6DB-533DDD47D5AD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836280"/>
            <a:ext cx="5638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em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lenary No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dred forty-five (145) Data Maintenance requests were processed for the D.05B UN/EDIFAC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dred twelve (112) Data Maintenance requests were processed for the D.06A UN/EDIFAC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77F-D8FB-4848-A714-6D01D4F392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46451-6119-4CA7-96B9-AE4948ECF6E9}" type="datetime1">
              <a:rPr lang="en-US"/>
              <a:t>07/31/26</a:t>
            </a:fld>
          </a:p>
        </p:txBody>
      </p:sp>
    </p:spTree>
  </p:cSld>
  <p:transition spd="med"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Other Item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forum meetings h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ne 2005 -  Kongsberg,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nuary 2006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llongong,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uture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mmer 2006 –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ctober 2006 – New Delhi,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179-36DC-47D7-9D16-A85C2AFAFF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41CB1-4A3A-456D-93A8-16EDA124B333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34280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nformation Content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Management Group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Mike Con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Chair: David Dob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79640" y="764640"/>
            <a:ext cx="48877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 Black"/>
              </a:rPr>
              <a:t>Principal 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roved the RSM (Requirements Specifications Mapp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alised the UN/CEFACT Registry Specification for ODP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itialised UN/CEFACT Registry Proof-of-Con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ada, Government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nese Taipei,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Taiwan Normal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, France Télé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orea,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rea Institute for Electronic Commerc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BAB-A099-4DDC-8834-6AD867BB97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8A4F3-ACA4-47A6-A711-083146503931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79640" y="764640"/>
            <a:ext cx="48877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 Black"/>
              </a:rPr>
              <a:t>Principal 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vised and approved code list updates to UNECE 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. 20 -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of Measure used in International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. 21 - Types of Cargo, Packages and Packag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. 23 - Freight Cos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dvanced Code List Migration Project for the regular publication of a single XML based version of all UN/CEFACT maintained cod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udited the first release of the Core Components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CC2-3A78-4AFF-8087-E686BBBE89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17FB8-34EB-4DCD-B5BD-1168395266E4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1128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 Black"/>
              </a:rPr>
              <a:t>Work in prog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alise UN/CEFACT Registr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alise Code List Migratio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going audit of UN/CEFACT 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going maintenance of UNECE Recommendations related to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453-55C0-4855-BD4F-41C38359C4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8924E-8CEA-4ABB-B4A3-EE3B07AAB430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 Black"/>
              </a:rPr>
              <a:t>Items for Plenary Not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ECE Recommendation 16 (Codes for Trade and Transport Locations - UN/LOCODE ) - UN/LOCODE 2005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ECE Recommendation 20 (Units of Measure used in International Trade) - Re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ECE Recommendation 21 (Codes for Types of Cargo, Packages and Packaging Materials) - Rev.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ECE Recommendation 23 (Freight Cost Code) - Rev.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/EDIFACT DIRECTORY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05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05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0E8-B83D-404D-A8F1-7558F4B2C8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6FDB8-A54E-4401-8FBC-5627695F3666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Legal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3505320"/>
            <a:ext cx="798984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: Us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ce-Chair: Bart Sche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nternational Trade and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Business Processes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8360" y="3505320"/>
            <a:ext cx="798984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: Jean-Luc Champ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ce-Chair: Yong-Jae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0"/>
          <a:ext cx="9121680" cy="73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1680" cy="7316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0E5-F83A-43B9-9F6A-2BC2BF8F381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EB079-CCC3-4052-B442-DE0D758F92DE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atus Upd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mponents approach is fast gaining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is increasingly regarded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where semantic harmonization can take place at the highes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groups now coming forward and declaring support for UN/CEFACT and for migration/alignment of their standards with the C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needs the resources and buy-in of these externa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063-7F00-4D8B-B344-3E6F12EFE9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BE805-7E2B-43AB-B6FE-C44583C04DA3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9328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 Black"/>
              </a:rPr>
              <a:t>Some thoughts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80600" y="5052960"/>
            <a:ext cx="823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works better when it’s ope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81000" y="2276640"/>
            <a:ext cx="71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ind is like a parachute</a:t>
            </a:r>
            <a:r>
              <a:rPr b="0" lang="fr-BE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F67-BEAA-4697-8D82-1D754161D39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356EA-99C3-4568-B9A2-508A72E5925F}" type="datetime1">
              <a:rPr lang="en-US"/>
              <a:t>07/31/26</a:t>
            </a:fld>
          </a:p>
        </p:txBody>
      </p:sp>
    </p:spTree>
  </p:cSld>
  <p:transition spd="med">
    <p:pull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B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iness Requirements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ss industry ordering, Cross industry e-catalogue, Steel industry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TM International Forwarding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roject Schedule and Cost Performance Management, Contract Financial Execu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counting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Waste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APLOS, Animal Pas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ments Specific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ss industry invoice, Cross industry remittance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-T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2FD-1B0D-4050-A4DA-6353938AD9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A827E-AE4F-4DB9-A0CE-2D6653EA9572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B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for the harmonisation with and integration of UBL Trade and Transpor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ing with Invoice and Remittance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Transport and Environment effort on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e-harmonization for Dangerous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view of UNECE Recommendations 6, 11 &amp;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Gov future projects: legal archiving, exchanges between Tax &amp; Social Securit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tosanitary certificates, GSRM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9D9-54E0-4654-96B3-6243D48999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5C03D-176B-4801-83F8-94D9BA00857D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B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pping of two documents from Senegal and the E-Cert document to UNe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view of WCO DM 2.0 by Transport, Customs, e-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iaison between Finance &amp; UNI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iaison between Accounting &amp; XB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of the first official C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plete submissions containing BIE´s and messages (Cross Industry Invoice and e-Tend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DB9-4A38-4AF1-ABF6-7DA2FA0DAE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C0EFF-9C2B-45AC-B9FD-80680FC5C16C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chnique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ethodologies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755640" y="3504960"/>
            <a:ext cx="770256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: Gunther Stuhe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-Chair: Christian Huemer,Anders T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G made great str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dorf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on,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,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will be in 19 – 23 June 2006 at SWIFT, Brussels, Belg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C18-CFC7-40E0-9631-27F7543F14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AB4D5-0917-4EAD-83FB-30CC82733B6C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797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nter-Organization Collabor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Specification Schema (BP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xt version of OASIS’s BPSS standard, v2.0.3, will be submitted to ISO TC 154 for approval as ISO/DTS 15000-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/CEFACT and OASIS will announce that BPSS 3.0 will be a joint effo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e TMG recommends that this action be supported by CEFACT Plena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ve communications with OMG and W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about other’s initiati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ring collaboration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fined gap analysis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2C3-ECA3-4157-B9A3-1CC60E0D14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59E10-8FA3-4BD0-A193-C7A5D62B9B8F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1583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Business Process Working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CEFACT Modeling Methodology (UM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nd working draft of UMM Base and UMM Foundation Module ready for ODP Step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review period started on 2006-03-17 and ended on 2006-04-3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User Guide updat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ollaboration Specification Schema (BC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ed and made considerable progress in a joint project with ICG and ATG to define a UML profile for UMM and evaluate interoperability among various UML t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CSS v1.0 draft specification released to ODP 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-Events-Agents (REA) Project is approved and already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669-AAD3-494C-B425-9BF3FABDCD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3077F-0A76-42B1-A0B8-87129D3621BD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581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Core Component Working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mponent Technical Specification (CCT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CTS V2.2 draft specification released for ODP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view period started on 2006-04-03 and ended on 2006-05-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mponent Message Assembly (CC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eam has been formed, the project launch, and a series of steady conference calls has produced sixteen pages of com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ext Methodology Project (CMP) is approved and already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8FB-FE97-4E84-B154-43A1EC762B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C2F9F-DA90-4439-9FC4-F0924C63ABDD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7078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 Black"/>
              </a:rPr>
              <a:t>Architecture diag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73360"/>
          <a:ext cx="864252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64252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851280" y="4149720"/>
            <a:ext cx="577800" cy="214200"/>
          </a:xfrm>
          <a:prstGeom prst="ellipse">
            <a:avLst/>
          </a:prstGeom>
          <a:solidFill>
            <a:srgbClr val="c0c7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6200" y="3573360"/>
            <a:ext cx="577800" cy="214560"/>
          </a:xfrm>
          <a:prstGeom prst="ellipse">
            <a:avLst/>
          </a:prstGeom>
          <a:solidFill>
            <a:srgbClr val="c0c7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0200" y="3573360"/>
            <a:ext cx="577800" cy="214560"/>
          </a:xfrm>
          <a:prstGeom prst="ellipse">
            <a:avLst/>
          </a:prstGeom>
          <a:solidFill>
            <a:srgbClr val="c0c7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AD6-5DC1-447F-A92B-FD372DAD20E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EF464-3810-4B94-9862-5814360E60A1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omentu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 unique opportunity to prove our value to the world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tronger support from UN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we demonstrate ou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tronger support from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we focus on where we are in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 where we di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CEB-2F72-4D1D-88E5-8503637602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9A4DD-E725-4F25-8466-F914B1438F55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Thou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 TMG methodologies are the basis for a successful realization of UN/CEFACT‘s Vision “Simple, Transparent and Effective Processes for Global Commerce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eedback is that they are excellent specif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ut there is still a lot of work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DDD-E773-4F6D-A8BF-09AE9DEBDC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661CD-0541-456C-8A3B-033BE6A19ADE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Thou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re active participating is the key for solving this issues in that time as you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 believe that an endorsed IPR Policy will start the ball rolling, especiall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re awaren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re re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re active participation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pport by major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1CC-7FFE-4582-B7D6-6065444A2E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31D4E-6DB5-40F4-9C87-FB6F4684EB0E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rap-Up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k R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Forum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elhi (India) – 2-6 Octo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ed by the India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– March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ably in Africa/Arabia/Latin-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guaran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spo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–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– March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3F1-0419-4FB2-90A2-FDA6E4242D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05314-6876-48A7-A374-ED0A98D0E6AD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e you in New Delh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hat the experts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elections for all positions in the F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Liaison Rappor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m would like to contin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is prepared to give it two more years to finish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the Plenary to continue with 2 additional members from TBG in the F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9AD-7685-4AC2-98F3-3EA36DBF30E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924D8-191C-4DB5-9CFA-2921DB3460E3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4360" y="836280"/>
            <a:ext cx="62136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UN/CEFACT Forum Objectiv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ing the effectiveness of the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quality and speeding up the production of UN/CEFACT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ngthening relations with other standards- and vertic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ntribute more to saving money globall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resources to do th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251840" y="5257800"/>
            <a:ext cx="151272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318-AC83-40FB-8979-4A761D539C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9AC83-0B60-43D7-8F45-832957FF09A9}" type="datetime1">
              <a:rPr lang="en-US"/>
              <a:t>07/31/26</a:t>
            </a:fld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8000" y="171756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47200" y="544500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UNCEFAC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7D0-A94C-469C-9BFE-F641C8B51511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BB639-3790-412E-A75A-E40C55FA6243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operabi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is uniquely positioned to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viding a global semantic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buy-in of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um should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 and Focus on the ke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stable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e other SDOs to work with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B07-D523-45ED-84D6-2D3BA9E1F2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99C1B-C597-4679-BF5A-830DFF570EFD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llabor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with S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pect these parties to come into the Forum and work with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recognize other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they adopt our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um will work hard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reamlining ou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28E-BE68-4408-AA8B-088E764F31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DA986-6E4A-49BA-A480-681C6066366A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8920" y="836280"/>
            <a:ext cx="5638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operation with OAS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 Coordination and Project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UN/CEFACT collabor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ild a common set of eBusiness document stand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 with all relevant Forum Groups - star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on core components and business proces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future UN/CEFACT deliverables constitute the upgrade path for UB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countries are committing resources to completing this work in UN/CE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aborative effort on BPSS v.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179-DA65-486B-8AF1-3C9D44D295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D6112-D9B9-4388-B716-D5C844069B4C}" type="datetime1">
              <a:rPr lang="en-US"/>
              <a:t>07/31/26</a:t>
            </a:fld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9640" y="836280"/>
            <a:ext cx="67183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king the Forum more Effecti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rade Facilitation at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orum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visibility to Bureau/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core Forum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 &amp;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/Repository/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 with SDOs at the work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dic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FB4-1133-4C51-BC0B-B6396F27AF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E7B22-43A7-40CF-B60A-84407B348096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836280"/>
            <a:ext cx="67183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king the Forum more Effecti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TBG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managemen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links with exter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cross-domain projec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harmonizatio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n ATG syntax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, XML, webServices,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 process for external standards migrating to 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594-A951-49B3-A6C2-379CE5BCE1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7DC6F-07D4-4E3B-93F5-51B80804E546}" type="datetime1">
              <a:rPr lang="en-US"/>
              <a:t>07/31/26</a:t>
            </a:fld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21:00:51Z</dcterms:created>
  <dc:creator>Dick Raman</dc:creator>
  <dc:description/>
  <dc:language>en-US</dc:language>
  <cp:lastModifiedBy>ONU</cp:lastModifiedBy>
  <dcterms:modified xsi:type="dcterms:W3CDTF">2006-05-24T10:51:28Z</dcterms:modified>
  <cp:revision>42</cp:revision>
  <dc:subject/>
  <dc:title>TRADE/CEFACT/2005/3</dc:title>
</cp:coreProperties>
</file>