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20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5.jpeg" ContentType="image/jpe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C6EE-EBE5-4E41-A5E3-1441663E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A315-54DA-40E1-A84D-FCD49EA9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696-0B48-4D99-B5B7-C49ACBF5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20F-3C42-45B3-BEA2-1854F59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278-57AC-48C1-9B09-91BA1579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C7E-577D-4C87-86B7-91EC6C3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BD69-E160-4505-8E47-CD2460ED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B6DE-972A-4CBC-A4CC-6A4BA58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A10-9874-4D7E-9489-4B3BE50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6FAD-88D3-4233-83DC-839985C5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5ED-5EBD-43F1-943E-5BCC33A4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4921-8E97-412E-B629-9F64732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CC97-7C44-4CD2-9887-7C4916C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3A7-56DB-4921-A806-1285CBAD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88B-D5E3-410F-AA0D-CDBB430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751D-063B-4411-9CE9-92A7C30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799-2F2F-4F33-92B0-20635BB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395-5972-4798-85E2-7770945F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8015-6159-4572-A1CB-5BBC5406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819-8CC7-4450-83ED-D786765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3B6-A70F-4D6C-870E-96EC0315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282-60B5-4DFC-9865-5DD0BBB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03C-35BC-495D-9A5C-6FBBC16C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349-ABCD-404B-8CE0-149C65E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6D7-58FD-4C28-B62D-A6CC908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686-2F74-4995-B210-269BCC4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289D-3EBA-4E28-A426-52848DD60E2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A18E-E293-4843-9473-7461B11046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8A3-942D-4197-BC28-B8631C0156B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286-4DD7-483D-AC34-9BE57F748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UN/CEFACT Plena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73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/CEFACT Foru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Dick R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Chair: Sue Pro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372360" y="404640"/>
            <a:ext cx="2592360" cy="165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0884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260280"/>
            <a:ext cx="3173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800000"/>
                </a:solidFill>
                <a:latin typeface="Arial Black"/>
              </a:rPr>
              <a:t>7th UN/CEFACT </a:t>
            </a:r>
            <a:br>
              <a:rPr sz="3600"/>
            </a:br>
            <a:r>
              <a:rPr b="1" i="1" lang="fr-FR" sz="3600" spc="-1" strike="noStrike">
                <a:solidFill>
                  <a:srgbClr val="800000"/>
                </a:solidFill>
                <a:latin typeface="Arial Black"/>
              </a:rPr>
              <a:t>FO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653000"/>
            <a:ext cx="48243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288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f1781d"/>
                </a:solidFill>
                <a:latin typeface="Arial Black"/>
              </a:rPr>
              <a:t>September 26-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3600" spc="-1" strike="noStrike">
                <a:solidFill>
                  <a:srgbClr val="f1781d"/>
                </a:solidFill>
                <a:latin typeface="Arial Black"/>
              </a:rPr>
              <a:t>Lyon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12661" r="0" b="0"/>
          <a:stretch/>
        </p:blipFill>
        <p:spPr>
          <a:xfrm>
            <a:off x="6156360" y="4005360"/>
            <a:ext cx="14637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1173240" cy="581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0" t="13598" r="0" b="13598"/>
          <a:stretch/>
        </p:blipFill>
        <p:spPr>
          <a:xfrm>
            <a:off x="6877080" y="6237360"/>
            <a:ext cx="14796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7812000" y="5013360"/>
          <a:ext cx="1077840" cy="1000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2000" y="5013360"/>
                    <a:ext cx="1077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7"/>
          <a:srcRect l="16245" t="0" r="312" b="7722"/>
          <a:stretch/>
        </p:blipFill>
        <p:spPr>
          <a:xfrm>
            <a:off x="0" y="6230880"/>
            <a:ext cx="6084720" cy="62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12300" t="0" r="14760" b="0"/>
          <a:stretch/>
        </p:blipFill>
        <p:spPr>
          <a:xfrm>
            <a:off x="5148360" y="6218280"/>
            <a:ext cx="930240" cy="63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372360" y="5300640"/>
            <a:ext cx="1112760" cy="64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17800" y="476280"/>
            <a:ext cx="24422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I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7B0-EDC5-4916-AEE2-A4D95F2E206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6525C-4E43-4BD6-A739-1B6BE5C32150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 attend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man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Reception – Mayor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&amp; L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(Sitpro &amp; IATA), GS1, XBR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M (U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C82-DA1F-437C-A678-02CB79687E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B5222-264D-41FA-8F98-1C4EF3D4DF3A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5640" y="836280"/>
            <a:ext cx="6141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software developer presented how the new UN/CEFACT standards are at the core of their new generation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Group reconv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spects of the PG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group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vernment group f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re Components Library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7AC-B192-4E58-86E2-8266774094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4353E-180A-48E5-A2A1-AFABB92B8173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19280" y="150840"/>
            <a:ext cx="5616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th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rch 12-17 2006 Vancouver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6836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588000" y="1371600"/>
            <a:ext cx="2556000" cy="493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1339920"/>
            <a:ext cx="13669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 Black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843200"/>
            <a:ext cx="2160720" cy="4321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321080"/>
              <a:gd name="textAreaBottom" fmla="*/ 4215600 h 4321080"/>
            </a:gdLst>
            <a:ahLst/>
            <a:rect l="textAreaLeft" t="textAreaTop" r="textAreaRight" b="textAreaBottom"/>
            <a:pathLst>
              <a:path w="21600" h="43193">
                <a:moveTo>
                  <a:pt x="3600" y="0"/>
                </a:moveTo>
                <a:arcTo wR="3600" hR="3600" stAng="16200000" swAng="-5400000"/>
                <a:lnTo>
                  <a:pt x="0" y="39593"/>
                </a:lnTo>
                <a:arcTo wR="3600" hR="3600" stAng="10800000" swAng="-5400000"/>
                <a:lnTo>
                  <a:pt x="18000" y="43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Francois Vuilleumeir, ISO/TC 154 Ch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uane Nickull, Individ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77080" y="5227560"/>
            <a:ext cx="644400" cy="48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77080" y="2492280"/>
            <a:ext cx="927000" cy="27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020000" y="2903400"/>
            <a:ext cx="1685880" cy="38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028000" y="2131920"/>
            <a:ext cx="485640" cy="58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877080" y="3355920"/>
            <a:ext cx="1008000" cy="500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877080" y="4003560"/>
            <a:ext cx="2028960" cy="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8101080" y="32846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7812000" y="5227560"/>
            <a:ext cx="846360" cy="414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7164360" y="4292640"/>
            <a:ext cx="1409760" cy="35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6851520" y="4789440"/>
            <a:ext cx="2016360" cy="15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3132000" y="6343560"/>
            <a:ext cx="190836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0C4-A9EB-43EA-82F7-85C61ED27D0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22BE3-7C29-432D-B459-99CC0DBB31D4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1640" y="836280"/>
            <a:ext cx="5565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UN/CEFACT For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ers did a tremendous jo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the Sponso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the Volunte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over 230 deleg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by Canadia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O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228-1247-4970-8BA8-C59B8D8EDE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421DE-6767-484F-9DB7-1083DF3B766D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during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our Core Component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interest in TBG18 (Agri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tart of TBG19 (e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gal Group met the 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&amp; L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2, CIDX, UBL, OAG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EAA-15F4-444E-BA9A-7EB26F9CEA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DAC7A-EF24-4CD5-A002-5A7BC45B5D2B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implementation verification team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chemas to be delivered in Q3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Industry Invo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Tend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Outputs on a semi-annual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needs more perman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80E-012D-4DAE-A4DC-245931A372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C14A9-7ACF-4C98-87D8-C6EFEBE93309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34280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pplied Technologi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Anders Grangå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Chair: Mark Craw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 Program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Business Documen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CCTS i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sation of representatio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for XML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to UN/EDIFACT Transform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to XML Desig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BPSS in X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Naming and Desig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-CPA Implementer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016-386F-42E7-8DA1-C9454891AB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5EC36-6300-46A9-B039-A985DE9ACC93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em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lenary Approv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/CEFACT XML NDR, Naming and Design Rules, have successfully gone through the ODP process and reached full consensus from the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G hence request the UN/CEFACT Plenary to approve this specification as a UN/CEFACT Technical Specific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B78-6BE6-410A-915B-2B2CCCB709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4958-D63A-414A-86E3-7E7F4D79A264}" type="datetime1">
              <a:rPr lang="en-US"/>
              <a:t>07/30/26</a:t>
            </a:fld>
          </a:p>
        </p:txBody>
      </p:sp>
    </p:spTree>
  </p:cSld>
  <p:transition spd="med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up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Forum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 Vanc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from the Perman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A04-7452-4001-8E44-9C586B4EC4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45BEC-DF83-4DA2-91EE-F9834441FADF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em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lenary No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 forty-five (145) Data Maintenance requests were processed for the D.05B UN/EDIFAC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 twelve (112) Data Maintenance requests were processed for the D.06A UN/EDIFAC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0D6-3FD3-469B-9EFC-90391472ED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72FAC-9BE2-4063-A685-66357FC4B6D7}" type="datetime1">
              <a:rPr lang="en-US"/>
              <a:t>07/30/26</a:t>
            </a:fld>
          </a:p>
        </p:txBody>
      </p:sp>
    </p:spTree>
  </p:cSld>
  <p:transition spd="med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ther Ite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forum meetings h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ne 2005 -  Kongsberg,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nuary 2006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llongong,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utur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mmer 2006 –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ctober 2006 – New Delhi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131-54D3-4571-8C6F-F4888FD3BD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99BF2-C21D-48E8-8BD9-0ADBEC0DA2E3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34280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formation Content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Management Group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Mike Con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Chair: David Do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8877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Principal 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ved the RSM (Requirements Specifications Map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d the UN/CEFACT Registry Specification for ODP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itialised UN/CEFACT Registry Proof-of-Con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ada, Governm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nese Taipei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Taiwan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, France Télé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orea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rea Institute for Electronic Commerc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3E7-69F4-49FC-8CF4-6CAE21A5D0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5010-5239-44A3-ADB4-E5B45D0E1892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8877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Principal Highl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sed and approved code list updates to UNECE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. 20 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of Measure used in 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. 21 - Types of Cargo, Packages and Packag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. 23 - Freight Cos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vanced Code List Migration Project for the regular publication of a single XML based version of all UN/CEFACT maintained cod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dited the first release of the Core Component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AD3-619E-4CFC-A48C-5B8C34CEAB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A97A-E4E6-43B0-A89C-12F873232A5D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1128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Work in prog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 UN/CEFACT Registr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lise Code List Migr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going audit of UN/CEFACT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going maintenance of UNECE Recommendations related to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963-C5ED-417C-90E8-B6F6371DE4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3786E-B41B-4401-93C9-CEA44C55A5FA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 Black"/>
              </a:rPr>
              <a:t>Items for Plenary No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16 (Codes for Trade and Transport Locations - UN/LOCODE ) - UN/LOCODE 2005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0 (Units of Measure used in International Trade) - Re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1 (Codes for Types of Cargo, Packages and Packaging Materials) - Rev.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ECE Recommendation 23 (Freight Cost Code) - Rev.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/EDIFACT DIRECTORY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0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0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08C-D7EA-4CFC-9E51-7BA43E152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A860D-F4FC-4D3E-A2D8-0582878F4A0C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Legal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3505320"/>
            <a:ext cx="798984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Us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Bart Sche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ternational Trade and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usiness Process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3505320"/>
            <a:ext cx="798984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Jean-Luc Champ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Yong-Jae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0"/>
          <a:ext cx="9121680" cy="73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1680" cy="7316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F2C-DE66-4749-A943-B60D81B43E5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F02AC-28AB-4D34-9630-2811C14E7BED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atus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s approach is fast g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is increasingly regarde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where semantic harmonization can take place at the highes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groups now coming forward and declaring support for UN/CEFACT and for migration/alignment of their standards with the C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needs the resources and buy-in of these extern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4F4-B0A9-42BE-B049-765B2EE4FC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E3495-3BD0-491C-857E-9F9AFE2CF380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932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 Black"/>
              </a:rPr>
              <a:t>Some thoughts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0600" y="5052960"/>
            <a:ext cx="82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works better when it’s op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1000" y="2276640"/>
            <a:ext cx="71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ind is like a parachute</a:t>
            </a:r>
            <a:r>
              <a:rPr b="0" lang="fr-BE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12E-2D1B-4754-893D-58325EEDEA4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C2E0A-37B3-4F6D-AB93-7F144E94AF0D}" type="datetime1">
              <a:rPr lang="en-US"/>
              <a:t>07/30/26</a:t>
            </a:fld>
          </a:p>
        </p:txBody>
      </p:sp>
    </p:spTree>
  </p:cSld>
  <p:transition spd="med">
    <p:pull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 Requirement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 industry ordering, Cross industry e-catalogue, Steel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TM International Forwarding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oject Schedule and Cost Performance Management, 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ounting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aste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PLOS, Animal Pas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ments Specific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 industry invoice, 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F7D-464C-4A29-ADCD-4898AC2FA1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AEED-0DF1-4F11-A3B3-1DF281088E79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for the harmonisation with and integration of UBL Trade and Transpor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ing with Invoice and Remittance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Transport and Environment effort o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-harmonization for Dangerous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view of UNECE Recommendations 6, 11 &amp;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Gov future projects: legal archiving, exchanges between Tax &amp; Social Securit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tosanitary certificates, GSRM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A8A-5DC9-45C1-926A-207467DD74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3365F-666B-4807-A5DC-9A6540125055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B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pping of two documents from Senegal and the E-Cert document to UNe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view of WCO DM 2.0 by Transport, Customs, e-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iaison between Finance &amp; UNI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iaison between Accounting &amp; XB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the first official C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plete submissions containing BIE´s and messages (Cross Industry Invoice and e-Tend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9A9-7D65-4EDC-9D6E-DE2B0AFC6A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27B4E-3C8F-49DD-96D6-78EF1E8B50FD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chnique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ologies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55640" y="3504960"/>
            <a:ext cx="770256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: Gunther Stuh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: Christian Huemer,Anders T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G made great str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dorf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on,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will be in 19 – 23 June 2006 at SWIFT, Brussels, Belg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A6D-9DC3-49A5-89EF-D42DAF803F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9298A-5DBD-43F3-842F-1EA6D1F4F1DC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797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nter-Organization Collabor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Specification Schema (BP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xt version of OASIS’s BPSS standard, v2.0.3, will be submitted to ISO TC 154 for approval as ISO/DTS 15000-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/CEFACT and OASIS will announce that BPSS 3.0 will be a joint eff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e TMG recommends that this action be supported by CEFACT Plen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ve communications with OMG and W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about other’s initia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ing collaboration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fined gap analysi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47D-3BDB-415E-80E4-2CC53B1DB5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5F665-E24C-48C1-B4C0-CE4D903C764F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5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Business Process Working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Modeling Methodology (UM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nd working draft of UMM Base and UMM Foundation Module ready for ODP 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eview period started on 2006-03-17 and ended on 2006-04-3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User Guide updat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ollaboration Specification Schema (BC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ed and made considerable progress in a joint project with ICG and ATG to define a UML profile for UMM and evaluate interoperability among various UML t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CSS v1.0 draft specification released to ODP 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-Events-Agents (REA) Project is approved and already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2C0-9097-4E6C-802C-0AEBFA0B8E0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15DBA-DC01-4BE4-88B3-7663DEBBEBCA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581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Core Component Working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 Technical Specification (CCT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CTS V2.2 draft specification released for ODP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view period started on 2006-04-03 and ended on 2006-05-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 Message Assembly (CC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eam has been formed, the project launch, and a series of steady conference calls has produced sixteen pages of com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xt Methodology Project (CMP) is approved and already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EDE-B9D2-476E-A8AD-4B56E429AF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AB61B-03FE-478C-A497-03EAB5CAB397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707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 Black"/>
              </a:rPr>
              <a:t>Architecture diag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73360"/>
          <a:ext cx="864252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64252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851280" y="4149720"/>
            <a:ext cx="577800" cy="21420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6200" y="3573360"/>
            <a:ext cx="577800" cy="21456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0200" y="3573360"/>
            <a:ext cx="577800" cy="214560"/>
          </a:xfrm>
          <a:prstGeom prst="ellipse">
            <a:avLst/>
          </a:prstGeom>
          <a:solidFill>
            <a:srgbClr val="c0c7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DD1-5D2F-4DA7-8F0C-7153452045D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5AC20-39CD-4B4E-ADFC-4A39C59F04E7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ment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 unique opportunity to prove our value to the world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tronger support from UN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we demonstrate ou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tronger support from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we focus on where we are in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 where we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E8B-0F99-45EB-86E0-5D84BC463D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B0715-C007-4A74-8DFD-89B11F68AE18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Thou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 TMG methodologies are the basis for a successful realization of UN/CEFACT‘s Vision “Simple, Transparent and Effective Processes for Global Commerc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edback is that they are excellent spec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t there is still a lot of work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B81-0C8B-432F-BF36-A937FA09F4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D44A7-00A3-457E-BBB9-AD4AF3980132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Thou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re active participating is the key for solving this issues in that time as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 believe that an endorsed IPR Policy will start the ball rolling, especiall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aware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re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re active participatio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port by maj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A83-D972-4BCA-860B-889F01F56F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8ED88-1807-4252-8C9F-5086E463A75B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k R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Foru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lhi (India) – 2-6 Octo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 by the Indi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– March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ably in Africa/Arabia/Latin-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spo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–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–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5FE-D0DA-4E4D-9717-E4250BF3C5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38251-AD26-4D87-959C-E25E5DB0B48F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e you in New Delh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hat the experts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elections for all positions in the F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Liaison Rappor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would like to contin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is prepared to give it two more years to finish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the Plenary to continue with 2 additional members from TBG in the F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FFA-8A3E-47F7-99F8-2A96EF2C490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821C6-1A0D-4005-8501-EF871026BE53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4360" y="836280"/>
            <a:ext cx="62136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UN/CEFACT Forum Obj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the effectiveness of the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quality and speeding up the production of UN/CEFACT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ening relations with other standards- and vertic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ntribute more to saving money globall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resources to do th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251840" y="5257800"/>
            <a:ext cx="151272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29E-C516-402A-902B-D7574323692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DA87A-23AD-4146-BA80-302906F9345D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8000" y="17175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47200" y="5445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UNCEFA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67E-55F7-4444-ADD4-FE4AC51B4952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04499-2FC7-4D7F-A341-C0D3E2511598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is uniquely positioned to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viding a global semantic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buy-in of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um shoul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 and Focus on the ke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stable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 other SDOs to work with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A69-E6BA-4BE6-BEF0-48BB21B9DB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620CB-2E1E-4834-A4A6-E403930047D0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with S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pect these parties to come into the Forum and work with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recognize oth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ey adopt ou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um will work har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reamlining ou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882-9302-42A3-9E1B-9FB4486157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BE708-E7A5-4895-90C5-7834E94A39EE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8920" y="836280"/>
            <a:ext cx="5638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operation with OAS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Coordination and Project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UN/CEFACT collabor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 a common set of eBusiness docum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 with all relevant Forum Groups - star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 core components and business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future UN/CEFACT deliverables constitute the upgrade path for UB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countries are committing resources to completing this work in UN/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aborative effort on BPSS v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8ED-EA87-468D-A3FB-17590BC2D4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803ED-AE64-435A-BD05-4E123022FCE4}" type="datetime1">
              <a:rPr lang="en-US"/>
              <a:t>07/30/26</a:t>
            </a:fld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836280"/>
            <a:ext cx="671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ing the Forum more Effecti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rade Facilitation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um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visibility to Bureau/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core Forum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&amp;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/Repository/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with SDOs at the work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dic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FF6-F664-46D5-AC74-5C047E44FC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15D0C-2D4C-46CE-A0B2-A3764F583662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836280"/>
            <a:ext cx="6718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ing the Forum more Effecti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B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managemen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links with exter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cross-domain projec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harmoniz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n ATG syntax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, XML, webServices,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process for external standards migrating to 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th UN/CEFACT Plenary - Forum Report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BB6-B994-41AD-9298-F67A9AEDD5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BEB25-7EFF-4D7C-BEB2-2D498935FC4D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21:00:51Z</dcterms:created>
  <dc:creator>Dick Raman</dc:creator>
  <dc:description/>
  <dc:language>en-US</dc:language>
  <cp:lastModifiedBy>ONU</cp:lastModifiedBy>
  <dcterms:modified xsi:type="dcterms:W3CDTF">2006-05-24T10:51:28Z</dcterms:modified>
  <cp:revision>42</cp:revision>
  <dc:subject/>
  <dc:title>TRADE/CEFACT/2005/3</dc:title>
</cp:coreProperties>
</file>