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9672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E8D5C672-4B31-4068-8E6D-277F1D1B796D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85720" y="2679840"/>
            <a:ext cx="915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uturaBookTBWA"/>
              </a:rPr>
              <a:t>Item 6 Towards an Integrated Strategy for UN/CEF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FuturaBookTBWA"/>
              </a:rPr>
              <a:t>ECE/TRADE/CEFACT/2006/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FuturaBookTBWA"/>
              </a:rPr>
              <a:t>Draft note by the secretari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FuturaBookTBWA"/>
              </a:rPr>
              <a:t>Jean Kubl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FuturaBookTBWA"/>
              </a:rPr>
              <a:t>UNECE secretari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FuturaBookTBWA"/>
              </a:rPr>
              <a:t>23 May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34040" y="605952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1464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259160" y="571680"/>
            <a:ext cx="1733400" cy="1294920"/>
            <a:chOff x="4259160" y="571680"/>
            <a:chExt cx="1733400" cy="1294920"/>
          </a:xfrm>
        </p:grpSpPr>
        <p:sp>
          <p:nvSpPr>
            <p:cNvPr id="125" name=""/>
            <p:cNvSpPr/>
            <p:nvPr/>
          </p:nvSpPr>
          <p:spPr>
            <a:xfrm>
              <a:off x="4456800" y="571680"/>
              <a:ext cx="19836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916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96200" y="57168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7872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2240" y="144828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88040" y="71856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77680" y="93852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93880" y="136332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82360" y="74952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60320" y="84744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99200" y="76428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0280" y="113904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06560" y="100476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23080" y="111672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85360" y="117684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9160" y="95076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19920" y="139212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18400" y="101700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56160" y="111060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68680" y="111060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12080" y="129708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1424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3480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56160" y="1709280"/>
              <a:ext cx="113472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2640" y="612720"/>
              <a:ext cx="111168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01400" y="91368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265640" y="629640"/>
              <a:ext cx="1714320" cy="1093320"/>
              <a:chOff x="4265640" y="62964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265640" y="95256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33400" y="1449720"/>
                <a:ext cx="40284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84480" y="95256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32920" y="130032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33400" y="64152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50920" y="65016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677840" y="728640"/>
                <a:ext cx="88812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88000" y="824040"/>
                <a:ext cx="66528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121720" y="62964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336280" y="131760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26080" y="759960"/>
              <a:ext cx="31320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26080" y="1182960"/>
              <a:ext cx="31788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09560" y="759960"/>
              <a:ext cx="31320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434600" y="1957320"/>
            <a:ext cx="847116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UN/CEFACT Integrated Strategy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Programme and organization of work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The 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25120" y="1728720"/>
            <a:ext cx="888372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1874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BookTBWA"/>
              </a:rPr>
              <a:t>The mission: 1996 – UN/CEFACT mission statement approved</a:t>
            </a:r>
            <a:endParaRPr b="0" lang="en-US" sz="30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51"/>
              </a:spcBef>
              <a:spcAft>
                <a:spcPts val="1874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BookTBWA"/>
              </a:rPr>
              <a:t>The e-business strategy: started in 2001</a:t>
            </a:r>
            <a:endParaRPr b="0" lang="en-US" sz="30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51"/>
              </a:spcBef>
              <a:spcAft>
                <a:spcPts val="1874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BookTBWA"/>
              </a:rPr>
              <a:t>The organization of the Forum– approved in 2003 </a:t>
            </a:r>
            <a:endParaRPr b="0" lang="en-US" sz="30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51"/>
              </a:spcBef>
              <a:spcAft>
                <a:spcPts val="1874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BookTBWA"/>
              </a:rPr>
              <a:t>Two strategies: approved in 2005</a:t>
            </a:r>
            <a:endParaRPr b="0" lang="en-US" sz="30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51"/>
              </a:spcBef>
              <a:spcAft>
                <a:spcPts val="1874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BookTBWA"/>
              </a:rPr>
              <a:t>The </a:t>
            </a:r>
            <a:r>
              <a:rPr b="0" lang="en-US" sz="3000" spc="-1" strike="noStrike">
                <a:solidFill>
                  <a:srgbClr val="ffff00"/>
                </a:solidFill>
                <a:latin typeface="FuturaBookTBWA"/>
              </a:rPr>
              <a:t>integrated</a:t>
            </a:r>
            <a:r>
              <a:rPr b="0" lang="en-US" sz="30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FuturaBookTBWA"/>
              </a:rPr>
              <a:t>way of doing things</a:t>
            </a:r>
            <a:r>
              <a:rPr b="0" lang="en-US" sz="3000" spc="-1" strike="noStrike">
                <a:solidFill>
                  <a:srgbClr val="ffffff"/>
                </a:solidFill>
                <a:latin typeface="FuturaBookTBWA"/>
              </a:rPr>
              <a:t>: today</a:t>
            </a:r>
            <a:endParaRPr b="0" lang="en-US" sz="30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UN/CEFACT Integrated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01520" y="2190600"/>
            <a:ext cx="859788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End-to-end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mplify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apture business knowledge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Business relevance of the technology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Programme and organization of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96960" y="1301760"/>
            <a:ext cx="904248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 - 3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key work areas –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- Facilitating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- Engaging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- Improving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uturaBookTBWA"/>
              </a:rPr>
              <a:t>How </a:t>
            </a: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- 5 Group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- TBG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- ATG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- ICG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- LG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- TMG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96960" y="1301760"/>
            <a:ext cx="904248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Facilitating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- Key work area I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1.1 Analyze (TBG,LG)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1.2 Identify (TBG,LG)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1.3 Monitor (TMG)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1.4 Bridge the gap (ATG)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1.5 Ensure (ICG) 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uturaBookTBWA"/>
              </a:rPr>
              <a:t>Engaging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- Key work area II -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2.1 TF within WTO (Bureau,TBG)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2.2 TF &amp; cross-border (Bureau, TBG)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2.3 Work with UNECE (Bureau)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2.4 Liaise (Bureau)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uturaBookTBWA"/>
              </a:rPr>
              <a:t>Improving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- Key work area III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3.1 Build capacity (All)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3.2 Promote (All)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984400" y="3657600"/>
            <a:ext cx="412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700" spc="-1" strike="noStrike">
                <a:solidFill>
                  <a:srgbClr val="ffffff"/>
                </a:solidFill>
                <a:latin typeface="FuturaBookTBWA"/>
              </a:rPr>
              <a:t>UN/</a:t>
            </a:r>
            <a:r>
              <a:rPr b="0" lang="en-US" sz="4100" spc="-1" strike="noStrike">
                <a:solidFill>
                  <a:srgbClr val="ffffff"/>
                </a:solidFill>
                <a:latin typeface="FuturaBookTBWA"/>
              </a:rPr>
              <a:t>CEFAC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933720" y="1828800"/>
            <a:ext cx="2228400" cy="1751760"/>
            <a:chOff x="3933720" y="1828800"/>
            <a:chExt cx="2228400" cy="1751760"/>
          </a:xfrm>
        </p:grpSpPr>
        <p:sp>
          <p:nvSpPr>
            <p:cNvPr id="178" name=""/>
            <p:cNvSpPr/>
            <p:nvPr/>
          </p:nvSpPr>
          <p:spPr>
            <a:xfrm>
              <a:off x="4187880" y="1828800"/>
              <a:ext cx="25488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3372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53080" y="1828800"/>
              <a:ext cx="25416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8708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6200" y="3015000"/>
              <a:ext cx="521280" cy="3722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56360" y="2027520"/>
              <a:ext cx="59400" cy="3672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71920" y="2325240"/>
              <a:ext cx="91800" cy="896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2440" y="2899800"/>
              <a:ext cx="50040" cy="7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77680" y="2069640"/>
              <a:ext cx="35280" cy="284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20720" y="2201760"/>
              <a:ext cx="88920" cy="1090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71120" y="2089440"/>
              <a:ext cx="320040" cy="27432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94040" y="2596680"/>
              <a:ext cx="20520" cy="5076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80480" y="2414880"/>
              <a:ext cx="644760" cy="49896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16160" y="2566080"/>
              <a:ext cx="106560" cy="896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96080" y="2647440"/>
              <a:ext cx="18000" cy="108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75200" y="2341800"/>
              <a:ext cx="536040" cy="74304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40360" y="2938680"/>
              <a:ext cx="9360" cy="2916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10040" y="2431440"/>
              <a:ext cx="260280" cy="24660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15320" y="2557800"/>
              <a:ext cx="372960" cy="792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60400" y="2557800"/>
              <a:ext cx="390240" cy="792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02120" y="2810160"/>
              <a:ext cx="390240" cy="44568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0464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3092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15320" y="3367800"/>
              <a:ext cx="1458720" cy="2127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23960" y="1884600"/>
              <a:ext cx="1429200" cy="134820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59560" y="2291400"/>
              <a:ext cx="564840" cy="532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942360" y="1907280"/>
              <a:ext cx="2204280" cy="1479240"/>
              <a:chOff x="3942360" y="1907280"/>
              <a:chExt cx="2204280" cy="1479240"/>
            </a:xfrm>
          </p:grpSpPr>
          <p:sp>
            <p:nvSpPr>
              <p:cNvPr id="205" name=""/>
              <p:cNvSpPr/>
              <p:nvPr/>
            </p:nvSpPr>
            <p:spPr>
              <a:xfrm>
                <a:off x="3942360" y="2344320"/>
                <a:ext cx="254880" cy="43704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158360" y="3016800"/>
                <a:ext cx="517680" cy="369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895360" y="2344320"/>
                <a:ext cx="251280" cy="43704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699880" y="2814840"/>
                <a:ext cx="387000" cy="44280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58360" y="1923480"/>
                <a:ext cx="209880" cy="3870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23640" y="1935000"/>
                <a:ext cx="275040" cy="369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472280" y="2041200"/>
                <a:ext cx="1141920" cy="106524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613760" y="2170080"/>
                <a:ext cx="855360" cy="8013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043240" y="1907280"/>
                <a:ext cx="5760" cy="54900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318640" y="2838240"/>
              <a:ext cx="216000" cy="20448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420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34200" y="2655720"/>
              <a:ext cx="408600" cy="38700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5556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371600" y="4591080"/>
            <a:ext cx="77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SIMPLE, TRANSPARENT AND EFFECTIV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OR GLOBAL BUSI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55040" y="708120"/>
            <a:ext cx="33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My convi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Mark Palmer</dc:creator>
  <dc:description/>
  <dc:language>en-US</dc:language>
  <cp:lastModifiedBy>ONU</cp:lastModifiedBy>
  <cp:lastPrinted>2001-03-15T16:33:27Z</cp:lastPrinted>
  <dcterms:modified xsi:type="dcterms:W3CDTF">2006-05-23T12:56:41Z</dcterms:modified>
  <cp:revision>257</cp:revision>
  <dc:subject/>
  <dc:title>UN/CEAFACT Bureau report to 8th Forum</dc:title>
</cp:coreProperties>
</file>