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72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269DB556-BB12-4D90-8851-1AF812E6B144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5720" y="2679840"/>
            <a:ext cx="915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Item 6 Towards an Integrated Strategy for UN/CE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FuturaBookTBWA"/>
              </a:rPr>
              <a:t>ECE/TRADE/CEFACT/2006/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FuturaBookTBWA"/>
              </a:rPr>
              <a:t>Draft note by the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Jean Ku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BookTBWA"/>
              </a:rPr>
              <a:t>UNECE secretar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23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34600" y="1957320"/>
            <a:ext cx="84711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/CEFACT Integrated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gramme and organization of 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5120" y="1728720"/>
            <a:ext cx="88837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mission: 1996 – UN/CEFACT mission statement approved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e-business strategy: started in 2001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organization of the Forum– approved in 2003 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wo strategies: approved in 2005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FuturaBookTBWA"/>
              </a:rPr>
              <a:t>integrated</a:t>
            </a: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FuturaBookTBWA"/>
              </a:rPr>
              <a:t>way of doing things</a:t>
            </a:r>
            <a:r>
              <a:rPr b="0" lang="en-US" sz="3000" spc="-1" strike="noStrike">
                <a:solidFill>
                  <a:srgbClr val="ffffff"/>
                </a:solidFill>
                <a:latin typeface="FuturaBookTBWA"/>
              </a:rPr>
              <a:t>: today</a:t>
            </a:r>
            <a:endParaRPr b="0" lang="en-US" sz="3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UN/CEFACT Integrated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01520" y="2190600"/>
            <a:ext cx="85978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d-to-en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mplify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apture business knowledg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Business relevance of the technolo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rogramme and organization of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96960" y="1301760"/>
            <a:ext cx="9042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- 3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key work areas –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Facilitatin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Engagin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Improvin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uturaBookTBWA"/>
              </a:rPr>
              <a:t>How </a:t>
            </a: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- 5 Group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TBG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AT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IC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L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- TMG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96960" y="1301760"/>
            <a:ext cx="9042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Facilitating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- Key work area I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1 Analyze (TBG,L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2 Identify (TBG,L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3 Monitor (TM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4 Bridge the gap (AT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.5 Ensure (ICG)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Engaging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- Key work area II -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1 TF within WTO (Bureau,TB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2 TF &amp; cross-border (Bureau, TBG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3 Work with UNECE (Bureau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.4 Liaise (Bureau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Improving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- Key work area III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3.1 Build capacity (All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3.2 Promote (All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7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55040" y="70812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My conv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ONU</cp:lastModifiedBy>
  <cp:lastPrinted>2001-03-15T16:33:27Z</cp:lastPrinted>
  <dcterms:modified xsi:type="dcterms:W3CDTF">2006-05-23T12:56:41Z</dcterms:modified>
  <cp:revision>257</cp:revision>
  <dc:subject/>
  <dc:title>UN/CEAFACT Bureau report to 8th Forum</dc:title>
</cp:coreProperties>
</file>