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948AB151-F71A-4225-A0CB-6571DD88F3DA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8680" y="2841480"/>
            <a:ext cx="915516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SDOs Stakeholders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24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1360" y="615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ummary </a:t>
            </a: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16120" y="1239840"/>
            <a:ext cx="86486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Growing recognition of the value of UN/CEFACT’s common semantic framework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upport for providing Guidance on how UN/CEFACT standards fit with other standards to enable eBusin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K and US have standards mapping projects – will provide the results to UN/CEFACT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A more coordinated approach is appropriate to avoid duplication of work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se the eBusiness Capabilities Framework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25400" y="3841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ummary </a:t>
            </a: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16120" y="1239840"/>
            <a:ext cx="86486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mprove the communications among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Plenary participants and Forum participan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Forum participants and those developing workshops to better understand the application of the standard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Linkage between the “layers in the stack” is critica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Work with other SDOs central to UN/CEFACT objectives,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e.g., associate member to W3C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Table the SDO Stakeholders paper in other forum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Establish informal mechanisms for improved communications among SDO initiativ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ONU</cp:lastModifiedBy>
  <cp:lastPrinted>2001-03-15T16:33:27Z</cp:lastPrinted>
  <dcterms:modified xsi:type="dcterms:W3CDTF">2006-05-24T08:09:44Z</dcterms:modified>
  <cp:revision>298</cp:revision>
  <dc:subject/>
  <dc:title>UN/CEAFACT Bureau report to 8th Forum</dc:title>
</cp:coreProperties>
</file>