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8960" y="6519960"/>
            <a:ext cx="681696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20120" y="5638680"/>
            <a:ext cx="914040" cy="685440"/>
            <a:chOff x="7620120" y="5638680"/>
            <a:chExt cx="914040" cy="685440"/>
          </a:xfrm>
        </p:grpSpPr>
        <p:sp>
          <p:nvSpPr>
            <p:cNvPr id="3" name=""/>
            <p:cNvSpPr/>
            <p:nvPr/>
          </p:nvSpPr>
          <p:spPr>
            <a:xfrm>
              <a:off x="7724160" y="5638680"/>
              <a:ext cx="10440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012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5360" y="5638680"/>
              <a:ext cx="104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2148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8160" y="6103080"/>
              <a:ext cx="21384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2640" y="5716440"/>
              <a:ext cx="244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0160" y="5832720"/>
              <a:ext cx="3744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18440" y="6057720"/>
              <a:ext cx="205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12680" y="5733000"/>
              <a:ext cx="1440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8240" y="5784480"/>
              <a:ext cx="3636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8760" y="5740560"/>
              <a:ext cx="13104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931880" y="5939280"/>
              <a:ext cx="828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03360" y="5868000"/>
              <a:ext cx="26460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22960" y="5927040"/>
              <a:ext cx="435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55720" y="5959080"/>
              <a:ext cx="720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47440" y="5839200"/>
              <a:ext cx="219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74080" y="6073200"/>
              <a:ext cx="360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0440" y="5874480"/>
              <a:ext cx="106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720" y="5923800"/>
              <a:ext cx="1530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05480" y="5923800"/>
              <a:ext cx="16020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48200" y="6022800"/>
              <a:ext cx="16020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928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9844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76720" y="6240960"/>
              <a:ext cx="59832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780320" y="5660280"/>
              <a:ext cx="5864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58880" y="5819760"/>
              <a:ext cx="23184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23360" y="5669280"/>
              <a:ext cx="904320" cy="578880"/>
              <a:chOff x="7623360" y="5669280"/>
              <a:chExt cx="904320" cy="578880"/>
            </a:xfrm>
          </p:grpSpPr>
          <p:sp>
            <p:nvSpPr>
              <p:cNvPr id="30" name=""/>
              <p:cNvSpPr/>
              <p:nvPr/>
            </p:nvSpPr>
            <p:spPr>
              <a:xfrm>
                <a:off x="7623360" y="5840280"/>
                <a:ext cx="10440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711920" y="6103440"/>
                <a:ext cx="21240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24720" y="5840280"/>
                <a:ext cx="10296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344440" y="602460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11920" y="5675400"/>
                <a:ext cx="860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160" y="5680080"/>
                <a:ext cx="11268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40800" y="5721480"/>
                <a:ext cx="46836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898760" y="5772240"/>
                <a:ext cx="35100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075160" y="5669280"/>
                <a:ext cx="216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8188200" y="6033600"/>
              <a:ext cx="885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6636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66360" y="5962320"/>
              <a:ext cx="16740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2124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"/>
          <p:cNvSpPr/>
          <p:nvPr/>
        </p:nvSpPr>
        <p:spPr>
          <a:xfrm>
            <a:off x="582480" y="6524640"/>
            <a:ext cx="1995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17337D0B-DF9A-40C8-BF0B-1D04BFA142EC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83080" y="62881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48000" y="404640"/>
            <a:ext cx="2160000" cy="1655640"/>
            <a:chOff x="3348000" y="404640"/>
            <a:chExt cx="2160000" cy="1655640"/>
          </a:xfrm>
        </p:grpSpPr>
        <p:sp>
          <p:nvSpPr>
            <p:cNvPr id="85" name=""/>
            <p:cNvSpPr/>
            <p:nvPr/>
          </p:nvSpPr>
          <p:spPr>
            <a:xfrm>
              <a:off x="3594240" y="404640"/>
              <a:ext cx="24696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80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4440" y="404640"/>
              <a:ext cx="24624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16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84760" y="1525680"/>
              <a:ext cx="505440" cy="35172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9960" y="592560"/>
              <a:ext cx="57600" cy="34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1920" y="873720"/>
              <a:ext cx="88920" cy="8460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080" y="1416960"/>
              <a:ext cx="48600" cy="6840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47680" y="632160"/>
              <a:ext cx="34200" cy="270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95400" y="757080"/>
              <a:ext cx="86400" cy="10332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4360" y="650880"/>
              <a:ext cx="309960" cy="25920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84920" y="1130040"/>
              <a:ext cx="20160" cy="4788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1080" y="958320"/>
              <a:ext cx="624960" cy="47160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0200" y="1101240"/>
              <a:ext cx="103320" cy="846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7600" y="1178280"/>
              <a:ext cx="17280" cy="10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7440" y="889200"/>
              <a:ext cx="519480" cy="70200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0440" y="1453320"/>
              <a:ext cx="9000" cy="2754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94440" y="974160"/>
              <a:ext cx="252360" cy="23292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8080" y="1093680"/>
              <a:ext cx="361440" cy="75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0760" y="1093680"/>
              <a:ext cx="378360" cy="75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4240" y="1332000"/>
              <a:ext cx="378360" cy="4208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676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688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8080" y="1859040"/>
              <a:ext cx="1414080" cy="20124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6360" y="457200"/>
              <a:ext cx="1385640" cy="127404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8640" y="841680"/>
              <a:ext cx="547560" cy="5032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356280" y="478800"/>
              <a:ext cx="2136600" cy="1398240"/>
              <a:chOff x="3356280" y="478800"/>
              <a:chExt cx="2136600" cy="1398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56280" y="891720"/>
                <a:ext cx="246960" cy="41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5440" y="1527480"/>
                <a:ext cx="501840" cy="34956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9160" y="891720"/>
                <a:ext cx="243720" cy="41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60160" y="1336320"/>
                <a:ext cx="375120" cy="41832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5440" y="494280"/>
                <a:ext cx="203400" cy="36576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82840" y="505080"/>
                <a:ext cx="266400" cy="34956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70000" y="605520"/>
                <a:ext cx="1106640" cy="10065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7160" y="727200"/>
                <a:ext cx="829080" cy="75744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3320" y="478800"/>
                <a:ext cx="5760" cy="51876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690440" y="1358640"/>
              <a:ext cx="209160" cy="1933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0120" y="1186200"/>
              <a:ext cx="396000" cy="3657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240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54360" y="609300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FuturaBookTBW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Stakeholder’s Perspectives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Dick Rama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SDOs are now approaching UN/CEFACT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y hav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ational formats (flat file formats)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DIFACT and PreEDIFACT EDI forma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oved to XML as early as 1999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ide spread implement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y need:</a:t>
            </a:r>
            <a:br>
              <a:rPr sz="2800"/>
            </a:br>
            <a:r>
              <a:rPr b="0" lang="en-GB" sz="2800" spc="-1" strike="noStrike" u="sng">
                <a:solidFill>
                  <a:srgbClr val="ffffff"/>
                </a:solidFill>
                <a:uFillTx/>
                <a:latin typeface="FuturaBookTBWA"/>
              </a:rPr>
              <a:t>Semantic interoperability at a global level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/CEFACT can offer platform for alignment between these different XML approaches through the adoption of CCTS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Some Topics for an Exchange of Views: A Starting Point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How can sectors specifically benefit from UN/CEFACT work, particularly to enable greater efficiencies and the facilitation of international trade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ere should the UN/CEFACT priorities be focused in the near and medium-term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How important are the benefits that would be offered by the collaboration of UN/CEFACT and WCO to define the proposed Common Reference Data Model?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ere and what are the opportunities for enhanced benefits to be gained from cross-sector collaboration through UN/CEFACT activitie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at are the opportunities for broader sectoral participation and involvement of national and governmental operational experts in UN/CEFACT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For more than 25 years UN/CEFACT 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has 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had contributions from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Businesse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Government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Non-governmental organization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Individual experts worldwide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Dedicating 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crucial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 resource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Developing open electronic business standards 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Resulting in Standards and Recommend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Leading to efficiencies in business and trade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UN/CEFACT Instruments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Starting i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n the 1960s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 and up to the present day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LK and UNTDE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 Recommend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/EDIFACT     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All the Fortune 500 companies have EDI links in place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ebXML initiati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/CEFACT Core Component Libr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ontributed Expertise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1653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31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ross-Border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Supply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hain and e-procure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ransport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ation &amp; Logisti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ustoms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Finance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ravel, Tourism and Leisure  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Accounting and Auditing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Insurance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New Challenges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After all the Hype we see…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e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mergence of global supply chai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j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st-in-time delivery and inventory reduc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d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evelopment of multi-modal transport servi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g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rowth of lower cost electronic communications including via the Interne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i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ncreasing use of outsourcing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Single Windows to governments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New sectors engaging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Agricultural – Tracking &amp; Tracing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 of food produc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eGovernment – Services to the private sector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Electricity – New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ndustry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 initiativ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Renewed Engagement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Financial -  end-to-end eprocessing of a payment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WCO - define a common harmonised CCTS compliant reference data model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IATA  - e-freight programme with UNeDocs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urance - National and International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surance – A Local Business With Global Needs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0600" y="15238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surance policies are generally written on a national or provincial level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xceptions: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insuranc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Large Commercial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Future:  Move towards single market by EU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surance Supervision and the Need for Data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AIS (International Association of Insurance Supervisors):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core principles recommend data sharing across jurisdictions and across financial services sectors in the regulation of financial conglomerates.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Global Reinsurance Market Report cites challenge to collection of meaningful data:  production of global data by aggregating local data that is not compiled on a consistent basi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uture developments for the Centre’s products and services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FuturaBookTBWA"/>
              </a:rPr>
              <a:t>Unique Position for 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Building the eBusiness standards framework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Methodologies for Business Process modelling (UMM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Information data modelling (CCTS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Core Component Library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Business Requirements Specifications (BRS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Registry/Repository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…  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Foundation for responding to the modern challenges of international tra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Syntax-neutral semantics implementable in: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EDI, XML, webServices, Paper. 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This encapsulates the power of the UN/CEFACT approach.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52:55Z</dcterms:created>
  <dc:creator>Dick Raman</dc:creator>
  <dc:description/>
  <dc:language>en-US</dc:language>
  <cp:lastModifiedBy>Mika Vepsalainen</cp:lastModifiedBy>
  <dcterms:modified xsi:type="dcterms:W3CDTF">2006-05-24T07:07:36Z</dcterms:modified>
  <cp:revision>8</cp:revision>
  <dc:subject>Sectors Introduction</dc:subject>
  <dc:title>Stakeholder Session</dc:title>
</cp:coreProperties>
</file>