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4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000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0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8960" y="6519960"/>
            <a:ext cx="681696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20120" y="5638680"/>
            <a:ext cx="914040" cy="685440"/>
            <a:chOff x="7620120" y="5638680"/>
            <a:chExt cx="914040" cy="685440"/>
          </a:xfrm>
        </p:grpSpPr>
        <p:sp>
          <p:nvSpPr>
            <p:cNvPr id="3" name=""/>
            <p:cNvSpPr/>
            <p:nvPr/>
          </p:nvSpPr>
          <p:spPr>
            <a:xfrm>
              <a:off x="7724160" y="5638680"/>
              <a:ext cx="10440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20120" y="5938200"/>
              <a:ext cx="11268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5360" y="5638680"/>
              <a:ext cx="104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21480" y="5938200"/>
              <a:ext cx="11268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28160" y="6103080"/>
              <a:ext cx="21384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62640" y="5716440"/>
              <a:ext cx="244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10160" y="5832720"/>
              <a:ext cx="3744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18440" y="6057720"/>
              <a:ext cx="205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12680" y="5733000"/>
              <a:ext cx="1440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8240" y="5784480"/>
              <a:ext cx="3636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8760" y="5740560"/>
              <a:ext cx="13104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931880" y="5939280"/>
              <a:ext cx="828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03360" y="5868000"/>
              <a:ext cx="26460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22960" y="5927040"/>
              <a:ext cx="435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55720" y="5959080"/>
              <a:ext cx="720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47440" y="5839200"/>
              <a:ext cx="219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74080" y="6073200"/>
              <a:ext cx="360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20440" y="5874480"/>
              <a:ext cx="106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76720" y="5923800"/>
              <a:ext cx="1530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05480" y="5923800"/>
              <a:ext cx="16020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48200" y="6022800"/>
              <a:ext cx="16020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49280" y="5736240"/>
              <a:ext cx="106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98440" y="5736240"/>
              <a:ext cx="106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76720" y="6240960"/>
              <a:ext cx="59832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780320" y="5660280"/>
              <a:ext cx="5864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958880" y="5819760"/>
              <a:ext cx="23184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7623360" y="5669280"/>
              <a:ext cx="904320" cy="578880"/>
              <a:chOff x="7623360" y="5669280"/>
              <a:chExt cx="904320" cy="578880"/>
            </a:xfrm>
          </p:grpSpPr>
          <p:sp>
            <p:nvSpPr>
              <p:cNvPr id="30" name=""/>
              <p:cNvSpPr/>
              <p:nvPr/>
            </p:nvSpPr>
            <p:spPr>
              <a:xfrm>
                <a:off x="7623360" y="5840280"/>
                <a:ext cx="10440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711920" y="6103440"/>
                <a:ext cx="21240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24720" y="5840280"/>
                <a:ext cx="10296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344440" y="6024600"/>
                <a:ext cx="15876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711920" y="5675400"/>
                <a:ext cx="860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160" y="5680080"/>
                <a:ext cx="11268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840800" y="5721480"/>
                <a:ext cx="46836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898760" y="5772240"/>
                <a:ext cx="35100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075160" y="5669280"/>
                <a:ext cx="216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8188200" y="6033600"/>
              <a:ext cx="885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866360" y="5738400"/>
              <a:ext cx="16488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66360" y="5962320"/>
              <a:ext cx="16740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121240" y="5738400"/>
              <a:ext cx="16488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"/>
          <p:cNvSpPr/>
          <p:nvPr/>
        </p:nvSpPr>
        <p:spPr>
          <a:xfrm>
            <a:off x="582480" y="6524640"/>
            <a:ext cx="1995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B4D20770-B05A-4E59-8006-D34D141B76E9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83080" y="628812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BookTBW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FuturaBookTBW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48000" y="404640"/>
            <a:ext cx="2160000" cy="1655640"/>
            <a:chOff x="3348000" y="404640"/>
            <a:chExt cx="2160000" cy="1655640"/>
          </a:xfrm>
        </p:grpSpPr>
        <p:sp>
          <p:nvSpPr>
            <p:cNvPr id="85" name=""/>
            <p:cNvSpPr/>
            <p:nvPr/>
          </p:nvSpPr>
          <p:spPr>
            <a:xfrm>
              <a:off x="3594240" y="404640"/>
              <a:ext cx="246960" cy="27000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48000" y="1127880"/>
              <a:ext cx="266400" cy="4053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4440" y="404640"/>
              <a:ext cx="246240" cy="27000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41600" y="1127880"/>
              <a:ext cx="266400" cy="4053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84760" y="1525680"/>
              <a:ext cx="505440" cy="35172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9960" y="592560"/>
              <a:ext cx="57600" cy="34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41920" y="873720"/>
              <a:ext cx="88920" cy="8460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62080" y="1416960"/>
              <a:ext cx="48600" cy="6840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47680" y="632160"/>
              <a:ext cx="34200" cy="2700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95400" y="757080"/>
              <a:ext cx="86400" cy="10332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4360" y="650880"/>
              <a:ext cx="309960" cy="25920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84920" y="1130040"/>
              <a:ext cx="20160" cy="4788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1080" y="958320"/>
              <a:ext cx="624960" cy="47160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00200" y="1101240"/>
              <a:ext cx="103320" cy="8460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7600" y="1178280"/>
              <a:ext cx="17280" cy="100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7440" y="889200"/>
              <a:ext cx="519480" cy="70200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0440" y="1453320"/>
              <a:ext cx="9000" cy="2754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94440" y="974160"/>
              <a:ext cx="252360" cy="23292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18080" y="1093680"/>
              <a:ext cx="361440" cy="75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30760" y="1093680"/>
              <a:ext cx="378360" cy="75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4240" y="1332000"/>
              <a:ext cx="378360" cy="4208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16760" y="640440"/>
              <a:ext cx="252360" cy="45828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6880" y="640440"/>
              <a:ext cx="252360" cy="45828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18080" y="1859040"/>
              <a:ext cx="1414080" cy="20124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6360" y="457200"/>
              <a:ext cx="1385640" cy="127404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8640" y="841680"/>
              <a:ext cx="547560" cy="5032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356280" y="478800"/>
              <a:ext cx="2136600" cy="1398240"/>
              <a:chOff x="3356280" y="478800"/>
              <a:chExt cx="2136600" cy="1398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56280" y="891720"/>
                <a:ext cx="246960" cy="41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65440" y="1527480"/>
                <a:ext cx="501840" cy="34956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9160" y="891720"/>
                <a:ext cx="243720" cy="41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60160" y="1336320"/>
                <a:ext cx="375120" cy="41832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65440" y="494280"/>
                <a:ext cx="203400" cy="36576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82840" y="505080"/>
                <a:ext cx="266400" cy="34956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70000" y="605520"/>
                <a:ext cx="1106640" cy="10065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07160" y="727200"/>
                <a:ext cx="829080" cy="75744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23320" y="478800"/>
                <a:ext cx="5760" cy="51876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690440" y="1358640"/>
              <a:ext cx="209160" cy="1933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645480"/>
              <a:ext cx="390240" cy="35784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30120" y="1186200"/>
              <a:ext cx="396000" cy="3657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2400" y="645480"/>
              <a:ext cx="390240" cy="35784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54360" y="609300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FuturaBookTBW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BookTBWA"/>
              </a:rPr>
              <a:t>Stakeholder’s Perspectives</a:t>
            </a:r>
            <a:endParaRPr b="0" lang="en-US" sz="40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Dick Rama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 Bureau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Two Main Priorities</a:t>
            </a:r>
            <a:endParaRPr b="1" lang="en-US" sz="36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ducing a complete and consistent set of implementable standards going from conceptual to practical deliverabl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viding a neutral platform for convergence of different SDO approaches through CC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Lessons learned</a:t>
            </a:r>
            <a:endParaRPr b="1" lang="en-US" sz="36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arly implementations are valuable inpu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gaging SMEs is difficult  but crucia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MEs have specific needs to consid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ntent separated from technolo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untries need one data standard for the same function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Important Action Points</a:t>
            </a:r>
            <a:endParaRPr b="1" lang="en-US" sz="36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peed-up the deliverabl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sources will be required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ross-sectoral project managemen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rease efficiency of BRS proc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Global Semantic Harmoniz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terlinking of sectors and government department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ovide technical support to other bodi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(especially WTO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0:52:55Z</dcterms:created>
  <dc:creator>Dick Raman</dc:creator>
  <dc:description/>
  <dc:language>en-US</dc:language>
  <cp:lastModifiedBy>ONU</cp:lastModifiedBy>
  <dcterms:modified xsi:type="dcterms:W3CDTF">2006-05-24T08:10:37Z</dcterms:modified>
  <cp:revision>12</cp:revision>
  <dc:subject>Sectors Introduction</dc:subject>
  <dc:title>Stakeholder Session</dc:title>
</cp:coreProperties>
</file>