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18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D9584-A8CC-458E-B89D-0318C3891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ovepipes will continue to use their own systems; use standards at the boundaries for minimal disruption. Standards will start to establish more communication across ent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7FD5-41F5-4401-83E1-44EFBD8D3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6585-0F9E-46AA-A8FE-CCEFEA1BE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C9E9-E231-4446-9BAB-6F1324A63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4D8A-88A8-4D62-9CC0-378E91958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0298-FA13-43EF-AC67-33ADFEBDA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E2F6-062C-4650-970D-4A71C0AFE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33D9-4B5E-4809-85CD-06EBE620D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581B-F6EE-4872-B5B0-3CF054E8E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D93F-A548-42FB-ACF0-FB72BA36B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3B58-B66E-4DC3-B4FD-8261461B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C99D-9526-4821-812A-740C84BF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DA5F-DC20-4BD8-AD20-94C82858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26743-78B5-4C68-BF42-DFA4097B3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88640" y="523800"/>
            <a:ext cx="8852400" cy="59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ss Release:  SPECIAL MINISTER OF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/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ustralian Government is promoting the use of international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help deliver better services to Australian citize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vernment agencies must join up their IT systems in a reliable,sec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cost effective way to support business” said the Minis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ustralian Government Information Management Office (AGIMO) is hel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cies by providing a platform called GovDex to provide resources to maximi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se of international standa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vDex includes standards developed under the auspices of the United Nation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means we can benefit from the work of governments and businesses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orld” the Minister sai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overnment’s recently released E-Strategy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8951760" cy="692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9280" y="41400"/>
            <a:ext cx="8785440" cy="68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02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64720" cy="69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36000" cy="646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Centrelink (Social Security) Integration with Employe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asual workers receiving income support must estimate their in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Often they get it wrong and owe $ to gover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f we can interface directly with employer payroll systems we can eliminate this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Scen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219640" y="2390760"/>
            <a:ext cx="3348000" cy="17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liminates manual proces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educes admin cos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liminates err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impler for citizen and 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educed CentreLink de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26920" y="4005360"/>
            <a:ext cx="1143000" cy="7365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26920" y="2133720"/>
            <a:ext cx="1143000" cy="7729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92360" y="2060640"/>
            <a:ext cx="1143000" cy="4248000"/>
          </a:xfrm>
          <a:custGeom>
            <a:avLst/>
            <a:gdLst>
              <a:gd name="textAreaLeft" fmla="*/ 55800 w 1143000"/>
              <a:gd name="textAreaRight" fmla="*/ 1087200 w 1143000"/>
              <a:gd name="textAreaTop" fmla="*/ 55800 h 4248000"/>
              <a:gd name="textAreaBottom" fmla="*/ 4192200 h 4248000"/>
            </a:gdLst>
            <a:ahLst/>
            <a:rect l="textAreaLeft" t="textAreaTop" r="textAreaRight" b="textAreaBottom"/>
            <a:pathLst>
              <a:path w="21600" h="80259">
                <a:moveTo>
                  <a:pt x="3600" y="0"/>
                </a:moveTo>
                <a:arcTo wR="3600" hR="3600" stAng="16200000" swAng="-5400000"/>
                <a:lnTo>
                  <a:pt x="0" y="76659"/>
                </a:lnTo>
                <a:arcTo wR="3600" hR="3600" stAng="10800000" swAng="-5400000"/>
                <a:lnTo>
                  <a:pt x="18000" y="802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entre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06520" y="2997360"/>
            <a:ext cx="457200" cy="888840"/>
          </a:xfrm>
          <a:prstGeom prst="upArrow">
            <a:avLst>
              <a:gd name="adj1" fmla="val 50000"/>
              <a:gd name="adj2" fmla="val 4860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2 Pay sal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5400000">
            <a:off x="695160" y="3251160"/>
            <a:ext cx="888840" cy="380880"/>
          </a:xfrm>
          <a:prstGeom prst="rightArrow">
            <a:avLst>
              <a:gd name="adj1" fmla="val 50000"/>
              <a:gd name="adj2" fmla="val 583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1 Authori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124000" y="5661000"/>
            <a:ext cx="1295640" cy="380880"/>
          </a:xfrm>
          <a:prstGeom prst="rightArrow">
            <a:avLst>
              <a:gd name="adj1" fmla="val 50000"/>
              <a:gd name="adj2" fmla="val 850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3 Report payro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657760" y="181296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26920" y="5445000"/>
            <a:ext cx="1143000" cy="863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ay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ystem 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rovi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58920" y="4797360"/>
            <a:ext cx="380880" cy="609840"/>
          </a:xfrm>
          <a:prstGeom prst="upDownArrow">
            <a:avLst>
              <a:gd name="adj1" fmla="val 50000"/>
              <a:gd name="adj2" fmla="val 318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Au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124000" y="2349360"/>
            <a:ext cx="1295640" cy="381240"/>
          </a:xfrm>
          <a:prstGeom prst="leftArrow">
            <a:avLst>
              <a:gd name="adj1" fmla="val 50000"/>
              <a:gd name="adj2" fmla="val 849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4 Pay benef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940360" y="1989000"/>
            <a:ext cx="24289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Real time automated payroll report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219640" y="4724280"/>
            <a:ext cx="403236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iversity of payroll syste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ost effectiveness for S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ole of government consist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rivacy and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anaging a large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96000" y="4292640"/>
            <a:ext cx="24289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But how to man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/CEF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ing Beyond Trade 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436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pply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t the technical layer by defining re-usable “profiles” for the application of web service standa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t the semantic layer by building models from the same library of re-usable core components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aximise Re-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Of integration components by providing a framework where all MYOB customers can leverage the same plug-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Of community data by providing a publish once, discover many times registry of businesses and their serv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Be prac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ost should be less then benefit for any business large or sm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on’t expect users to buy new equipment or learn new thin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468360" y="1989000"/>
            <a:ext cx="8459640" cy="2303640"/>
            <a:chOff x="468360" y="1989000"/>
            <a:chExt cx="8459640" cy="2303640"/>
          </a:xfrm>
        </p:grpSpPr>
        <p:grpSp>
          <p:nvGrpSpPr>
            <p:cNvPr id="142" name=""/>
            <p:cNvGrpSpPr/>
            <p:nvPr/>
          </p:nvGrpSpPr>
          <p:grpSpPr>
            <a:xfrm>
              <a:off x="6732720" y="2276280"/>
              <a:ext cx="2195280" cy="2016360"/>
              <a:chOff x="6732720" y="2276280"/>
              <a:chExt cx="2195280" cy="2016360"/>
            </a:xfrm>
          </p:grpSpPr>
          <p:pic>
            <p:nvPicPr>
              <p:cNvPr id="1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020000" y="3355920"/>
                <a:ext cx="51588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" name=""/>
              <p:cNvSpPr/>
              <p:nvPr/>
            </p:nvSpPr>
            <p:spPr>
              <a:xfrm>
                <a:off x="7740720" y="2997000"/>
                <a:ext cx="1187280" cy="1295640"/>
              </a:xfrm>
              <a:prstGeom prst="rect">
                <a:avLst/>
              </a:prstGeom>
              <a:noFill/>
              <a:ln w="12600">
                <a:solidFill>
                  <a:srgbClr val="7a1e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812000" y="3571920"/>
                <a:ext cx="1008000" cy="517320"/>
              </a:xfrm>
              <a:prstGeom prst="rect">
                <a:avLst/>
              </a:prstGeom>
              <a:ln w="9360">
                <a:solidFill>
                  <a:srgbClr val="ffcc66"/>
                </a:solidFill>
                <a:miter/>
              </a:ln>
            </p:spPr>
          </p:pic>
          <p:sp>
            <p:nvSpPr>
              <p:cNvPr id="146" name=""/>
              <p:cNvSpPr/>
              <p:nvPr/>
            </p:nvSpPr>
            <p:spPr>
              <a:xfrm>
                <a:off x="7167240" y="2276280"/>
                <a:ext cx="114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mploy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732720" y="2997000"/>
                <a:ext cx="1004760" cy="129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885080" y="3139920"/>
                <a:ext cx="952560" cy="297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9" name=""/>
            <p:cNvGrpSpPr/>
            <p:nvPr/>
          </p:nvGrpSpPr>
          <p:grpSpPr>
            <a:xfrm>
              <a:off x="468360" y="1989000"/>
              <a:ext cx="2158920" cy="2303640"/>
              <a:chOff x="468360" y="1989000"/>
              <a:chExt cx="2158920" cy="2303640"/>
            </a:xfrm>
          </p:grpSpPr>
          <p:sp>
            <p:nvSpPr>
              <p:cNvPr id="150" name=""/>
              <p:cNvSpPr/>
              <p:nvPr/>
            </p:nvSpPr>
            <p:spPr>
              <a:xfrm>
                <a:off x="1619280" y="2997000"/>
                <a:ext cx="1004760" cy="1295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619280" y="3500280"/>
                <a:ext cx="1008000" cy="23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" name=""/>
              <p:cNvSpPr/>
              <p:nvPr/>
            </p:nvSpPr>
            <p:spPr>
              <a:xfrm>
                <a:off x="468360" y="2997000"/>
                <a:ext cx="1185840" cy="1295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200" spc="-1" strike="noStrike">
                    <a:solidFill>
                      <a:srgbClr val="000000"/>
                    </a:solidFill>
                    <a:latin typeface="Arial"/>
                  </a:rPr>
                  <a:t>Backen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yste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39640" y="1989000"/>
                <a:ext cx="1079640" cy="655560"/>
              </a:xfrm>
              <a:prstGeom prst="rect">
                <a:avLst/>
              </a:prstGeom>
              <a:ln w="0">
                <a:noFill/>
              </a:ln>
            </p:spPr>
          </p:pic>
        </p:grpSp>
        <p:cxnSp>
          <p:nvCxnSpPr>
            <p:cNvPr id="154" name=""/>
            <p:cNvCxnSpPr>
              <a:endCxn id="147" idx="1"/>
            </p:cNvCxnSpPr>
            <p:nvPr/>
          </p:nvCxnSpPr>
          <p:spPr>
            <a:xfrm>
              <a:off x="2623680" y="3644640"/>
              <a:ext cx="4109400" cy="1080"/>
            </a:xfrm>
            <a:prstGeom prst="straightConnector1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</p:cxnSp>
      </p:grpSp>
      <p:sp>
        <p:nvSpPr>
          <p:cNvPr id="155" name=""/>
          <p:cNvSpPr/>
          <p:nvPr/>
        </p:nvSpPr>
        <p:spPr>
          <a:xfrm>
            <a:off x="711360" y="3284640"/>
            <a:ext cx="547560" cy="691920"/>
          </a:xfrm>
          <a:prstGeom prst="foldedCorner">
            <a:avLst>
              <a:gd name="adj" fmla="val 125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be0e3"/>
                </a:solidFill>
                <a:latin typeface="Arial"/>
              </a:rPr>
              <a:t>Payro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be0e3"/>
                </a:solidFill>
                <a:latin typeface="Arial"/>
              </a:rPr>
              <a:t>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261120" y="3284640"/>
            <a:ext cx="547560" cy="69192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101080" y="2852640"/>
            <a:ext cx="547560" cy="692280"/>
          </a:xfrm>
          <a:prstGeom prst="foldedCorner">
            <a:avLst>
              <a:gd name="adj" fmla="val 125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be0e3"/>
                </a:solidFill>
                <a:latin typeface="Arial"/>
              </a:rPr>
              <a:t>Payro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be0e3"/>
                </a:solidFill>
                <a:latin typeface="Arial"/>
              </a:rPr>
              <a:t>Rs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441520" y="3284640"/>
            <a:ext cx="547920" cy="69192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72960"/>
            <a:ext cx="82296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How has GovDex been used: Centrelin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484020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GovDex method of developing and deploying the integration to employers has reduced costs enough to make this implementation possi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1.11111E-006 L 0.11181 0.00208 E">
                                      <p:cBhvr>
                                        <p:cTn id="18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181 0.00209 L 0.62378 0.00209 E">
                                      <p:cBhvr>
                                        <p:cTn id="21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43299 2.96296E-006 E">
                                      <p:cBhvr>
                                        <p:cTn id="27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8000"/>
                            </p:stCondLst>
                            <p:childTnLst>
                              <p:par>
                                <p:cTn id="29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8500"/>
                            </p:stCondLst>
                            <p:childTnLst>
                              <p:par>
                                <p:cTn id="35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4739 0.00209 L 0.78125 -0.05046 E">
                                      <p:cBhvr>
                                        <p:cTn id="36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500"/>
                            </p:stCondLst>
                            <p:childTnLst>
                              <p:par>
                                <p:cTn id="3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" dur="2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250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4500"/>
                            </p:stCondLst>
                            <p:childTnLst>
                              <p:par>
                                <p:cTn id="5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7.40741E-007 L 0.00174 0.08611 E">
                                      <p:cBhvr>
                                        <p:cTn id="51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6500"/>
                            </p:stCondLst>
                            <p:childTnLst>
                              <p:par>
                                <p:cTn id="53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74 0.08611 L -0.1401 0.06505 E">
                                      <p:cBhvr>
                                        <p:cTn id="54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8500"/>
                            </p:stCondLst>
                            <p:childTnLst>
                              <p:par>
                                <p:cTn id="5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153 0.06505 L -0.6835 0.06505 E">
                                      <p:cBhvr>
                                        <p:cTn id="57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500"/>
                            </p:stCondLst>
                            <p:childTnLst>
                              <p:par>
                                <p:cTn id="6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44444E-006 L 0.44271 0.00185 E">
                                      <p:cBhvr>
                                        <p:cTn id="63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2500"/>
                            </p:stCondLst>
                            <p:childTnLst>
                              <p:par>
                                <p:cTn id="6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3000"/>
                            </p:stCondLst>
                            <p:childTnLst>
                              <p:par>
                                <p:cTn id="7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8351 0.06504 L -0.80278 0.06296 E">
                                      <p:cBhvr>
                                        <p:cTn id="72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0"/>
                            </p:stCondLst>
                            <p:childTnLst>
                              <p:par>
                                <p:cTn id="7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" dur="2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oncepts – “profiles and pattern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859280" y="3789360"/>
            <a:ext cx="3451320" cy="2556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755640" y="1989000"/>
            <a:ext cx="3271680" cy="23860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4652640"/>
            <a:ext cx="3348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efine how to use standar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romote interoperabil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Reduce deployment eff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Leverage common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435640" y="2637000"/>
            <a:ext cx="24289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Request – response transactio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vdex.gov.a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105520" y="5943600"/>
            <a:ext cx="76176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5320" y="3048120"/>
            <a:ext cx="761760" cy="2209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99080" y="3048120"/>
            <a:ext cx="761760" cy="2209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892840" y="3048120"/>
            <a:ext cx="762120" cy="2209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086600" y="3048120"/>
            <a:ext cx="762120" cy="2209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19520" y="3429000"/>
            <a:ext cx="53337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chnology standards, content standards, process stand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5257800"/>
            <a:ext cx="12193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29200" y="525780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5638320" y="525780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6057720" y="5257800"/>
            <a:ext cx="1485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5378400"/>
            <a:ext cx="220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litical and audit accountabil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4446720"/>
            <a:ext cx="216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vepipes / agen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0760" y="3532320"/>
            <a:ext cx="238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agency standa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1840" y="2465280"/>
            <a:ext cx="215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face to the 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19520" y="1981080"/>
            <a:ext cx="53337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048120" y="990720"/>
            <a:ext cx="4876200" cy="685800"/>
            <a:chOff x="3048120" y="990720"/>
            <a:chExt cx="4876200" cy="685800"/>
          </a:xfrm>
        </p:grpSpPr>
        <p:sp>
          <p:nvSpPr>
            <p:cNvPr id="67" name=""/>
            <p:cNvSpPr/>
            <p:nvPr/>
          </p:nvSpPr>
          <p:spPr>
            <a:xfrm>
              <a:off x="3048120" y="990720"/>
              <a:ext cx="761760" cy="685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162560" y="990720"/>
              <a:ext cx="761760" cy="685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790960" y="990720"/>
              <a:ext cx="761760" cy="685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419360" y="990720"/>
              <a:ext cx="761760" cy="685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228240" y="1017720"/>
            <a:ext cx="228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ople and busin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81080" y="5486400"/>
            <a:ext cx="1752840" cy="1066680"/>
          </a:xfrm>
          <a:prstGeom prst="upArrowCallout">
            <a:avLst>
              <a:gd name="adj1" fmla="val 41085"/>
              <a:gd name="adj2" fmla="val 41082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about one face to “PAA”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9588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54380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on View for OASIS eGov TC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6200000">
            <a:off x="7429320" y="4609800"/>
            <a:ext cx="1676520" cy="685800"/>
          </a:xfrm>
          <a:custGeom>
            <a:avLst/>
            <a:gdLst>
              <a:gd name="textAreaLeft" fmla="*/ 293400 w 1676520"/>
              <a:gd name="textAreaRight" fmla="*/ 1215720 w 167652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67480" y="5410080"/>
            <a:ext cx="11430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face to SW develop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229600" y="1981080"/>
            <a:ext cx="76212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cies, processes, press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2840" y="655308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berra, 6 December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424160" y="952560"/>
            <a:ext cx="6962760" cy="59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02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64960" y="115920"/>
            <a:ext cx="887904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02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93680" y="0"/>
            <a:ext cx="8950320" cy="692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50920" y="184320"/>
            <a:ext cx="8628120" cy="66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07:53:14Z</dcterms:created>
  <dc:creator>User1</dc:creator>
  <dc:description/>
  <dc:language>en-US</dc:language>
  <cp:lastModifiedBy>Mika Vepsalainen</cp:lastModifiedBy>
  <dcterms:modified xsi:type="dcterms:W3CDTF">2006-05-24T06:57:13Z</dcterms:modified>
  <cp:revision>3</cp:revision>
  <dc:subject/>
  <dc:title>Slide 1</dc:title>
</cp:coreProperties>
</file>