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BE68-3E80-45DC-8FB9-299F1897F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vepipes will continue to use their own systems; use standards at the boundaries for minimal disruption. Standards will start to establish more communication across e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BFB-29FD-43AA-9CD1-918F32EA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A62-7227-40BB-AA1E-C602B29B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44D-EA93-41E8-BF81-C8B534DA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F0D-5B75-4F77-B141-4E3435A5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E06-C1F9-4D75-BD0F-F526ABEB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DF7-84F4-40A5-8FC4-2C5BBD98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DC6-41FB-4749-A179-9F6A118A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D6D-55EF-4518-880E-A3436C18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3B9-5B16-408D-B346-6BCB8A2A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26B-E515-4900-9B79-D257EAB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ABA-C2DB-4605-AB1F-B7CD894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659-5EDB-4192-953E-AA7823C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5D91-A1C8-4BD1-B1A9-9937ABD05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8640" y="523800"/>
            <a:ext cx="885240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s Release:  SPECIAL MINISTER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ustralian Government is promoting the use of internation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lp deliver better services to Australian citiz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agencies must join up their IT systems in a reliable,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st effective way to support business” said the Mini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ustralian Government Information Management Office (AGIMO) is hel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ies by providing a platform called GovDex to provide resources to maxim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international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Dex includes standards developed under the auspices of the United Nation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we can benefit from the work of governments and businesses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ld” the Minister sa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vernment’s recently released E-Strateg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95176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41400"/>
            <a:ext cx="878544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entrelink (Social Security) Integration with Employ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sual workers receiving income support must estimate their in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ften they get it wrong and owe $ to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we can interface directly with employer payroll systems we can eliminate this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19640" y="2390760"/>
            <a:ext cx="33480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iminates manual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uces admin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iminates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mpler for citizen and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uced CentreLink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4005360"/>
            <a:ext cx="1143000" cy="736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133720"/>
            <a:ext cx="1143000" cy="772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2060640"/>
            <a:ext cx="1143000" cy="42480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4248000"/>
              <a:gd name="textAreaBottom" fmla="*/ 4192200 h 4248000"/>
            </a:gdLst>
            <a:ahLst/>
            <a:rect l="textAreaLeft" t="textAreaTop" r="textAreaRight" b="textAreaBottom"/>
            <a:pathLst>
              <a:path w="21600" h="80259">
                <a:moveTo>
                  <a:pt x="3600" y="0"/>
                </a:moveTo>
                <a:arcTo wR="3600" hR="3600" stAng="16200000" swAng="-5400000"/>
                <a:lnTo>
                  <a:pt x="0" y="76659"/>
                </a:lnTo>
                <a:arcTo wR="3600" hR="3600" stAng="10800000" swAng="-5400000"/>
                <a:lnTo>
                  <a:pt x="18000" y="80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entre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6520" y="2997360"/>
            <a:ext cx="457200" cy="888840"/>
          </a:xfrm>
          <a:prstGeom prst="upArrow">
            <a:avLst>
              <a:gd name="adj1" fmla="val 50000"/>
              <a:gd name="adj2" fmla="val 486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2 Pay sa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695160" y="3251160"/>
            <a:ext cx="888840" cy="380880"/>
          </a:xfrm>
          <a:prstGeom prst="rightArrow">
            <a:avLst>
              <a:gd name="adj1" fmla="val 50000"/>
              <a:gd name="adj2" fmla="val 583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1 Autho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566100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3 Report payro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1812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5445000"/>
            <a:ext cx="114300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ystem 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4797360"/>
            <a:ext cx="380880" cy="609840"/>
          </a:xfrm>
          <a:prstGeom prst="upDownArrow">
            <a:avLst>
              <a:gd name="adj1" fmla="val 50000"/>
              <a:gd name="adj2" fmla="val 318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2349360"/>
            <a:ext cx="1295640" cy="381240"/>
          </a:xfrm>
          <a:prstGeom prst="leftArrow">
            <a:avLst>
              <a:gd name="adj1" fmla="val 50000"/>
              <a:gd name="adj2" fmla="val 84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4 Pay bene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1989000"/>
            <a:ext cx="2428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al time automated payroll repor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4724280"/>
            <a:ext cx="4032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versity of payroll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st effectiveness for 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ole of government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ivacy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aging a larg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4292640"/>
            <a:ext cx="2428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ut how to man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/CE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Beyond Trade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436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l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t the technical layer by defining re-usable “profiles” for the application of web service stand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t the semantic layer by building models from the same library of re-usable core component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ximise Re-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 integration components by providing a framework where all MYOB customers can leverage the same plug-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 community data by providing a publish once, discover many times registry of businesses and their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st should be less then benefit for any business large or sm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expect users to buy new equipment or learn new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468360" y="1989000"/>
            <a:ext cx="8459640" cy="2303640"/>
            <a:chOff x="468360" y="1989000"/>
            <a:chExt cx="8459640" cy="2303640"/>
          </a:xfrm>
        </p:grpSpPr>
        <p:grpSp>
          <p:nvGrpSpPr>
            <p:cNvPr id="142" name=""/>
            <p:cNvGrpSpPr/>
            <p:nvPr/>
          </p:nvGrpSpPr>
          <p:grpSpPr>
            <a:xfrm>
              <a:off x="6732720" y="2276280"/>
              <a:ext cx="2195280" cy="2016360"/>
              <a:chOff x="6732720" y="2276280"/>
              <a:chExt cx="2195280" cy="201636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20000" y="3355920"/>
                <a:ext cx="5158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7740720" y="2997000"/>
                <a:ext cx="1187280" cy="1295640"/>
              </a:xfrm>
              <a:prstGeom prst="rect">
                <a:avLst/>
              </a:prstGeom>
              <a:noFill/>
              <a:ln w="12600">
                <a:solidFill>
                  <a:srgbClr val="7a1e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12000" y="3571920"/>
                <a:ext cx="1008000" cy="517320"/>
              </a:xfrm>
              <a:prstGeom prst="rect">
                <a:avLst/>
              </a:prstGeom>
              <a:ln w="9360">
                <a:solidFill>
                  <a:srgbClr val="ffcc66"/>
                </a:solidFill>
                <a:miter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7167240" y="227628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mploy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32720" y="2997000"/>
                <a:ext cx="1004760" cy="129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885080" y="3139920"/>
                <a:ext cx="952560" cy="2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"/>
            <p:cNvGrpSpPr/>
            <p:nvPr/>
          </p:nvGrpSpPr>
          <p:grpSpPr>
            <a:xfrm>
              <a:off x="468360" y="1989000"/>
              <a:ext cx="2158920" cy="2303640"/>
              <a:chOff x="468360" y="1989000"/>
              <a:chExt cx="2158920" cy="2303640"/>
            </a:xfrm>
          </p:grpSpPr>
          <p:sp>
            <p:nvSpPr>
              <p:cNvPr id="150" name=""/>
              <p:cNvSpPr/>
              <p:nvPr/>
            </p:nvSpPr>
            <p:spPr>
              <a:xfrm>
                <a:off x="1619280" y="2997000"/>
                <a:ext cx="1004760" cy="129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19280" y="3500280"/>
                <a:ext cx="100800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468360" y="2997000"/>
                <a:ext cx="1185840" cy="129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200" spc="-1" strike="noStrike">
                    <a:solidFill>
                      <a:srgbClr val="000000"/>
                    </a:solidFill>
                    <a:latin typeface="Arial"/>
                  </a:rPr>
                  <a:t>Backe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9640" y="1989000"/>
                <a:ext cx="1079640" cy="65556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154" name=""/>
            <p:cNvCxnSpPr>
              <a:endCxn id="147" idx="1"/>
            </p:cNvCxnSpPr>
            <p:nvPr/>
          </p:nvCxnSpPr>
          <p:spPr>
            <a:xfrm>
              <a:off x="2623680" y="3644640"/>
              <a:ext cx="4109400" cy="1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  <p:sp>
        <p:nvSpPr>
          <p:cNvPr id="155" name=""/>
          <p:cNvSpPr/>
          <p:nvPr/>
        </p:nvSpPr>
        <p:spPr>
          <a:xfrm>
            <a:off x="711360" y="3284640"/>
            <a:ext cx="547560" cy="691920"/>
          </a:xfrm>
          <a:prstGeom prst="foldedCorner">
            <a:avLst>
              <a:gd name="adj" fmla="val 125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Payro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61120" y="3284640"/>
            <a:ext cx="547560" cy="6919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01080" y="2852640"/>
            <a:ext cx="547560" cy="692280"/>
          </a:xfrm>
          <a:prstGeom prst="foldedCorner">
            <a:avLst>
              <a:gd name="adj" fmla="val 125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Payro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R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41520" y="3284640"/>
            <a:ext cx="547920" cy="6919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How has GovDex been used: Centrel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840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GovDex method of developing and deploying the integration to employers has reduced costs enough to make this implementation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11111E-006 L 0.11181 0.00208 E">
                                      <p:cBhvr>
                                        <p:cTn id="1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81 0.00209 L 0.62378 0.00209 E">
                                      <p:cBhvr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3299 2.96296E-006 E">
                                      <p:cBhvr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4739 0.00209 L 0.78125 -0.05046 E">
                                      <p:cBhvr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0.00174 0.08611 E">
                                      <p:cBhvr>
                                        <p:cTn id="5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8611 L -0.1401 0.06505 E">
                                      <p:cBhvr>
                                        <p:cTn id="5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53 0.06505 L -0.6835 0.06505 E">
                                      <p:cBhvr>
                                        <p:cTn id="5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0.44271 0.00185 E">
                                      <p:cBhvr>
                                        <p:cTn id="6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351 0.06504 L -0.80278 0.06296 E">
                                      <p:cBhvr>
                                        <p:cTn id="7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0"/>
                            </p:stCondLst>
                            <p:childTnLst>
                              <p:par>
                                <p:cTn id="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cepts – “profiles and patter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451320" cy="2556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271680" cy="2386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4652640"/>
            <a:ext cx="334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ine how to use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mote interoper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duce deploymen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everage comm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5640" y="2637000"/>
            <a:ext cx="2428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quest – response transacti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dex.gov.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105520" y="5943600"/>
            <a:ext cx="7617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8120"/>
            <a:ext cx="7617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9080" y="3048120"/>
            <a:ext cx="7617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92840" y="3048120"/>
            <a:ext cx="7621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3048120"/>
            <a:ext cx="7621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3429000"/>
            <a:ext cx="53337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ology standards, content standards, process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52578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638320" y="52578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057720" y="5257800"/>
            <a:ext cx="1485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3784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cal and audit account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44672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vepipes /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0760" y="353232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agency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2465280"/>
            <a:ext cx="21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face to the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1981080"/>
            <a:ext cx="53337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8120" y="990720"/>
            <a:ext cx="4876200" cy="685800"/>
            <a:chOff x="3048120" y="990720"/>
            <a:chExt cx="4876200" cy="685800"/>
          </a:xfrm>
        </p:grpSpPr>
        <p:sp>
          <p:nvSpPr>
            <p:cNvPr id="67" name=""/>
            <p:cNvSpPr/>
            <p:nvPr/>
          </p:nvSpPr>
          <p:spPr>
            <a:xfrm>
              <a:off x="3048120" y="990720"/>
              <a:ext cx="76176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560" y="990720"/>
              <a:ext cx="76176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0960" y="990720"/>
              <a:ext cx="76176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19360" y="990720"/>
              <a:ext cx="76176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28240" y="1017720"/>
            <a:ext cx="22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 and busi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486400"/>
            <a:ext cx="1752840" cy="1066680"/>
          </a:xfrm>
          <a:prstGeom prst="upArrowCallout">
            <a:avLst>
              <a:gd name="adj1" fmla="val 41085"/>
              <a:gd name="adj2" fmla="val 41082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bout one face to “PAA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View for OASIS eGov T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7429320" y="4609800"/>
            <a:ext cx="1676520" cy="68580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541008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ace to SW develop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29600" y="1981080"/>
            <a:ext cx="76212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ies, processes, pres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2840" y="655308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berra, 6 Decembe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24160" y="952560"/>
            <a:ext cx="696276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4960" y="115920"/>
            <a:ext cx="88790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3680" y="0"/>
            <a:ext cx="895032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84320"/>
            <a:ext cx="862812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7:53:14Z</dcterms:created>
  <dc:creator>User1</dc:creator>
  <dc:description/>
  <dc:language>en-US</dc:language>
  <cp:lastModifiedBy>Mika Vepsalainen</cp:lastModifiedBy>
  <dcterms:modified xsi:type="dcterms:W3CDTF">2006-05-24T06:57:13Z</dcterms:modified>
  <cp:revision>3</cp:revision>
  <dc:subject/>
  <dc:title>Slide 1</dc:title>
</cp:coreProperties>
</file>