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Bureau 2006-05-17 mep Slide </a:t>
            </a:r>
            <a:fld id="{5EA4CF85-616F-4CCE-A9C0-4FA9002034FE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74800" y="39117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6000" y="599904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der the auspices of 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9720" y="2173320"/>
            <a:ext cx="8265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keholder Perspective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56200" y="571680"/>
            <a:ext cx="1733040" cy="1294920"/>
            <a:chOff x="4156200" y="57168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353840" y="57168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562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9324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754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92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472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436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9056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7904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700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624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4732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360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012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204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584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660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544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5284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572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912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12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14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52840" y="170928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59680" y="61272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844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162680" y="629640"/>
              <a:ext cx="1714320" cy="1093320"/>
              <a:chOff x="416268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16268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30440" y="144972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8152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2960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3044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4796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4520" y="72864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4680" y="82404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1876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23332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2312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3120" y="118296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624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y Objectiv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ied in the Stakeholder 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45760" y="240840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fluence the development of administrative &amp; regulatory components of international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opportunities for improving national  competitiven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the international standards &amp; best practices that meet these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y Objectiv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ied in the Stakeholder 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6440" y="222732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dify these international standards to also meet national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plement them in an affordable way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 which international organisation to address when they need information about, or assistance with, the abov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66440" y="2165040"/>
            <a:ext cx="91393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reate information links between different national government agencies as well as between public and private 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rge multiple existing national standards around a standard that is both SME &amp; big organization “friendly”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rve existing and future investments in data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dvance the work on e-invoic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2" name=""/>
          <p:cNvSpPr/>
          <p:nvPr/>
        </p:nvSpPr>
        <p:spPr>
          <a:xfrm>
            <a:off x="984240" y="146196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Interoperable, intersectoral standards</a:t>
            </a: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, that hel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6440" y="2363760"/>
            <a:ext cx="913932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overnment policy make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overnmen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cies that use the standar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usinesses that use the standar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usinesses that sell services based on the standar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termediary organizations such as AIAG, GS1, SWIFT, other trade and industry associ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5" name=""/>
          <p:cNvSpPr/>
          <p:nvPr/>
        </p:nvSpPr>
        <p:spPr>
          <a:xfrm>
            <a:off x="1011240" y="1363680"/>
            <a:ext cx="7711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lated solutions and tool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at meet the needs of stakehol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66440" y="2251080"/>
            <a:ext cx="913932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ransparent, understandable processes that generate standards in a timely wa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Well-defined relationships with other standards development organizations (SDOs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rocedures for receiving external inpu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ross sectoral coordination and harmoniz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"/>
          <p:cNvSpPr/>
          <p:nvPr/>
        </p:nvSpPr>
        <p:spPr>
          <a:xfrm>
            <a:off x="1011240" y="1504800"/>
            <a:ext cx="771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 organiz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at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6440" y="2181240"/>
            <a:ext cx="913932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plementation guidelines &amp; mode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ublication of best practice &amp; especially best practice in governmen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tter access to CEFACT products (improved organization of current web access, development of repository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king into account multiple implementation languag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1" name=""/>
          <p:cNvSpPr/>
          <p:nvPr/>
        </p:nvSpPr>
        <p:spPr>
          <a:xfrm>
            <a:off x="1011240" y="1504800"/>
            <a:ext cx="771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mplementation assistanc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6440" y="2181240"/>
            <a:ext cx="91393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ordinated approach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se studie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ormation about existing implement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s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/benefit and added value indicato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operation with other UN Regional Commiss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4" name=""/>
          <p:cNvSpPr/>
          <p:nvPr/>
        </p:nvSpPr>
        <p:spPr>
          <a:xfrm>
            <a:off x="1011240" y="1504800"/>
            <a:ext cx="771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motion and awarenes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support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66440" y="2633400"/>
            <a:ext cx="913932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ld Trade Organization (WTO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ld Summit on the Information Society (WSIS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ther international organiz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National administration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7" name=""/>
          <p:cNvSpPr/>
          <p:nvPr/>
        </p:nvSpPr>
        <p:spPr>
          <a:xfrm>
            <a:off x="1011240" y="1504800"/>
            <a:ext cx="7711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put to polic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k on trade facilitation and electronic busines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4T08:10:14Z</dcterms:modified>
  <cp:revision>254</cp:revision>
  <dc:subject/>
  <dc:title>UN/CEAFACT Bureau report to 8th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4267365</vt:r8>
  </property>
  <property fmtid="{D5CDD505-2E9C-101B-9397-08002B2CF9AE}" pid="3" name="_AuthorEmail">
    <vt:lpwstr>christian.fruehwald@siemens.com</vt:lpwstr>
  </property>
  <property fmtid="{D5CDD505-2E9C-101B-9397-08002B2CF9AE}" pid="4" name="_AuthorEmailDisplayName">
    <vt:lpwstr>Fruehwald Christian</vt:lpwstr>
  </property>
  <property fmtid="{D5CDD505-2E9C-101B-9397-08002B2CF9AE}" pid="5" name="_EmailSubject">
    <vt:lpwstr>UN/CEFACT - Structure </vt:lpwstr>
  </property>
  <property fmtid="{D5CDD505-2E9C-101B-9397-08002B2CF9AE}" pid="6" name="_ReviewingToolsShownOnce">
    <vt:lpwstr/>
  </property>
</Properties>
</file>