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Bureau 2006-05-17 mep Slide </a:t>
            </a:r>
            <a:fld id="{A36EFDEB-00CB-4971-810F-0BBDD82110AB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0960" y="3529080"/>
            <a:ext cx="849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me topics for an exchange of vi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ike Doran &amp; Virginia Cram-Ma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6000" y="599904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9720" y="2173320"/>
            <a:ext cx="8265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keholder Perspective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56200" y="571680"/>
            <a:ext cx="1733040" cy="1294920"/>
            <a:chOff x="4156200" y="57168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353840" y="57168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562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9324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7540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92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472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436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9056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7904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700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624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4732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360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012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204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584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660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544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5284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572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912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12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148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52840" y="170928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59680" y="61272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844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162680" y="629640"/>
              <a:ext cx="1714320" cy="1093320"/>
              <a:chOff x="416268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16268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30440" y="144972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8152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2960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3044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4796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4520" y="72864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4680" y="82404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1876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23332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2312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3120" y="118296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6240" y="75996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9240" y="20628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mmary of Topics for an Exchange of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07560" y="1220760"/>
            <a:ext cx="84711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How can UN/CEFACT best contribute to the efficiency of national administrations, by bringing together common requirements and different standards efforts concerned with electronic business and trade facilitation?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-53352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hould UN/CEFACT assist countries with the development and implementation of regulations that encourage technological innovation and support market demand?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hat can be done to reduce duplication of effort by government agencies in their support of UN/CEFACT and other international organisations and standards development organisations concerning e-business and trade facilitation?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an countries that are users of UN/CEFACT’ products and services, champion these achievements with other countries in support of its global remit?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533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/CEFACT’S Objectives 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Programme related t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mber States’ interests (1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09160" y="2562120"/>
            <a:ext cx="847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andards &amp; procedures for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dentified best practi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mplementation “packages” e.g. UNeDoc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/CEFACT’S Objectives 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Programme related t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mber States’ interests (2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09800" y="2550960"/>
            <a:ext cx="84708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ssistance in implementation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ssistance in promoting good practi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pecific too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verview of what all international organisations are doing in trade facilit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 of 2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 want UN/CEFACT’s outpu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order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45760" y="240840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fluence the development of administrative &amp; regulatory components of international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opportunities for more competitive processes that facilitate international 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 the international standards &amp; best practices that meet these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 of 2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ntries want UN/CEFACT’s outpu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order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6440" y="2227320"/>
            <a:ext cx="91393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odify these standards to also meet national require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mplement them in an affordable way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Know which international organisation to address when they need information about, or assistance with, the abov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55160" y="2114640"/>
            <a:ext cx="847116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) How can UN/CEFACT best contribute to the efficiency of national administrations, by bringing together common requirements and different standards efforts concerned with electronic business and trade facilitation?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58680" y="747720"/>
            <a:ext cx="8420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6320" y="2112840"/>
            <a:ext cx="84708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hould UN/CEFACT assist countries with the development and implementation of regulations that encourage technological innovation and support market demand?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54000" y="422280"/>
            <a:ext cx="842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7400" y="2187720"/>
            <a:ext cx="84711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hat can be done to reduce duplication of effort by government agencies in their support of UN/CEFACT and other international organisations and standards development organisations concerning e-business and trade facilitation?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518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Topics for an Exchange of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71720" y="1992240"/>
            <a:ext cx="84708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hat can be done to reduce duplication of effort by government agencies in their support of UN/CEFACT and other international organisations and standards development organisations concerning e-business and trade facilitation?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Mika Vepsalainen</cp:lastModifiedBy>
  <cp:lastPrinted>2001-03-15T16:33:27Z</cp:lastPrinted>
  <dcterms:modified xsi:type="dcterms:W3CDTF">2006-05-24T07:08:41Z</dcterms:modified>
  <cp:revision>247</cp:revision>
  <dc:subject/>
  <dc:title>UN/CEAFACT Bureau report to 8th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4267365</vt:r8>
  </property>
  <property fmtid="{D5CDD505-2E9C-101B-9397-08002B2CF9AE}" pid="3" name="_AuthorEmail">
    <vt:lpwstr>christian.fruehwald@siemens.com</vt:lpwstr>
  </property>
  <property fmtid="{D5CDD505-2E9C-101B-9397-08002B2CF9AE}" pid="4" name="_AuthorEmailDisplayName">
    <vt:lpwstr>Fruehwald Christian</vt:lpwstr>
  </property>
  <property fmtid="{D5CDD505-2E9C-101B-9397-08002B2CF9AE}" pid="5" name="_EmailSubject">
    <vt:lpwstr>UN/CEFACT - Structure </vt:lpwstr>
  </property>
  <property fmtid="{D5CDD505-2E9C-101B-9397-08002B2CF9AE}" pid="6" name="_ReviewingToolsShownOnce">
    <vt:lpwstr/>
  </property>
</Properties>
</file>