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F66E3E75-91FF-4A4E-A051-E350BB46E8D6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09560" y="3146400"/>
            <a:ext cx="915516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FuturaBookTBWA"/>
              </a:rPr>
              <a:t>Challenges for the 12th 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FuturaBookTBWA"/>
              </a:rPr>
              <a:t>Stuart Fed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FuturaBookTBWA"/>
              </a:rPr>
              <a:t>Plenary C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FuturaBookTBWA"/>
              </a:rPr>
              <a:t>22 Ma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34040" y="605952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1464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259160" y="571680"/>
            <a:ext cx="1733400" cy="1294920"/>
            <a:chOff x="4259160" y="571680"/>
            <a:chExt cx="1733400" cy="1294920"/>
          </a:xfrm>
        </p:grpSpPr>
        <p:sp>
          <p:nvSpPr>
            <p:cNvPr id="125" name=""/>
            <p:cNvSpPr/>
            <p:nvPr/>
          </p:nvSpPr>
          <p:spPr>
            <a:xfrm>
              <a:off x="4456800" y="571680"/>
              <a:ext cx="19836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916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96200" y="57168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7872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2240" y="144828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88040" y="71856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77680" y="93852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93880" y="136332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82360" y="74952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60320" y="84744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99200" y="76428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0280" y="113904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06560" y="100476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23080" y="111672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85360" y="117684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9160" y="95076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19920" y="139212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18400" y="101700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56160" y="111060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68680" y="111060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12080" y="129708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1424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3480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6160" y="1709280"/>
              <a:ext cx="113472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2640" y="612720"/>
              <a:ext cx="111168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01400" y="91368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265640" y="629640"/>
              <a:ext cx="1714320" cy="1093320"/>
              <a:chOff x="4265640" y="62964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265640" y="95256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33400" y="1449720"/>
                <a:ext cx="40284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84480" y="95256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32920" y="130032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33400" y="64152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50920" y="65016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77840" y="728640"/>
                <a:ext cx="88812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88000" y="824040"/>
                <a:ext cx="66528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121720" y="62964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336280" y="131760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2608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26080" y="1182960"/>
              <a:ext cx="31788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0956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308240" y="1676160"/>
            <a:ext cx="847080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hanging International Environmen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UN/CEFACT Prioriti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Plenary Challeng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takeholder Perspectiv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Changing International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23960" y="1676160"/>
            <a:ext cx="937872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rade Policy Negotiations and Trade Facilitation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Digital Divide and Global Infrastructur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End-to-End Interoperability with International  Standard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ommon Semantics for Business and Trad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 algn="ctr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(electronic data interchange for administration, commerce and transport)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58680" y="27288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UN/CEFACT Prior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39720" y="952560"/>
            <a:ext cx="88660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Response to UNECE Reform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Secretariat, Bureau, Forum Management Group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Outreach to members of the Trade Committee, Executive Committee, Geneva Missions and UN/CEFACT HOD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mproved Communication (e.g. Quarterly Reports, website)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Resolved Intellectual Property Rights Polic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Stronger Cooperation with SDO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Successful Forums in Lyon and Vancouver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2680" y="36504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Example: Cooperation with OASIS</a:t>
            </a:r>
            <a:endParaRPr b="0" lang="en-US" sz="36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7880" y="1131840"/>
            <a:ext cx="89582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oordinated Delivery of eBusiness Standard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653760" indent="-2512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Cooperation Agreement (June 2005)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01680" indent="-30168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2006 Coordination and Project Alignmen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653760" indent="-2512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OASIS/UBL and UN/CEFACT collaboration plan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work together to build a common set of eBusiness document standard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work with all relevant Forum Group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ommon core components and business processe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recognition of UBL v.2 as appropriate first-generation XML documents for eBusines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Business Process Specification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ollaborative effort on BPSS v.3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58680" y="487440"/>
            <a:ext cx="842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Plenary Challe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09560" y="1143000"/>
            <a:ext cx="847080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Inter-Governmental Business Mod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public-private partnership, global remi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UNECE secretariat and volunteers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UN budget and extra-budgetary resourc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Validation of Prioriti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via experimental format for plenar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compiling stakeholder perspectiv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follow up via intersessional proces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recommendations to UNEC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takeholder Persp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9240" y="1217520"/>
            <a:ext cx="84708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20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ountries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within and across countri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national, regional and global prioriti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236520" indent="-236520">
              <a:spcBef>
                <a:spcPts val="20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tor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within and across sector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key building blocks and focused next step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236520" indent="-236520">
              <a:spcBef>
                <a:spcPts val="20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tandards Development Organisation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building on centres of competenc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communication and coordination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180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207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Plenary Chair </dc:creator>
  <dc:description/>
  <dc:language>en-US</dc:language>
  <cp:lastModifiedBy>Mika Vepsalainen</cp:lastModifiedBy>
  <cp:lastPrinted>2001-03-15T16:33:27Z</cp:lastPrinted>
  <dcterms:modified xsi:type="dcterms:W3CDTF">2006-05-22T07:29:04Z</dcterms:modified>
  <cp:revision>258</cp:revision>
  <dc:subject/>
  <dc:title>Challenges for the 12th Plenary</dc:title>
</cp:coreProperties>
</file>