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F3E6E9FB-EF0E-4A18-A298-093C6A411557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9560" y="3146400"/>
            <a:ext cx="91551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Challenges for the 12th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FuturaBookTBWA"/>
              </a:rPr>
              <a:t>Stuart Fe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Plenary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2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hanging International Enviro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/CEFACT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Challeng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keholder Perspec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hanging International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23960" y="1676160"/>
            <a:ext cx="93787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rade Policy Negotiations and Trade Facilita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igital Divide and Global Infrastructur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d-to-End Interoperability with International  Standard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mmon Semantics for Business and Trad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(electronic data interchange for administration, commerce and transport)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27288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UN/CEFACT Pri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39720" y="952560"/>
            <a:ext cx="8866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sponse to UNECE Reform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retariat, Bureau, Forum Management Group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utreach to members of the Trade Committee, Executive Committee, Geneva Missions and UN/CEFACT HO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mproved Communication (e.g. Quarterly Reports, website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solved Intellectual Property Rights Poli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tronger Cooperation with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uccessful Forums in Lyon and Vancouver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2680" y="36504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xample: Cooperation with OASI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7880" y="1131840"/>
            <a:ext cx="89582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ordinated Delivery of eBusiness Standard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-2512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operation Agreement (June 2005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01680" indent="-30168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2006 Coordination and Project Alig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-2512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ASIS/UBL and UN/CEFACT collaboration pla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 together to build a common set of eBusiness document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 with all relevant Forum Group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ommon core components and business process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recognition of UBL v.2 as appropriate first-generation XML documents for eBusines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usiness Process Specific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ollaborative effort on BPSS v.3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8680" y="487440"/>
            <a:ext cx="842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lenary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09560" y="1143000"/>
            <a:ext cx="8470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ter-Governmental Business Mod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ublic-private partnership, global remi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ECE secretariat and volunteer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 budget and extra-budgetary resourc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Validation of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via experimental format for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piling stakeholder perspectiv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llow up via intersessional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commendations to UNE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9240" y="1217520"/>
            <a:ext cx="84708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untrie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countr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national, regional and global 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key building blocks and focused next step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ndards Development Organis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uilding on centres of competen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munication and coordin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0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7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Mika Vepsalainen</cp:lastModifiedBy>
  <cp:lastPrinted>2001-03-15T16:33:27Z</cp:lastPrinted>
  <dcterms:modified xsi:type="dcterms:W3CDTF">2006-05-22T07:29:04Z</dcterms:modified>
  <cp:revision>258</cp:revision>
  <dc:subject/>
  <dc:title>Challenges for the 12th Plenary</dc:title>
</cp:coreProperties>
</file>