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ACF9FD67-FD58-4AA3-B148-112498E6696B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8680" y="2841480"/>
            <a:ext cx="915516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Intellectual Property Rights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FuturaBookTBWA"/>
              </a:rPr>
              <a:t>Mark Palmer – Vice Chai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BookTBWA"/>
              </a:rPr>
              <a:t>24 Ma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237920" y="55260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02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7320" y="55260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4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3000" y="142920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8800" y="69948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58440" y="91944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4640" y="134424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3120" y="73044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82836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74520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1400" y="111996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7680" y="98568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4200" y="109764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6120" y="115776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9920" y="93168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0680" y="137304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99520" y="99792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6920" y="109152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9800" y="109152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3200" y="127800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53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55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6920" y="169020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760" y="59364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2520" y="89460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046760" y="93348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4520" y="143064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5600" y="93348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3680" y="128124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4520" y="62244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32040" y="63108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8600" y="70956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68760" y="80496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2840" y="61056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117400" y="129852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720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7200" y="116388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032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78640" y="438120"/>
            <a:ext cx="33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uturaBookTBWA"/>
              </a:rPr>
              <a:t>DRAFT / Version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Completing this Ta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09200" y="1477440"/>
            <a:ext cx="870444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lenary approva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principles in IPR policy approved at 1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FuturaBookTBW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Plenar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only minor edits to policy reviewed at 1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FuturaBookTBW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Plenar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Apply the policy to UN/CEFACT opera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procedures for all Forum Group participants to sign waiver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form all participants and individual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clude in relevant document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187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14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11360" y="6159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88880" y="1330200"/>
            <a:ext cx="918216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lenary established IPR Special Contact Group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reviewed other SDOs IPR polici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established fundamental principl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editing team circulated drafts for commen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1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FuturaBookTBW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 Plenary approved IPR principl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reviewed and commented on draft IPR polic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Draft policy sent to UN Office of Legal Affairs (UN OLA)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11360" y="6159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Recent Pro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07520" y="1309680"/>
            <a:ext cx="833436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PR policy APPROVED by UN OLA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May 2006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addition of disclaimer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PR SCG updated the IPR document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Bureau distributed IPR Policy and Executive Summary to HoD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11360" y="6159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 of IPR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86960" y="1504800"/>
            <a:ext cx="87123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Goal: Promote UN/CEFACT standards without burden of fees or restric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ve key principl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BookTBWA"/>
              </a:rPr>
              <a:t>Waiver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BookTBWA"/>
              </a:rPr>
              <a:t>Disclosur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BookTBWA"/>
              </a:rPr>
              <a:t>Exception Handling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BookTBWA"/>
              </a:rPr>
              <a:t>Warrant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BookTBWA"/>
              </a:rPr>
              <a:t>Disclaimer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300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Waiver Obl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34760" y="1434960"/>
            <a:ext cx="89024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All participants in a Forum Group waive their rights to enforce intellectual property (IP) necessary to use specifications from that Forum Group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e waiver is limited – applies only to implementations of the specification; all other rights are reserved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Waiver required as a condition to participate in a Forum Group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300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Disclosure Obl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34760" y="1434960"/>
            <a:ext cx="89024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Waiver may be avoided only if the participant discloses the relevant IP at designated steps in the development process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Disclosure is made by participant’s individual representative based on his/her knowledge.  No duty to conduct extensive IPR search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Enforcement of IP is waived if not disclosed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300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Exception Hand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14240" y="1728720"/>
            <a:ext cx="89028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Applies when a participant discloses IP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ntellectual Property Advisory Group (IPAG) is formed to consider the IP at issue and to select one of the recommendations outlined in the IPR Policy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300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Warran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34760" y="1434960"/>
            <a:ext cx="89024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Every participant warrants that to the best of its representative’s knowledge no third party contends that the participant’s contributions to a specification infringe that third party’s IP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ere are no other warranties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ere are no indemnities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38360" y="4539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Completing the UN/CEFACT Ado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19120" y="1300320"/>
            <a:ext cx="88948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lenary approva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principles in IPR policy approved at 1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FuturaBookTBW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Plenar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only minor edits to policy reviewed at 1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FuturaBookTBW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Plenar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Apply the policy to UN/CEFACT opera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procedures for all Forum Group participants to sign waiver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form all participants and individual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clude in relevant document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nd for information to the Com. on Trade and Executive Com.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ONU</cp:lastModifiedBy>
  <cp:lastPrinted>2001-03-15T16:33:27Z</cp:lastPrinted>
  <dcterms:modified xsi:type="dcterms:W3CDTF">2006-05-24T08:09:09Z</dcterms:modified>
  <cp:revision>277</cp:revision>
  <dc:subject/>
  <dc:title>UN/CEAFACT Bureau report to 8th Forum</dc:title>
</cp:coreProperties>
</file>