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A2717E92-BB66-4049-ABF2-C359C7C91D54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8680" y="2841480"/>
            <a:ext cx="915516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FuturaBookTBWA"/>
              </a:rPr>
              <a:t>Stakeholders Perspectiv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FuturaBookTBWA"/>
              </a:rPr>
              <a:t>Standards Development Organiz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FuturaBookTBWA"/>
              </a:rPr>
              <a:t>Mark Palmer, Vice-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FuturaBookTBWA"/>
              </a:rPr>
              <a:t>Francois </a:t>
            </a:r>
            <a:r>
              <a:rPr b="0" lang="en-US" sz="2400" spc="-1" strike="noStrike">
                <a:solidFill>
                  <a:srgbClr val="ffff00"/>
                </a:solidFill>
                <a:latin typeface="FuturaBookTBWA"/>
              </a:rPr>
              <a:t>Vuilleumier, Standards 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FuturaBookTBWA"/>
              </a:rPr>
              <a:t>23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237920" y="55260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320" y="55260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4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3000" y="142920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8800" y="69948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8440" y="91944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4640" y="134424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3120" y="73044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82836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74520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1400" y="111996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7680" y="98568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4200" y="109764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6120" y="115776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9920" y="93168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0680" y="137304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99520" y="99792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6920" y="109152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9800" y="109152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3200" y="127800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53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55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6920" y="169020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760" y="59364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520" y="89460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046760" y="93348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520" y="143064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5600" y="93348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3680" y="128124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4520" y="62244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32040" y="63108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70956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68760" y="80496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2840" y="61056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117400" y="129852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720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7200" y="116388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032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11360" y="6159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08240" y="1676160"/>
            <a:ext cx="847080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urpos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halleng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ools for Succes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Discussion Topic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Purpose of this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5600" y="1177920"/>
            <a:ext cx="88837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Understand current and envisioned SDOs collaboration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876"/>
              </a:spcBef>
              <a:spcAft>
                <a:spcPts val="524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clusive: de jure, consortia, de facto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nsights on evolving SDO environmen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876"/>
              </a:spcBef>
              <a:spcAft>
                <a:spcPts val="524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deliver unique value and build synerg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Recommendations for UN/CEFACT strategy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mmitment to broader communications and collaboration among SDO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30080" y="615960"/>
            <a:ext cx="8420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Challenges to Delivering Coherent Set of eBusi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92296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Acceleration of technologies and expecta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Methods and tools still evolving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nflicting incentiv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Overlapping initiativ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nsufficient commitments to convergenc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Reference implementations and profiles missing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nteroperability testing largely unavailabl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369720"/>
            <a:ext cx="88012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UN/CEFACT’s Collaboration with S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03080" y="1208160"/>
            <a:ext cx="92026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ntinuing to broaden its strategy for active coordination with other SDO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Outreach to relevant initiatives and assess collaboration prioriti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Updated the Open Development Process for greater participation from external interest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Growing recognition of the value of UN/CEFACT’s common semantic framework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ultivating input, alignment and us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4240" y="460080"/>
            <a:ext cx="8420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Principles and Tools for Success</a:t>
            </a:r>
            <a:endParaRPr b="0" lang="en-US" sz="36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8320" y="1184400"/>
            <a:ext cx="936468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nderstand other SDO’s programs and coordinate work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MoU MG on eBusiness Standard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Broaden input in documenting needs, defining projects and analysis of intersecting “information supply chains”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ross-sectoral convergence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ommon eBusiness framework for documenting: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needed capabiliti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applicable standards and initiativ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gaps and convergence opportuniti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plan for optimum use of competenci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Feedback from deployment and us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4200" y="48888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eBusiness Capabilities Fra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42680" y="1980720"/>
            <a:ext cx="8420040" cy="4343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15960" y="1609560"/>
            <a:ext cx="8648640" cy="5183280"/>
          </a:xfrm>
          <a:prstGeom prst="rect">
            <a:avLst/>
          </a:prstGeom>
          <a:solidFill>
            <a:srgbClr val="ffff99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65320" y="1300320"/>
            <a:ext cx="5788080" cy="2941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00320" y="1538280"/>
            <a:ext cx="7796160" cy="355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35160" y="2062080"/>
            <a:ext cx="1836720" cy="13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59440" y="2062080"/>
            <a:ext cx="2656080" cy="13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 content/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assification sche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onent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nterprise data and meta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ferenc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13200" y="3462480"/>
            <a:ext cx="282888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ss defini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1680" y="3462480"/>
            <a:ext cx="27590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 defini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98800" y="4378320"/>
            <a:ext cx="5694480" cy="27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entation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98800" y="5224320"/>
            <a:ext cx="5692680" cy="26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98800" y="5678640"/>
            <a:ext cx="5692680" cy="2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39080" y="2028960"/>
            <a:ext cx="339840" cy="39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ormance and interoperability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09640" y="1940040"/>
            <a:ext cx="338400" cy="399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1955880"/>
            <a:ext cx="339480" cy="399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ctual and regul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85880" y="1955880"/>
            <a:ext cx="339840" cy="399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53640" y="60055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00320" y="1955880"/>
            <a:ext cx="338040" cy="397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stry/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0120" y="124452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s - Terminolo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4080" y="1539720"/>
            <a:ext cx="339840" cy="44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2560" y="6005520"/>
            <a:ext cx="4560840" cy="29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40280" y="2062080"/>
            <a:ext cx="952560" cy="13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08160" y="3882960"/>
            <a:ext cx="4719960" cy="29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 defini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1880" y="1893960"/>
            <a:ext cx="679680" cy="181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5400" y="1876320"/>
            <a:ext cx="680760" cy="182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14840" y="1876320"/>
            <a:ext cx="681120" cy="182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70560" y="4241880"/>
            <a:ext cx="681120" cy="136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70560" y="5487840"/>
            <a:ext cx="681120" cy="181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90640" y="2406600"/>
            <a:ext cx="2074680" cy="27399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62040" y="1876320"/>
            <a:ext cx="679680" cy="182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4320" y="1876320"/>
            <a:ext cx="679680" cy="182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04800" y="1876320"/>
            <a:ext cx="679680" cy="182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876240" y="1650600"/>
            <a:ext cx="631800" cy="196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57560" y="6551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 5b – 2006-05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98800" y="4803840"/>
            <a:ext cx="5694480" cy="27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70560" y="4664160"/>
            <a:ext cx="681120" cy="137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77040" y="5081760"/>
            <a:ext cx="679320" cy="137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25400" y="4237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Potential Topics for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2520" y="1064880"/>
            <a:ext cx="86486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How should UN/CEFACT improve coordination and strategic planning with other SDOs?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How should UN/CEFACT best contribute to the delivery of cohesive eBusiness standards?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How should UN/CEFACT use and contribute to the eBusiness capabilities framework?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Is there need for Guidance on how UN/CEFACT standards fit with other standards to enable eBusiness?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How should UN/CEFACT support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FuturaBookTBWA"/>
              </a:rPr>
              <a:t>full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“life cycle” of needed eBusiness standards?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document common needs / outcomes, assess available solutions, determine best delivery, develop specification, validation, support implementation and deployment, maintenance, feedback from     use, revisions…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217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44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User</cp:lastModifiedBy>
  <cp:lastPrinted>2001-03-15T16:33:27Z</cp:lastPrinted>
  <dcterms:modified xsi:type="dcterms:W3CDTF">2006-05-23T08:33:29Z</dcterms:modified>
  <cp:revision>290</cp:revision>
  <dc:subject/>
  <dc:title>SDOs Stakeholders presentation to 12th Plenary</dc:title>
</cp:coreProperties>
</file>