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596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"/>
            <p:cNvSpPr/>
            <p:nvPr/>
          </p:nvSpPr>
          <p:spPr>
            <a:xfrm>
              <a:off x="8367840" y="5638680"/>
              <a:ext cx="113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5516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019080" y="5638680"/>
              <a:ext cx="11268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2312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3600" y="6103080"/>
              <a:ext cx="23148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42680" y="5716440"/>
              <a:ext cx="262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94160" y="5832720"/>
              <a:ext cx="4068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03160" y="6057720"/>
              <a:ext cx="223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6680" y="5733000"/>
              <a:ext cx="1548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6840" y="5784480"/>
              <a:ext cx="3960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49520" y="5740560"/>
              <a:ext cx="14220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92840" y="5939280"/>
              <a:ext cx="900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53520" y="5868000"/>
              <a:ext cx="28656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1480" y="5927040"/>
              <a:ext cx="471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7120" y="5959080"/>
              <a:ext cx="792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7760" y="5839200"/>
              <a:ext cx="237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46920" y="6073200"/>
              <a:ext cx="396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88960" y="5874480"/>
              <a:ext cx="115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4720" y="5923800"/>
              <a:ext cx="1656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89120" y="5923800"/>
              <a:ext cx="17352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400" y="6022800"/>
              <a:ext cx="17352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8648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9792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24720" y="6240960"/>
              <a:ext cx="64800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28680" y="5660280"/>
              <a:ext cx="6350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2000" y="5819760"/>
              <a:ext cx="25092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"/>
              <p:cNvSpPr/>
              <p:nvPr/>
            </p:nvSpPr>
            <p:spPr>
              <a:xfrm>
                <a:off x="8258760" y="5840280"/>
                <a:ext cx="11304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54520" y="6103440"/>
                <a:ext cx="23004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126720" y="5840280"/>
                <a:ext cx="11160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039960" y="6024600"/>
                <a:ext cx="17172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520" y="5675400"/>
                <a:ext cx="932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50400" y="5680080"/>
                <a:ext cx="12204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94200" y="5721480"/>
                <a:ext cx="50724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557200" y="5772240"/>
                <a:ext cx="38016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748000" y="5669280"/>
                <a:ext cx="252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" name=""/>
            <p:cNvSpPr/>
            <p:nvPr/>
          </p:nvSpPr>
          <p:spPr>
            <a:xfrm>
              <a:off x="8870400" y="6033600"/>
              <a:ext cx="957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2192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21920" y="5962320"/>
              <a:ext cx="18144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804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524640"/>
            <a:ext cx="2160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9A14A0E1-88A9-4597-BBFD-9EFF83698CF8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8680" y="2841480"/>
            <a:ext cx="915516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FuturaBookTBWA"/>
              </a:rPr>
              <a:t>Stakeholders Perspectiv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FuturaBookTBWA"/>
              </a:rPr>
              <a:t>Standards Development Organiz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FuturaBookTBWA"/>
              </a:rPr>
              <a:t>Mark Palmer, Vice-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FuturaBookTBWA"/>
              </a:rPr>
              <a:t>Francois </a:t>
            </a:r>
            <a:r>
              <a:rPr b="0" lang="en-US" sz="2400" spc="-1" strike="noStrike">
                <a:solidFill>
                  <a:srgbClr val="ffff00"/>
                </a:solidFill>
                <a:latin typeface="FuturaBookTBWA"/>
              </a:rPr>
              <a:t>Vuilleumier, Standards 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FuturaBookTBWA"/>
              </a:rPr>
              <a:t>23 May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68640" y="602136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25720" y="194328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040280" y="552600"/>
            <a:ext cx="1733040" cy="1294920"/>
            <a:chOff x="4040280" y="552600"/>
            <a:chExt cx="1733040" cy="1294920"/>
          </a:xfrm>
        </p:grpSpPr>
        <p:sp>
          <p:nvSpPr>
            <p:cNvPr id="125" name=""/>
            <p:cNvSpPr/>
            <p:nvPr/>
          </p:nvSpPr>
          <p:spPr>
            <a:xfrm>
              <a:off x="4237920" y="552600"/>
              <a:ext cx="19800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40280" y="1118160"/>
              <a:ext cx="213840" cy="3171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77320" y="552600"/>
              <a:ext cx="19764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59480" y="1118160"/>
              <a:ext cx="213840" cy="3171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93000" y="1429200"/>
              <a:ext cx="405360" cy="2750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68800" y="699480"/>
              <a:ext cx="46440" cy="270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58440" y="919440"/>
              <a:ext cx="71280" cy="662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74640" y="1344240"/>
              <a:ext cx="38880" cy="532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63120" y="730440"/>
              <a:ext cx="27360" cy="208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41080" y="828360"/>
              <a:ext cx="69120" cy="806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80320" y="745200"/>
              <a:ext cx="248760" cy="2026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31400" y="1119960"/>
              <a:ext cx="15840" cy="374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87680" y="985680"/>
              <a:ext cx="501480" cy="368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4200" y="1097640"/>
              <a:ext cx="82800" cy="662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66120" y="1157760"/>
              <a:ext cx="14040" cy="79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49920" y="931680"/>
              <a:ext cx="416880" cy="54936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00680" y="1373040"/>
              <a:ext cx="7200" cy="21564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99520" y="997920"/>
              <a:ext cx="202320" cy="18216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36920" y="1091520"/>
              <a:ext cx="290160" cy="57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49800" y="1091520"/>
              <a:ext cx="303480" cy="57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93200" y="1278000"/>
              <a:ext cx="303480" cy="32940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95360" y="737280"/>
              <a:ext cx="202320" cy="35856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15560" y="737280"/>
              <a:ext cx="202320" cy="35856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36920" y="1690200"/>
              <a:ext cx="1134360" cy="15732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760" y="593640"/>
              <a:ext cx="1111320" cy="99648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82520" y="894600"/>
              <a:ext cx="439200" cy="3934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046760" y="610560"/>
              <a:ext cx="1714320" cy="1093320"/>
              <a:chOff x="4046760" y="610560"/>
              <a:chExt cx="1714320" cy="1093320"/>
            </a:xfrm>
          </p:grpSpPr>
          <p:sp>
            <p:nvSpPr>
              <p:cNvPr id="152" name=""/>
              <p:cNvSpPr/>
              <p:nvPr/>
            </p:nvSpPr>
            <p:spPr>
              <a:xfrm>
                <a:off x="4046760" y="933480"/>
                <a:ext cx="198000" cy="32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14520" y="1430640"/>
                <a:ext cx="402480" cy="27324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65600" y="933480"/>
                <a:ext cx="195480" cy="32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413680" y="1281240"/>
                <a:ext cx="300960" cy="327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14520" y="622440"/>
                <a:ext cx="163080" cy="28584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432040" y="631080"/>
                <a:ext cx="213840" cy="27324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58600" y="709560"/>
                <a:ext cx="887760" cy="7869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568760" y="804960"/>
                <a:ext cx="664920" cy="59220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02840" y="610560"/>
                <a:ext cx="4680" cy="4057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5117400" y="1298520"/>
              <a:ext cx="167760" cy="1512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7200" y="740880"/>
              <a:ext cx="312840" cy="28008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07200" y="1163880"/>
              <a:ext cx="317520" cy="28584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90320" y="740880"/>
              <a:ext cx="312840" cy="28008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11360" y="61596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308240" y="1676160"/>
            <a:ext cx="8470800" cy="51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Purpose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hallenge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ools for Succes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Discussion Topic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11360" y="45252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Purpose of this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15600" y="1177920"/>
            <a:ext cx="88837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Understand current and envisioned SDOs collaboration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876"/>
              </a:spcBef>
              <a:spcAft>
                <a:spcPts val="524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inclusive: de jure, consortia, de facto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Insights on evolving SDO environmen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876"/>
              </a:spcBef>
              <a:spcAft>
                <a:spcPts val="524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deliver unique value and build synerg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Recommendations for UN/CEFACT strategy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ommitment to broader communications and collaboration among SDO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30080" y="615960"/>
            <a:ext cx="8420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Challenges to Delivering Coherent Set of eBusiness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728720"/>
            <a:ext cx="922968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Acceleration of technologies and expectation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Methods and tools still evolving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onflicting incentive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Overlapping initiative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Insufficient commitments to convergence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Reference implementations and profiles missing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Interoperability testing largely unavailable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9640" y="369720"/>
            <a:ext cx="88012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UN/CEFACT’s Collaboration with S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703080" y="1208160"/>
            <a:ext cx="920268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ontinuing to broaden its strategy for active coordination with other SDO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Outreach to relevant initiatives and assess collaboration prioritie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Updated the Open Development Process for greater participation from external interest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Growing recognition of the value of UN/CEFACT’s common semantic framework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cultivating input, alignment and us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14240" y="460080"/>
            <a:ext cx="8420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Principles and Tools for Success</a:t>
            </a:r>
            <a:endParaRPr b="0" lang="en-US" sz="36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8320" y="1184400"/>
            <a:ext cx="9364680" cy="53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Understand other SDO’s programs and coordinate work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MoU MG on eBusiness Standard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Broaden input in documenting needs, defining projects and analysis of intersecting “information supply chains”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ross-sectoral convergence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Common eBusiness framework for documenting: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needed capabilitie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applicable standards and initiative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gaps and convergence opportunitie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plan for optimum use of competencie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Feedback from deployment and us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54200" y="48888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eBusiness Capabilities Frame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42680" y="1980720"/>
            <a:ext cx="8420040" cy="4343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15960" y="1609560"/>
            <a:ext cx="8648640" cy="5183280"/>
          </a:xfrm>
          <a:prstGeom prst="rect">
            <a:avLst/>
          </a:prstGeom>
          <a:solidFill>
            <a:srgbClr val="ffff99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65320" y="1300320"/>
            <a:ext cx="5788080" cy="2941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00320" y="1538280"/>
            <a:ext cx="7796160" cy="3556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35160" y="2062080"/>
            <a:ext cx="1836720" cy="13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59440" y="2062080"/>
            <a:ext cx="2656080" cy="13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formation content/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lassification sche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mponent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nterprise data and meta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ference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13200" y="3462480"/>
            <a:ext cx="282888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ess definition 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1680" y="3462480"/>
            <a:ext cx="275904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formation definition 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98800" y="4378320"/>
            <a:ext cx="5694480" cy="27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resentation o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98800" y="5224320"/>
            <a:ext cx="5692680" cy="26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port o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98800" y="5678640"/>
            <a:ext cx="5692680" cy="26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839080" y="2028960"/>
            <a:ext cx="339840" cy="399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formance and interoperability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09640" y="1940040"/>
            <a:ext cx="338400" cy="399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1955880"/>
            <a:ext cx="339480" cy="399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actual and regul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85880" y="1955880"/>
            <a:ext cx="339840" cy="399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53640" y="600552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d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00320" y="1955880"/>
            <a:ext cx="338040" cy="397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istry/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40120" y="1244520"/>
            <a:ext cx="36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mantics - Terminolog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4080" y="1539720"/>
            <a:ext cx="339840" cy="445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2560" y="6005520"/>
            <a:ext cx="4560840" cy="29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 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40280" y="2062080"/>
            <a:ext cx="952560" cy="13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08160" y="3882960"/>
            <a:ext cx="4719960" cy="29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ice definition 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71880" y="1893960"/>
            <a:ext cx="679680" cy="181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45400" y="1876320"/>
            <a:ext cx="680760" cy="182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14840" y="1876320"/>
            <a:ext cx="681120" cy="182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70560" y="4241880"/>
            <a:ext cx="681120" cy="136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70560" y="5487840"/>
            <a:ext cx="681120" cy="181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90640" y="2406600"/>
            <a:ext cx="2074680" cy="27399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c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62040" y="1876320"/>
            <a:ext cx="679680" cy="182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4320" y="1876320"/>
            <a:ext cx="679680" cy="182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04800" y="1876320"/>
            <a:ext cx="679680" cy="182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6200000">
            <a:off x="876240" y="1650600"/>
            <a:ext cx="631800" cy="196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57560" y="6551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 5b – 2006-05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98800" y="4803840"/>
            <a:ext cx="5694480" cy="27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o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70560" y="4664160"/>
            <a:ext cx="681120" cy="137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77040" y="5081760"/>
            <a:ext cx="679320" cy="137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725400" y="42372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Potential Topics for Discu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2520" y="1064880"/>
            <a:ext cx="864864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How should UN/CEFACT improve coordination and strategic planning with other SDOs?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How should UN/CEFACT best contribute to the delivery of cohesive eBusiness standards?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How should UN/CEFACT use and contribute to the eBusiness capabilities framework?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Is there need for Guidance on how UN/CEFACT standards fit with other standards to enable eBusiness?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How should UN/CEFACT support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FuturaBookTBWA"/>
              </a:rPr>
              <a:t>full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“life cycle” of needed eBusiness standards?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499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document common needs / outcomes, assess available solutions, determine best delivery, develop specification, validation, support implementation and deployment, maintenance, feedback from     use, revisions…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984400" y="3657600"/>
            <a:ext cx="412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700" spc="-1" strike="noStrike">
                <a:solidFill>
                  <a:srgbClr val="ffffff"/>
                </a:solidFill>
                <a:latin typeface="FuturaBookTBWA"/>
              </a:rPr>
              <a:t>UN/</a:t>
            </a:r>
            <a:r>
              <a:rPr b="0" lang="en-US" sz="4100" spc="-1" strike="noStrike">
                <a:solidFill>
                  <a:srgbClr val="ffffff"/>
                </a:solidFill>
                <a:latin typeface="FuturaBookTBWA"/>
              </a:rPr>
              <a:t>CEFAC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933720" y="1828800"/>
            <a:ext cx="2228400" cy="1751760"/>
            <a:chOff x="3933720" y="1828800"/>
            <a:chExt cx="2228400" cy="1751760"/>
          </a:xfrm>
        </p:grpSpPr>
        <p:sp>
          <p:nvSpPr>
            <p:cNvPr id="217" name=""/>
            <p:cNvSpPr/>
            <p:nvPr/>
          </p:nvSpPr>
          <p:spPr>
            <a:xfrm>
              <a:off x="4187880" y="1828800"/>
              <a:ext cx="25488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3372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53080" y="1828800"/>
              <a:ext cx="25416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708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16200" y="3015000"/>
              <a:ext cx="521280" cy="3722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256360" y="2027520"/>
              <a:ext cx="59400" cy="3672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71920" y="2325240"/>
              <a:ext cx="91800" cy="896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92440" y="2899800"/>
              <a:ext cx="50040" cy="7236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77680" y="2069640"/>
              <a:ext cx="35280" cy="284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20720" y="2201760"/>
              <a:ext cx="88920" cy="1090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71120" y="2089440"/>
              <a:ext cx="320040" cy="27432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94040" y="2596680"/>
              <a:ext cx="20520" cy="5076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80480" y="2414880"/>
              <a:ext cx="644760" cy="49896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16160" y="2566080"/>
              <a:ext cx="106560" cy="896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96080" y="2647440"/>
              <a:ext cx="18000" cy="108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75200" y="2341800"/>
              <a:ext cx="536040" cy="74304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40360" y="2938680"/>
              <a:ext cx="9360" cy="29160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10040" y="2431440"/>
              <a:ext cx="260280" cy="24660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15320" y="2557800"/>
              <a:ext cx="372960" cy="792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60400" y="2557800"/>
              <a:ext cx="390240" cy="792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02120" y="2810160"/>
              <a:ext cx="390240" cy="44568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0464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3092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15320" y="3367800"/>
              <a:ext cx="1458720" cy="2127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23960" y="1884600"/>
              <a:ext cx="1429200" cy="134820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59560" y="2291400"/>
              <a:ext cx="564840" cy="532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3942360" y="1907280"/>
              <a:ext cx="2204280" cy="1479240"/>
              <a:chOff x="3942360" y="1907280"/>
              <a:chExt cx="2204280" cy="1479240"/>
            </a:xfrm>
          </p:grpSpPr>
          <p:sp>
            <p:nvSpPr>
              <p:cNvPr id="244" name=""/>
              <p:cNvSpPr/>
              <p:nvPr/>
            </p:nvSpPr>
            <p:spPr>
              <a:xfrm>
                <a:off x="3942360" y="2344320"/>
                <a:ext cx="254880" cy="43704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58360" y="3016800"/>
                <a:ext cx="517680" cy="369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895360" y="2344320"/>
                <a:ext cx="251280" cy="43704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699880" y="2814840"/>
                <a:ext cx="387000" cy="44280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158360" y="1923480"/>
                <a:ext cx="209880" cy="3870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723640" y="1935000"/>
                <a:ext cx="275040" cy="369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472280" y="2041200"/>
                <a:ext cx="1141920" cy="106524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613760" y="2170080"/>
                <a:ext cx="855360" cy="8013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043240" y="1907280"/>
                <a:ext cx="5760" cy="54900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5318640" y="2838240"/>
              <a:ext cx="216000" cy="20448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3420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34200" y="2655720"/>
              <a:ext cx="408600" cy="38700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5556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371600" y="4591080"/>
            <a:ext cx="77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SIMPLE, TRANSPARENT AND EFFECTIVE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OR GLOBAL BUSI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Mark Palmer</dc:creator>
  <dc:description/>
  <dc:language>en-US</dc:language>
  <cp:lastModifiedBy>User</cp:lastModifiedBy>
  <cp:lastPrinted>2001-03-15T16:33:27Z</cp:lastPrinted>
  <dcterms:modified xsi:type="dcterms:W3CDTF">2006-05-23T08:33:29Z</dcterms:modified>
  <cp:revision>290</cp:revision>
  <dc:subject/>
  <dc:title>SDOs Stakeholders presentation to 12th Plenary</dc:title>
</cp:coreProperties>
</file>