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5E1E4278-9A69-44C7-BE4E-AD619FDBF32C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9560" y="3146400"/>
            <a:ext cx="91551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Briefing to Geneva 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FuturaBookTBWA"/>
              </a:rPr>
              <a:t>Stuart Fe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Plenary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4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Outreach to Geneva Missions following UNECE Reform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Challenges This Week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keholder Perspec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487440"/>
            <a:ext cx="842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lenary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6360" y="1298520"/>
            <a:ext cx="92296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view of Inter-Governmental Business Mod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ublic-private partnership, global remi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ECE secretariat and volunteer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 budget and extra-budgetary resourc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Validation of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new interactive format for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 of stakeholder perspectiv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 of integrated strategy and work programm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37152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19240" y="928440"/>
            <a:ext cx="847080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untrie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countr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national, regional and global 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key building blocks and focused next step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ndards Development Organis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uilding on centres of competen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munication and coordin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74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1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Corporate User</cp:lastModifiedBy>
  <cp:lastPrinted>2001-03-15T16:33:27Z</cp:lastPrinted>
  <dcterms:modified xsi:type="dcterms:W3CDTF">2006-05-23T21:59:56Z</dcterms:modified>
  <cp:revision>261</cp:revision>
  <dc:subject/>
  <dc:title>Challenges for the 12th Plenary</dc:title>
</cp:coreProperties>
</file>