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678EA103-7C80-4D23-8AB1-B7E973D15C61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Briefing to Geneva 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FuturaBookTBWA"/>
              </a:rPr>
              <a:t>Stuart Fe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Plenary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FuturaBookTBWA"/>
              </a:rPr>
              <a:t>24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Outreach to Geneva Missions following UNECE Reform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lenary Challenges This Week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 Perspectiv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487440"/>
            <a:ext cx="842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lenary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6360" y="1298520"/>
            <a:ext cx="92296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view of Inter-Governmental Business Mod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ublic-private partnership, global remi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ECE secretariat and volunteer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 budget and extra-budgetary resour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Validation of Prioriti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ew interactive format for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 of stakeholder perspectiv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view of integrated strategy and work programm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8680" y="37152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19240" y="928440"/>
            <a:ext cx="847080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countr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national, regional and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within and across 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key building blocks and focused next ste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36520" indent="-236520">
              <a:spcBef>
                <a:spcPts val="2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building on centres of competenc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512640" indent="-19692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mmunication and 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74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1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6-05-23T21:59:56Z</dcterms:modified>
  <cp:revision>261</cp:revision>
  <dc:subject/>
  <dc:title>Challenges for the 12th Plenary</dc:title>
</cp:coreProperties>
</file>