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914-14A2-436D-AEAC-38947024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C21-1E34-4512-BC20-233A6315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A76-04D0-4B0D-BA07-B1CA3357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BF6-1AAD-440A-9C39-E6557C7A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9D8-A3D7-4F84-AE87-E30EF88A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FD9-8C77-4EAC-9341-A6618F5B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FE8-F7DA-4DFE-A660-1F06184D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126-3AF0-41FA-A828-CEC3217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98A-74D6-4EB7-89C7-3E9C22A7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870-20F4-47CC-BD1F-A404A34E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411-70C0-4EEF-8028-1B59CAE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0D0-C0EA-4540-9ACF-07C3C069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FB6B-8B25-4B37-9744-EC57005626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600" y="73656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EDI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ata Maintenance Requests (DM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85800" y="2286000"/>
          <a:ext cx="7823160" cy="1879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286000"/>
                    <a:ext cx="7823160" cy="18795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85800" y="4051440"/>
            <a:ext cx="5791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.19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676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UN/EDIFAC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3200" y="2857680"/>
            <a:ext cx="824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ssage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7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192 Batch, 15 Intera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71136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EDI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57200" y="3505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ownload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500 (2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nalysis of Internet hits (March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17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isitor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1.000 (1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60520" y="71136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EDI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711000"/>
            <a:ext cx="40640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LO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09480" y="2517840"/>
          <a:ext cx="7925040" cy="304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17840"/>
                    <a:ext cx="792504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179064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ata Maintenance Requests (DM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9840" y="1171440"/>
            <a:ext cx="7345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nited Nations Code for Trade and Transpor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71136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LO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3505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TAL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4.000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ATA, UPU, EUROSTAT, Lloy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17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cation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2.00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676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UN/LOCOD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1282680"/>
            <a:ext cx="68356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overnment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ustoms offices, Postal services and Minis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vate sector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apag Lloyd, P&amp;O Nedlloyd, Volvo, INTTRA, Nestlé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ational Organizati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UPU, EUROSTAT, UN/ECLAC, IAT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 Governmental Organizati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eaport Associations, Chambers of Commerce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71136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LO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41200"/>
            <a:ext cx="9903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8280" y="17780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nalysis of Internet hits (November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71136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LO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3505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ownload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9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717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isitor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3.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5:22Z</dcterms:created>
  <dc:creator>   </dc:creator>
  <dc:description/>
  <dc:language>en-US</dc:language>
  <cp:lastModifiedBy>Vivekanantham</cp:lastModifiedBy>
  <dcterms:modified xsi:type="dcterms:W3CDTF">2004-05-25T13:01:32Z</dcterms:modified>
  <cp:revision>23</cp:revision>
  <dc:subject/>
  <dc:title>Title</dc:title>
</cp:coreProperties>
</file>