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942-9A32-4726-9D68-156EB7D7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9F6-4B78-4E1E-B4C0-4C59443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82B-DDE1-4618-B6C8-EE861728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D4E-AD26-4717-BA79-7CC6EAAC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EDD-3C95-473F-89FB-BA21DDF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487-7AB0-41E3-84EA-4D3A922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7D2-AE59-47FC-8AC4-9C4237A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980-465C-46D6-BEBC-8F9D7FD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9F2-4CD5-4312-83BD-D7AC025B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287-4D7D-4C7D-889E-3B80144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4C9-1F8D-4E7B-B9F8-E822FA5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715-2316-4590-BB81-F25C833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0E2-B835-4D14-89D4-D8CBD5DB1A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600" y="73656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ta Maintenance Requests (D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85800" y="2286000"/>
          <a:ext cx="7823160" cy="187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286000"/>
                    <a:ext cx="7823160" cy="18795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85800" y="4051440"/>
            <a:ext cx="57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.19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UN/EDIFAC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200" y="2857680"/>
            <a:ext cx="824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ssage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7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192 Batch, 15 Inter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7113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wnload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500 (2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alysis of Internet hits (March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tor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1.000 (1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60520" y="7113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EDIF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711000"/>
            <a:ext cx="4064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09480" y="2517840"/>
          <a:ext cx="7925040" cy="304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7840"/>
                    <a:ext cx="792504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179064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ta Maintenance Requests (D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171440"/>
            <a:ext cx="7345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nited Nations Code for Trade and Transpor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TAL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4.00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ATA, UPU, EUROSTAT, Lloy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cation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2.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UN/LOCOD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1282680"/>
            <a:ext cx="68356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vernment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ustoms offices, Postal services and Minis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vate sector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apag Lloyd, P&amp;O Nedlloyd, Volvo, INTTRA, Nestlé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ational Organiz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UPU, EUROSTAT, UN/ECLAC, IAT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 Governmental Organiz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eaport Associations, Chambers of Commerc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41200"/>
            <a:ext cx="9903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8280" y="17780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alysis of Internet hits (November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71136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/LO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41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41200"/>
          <a:ext cx="990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990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3505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wnload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9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17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tors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3.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5:22Z</dcterms:created>
  <dc:creator>   </dc:creator>
  <dc:description/>
  <dc:language>en-US</dc:language>
  <cp:lastModifiedBy>Vivekanantham</cp:lastModifiedBy>
  <dcterms:modified xsi:type="dcterms:W3CDTF">2004-05-25T13:01:32Z</dcterms:modified>
  <cp:revision>23</cp:revision>
  <dc:subject/>
  <dc:title>Title</dc:title>
</cp:coreProperties>
</file>