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Garamond"/>
              </a:rPr>
              <a:t>Click to move the slide</a:t>
            </a:r>
            <a:endParaRPr b="1" lang="en-US" sz="2400" spc="-1" strike="noStrike">
              <a:solidFill>
                <a:srgbClr val="00cc99"/>
              </a:solidFill>
              <a:latin typeface="Garamond"/>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D5C9-CC86-4F94-A7B1-25106988C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lready heard where UN/CEFACT Groups, such as TBG but also TMG today have liaisons with other organizations and it is very well possible other UN/CEFACT Groups could have liaisons with other Standards Setting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development organizations increasingly collaborate with one another with respect to the development of technical specifications / standards. When successful, liaison arrangements can serve many useful purposes, such as reducing duplication, expediting standards development and adoption, and promoting the interoperability of standards. On the other hand, if not clearly defined at the outset, such liaisons can create real risks and problems for the SDO’s and for each SDO’s members and implementers. Consequently it is important that SDO’s understand the key issues surrounding their collaborative relationships with other S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stress at the outset of this discussion that all SDO’s are different, service different constituents often with unique needs and requirements. As such it is not possible to design a generic liaison or normative referencing policies that are suitable for each and every S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before you a Whitepaper which explores the Key Issues and Risks surrounding forming Liaisons, with real world examples of liaisons analy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nor the supportive paper does not endorse any one Liaison approach or suggest that one is better or worse than the others; neither is the paper passing any judgment on any SD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here are 2 types of liaison relationships that may arise when SDO’s are working in common standards areas and wish to assist one another in the development of the same or consistent/interoperabl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Agreements are a coordinated or collaborative effort, short of a formal join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Agreements are a formal joint development/sponsorship effort when two or more organizations have a common objective on an effort of stated scope that can be best accomplished by pooling resources in a coordinated and complimentary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ways to achieve a formal agreement is through some type of joint technical committe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st potential for problems exist when liaison arrangements are the product of informal agreements or loose pacts to collaborate on standards develop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2 SDO’s have their own unique IP policy and governance collaborate informally on the development of a particular specification, if there are no written guidelines or rules explaining how the collaboration will work, a number of fundamental and complex questions will go unanswered such as how will contributions be treaded and licensed? What patent disclosure obligations, if any, will apply to the contributors and participants in the collaborative effort? Who will own and be in charge of future updates to the jointly developed standard? What licenses will implementers need to create compliant products and what are the permissible terms for such licenses? Royalty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DO’s (such as ANSI, ITU, ISO, OASIS, W3C, OMA and others) have established formal written procedures and guidelines as to HOW, with WHOM, and under WHAT circumstances they may form formal liaisons with other S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O’s that have formalized their intent to collaborate on the development of a specification typically have addressed, in writing, the following key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 (or the parameters of the joint effort), RELATIONSHIP (will one organization be designated lead sponsor), PROCEDURES (to be used in the maintenance of the jointly developed effort), APPLICAPABLE IP, IP MANAGEMENT (dealing with patent disclosures and more), NAMING (how will the approved standards be named), ANNOUNCEMENTS (whomakes announcements, ..) and more key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qually important for an SDO to have a defined policy governing the submission of its work to other SDO’s for completion / adoption / pro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rns are very similar to those discussed in connection with two SDO’s collaborating together from the outset on the development of a joint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need for CEFACT to have in place procedures to identify who may start a process of submitting work to another organization. Likewise there needs to be clear definition within CEFACT as to the acceptable status of work which can be trans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ongoing need for the CEFACT organization to offer a member service where a rigorous review and analysis, such as what some organizations perform, before accepting a draft specification from another organiz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far I have mentioned that there are several ways that SDO’s may choose to work together towards a mutual standards setting goal including:</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l and formal liaison agreem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ding off one SDO’s work to another SDO</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common industry practice is called “referencing” where SDO’s often merge their work, even though there may be little or no coordination between th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tegories of references are possibl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normative references’ are references to documents to which conformance is necessary to claim complianc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formative referencing’ are references to documents that may be useful in implementing a specification or to add to the readers understanding, but which are not required for conformation to the specification.</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est practice for informative referencing is to follow the same rigorous practice with normative referencing which could include: very detailed procedures about accepting &amp; recording objections to references, definitions of what publicly available means, policies such as promotion that any essential IPR contained in normatively referenced documents be available for use on licensing and disclosure terms that do not materially differ from the terms defined in an SDO’s IPR Policy. Other Referencing Policies can include stability and maintenance of normative refere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ormative referencing practice though is not without its own ris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summary, before an SDO includes a normative reference to another SDO’s specification or standard, it must be sure that it understands the nature and policies of the SDO, and the licensing obligations of the essential IP holders to the referenced standard will expect to implementations of the referencing standard in ways that will not deter or stymie the widespread adoption and deployment of the referencing standard.</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se and other key issues plus the real world risks surrounding liaison arrangements between Standards Development Organiz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CEFACT organization should consider developing a CEFACT Liaison Development Policy &amp; Liaison Operating Procedures, together with the UN Secretariat to ensure consistency with the UN system, for all CEFACT membershi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going forward the UN Secretariat be supported in it’s work with the necessary competent legal services to manage on a day to day basis the CEFACT Liaison Portfolio of Liaison relationships and their conditions. I would consider the CEFACT Liaison Portfolio is a key UN ass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ll CEFACT groups be encouraged to employ formal Liaison practices in their work to accelerate their developments and to avoid any possibility of duplicative work efforts with other SDO’s in the spirit of the ISO ITU IEC UN Memorandum of Understan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9"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0"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72"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4"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5"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77"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8"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9"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0"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1"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2"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29"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1"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3"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4"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609120"/>
            <a:ext cx="7793280" cy="3570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8"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9"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0"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48"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42"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4"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46"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7"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8"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0"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1"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3"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4"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5"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6"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8"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9"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0"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1"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2"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3"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2"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3"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609120"/>
            <a:ext cx="7793280" cy="3570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7"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8"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9"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1"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2"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3"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5"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6"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7"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Click to edit the title text format</a:t>
            </a:r>
            <a:endParaRPr b="1" lang="en-US" sz="3200" spc="-1" strike="noStrike">
              <a:solidFill>
                <a:srgbClr val="ffffcc"/>
              </a:solidFill>
              <a:latin typeface="Garamond"/>
            </a:endParaRPr>
          </a:p>
        </p:txBody>
      </p:sp>
      <p:sp>
        <p:nvSpPr>
          <p:cNvPr id="2" name="PlaceHolder 2"/>
          <p:cNvSpPr>
            <a:spLocks noGrp="1"/>
          </p:cNvSpPr>
          <p:nvPr>
            <p:ph type="body"/>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to edit the outline text format</a:t>
            </a:r>
            <a:endParaRPr b="0" lang="en-US" sz="2800" spc="-1" strike="noStrike">
              <a:solidFill>
                <a:srgbClr val="ffffff"/>
              </a:solidFill>
              <a:latin typeface="Garamond"/>
            </a:endParaRPr>
          </a:p>
          <a:p>
            <a:pPr lvl="1" marL="743040" indent="-285840">
              <a:spcBef>
                <a:spcPts val="7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1143000" indent="-2286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rd Outline Level</a:t>
            </a:r>
            <a:endParaRPr b="0" lang="en-US" sz="2800" spc="-1" strike="noStrike">
              <a:solidFill>
                <a:srgbClr val="ffffff"/>
              </a:solidFill>
              <a:latin typeface="Garamond"/>
            </a:endParaRPr>
          </a:p>
          <a:p>
            <a:pPr lvl="3" marL="1600200" indent="-22860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urth Outline Level</a:t>
            </a:r>
            <a:endParaRPr b="0" lang="en-US" sz="2800" spc="-1" strike="noStrike">
              <a:solidFill>
                <a:srgbClr val="ffffff"/>
              </a:solidFill>
              <a:latin typeface="Garamond"/>
            </a:endParaRPr>
          </a:p>
          <a:p>
            <a:pPr lvl="4"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h Outline Level</a:t>
            </a:r>
            <a:endParaRPr b="0" lang="en-US" sz="2800" spc="-1" strike="noStrike">
              <a:solidFill>
                <a:srgbClr val="ffffff"/>
              </a:solidFill>
              <a:latin typeface="Garamond"/>
            </a:endParaRPr>
          </a:p>
          <a:p>
            <a:pPr lvl="5"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th Outline Level</a:t>
            </a:r>
            <a:endParaRPr b="0" lang="en-US" sz="2800" spc="-1" strike="noStrike">
              <a:solidFill>
                <a:srgbClr val="ffffff"/>
              </a:solidFill>
              <a:latin typeface="Garamond"/>
            </a:endParaRPr>
          </a:p>
          <a:p>
            <a:pPr lvl="6"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nth Outline Level</a:t>
            </a:r>
            <a:endParaRPr b="0" lang="en-US" sz="2800" spc="-1" strike="noStrike">
              <a:solidFill>
                <a:srgbClr val="ffffff"/>
              </a:solidFill>
              <a:latin typeface="Garamond"/>
            </a:endParaRPr>
          </a:p>
        </p:txBody>
      </p:sp>
      <p:sp>
        <p:nvSpPr>
          <p:cNvPr id="3" name=""/>
          <p:cNvSpPr/>
          <p:nvPr/>
        </p:nvSpPr>
        <p:spPr>
          <a:xfrm>
            <a:off x="609480" y="213372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609480" y="6477120"/>
            <a:ext cx="655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 name=""/>
          <p:cNvGrpSpPr/>
          <p:nvPr/>
        </p:nvGrpSpPr>
        <p:grpSpPr>
          <a:xfrm>
            <a:off x="7620120" y="5638680"/>
            <a:ext cx="914040" cy="685440"/>
            <a:chOff x="7620120" y="5638680"/>
            <a:chExt cx="914040" cy="685440"/>
          </a:xfrm>
        </p:grpSpPr>
        <p:sp>
          <p:nvSpPr>
            <p:cNvPr id="6" name=""/>
            <p:cNvSpPr/>
            <p:nvPr/>
          </p:nvSpPr>
          <p:spPr>
            <a:xfrm>
              <a:off x="7724160" y="5638680"/>
              <a:ext cx="104400" cy="11196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7620120" y="5938200"/>
              <a:ext cx="112680" cy="1677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8325360" y="5638680"/>
              <a:ext cx="104040" cy="11196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8421480" y="5938200"/>
              <a:ext cx="112680" cy="1677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8228160" y="6103080"/>
              <a:ext cx="213840" cy="14580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8162640" y="5716440"/>
              <a:ext cx="24480" cy="144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2" name=""/>
            <p:cNvSpPr/>
            <p:nvPr/>
          </p:nvSpPr>
          <p:spPr>
            <a:xfrm>
              <a:off x="8210160" y="5832720"/>
              <a:ext cx="37440" cy="3492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3" name=""/>
            <p:cNvSpPr/>
            <p:nvPr/>
          </p:nvSpPr>
          <p:spPr>
            <a:xfrm>
              <a:off x="8218440" y="6057720"/>
              <a:ext cx="20520" cy="280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sp>
          <p:nvSpPr>
            <p:cNvPr id="14" name=""/>
            <p:cNvSpPr/>
            <p:nvPr/>
          </p:nvSpPr>
          <p:spPr>
            <a:xfrm>
              <a:off x="8212680" y="5733000"/>
              <a:ext cx="14400" cy="1116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5" name=""/>
            <p:cNvSpPr/>
            <p:nvPr/>
          </p:nvSpPr>
          <p:spPr>
            <a:xfrm>
              <a:off x="8148240" y="5784480"/>
              <a:ext cx="36360" cy="424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6" name=""/>
            <p:cNvSpPr/>
            <p:nvPr/>
          </p:nvSpPr>
          <p:spPr>
            <a:xfrm>
              <a:off x="8168760" y="5740560"/>
              <a:ext cx="131040" cy="1072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7931880" y="5939280"/>
              <a:ext cx="8280" cy="1980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18" name=""/>
            <p:cNvSpPr/>
            <p:nvPr/>
          </p:nvSpPr>
          <p:spPr>
            <a:xfrm>
              <a:off x="7803360" y="5868000"/>
              <a:ext cx="264600" cy="19512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022960" y="5927040"/>
              <a:ext cx="43560" cy="3492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0" name=""/>
            <p:cNvSpPr/>
            <p:nvPr/>
          </p:nvSpPr>
          <p:spPr>
            <a:xfrm>
              <a:off x="8055720" y="5959080"/>
              <a:ext cx="7200" cy="396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21" name=""/>
            <p:cNvSpPr/>
            <p:nvPr/>
          </p:nvSpPr>
          <p:spPr>
            <a:xfrm>
              <a:off x="8047440" y="5839200"/>
              <a:ext cx="219960" cy="29088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074080" y="6073200"/>
              <a:ext cx="3600" cy="11412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8020440" y="5874480"/>
              <a:ext cx="106560" cy="9648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7776720" y="5923800"/>
              <a:ext cx="153000" cy="288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 name=""/>
            <p:cNvSpPr/>
            <p:nvPr/>
          </p:nvSpPr>
          <p:spPr>
            <a:xfrm>
              <a:off x="8205480" y="5923800"/>
              <a:ext cx="160200" cy="288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 name=""/>
            <p:cNvSpPr/>
            <p:nvPr/>
          </p:nvSpPr>
          <p:spPr>
            <a:xfrm>
              <a:off x="7648200" y="6022800"/>
              <a:ext cx="160200" cy="17424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7649280" y="5736240"/>
              <a:ext cx="106560" cy="1897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8398440" y="5736240"/>
              <a:ext cx="106560" cy="1897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7776720" y="6240960"/>
              <a:ext cx="598320" cy="831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30" name=""/>
            <p:cNvSpPr/>
            <p:nvPr/>
          </p:nvSpPr>
          <p:spPr>
            <a:xfrm>
              <a:off x="7780320" y="5660280"/>
              <a:ext cx="586440" cy="52776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7958880" y="5819760"/>
              <a:ext cx="231840" cy="208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2" name=""/>
            <p:cNvGrpSpPr/>
            <p:nvPr/>
          </p:nvGrpSpPr>
          <p:grpSpPr>
            <a:xfrm>
              <a:off x="7623360" y="5669280"/>
              <a:ext cx="904320" cy="578880"/>
              <a:chOff x="7623360" y="5669280"/>
              <a:chExt cx="904320" cy="578880"/>
            </a:xfrm>
          </p:grpSpPr>
          <p:sp>
            <p:nvSpPr>
              <p:cNvPr id="33" name=""/>
              <p:cNvSpPr/>
              <p:nvPr/>
            </p:nvSpPr>
            <p:spPr>
              <a:xfrm>
                <a:off x="7623360" y="5840280"/>
                <a:ext cx="104400" cy="17100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7711920" y="6103440"/>
                <a:ext cx="212400" cy="144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 name=""/>
              <p:cNvSpPr/>
              <p:nvPr/>
            </p:nvSpPr>
            <p:spPr>
              <a:xfrm>
                <a:off x="8424720" y="5840280"/>
                <a:ext cx="102960" cy="17100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8344440" y="6024600"/>
                <a:ext cx="158760" cy="17316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 name=""/>
              <p:cNvSpPr/>
              <p:nvPr/>
            </p:nvSpPr>
            <p:spPr>
              <a:xfrm>
                <a:off x="7711920" y="5675400"/>
                <a:ext cx="86040" cy="1512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 name=""/>
              <p:cNvSpPr/>
              <p:nvPr/>
            </p:nvSpPr>
            <p:spPr>
              <a:xfrm>
                <a:off x="8354160" y="5680080"/>
                <a:ext cx="112680" cy="144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 name=""/>
              <p:cNvSpPr/>
              <p:nvPr/>
            </p:nvSpPr>
            <p:spPr>
              <a:xfrm>
                <a:off x="7840800" y="5721480"/>
                <a:ext cx="468360" cy="41688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 name=""/>
              <p:cNvSpPr/>
              <p:nvPr/>
            </p:nvSpPr>
            <p:spPr>
              <a:xfrm>
                <a:off x="7898760" y="5772240"/>
                <a:ext cx="351000" cy="3135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 name=""/>
              <p:cNvSpPr/>
              <p:nvPr/>
            </p:nvSpPr>
            <p:spPr>
              <a:xfrm>
                <a:off x="8075160" y="5669280"/>
                <a:ext cx="2160" cy="2149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 name=""/>
            <p:cNvSpPr/>
            <p:nvPr/>
          </p:nvSpPr>
          <p:spPr>
            <a:xfrm>
              <a:off x="8188200" y="6033600"/>
              <a:ext cx="88560" cy="7992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43" name=""/>
            <p:cNvSpPr/>
            <p:nvPr/>
          </p:nvSpPr>
          <p:spPr>
            <a:xfrm>
              <a:off x="7866360" y="5738400"/>
              <a:ext cx="164880" cy="1483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
            <p:cNvSpPr/>
            <p:nvPr/>
          </p:nvSpPr>
          <p:spPr>
            <a:xfrm>
              <a:off x="7866360" y="5962320"/>
              <a:ext cx="167400" cy="15156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
            <p:cNvSpPr/>
            <p:nvPr/>
          </p:nvSpPr>
          <p:spPr>
            <a:xfrm>
              <a:off x="8121240" y="5738400"/>
              <a:ext cx="164880" cy="1483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 name=""/>
          <p:cNvSpPr/>
          <p:nvPr/>
        </p:nvSpPr>
        <p:spPr>
          <a:xfrm>
            <a:off x="7332840" y="628488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EFACT</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1237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Garamond"/>
              </a:rPr>
              <a:t>Click to edit the title text format</a:t>
            </a:r>
            <a:endParaRPr b="1" lang="en-US" sz="2400" spc="-1" strike="noStrike">
              <a:solidFill>
                <a:srgbClr val="00cc99"/>
              </a:solidFill>
              <a:latin typeface="Garamond"/>
            </a:endParaRPr>
          </a:p>
        </p:txBody>
      </p:sp>
      <p:grpSp>
        <p:nvGrpSpPr>
          <p:cNvPr id="84" name=""/>
          <p:cNvGrpSpPr/>
          <p:nvPr/>
        </p:nvGrpSpPr>
        <p:grpSpPr>
          <a:xfrm>
            <a:off x="3733920" y="762120"/>
            <a:ext cx="1599480" cy="1294920"/>
            <a:chOff x="3733920" y="762120"/>
            <a:chExt cx="1599480" cy="1294920"/>
          </a:xfrm>
        </p:grpSpPr>
        <p:sp>
          <p:nvSpPr>
            <p:cNvPr id="85" name=""/>
            <p:cNvSpPr/>
            <p:nvPr/>
          </p:nvSpPr>
          <p:spPr>
            <a:xfrm>
              <a:off x="3916440" y="762120"/>
              <a:ext cx="182880" cy="21132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3733920" y="1327680"/>
              <a:ext cx="197280" cy="3171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4968000" y="762120"/>
              <a:ext cx="182520" cy="21132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5136120" y="1327680"/>
              <a:ext cx="197280" cy="3171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4798080" y="1638720"/>
              <a:ext cx="374040" cy="2750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683240" y="909000"/>
              <a:ext cx="42840" cy="270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91" name=""/>
            <p:cNvSpPr/>
            <p:nvPr/>
          </p:nvSpPr>
          <p:spPr>
            <a:xfrm>
              <a:off x="4766400" y="1128960"/>
              <a:ext cx="65880" cy="662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92" name=""/>
            <p:cNvSpPr/>
            <p:nvPr/>
          </p:nvSpPr>
          <p:spPr>
            <a:xfrm>
              <a:off x="4781160" y="1553760"/>
              <a:ext cx="36000" cy="532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a:endParaRPr>
            </a:p>
          </p:txBody>
        </p:sp>
        <p:sp>
          <p:nvSpPr>
            <p:cNvPr id="93" name=""/>
            <p:cNvSpPr/>
            <p:nvPr/>
          </p:nvSpPr>
          <p:spPr>
            <a:xfrm>
              <a:off x="4770720" y="939960"/>
              <a:ext cx="25200" cy="2088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94" name=""/>
            <p:cNvSpPr/>
            <p:nvPr/>
          </p:nvSpPr>
          <p:spPr>
            <a:xfrm>
              <a:off x="4657680" y="1037880"/>
              <a:ext cx="64080" cy="8064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95" name=""/>
            <p:cNvSpPr/>
            <p:nvPr/>
          </p:nvSpPr>
          <p:spPr>
            <a:xfrm>
              <a:off x="4694040" y="954720"/>
              <a:ext cx="229680" cy="2026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4279680" y="1329480"/>
              <a:ext cx="14760" cy="3744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Arial"/>
              </a:endParaRPr>
            </a:p>
          </p:txBody>
        </p:sp>
        <p:sp>
          <p:nvSpPr>
            <p:cNvPr id="97" name=""/>
            <p:cNvSpPr/>
            <p:nvPr/>
          </p:nvSpPr>
          <p:spPr>
            <a:xfrm>
              <a:off x="4054680" y="1195200"/>
              <a:ext cx="462960" cy="36864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439160" y="1307160"/>
              <a:ext cx="76320" cy="662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99" name=""/>
            <p:cNvSpPr/>
            <p:nvPr/>
          </p:nvSpPr>
          <p:spPr>
            <a:xfrm>
              <a:off x="4496400" y="1367280"/>
              <a:ext cx="12960" cy="792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 name=""/>
            <p:cNvSpPr/>
            <p:nvPr/>
          </p:nvSpPr>
          <p:spPr>
            <a:xfrm>
              <a:off x="4481640" y="1141200"/>
              <a:ext cx="384840" cy="54936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4528080" y="1582560"/>
              <a:ext cx="6480" cy="21564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4434840" y="1207440"/>
              <a:ext cx="186840" cy="18216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4007880" y="1301040"/>
              <a:ext cx="267840" cy="576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04" name=""/>
            <p:cNvSpPr/>
            <p:nvPr/>
          </p:nvSpPr>
          <p:spPr>
            <a:xfrm>
              <a:off x="4758120" y="1301040"/>
              <a:ext cx="280080" cy="576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05" name=""/>
            <p:cNvSpPr/>
            <p:nvPr/>
          </p:nvSpPr>
          <p:spPr>
            <a:xfrm>
              <a:off x="3782880" y="1487520"/>
              <a:ext cx="280080" cy="32940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3784680" y="946800"/>
              <a:ext cx="186840" cy="35856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5095800" y="946800"/>
              <a:ext cx="186840" cy="35856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4007880" y="1899720"/>
              <a:ext cx="1047240" cy="15732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4014000" y="803160"/>
              <a:ext cx="1026000" cy="99648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4326840" y="1104120"/>
              <a:ext cx="405360" cy="39348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1" name=""/>
            <p:cNvGrpSpPr/>
            <p:nvPr/>
          </p:nvGrpSpPr>
          <p:grpSpPr>
            <a:xfrm>
              <a:off x="3740040" y="820080"/>
              <a:ext cx="1582200" cy="1093320"/>
              <a:chOff x="3740040" y="820080"/>
              <a:chExt cx="1582200" cy="1093320"/>
            </a:xfrm>
          </p:grpSpPr>
          <p:sp>
            <p:nvSpPr>
              <p:cNvPr id="112" name=""/>
              <p:cNvSpPr/>
              <p:nvPr/>
            </p:nvSpPr>
            <p:spPr>
              <a:xfrm>
                <a:off x="3740040" y="1143000"/>
                <a:ext cx="182880" cy="32292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3894840" y="1640160"/>
                <a:ext cx="371520" cy="27324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5141880" y="1143000"/>
                <a:ext cx="180360" cy="32292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5001840" y="1490760"/>
                <a:ext cx="277920" cy="32724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3894840" y="831960"/>
                <a:ext cx="150480" cy="28584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5018760" y="840600"/>
                <a:ext cx="197280" cy="27324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4120560" y="919080"/>
                <a:ext cx="819720" cy="78696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4222080" y="1014480"/>
                <a:ext cx="613800" cy="59220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4530240" y="820080"/>
                <a:ext cx="4320" cy="4057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1" name=""/>
            <p:cNvSpPr/>
            <p:nvPr/>
          </p:nvSpPr>
          <p:spPr>
            <a:xfrm>
              <a:off x="4728240" y="1508040"/>
              <a:ext cx="154800" cy="15120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4164840" y="950400"/>
              <a:ext cx="289080" cy="28008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a:off x="4164840" y="1373400"/>
              <a:ext cx="293400" cy="28584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a:off x="4611240" y="950400"/>
              <a:ext cx="289080" cy="28008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5" name=""/>
          <p:cNvSpPr/>
          <p:nvPr/>
        </p:nvSpPr>
        <p:spPr>
          <a:xfrm>
            <a:off x="869040" y="5791320"/>
            <a:ext cx="7581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U</a:t>
            </a:r>
            <a:r>
              <a:rPr b="0" lang="en-GB" sz="1400" spc="-1" strike="noStrike">
                <a:solidFill>
                  <a:srgbClr val="ffffff"/>
                </a:solidFill>
                <a:latin typeface="Garamond"/>
              </a:rPr>
              <a:t>NITED </a:t>
            </a:r>
            <a:r>
              <a:rPr b="0" lang="en-GB" sz="1800" spc="-1" strike="noStrike">
                <a:solidFill>
                  <a:srgbClr val="ffffff"/>
                </a:solidFill>
                <a:latin typeface="Garamond"/>
              </a:rPr>
              <a:t>N</a:t>
            </a:r>
            <a:r>
              <a:rPr b="0" lang="en-GB" sz="1400" spc="-1" strike="noStrike">
                <a:solidFill>
                  <a:srgbClr val="ffffff"/>
                </a:solidFill>
                <a:latin typeface="Garamond"/>
              </a:rPr>
              <a:t>ATIONS </a:t>
            </a:r>
            <a:r>
              <a:rPr b="0" lang="en-GB" sz="1800" spc="-1" strike="noStrike">
                <a:solidFill>
                  <a:srgbClr val="ffffff"/>
                </a:solidFill>
                <a:latin typeface="Garamond"/>
              </a:rPr>
              <a:t>C</a:t>
            </a:r>
            <a:r>
              <a:rPr b="0" lang="en-GB" sz="1400" spc="-1" strike="noStrike">
                <a:solidFill>
                  <a:srgbClr val="ffffff"/>
                </a:solidFill>
                <a:latin typeface="Garamond"/>
              </a:rPr>
              <a:t>ENTRE </a:t>
            </a:r>
            <a:r>
              <a:rPr b="0" lang="en-GB" sz="1800" spc="-1" strike="noStrike">
                <a:solidFill>
                  <a:srgbClr val="ffffff"/>
                </a:solidFill>
                <a:latin typeface="Garamond"/>
              </a:rPr>
              <a:t>F</a:t>
            </a:r>
            <a:r>
              <a:rPr b="0" lang="en-GB" sz="1400" spc="-1" strike="noStrike">
                <a:solidFill>
                  <a:srgbClr val="ffffff"/>
                </a:solidFill>
                <a:latin typeface="Garamond"/>
              </a:rPr>
              <a:t>OR </a:t>
            </a:r>
            <a:r>
              <a:rPr b="0" lang="en-GB" sz="1800" spc="-1" strike="noStrike">
                <a:solidFill>
                  <a:srgbClr val="ffffff"/>
                </a:solidFill>
                <a:latin typeface="Garamond"/>
              </a:rPr>
              <a:t>T</a:t>
            </a:r>
            <a:r>
              <a:rPr b="0" lang="en-GB" sz="1400" spc="-1" strike="noStrike">
                <a:solidFill>
                  <a:srgbClr val="ffffff"/>
                </a:solidFill>
                <a:latin typeface="Garamond"/>
              </a:rPr>
              <a:t>RADE </a:t>
            </a:r>
            <a:r>
              <a:rPr b="0" lang="en-GB" sz="1800" spc="-1" strike="noStrike">
                <a:solidFill>
                  <a:srgbClr val="ffffff"/>
                </a:solidFill>
                <a:latin typeface="Garamond"/>
              </a:rPr>
              <a:t>F</a:t>
            </a:r>
            <a:r>
              <a:rPr b="0" lang="en-GB" sz="1400" spc="-1" strike="noStrike">
                <a:solidFill>
                  <a:srgbClr val="ffffff"/>
                </a:solidFill>
                <a:latin typeface="Garamond"/>
              </a:rPr>
              <a:t>ACILITATION </a:t>
            </a:r>
            <a:r>
              <a:rPr b="0" lang="en-GB" sz="1800" spc="-1" strike="noStrike">
                <a:solidFill>
                  <a:srgbClr val="ffffff"/>
                </a:solidFill>
                <a:latin typeface="Garamond"/>
              </a:rPr>
              <a:t>A</a:t>
            </a:r>
            <a:r>
              <a:rPr b="0" lang="en-GB" sz="1400" spc="-1" strike="noStrike">
                <a:solidFill>
                  <a:srgbClr val="ffffff"/>
                </a:solidFill>
                <a:latin typeface="Garamond"/>
              </a:rPr>
              <a:t>ND </a:t>
            </a:r>
            <a:r>
              <a:rPr b="0" lang="en-GB" sz="1800" spc="-1" strike="noStrike">
                <a:solidFill>
                  <a:srgbClr val="ffffff"/>
                </a:solidFill>
                <a:latin typeface="Garamond"/>
              </a:rPr>
              <a:t>E</a:t>
            </a:r>
            <a:r>
              <a:rPr b="0" lang="en-GB" sz="1400" spc="-1" strike="noStrike">
                <a:solidFill>
                  <a:srgbClr val="ffffff"/>
                </a:solidFill>
                <a:latin typeface="Garamond"/>
              </a:rPr>
              <a:t>LECTRONIC </a:t>
            </a:r>
            <a:r>
              <a:rPr b="0" lang="en-GB" sz="1800" spc="-1" strike="noStrike">
                <a:solidFill>
                  <a:srgbClr val="ffffff"/>
                </a:solidFill>
                <a:latin typeface="Garamond"/>
              </a:rPr>
              <a:t>B</a:t>
            </a:r>
            <a:r>
              <a:rPr b="0" lang="en-GB" sz="1400" spc="-1" strike="noStrike">
                <a:solidFill>
                  <a:srgbClr val="ffffff"/>
                </a:solidFill>
                <a:latin typeface="Garamond"/>
              </a:rPr>
              <a:t>USINES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Under the auspices of United Nations Economic Commission for Europe</a:t>
            </a:r>
            <a:endParaRPr b="0" lang="en-US" sz="1400" spc="-1" strike="noStrike">
              <a:solidFill>
                <a:srgbClr val="ffffff"/>
              </a:solidFill>
              <a:latin typeface="Arial"/>
            </a:endParaRPr>
          </a:p>
        </p:txBody>
      </p:sp>
      <p:sp>
        <p:nvSpPr>
          <p:cNvPr id="126" name=""/>
          <p:cNvSpPr/>
          <p:nvPr/>
        </p:nvSpPr>
        <p:spPr>
          <a:xfrm>
            <a:off x="3585240" y="2133720"/>
            <a:ext cx="192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FACT</a:t>
            </a:r>
            <a:endParaRPr b="0" lang="en-US" sz="2400" spc="-1" strike="noStrike">
              <a:solidFill>
                <a:srgbClr val="ffffff"/>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Click to edit the outline text format</a:t>
            </a:r>
            <a:endParaRPr b="1" lang="en-US" sz="1800" spc="-1" strike="noStrike">
              <a:solidFill>
                <a:srgbClr val="3193ff"/>
              </a:solidFill>
              <a:latin typeface="Garamond"/>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ond Outline Level</a:t>
            </a:r>
            <a:endParaRPr b="0" lang="en-US" sz="2400" spc="-1" strike="noStrike">
              <a:solidFill>
                <a:srgbClr val="ffffff"/>
              </a:solidFill>
              <a:latin typeface="Garamond"/>
            </a:endParaRPr>
          </a:p>
          <a:p>
            <a:pPr lvl="2" marL="914400" algn="ctr">
              <a:spcBef>
                <a:spcPts val="499"/>
              </a:spcBef>
              <a:buClr>
                <a:srgbClr val="ffff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1371600" algn="ctr">
              <a:spcBef>
                <a:spcPts val="451"/>
              </a:spcBef>
              <a:buClr>
                <a:srgbClr val="ffff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ourth Outline Level</a:t>
            </a:r>
            <a:endParaRPr b="0" lang="en-US" sz="1800" spc="-1" strike="noStrike">
              <a:solidFill>
                <a:srgbClr val="ffffff"/>
              </a:solidFill>
              <a:latin typeface="Garamond"/>
            </a:endParaRPr>
          </a:p>
          <a:p>
            <a:pPr lvl="4" marL="1828800" algn="ctr">
              <a:spcBef>
                <a:spcPts val="451"/>
              </a:spcBef>
              <a:buClr>
                <a:srgbClr val="ffffff"/>
              </a:buClr>
              <a:buSzPct val="50000"/>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fth Outline Level</a:t>
            </a:r>
            <a:endParaRPr b="0" lang="en-US" sz="1800" spc="-1" strike="noStrike">
              <a:solidFill>
                <a:srgbClr val="ffffff"/>
              </a:solidFill>
              <a:latin typeface="Garamond"/>
            </a:endParaRPr>
          </a:p>
          <a:p>
            <a:pPr lvl="5" marL="1828800">
              <a:spcBef>
                <a:spcPts val="451"/>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ixth Outline Level</a:t>
            </a:r>
            <a:endParaRPr b="0" lang="en-US" sz="1800" spc="-1" strike="noStrike">
              <a:solidFill>
                <a:srgbClr val="ffffff"/>
              </a:solidFill>
              <a:latin typeface="Garamond"/>
            </a:endParaRPr>
          </a:p>
          <a:p>
            <a:pPr lvl="6" marL="1828800">
              <a:spcBef>
                <a:spcPts val="451"/>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venth Outline Level</a:t>
            </a: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124080"/>
            <a:ext cx="84582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Garamond"/>
              </a:rPr>
              <a:t>Key issues and risks surrounding Liaison arrangements</a:t>
            </a:r>
            <a:endParaRPr b="1" lang="en-US" sz="3200" spc="-1" strike="noStrike">
              <a:solidFill>
                <a:srgbClr val="00cc99"/>
              </a:solidFill>
              <a:latin typeface="Garamond"/>
            </a:endParaRPr>
          </a:p>
        </p:txBody>
      </p:sp>
      <p:sp>
        <p:nvSpPr>
          <p:cNvPr id="172" name="PlaceHolder 2"/>
          <p:cNvSpPr>
            <a:spLocks noGrp="1"/>
          </p:cNvSpPr>
          <p:nvPr>
            <p:ph type="subTitle"/>
          </p:nvPr>
        </p:nvSpPr>
        <p:spPr>
          <a:xfrm>
            <a:off x="1295280" y="4419360"/>
            <a:ext cx="6400800" cy="5331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Presented by the UN/CEFACT Standards Liaison Rapporteur</a:t>
            </a:r>
            <a:endParaRPr b="1" lang="en-US" sz="1800" spc="-1" strike="noStrike">
              <a:solidFill>
                <a:srgbClr val="3193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Introduction</a:t>
            </a:r>
            <a:endParaRPr b="1" lang="en-US" sz="3600" spc="-1" strike="noStrike">
              <a:solidFill>
                <a:srgbClr val="ffffcc"/>
              </a:solidFill>
              <a:latin typeface="Garamond"/>
            </a:endParaRPr>
          </a:p>
        </p:txBody>
      </p:sp>
      <p:sp>
        <p:nvSpPr>
          <p:cNvPr id="174"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andards Development Organizations (SDO) increasingly collaborate with one another.</a:t>
            </a:r>
            <a:endParaRPr b="0" lang="en-US" sz="24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wards and Risks</a:t>
            </a:r>
            <a:endParaRPr b="0" lang="en-US" sz="20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ll Standards Development Organizations are different.</a:t>
            </a:r>
            <a:endParaRPr b="0" lang="en-US" sz="24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iaison development and Referencing Policies</a:t>
            </a:r>
            <a:endParaRPr b="0" lang="en-US" sz="20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609120"/>
            <a:ext cx="8001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Main varieties of Liaison Arrangements</a:t>
            </a:r>
            <a:endParaRPr b="1" lang="en-US" sz="3600" spc="-1" strike="noStrike">
              <a:solidFill>
                <a:srgbClr val="ffffcc"/>
              </a:solidFill>
              <a:latin typeface="Garamond"/>
            </a:endParaRPr>
          </a:p>
        </p:txBody>
      </p:sp>
      <p:sp>
        <p:nvSpPr>
          <p:cNvPr id="176" name="PlaceHolder 2"/>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formal Agreements</a:t>
            </a:r>
            <a:endParaRPr b="0" lang="en-US" sz="2800" spc="-1" strike="noStrike">
              <a:solidFill>
                <a:srgbClr val="ffffff"/>
              </a:solidFill>
              <a:latin typeface="Garamond"/>
            </a:endParaRPr>
          </a:p>
          <a:p>
            <a:pPr lvl="1" marL="743040" indent="-285840">
              <a:spcBef>
                <a:spcPts val="60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mething short of a formal joint relationship</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mal Agreements</a:t>
            </a:r>
            <a:endParaRPr b="0" lang="en-US" sz="2800" spc="-1" strike="noStrike">
              <a:solidFill>
                <a:srgbClr val="ffffff"/>
              </a:solidFill>
              <a:latin typeface="Garamond"/>
            </a:endParaRPr>
          </a:p>
          <a:p>
            <a:pPr lvl="1" marL="743040" indent="-285840">
              <a:spcBef>
                <a:spcPts val="60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ormal joint development / sponsorship effort with a common objective on an effort of stated scope in a coordinated and complimentary effor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Informal Liaison Arrangements</a:t>
            </a:r>
            <a:endParaRPr b="1" lang="en-US" sz="3600" spc="-1" strike="noStrike">
              <a:solidFill>
                <a:srgbClr val="ffffcc"/>
              </a:solidFill>
              <a:latin typeface="Garamond"/>
            </a:endParaRPr>
          </a:p>
        </p:txBody>
      </p:sp>
      <p:sp>
        <p:nvSpPr>
          <p:cNvPr id="178"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reatest potential for problems</a:t>
            </a:r>
            <a:endParaRPr b="0" lang="en-US" sz="2800" spc="-1" strike="noStrike">
              <a:solidFill>
                <a:srgbClr val="ffffff"/>
              </a:solidFill>
              <a:latin typeface="Garamond"/>
            </a:endParaRPr>
          </a:p>
          <a:p>
            <a:pPr lvl="1" marL="743040" indent="-285840">
              <a:spcBef>
                <a:spcPts val="60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written guidelines on how the collaboration will work</a:t>
            </a:r>
            <a:endParaRPr b="0" lang="en-US" sz="2400" spc="-1" strike="noStrike">
              <a:solidFill>
                <a:srgbClr val="ffffff"/>
              </a:solidFill>
              <a:latin typeface="Garamond"/>
            </a:endParaRPr>
          </a:p>
          <a:p>
            <a:pPr lvl="2" marL="1143000" indent="-22860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How will contributions be contributed and licensed</a:t>
            </a:r>
            <a:endParaRPr b="0" lang="en-US" sz="2000" spc="-1" strike="noStrike">
              <a:solidFill>
                <a:srgbClr val="ffffff"/>
              </a:solidFill>
              <a:latin typeface="Garamond"/>
            </a:endParaRPr>
          </a:p>
          <a:p>
            <a:pPr lvl="2" marL="1143000" indent="-22860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atent disclosure obligations</a:t>
            </a:r>
            <a:endParaRPr b="0" lang="en-US" sz="2000" spc="-1" strike="noStrike">
              <a:solidFill>
                <a:srgbClr val="ffffff"/>
              </a:solidFill>
              <a:latin typeface="Garamond"/>
            </a:endParaRPr>
          </a:p>
          <a:p>
            <a:pPr lvl="2" marL="1143000" indent="-22860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o will own and be in charge of future updates</a:t>
            </a:r>
            <a:endParaRPr b="0" lang="en-US" sz="2000" spc="-1" strike="noStrike">
              <a:solidFill>
                <a:srgbClr val="ffffff"/>
              </a:solidFill>
              <a:latin typeface="Garamond"/>
            </a:endParaRPr>
          </a:p>
          <a:p>
            <a:pPr lvl="2" marL="1143000" indent="-22860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icenses implementators need to create compliant product</a:t>
            </a:r>
            <a:endParaRPr b="0" lang="en-US" sz="2000" spc="-1" strike="noStrike">
              <a:solidFill>
                <a:srgbClr val="ffffff"/>
              </a:solidFill>
              <a:latin typeface="Garamond"/>
            </a:endParaRPr>
          </a:p>
          <a:p>
            <a:pPr lvl="3" marL="1600200" indent="-228600">
              <a:spcBef>
                <a:spcPts val="451"/>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ub-licensing?</a:t>
            </a:r>
            <a:endParaRPr b="0" lang="en-US" sz="18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Formal Liaison Agreements</a:t>
            </a:r>
            <a:endParaRPr b="1" lang="en-US" sz="3600" spc="-1" strike="noStrike">
              <a:solidFill>
                <a:srgbClr val="ffffcc"/>
              </a:solidFill>
              <a:latin typeface="Garamond"/>
            </a:endParaRPr>
          </a:p>
        </p:txBody>
      </p:sp>
      <p:sp>
        <p:nvSpPr>
          <p:cNvPr id="18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rganizations (as ANSI, ITU, ISO, OASIS, W3C, others) have formal written procedures and guidelines on how to, and with whom under what circumstances they may form formal liaisons</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ey areas covered in a formal relationship:</a:t>
            </a:r>
            <a:endParaRPr b="0" lang="en-US" sz="20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pe</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lationship</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cedures</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pplicapable Intellectual Property</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P management</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aming</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nouncements</a:t>
            </a:r>
            <a:endParaRPr b="0" lang="en-US" sz="1800" spc="-1" strike="noStrike">
              <a:solidFill>
                <a:srgbClr val="ffffff"/>
              </a:solidFill>
              <a:latin typeface="Garamond"/>
            </a:endParaRPr>
          </a:p>
          <a:p>
            <a:pPr lvl="1" marL="705600" indent="-271440">
              <a:lnSpc>
                <a:spcPct val="90000"/>
              </a:lnSpc>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d more . .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Submitting work to another SDO</a:t>
            </a:r>
            <a:endParaRPr b="1" lang="en-US" sz="3600" spc="-1" strike="noStrike">
              <a:solidFill>
                <a:srgbClr val="ffffcc"/>
              </a:solidFill>
              <a:latin typeface="Garamond"/>
            </a:endParaRPr>
          </a:p>
        </p:txBody>
      </p:sp>
      <p:sp>
        <p:nvSpPr>
          <p:cNvPr id="182"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mportant to have a defined policy governing submission of work to other organizations</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imilar concerns as with forming a formal liaison</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eed for operating procedures:</a:t>
            </a:r>
            <a:endParaRPr b="0" lang="en-US" sz="24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o may start a process</a:t>
            </a:r>
            <a:endParaRPr b="0" lang="en-US" sz="20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ceptable status of work that can be transferred</a:t>
            </a:r>
            <a:endParaRPr b="0" lang="en-US" sz="2000" spc="-1" strike="noStrike">
              <a:solidFill>
                <a:srgbClr val="ffffff"/>
              </a:solidFill>
              <a:latin typeface="Garamond"/>
            </a:endParaRPr>
          </a:p>
          <a:p>
            <a:pPr lvl="1" marL="743040" indent="-285840">
              <a:spcBef>
                <a:spcPts val="499"/>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nd more . .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Key Risks and Issues with Referencing</a:t>
            </a:r>
            <a:endParaRPr b="1" lang="en-US" sz="3600" spc="-1" strike="noStrike">
              <a:solidFill>
                <a:srgbClr val="ffffcc"/>
              </a:solidFill>
              <a:latin typeface="Garamond"/>
            </a:endParaRPr>
          </a:p>
        </p:txBody>
      </p:sp>
      <p:sp>
        <p:nvSpPr>
          <p:cNvPr id="184"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other common practice called ‘referencing’</a:t>
            </a:r>
            <a:endParaRPr b="0" lang="en-US" sz="2800" spc="-1" strike="noStrike">
              <a:solidFill>
                <a:srgbClr val="ffffff"/>
              </a:solidFill>
              <a:latin typeface="Garamond"/>
            </a:endParaRPr>
          </a:p>
          <a:p>
            <a:pPr lvl="1" marL="698400" indent="-268560">
              <a:spcBef>
                <a:spcPts val="60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ere there may be little or no coordination between organizations:</a:t>
            </a:r>
            <a:endParaRPr b="0" lang="en-US" sz="2400" spc="-1" strike="noStrike">
              <a:solidFill>
                <a:srgbClr val="ffffff"/>
              </a:solidFill>
              <a:latin typeface="Garamond"/>
            </a:endParaRPr>
          </a:p>
          <a:p>
            <a:pPr lvl="2" marL="1074240" indent="-21456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RMATIVE referencing</a:t>
            </a:r>
            <a:endParaRPr b="0" lang="en-US" sz="2000" spc="-1" strike="noStrike">
              <a:solidFill>
                <a:srgbClr val="ffffff"/>
              </a:solidFill>
              <a:latin typeface="Garamond"/>
            </a:endParaRPr>
          </a:p>
          <a:p>
            <a:pPr lvl="2" marL="1074240" indent="-214560">
              <a:spcBef>
                <a:spcPts val="49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FORMATIVE referencing</a:t>
            </a:r>
            <a:endParaRPr b="0" lang="en-US" sz="20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est practice for informative referencing is to follow the same procedures as normative referenc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Next Steps</a:t>
            </a:r>
            <a:endParaRPr b="1" lang="en-US" sz="3600" spc="-1" strike="noStrike">
              <a:solidFill>
                <a:srgbClr val="ffffcc"/>
              </a:solidFill>
              <a:latin typeface="Garamond"/>
            </a:endParaRPr>
          </a:p>
        </p:txBody>
      </p:sp>
      <p:sp>
        <p:nvSpPr>
          <p:cNvPr id="18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reate a CEFACT Liaison Development Policy &amp; Liaison Operating Procedures</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upport the UN Secretariat with necessary competent legal services to manage the CEFACT portfolio of Liaison relationships</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ncourage CEFACT Groups to employ formal Liaison practices to accelerate development and avoid duplicative work</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7" name=""/>
          <p:cNvSpPr/>
          <p:nvPr/>
        </p:nvSpPr>
        <p:spPr>
          <a:xfrm>
            <a:off x="0" y="0"/>
            <a:ext cx="9144000" cy="6858000"/>
          </a:xfrm>
          <a:prstGeom prst="rect">
            <a:avLst/>
          </a:prstGeom>
          <a:solidFill>
            <a:srgbClr val="00288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2666880" y="3657600"/>
            <a:ext cx="3810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cc"/>
                </a:solidFill>
                <a:latin typeface="Arial"/>
              </a:rPr>
              <a:t>UN/CEFACT</a:t>
            </a:r>
            <a:endParaRPr b="0" lang="en-US" sz="3300" spc="-1" strike="noStrike">
              <a:solidFill>
                <a:srgbClr val="ffffff"/>
              </a:solidFill>
              <a:latin typeface="Arial"/>
            </a:endParaRPr>
          </a:p>
        </p:txBody>
      </p:sp>
      <p:grpSp>
        <p:nvGrpSpPr>
          <p:cNvPr id="189" name=""/>
          <p:cNvGrpSpPr/>
          <p:nvPr/>
        </p:nvGrpSpPr>
        <p:grpSpPr>
          <a:xfrm>
            <a:off x="3581280" y="1828800"/>
            <a:ext cx="2056680" cy="1751760"/>
            <a:chOff x="3581280" y="1828800"/>
            <a:chExt cx="2056680" cy="1751760"/>
          </a:xfrm>
        </p:grpSpPr>
        <p:sp>
          <p:nvSpPr>
            <p:cNvPr id="190" name=""/>
            <p:cNvSpPr/>
            <p:nvPr/>
          </p:nvSpPr>
          <p:spPr>
            <a:xfrm>
              <a:off x="3816000" y="1828800"/>
              <a:ext cx="235080" cy="28584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3581280" y="2594160"/>
              <a:ext cx="253800" cy="42912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5168160" y="1828800"/>
              <a:ext cx="234720" cy="28584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5384160" y="2594160"/>
              <a:ext cx="253800" cy="42912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4" name=""/>
            <p:cNvSpPr/>
            <p:nvPr/>
          </p:nvSpPr>
          <p:spPr>
            <a:xfrm>
              <a:off x="4949280" y="3015000"/>
              <a:ext cx="480960" cy="3722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4802040" y="2027520"/>
              <a:ext cx="55080" cy="3672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196" name=""/>
            <p:cNvSpPr/>
            <p:nvPr/>
          </p:nvSpPr>
          <p:spPr>
            <a:xfrm>
              <a:off x="4908600" y="2325240"/>
              <a:ext cx="84600" cy="896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97" name=""/>
            <p:cNvSpPr/>
            <p:nvPr/>
          </p:nvSpPr>
          <p:spPr>
            <a:xfrm>
              <a:off x="4927680" y="2899800"/>
              <a:ext cx="46440" cy="7236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198" name=""/>
            <p:cNvSpPr/>
            <p:nvPr/>
          </p:nvSpPr>
          <p:spPr>
            <a:xfrm>
              <a:off x="4914000" y="2069640"/>
              <a:ext cx="32760" cy="2844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99" name=""/>
            <p:cNvSpPr/>
            <p:nvPr/>
          </p:nvSpPr>
          <p:spPr>
            <a:xfrm>
              <a:off x="4769280" y="2201760"/>
              <a:ext cx="82080" cy="1090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4815720" y="2089440"/>
              <a:ext cx="295200" cy="27432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4282920" y="2596680"/>
              <a:ext cx="19080" cy="5076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02" name=""/>
            <p:cNvSpPr/>
            <p:nvPr/>
          </p:nvSpPr>
          <p:spPr>
            <a:xfrm>
              <a:off x="3993480" y="2414880"/>
              <a:ext cx="595080" cy="49896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4488120" y="2566080"/>
              <a:ext cx="98280" cy="896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204" name=""/>
            <p:cNvSpPr/>
            <p:nvPr/>
          </p:nvSpPr>
          <p:spPr>
            <a:xfrm>
              <a:off x="4561560" y="2647440"/>
              <a:ext cx="16560" cy="1080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205" name=""/>
            <p:cNvSpPr/>
            <p:nvPr/>
          </p:nvSpPr>
          <p:spPr>
            <a:xfrm>
              <a:off x="4542480" y="2341800"/>
              <a:ext cx="494640" cy="74304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4602600" y="2938680"/>
              <a:ext cx="8640" cy="29160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4482360" y="2431440"/>
              <a:ext cx="240120" cy="24660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3933720" y="2557800"/>
              <a:ext cx="344160" cy="792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9" name=""/>
            <p:cNvSpPr/>
            <p:nvPr/>
          </p:nvSpPr>
          <p:spPr>
            <a:xfrm>
              <a:off x="4898160" y="2557800"/>
              <a:ext cx="360360" cy="792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0" name=""/>
            <p:cNvSpPr/>
            <p:nvPr/>
          </p:nvSpPr>
          <p:spPr>
            <a:xfrm>
              <a:off x="3644280" y="2810160"/>
              <a:ext cx="360360" cy="44568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3646800" y="2078640"/>
              <a:ext cx="240120" cy="4849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5332320" y="2078640"/>
              <a:ext cx="240120" cy="4849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3933720" y="3367800"/>
              <a:ext cx="1346400" cy="2127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3941640" y="1884600"/>
              <a:ext cx="1319040" cy="134820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4343760" y="2291400"/>
              <a:ext cx="521280" cy="532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6" name=""/>
            <p:cNvGrpSpPr/>
            <p:nvPr/>
          </p:nvGrpSpPr>
          <p:grpSpPr>
            <a:xfrm>
              <a:off x="3589200" y="1907280"/>
              <a:ext cx="2035080" cy="1479240"/>
              <a:chOff x="3589200" y="1907280"/>
              <a:chExt cx="2035080" cy="1479240"/>
            </a:xfrm>
          </p:grpSpPr>
          <p:sp>
            <p:nvSpPr>
              <p:cNvPr id="217" name=""/>
              <p:cNvSpPr/>
              <p:nvPr/>
            </p:nvSpPr>
            <p:spPr>
              <a:xfrm>
                <a:off x="3589200" y="2344320"/>
                <a:ext cx="235080" cy="43704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3788280" y="3016800"/>
                <a:ext cx="478080" cy="369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5392080" y="2344320"/>
                <a:ext cx="232200" cy="43704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5211720" y="2814840"/>
                <a:ext cx="357120" cy="44280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3788280" y="1923480"/>
                <a:ext cx="193680" cy="3870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5233320" y="1935000"/>
                <a:ext cx="253800" cy="369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4078440" y="2041200"/>
                <a:ext cx="1054080" cy="106524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4209120" y="2170080"/>
                <a:ext cx="789480" cy="8013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4605480" y="1907280"/>
                <a:ext cx="5400" cy="54900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6" name=""/>
            <p:cNvSpPr/>
            <p:nvPr/>
          </p:nvSpPr>
          <p:spPr>
            <a:xfrm>
              <a:off x="4859640" y="2838240"/>
              <a:ext cx="199440" cy="20448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4135320" y="2083680"/>
              <a:ext cx="371520" cy="3787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4135320" y="2655720"/>
              <a:ext cx="376920" cy="38700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4709160" y="2083680"/>
              <a:ext cx="371520" cy="3787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0" name=""/>
          <p:cNvSpPr/>
          <p:nvPr/>
        </p:nvSpPr>
        <p:spPr>
          <a:xfrm>
            <a:off x="3124080" y="4114800"/>
            <a:ext cx="2965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S</a:t>
            </a:r>
            <a:r>
              <a:rPr b="0" lang="en-GB" sz="800" spc="-1" strike="noStrike">
                <a:solidFill>
                  <a:srgbClr val="ffffff"/>
                </a:solidFill>
                <a:latin typeface="Garamond"/>
              </a:rPr>
              <a:t>IMPLE, </a:t>
            </a:r>
            <a:r>
              <a:rPr b="0" lang="en-GB" sz="1000" spc="-1" strike="noStrike">
                <a:solidFill>
                  <a:srgbClr val="ffffff"/>
                </a:solidFill>
                <a:latin typeface="Garamond"/>
              </a:rPr>
              <a:t>T</a:t>
            </a:r>
            <a:r>
              <a:rPr b="0" lang="en-GB" sz="800" spc="-1" strike="noStrike">
                <a:solidFill>
                  <a:srgbClr val="ffffff"/>
                </a:solidFill>
                <a:latin typeface="Garamond"/>
              </a:rPr>
              <a:t>RANSPARENT AND </a:t>
            </a:r>
            <a:r>
              <a:rPr b="0" lang="en-GB" sz="1000" spc="-1" strike="noStrike">
                <a:solidFill>
                  <a:srgbClr val="ffffff"/>
                </a:solidFill>
                <a:latin typeface="Garamond"/>
              </a:rPr>
              <a:t>E</a:t>
            </a:r>
            <a:r>
              <a:rPr b="0" lang="en-GB" sz="800" spc="-1" strike="noStrike">
                <a:solidFill>
                  <a:srgbClr val="ffffff"/>
                </a:solidFill>
                <a:latin typeface="Garamond"/>
              </a:rPr>
              <a:t>FFECTIVE </a:t>
            </a:r>
            <a:r>
              <a:rPr b="0" lang="en-GB" sz="1000" spc="-1" strike="noStrike">
                <a:solidFill>
                  <a:srgbClr val="ffffff"/>
                </a:solidFill>
                <a:latin typeface="Garamond"/>
              </a:rPr>
              <a:t>P</a:t>
            </a:r>
            <a:r>
              <a:rPr b="0" lang="en-GB" sz="800" spc="-1" strike="noStrike">
                <a:solidFill>
                  <a:srgbClr val="ffffff"/>
                </a:solidFill>
                <a:latin typeface="Garamond"/>
              </a:rPr>
              <a:t>ROCESSE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FOR </a:t>
            </a:r>
            <a:r>
              <a:rPr b="0" lang="en-GB" sz="1000" spc="-1" strike="noStrike">
                <a:solidFill>
                  <a:srgbClr val="ffffff"/>
                </a:solidFill>
                <a:latin typeface="Garamond"/>
              </a:rPr>
              <a:t>G</a:t>
            </a:r>
            <a:r>
              <a:rPr b="0" lang="en-GB" sz="800" spc="-1" strike="noStrike">
                <a:solidFill>
                  <a:srgbClr val="ffffff"/>
                </a:solidFill>
                <a:latin typeface="Garamond"/>
              </a:rPr>
              <a:t>LOBAL </a:t>
            </a:r>
            <a:r>
              <a:rPr b="0" lang="en-GB" sz="1000" spc="-1" strike="noStrike">
                <a:solidFill>
                  <a:srgbClr val="ffffff"/>
                </a:solidFill>
                <a:latin typeface="Garamond"/>
              </a:rPr>
              <a:t>B</a:t>
            </a:r>
            <a:r>
              <a:rPr b="0" lang="en-GB" sz="800" spc="-1" strike="noStrike">
                <a:solidFill>
                  <a:srgbClr val="ffffff"/>
                </a:solidFill>
                <a:latin typeface="Garamond"/>
              </a:rPr>
              <a:t>USINES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00:47:58Z</dcterms:created>
  <dc:creator>knaujok</dc:creator>
  <dc:description/>
  <dc:language>en-US</dc:language>
  <cp:lastModifiedBy>Dave Welsh</cp:lastModifiedBy>
  <dcterms:modified xsi:type="dcterms:W3CDTF">2004-05-18T05:33:15Z</dcterms:modified>
  <cp:revision>22</cp:revision>
  <dc:subject/>
  <dc:title>PowerPoint Presentation</dc:title>
</cp:coreProperties>
</file>