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696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42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6472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696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42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50600" y="0"/>
            <a:ext cx="797220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4696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742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6472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4696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742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0600" y="0"/>
            <a:ext cx="797220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58960" indent="-38736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33440" indent="-40464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03360" y="1905120"/>
            <a:ext cx="12600" cy="457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70640"/>
            <a:ext cx="6553440" cy="1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737480" y="5392800"/>
            <a:ext cx="1308240" cy="1422720"/>
            <a:chOff x="7737480" y="5392800"/>
            <a:chExt cx="1308240" cy="1422720"/>
          </a:xfrm>
        </p:grpSpPr>
        <p:grpSp>
          <p:nvGrpSpPr>
            <p:cNvPr id="5" name=""/>
            <p:cNvGrpSpPr/>
            <p:nvPr/>
          </p:nvGrpSpPr>
          <p:grpSpPr>
            <a:xfrm>
              <a:off x="7940880" y="5729400"/>
              <a:ext cx="914400" cy="761400"/>
              <a:chOff x="7940880" y="5729400"/>
              <a:chExt cx="914400" cy="761400"/>
            </a:xfrm>
          </p:grpSpPr>
          <p:sp>
            <p:nvSpPr>
              <p:cNvPr id="6" name=""/>
              <p:cNvSpPr/>
              <p:nvPr/>
            </p:nvSpPr>
            <p:spPr>
              <a:xfrm>
                <a:off x="804420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8115" y="10864"/>
                    </a:lnTo>
                    <a:lnTo>
                      <a:pt x="16326" y="11794"/>
                    </a:lnTo>
                    <a:lnTo>
                      <a:pt x="14653" y="12838"/>
                    </a:lnTo>
                    <a:lnTo>
                      <a:pt x="13173" y="13964"/>
                    </a:lnTo>
                    <a:lnTo>
                      <a:pt x="11923" y="15236"/>
                    </a:lnTo>
                    <a:lnTo>
                      <a:pt x="10923" y="16639"/>
                    </a:lnTo>
                    <a:lnTo>
                      <a:pt x="10269" y="18205"/>
                    </a:lnTo>
                    <a:lnTo>
                      <a:pt x="10000" y="20000"/>
                    </a:lnTo>
                    <a:lnTo>
                      <a:pt x="11769" y="18988"/>
                    </a:lnTo>
                    <a:lnTo>
                      <a:pt x="13346" y="17830"/>
                    </a:lnTo>
                    <a:lnTo>
                      <a:pt x="14788" y="16541"/>
                    </a:lnTo>
                    <a:lnTo>
                      <a:pt x="16057" y="15171"/>
                    </a:lnTo>
                    <a:lnTo>
                      <a:pt x="17192" y="13800"/>
                    </a:lnTo>
                    <a:lnTo>
                      <a:pt x="18211" y="12430"/>
                    </a:lnTo>
                    <a:lnTo>
                      <a:pt x="19153" y="11141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40880" y="6060960"/>
                <a:ext cx="1126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121" y="10000"/>
                    </a:moveTo>
                    <a:lnTo>
                      <a:pt x="19408" y="10581"/>
                    </a:lnTo>
                    <a:lnTo>
                      <a:pt x="19659" y="11293"/>
                    </a:lnTo>
                    <a:lnTo>
                      <a:pt x="19856" y="12171"/>
                    </a:lnTo>
                    <a:lnTo>
                      <a:pt x="19982" y="13234"/>
                    </a:lnTo>
                    <a:lnTo>
                      <a:pt x="20000" y="14506"/>
                    </a:lnTo>
                    <a:lnTo>
                      <a:pt x="19892" y="16052"/>
                    </a:lnTo>
                    <a:lnTo>
                      <a:pt x="19659" y="17861"/>
                    </a:lnTo>
                    <a:lnTo>
                      <a:pt x="19265" y="20000"/>
                    </a:lnTo>
                    <a:lnTo>
                      <a:pt x="16146" y="18432"/>
                    </a:lnTo>
                    <a:lnTo>
                      <a:pt x="13853" y="17072"/>
                    </a:lnTo>
                    <a:lnTo>
                      <a:pt x="12258" y="15888"/>
                    </a:lnTo>
                    <a:lnTo>
                      <a:pt x="11236" y="14824"/>
                    </a:lnTo>
                    <a:lnTo>
                      <a:pt x="10627" y="13815"/>
                    </a:lnTo>
                    <a:lnTo>
                      <a:pt x="10304" y="12850"/>
                    </a:lnTo>
                    <a:lnTo>
                      <a:pt x="10125" y="11864"/>
                    </a:lnTo>
                    <a:lnTo>
                      <a:pt x="10000" y="10844"/>
                    </a:lnTo>
                    <a:lnTo>
                      <a:pt x="11254" y="11809"/>
                    </a:lnTo>
                    <a:lnTo>
                      <a:pt x="12204" y="12598"/>
                    </a:lnTo>
                    <a:lnTo>
                      <a:pt x="12956" y="13267"/>
                    </a:lnTo>
                    <a:lnTo>
                      <a:pt x="13602" y="13903"/>
                    </a:lnTo>
                    <a:lnTo>
                      <a:pt x="14265" y="14561"/>
                    </a:lnTo>
                    <a:lnTo>
                      <a:pt x="15053" y="15296"/>
                    </a:lnTo>
                    <a:lnTo>
                      <a:pt x="16111" y="16184"/>
                    </a:lnTo>
                    <a:lnTo>
                      <a:pt x="17544" y="17302"/>
                    </a:lnTo>
                    <a:lnTo>
                      <a:pt x="17562" y="16315"/>
                    </a:lnTo>
                    <a:lnTo>
                      <a:pt x="17652" y="15350"/>
                    </a:lnTo>
                    <a:lnTo>
                      <a:pt x="17795" y="14407"/>
                    </a:lnTo>
                    <a:lnTo>
                      <a:pt x="17974" y="13486"/>
                    </a:lnTo>
                    <a:lnTo>
                      <a:pt x="18189" y="12576"/>
                    </a:lnTo>
                    <a:lnTo>
                      <a:pt x="18458" y="11688"/>
                    </a:lnTo>
                    <a:lnTo>
                      <a:pt x="18781" y="10833"/>
                    </a:lnTo>
                    <a:lnTo>
                      <a:pt x="19121" y="10000"/>
                    </a:lnTo>
                    <a:close/>
                    <a:moveTo>
                      <a:pt x="19121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64576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1865" y="10864"/>
                    </a:lnTo>
                    <a:lnTo>
                      <a:pt x="13653" y="11794"/>
                    </a:lnTo>
                    <a:lnTo>
                      <a:pt x="15326" y="12838"/>
                    </a:lnTo>
                    <a:lnTo>
                      <a:pt x="16807" y="13964"/>
                    </a:lnTo>
                    <a:lnTo>
                      <a:pt x="18057" y="15236"/>
                    </a:lnTo>
                    <a:lnTo>
                      <a:pt x="19038" y="16639"/>
                    </a:lnTo>
                    <a:lnTo>
                      <a:pt x="19711" y="18205"/>
                    </a:lnTo>
                    <a:lnTo>
                      <a:pt x="20000" y="20000"/>
                    </a:lnTo>
                    <a:lnTo>
                      <a:pt x="18211" y="18988"/>
                    </a:lnTo>
                    <a:lnTo>
                      <a:pt x="16634" y="17830"/>
                    </a:lnTo>
                    <a:lnTo>
                      <a:pt x="15192" y="16541"/>
                    </a:lnTo>
                    <a:lnTo>
                      <a:pt x="13903" y="15171"/>
                    </a:lnTo>
                    <a:lnTo>
                      <a:pt x="12788" y="13800"/>
                    </a:lnTo>
                    <a:lnTo>
                      <a:pt x="11769" y="12430"/>
                    </a:lnTo>
                    <a:lnTo>
                      <a:pt x="10826" y="11141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40800" y="6060960"/>
                <a:ext cx="1144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858" y="10000"/>
                    </a:moveTo>
                    <a:lnTo>
                      <a:pt x="10572" y="10581"/>
                    </a:lnTo>
                    <a:lnTo>
                      <a:pt x="10322" y="11293"/>
                    </a:lnTo>
                    <a:lnTo>
                      <a:pt x="10125" y="12171"/>
                    </a:lnTo>
                    <a:lnTo>
                      <a:pt x="10017" y="13234"/>
                    </a:lnTo>
                    <a:lnTo>
                      <a:pt x="10000" y="14506"/>
                    </a:lnTo>
                    <a:lnTo>
                      <a:pt x="10107" y="16052"/>
                    </a:lnTo>
                    <a:lnTo>
                      <a:pt x="10322" y="17861"/>
                    </a:lnTo>
                    <a:lnTo>
                      <a:pt x="10751" y="20000"/>
                    </a:lnTo>
                    <a:lnTo>
                      <a:pt x="13846" y="18432"/>
                    </a:lnTo>
                    <a:lnTo>
                      <a:pt x="16118" y="17072"/>
                    </a:lnTo>
                    <a:lnTo>
                      <a:pt x="17728" y="15888"/>
                    </a:lnTo>
                    <a:lnTo>
                      <a:pt x="18729" y="14824"/>
                    </a:lnTo>
                    <a:lnTo>
                      <a:pt x="19338" y="13815"/>
                    </a:lnTo>
                    <a:lnTo>
                      <a:pt x="19660" y="12850"/>
                    </a:lnTo>
                    <a:lnTo>
                      <a:pt x="19839" y="11864"/>
                    </a:lnTo>
                    <a:lnTo>
                      <a:pt x="20000" y="10844"/>
                    </a:lnTo>
                    <a:lnTo>
                      <a:pt x="18711" y="11809"/>
                    </a:lnTo>
                    <a:lnTo>
                      <a:pt x="17763" y="12598"/>
                    </a:lnTo>
                    <a:lnTo>
                      <a:pt x="17012" y="13267"/>
                    </a:lnTo>
                    <a:lnTo>
                      <a:pt x="16368" y="13903"/>
                    </a:lnTo>
                    <a:lnTo>
                      <a:pt x="15706" y="14561"/>
                    </a:lnTo>
                    <a:lnTo>
                      <a:pt x="14919" y="15296"/>
                    </a:lnTo>
                    <a:lnTo>
                      <a:pt x="13864" y="16184"/>
                    </a:lnTo>
                    <a:lnTo>
                      <a:pt x="12450" y="17302"/>
                    </a:lnTo>
                    <a:lnTo>
                      <a:pt x="12397" y="16315"/>
                    </a:lnTo>
                    <a:lnTo>
                      <a:pt x="12325" y="15350"/>
                    </a:lnTo>
                    <a:lnTo>
                      <a:pt x="12182" y="14407"/>
                    </a:lnTo>
                    <a:lnTo>
                      <a:pt x="12021" y="13486"/>
                    </a:lnTo>
                    <a:lnTo>
                      <a:pt x="11771" y="12576"/>
                    </a:lnTo>
                    <a:lnTo>
                      <a:pt x="11520" y="11688"/>
                    </a:lnTo>
                    <a:lnTo>
                      <a:pt x="11216" y="10833"/>
                    </a:lnTo>
                    <a:lnTo>
                      <a:pt x="10858" y="10000"/>
                    </a:lnTo>
                    <a:close/>
                    <a:moveTo>
                      <a:pt x="108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548920" y="6243480"/>
                <a:ext cx="212760" cy="163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546" y="10000"/>
                    </a:moveTo>
                    <a:lnTo>
                      <a:pt x="14605" y="11384"/>
                    </a:lnTo>
                    <a:lnTo>
                      <a:pt x="13798" y="12693"/>
                    </a:lnTo>
                    <a:lnTo>
                      <a:pt x="13114" y="13940"/>
                    </a:lnTo>
                    <a:lnTo>
                      <a:pt x="12488" y="15124"/>
                    </a:lnTo>
                    <a:lnTo>
                      <a:pt x="11908" y="16259"/>
                    </a:lnTo>
                    <a:lnTo>
                      <a:pt x="11320" y="17394"/>
                    </a:lnTo>
                    <a:lnTo>
                      <a:pt x="10693" y="18503"/>
                    </a:lnTo>
                    <a:lnTo>
                      <a:pt x="10000" y="19625"/>
                    </a:lnTo>
                    <a:lnTo>
                      <a:pt x="10987" y="19663"/>
                    </a:lnTo>
                    <a:lnTo>
                      <a:pt x="12051" y="19850"/>
                    </a:lnTo>
                    <a:lnTo>
                      <a:pt x="13181" y="20000"/>
                    </a:lnTo>
                    <a:lnTo>
                      <a:pt x="14387" y="19987"/>
                    </a:lnTo>
                    <a:lnTo>
                      <a:pt x="15669" y="19638"/>
                    </a:lnTo>
                    <a:lnTo>
                      <a:pt x="17027" y="18815"/>
                    </a:lnTo>
                    <a:lnTo>
                      <a:pt x="18480" y="17369"/>
                    </a:lnTo>
                    <a:lnTo>
                      <a:pt x="20000" y="15124"/>
                    </a:lnTo>
                    <a:lnTo>
                      <a:pt x="19297" y="15635"/>
                    </a:lnTo>
                    <a:lnTo>
                      <a:pt x="18613" y="16109"/>
                    </a:lnTo>
                    <a:lnTo>
                      <a:pt x="17882" y="16533"/>
                    </a:lnTo>
                    <a:lnTo>
                      <a:pt x="17065" y="16945"/>
                    </a:lnTo>
                    <a:lnTo>
                      <a:pt x="16115" y="17356"/>
                    </a:lnTo>
                    <a:lnTo>
                      <a:pt x="15014" y="17755"/>
                    </a:lnTo>
                    <a:lnTo>
                      <a:pt x="13694" y="18179"/>
                    </a:lnTo>
                    <a:lnTo>
                      <a:pt x="12117" y="18653"/>
                    </a:lnTo>
                    <a:lnTo>
                      <a:pt x="13219" y="17294"/>
                    </a:lnTo>
                    <a:lnTo>
                      <a:pt x="14055" y="15860"/>
                    </a:lnTo>
                    <a:lnTo>
                      <a:pt x="14662" y="14413"/>
                    </a:lnTo>
                    <a:lnTo>
                      <a:pt x="15080" y="13054"/>
                    </a:lnTo>
                    <a:lnTo>
                      <a:pt x="15337" y="11832"/>
                    </a:lnTo>
                    <a:lnTo>
                      <a:pt x="15470" y="10860"/>
                    </a:lnTo>
                    <a:lnTo>
                      <a:pt x="15536" y="10224"/>
                    </a:lnTo>
                    <a:lnTo>
                      <a:pt x="15546" y="10000"/>
                    </a:lnTo>
                    <a:close/>
                    <a:moveTo>
                      <a:pt x="15546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482320" y="581508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15" y="12025"/>
                    </a:moveTo>
                    <a:lnTo>
                      <a:pt x="18991" y="10000"/>
                    </a:lnTo>
                    <a:lnTo>
                      <a:pt x="10000" y="14430"/>
                    </a:lnTo>
                    <a:lnTo>
                      <a:pt x="10420" y="20000"/>
                    </a:lnTo>
                    <a:lnTo>
                      <a:pt x="12016" y="16455"/>
                    </a:lnTo>
                    <a:lnTo>
                      <a:pt x="13277" y="15949"/>
                    </a:lnTo>
                    <a:lnTo>
                      <a:pt x="13865" y="12911"/>
                    </a:lnTo>
                    <a:lnTo>
                      <a:pt x="15630" y="14430"/>
                    </a:lnTo>
                    <a:lnTo>
                      <a:pt x="20000" y="12278"/>
                    </a:lnTo>
                    <a:lnTo>
                      <a:pt x="19915" y="12025"/>
                    </a:lnTo>
                    <a:close/>
                    <a:moveTo>
                      <a:pt x="19915" y="1202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29840" y="5943600"/>
                <a:ext cx="3816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1189" y="10567"/>
                    </a:moveTo>
                    <a:lnTo>
                      <a:pt x="12486" y="12319"/>
                    </a:lnTo>
                    <a:lnTo>
                      <a:pt x="13135" y="10000"/>
                    </a:lnTo>
                    <a:lnTo>
                      <a:pt x="14972" y="12319"/>
                    </a:lnTo>
                    <a:lnTo>
                      <a:pt x="12216" y="15463"/>
                    </a:lnTo>
                    <a:lnTo>
                      <a:pt x="13027" y="16391"/>
                    </a:lnTo>
                    <a:lnTo>
                      <a:pt x="16000" y="16597"/>
                    </a:lnTo>
                    <a:lnTo>
                      <a:pt x="19297" y="20000"/>
                    </a:lnTo>
                    <a:lnTo>
                      <a:pt x="20000" y="19536"/>
                    </a:lnTo>
                    <a:lnTo>
                      <a:pt x="18594" y="17061"/>
                    </a:lnTo>
                    <a:lnTo>
                      <a:pt x="16378" y="14432"/>
                    </a:lnTo>
                    <a:lnTo>
                      <a:pt x="11891" y="13195"/>
                    </a:lnTo>
                    <a:lnTo>
                      <a:pt x="10000" y="10773"/>
                    </a:lnTo>
                    <a:lnTo>
                      <a:pt x="11189" y="10567"/>
                    </a:lnTo>
                    <a:close/>
                    <a:moveTo>
                      <a:pt x="11189" y="1056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539200" y="6194520"/>
                <a:ext cx="20880" cy="31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168" y="20000"/>
                    </a:moveTo>
                    <a:lnTo>
                      <a:pt x="10000" y="17798"/>
                    </a:lnTo>
                    <a:lnTo>
                      <a:pt x="12673" y="13333"/>
                    </a:lnTo>
                    <a:lnTo>
                      <a:pt x="13168" y="12201"/>
                    </a:lnTo>
                    <a:lnTo>
                      <a:pt x="17722" y="10000"/>
                    </a:lnTo>
                    <a:lnTo>
                      <a:pt x="20000" y="13899"/>
                    </a:lnTo>
                    <a:lnTo>
                      <a:pt x="17722" y="18679"/>
                    </a:lnTo>
                    <a:lnTo>
                      <a:pt x="12673" y="20000"/>
                    </a:lnTo>
                    <a:lnTo>
                      <a:pt x="13168" y="20000"/>
                    </a:lnTo>
                    <a:close/>
                    <a:moveTo>
                      <a:pt x="1316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533080" y="583416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34" y="10000"/>
                    </a:moveTo>
                    <a:lnTo>
                      <a:pt x="20000" y="15000"/>
                    </a:lnTo>
                    <a:lnTo>
                      <a:pt x="16438" y="20000"/>
                    </a:lnTo>
                    <a:lnTo>
                      <a:pt x="10000" y="12903"/>
                    </a:lnTo>
                    <a:lnTo>
                      <a:pt x="17534" y="10000"/>
                    </a:lnTo>
                    <a:close/>
                    <a:moveTo>
                      <a:pt x="1753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467920" y="5891040"/>
                <a:ext cx="36360" cy="47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6775" y="13679"/>
                    </a:lnTo>
                    <a:lnTo>
                      <a:pt x="17049" y="16363"/>
                    </a:lnTo>
                    <a:lnTo>
                      <a:pt x="20000" y="18874"/>
                    </a:lnTo>
                    <a:lnTo>
                      <a:pt x="18032" y="20000"/>
                    </a:lnTo>
                    <a:lnTo>
                      <a:pt x="11475" y="15974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488440" y="5842080"/>
                <a:ext cx="131760" cy="118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8315" y="20000"/>
                    </a:moveTo>
                    <a:lnTo>
                      <a:pt x="17588" y="19931"/>
                    </a:lnTo>
                    <a:lnTo>
                      <a:pt x="16553" y="18911"/>
                    </a:lnTo>
                    <a:lnTo>
                      <a:pt x="14992" y="17772"/>
                    </a:lnTo>
                    <a:lnTo>
                      <a:pt x="13199" y="16751"/>
                    </a:lnTo>
                    <a:lnTo>
                      <a:pt x="12843" y="16224"/>
                    </a:lnTo>
                    <a:lnTo>
                      <a:pt x="13585" y="15391"/>
                    </a:lnTo>
                    <a:lnTo>
                      <a:pt x="13091" y="14404"/>
                    </a:lnTo>
                    <a:lnTo>
                      <a:pt x="11035" y="15306"/>
                    </a:lnTo>
                    <a:lnTo>
                      <a:pt x="10000" y="11547"/>
                    </a:lnTo>
                    <a:lnTo>
                      <a:pt x="10077" y="10901"/>
                    </a:lnTo>
                    <a:lnTo>
                      <a:pt x="12333" y="10000"/>
                    </a:lnTo>
                    <a:lnTo>
                      <a:pt x="13199" y="10442"/>
                    </a:lnTo>
                    <a:lnTo>
                      <a:pt x="13724" y="10901"/>
                    </a:lnTo>
                    <a:lnTo>
                      <a:pt x="14204" y="10867"/>
                    </a:lnTo>
                    <a:lnTo>
                      <a:pt x="15409" y="12108"/>
                    </a:lnTo>
                    <a:lnTo>
                      <a:pt x="15378" y="13996"/>
                    </a:lnTo>
                    <a:lnTo>
                      <a:pt x="20000" y="18486"/>
                    </a:lnTo>
                    <a:lnTo>
                      <a:pt x="18315" y="20000"/>
                    </a:lnTo>
                    <a:close/>
                    <a:moveTo>
                      <a:pt x="1831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251920" y="6062760"/>
                <a:ext cx="7920" cy="216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849"/>
                    </a:moveTo>
                    <a:lnTo>
                      <a:pt x="10000" y="11037"/>
                    </a:lnTo>
                    <a:lnTo>
                      <a:pt x="10270" y="11603"/>
                    </a:lnTo>
                    <a:lnTo>
                      <a:pt x="10810" y="12547"/>
                    </a:lnTo>
                    <a:lnTo>
                      <a:pt x="11891" y="13490"/>
                    </a:lnTo>
                    <a:lnTo>
                      <a:pt x="12432" y="14433"/>
                    </a:lnTo>
                    <a:lnTo>
                      <a:pt x="12972" y="15471"/>
                    </a:lnTo>
                    <a:lnTo>
                      <a:pt x="13243" y="15943"/>
                    </a:lnTo>
                    <a:lnTo>
                      <a:pt x="13783" y="16320"/>
                    </a:lnTo>
                    <a:lnTo>
                      <a:pt x="13783" y="16415"/>
                    </a:lnTo>
                    <a:lnTo>
                      <a:pt x="14594" y="16698"/>
                    </a:lnTo>
                    <a:lnTo>
                      <a:pt x="15405" y="17264"/>
                    </a:lnTo>
                    <a:lnTo>
                      <a:pt x="16756" y="17924"/>
                    </a:lnTo>
                    <a:lnTo>
                      <a:pt x="17837" y="18490"/>
                    </a:lnTo>
                    <a:lnTo>
                      <a:pt x="18918" y="19056"/>
                    </a:lnTo>
                    <a:lnTo>
                      <a:pt x="19729" y="19433"/>
                    </a:lnTo>
                    <a:lnTo>
                      <a:pt x="20000" y="19622"/>
                    </a:lnTo>
                    <a:lnTo>
                      <a:pt x="19729" y="19622"/>
                    </a:lnTo>
                    <a:lnTo>
                      <a:pt x="18918" y="19622"/>
                    </a:lnTo>
                    <a:lnTo>
                      <a:pt x="17837" y="19716"/>
                    </a:lnTo>
                    <a:lnTo>
                      <a:pt x="16756" y="19811"/>
                    </a:lnTo>
                    <a:lnTo>
                      <a:pt x="15405" y="19811"/>
                    </a:lnTo>
                    <a:lnTo>
                      <a:pt x="14594" y="19905"/>
                    </a:lnTo>
                    <a:lnTo>
                      <a:pt x="13783" y="19905"/>
                    </a:lnTo>
                    <a:lnTo>
                      <a:pt x="13783" y="20000"/>
                    </a:lnTo>
                    <a:lnTo>
                      <a:pt x="13783" y="19905"/>
                    </a:lnTo>
                    <a:lnTo>
                      <a:pt x="13783" y="19716"/>
                    </a:lnTo>
                    <a:lnTo>
                      <a:pt x="13783" y="19528"/>
                    </a:lnTo>
                    <a:lnTo>
                      <a:pt x="13783" y="19150"/>
                    </a:lnTo>
                    <a:lnTo>
                      <a:pt x="13783" y="18867"/>
                    </a:lnTo>
                    <a:lnTo>
                      <a:pt x="13783" y="18679"/>
                    </a:lnTo>
                    <a:lnTo>
                      <a:pt x="13783" y="18396"/>
                    </a:lnTo>
                    <a:lnTo>
                      <a:pt x="13783" y="18207"/>
                    </a:lnTo>
                    <a:lnTo>
                      <a:pt x="14324" y="17830"/>
                    </a:lnTo>
                    <a:lnTo>
                      <a:pt x="14864" y="17264"/>
                    </a:lnTo>
                    <a:lnTo>
                      <a:pt x="15405" y="16603"/>
                    </a:lnTo>
                    <a:lnTo>
                      <a:pt x="16216" y="15849"/>
                    </a:lnTo>
                    <a:lnTo>
                      <a:pt x="16756" y="15377"/>
                    </a:lnTo>
                    <a:lnTo>
                      <a:pt x="17297" y="14905"/>
                    </a:lnTo>
                    <a:lnTo>
                      <a:pt x="17567" y="14811"/>
                    </a:lnTo>
                    <a:lnTo>
                      <a:pt x="17297" y="14622"/>
                    </a:lnTo>
                    <a:lnTo>
                      <a:pt x="16756" y="13962"/>
                    </a:lnTo>
                    <a:lnTo>
                      <a:pt x="16216" y="13207"/>
                    </a:lnTo>
                    <a:lnTo>
                      <a:pt x="15405" y="12358"/>
                    </a:lnTo>
                    <a:lnTo>
                      <a:pt x="14864" y="11509"/>
                    </a:lnTo>
                    <a:lnTo>
                      <a:pt x="14324" y="10754"/>
                    </a:lnTo>
                    <a:lnTo>
                      <a:pt x="13783" y="10094"/>
                    </a:lnTo>
                    <a:lnTo>
                      <a:pt x="13783" y="10000"/>
                    </a:lnTo>
                    <a:lnTo>
                      <a:pt x="13243" y="10000"/>
                    </a:lnTo>
                    <a:lnTo>
                      <a:pt x="12972" y="10094"/>
                    </a:lnTo>
                    <a:lnTo>
                      <a:pt x="12432" y="10188"/>
                    </a:lnTo>
                    <a:lnTo>
                      <a:pt x="11891" y="10471"/>
                    </a:lnTo>
                    <a:lnTo>
                      <a:pt x="10810" y="10566"/>
                    </a:lnTo>
                    <a:lnTo>
                      <a:pt x="10270" y="10660"/>
                    </a:lnTo>
                    <a:lnTo>
                      <a:pt x="10000" y="10754"/>
                    </a:lnTo>
                    <a:lnTo>
                      <a:pt x="10000" y="10849"/>
                    </a:lnTo>
                    <a:close/>
                    <a:moveTo>
                      <a:pt x="10000" y="10849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123400" y="5983200"/>
                <a:ext cx="264960" cy="217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68" y="17415"/>
                    </a:moveTo>
                    <a:lnTo>
                      <a:pt x="10000" y="16919"/>
                    </a:lnTo>
                    <a:lnTo>
                      <a:pt x="10206" y="16226"/>
                    </a:lnTo>
                    <a:lnTo>
                      <a:pt x="10435" y="15983"/>
                    </a:lnTo>
                    <a:lnTo>
                      <a:pt x="10986" y="15664"/>
                    </a:lnTo>
                    <a:lnTo>
                      <a:pt x="11750" y="15683"/>
                    </a:lnTo>
                    <a:lnTo>
                      <a:pt x="12400" y="15421"/>
                    </a:lnTo>
                    <a:lnTo>
                      <a:pt x="12538" y="14737"/>
                    </a:lnTo>
                    <a:lnTo>
                      <a:pt x="13188" y="13960"/>
                    </a:lnTo>
                    <a:lnTo>
                      <a:pt x="13784" y="13904"/>
                    </a:lnTo>
                    <a:lnTo>
                      <a:pt x="14151" y="13979"/>
                    </a:lnTo>
                    <a:lnTo>
                      <a:pt x="14067" y="13735"/>
                    </a:lnTo>
                    <a:lnTo>
                      <a:pt x="14365" y="12471"/>
                    </a:lnTo>
                    <a:lnTo>
                      <a:pt x="14648" y="11910"/>
                    </a:lnTo>
                    <a:lnTo>
                      <a:pt x="14541" y="11882"/>
                    </a:lnTo>
                    <a:lnTo>
                      <a:pt x="14938" y="11058"/>
                    </a:lnTo>
                    <a:lnTo>
                      <a:pt x="15382" y="10608"/>
                    </a:lnTo>
                    <a:lnTo>
                      <a:pt x="16009" y="10159"/>
                    </a:lnTo>
                    <a:lnTo>
                      <a:pt x="17064" y="10177"/>
                    </a:lnTo>
                    <a:lnTo>
                      <a:pt x="17362" y="10458"/>
                    </a:lnTo>
                    <a:lnTo>
                      <a:pt x="17943" y="10608"/>
                    </a:lnTo>
                    <a:lnTo>
                      <a:pt x="18822" y="10374"/>
                    </a:lnTo>
                    <a:lnTo>
                      <a:pt x="19311" y="10000"/>
                    </a:lnTo>
                    <a:lnTo>
                      <a:pt x="19931" y="10543"/>
                    </a:lnTo>
                    <a:lnTo>
                      <a:pt x="20000" y="10805"/>
                    </a:lnTo>
                    <a:lnTo>
                      <a:pt x="19694" y="11123"/>
                    </a:lnTo>
                    <a:lnTo>
                      <a:pt x="19296" y="11301"/>
                    </a:lnTo>
                    <a:lnTo>
                      <a:pt x="18685" y="12162"/>
                    </a:lnTo>
                    <a:lnTo>
                      <a:pt x="18715" y="13202"/>
                    </a:lnTo>
                    <a:lnTo>
                      <a:pt x="18539" y="13651"/>
                    </a:lnTo>
                    <a:lnTo>
                      <a:pt x="18379" y="13651"/>
                    </a:lnTo>
                    <a:lnTo>
                      <a:pt x="17943" y="14129"/>
                    </a:lnTo>
                    <a:lnTo>
                      <a:pt x="17683" y="14737"/>
                    </a:lnTo>
                    <a:lnTo>
                      <a:pt x="17392" y="14794"/>
                    </a:lnTo>
                    <a:lnTo>
                      <a:pt x="17224" y="14428"/>
                    </a:lnTo>
                    <a:lnTo>
                      <a:pt x="17087" y="14447"/>
                    </a:lnTo>
                    <a:lnTo>
                      <a:pt x="16712" y="14129"/>
                    </a:lnTo>
                    <a:lnTo>
                      <a:pt x="16383" y="14147"/>
                    </a:lnTo>
                    <a:lnTo>
                      <a:pt x="15802" y="13885"/>
                    </a:lnTo>
                    <a:lnTo>
                      <a:pt x="15397" y="13979"/>
                    </a:lnTo>
                    <a:lnTo>
                      <a:pt x="15344" y="13885"/>
                    </a:lnTo>
                    <a:lnTo>
                      <a:pt x="15642" y="13717"/>
                    </a:lnTo>
                    <a:lnTo>
                      <a:pt x="15558" y="13089"/>
                    </a:lnTo>
                    <a:lnTo>
                      <a:pt x="15313" y="12921"/>
                    </a:lnTo>
                    <a:lnTo>
                      <a:pt x="14977" y="12883"/>
                    </a:lnTo>
                    <a:lnTo>
                      <a:pt x="14610" y="13220"/>
                    </a:lnTo>
                    <a:lnTo>
                      <a:pt x="14770" y="13483"/>
                    </a:lnTo>
                    <a:lnTo>
                      <a:pt x="14311" y="13567"/>
                    </a:lnTo>
                    <a:lnTo>
                      <a:pt x="14311" y="13679"/>
                    </a:lnTo>
                    <a:lnTo>
                      <a:pt x="14136" y="13782"/>
                    </a:lnTo>
                    <a:lnTo>
                      <a:pt x="14648" y="14494"/>
                    </a:lnTo>
                    <a:lnTo>
                      <a:pt x="14717" y="14775"/>
                    </a:lnTo>
                    <a:lnTo>
                      <a:pt x="14648" y="14840"/>
                    </a:lnTo>
                    <a:lnTo>
                      <a:pt x="14938" y="15486"/>
                    </a:lnTo>
                    <a:lnTo>
                      <a:pt x="14923" y="16114"/>
                    </a:lnTo>
                    <a:lnTo>
                      <a:pt x="15229" y="16853"/>
                    </a:lnTo>
                    <a:lnTo>
                      <a:pt x="15191" y="17621"/>
                    </a:lnTo>
                    <a:lnTo>
                      <a:pt x="15412" y="17865"/>
                    </a:lnTo>
                    <a:lnTo>
                      <a:pt x="16452" y="19550"/>
                    </a:lnTo>
                    <a:lnTo>
                      <a:pt x="16223" y="19915"/>
                    </a:lnTo>
                    <a:lnTo>
                      <a:pt x="14411" y="20000"/>
                    </a:lnTo>
                    <a:lnTo>
                      <a:pt x="14051" y="19653"/>
                    </a:lnTo>
                    <a:lnTo>
                      <a:pt x="13012" y="19391"/>
                    </a:lnTo>
                    <a:lnTo>
                      <a:pt x="12010" y="18389"/>
                    </a:lnTo>
                    <a:lnTo>
                      <a:pt x="12010" y="18146"/>
                    </a:lnTo>
                    <a:lnTo>
                      <a:pt x="11804" y="18211"/>
                    </a:lnTo>
                    <a:lnTo>
                      <a:pt x="11399" y="17911"/>
                    </a:lnTo>
                    <a:lnTo>
                      <a:pt x="11154" y="17584"/>
                    </a:lnTo>
                    <a:lnTo>
                      <a:pt x="10275" y="17247"/>
                    </a:lnTo>
                    <a:lnTo>
                      <a:pt x="10068" y="17415"/>
                    </a:lnTo>
                    <a:close/>
                    <a:moveTo>
                      <a:pt x="10068" y="1741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342640" y="6048360"/>
                <a:ext cx="4428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5" y="20000"/>
                    </a:moveTo>
                    <a:lnTo>
                      <a:pt x="10185" y="18118"/>
                    </a:lnTo>
                    <a:lnTo>
                      <a:pt x="16388" y="10000"/>
                    </a:lnTo>
                    <a:lnTo>
                      <a:pt x="20000" y="12580"/>
                    </a:lnTo>
                    <a:lnTo>
                      <a:pt x="19768" y="14784"/>
                    </a:lnTo>
                    <a:lnTo>
                      <a:pt x="17638" y="18118"/>
                    </a:lnTo>
                    <a:lnTo>
                      <a:pt x="10000" y="20000"/>
                    </a:lnTo>
                    <a:lnTo>
                      <a:pt x="10185" y="20000"/>
                    </a:lnTo>
                    <a:close/>
                    <a:moveTo>
                      <a:pt x="1018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375760" y="6084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71" y="11851"/>
                    </a:moveTo>
                    <a:lnTo>
                      <a:pt x="10000" y="20000"/>
                    </a:lnTo>
                    <a:lnTo>
                      <a:pt x="17428" y="20000"/>
                    </a:lnTo>
                    <a:lnTo>
                      <a:pt x="20000" y="13333"/>
                    </a:lnTo>
                    <a:lnTo>
                      <a:pt x="13714" y="10000"/>
                    </a:lnTo>
                    <a:lnTo>
                      <a:pt x="12571" y="11851"/>
                    </a:lnTo>
                    <a:close/>
                    <a:moveTo>
                      <a:pt x="12571" y="1185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67840" y="5951520"/>
                <a:ext cx="219240" cy="323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350" y="20000"/>
                    </a:moveTo>
                    <a:lnTo>
                      <a:pt x="13929" y="19667"/>
                    </a:lnTo>
                    <a:lnTo>
                      <a:pt x="13274" y="19058"/>
                    </a:lnTo>
                    <a:lnTo>
                      <a:pt x="13311" y="18612"/>
                    </a:lnTo>
                    <a:lnTo>
                      <a:pt x="12915" y="18160"/>
                    </a:lnTo>
                    <a:lnTo>
                      <a:pt x="11669" y="18185"/>
                    </a:lnTo>
                    <a:lnTo>
                      <a:pt x="11005" y="18160"/>
                    </a:lnTo>
                    <a:lnTo>
                      <a:pt x="10285" y="17771"/>
                    </a:lnTo>
                    <a:lnTo>
                      <a:pt x="10184" y="17727"/>
                    </a:lnTo>
                    <a:lnTo>
                      <a:pt x="10000" y="17093"/>
                    </a:lnTo>
                    <a:lnTo>
                      <a:pt x="10184" y="16716"/>
                    </a:lnTo>
                    <a:lnTo>
                      <a:pt x="10968" y="16202"/>
                    </a:lnTo>
                    <a:lnTo>
                      <a:pt x="11891" y="16045"/>
                    </a:lnTo>
                    <a:lnTo>
                      <a:pt x="12020" y="16202"/>
                    </a:lnTo>
                    <a:lnTo>
                      <a:pt x="12573" y="16202"/>
                    </a:lnTo>
                    <a:lnTo>
                      <a:pt x="12610" y="16101"/>
                    </a:lnTo>
                    <a:lnTo>
                      <a:pt x="13191" y="16020"/>
                    </a:lnTo>
                    <a:lnTo>
                      <a:pt x="13044" y="15838"/>
                    </a:lnTo>
                    <a:lnTo>
                      <a:pt x="12675" y="15863"/>
                    </a:lnTo>
                    <a:lnTo>
                      <a:pt x="12426" y="15655"/>
                    </a:lnTo>
                    <a:lnTo>
                      <a:pt x="12592" y="15486"/>
                    </a:lnTo>
                    <a:lnTo>
                      <a:pt x="12998" y="15486"/>
                    </a:lnTo>
                    <a:lnTo>
                      <a:pt x="13081" y="15599"/>
                    </a:lnTo>
                    <a:lnTo>
                      <a:pt x="12592" y="15687"/>
                    </a:lnTo>
                    <a:lnTo>
                      <a:pt x="12426" y="15863"/>
                    </a:lnTo>
                    <a:lnTo>
                      <a:pt x="12260" y="15812"/>
                    </a:lnTo>
                    <a:lnTo>
                      <a:pt x="12066" y="15863"/>
                    </a:lnTo>
                    <a:lnTo>
                      <a:pt x="11752" y="15712"/>
                    </a:lnTo>
                    <a:lnTo>
                      <a:pt x="11476" y="15781"/>
                    </a:lnTo>
                    <a:lnTo>
                      <a:pt x="11300" y="16007"/>
                    </a:lnTo>
                    <a:lnTo>
                      <a:pt x="11116" y="16064"/>
                    </a:lnTo>
                    <a:lnTo>
                      <a:pt x="10987" y="16158"/>
                    </a:lnTo>
                    <a:lnTo>
                      <a:pt x="10904" y="16076"/>
                    </a:lnTo>
                    <a:lnTo>
                      <a:pt x="10664" y="15988"/>
                    </a:lnTo>
                    <a:lnTo>
                      <a:pt x="10719" y="15699"/>
                    </a:lnTo>
                    <a:lnTo>
                      <a:pt x="10821" y="15655"/>
                    </a:lnTo>
                    <a:lnTo>
                      <a:pt x="11153" y="15687"/>
                    </a:lnTo>
                    <a:lnTo>
                      <a:pt x="11199" y="15436"/>
                    </a:lnTo>
                    <a:lnTo>
                      <a:pt x="11005" y="15392"/>
                    </a:lnTo>
                    <a:lnTo>
                      <a:pt x="11005" y="15323"/>
                    </a:lnTo>
                    <a:lnTo>
                      <a:pt x="11236" y="15266"/>
                    </a:lnTo>
                    <a:lnTo>
                      <a:pt x="11300" y="15103"/>
                    </a:lnTo>
                    <a:lnTo>
                      <a:pt x="11217" y="15059"/>
                    </a:lnTo>
                    <a:lnTo>
                      <a:pt x="11153" y="14789"/>
                    </a:lnTo>
                    <a:lnTo>
                      <a:pt x="11070" y="14846"/>
                    </a:lnTo>
                    <a:lnTo>
                      <a:pt x="11005" y="15059"/>
                    </a:lnTo>
                    <a:lnTo>
                      <a:pt x="10839" y="15103"/>
                    </a:lnTo>
                    <a:lnTo>
                      <a:pt x="10867" y="14990"/>
                    </a:lnTo>
                    <a:lnTo>
                      <a:pt x="10987" y="14934"/>
                    </a:lnTo>
                    <a:lnTo>
                      <a:pt x="11088" y="15059"/>
                    </a:lnTo>
                    <a:lnTo>
                      <a:pt x="10987" y="15235"/>
                    </a:lnTo>
                    <a:lnTo>
                      <a:pt x="11503" y="15103"/>
                    </a:lnTo>
                    <a:lnTo>
                      <a:pt x="11586" y="14846"/>
                    </a:lnTo>
                    <a:lnTo>
                      <a:pt x="11476" y="14858"/>
                    </a:lnTo>
                    <a:lnTo>
                      <a:pt x="11439" y="14733"/>
                    </a:lnTo>
                    <a:lnTo>
                      <a:pt x="11559" y="14469"/>
                    </a:lnTo>
                    <a:lnTo>
                      <a:pt x="11559" y="14293"/>
                    </a:lnTo>
                    <a:lnTo>
                      <a:pt x="11789" y="14224"/>
                    </a:lnTo>
                    <a:lnTo>
                      <a:pt x="12343" y="14193"/>
                    </a:lnTo>
                    <a:lnTo>
                      <a:pt x="12961" y="13383"/>
                    </a:lnTo>
                    <a:lnTo>
                      <a:pt x="12832" y="13151"/>
                    </a:lnTo>
                    <a:lnTo>
                      <a:pt x="12961" y="13006"/>
                    </a:lnTo>
                    <a:lnTo>
                      <a:pt x="12555" y="12510"/>
                    </a:lnTo>
                    <a:lnTo>
                      <a:pt x="12832" y="12397"/>
                    </a:lnTo>
                    <a:lnTo>
                      <a:pt x="12020" y="11676"/>
                    </a:lnTo>
                    <a:lnTo>
                      <a:pt x="11134" y="11418"/>
                    </a:lnTo>
                    <a:lnTo>
                      <a:pt x="11153" y="11324"/>
                    </a:lnTo>
                    <a:lnTo>
                      <a:pt x="11706" y="11311"/>
                    </a:lnTo>
                    <a:lnTo>
                      <a:pt x="11725" y="11186"/>
                    </a:lnTo>
                    <a:lnTo>
                      <a:pt x="12721" y="11048"/>
                    </a:lnTo>
                    <a:lnTo>
                      <a:pt x="12656" y="10935"/>
                    </a:lnTo>
                    <a:lnTo>
                      <a:pt x="12942" y="10734"/>
                    </a:lnTo>
                    <a:lnTo>
                      <a:pt x="13044" y="10979"/>
                    </a:lnTo>
                    <a:lnTo>
                      <a:pt x="12813" y="11167"/>
                    </a:lnTo>
                    <a:lnTo>
                      <a:pt x="13025" y="11199"/>
                    </a:lnTo>
                    <a:lnTo>
                      <a:pt x="13191" y="11098"/>
                    </a:lnTo>
                    <a:lnTo>
                      <a:pt x="13846" y="11073"/>
                    </a:lnTo>
                    <a:lnTo>
                      <a:pt x="14289" y="10809"/>
                    </a:lnTo>
                    <a:lnTo>
                      <a:pt x="14095" y="10677"/>
                    </a:lnTo>
                    <a:lnTo>
                      <a:pt x="14686" y="10345"/>
                    </a:lnTo>
                    <a:lnTo>
                      <a:pt x="14603" y="10194"/>
                    </a:lnTo>
                    <a:lnTo>
                      <a:pt x="14963" y="10269"/>
                    </a:lnTo>
                    <a:lnTo>
                      <a:pt x="15156" y="10138"/>
                    </a:lnTo>
                    <a:lnTo>
                      <a:pt x="15387" y="10138"/>
                    </a:lnTo>
                    <a:lnTo>
                      <a:pt x="15793" y="10269"/>
                    </a:lnTo>
                    <a:lnTo>
                      <a:pt x="15940" y="10194"/>
                    </a:lnTo>
                    <a:lnTo>
                      <a:pt x="15156" y="10000"/>
                    </a:lnTo>
                    <a:lnTo>
                      <a:pt x="14815" y="10301"/>
                    </a:lnTo>
                    <a:lnTo>
                      <a:pt x="14437" y="10345"/>
                    </a:lnTo>
                    <a:lnTo>
                      <a:pt x="13929" y="10627"/>
                    </a:lnTo>
                    <a:lnTo>
                      <a:pt x="14686" y="10420"/>
                    </a:lnTo>
                    <a:lnTo>
                      <a:pt x="15202" y="10445"/>
                    </a:lnTo>
                    <a:lnTo>
                      <a:pt x="15553" y="10659"/>
                    </a:lnTo>
                    <a:lnTo>
                      <a:pt x="15839" y="10564"/>
                    </a:lnTo>
                    <a:lnTo>
                      <a:pt x="15987" y="10627"/>
                    </a:lnTo>
                    <a:lnTo>
                      <a:pt x="15664" y="10747"/>
                    </a:lnTo>
                    <a:lnTo>
                      <a:pt x="15599" y="10922"/>
                    </a:lnTo>
                    <a:lnTo>
                      <a:pt x="15682" y="10966"/>
                    </a:lnTo>
                    <a:lnTo>
                      <a:pt x="15774" y="10966"/>
                    </a:lnTo>
                    <a:lnTo>
                      <a:pt x="15931" y="10891"/>
                    </a:lnTo>
                    <a:lnTo>
                      <a:pt x="16992" y="11004"/>
                    </a:lnTo>
                    <a:lnTo>
                      <a:pt x="16992" y="10910"/>
                    </a:lnTo>
                    <a:lnTo>
                      <a:pt x="16476" y="10866"/>
                    </a:lnTo>
                    <a:lnTo>
                      <a:pt x="16476" y="10922"/>
                    </a:lnTo>
                    <a:lnTo>
                      <a:pt x="17121" y="11192"/>
                    </a:lnTo>
                    <a:lnTo>
                      <a:pt x="17380" y="11418"/>
                    </a:lnTo>
                    <a:lnTo>
                      <a:pt x="18256" y="11418"/>
                    </a:lnTo>
                    <a:lnTo>
                      <a:pt x="18800" y="11701"/>
                    </a:lnTo>
                    <a:lnTo>
                      <a:pt x="18828" y="11732"/>
                    </a:lnTo>
                    <a:lnTo>
                      <a:pt x="18542" y="12021"/>
                    </a:lnTo>
                    <a:lnTo>
                      <a:pt x="18911" y="12065"/>
                    </a:lnTo>
                    <a:lnTo>
                      <a:pt x="19206" y="11920"/>
                    </a:lnTo>
                    <a:lnTo>
                      <a:pt x="19298" y="11688"/>
                    </a:lnTo>
                    <a:lnTo>
                      <a:pt x="19511" y="11600"/>
                    </a:lnTo>
                    <a:lnTo>
                      <a:pt x="19363" y="12121"/>
                    </a:lnTo>
                    <a:lnTo>
                      <a:pt x="19446" y="12165"/>
                    </a:lnTo>
                    <a:lnTo>
                      <a:pt x="19843" y="11632"/>
                    </a:lnTo>
                    <a:lnTo>
                      <a:pt x="19658" y="10891"/>
                    </a:lnTo>
                    <a:lnTo>
                      <a:pt x="19824" y="10765"/>
                    </a:lnTo>
                    <a:lnTo>
                      <a:pt x="20000" y="11462"/>
                    </a:lnTo>
                    <a:lnTo>
                      <a:pt x="19760" y="11531"/>
                    </a:lnTo>
                    <a:lnTo>
                      <a:pt x="18874" y="12215"/>
                    </a:lnTo>
                    <a:lnTo>
                      <a:pt x="18579" y="12241"/>
                    </a:lnTo>
                    <a:lnTo>
                      <a:pt x="18468" y="12372"/>
                    </a:lnTo>
                    <a:lnTo>
                      <a:pt x="17942" y="12510"/>
                    </a:lnTo>
                    <a:lnTo>
                      <a:pt x="17804" y="13151"/>
                    </a:lnTo>
                    <a:lnTo>
                      <a:pt x="18154" y="13647"/>
                    </a:lnTo>
                    <a:lnTo>
                      <a:pt x="18874" y="13873"/>
                    </a:lnTo>
                    <a:lnTo>
                      <a:pt x="18957" y="13804"/>
                    </a:lnTo>
                    <a:lnTo>
                      <a:pt x="18809" y="13716"/>
                    </a:lnTo>
                    <a:lnTo>
                      <a:pt x="18487" y="13691"/>
                    </a:lnTo>
                    <a:lnTo>
                      <a:pt x="18763" y="13973"/>
                    </a:lnTo>
                    <a:lnTo>
                      <a:pt x="18579" y="14080"/>
                    </a:lnTo>
                    <a:lnTo>
                      <a:pt x="16891" y="14400"/>
                    </a:lnTo>
                    <a:lnTo>
                      <a:pt x="15839" y="14990"/>
                    </a:lnTo>
                    <a:lnTo>
                      <a:pt x="15488" y="15053"/>
                    </a:lnTo>
                    <a:lnTo>
                      <a:pt x="15433" y="15166"/>
                    </a:lnTo>
                    <a:lnTo>
                      <a:pt x="16171" y="15040"/>
                    </a:lnTo>
                    <a:lnTo>
                      <a:pt x="16190" y="15015"/>
                    </a:lnTo>
                    <a:lnTo>
                      <a:pt x="16171" y="14890"/>
                    </a:lnTo>
                    <a:lnTo>
                      <a:pt x="16494" y="14915"/>
                    </a:lnTo>
                    <a:lnTo>
                      <a:pt x="16706" y="15919"/>
                    </a:lnTo>
                    <a:lnTo>
                      <a:pt x="16005" y="16321"/>
                    </a:lnTo>
                    <a:lnTo>
                      <a:pt x="13699" y="16145"/>
                    </a:lnTo>
                    <a:lnTo>
                      <a:pt x="14012" y="15976"/>
                    </a:lnTo>
                    <a:lnTo>
                      <a:pt x="16411" y="16195"/>
                    </a:lnTo>
                    <a:lnTo>
                      <a:pt x="16881" y="16070"/>
                    </a:lnTo>
                    <a:lnTo>
                      <a:pt x="16992" y="16089"/>
                    </a:lnTo>
                    <a:lnTo>
                      <a:pt x="17195" y="16553"/>
                    </a:lnTo>
                    <a:lnTo>
                      <a:pt x="17149" y="17206"/>
                    </a:lnTo>
                    <a:lnTo>
                      <a:pt x="17546" y="17972"/>
                    </a:lnTo>
                    <a:lnTo>
                      <a:pt x="17020" y="19278"/>
                    </a:lnTo>
                    <a:lnTo>
                      <a:pt x="15876" y="19893"/>
                    </a:lnTo>
                    <a:lnTo>
                      <a:pt x="15350" y="20000"/>
                    </a:lnTo>
                    <a:close/>
                    <a:moveTo>
                      <a:pt x="15350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394840" y="6211800"/>
                <a:ext cx="3240" cy="126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144"/>
                    </a:moveTo>
                    <a:lnTo>
                      <a:pt x="10000" y="10144"/>
                    </a:lnTo>
                    <a:lnTo>
                      <a:pt x="10000" y="10128"/>
                    </a:lnTo>
                    <a:lnTo>
                      <a:pt x="11052" y="10112"/>
                    </a:lnTo>
                    <a:lnTo>
                      <a:pt x="11052" y="10080"/>
                    </a:lnTo>
                    <a:lnTo>
                      <a:pt x="11578" y="10048"/>
                    </a:lnTo>
                    <a:lnTo>
                      <a:pt x="12105" y="10032"/>
                    </a:lnTo>
                    <a:lnTo>
                      <a:pt x="12631" y="10016"/>
                    </a:lnTo>
                    <a:lnTo>
                      <a:pt x="13684" y="10016"/>
                    </a:lnTo>
                    <a:lnTo>
                      <a:pt x="14210" y="10000"/>
                    </a:lnTo>
                    <a:lnTo>
                      <a:pt x="15263" y="10000"/>
                    </a:lnTo>
                    <a:lnTo>
                      <a:pt x="15789" y="10000"/>
                    </a:lnTo>
                    <a:lnTo>
                      <a:pt x="16315" y="10016"/>
                    </a:lnTo>
                    <a:lnTo>
                      <a:pt x="17368" y="10016"/>
                    </a:lnTo>
                    <a:lnTo>
                      <a:pt x="17894" y="10032"/>
                    </a:lnTo>
                    <a:lnTo>
                      <a:pt x="18421" y="10048"/>
                    </a:lnTo>
                    <a:lnTo>
                      <a:pt x="18947" y="10080"/>
                    </a:lnTo>
                    <a:lnTo>
                      <a:pt x="18947" y="10112"/>
                    </a:lnTo>
                    <a:lnTo>
                      <a:pt x="20000" y="10128"/>
                    </a:lnTo>
                    <a:lnTo>
                      <a:pt x="20000" y="10144"/>
                    </a:lnTo>
                    <a:lnTo>
                      <a:pt x="20000" y="10144"/>
                    </a:lnTo>
                    <a:lnTo>
                      <a:pt x="20000" y="19855"/>
                    </a:lnTo>
                    <a:lnTo>
                      <a:pt x="20000" y="19855"/>
                    </a:lnTo>
                    <a:lnTo>
                      <a:pt x="20000" y="19871"/>
                    </a:lnTo>
                    <a:lnTo>
                      <a:pt x="18947" y="19887"/>
                    </a:lnTo>
                    <a:lnTo>
                      <a:pt x="18947" y="19935"/>
                    </a:lnTo>
                    <a:lnTo>
                      <a:pt x="18421" y="19951"/>
                    </a:lnTo>
                    <a:lnTo>
                      <a:pt x="17894" y="19967"/>
                    </a:lnTo>
                    <a:lnTo>
                      <a:pt x="17368" y="19983"/>
                    </a:lnTo>
                    <a:lnTo>
                      <a:pt x="16315" y="19983"/>
                    </a:lnTo>
                    <a:lnTo>
                      <a:pt x="15789" y="20000"/>
                    </a:lnTo>
                    <a:lnTo>
                      <a:pt x="15263" y="20000"/>
                    </a:lnTo>
                    <a:lnTo>
                      <a:pt x="14210" y="20000"/>
                    </a:lnTo>
                    <a:lnTo>
                      <a:pt x="13684" y="19983"/>
                    </a:lnTo>
                    <a:lnTo>
                      <a:pt x="12631" y="19983"/>
                    </a:lnTo>
                    <a:lnTo>
                      <a:pt x="12105" y="19967"/>
                    </a:lnTo>
                    <a:lnTo>
                      <a:pt x="11578" y="19951"/>
                    </a:lnTo>
                    <a:lnTo>
                      <a:pt x="11052" y="19935"/>
                    </a:lnTo>
                    <a:lnTo>
                      <a:pt x="11052" y="19887"/>
                    </a:lnTo>
                    <a:lnTo>
                      <a:pt x="10000" y="19871"/>
                    </a:lnTo>
                    <a:lnTo>
                      <a:pt x="10000" y="19855"/>
                    </a:lnTo>
                    <a:lnTo>
                      <a:pt x="10000" y="19855"/>
                    </a:lnTo>
                    <a:lnTo>
                      <a:pt x="10000" y="10144"/>
                    </a:lnTo>
                    <a:close/>
                    <a:moveTo>
                      <a:pt x="10000" y="1014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340840" y="599112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0"/>
                    </a:moveTo>
                    <a:lnTo>
                      <a:pt x="19981" y="14535"/>
                    </a:lnTo>
                    <a:lnTo>
                      <a:pt x="19924" y="14060"/>
                    </a:lnTo>
                    <a:lnTo>
                      <a:pt x="19811" y="13643"/>
                    </a:lnTo>
                    <a:lnTo>
                      <a:pt x="19660" y="13187"/>
                    </a:lnTo>
                    <a:lnTo>
                      <a:pt x="19490" y="12751"/>
                    </a:lnTo>
                    <a:lnTo>
                      <a:pt x="19264" y="12371"/>
                    </a:lnTo>
                    <a:lnTo>
                      <a:pt x="19000" y="11973"/>
                    </a:lnTo>
                    <a:lnTo>
                      <a:pt x="18698" y="11612"/>
                    </a:lnTo>
                    <a:lnTo>
                      <a:pt x="18377" y="11290"/>
                    </a:lnTo>
                    <a:lnTo>
                      <a:pt x="18018" y="11024"/>
                    </a:lnTo>
                    <a:lnTo>
                      <a:pt x="17641" y="10740"/>
                    </a:lnTo>
                    <a:lnTo>
                      <a:pt x="17226" y="10531"/>
                    </a:lnTo>
                    <a:lnTo>
                      <a:pt x="16811" y="10322"/>
                    </a:lnTo>
                    <a:lnTo>
                      <a:pt x="16377" y="10170"/>
                    </a:lnTo>
                    <a:lnTo>
                      <a:pt x="15905" y="10094"/>
                    </a:lnTo>
                    <a:lnTo>
                      <a:pt x="15452" y="10037"/>
                    </a:lnTo>
                    <a:lnTo>
                      <a:pt x="15000" y="10000"/>
                    </a:lnTo>
                    <a:lnTo>
                      <a:pt x="14547" y="10037"/>
                    </a:lnTo>
                    <a:lnTo>
                      <a:pt x="14075" y="10094"/>
                    </a:lnTo>
                    <a:lnTo>
                      <a:pt x="13622" y="10208"/>
                    </a:lnTo>
                    <a:lnTo>
                      <a:pt x="13188" y="10322"/>
                    </a:lnTo>
                    <a:lnTo>
                      <a:pt x="12773" y="10531"/>
                    </a:lnTo>
                    <a:lnTo>
                      <a:pt x="12377" y="10759"/>
                    </a:lnTo>
                    <a:lnTo>
                      <a:pt x="11981" y="11024"/>
                    </a:lnTo>
                    <a:lnTo>
                      <a:pt x="11622" y="11309"/>
                    </a:lnTo>
                    <a:lnTo>
                      <a:pt x="11301" y="11631"/>
                    </a:lnTo>
                    <a:lnTo>
                      <a:pt x="11000" y="11973"/>
                    </a:lnTo>
                    <a:lnTo>
                      <a:pt x="10754" y="12371"/>
                    </a:lnTo>
                    <a:lnTo>
                      <a:pt x="10509" y="12770"/>
                    </a:lnTo>
                    <a:lnTo>
                      <a:pt x="10320" y="13206"/>
                    </a:lnTo>
                    <a:lnTo>
                      <a:pt x="10169" y="13643"/>
                    </a:lnTo>
                    <a:lnTo>
                      <a:pt x="10094" y="14079"/>
                    </a:lnTo>
                    <a:lnTo>
                      <a:pt x="10018" y="14535"/>
                    </a:lnTo>
                    <a:lnTo>
                      <a:pt x="10000" y="15009"/>
                    </a:lnTo>
                    <a:lnTo>
                      <a:pt x="10018" y="15464"/>
                    </a:lnTo>
                    <a:lnTo>
                      <a:pt x="10094" y="15939"/>
                    </a:lnTo>
                    <a:lnTo>
                      <a:pt x="10188" y="16375"/>
                    </a:lnTo>
                    <a:lnTo>
                      <a:pt x="10339" y="16812"/>
                    </a:lnTo>
                    <a:lnTo>
                      <a:pt x="10509" y="17248"/>
                    </a:lnTo>
                    <a:lnTo>
                      <a:pt x="10754" y="17628"/>
                    </a:lnTo>
                    <a:lnTo>
                      <a:pt x="11000" y="18007"/>
                    </a:lnTo>
                    <a:lnTo>
                      <a:pt x="11301" y="18368"/>
                    </a:lnTo>
                    <a:lnTo>
                      <a:pt x="11622" y="18690"/>
                    </a:lnTo>
                    <a:lnTo>
                      <a:pt x="11981" y="18994"/>
                    </a:lnTo>
                    <a:lnTo>
                      <a:pt x="12377" y="19259"/>
                    </a:lnTo>
                    <a:lnTo>
                      <a:pt x="12773" y="19468"/>
                    </a:lnTo>
                    <a:lnTo>
                      <a:pt x="13207" y="19658"/>
                    </a:lnTo>
                    <a:lnTo>
                      <a:pt x="13622" y="19810"/>
                    </a:lnTo>
                    <a:lnTo>
                      <a:pt x="14094" y="19924"/>
                    </a:lnTo>
                    <a:lnTo>
                      <a:pt x="14547" y="19981"/>
                    </a:lnTo>
                    <a:lnTo>
                      <a:pt x="15018" y="20000"/>
                    </a:lnTo>
                    <a:lnTo>
                      <a:pt x="15452" y="19962"/>
                    </a:lnTo>
                    <a:lnTo>
                      <a:pt x="15924" y="19905"/>
                    </a:lnTo>
                    <a:lnTo>
                      <a:pt x="16377" y="19810"/>
                    </a:lnTo>
                    <a:lnTo>
                      <a:pt x="16830" y="19658"/>
                    </a:lnTo>
                    <a:lnTo>
                      <a:pt x="17226" y="19468"/>
                    </a:lnTo>
                    <a:lnTo>
                      <a:pt x="17641" y="19240"/>
                    </a:lnTo>
                    <a:lnTo>
                      <a:pt x="18018" y="18975"/>
                    </a:lnTo>
                    <a:lnTo>
                      <a:pt x="18377" y="18690"/>
                    </a:lnTo>
                    <a:lnTo>
                      <a:pt x="18698" y="18349"/>
                    </a:lnTo>
                    <a:lnTo>
                      <a:pt x="19000" y="18007"/>
                    </a:lnTo>
                    <a:lnTo>
                      <a:pt x="19264" y="17628"/>
                    </a:lnTo>
                    <a:lnTo>
                      <a:pt x="19490" y="17210"/>
                    </a:lnTo>
                    <a:lnTo>
                      <a:pt x="19679" y="16793"/>
                    </a:lnTo>
                    <a:lnTo>
                      <a:pt x="19830" y="16356"/>
                    </a:lnTo>
                    <a:lnTo>
                      <a:pt x="19924" y="15901"/>
                    </a:lnTo>
                    <a:lnTo>
                      <a:pt x="19981" y="15464"/>
                    </a:lnTo>
                    <a:lnTo>
                      <a:pt x="20000" y="14990"/>
                    </a:lnTo>
                    <a:lnTo>
                      <a:pt x="20000" y="14990"/>
                    </a:lnTo>
                    <a:close/>
                    <a:moveTo>
                      <a:pt x="20000" y="1499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096400" y="6045120"/>
                <a:ext cx="15408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8" y="20000"/>
                    </a:moveTo>
                    <a:lnTo>
                      <a:pt x="10118" y="20000"/>
                    </a:lnTo>
                    <a:lnTo>
                      <a:pt x="10105" y="20000"/>
                    </a:lnTo>
                    <a:lnTo>
                      <a:pt x="10092" y="20000"/>
                    </a:lnTo>
                    <a:lnTo>
                      <a:pt x="10065" y="18947"/>
                    </a:lnTo>
                    <a:lnTo>
                      <a:pt x="10052" y="18947"/>
                    </a:lnTo>
                    <a:lnTo>
                      <a:pt x="10039" y="17894"/>
                    </a:lnTo>
                    <a:lnTo>
                      <a:pt x="10013" y="17368"/>
                    </a:lnTo>
                    <a:lnTo>
                      <a:pt x="10013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3" y="13684"/>
                    </a:lnTo>
                    <a:lnTo>
                      <a:pt x="10013" y="12631"/>
                    </a:lnTo>
                    <a:lnTo>
                      <a:pt x="10039" y="12105"/>
                    </a:lnTo>
                    <a:lnTo>
                      <a:pt x="10052" y="11578"/>
                    </a:lnTo>
                    <a:lnTo>
                      <a:pt x="10065" y="11052"/>
                    </a:lnTo>
                    <a:lnTo>
                      <a:pt x="10092" y="11052"/>
                    </a:lnTo>
                    <a:lnTo>
                      <a:pt x="10105" y="10000"/>
                    </a:lnTo>
                    <a:lnTo>
                      <a:pt x="10118" y="10000"/>
                    </a:lnTo>
                    <a:lnTo>
                      <a:pt x="10118" y="10000"/>
                    </a:lnTo>
                    <a:lnTo>
                      <a:pt x="19881" y="10000"/>
                    </a:lnTo>
                    <a:lnTo>
                      <a:pt x="19881" y="10000"/>
                    </a:lnTo>
                    <a:lnTo>
                      <a:pt x="19894" y="10000"/>
                    </a:lnTo>
                    <a:lnTo>
                      <a:pt x="19920" y="11052"/>
                    </a:lnTo>
                    <a:lnTo>
                      <a:pt x="19934" y="11052"/>
                    </a:lnTo>
                    <a:lnTo>
                      <a:pt x="19947" y="11578"/>
                    </a:lnTo>
                    <a:lnTo>
                      <a:pt x="19986" y="12105"/>
                    </a:lnTo>
                    <a:lnTo>
                      <a:pt x="19986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6" y="17368"/>
                    </a:lnTo>
                    <a:lnTo>
                      <a:pt x="19986" y="17894"/>
                    </a:lnTo>
                    <a:lnTo>
                      <a:pt x="19947" y="18947"/>
                    </a:lnTo>
                    <a:lnTo>
                      <a:pt x="19934" y="18947"/>
                    </a:lnTo>
                    <a:lnTo>
                      <a:pt x="19920" y="20000"/>
                    </a:lnTo>
                    <a:lnTo>
                      <a:pt x="19894" y="20000"/>
                    </a:lnTo>
                    <a:lnTo>
                      <a:pt x="19881" y="20000"/>
                    </a:lnTo>
                    <a:lnTo>
                      <a:pt x="19881" y="20000"/>
                    </a:lnTo>
                    <a:lnTo>
                      <a:pt x="10118" y="20000"/>
                    </a:lnTo>
                    <a:close/>
                    <a:moveTo>
                      <a:pt x="1011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525160" y="6045120"/>
                <a:ext cx="16020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3" y="20000"/>
                    </a:moveTo>
                    <a:lnTo>
                      <a:pt x="10113" y="20000"/>
                    </a:lnTo>
                    <a:lnTo>
                      <a:pt x="10101" y="20000"/>
                    </a:lnTo>
                    <a:lnTo>
                      <a:pt x="10075" y="20000"/>
                    </a:lnTo>
                    <a:lnTo>
                      <a:pt x="10050" y="18947"/>
                    </a:lnTo>
                    <a:lnTo>
                      <a:pt x="10037" y="18947"/>
                    </a:lnTo>
                    <a:lnTo>
                      <a:pt x="10025" y="17894"/>
                    </a:lnTo>
                    <a:lnTo>
                      <a:pt x="10012" y="17368"/>
                    </a:lnTo>
                    <a:lnTo>
                      <a:pt x="10012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2" y="13684"/>
                    </a:lnTo>
                    <a:lnTo>
                      <a:pt x="10012" y="12631"/>
                    </a:lnTo>
                    <a:lnTo>
                      <a:pt x="10025" y="12105"/>
                    </a:lnTo>
                    <a:lnTo>
                      <a:pt x="10037" y="11578"/>
                    </a:lnTo>
                    <a:lnTo>
                      <a:pt x="10050" y="11052"/>
                    </a:lnTo>
                    <a:lnTo>
                      <a:pt x="10075" y="11052"/>
                    </a:lnTo>
                    <a:lnTo>
                      <a:pt x="10101" y="10000"/>
                    </a:lnTo>
                    <a:lnTo>
                      <a:pt x="10113" y="10000"/>
                    </a:lnTo>
                    <a:lnTo>
                      <a:pt x="10113" y="10000"/>
                    </a:lnTo>
                    <a:lnTo>
                      <a:pt x="19886" y="10000"/>
                    </a:lnTo>
                    <a:lnTo>
                      <a:pt x="19886" y="10000"/>
                    </a:lnTo>
                    <a:lnTo>
                      <a:pt x="19898" y="10000"/>
                    </a:lnTo>
                    <a:lnTo>
                      <a:pt x="19924" y="11052"/>
                    </a:lnTo>
                    <a:lnTo>
                      <a:pt x="19949" y="11052"/>
                    </a:lnTo>
                    <a:lnTo>
                      <a:pt x="19962" y="11578"/>
                    </a:lnTo>
                    <a:lnTo>
                      <a:pt x="19987" y="12105"/>
                    </a:lnTo>
                    <a:lnTo>
                      <a:pt x="19987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7" y="17368"/>
                    </a:lnTo>
                    <a:lnTo>
                      <a:pt x="19987" y="17894"/>
                    </a:lnTo>
                    <a:lnTo>
                      <a:pt x="19962" y="18947"/>
                    </a:lnTo>
                    <a:lnTo>
                      <a:pt x="19949" y="18947"/>
                    </a:lnTo>
                    <a:lnTo>
                      <a:pt x="19924" y="20000"/>
                    </a:lnTo>
                    <a:lnTo>
                      <a:pt x="19898" y="20000"/>
                    </a:lnTo>
                    <a:lnTo>
                      <a:pt x="19886" y="20000"/>
                    </a:lnTo>
                    <a:lnTo>
                      <a:pt x="19886" y="20000"/>
                    </a:lnTo>
                    <a:lnTo>
                      <a:pt x="10113" y="20000"/>
                    </a:lnTo>
                    <a:close/>
                    <a:moveTo>
                      <a:pt x="10113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967880" y="6154560"/>
                <a:ext cx="160200" cy="193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6164" y="10000"/>
                    </a:moveTo>
                    <a:lnTo>
                      <a:pt x="16278" y="10230"/>
                    </a:lnTo>
                    <a:lnTo>
                      <a:pt x="16594" y="10723"/>
                    </a:lnTo>
                    <a:lnTo>
                      <a:pt x="17088" y="11488"/>
                    </a:lnTo>
                    <a:lnTo>
                      <a:pt x="17658" y="12547"/>
                    </a:lnTo>
                    <a:lnTo>
                      <a:pt x="18291" y="13909"/>
                    </a:lnTo>
                    <a:lnTo>
                      <a:pt x="18924" y="15587"/>
                    </a:lnTo>
                    <a:lnTo>
                      <a:pt x="19518" y="17620"/>
                    </a:lnTo>
                    <a:lnTo>
                      <a:pt x="20000" y="20000"/>
                    </a:lnTo>
                    <a:lnTo>
                      <a:pt x="16518" y="18836"/>
                    </a:lnTo>
                    <a:lnTo>
                      <a:pt x="13974" y="17547"/>
                    </a:lnTo>
                    <a:lnTo>
                      <a:pt x="12189" y="16205"/>
                    </a:lnTo>
                    <a:lnTo>
                      <a:pt x="11025" y="14916"/>
                    </a:lnTo>
                    <a:lnTo>
                      <a:pt x="10367" y="13752"/>
                    </a:lnTo>
                    <a:lnTo>
                      <a:pt x="10088" y="12819"/>
                    </a:lnTo>
                    <a:lnTo>
                      <a:pt x="10000" y="12201"/>
                    </a:lnTo>
                    <a:lnTo>
                      <a:pt x="10012" y="11991"/>
                    </a:lnTo>
                    <a:lnTo>
                      <a:pt x="10658" y="12693"/>
                    </a:lnTo>
                    <a:lnTo>
                      <a:pt x="11493" y="13469"/>
                    </a:lnTo>
                    <a:lnTo>
                      <a:pt x="12481" y="14266"/>
                    </a:lnTo>
                    <a:lnTo>
                      <a:pt x="13582" y="15052"/>
                    </a:lnTo>
                    <a:lnTo>
                      <a:pt x="14708" y="15849"/>
                    </a:lnTo>
                    <a:lnTo>
                      <a:pt x="15848" y="16614"/>
                    </a:lnTo>
                    <a:lnTo>
                      <a:pt x="16936" y="17316"/>
                    </a:lnTo>
                    <a:lnTo>
                      <a:pt x="17962" y="17966"/>
                    </a:lnTo>
                    <a:lnTo>
                      <a:pt x="17253" y="16666"/>
                    </a:lnTo>
                    <a:lnTo>
                      <a:pt x="16772" y="15324"/>
                    </a:lnTo>
                    <a:lnTo>
                      <a:pt x="16443" y="14004"/>
                    </a:lnTo>
                    <a:lnTo>
                      <a:pt x="16253" y="12746"/>
                    </a:lnTo>
                    <a:lnTo>
                      <a:pt x="16164" y="11645"/>
                    </a:lnTo>
                    <a:lnTo>
                      <a:pt x="16139" y="10775"/>
                    </a:lnTo>
                    <a:lnTo>
                      <a:pt x="16151" y="10199"/>
                    </a:lnTo>
                    <a:lnTo>
                      <a:pt x="16164" y="10000"/>
                    </a:lnTo>
                    <a:close/>
                    <a:moveTo>
                      <a:pt x="1616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969320" y="5837040"/>
                <a:ext cx="10656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00" y="10000"/>
                    </a:moveTo>
                    <a:lnTo>
                      <a:pt x="12366" y="11350"/>
                    </a:lnTo>
                    <a:lnTo>
                      <a:pt x="12366" y="12352"/>
                    </a:lnTo>
                    <a:lnTo>
                      <a:pt x="12423" y="13114"/>
                    </a:lnTo>
                    <a:lnTo>
                      <a:pt x="12557" y="13712"/>
                    </a:lnTo>
                    <a:lnTo>
                      <a:pt x="12729" y="14271"/>
                    </a:lnTo>
                    <a:lnTo>
                      <a:pt x="12881" y="14879"/>
                    </a:lnTo>
                    <a:lnTo>
                      <a:pt x="13034" y="15650"/>
                    </a:lnTo>
                    <a:lnTo>
                      <a:pt x="13148" y="16673"/>
                    </a:lnTo>
                    <a:lnTo>
                      <a:pt x="13511" y="16364"/>
                    </a:lnTo>
                    <a:lnTo>
                      <a:pt x="14064" y="15930"/>
                    </a:lnTo>
                    <a:lnTo>
                      <a:pt x="14809" y="15400"/>
                    </a:lnTo>
                    <a:lnTo>
                      <a:pt x="15667" y="14792"/>
                    </a:lnTo>
                    <a:lnTo>
                      <a:pt x="16641" y="14194"/>
                    </a:lnTo>
                    <a:lnTo>
                      <a:pt x="17690" y="13616"/>
                    </a:lnTo>
                    <a:lnTo>
                      <a:pt x="18816" y="13105"/>
                    </a:lnTo>
                    <a:lnTo>
                      <a:pt x="20000" y="12719"/>
                    </a:lnTo>
                    <a:lnTo>
                      <a:pt x="18568" y="14484"/>
                    </a:lnTo>
                    <a:lnTo>
                      <a:pt x="17347" y="15824"/>
                    </a:lnTo>
                    <a:lnTo>
                      <a:pt x="16297" y="16827"/>
                    </a:lnTo>
                    <a:lnTo>
                      <a:pt x="15362" y="17589"/>
                    </a:lnTo>
                    <a:lnTo>
                      <a:pt x="14541" y="18196"/>
                    </a:lnTo>
                    <a:lnTo>
                      <a:pt x="13835" y="18746"/>
                    </a:lnTo>
                    <a:lnTo>
                      <a:pt x="13206" y="19315"/>
                    </a:lnTo>
                    <a:lnTo>
                      <a:pt x="12614" y="20000"/>
                    </a:lnTo>
                    <a:lnTo>
                      <a:pt x="11164" y="17820"/>
                    </a:lnTo>
                    <a:lnTo>
                      <a:pt x="10305" y="16017"/>
                    </a:lnTo>
                    <a:lnTo>
                      <a:pt x="10000" y="14541"/>
                    </a:lnTo>
                    <a:lnTo>
                      <a:pt x="10076" y="13346"/>
                    </a:lnTo>
                    <a:lnTo>
                      <a:pt x="10458" y="12343"/>
                    </a:lnTo>
                    <a:lnTo>
                      <a:pt x="11068" y="11494"/>
                    </a:lnTo>
                    <a:lnTo>
                      <a:pt x="11774" y="10732"/>
                    </a:lnTo>
                    <a:lnTo>
                      <a:pt x="12500" y="10000"/>
                    </a:lnTo>
                    <a:close/>
                    <a:moveTo>
                      <a:pt x="125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718840" y="5837040"/>
                <a:ext cx="10620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14" y="10000"/>
                    </a:moveTo>
                    <a:lnTo>
                      <a:pt x="17629" y="11350"/>
                    </a:lnTo>
                    <a:lnTo>
                      <a:pt x="17629" y="12352"/>
                    </a:lnTo>
                    <a:lnTo>
                      <a:pt x="17533" y="13114"/>
                    </a:lnTo>
                    <a:lnTo>
                      <a:pt x="17418" y="13712"/>
                    </a:lnTo>
                    <a:lnTo>
                      <a:pt x="17265" y="14271"/>
                    </a:lnTo>
                    <a:lnTo>
                      <a:pt x="17093" y="14879"/>
                    </a:lnTo>
                    <a:lnTo>
                      <a:pt x="16940" y="15650"/>
                    </a:lnTo>
                    <a:lnTo>
                      <a:pt x="16845" y="16673"/>
                    </a:lnTo>
                    <a:lnTo>
                      <a:pt x="16462" y="16364"/>
                    </a:lnTo>
                    <a:lnTo>
                      <a:pt x="15908" y="15930"/>
                    </a:lnTo>
                    <a:lnTo>
                      <a:pt x="15181" y="15400"/>
                    </a:lnTo>
                    <a:lnTo>
                      <a:pt x="14321" y="14792"/>
                    </a:lnTo>
                    <a:lnTo>
                      <a:pt x="13346" y="14194"/>
                    </a:lnTo>
                    <a:lnTo>
                      <a:pt x="12294" y="13616"/>
                    </a:lnTo>
                    <a:lnTo>
                      <a:pt x="11166" y="13105"/>
                    </a:lnTo>
                    <a:lnTo>
                      <a:pt x="10000" y="12719"/>
                    </a:lnTo>
                    <a:lnTo>
                      <a:pt x="11395" y="14484"/>
                    </a:lnTo>
                    <a:lnTo>
                      <a:pt x="12638" y="15824"/>
                    </a:lnTo>
                    <a:lnTo>
                      <a:pt x="13690" y="16827"/>
                    </a:lnTo>
                    <a:lnTo>
                      <a:pt x="14627" y="17589"/>
                    </a:lnTo>
                    <a:lnTo>
                      <a:pt x="15430" y="18196"/>
                    </a:lnTo>
                    <a:lnTo>
                      <a:pt x="16137" y="18746"/>
                    </a:lnTo>
                    <a:lnTo>
                      <a:pt x="16787" y="19315"/>
                    </a:lnTo>
                    <a:lnTo>
                      <a:pt x="17361" y="20000"/>
                    </a:lnTo>
                    <a:lnTo>
                      <a:pt x="18833" y="17820"/>
                    </a:lnTo>
                    <a:lnTo>
                      <a:pt x="19674" y="16017"/>
                    </a:lnTo>
                    <a:lnTo>
                      <a:pt x="20000" y="14541"/>
                    </a:lnTo>
                    <a:lnTo>
                      <a:pt x="19923" y="13346"/>
                    </a:lnTo>
                    <a:lnTo>
                      <a:pt x="19521" y="12343"/>
                    </a:lnTo>
                    <a:lnTo>
                      <a:pt x="18929" y="11494"/>
                    </a:lnTo>
                    <a:lnTo>
                      <a:pt x="18221" y="10732"/>
                    </a:lnTo>
                    <a:lnTo>
                      <a:pt x="17514" y="10000"/>
                    </a:lnTo>
                    <a:close/>
                    <a:moveTo>
                      <a:pt x="1751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096400" y="6397560"/>
                <a:ext cx="598680" cy="93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123" y="11714"/>
                    </a:moveTo>
                    <a:lnTo>
                      <a:pt x="15945" y="10351"/>
                    </a:lnTo>
                    <a:lnTo>
                      <a:pt x="16624" y="10000"/>
                    </a:lnTo>
                    <a:lnTo>
                      <a:pt x="17203" y="10329"/>
                    </a:lnTo>
                    <a:lnTo>
                      <a:pt x="17720" y="11076"/>
                    </a:lnTo>
                    <a:lnTo>
                      <a:pt x="18214" y="11912"/>
                    </a:lnTo>
                    <a:lnTo>
                      <a:pt x="18735" y="12615"/>
                    </a:lnTo>
                    <a:lnTo>
                      <a:pt x="19316" y="12835"/>
                    </a:lnTo>
                    <a:lnTo>
                      <a:pt x="20000" y="12351"/>
                    </a:lnTo>
                    <a:lnTo>
                      <a:pt x="19310" y="14945"/>
                    </a:lnTo>
                    <a:lnTo>
                      <a:pt x="18630" y="16043"/>
                    </a:lnTo>
                    <a:lnTo>
                      <a:pt x="17970" y="15978"/>
                    </a:lnTo>
                    <a:lnTo>
                      <a:pt x="17341" y="15208"/>
                    </a:lnTo>
                    <a:lnTo>
                      <a:pt x="16760" y="14065"/>
                    </a:lnTo>
                    <a:lnTo>
                      <a:pt x="16232" y="12989"/>
                    </a:lnTo>
                    <a:lnTo>
                      <a:pt x="15769" y="12285"/>
                    </a:lnTo>
                    <a:lnTo>
                      <a:pt x="15393" y="12417"/>
                    </a:lnTo>
                    <a:lnTo>
                      <a:pt x="15793" y="13758"/>
                    </a:lnTo>
                    <a:lnTo>
                      <a:pt x="16141" y="15098"/>
                    </a:lnTo>
                    <a:lnTo>
                      <a:pt x="16438" y="16351"/>
                    </a:lnTo>
                    <a:lnTo>
                      <a:pt x="16682" y="17494"/>
                    </a:lnTo>
                    <a:lnTo>
                      <a:pt x="16875" y="18505"/>
                    </a:lnTo>
                    <a:lnTo>
                      <a:pt x="17010" y="19252"/>
                    </a:lnTo>
                    <a:lnTo>
                      <a:pt x="17091" y="19736"/>
                    </a:lnTo>
                    <a:lnTo>
                      <a:pt x="17122" y="19934"/>
                    </a:lnTo>
                    <a:lnTo>
                      <a:pt x="17098" y="19934"/>
                    </a:lnTo>
                    <a:lnTo>
                      <a:pt x="17047" y="19934"/>
                    </a:lnTo>
                    <a:lnTo>
                      <a:pt x="16966" y="19934"/>
                    </a:lnTo>
                    <a:lnTo>
                      <a:pt x="16878" y="19934"/>
                    </a:lnTo>
                    <a:lnTo>
                      <a:pt x="16787" y="19934"/>
                    </a:lnTo>
                    <a:lnTo>
                      <a:pt x="16709" y="19934"/>
                    </a:lnTo>
                    <a:lnTo>
                      <a:pt x="16652" y="19934"/>
                    </a:lnTo>
                    <a:lnTo>
                      <a:pt x="16631" y="19934"/>
                    </a:lnTo>
                    <a:lnTo>
                      <a:pt x="16587" y="19626"/>
                    </a:lnTo>
                    <a:lnTo>
                      <a:pt x="16462" y="18791"/>
                    </a:lnTo>
                    <a:lnTo>
                      <a:pt x="16276" y="17648"/>
                    </a:lnTo>
                    <a:lnTo>
                      <a:pt x="16056" y="16329"/>
                    </a:lnTo>
                    <a:lnTo>
                      <a:pt x="15806" y="14989"/>
                    </a:lnTo>
                    <a:lnTo>
                      <a:pt x="15559" y="13846"/>
                    </a:lnTo>
                    <a:lnTo>
                      <a:pt x="15322" y="13032"/>
                    </a:lnTo>
                    <a:lnTo>
                      <a:pt x="15123" y="12725"/>
                    </a:lnTo>
                    <a:lnTo>
                      <a:pt x="14890" y="13010"/>
                    </a:lnTo>
                    <a:lnTo>
                      <a:pt x="14633" y="13802"/>
                    </a:lnTo>
                    <a:lnTo>
                      <a:pt x="14362" y="14945"/>
                    </a:lnTo>
                    <a:lnTo>
                      <a:pt x="14102" y="16285"/>
                    </a:lnTo>
                    <a:lnTo>
                      <a:pt x="13868" y="17604"/>
                    </a:lnTo>
                    <a:lnTo>
                      <a:pt x="13682" y="18769"/>
                    </a:lnTo>
                    <a:lnTo>
                      <a:pt x="13554" y="19626"/>
                    </a:lnTo>
                    <a:lnTo>
                      <a:pt x="13510" y="19934"/>
                    </a:lnTo>
                    <a:lnTo>
                      <a:pt x="13500" y="19912"/>
                    </a:lnTo>
                    <a:lnTo>
                      <a:pt x="13473" y="19912"/>
                    </a:lnTo>
                    <a:lnTo>
                      <a:pt x="13429" y="19912"/>
                    </a:lnTo>
                    <a:lnTo>
                      <a:pt x="13375" y="19912"/>
                    </a:lnTo>
                    <a:lnTo>
                      <a:pt x="13314" y="19912"/>
                    </a:lnTo>
                    <a:lnTo>
                      <a:pt x="13243" y="19934"/>
                    </a:lnTo>
                    <a:lnTo>
                      <a:pt x="13168" y="19934"/>
                    </a:lnTo>
                    <a:lnTo>
                      <a:pt x="13097" y="20000"/>
                    </a:lnTo>
                    <a:lnTo>
                      <a:pt x="13114" y="19824"/>
                    </a:lnTo>
                    <a:lnTo>
                      <a:pt x="13185" y="19340"/>
                    </a:lnTo>
                    <a:lnTo>
                      <a:pt x="13300" y="18593"/>
                    </a:lnTo>
                    <a:lnTo>
                      <a:pt x="13473" y="17648"/>
                    </a:lnTo>
                    <a:lnTo>
                      <a:pt x="13699" y="16505"/>
                    </a:lnTo>
                    <a:lnTo>
                      <a:pt x="13990" y="15208"/>
                    </a:lnTo>
                    <a:lnTo>
                      <a:pt x="14352" y="13846"/>
                    </a:lnTo>
                    <a:lnTo>
                      <a:pt x="14781" y="12417"/>
                    </a:lnTo>
                    <a:lnTo>
                      <a:pt x="14355" y="12285"/>
                    </a:lnTo>
                    <a:lnTo>
                      <a:pt x="13872" y="13010"/>
                    </a:lnTo>
                    <a:lnTo>
                      <a:pt x="13334" y="14153"/>
                    </a:lnTo>
                    <a:lnTo>
                      <a:pt x="12752" y="15296"/>
                    </a:lnTo>
                    <a:lnTo>
                      <a:pt x="12123" y="16043"/>
                    </a:lnTo>
                    <a:lnTo>
                      <a:pt x="11450" y="15934"/>
                    </a:lnTo>
                    <a:lnTo>
                      <a:pt x="10740" y="14571"/>
                    </a:lnTo>
                    <a:lnTo>
                      <a:pt x="10000" y="11538"/>
                    </a:lnTo>
                    <a:lnTo>
                      <a:pt x="10693" y="12615"/>
                    </a:lnTo>
                    <a:lnTo>
                      <a:pt x="11274" y="12725"/>
                    </a:lnTo>
                    <a:lnTo>
                      <a:pt x="11792" y="12263"/>
                    </a:lnTo>
                    <a:lnTo>
                      <a:pt x="12292" y="11472"/>
                    </a:lnTo>
                    <a:lnTo>
                      <a:pt x="12830" y="10725"/>
                    </a:lnTo>
                    <a:lnTo>
                      <a:pt x="13446" y="10263"/>
                    </a:lnTo>
                    <a:lnTo>
                      <a:pt x="14193" y="10505"/>
                    </a:lnTo>
                    <a:lnTo>
                      <a:pt x="15123" y="11714"/>
                    </a:lnTo>
                    <a:close/>
                    <a:moveTo>
                      <a:pt x="15123" y="1171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099640" y="5753160"/>
                <a:ext cx="587520" cy="585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5000"/>
                    </a:moveTo>
                    <a:lnTo>
                      <a:pt x="10103" y="16002"/>
                    </a:lnTo>
                    <a:lnTo>
                      <a:pt x="10392" y="16938"/>
                    </a:lnTo>
                    <a:lnTo>
                      <a:pt x="10854" y="17787"/>
                    </a:lnTo>
                    <a:lnTo>
                      <a:pt x="11465" y="18526"/>
                    </a:lnTo>
                    <a:lnTo>
                      <a:pt x="12206" y="19140"/>
                    </a:lnTo>
                    <a:lnTo>
                      <a:pt x="13054" y="19601"/>
                    </a:lnTo>
                    <a:lnTo>
                      <a:pt x="13995" y="19895"/>
                    </a:lnTo>
                    <a:lnTo>
                      <a:pt x="14998" y="20000"/>
                    </a:lnTo>
                    <a:lnTo>
                      <a:pt x="16001" y="19895"/>
                    </a:lnTo>
                    <a:lnTo>
                      <a:pt x="16938" y="19601"/>
                    </a:lnTo>
                    <a:lnTo>
                      <a:pt x="17790" y="19140"/>
                    </a:lnTo>
                    <a:lnTo>
                      <a:pt x="18531" y="18526"/>
                    </a:lnTo>
                    <a:lnTo>
                      <a:pt x="19141" y="17787"/>
                    </a:lnTo>
                    <a:lnTo>
                      <a:pt x="19603" y="16938"/>
                    </a:lnTo>
                    <a:lnTo>
                      <a:pt x="19893" y="16002"/>
                    </a:lnTo>
                    <a:lnTo>
                      <a:pt x="20000" y="15000"/>
                    </a:lnTo>
                    <a:lnTo>
                      <a:pt x="19893" y="13990"/>
                    </a:lnTo>
                    <a:lnTo>
                      <a:pt x="19603" y="13054"/>
                    </a:lnTo>
                    <a:lnTo>
                      <a:pt x="19141" y="12208"/>
                    </a:lnTo>
                    <a:lnTo>
                      <a:pt x="18531" y="11466"/>
                    </a:lnTo>
                    <a:lnTo>
                      <a:pt x="17790" y="10852"/>
                    </a:lnTo>
                    <a:lnTo>
                      <a:pt x="16938" y="10391"/>
                    </a:lnTo>
                    <a:lnTo>
                      <a:pt x="16001" y="10097"/>
                    </a:lnTo>
                    <a:lnTo>
                      <a:pt x="14998" y="10000"/>
                    </a:lnTo>
                    <a:lnTo>
                      <a:pt x="13995" y="10097"/>
                    </a:lnTo>
                    <a:lnTo>
                      <a:pt x="13054" y="10391"/>
                    </a:lnTo>
                    <a:lnTo>
                      <a:pt x="12206" y="10852"/>
                    </a:lnTo>
                    <a:lnTo>
                      <a:pt x="11465" y="11466"/>
                    </a:lnTo>
                    <a:lnTo>
                      <a:pt x="10854" y="12208"/>
                    </a:lnTo>
                    <a:lnTo>
                      <a:pt x="10392" y="13054"/>
                    </a:lnTo>
                    <a:lnTo>
                      <a:pt x="10103" y="13990"/>
                    </a:lnTo>
                    <a:lnTo>
                      <a:pt x="10000" y="15000"/>
                    </a:lnTo>
                    <a:close/>
                    <a:moveTo>
                      <a:pt x="10000" y="15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278920" y="5929200"/>
                <a:ext cx="231840" cy="231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1" y="14676"/>
                    </a:lnTo>
                    <a:lnTo>
                      <a:pt x="19965" y="14361"/>
                    </a:lnTo>
                    <a:lnTo>
                      <a:pt x="19912" y="14055"/>
                    </a:lnTo>
                    <a:lnTo>
                      <a:pt x="19843" y="13750"/>
                    </a:lnTo>
                    <a:lnTo>
                      <a:pt x="19755" y="13452"/>
                    </a:lnTo>
                    <a:lnTo>
                      <a:pt x="19642" y="13155"/>
                    </a:lnTo>
                    <a:lnTo>
                      <a:pt x="19529" y="12867"/>
                    </a:lnTo>
                    <a:lnTo>
                      <a:pt x="19380" y="12587"/>
                    </a:lnTo>
                    <a:lnTo>
                      <a:pt x="19224" y="12316"/>
                    </a:lnTo>
                    <a:lnTo>
                      <a:pt x="19040" y="12062"/>
                    </a:lnTo>
                    <a:lnTo>
                      <a:pt x="18849" y="11809"/>
                    </a:lnTo>
                    <a:lnTo>
                      <a:pt x="18639" y="11573"/>
                    </a:lnTo>
                    <a:lnTo>
                      <a:pt x="18421" y="11346"/>
                    </a:lnTo>
                    <a:lnTo>
                      <a:pt x="18186" y="11136"/>
                    </a:lnTo>
                    <a:lnTo>
                      <a:pt x="17933" y="10952"/>
                    </a:lnTo>
                    <a:lnTo>
                      <a:pt x="17672" y="10777"/>
                    </a:lnTo>
                    <a:lnTo>
                      <a:pt x="17410" y="10611"/>
                    </a:lnTo>
                    <a:lnTo>
                      <a:pt x="17122" y="10480"/>
                    </a:lnTo>
                    <a:lnTo>
                      <a:pt x="16835" y="10349"/>
                    </a:lnTo>
                    <a:lnTo>
                      <a:pt x="16538" y="10244"/>
                    </a:lnTo>
                    <a:lnTo>
                      <a:pt x="16233" y="10148"/>
                    </a:lnTo>
                    <a:lnTo>
                      <a:pt x="15928" y="10096"/>
                    </a:lnTo>
                    <a:lnTo>
                      <a:pt x="15614" y="10043"/>
                    </a:lnTo>
                    <a:lnTo>
                      <a:pt x="15309" y="10008"/>
                    </a:lnTo>
                    <a:lnTo>
                      <a:pt x="14995" y="10000"/>
                    </a:lnTo>
                    <a:lnTo>
                      <a:pt x="14681" y="10008"/>
                    </a:lnTo>
                    <a:lnTo>
                      <a:pt x="14367" y="10043"/>
                    </a:lnTo>
                    <a:lnTo>
                      <a:pt x="14054" y="10096"/>
                    </a:lnTo>
                    <a:lnTo>
                      <a:pt x="13748" y="10157"/>
                    </a:lnTo>
                    <a:lnTo>
                      <a:pt x="13443" y="10253"/>
                    </a:lnTo>
                    <a:lnTo>
                      <a:pt x="13147" y="10349"/>
                    </a:lnTo>
                    <a:lnTo>
                      <a:pt x="12868" y="10480"/>
                    </a:lnTo>
                    <a:lnTo>
                      <a:pt x="12580" y="10629"/>
                    </a:lnTo>
                    <a:lnTo>
                      <a:pt x="12310" y="10786"/>
                    </a:lnTo>
                    <a:lnTo>
                      <a:pt x="12048" y="10961"/>
                    </a:lnTo>
                    <a:lnTo>
                      <a:pt x="11804" y="11153"/>
                    </a:lnTo>
                    <a:lnTo>
                      <a:pt x="11560" y="11354"/>
                    </a:lnTo>
                    <a:lnTo>
                      <a:pt x="11351" y="11582"/>
                    </a:lnTo>
                    <a:lnTo>
                      <a:pt x="11142" y="11818"/>
                    </a:lnTo>
                    <a:lnTo>
                      <a:pt x="10941" y="12071"/>
                    </a:lnTo>
                    <a:lnTo>
                      <a:pt x="10767" y="12325"/>
                    </a:lnTo>
                    <a:lnTo>
                      <a:pt x="10610" y="12596"/>
                    </a:lnTo>
                    <a:lnTo>
                      <a:pt x="10470" y="12875"/>
                    </a:lnTo>
                    <a:lnTo>
                      <a:pt x="10340" y="13164"/>
                    </a:lnTo>
                    <a:lnTo>
                      <a:pt x="10235" y="13461"/>
                    </a:lnTo>
                    <a:lnTo>
                      <a:pt x="10148" y="13758"/>
                    </a:lnTo>
                    <a:lnTo>
                      <a:pt x="10078" y="14064"/>
                    </a:lnTo>
                    <a:lnTo>
                      <a:pt x="10034" y="14379"/>
                    </a:lnTo>
                    <a:lnTo>
                      <a:pt x="10008" y="14685"/>
                    </a:lnTo>
                    <a:lnTo>
                      <a:pt x="10000" y="15008"/>
                    </a:lnTo>
                    <a:lnTo>
                      <a:pt x="10008" y="15323"/>
                    </a:lnTo>
                    <a:lnTo>
                      <a:pt x="10034" y="15638"/>
                    </a:lnTo>
                    <a:lnTo>
                      <a:pt x="10087" y="15944"/>
                    </a:lnTo>
                    <a:lnTo>
                      <a:pt x="10156" y="16250"/>
                    </a:lnTo>
                    <a:lnTo>
                      <a:pt x="10244" y="16555"/>
                    </a:lnTo>
                    <a:lnTo>
                      <a:pt x="10348" y="16844"/>
                    </a:lnTo>
                    <a:lnTo>
                      <a:pt x="10470" y="17141"/>
                    </a:lnTo>
                    <a:lnTo>
                      <a:pt x="10619" y="17421"/>
                    </a:lnTo>
                    <a:lnTo>
                      <a:pt x="10775" y="17683"/>
                    </a:lnTo>
                    <a:lnTo>
                      <a:pt x="10950" y="17937"/>
                    </a:lnTo>
                    <a:lnTo>
                      <a:pt x="11150" y="18199"/>
                    </a:lnTo>
                    <a:lnTo>
                      <a:pt x="11360" y="18426"/>
                    </a:lnTo>
                    <a:lnTo>
                      <a:pt x="11578" y="18653"/>
                    </a:lnTo>
                    <a:lnTo>
                      <a:pt x="11813" y="18863"/>
                    </a:lnTo>
                    <a:lnTo>
                      <a:pt x="12057" y="19047"/>
                    </a:lnTo>
                    <a:lnTo>
                      <a:pt x="12327" y="19222"/>
                    </a:lnTo>
                    <a:lnTo>
                      <a:pt x="12589" y="19388"/>
                    </a:lnTo>
                    <a:lnTo>
                      <a:pt x="12877" y="19536"/>
                    </a:lnTo>
                    <a:lnTo>
                      <a:pt x="13164" y="19650"/>
                    </a:lnTo>
                    <a:lnTo>
                      <a:pt x="13461" y="19763"/>
                    </a:lnTo>
                    <a:lnTo>
                      <a:pt x="13766" y="19851"/>
                    </a:lnTo>
                    <a:lnTo>
                      <a:pt x="14071" y="19921"/>
                    </a:lnTo>
                    <a:lnTo>
                      <a:pt x="14376" y="19965"/>
                    </a:lnTo>
                    <a:lnTo>
                      <a:pt x="14690" y="19991"/>
                    </a:lnTo>
                    <a:lnTo>
                      <a:pt x="15004" y="20000"/>
                    </a:lnTo>
                    <a:lnTo>
                      <a:pt x="15318" y="19991"/>
                    </a:lnTo>
                    <a:lnTo>
                      <a:pt x="15632" y="19956"/>
                    </a:lnTo>
                    <a:lnTo>
                      <a:pt x="15937" y="19903"/>
                    </a:lnTo>
                    <a:lnTo>
                      <a:pt x="16242" y="19842"/>
                    </a:lnTo>
                    <a:lnTo>
                      <a:pt x="16547" y="19746"/>
                    </a:lnTo>
                    <a:lnTo>
                      <a:pt x="16843" y="19650"/>
                    </a:lnTo>
                    <a:lnTo>
                      <a:pt x="17131" y="19519"/>
                    </a:lnTo>
                    <a:lnTo>
                      <a:pt x="17419" y="19388"/>
                    </a:lnTo>
                    <a:lnTo>
                      <a:pt x="17680" y="19213"/>
                    </a:lnTo>
                    <a:lnTo>
                      <a:pt x="17951" y="19038"/>
                    </a:lnTo>
                    <a:lnTo>
                      <a:pt x="18195" y="18846"/>
                    </a:lnTo>
                    <a:lnTo>
                      <a:pt x="18430" y="18645"/>
                    </a:lnTo>
                    <a:lnTo>
                      <a:pt x="18648" y="18417"/>
                    </a:lnTo>
                    <a:lnTo>
                      <a:pt x="18857" y="18190"/>
                    </a:lnTo>
                    <a:lnTo>
                      <a:pt x="19058" y="17928"/>
                    </a:lnTo>
                    <a:lnTo>
                      <a:pt x="19232" y="17674"/>
                    </a:lnTo>
                    <a:lnTo>
                      <a:pt x="19389" y="17403"/>
                    </a:lnTo>
                    <a:lnTo>
                      <a:pt x="19529" y="17124"/>
                    </a:lnTo>
                    <a:lnTo>
                      <a:pt x="19659" y="16835"/>
                    </a:lnTo>
                    <a:lnTo>
                      <a:pt x="19764" y="16538"/>
                    </a:lnTo>
                    <a:lnTo>
                      <a:pt x="19851" y="16241"/>
                    </a:lnTo>
                    <a:lnTo>
                      <a:pt x="19912" y="15935"/>
                    </a:lnTo>
                    <a:lnTo>
                      <a:pt x="19965" y="15620"/>
                    </a:lnTo>
                    <a:lnTo>
                      <a:pt x="19991" y="15314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" name=""/>
              <p:cNvGrpSpPr/>
              <p:nvPr/>
            </p:nvGrpSpPr>
            <p:grpSpPr>
              <a:xfrm>
                <a:off x="7944120" y="5762520"/>
                <a:ext cx="904680" cy="643680"/>
                <a:chOff x="7944120" y="5762520"/>
                <a:chExt cx="904680" cy="643680"/>
              </a:xfrm>
            </p:grpSpPr>
            <p:sp>
              <p:nvSpPr>
                <p:cNvPr id="33" name=""/>
                <p:cNvSpPr/>
                <p:nvPr/>
              </p:nvSpPr>
              <p:spPr>
                <a:xfrm>
                  <a:off x="7944120" y="5952600"/>
                  <a:ext cx="1047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19" y="10000"/>
                      </a:moveTo>
                      <a:lnTo>
                        <a:pt x="10658" y="11154"/>
                      </a:lnTo>
                      <a:lnTo>
                        <a:pt x="11259" y="12002"/>
                      </a:lnTo>
                      <a:lnTo>
                        <a:pt x="11821" y="12680"/>
                      </a:lnTo>
                      <a:lnTo>
                        <a:pt x="12383" y="13305"/>
                      </a:lnTo>
                      <a:lnTo>
                        <a:pt x="12984" y="13961"/>
                      </a:lnTo>
                      <a:lnTo>
                        <a:pt x="13643" y="14788"/>
                      </a:lnTo>
                      <a:lnTo>
                        <a:pt x="14360" y="15889"/>
                      </a:lnTo>
                      <a:lnTo>
                        <a:pt x="15193" y="17394"/>
                      </a:lnTo>
                      <a:lnTo>
                        <a:pt x="15193" y="17383"/>
                      </a:lnTo>
                      <a:lnTo>
                        <a:pt x="15193" y="17341"/>
                      </a:lnTo>
                      <a:lnTo>
                        <a:pt x="15193" y="17298"/>
                      </a:lnTo>
                      <a:lnTo>
                        <a:pt x="15193" y="17235"/>
                      </a:lnTo>
                      <a:lnTo>
                        <a:pt x="15348" y="16620"/>
                      </a:lnTo>
                      <a:lnTo>
                        <a:pt x="15523" y="16101"/>
                      </a:lnTo>
                      <a:lnTo>
                        <a:pt x="15794" y="15603"/>
                      </a:lnTo>
                      <a:lnTo>
                        <a:pt x="16162" y="15074"/>
                      </a:lnTo>
                      <a:lnTo>
                        <a:pt x="16724" y="14470"/>
                      </a:lnTo>
                      <a:lnTo>
                        <a:pt x="17519" y="13728"/>
                      </a:lnTo>
                      <a:lnTo>
                        <a:pt x="18565" y="12764"/>
                      </a:lnTo>
                      <a:lnTo>
                        <a:pt x="19980" y="11567"/>
                      </a:lnTo>
                      <a:lnTo>
                        <a:pt x="20000" y="12415"/>
                      </a:lnTo>
                      <a:lnTo>
                        <a:pt x="19903" y="13199"/>
                      </a:lnTo>
                      <a:lnTo>
                        <a:pt x="19670" y="13972"/>
                      </a:lnTo>
                      <a:lnTo>
                        <a:pt x="19263" y="14819"/>
                      </a:lnTo>
                      <a:lnTo>
                        <a:pt x="18682" y="15762"/>
                      </a:lnTo>
                      <a:lnTo>
                        <a:pt x="17868" y="16906"/>
                      </a:lnTo>
                      <a:lnTo>
                        <a:pt x="16821" y="18305"/>
                      </a:lnTo>
                      <a:lnTo>
                        <a:pt x="15484" y="20000"/>
                      </a:lnTo>
                      <a:lnTo>
                        <a:pt x="15213" y="19830"/>
                      </a:lnTo>
                      <a:lnTo>
                        <a:pt x="14534" y="19364"/>
                      </a:lnTo>
                      <a:lnTo>
                        <a:pt x="13546" y="18580"/>
                      </a:lnTo>
                      <a:lnTo>
                        <a:pt x="12441" y="17478"/>
                      </a:lnTo>
                      <a:lnTo>
                        <a:pt x="11356" y="16069"/>
                      </a:lnTo>
                      <a:lnTo>
                        <a:pt x="10503" y="14343"/>
                      </a:lnTo>
                      <a:lnTo>
                        <a:pt x="10000" y="12319"/>
                      </a:lnTo>
                      <a:lnTo>
                        <a:pt x="10019" y="10000"/>
                      </a:lnTo>
                      <a:close/>
                      <a:moveTo>
                        <a:pt x="10019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8033040" y="6244560"/>
                  <a:ext cx="212760" cy="1616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4458" y="10000"/>
                      </a:moveTo>
                      <a:lnTo>
                        <a:pt x="15389" y="11384"/>
                      </a:lnTo>
                      <a:lnTo>
                        <a:pt x="16197" y="12693"/>
                      </a:lnTo>
                      <a:lnTo>
                        <a:pt x="16882" y="13940"/>
                      </a:lnTo>
                      <a:lnTo>
                        <a:pt x="17500" y="15124"/>
                      </a:lnTo>
                      <a:lnTo>
                        <a:pt x="18089" y="16259"/>
                      </a:lnTo>
                      <a:lnTo>
                        <a:pt x="18669" y="17394"/>
                      </a:lnTo>
                      <a:lnTo>
                        <a:pt x="19287" y="18503"/>
                      </a:lnTo>
                      <a:lnTo>
                        <a:pt x="20000" y="19625"/>
                      </a:lnTo>
                      <a:lnTo>
                        <a:pt x="19001" y="19663"/>
                      </a:lnTo>
                      <a:lnTo>
                        <a:pt x="17946" y="19850"/>
                      </a:lnTo>
                      <a:lnTo>
                        <a:pt x="16806" y="20000"/>
                      </a:lnTo>
                      <a:lnTo>
                        <a:pt x="15608" y="19987"/>
                      </a:lnTo>
                      <a:lnTo>
                        <a:pt x="14325" y="19638"/>
                      </a:lnTo>
                      <a:lnTo>
                        <a:pt x="12965" y="18815"/>
                      </a:lnTo>
                      <a:lnTo>
                        <a:pt x="11511" y="17369"/>
                      </a:lnTo>
                      <a:lnTo>
                        <a:pt x="10000" y="15124"/>
                      </a:lnTo>
                      <a:lnTo>
                        <a:pt x="10684" y="15635"/>
                      </a:lnTo>
                      <a:lnTo>
                        <a:pt x="11378" y="16109"/>
                      </a:lnTo>
                      <a:lnTo>
                        <a:pt x="12110" y="16533"/>
                      </a:lnTo>
                      <a:lnTo>
                        <a:pt x="12927" y="16945"/>
                      </a:lnTo>
                      <a:lnTo>
                        <a:pt x="13878" y="17356"/>
                      </a:lnTo>
                      <a:lnTo>
                        <a:pt x="14980" y="17755"/>
                      </a:lnTo>
                      <a:lnTo>
                        <a:pt x="16302" y="18179"/>
                      </a:lnTo>
                      <a:lnTo>
                        <a:pt x="17889" y="18653"/>
                      </a:lnTo>
                      <a:lnTo>
                        <a:pt x="16777" y="17294"/>
                      </a:lnTo>
                      <a:lnTo>
                        <a:pt x="15941" y="15860"/>
                      </a:lnTo>
                      <a:lnTo>
                        <a:pt x="15323" y="14413"/>
                      </a:lnTo>
                      <a:lnTo>
                        <a:pt x="14914" y="13054"/>
                      </a:lnTo>
                      <a:lnTo>
                        <a:pt x="14648" y="11832"/>
                      </a:lnTo>
                      <a:lnTo>
                        <a:pt x="14515" y="10860"/>
                      </a:lnTo>
                      <a:lnTo>
                        <a:pt x="14458" y="10224"/>
                      </a:lnTo>
                      <a:lnTo>
                        <a:pt x="14458" y="10000"/>
                      </a:lnTo>
                      <a:close/>
                      <a:moveTo>
                        <a:pt x="14458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8745840" y="5952600"/>
                  <a:ext cx="1029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0000"/>
                      </a:moveTo>
                      <a:lnTo>
                        <a:pt x="19339" y="11154"/>
                      </a:lnTo>
                      <a:lnTo>
                        <a:pt x="18737" y="12002"/>
                      </a:lnTo>
                      <a:lnTo>
                        <a:pt x="18194" y="12680"/>
                      </a:lnTo>
                      <a:lnTo>
                        <a:pt x="17611" y="13305"/>
                      </a:lnTo>
                      <a:lnTo>
                        <a:pt x="17029" y="13961"/>
                      </a:lnTo>
                      <a:lnTo>
                        <a:pt x="16368" y="14788"/>
                      </a:lnTo>
                      <a:lnTo>
                        <a:pt x="15650" y="15889"/>
                      </a:lnTo>
                      <a:lnTo>
                        <a:pt x="14834" y="17394"/>
                      </a:lnTo>
                      <a:lnTo>
                        <a:pt x="14834" y="17383"/>
                      </a:lnTo>
                      <a:lnTo>
                        <a:pt x="14834" y="17341"/>
                      </a:lnTo>
                      <a:lnTo>
                        <a:pt x="14834" y="17298"/>
                      </a:lnTo>
                      <a:lnTo>
                        <a:pt x="14834" y="17235"/>
                      </a:lnTo>
                      <a:lnTo>
                        <a:pt x="14660" y="16620"/>
                      </a:lnTo>
                      <a:lnTo>
                        <a:pt x="14485" y="16101"/>
                      </a:lnTo>
                      <a:lnTo>
                        <a:pt x="14213" y="15603"/>
                      </a:lnTo>
                      <a:lnTo>
                        <a:pt x="13825" y="15074"/>
                      </a:lnTo>
                      <a:lnTo>
                        <a:pt x="13281" y="14470"/>
                      </a:lnTo>
                      <a:lnTo>
                        <a:pt x="12485" y="13728"/>
                      </a:lnTo>
                      <a:lnTo>
                        <a:pt x="11436" y="12764"/>
                      </a:lnTo>
                      <a:lnTo>
                        <a:pt x="10038" y="11567"/>
                      </a:lnTo>
                      <a:lnTo>
                        <a:pt x="10000" y="12415"/>
                      </a:lnTo>
                      <a:lnTo>
                        <a:pt x="10097" y="13199"/>
                      </a:lnTo>
                      <a:lnTo>
                        <a:pt x="10310" y="13972"/>
                      </a:lnTo>
                      <a:lnTo>
                        <a:pt x="10699" y="14819"/>
                      </a:lnTo>
                      <a:lnTo>
                        <a:pt x="11300" y="15762"/>
                      </a:lnTo>
                      <a:lnTo>
                        <a:pt x="12116" y="16906"/>
                      </a:lnTo>
                      <a:lnTo>
                        <a:pt x="13184" y="18305"/>
                      </a:lnTo>
                      <a:lnTo>
                        <a:pt x="14543" y="20000"/>
                      </a:lnTo>
                      <a:lnTo>
                        <a:pt x="14796" y="19830"/>
                      </a:lnTo>
                      <a:lnTo>
                        <a:pt x="15475" y="19364"/>
                      </a:lnTo>
                      <a:lnTo>
                        <a:pt x="16466" y="18580"/>
                      </a:lnTo>
                      <a:lnTo>
                        <a:pt x="17553" y="17478"/>
                      </a:lnTo>
                      <a:lnTo>
                        <a:pt x="18621" y="16069"/>
                      </a:lnTo>
                      <a:lnTo>
                        <a:pt x="19495" y="14343"/>
                      </a:lnTo>
                      <a:lnTo>
                        <a:pt x="20000" y="12319"/>
                      </a:lnTo>
                      <a:lnTo>
                        <a:pt x="20000" y="10000"/>
                      </a:lnTo>
                      <a:close/>
                      <a:moveTo>
                        <a:pt x="2000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8664840" y="6157080"/>
                  <a:ext cx="158760" cy="1918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3840" y="10000"/>
                      </a:moveTo>
                      <a:lnTo>
                        <a:pt x="13700" y="10230"/>
                      </a:lnTo>
                      <a:lnTo>
                        <a:pt x="13396" y="10723"/>
                      </a:lnTo>
                      <a:lnTo>
                        <a:pt x="12902" y="11488"/>
                      </a:lnTo>
                      <a:lnTo>
                        <a:pt x="12332" y="12547"/>
                      </a:lnTo>
                      <a:lnTo>
                        <a:pt x="11698" y="13909"/>
                      </a:lnTo>
                      <a:lnTo>
                        <a:pt x="11051" y="15587"/>
                      </a:lnTo>
                      <a:lnTo>
                        <a:pt x="10468" y="17620"/>
                      </a:lnTo>
                      <a:lnTo>
                        <a:pt x="10000" y="20000"/>
                      </a:lnTo>
                      <a:lnTo>
                        <a:pt x="13460" y="18836"/>
                      </a:lnTo>
                      <a:lnTo>
                        <a:pt x="16032" y="17547"/>
                      </a:lnTo>
                      <a:lnTo>
                        <a:pt x="17820" y="16205"/>
                      </a:lnTo>
                      <a:lnTo>
                        <a:pt x="18960" y="14916"/>
                      </a:lnTo>
                      <a:lnTo>
                        <a:pt x="19619" y="13752"/>
                      </a:lnTo>
                      <a:lnTo>
                        <a:pt x="19923" y="12819"/>
                      </a:lnTo>
                      <a:lnTo>
                        <a:pt x="20000" y="12201"/>
                      </a:lnTo>
                      <a:lnTo>
                        <a:pt x="20000" y="11991"/>
                      </a:lnTo>
                      <a:lnTo>
                        <a:pt x="19340" y="12693"/>
                      </a:lnTo>
                      <a:lnTo>
                        <a:pt x="18504" y="13469"/>
                      </a:lnTo>
                      <a:lnTo>
                        <a:pt x="17515" y="14266"/>
                      </a:lnTo>
                      <a:lnTo>
                        <a:pt x="16425" y="15052"/>
                      </a:lnTo>
                      <a:lnTo>
                        <a:pt x="15285" y="15849"/>
                      </a:lnTo>
                      <a:lnTo>
                        <a:pt x="14131" y="16614"/>
                      </a:lnTo>
                      <a:lnTo>
                        <a:pt x="13041" y="17316"/>
                      </a:lnTo>
                      <a:lnTo>
                        <a:pt x="12040" y="17966"/>
                      </a:lnTo>
                      <a:lnTo>
                        <a:pt x="12737" y="16666"/>
                      </a:lnTo>
                      <a:lnTo>
                        <a:pt x="13219" y="15324"/>
                      </a:lnTo>
                      <a:lnTo>
                        <a:pt x="13548" y="14004"/>
                      </a:lnTo>
                      <a:lnTo>
                        <a:pt x="13738" y="12746"/>
                      </a:lnTo>
                      <a:lnTo>
                        <a:pt x="13827" y="11645"/>
                      </a:lnTo>
                      <a:lnTo>
                        <a:pt x="13852" y="10775"/>
                      </a:lnTo>
                      <a:lnTo>
                        <a:pt x="13840" y="10199"/>
                      </a:lnTo>
                      <a:lnTo>
                        <a:pt x="13840" y="10000"/>
                      </a:lnTo>
                      <a:close/>
                      <a:moveTo>
                        <a:pt x="1384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8033040" y="5770080"/>
                  <a:ext cx="85680" cy="16812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588" y="20000"/>
                      </a:moveTo>
                      <a:lnTo>
                        <a:pt x="10000" y="17900"/>
                      </a:lnTo>
                      <a:lnTo>
                        <a:pt x="10000" y="15987"/>
                      </a:lnTo>
                      <a:lnTo>
                        <a:pt x="10445" y="14298"/>
                      </a:lnTo>
                      <a:lnTo>
                        <a:pt x="11212" y="12857"/>
                      </a:lnTo>
                      <a:lnTo>
                        <a:pt x="12139" y="11689"/>
                      </a:lnTo>
                      <a:lnTo>
                        <a:pt x="13119" y="10807"/>
                      </a:lnTo>
                      <a:lnTo>
                        <a:pt x="14028" y="10223"/>
                      </a:lnTo>
                      <a:lnTo>
                        <a:pt x="14705" y="10000"/>
                      </a:lnTo>
                      <a:lnTo>
                        <a:pt x="14616" y="10161"/>
                      </a:lnTo>
                      <a:lnTo>
                        <a:pt x="14349" y="10608"/>
                      </a:lnTo>
                      <a:lnTo>
                        <a:pt x="13975" y="11291"/>
                      </a:lnTo>
                      <a:lnTo>
                        <a:pt x="13547" y="12173"/>
                      </a:lnTo>
                      <a:lnTo>
                        <a:pt x="13119" y="13217"/>
                      </a:lnTo>
                      <a:lnTo>
                        <a:pt x="12780" y="14385"/>
                      </a:lnTo>
                      <a:lnTo>
                        <a:pt x="12584" y="15602"/>
                      </a:lnTo>
                      <a:lnTo>
                        <a:pt x="12584" y="16869"/>
                      </a:lnTo>
                      <a:lnTo>
                        <a:pt x="12780" y="16571"/>
                      </a:lnTo>
                      <a:lnTo>
                        <a:pt x="13386" y="16111"/>
                      </a:lnTo>
                      <a:lnTo>
                        <a:pt x="14313" y="15527"/>
                      </a:lnTo>
                      <a:lnTo>
                        <a:pt x="15436" y="14844"/>
                      </a:lnTo>
                      <a:lnTo>
                        <a:pt x="16666" y="14149"/>
                      </a:lnTo>
                      <a:lnTo>
                        <a:pt x="17896" y="13453"/>
                      </a:lnTo>
                      <a:lnTo>
                        <a:pt x="19037" y="12844"/>
                      </a:lnTo>
                      <a:lnTo>
                        <a:pt x="20000" y="12335"/>
                      </a:lnTo>
                      <a:lnTo>
                        <a:pt x="19768" y="12732"/>
                      </a:lnTo>
                      <a:lnTo>
                        <a:pt x="19233" y="13403"/>
                      </a:lnTo>
                      <a:lnTo>
                        <a:pt x="18377" y="14273"/>
                      </a:lnTo>
                      <a:lnTo>
                        <a:pt x="17254" y="15316"/>
                      </a:lnTo>
                      <a:lnTo>
                        <a:pt x="15864" y="16447"/>
                      </a:lnTo>
                      <a:lnTo>
                        <a:pt x="14278" y="17639"/>
                      </a:lnTo>
                      <a:lnTo>
                        <a:pt x="12495" y="18832"/>
                      </a:lnTo>
                      <a:lnTo>
                        <a:pt x="10588" y="20000"/>
                      </a:lnTo>
                      <a:close/>
                      <a:moveTo>
                        <a:pt x="10588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8674200" y="5775120"/>
                  <a:ext cx="112680" cy="1598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9427" y="20000"/>
                      </a:moveTo>
                      <a:lnTo>
                        <a:pt x="20000" y="17900"/>
                      </a:lnTo>
                      <a:lnTo>
                        <a:pt x="20000" y="15987"/>
                      </a:lnTo>
                      <a:lnTo>
                        <a:pt x="19552" y="14298"/>
                      </a:lnTo>
                      <a:lnTo>
                        <a:pt x="18783" y="12857"/>
                      </a:lnTo>
                      <a:lnTo>
                        <a:pt x="17853" y="11689"/>
                      </a:lnTo>
                      <a:lnTo>
                        <a:pt x="16869" y="10807"/>
                      </a:lnTo>
                      <a:lnTo>
                        <a:pt x="15957" y="10223"/>
                      </a:lnTo>
                      <a:lnTo>
                        <a:pt x="15277" y="10000"/>
                      </a:lnTo>
                      <a:lnTo>
                        <a:pt x="15366" y="10161"/>
                      </a:lnTo>
                      <a:lnTo>
                        <a:pt x="15635" y="10608"/>
                      </a:lnTo>
                      <a:lnTo>
                        <a:pt x="16010" y="11291"/>
                      </a:lnTo>
                      <a:lnTo>
                        <a:pt x="16440" y="12173"/>
                      </a:lnTo>
                      <a:lnTo>
                        <a:pt x="16869" y="13217"/>
                      </a:lnTo>
                      <a:lnTo>
                        <a:pt x="17209" y="14385"/>
                      </a:lnTo>
                      <a:lnTo>
                        <a:pt x="17406" y="15602"/>
                      </a:lnTo>
                      <a:lnTo>
                        <a:pt x="17423" y="16869"/>
                      </a:lnTo>
                      <a:lnTo>
                        <a:pt x="17209" y="16571"/>
                      </a:lnTo>
                      <a:lnTo>
                        <a:pt x="16601" y="16111"/>
                      </a:lnTo>
                      <a:lnTo>
                        <a:pt x="15688" y="15527"/>
                      </a:lnTo>
                      <a:lnTo>
                        <a:pt x="14561" y="14844"/>
                      </a:lnTo>
                      <a:lnTo>
                        <a:pt x="13327" y="14149"/>
                      </a:lnTo>
                      <a:lnTo>
                        <a:pt x="12093" y="13453"/>
                      </a:lnTo>
                      <a:lnTo>
                        <a:pt x="10930" y="12844"/>
                      </a:lnTo>
                      <a:lnTo>
                        <a:pt x="10000" y="12335"/>
                      </a:lnTo>
                      <a:lnTo>
                        <a:pt x="10214" y="12732"/>
                      </a:lnTo>
                      <a:lnTo>
                        <a:pt x="10751" y="13403"/>
                      </a:lnTo>
                      <a:lnTo>
                        <a:pt x="11610" y="14273"/>
                      </a:lnTo>
                      <a:lnTo>
                        <a:pt x="12737" y="15316"/>
                      </a:lnTo>
                      <a:lnTo>
                        <a:pt x="14132" y="16447"/>
                      </a:lnTo>
                      <a:lnTo>
                        <a:pt x="15706" y="17639"/>
                      </a:lnTo>
                      <a:lnTo>
                        <a:pt x="17495" y="18832"/>
                      </a:lnTo>
                      <a:lnTo>
                        <a:pt x="19427" y="20000"/>
                      </a:lnTo>
                      <a:close/>
                      <a:moveTo>
                        <a:pt x="19427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8161560" y="5820840"/>
                  <a:ext cx="468360" cy="4629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1"/>
                      </a:moveTo>
                      <a:lnTo>
                        <a:pt x="19995" y="14769"/>
                      </a:lnTo>
                      <a:lnTo>
                        <a:pt x="19982" y="14552"/>
                      </a:lnTo>
                      <a:lnTo>
                        <a:pt x="19956" y="14331"/>
                      </a:lnTo>
                      <a:lnTo>
                        <a:pt x="19922" y="14114"/>
                      </a:lnTo>
                      <a:lnTo>
                        <a:pt x="19879" y="13897"/>
                      </a:lnTo>
                      <a:lnTo>
                        <a:pt x="19827" y="13680"/>
                      </a:lnTo>
                      <a:lnTo>
                        <a:pt x="19762" y="13472"/>
                      </a:lnTo>
                      <a:lnTo>
                        <a:pt x="19689" y="13259"/>
                      </a:lnTo>
                      <a:lnTo>
                        <a:pt x="19607" y="13055"/>
                      </a:lnTo>
                      <a:lnTo>
                        <a:pt x="19521" y="12851"/>
                      </a:lnTo>
                      <a:lnTo>
                        <a:pt x="19417" y="12656"/>
                      </a:lnTo>
                      <a:lnTo>
                        <a:pt x="19309" y="12465"/>
                      </a:lnTo>
                      <a:lnTo>
                        <a:pt x="19193" y="12274"/>
                      </a:lnTo>
                      <a:lnTo>
                        <a:pt x="19072" y="12092"/>
                      </a:lnTo>
                      <a:lnTo>
                        <a:pt x="18938" y="11914"/>
                      </a:lnTo>
                      <a:lnTo>
                        <a:pt x="18796" y="11744"/>
                      </a:lnTo>
                      <a:lnTo>
                        <a:pt x="18649" y="11579"/>
                      </a:lnTo>
                      <a:lnTo>
                        <a:pt x="18494" y="11419"/>
                      </a:lnTo>
                      <a:lnTo>
                        <a:pt x="18334" y="11271"/>
                      </a:lnTo>
                      <a:lnTo>
                        <a:pt x="18162" y="11124"/>
                      </a:lnTo>
                      <a:lnTo>
                        <a:pt x="17989" y="10993"/>
                      </a:lnTo>
                      <a:lnTo>
                        <a:pt x="17808" y="10863"/>
                      </a:lnTo>
                      <a:lnTo>
                        <a:pt x="17622" y="10742"/>
                      </a:lnTo>
                      <a:lnTo>
                        <a:pt x="17433" y="10629"/>
                      </a:lnTo>
                      <a:lnTo>
                        <a:pt x="17239" y="10525"/>
                      </a:lnTo>
                      <a:lnTo>
                        <a:pt x="17036" y="10434"/>
                      </a:lnTo>
                      <a:lnTo>
                        <a:pt x="16833" y="10347"/>
                      </a:lnTo>
                      <a:lnTo>
                        <a:pt x="16622" y="10269"/>
                      </a:lnTo>
                      <a:lnTo>
                        <a:pt x="16410" y="10203"/>
                      </a:lnTo>
                      <a:lnTo>
                        <a:pt x="16199" y="10147"/>
                      </a:lnTo>
                      <a:lnTo>
                        <a:pt x="15983" y="10099"/>
                      </a:lnTo>
                      <a:lnTo>
                        <a:pt x="15763" y="10060"/>
                      </a:lnTo>
                      <a:lnTo>
                        <a:pt x="15543" y="10030"/>
                      </a:lnTo>
                      <a:lnTo>
                        <a:pt x="15323" y="10008"/>
                      </a:lnTo>
                      <a:lnTo>
                        <a:pt x="15107" y="10000"/>
                      </a:lnTo>
                      <a:lnTo>
                        <a:pt x="14883" y="10000"/>
                      </a:lnTo>
                      <a:lnTo>
                        <a:pt x="14663" y="10008"/>
                      </a:lnTo>
                      <a:lnTo>
                        <a:pt x="14443" y="10030"/>
                      </a:lnTo>
                      <a:lnTo>
                        <a:pt x="14223" y="10060"/>
                      </a:lnTo>
                      <a:lnTo>
                        <a:pt x="14003" y="10099"/>
                      </a:lnTo>
                      <a:lnTo>
                        <a:pt x="13787" y="10147"/>
                      </a:lnTo>
                      <a:lnTo>
                        <a:pt x="13576" y="10208"/>
                      </a:lnTo>
                      <a:lnTo>
                        <a:pt x="13364" y="10277"/>
                      </a:lnTo>
                      <a:lnTo>
                        <a:pt x="13153" y="10355"/>
                      </a:lnTo>
                      <a:lnTo>
                        <a:pt x="12955" y="10438"/>
                      </a:lnTo>
                      <a:lnTo>
                        <a:pt x="12756" y="10529"/>
                      </a:lnTo>
                      <a:lnTo>
                        <a:pt x="12558" y="10638"/>
                      </a:lnTo>
                      <a:lnTo>
                        <a:pt x="12368" y="10746"/>
                      </a:lnTo>
                      <a:lnTo>
                        <a:pt x="12178" y="10868"/>
                      </a:lnTo>
                      <a:lnTo>
                        <a:pt x="12006" y="10998"/>
                      </a:lnTo>
                      <a:lnTo>
                        <a:pt x="11829" y="11132"/>
                      </a:lnTo>
                      <a:lnTo>
                        <a:pt x="11656" y="11276"/>
                      </a:lnTo>
                      <a:lnTo>
                        <a:pt x="11496" y="11427"/>
                      </a:lnTo>
                      <a:lnTo>
                        <a:pt x="11345" y="11592"/>
                      </a:lnTo>
                      <a:lnTo>
                        <a:pt x="11195" y="11753"/>
                      </a:lnTo>
                      <a:lnTo>
                        <a:pt x="11056" y="11922"/>
                      </a:lnTo>
                      <a:lnTo>
                        <a:pt x="10927" y="12100"/>
                      </a:lnTo>
                      <a:lnTo>
                        <a:pt x="10798" y="12282"/>
                      </a:lnTo>
                      <a:lnTo>
                        <a:pt x="10681" y="12473"/>
                      </a:lnTo>
                      <a:lnTo>
                        <a:pt x="10573" y="12664"/>
                      </a:lnTo>
                      <a:lnTo>
                        <a:pt x="10478" y="12868"/>
                      </a:lnTo>
                      <a:lnTo>
                        <a:pt x="10388" y="13068"/>
                      </a:lnTo>
                      <a:lnTo>
                        <a:pt x="10306" y="13272"/>
                      </a:lnTo>
                      <a:lnTo>
                        <a:pt x="10232" y="13480"/>
                      </a:lnTo>
                      <a:lnTo>
                        <a:pt x="10172" y="13697"/>
                      </a:lnTo>
                      <a:lnTo>
                        <a:pt x="10116" y="13906"/>
                      </a:lnTo>
                      <a:lnTo>
                        <a:pt x="10077" y="14123"/>
                      </a:lnTo>
                      <a:lnTo>
                        <a:pt x="10043" y="14344"/>
                      </a:lnTo>
                      <a:lnTo>
                        <a:pt x="10017" y="14565"/>
                      </a:lnTo>
                      <a:lnTo>
                        <a:pt x="10004" y="14787"/>
                      </a:lnTo>
                      <a:lnTo>
                        <a:pt x="10000" y="15008"/>
                      </a:lnTo>
                      <a:lnTo>
                        <a:pt x="10004" y="15230"/>
                      </a:lnTo>
                      <a:lnTo>
                        <a:pt x="10017" y="15447"/>
                      </a:lnTo>
                      <a:lnTo>
                        <a:pt x="10043" y="15668"/>
                      </a:lnTo>
                      <a:lnTo>
                        <a:pt x="10077" y="15885"/>
                      </a:lnTo>
                      <a:lnTo>
                        <a:pt x="10120" y="16102"/>
                      </a:lnTo>
                      <a:lnTo>
                        <a:pt x="10176" y="16319"/>
                      </a:lnTo>
                      <a:lnTo>
                        <a:pt x="10237" y="16527"/>
                      </a:lnTo>
                      <a:lnTo>
                        <a:pt x="10310" y="16740"/>
                      </a:lnTo>
                      <a:lnTo>
                        <a:pt x="10396" y="16944"/>
                      </a:lnTo>
                      <a:lnTo>
                        <a:pt x="10483" y="17148"/>
                      </a:lnTo>
                      <a:lnTo>
                        <a:pt x="10578" y="17343"/>
                      </a:lnTo>
                      <a:lnTo>
                        <a:pt x="10690" y="17539"/>
                      </a:lnTo>
                      <a:lnTo>
                        <a:pt x="10811" y="17725"/>
                      </a:lnTo>
                      <a:lnTo>
                        <a:pt x="10931" y="17907"/>
                      </a:lnTo>
                      <a:lnTo>
                        <a:pt x="11061" y="18085"/>
                      </a:lnTo>
                      <a:lnTo>
                        <a:pt x="11203" y="18255"/>
                      </a:lnTo>
                      <a:lnTo>
                        <a:pt x="11350" y="18424"/>
                      </a:lnTo>
                      <a:lnTo>
                        <a:pt x="11505" y="18580"/>
                      </a:lnTo>
                      <a:lnTo>
                        <a:pt x="11669" y="18728"/>
                      </a:lnTo>
                      <a:lnTo>
                        <a:pt x="11837" y="18875"/>
                      </a:lnTo>
                      <a:lnTo>
                        <a:pt x="12014" y="19006"/>
                      </a:lnTo>
                      <a:lnTo>
                        <a:pt x="12195" y="19140"/>
                      </a:lnTo>
                      <a:lnTo>
                        <a:pt x="12381" y="19257"/>
                      </a:lnTo>
                      <a:lnTo>
                        <a:pt x="12571" y="19370"/>
                      </a:lnTo>
                      <a:lnTo>
                        <a:pt x="12765" y="19474"/>
                      </a:lnTo>
                      <a:lnTo>
                        <a:pt x="12963" y="19565"/>
                      </a:lnTo>
                      <a:lnTo>
                        <a:pt x="13170" y="19657"/>
                      </a:lnTo>
                      <a:lnTo>
                        <a:pt x="13377" y="19730"/>
                      </a:lnTo>
                      <a:lnTo>
                        <a:pt x="13589" y="19796"/>
                      </a:lnTo>
                      <a:lnTo>
                        <a:pt x="13805" y="19856"/>
                      </a:lnTo>
                      <a:lnTo>
                        <a:pt x="14016" y="19900"/>
                      </a:lnTo>
                      <a:lnTo>
                        <a:pt x="14236" y="19939"/>
                      </a:lnTo>
                      <a:lnTo>
                        <a:pt x="14456" y="19969"/>
                      </a:lnTo>
                      <a:lnTo>
                        <a:pt x="14676" y="19986"/>
                      </a:lnTo>
                      <a:lnTo>
                        <a:pt x="14896" y="20000"/>
                      </a:lnTo>
                      <a:lnTo>
                        <a:pt x="15116" y="20000"/>
                      </a:lnTo>
                      <a:lnTo>
                        <a:pt x="15340" y="19986"/>
                      </a:lnTo>
                      <a:lnTo>
                        <a:pt x="15560" y="19969"/>
                      </a:lnTo>
                      <a:lnTo>
                        <a:pt x="15780" y="19939"/>
                      </a:lnTo>
                      <a:lnTo>
                        <a:pt x="15996" y="19900"/>
                      </a:lnTo>
                      <a:lnTo>
                        <a:pt x="16212" y="19852"/>
                      </a:lnTo>
                      <a:lnTo>
                        <a:pt x="16427" y="19791"/>
                      </a:lnTo>
                      <a:lnTo>
                        <a:pt x="16635" y="19722"/>
                      </a:lnTo>
                      <a:lnTo>
                        <a:pt x="16842" y="19648"/>
                      </a:lnTo>
                      <a:lnTo>
                        <a:pt x="17044" y="19561"/>
                      </a:lnTo>
                      <a:lnTo>
                        <a:pt x="17247" y="19470"/>
                      </a:lnTo>
                      <a:lnTo>
                        <a:pt x="17441" y="19366"/>
                      </a:lnTo>
                      <a:lnTo>
                        <a:pt x="17631" y="19253"/>
                      </a:lnTo>
                      <a:lnTo>
                        <a:pt x="17817" y="19131"/>
                      </a:lnTo>
                      <a:lnTo>
                        <a:pt x="17998" y="19001"/>
                      </a:lnTo>
                      <a:lnTo>
                        <a:pt x="18175" y="18867"/>
                      </a:lnTo>
                      <a:lnTo>
                        <a:pt x="18343" y="18723"/>
                      </a:lnTo>
                      <a:lnTo>
                        <a:pt x="18503" y="18572"/>
                      </a:lnTo>
                      <a:lnTo>
                        <a:pt x="18654" y="18411"/>
                      </a:lnTo>
                      <a:lnTo>
                        <a:pt x="18809" y="18246"/>
                      </a:lnTo>
                      <a:lnTo>
                        <a:pt x="18943" y="18072"/>
                      </a:lnTo>
                      <a:lnTo>
                        <a:pt x="19076" y="17899"/>
                      </a:lnTo>
                      <a:lnTo>
                        <a:pt x="19201" y="17717"/>
                      </a:lnTo>
                      <a:lnTo>
                        <a:pt x="19318" y="17526"/>
                      </a:lnTo>
                      <a:lnTo>
                        <a:pt x="19426" y="17335"/>
                      </a:lnTo>
                      <a:lnTo>
                        <a:pt x="19525" y="17135"/>
                      </a:lnTo>
                      <a:lnTo>
                        <a:pt x="19611" y="16931"/>
                      </a:lnTo>
                      <a:lnTo>
                        <a:pt x="19693" y="16731"/>
                      </a:lnTo>
                      <a:lnTo>
                        <a:pt x="19767" y="16519"/>
                      </a:lnTo>
                      <a:lnTo>
                        <a:pt x="19831" y="16306"/>
                      </a:lnTo>
                      <a:lnTo>
                        <a:pt x="19883" y="16093"/>
                      </a:lnTo>
                      <a:lnTo>
                        <a:pt x="19922" y="15876"/>
                      </a:lnTo>
                      <a:lnTo>
                        <a:pt x="19956" y="15655"/>
                      </a:lnTo>
                      <a:lnTo>
                        <a:pt x="19982" y="15434"/>
                      </a:lnTo>
                      <a:lnTo>
                        <a:pt x="19995" y="15212"/>
                      </a:lnTo>
                      <a:lnTo>
                        <a:pt x="20000" y="14991"/>
                      </a:lnTo>
                      <a:lnTo>
                        <a:pt x="20000" y="14991"/>
                      </a:lnTo>
                      <a:close/>
                      <a:moveTo>
                        <a:pt x="20000" y="14991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8218800" y="5876640"/>
                  <a:ext cx="352440" cy="3484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4"/>
                      </a:moveTo>
                      <a:lnTo>
                        <a:pt x="19994" y="14734"/>
                      </a:lnTo>
                      <a:lnTo>
                        <a:pt x="19971" y="14480"/>
                      </a:lnTo>
                      <a:lnTo>
                        <a:pt x="19942" y="14232"/>
                      </a:lnTo>
                      <a:lnTo>
                        <a:pt x="19896" y="13978"/>
                      </a:lnTo>
                      <a:lnTo>
                        <a:pt x="19839" y="13729"/>
                      </a:lnTo>
                      <a:lnTo>
                        <a:pt x="19764" y="13487"/>
                      </a:lnTo>
                      <a:lnTo>
                        <a:pt x="19684" y="13244"/>
                      </a:lnTo>
                      <a:lnTo>
                        <a:pt x="19586" y="13002"/>
                      </a:lnTo>
                      <a:lnTo>
                        <a:pt x="19483" y="12777"/>
                      </a:lnTo>
                      <a:lnTo>
                        <a:pt x="19357" y="12546"/>
                      </a:lnTo>
                      <a:lnTo>
                        <a:pt x="19225" y="12332"/>
                      </a:lnTo>
                      <a:lnTo>
                        <a:pt x="19087" y="12118"/>
                      </a:lnTo>
                      <a:lnTo>
                        <a:pt x="18938" y="11916"/>
                      </a:lnTo>
                      <a:lnTo>
                        <a:pt x="18771" y="11720"/>
                      </a:lnTo>
                      <a:lnTo>
                        <a:pt x="18599" y="11530"/>
                      </a:lnTo>
                      <a:lnTo>
                        <a:pt x="18415" y="11345"/>
                      </a:lnTo>
                      <a:lnTo>
                        <a:pt x="18226" y="11177"/>
                      </a:lnTo>
                      <a:lnTo>
                        <a:pt x="18025" y="11021"/>
                      </a:lnTo>
                      <a:lnTo>
                        <a:pt x="17818" y="10871"/>
                      </a:lnTo>
                      <a:lnTo>
                        <a:pt x="17606" y="10733"/>
                      </a:lnTo>
                      <a:lnTo>
                        <a:pt x="17382" y="10600"/>
                      </a:lnTo>
                      <a:lnTo>
                        <a:pt x="17158" y="10490"/>
                      </a:lnTo>
                      <a:lnTo>
                        <a:pt x="16923" y="10386"/>
                      </a:lnTo>
                      <a:lnTo>
                        <a:pt x="16681" y="10294"/>
                      </a:lnTo>
                      <a:lnTo>
                        <a:pt x="16440" y="10207"/>
                      </a:lnTo>
                      <a:lnTo>
                        <a:pt x="16199" y="10144"/>
                      </a:lnTo>
                      <a:lnTo>
                        <a:pt x="15941" y="10092"/>
                      </a:lnTo>
                      <a:lnTo>
                        <a:pt x="15688" y="10046"/>
                      </a:lnTo>
                      <a:lnTo>
                        <a:pt x="15436" y="10023"/>
                      </a:lnTo>
                      <a:lnTo>
                        <a:pt x="15183" y="10000"/>
                      </a:lnTo>
                      <a:lnTo>
                        <a:pt x="14931" y="10000"/>
                      </a:lnTo>
                      <a:lnTo>
                        <a:pt x="14672" y="10005"/>
                      </a:lnTo>
                      <a:lnTo>
                        <a:pt x="14420" y="10034"/>
                      </a:lnTo>
                      <a:lnTo>
                        <a:pt x="14167" y="10069"/>
                      </a:lnTo>
                      <a:lnTo>
                        <a:pt x="13915" y="10121"/>
                      </a:lnTo>
                      <a:lnTo>
                        <a:pt x="13668" y="10178"/>
                      </a:lnTo>
                      <a:lnTo>
                        <a:pt x="13427" y="10254"/>
                      </a:lnTo>
                      <a:lnTo>
                        <a:pt x="13185" y="10340"/>
                      </a:lnTo>
                      <a:lnTo>
                        <a:pt x="12944" y="10438"/>
                      </a:lnTo>
                      <a:lnTo>
                        <a:pt x="12721" y="10548"/>
                      </a:lnTo>
                      <a:lnTo>
                        <a:pt x="12491" y="10675"/>
                      </a:lnTo>
                      <a:lnTo>
                        <a:pt x="12278" y="10802"/>
                      </a:lnTo>
                      <a:lnTo>
                        <a:pt x="12060" y="10946"/>
                      </a:lnTo>
                      <a:lnTo>
                        <a:pt x="11859" y="11102"/>
                      </a:lnTo>
                      <a:lnTo>
                        <a:pt x="11664" y="11275"/>
                      </a:lnTo>
                      <a:lnTo>
                        <a:pt x="11481" y="11443"/>
                      </a:lnTo>
                      <a:lnTo>
                        <a:pt x="11303" y="11633"/>
                      </a:lnTo>
                      <a:lnTo>
                        <a:pt x="11136" y="11824"/>
                      </a:lnTo>
                      <a:lnTo>
                        <a:pt x="10981" y="12026"/>
                      </a:lnTo>
                      <a:lnTo>
                        <a:pt x="10832" y="12234"/>
                      </a:lnTo>
                      <a:lnTo>
                        <a:pt x="10694" y="12448"/>
                      </a:lnTo>
                      <a:lnTo>
                        <a:pt x="10568" y="12673"/>
                      </a:lnTo>
                      <a:lnTo>
                        <a:pt x="10459" y="12898"/>
                      </a:lnTo>
                      <a:lnTo>
                        <a:pt x="10355" y="13135"/>
                      </a:lnTo>
                      <a:lnTo>
                        <a:pt x="10264" y="13377"/>
                      </a:lnTo>
                      <a:lnTo>
                        <a:pt x="10195" y="13620"/>
                      </a:lnTo>
                      <a:lnTo>
                        <a:pt x="10132" y="13868"/>
                      </a:lnTo>
                      <a:lnTo>
                        <a:pt x="10080" y="14116"/>
                      </a:lnTo>
                      <a:lnTo>
                        <a:pt x="10040" y="14370"/>
                      </a:lnTo>
                      <a:lnTo>
                        <a:pt x="10011" y="14624"/>
                      </a:lnTo>
                      <a:lnTo>
                        <a:pt x="10000" y="14878"/>
                      </a:lnTo>
                      <a:lnTo>
                        <a:pt x="10000" y="15132"/>
                      </a:lnTo>
                      <a:lnTo>
                        <a:pt x="10011" y="15386"/>
                      </a:lnTo>
                      <a:lnTo>
                        <a:pt x="10040" y="15640"/>
                      </a:lnTo>
                      <a:lnTo>
                        <a:pt x="10080" y="15894"/>
                      </a:lnTo>
                      <a:lnTo>
                        <a:pt x="10132" y="16143"/>
                      </a:lnTo>
                      <a:lnTo>
                        <a:pt x="10195" y="16391"/>
                      </a:lnTo>
                      <a:lnTo>
                        <a:pt x="10269" y="16633"/>
                      </a:lnTo>
                      <a:lnTo>
                        <a:pt x="10361" y="16876"/>
                      </a:lnTo>
                      <a:lnTo>
                        <a:pt x="10464" y="17113"/>
                      </a:lnTo>
                      <a:lnTo>
                        <a:pt x="10579" y="17338"/>
                      </a:lnTo>
                      <a:lnTo>
                        <a:pt x="10700" y="17563"/>
                      </a:lnTo>
                      <a:lnTo>
                        <a:pt x="10838" y="17777"/>
                      </a:lnTo>
                      <a:lnTo>
                        <a:pt x="10987" y="17984"/>
                      </a:lnTo>
                      <a:lnTo>
                        <a:pt x="11142" y="18187"/>
                      </a:lnTo>
                      <a:lnTo>
                        <a:pt x="11308" y="18377"/>
                      </a:lnTo>
                      <a:lnTo>
                        <a:pt x="11492" y="18562"/>
                      </a:lnTo>
                      <a:lnTo>
                        <a:pt x="11676" y="18735"/>
                      </a:lnTo>
                      <a:lnTo>
                        <a:pt x="11871" y="18903"/>
                      </a:lnTo>
                      <a:lnTo>
                        <a:pt x="12078" y="19058"/>
                      </a:lnTo>
                      <a:lnTo>
                        <a:pt x="12284" y="19203"/>
                      </a:lnTo>
                      <a:lnTo>
                        <a:pt x="12502" y="19330"/>
                      </a:lnTo>
                      <a:lnTo>
                        <a:pt x="12732" y="19457"/>
                      </a:lnTo>
                      <a:lnTo>
                        <a:pt x="12956" y="19566"/>
                      </a:lnTo>
                      <a:lnTo>
                        <a:pt x="13191" y="19665"/>
                      </a:lnTo>
                      <a:lnTo>
                        <a:pt x="13432" y="19751"/>
                      </a:lnTo>
                      <a:lnTo>
                        <a:pt x="13679" y="19821"/>
                      </a:lnTo>
                      <a:lnTo>
                        <a:pt x="13926" y="19884"/>
                      </a:lnTo>
                      <a:lnTo>
                        <a:pt x="14179" y="19930"/>
                      </a:lnTo>
                      <a:lnTo>
                        <a:pt x="14431" y="19965"/>
                      </a:lnTo>
                      <a:lnTo>
                        <a:pt x="14684" y="19988"/>
                      </a:lnTo>
                      <a:lnTo>
                        <a:pt x="14942" y="20000"/>
                      </a:lnTo>
                      <a:lnTo>
                        <a:pt x="15195" y="20000"/>
                      </a:lnTo>
                      <a:lnTo>
                        <a:pt x="15453" y="19976"/>
                      </a:lnTo>
                      <a:lnTo>
                        <a:pt x="15706" y="19953"/>
                      </a:lnTo>
                      <a:lnTo>
                        <a:pt x="15958" y="19907"/>
                      </a:lnTo>
                      <a:lnTo>
                        <a:pt x="16211" y="19855"/>
                      </a:lnTo>
                      <a:lnTo>
                        <a:pt x="16458" y="19780"/>
                      </a:lnTo>
                      <a:lnTo>
                        <a:pt x="16699" y="19705"/>
                      </a:lnTo>
                      <a:lnTo>
                        <a:pt x="16934" y="19613"/>
                      </a:lnTo>
                      <a:lnTo>
                        <a:pt x="17169" y="19509"/>
                      </a:lnTo>
                      <a:lnTo>
                        <a:pt x="17399" y="19387"/>
                      </a:lnTo>
                      <a:lnTo>
                        <a:pt x="17617" y="19260"/>
                      </a:lnTo>
                      <a:lnTo>
                        <a:pt x="17830" y="19122"/>
                      </a:lnTo>
                      <a:lnTo>
                        <a:pt x="18042" y="18972"/>
                      </a:lnTo>
                      <a:lnTo>
                        <a:pt x="18231" y="18810"/>
                      </a:lnTo>
                      <a:lnTo>
                        <a:pt x="18427" y="18637"/>
                      </a:lnTo>
                      <a:lnTo>
                        <a:pt x="18610" y="18464"/>
                      </a:lnTo>
                      <a:lnTo>
                        <a:pt x="18777" y="18273"/>
                      </a:lnTo>
                      <a:lnTo>
                        <a:pt x="18943" y="18077"/>
                      </a:lnTo>
                      <a:lnTo>
                        <a:pt x="19098" y="17869"/>
                      </a:lnTo>
                      <a:lnTo>
                        <a:pt x="19236" y="17661"/>
                      </a:lnTo>
                      <a:lnTo>
                        <a:pt x="19362" y="17436"/>
                      </a:lnTo>
                      <a:lnTo>
                        <a:pt x="19489" y="17217"/>
                      </a:lnTo>
                      <a:lnTo>
                        <a:pt x="19592" y="16980"/>
                      </a:lnTo>
                      <a:lnTo>
                        <a:pt x="19690" y="16743"/>
                      </a:lnTo>
                      <a:lnTo>
                        <a:pt x="19770" y="16506"/>
                      </a:lnTo>
                      <a:lnTo>
                        <a:pt x="19845" y="16258"/>
                      </a:lnTo>
                      <a:lnTo>
                        <a:pt x="19896" y="16010"/>
                      </a:lnTo>
                      <a:lnTo>
                        <a:pt x="19942" y="15762"/>
                      </a:lnTo>
                      <a:lnTo>
                        <a:pt x="19971" y="15508"/>
                      </a:lnTo>
                      <a:lnTo>
                        <a:pt x="19994" y="15248"/>
                      </a:lnTo>
                      <a:lnTo>
                        <a:pt x="20000" y="14994"/>
                      </a:lnTo>
                      <a:lnTo>
                        <a:pt x="20000" y="14994"/>
                      </a:lnTo>
                      <a:close/>
                      <a:moveTo>
                        <a:pt x="20000" y="14994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8394840" y="5762520"/>
                  <a:ext cx="3240" cy="23940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00" y="10075"/>
                      </a:moveTo>
                      <a:lnTo>
                        <a:pt x="10000" y="10075"/>
                      </a:lnTo>
                      <a:lnTo>
                        <a:pt x="10000" y="10067"/>
                      </a:lnTo>
                      <a:lnTo>
                        <a:pt x="10555" y="10059"/>
                      </a:lnTo>
                      <a:lnTo>
                        <a:pt x="10555" y="10042"/>
                      </a:lnTo>
                      <a:lnTo>
                        <a:pt x="11666" y="10033"/>
                      </a:lnTo>
                      <a:lnTo>
                        <a:pt x="12222" y="10016"/>
                      </a:lnTo>
                      <a:lnTo>
                        <a:pt x="12777" y="10008"/>
                      </a:lnTo>
                      <a:lnTo>
                        <a:pt x="13888" y="10008"/>
                      </a:lnTo>
                      <a:lnTo>
                        <a:pt x="14444" y="10000"/>
                      </a:lnTo>
                      <a:lnTo>
                        <a:pt x="15000" y="10000"/>
                      </a:lnTo>
                      <a:lnTo>
                        <a:pt x="15555" y="10000"/>
                      </a:lnTo>
                      <a:lnTo>
                        <a:pt x="16666" y="10008"/>
                      </a:lnTo>
                      <a:lnTo>
                        <a:pt x="17777" y="10008"/>
                      </a:lnTo>
                      <a:lnTo>
                        <a:pt x="18333" y="10016"/>
                      </a:lnTo>
                      <a:lnTo>
                        <a:pt x="18888" y="10033"/>
                      </a:lnTo>
                      <a:lnTo>
                        <a:pt x="19444" y="10042"/>
                      </a:lnTo>
                      <a:lnTo>
                        <a:pt x="19444" y="10059"/>
                      </a:lnTo>
                      <a:lnTo>
                        <a:pt x="20000" y="10067"/>
                      </a:lnTo>
                      <a:lnTo>
                        <a:pt x="20000" y="10075"/>
                      </a:lnTo>
                      <a:lnTo>
                        <a:pt x="20000" y="10075"/>
                      </a:lnTo>
                      <a:lnTo>
                        <a:pt x="20000" y="19924"/>
                      </a:lnTo>
                      <a:lnTo>
                        <a:pt x="20000" y="19924"/>
                      </a:lnTo>
                      <a:lnTo>
                        <a:pt x="20000" y="19940"/>
                      </a:lnTo>
                      <a:lnTo>
                        <a:pt x="19444" y="19949"/>
                      </a:lnTo>
                      <a:lnTo>
                        <a:pt x="19444" y="19966"/>
                      </a:lnTo>
                      <a:lnTo>
                        <a:pt x="18888" y="19974"/>
                      </a:lnTo>
                      <a:lnTo>
                        <a:pt x="18333" y="19983"/>
                      </a:lnTo>
                      <a:lnTo>
                        <a:pt x="17777" y="19991"/>
                      </a:lnTo>
                      <a:lnTo>
                        <a:pt x="16666" y="19991"/>
                      </a:lnTo>
                      <a:lnTo>
                        <a:pt x="15555" y="20000"/>
                      </a:lnTo>
                      <a:lnTo>
                        <a:pt x="15000" y="20000"/>
                      </a:lnTo>
                      <a:lnTo>
                        <a:pt x="14444" y="20000"/>
                      </a:lnTo>
                      <a:lnTo>
                        <a:pt x="13888" y="19991"/>
                      </a:lnTo>
                      <a:lnTo>
                        <a:pt x="12777" y="19991"/>
                      </a:lnTo>
                      <a:lnTo>
                        <a:pt x="12222" y="19983"/>
                      </a:lnTo>
                      <a:lnTo>
                        <a:pt x="11666" y="19974"/>
                      </a:lnTo>
                      <a:lnTo>
                        <a:pt x="10555" y="19966"/>
                      </a:lnTo>
                      <a:lnTo>
                        <a:pt x="10555" y="19949"/>
                      </a:lnTo>
                      <a:lnTo>
                        <a:pt x="10000" y="19940"/>
                      </a:lnTo>
                      <a:lnTo>
                        <a:pt x="10000" y="19924"/>
                      </a:lnTo>
                      <a:lnTo>
                        <a:pt x="10000" y="19924"/>
                      </a:lnTo>
                      <a:lnTo>
                        <a:pt x="10000" y="10075"/>
                      </a:lnTo>
                      <a:close/>
                      <a:moveTo>
                        <a:pt x="10000" y="10075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" name=""/>
              <p:cNvSpPr/>
              <p:nvPr/>
            </p:nvSpPr>
            <p:spPr>
              <a:xfrm>
                <a:off x="8507520" y="616752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31" y="19635"/>
                    </a:moveTo>
                    <a:lnTo>
                      <a:pt x="19931" y="19635"/>
                    </a:lnTo>
                    <a:lnTo>
                      <a:pt x="19931" y="19681"/>
                    </a:lnTo>
                    <a:lnTo>
                      <a:pt x="19954" y="19703"/>
                    </a:lnTo>
                    <a:lnTo>
                      <a:pt x="20000" y="19726"/>
                    </a:lnTo>
                    <a:lnTo>
                      <a:pt x="20000" y="19794"/>
                    </a:lnTo>
                    <a:lnTo>
                      <a:pt x="20000" y="19794"/>
                    </a:lnTo>
                    <a:lnTo>
                      <a:pt x="20000" y="19840"/>
                    </a:lnTo>
                    <a:lnTo>
                      <a:pt x="19954" y="19863"/>
                    </a:lnTo>
                    <a:lnTo>
                      <a:pt x="19931" y="19886"/>
                    </a:lnTo>
                    <a:lnTo>
                      <a:pt x="19931" y="19931"/>
                    </a:lnTo>
                    <a:lnTo>
                      <a:pt x="19886" y="19931"/>
                    </a:lnTo>
                    <a:lnTo>
                      <a:pt x="19863" y="19977"/>
                    </a:lnTo>
                    <a:lnTo>
                      <a:pt x="19840" y="20000"/>
                    </a:lnTo>
                    <a:lnTo>
                      <a:pt x="19795" y="20000"/>
                    </a:lnTo>
                    <a:lnTo>
                      <a:pt x="19795" y="20000"/>
                    </a:lnTo>
                    <a:lnTo>
                      <a:pt x="19727" y="20000"/>
                    </a:lnTo>
                    <a:lnTo>
                      <a:pt x="19704" y="19977"/>
                    </a:lnTo>
                    <a:lnTo>
                      <a:pt x="19681" y="19931"/>
                    </a:lnTo>
                    <a:lnTo>
                      <a:pt x="19636" y="19931"/>
                    </a:lnTo>
                    <a:lnTo>
                      <a:pt x="19636" y="19931"/>
                    </a:lnTo>
                    <a:lnTo>
                      <a:pt x="10045" y="10364"/>
                    </a:lnTo>
                    <a:lnTo>
                      <a:pt x="10045" y="10364"/>
                    </a:lnTo>
                    <a:lnTo>
                      <a:pt x="10045" y="10318"/>
                    </a:lnTo>
                    <a:lnTo>
                      <a:pt x="10022" y="10273"/>
                    </a:lnTo>
                    <a:lnTo>
                      <a:pt x="10000" y="10250"/>
                    </a:lnTo>
                    <a:lnTo>
                      <a:pt x="10000" y="10205"/>
                    </a:lnTo>
                    <a:lnTo>
                      <a:pt x="10000" y="10205"/>
                    </a:lnTo>
                    <a:lnTo>
                      <a:pt x="10000" y="10159"/>
                    </a:lnTo>
                    <a:lnTo>
                      <a:pt x="10022" y="10136"/>
                    </a:lnTo>
                    <a:lnTo>
                      <a:pt x="10045" y="10091"/>
                    </a:lnTo>
                    <a:lnTo>
                      <a:pt x="10045" y="10045"/>
                    </a:lnTo>
                    <a:lnTo>
                      <a:pt x="10090" y="10045"/>
                    </a:lnTo>
                    <a:lnTo>
                      <a:pt x="10113" y="10022"/>
                    </a:lnTo>
                    <a:lnTo>
                      <a:pt x="10159" y="10000"/>
                    </a:lnTo>
                    <a:lnTo>
                      <a:pt x="10204" y="10000"/>
                    </a:lnTo>
                    <a:lnTo>
                      <a:pt x="10204" y="10000"/>
                    </a:lnTo>
                    <a:lnTo>
                      <a:pt x="10250" y="10000"/>
                    </a:lnTo>
                    <a:lnTo>
                      <a:pt x="10272" y="10022"/>
                    </a:lnTo>
                    <a:lnTo>
                      <a:pt x="10295" y="10045"/>
                    </a:lnTo>
                    <a:lnTo>
                      <a:pt x="10363" y="10045"/>
                    </a:lnTo>
                    <a:lnTo>
                      <a:pt x="10363" y="10045"/>
                    </a:lnTo>
                    <a:lnTo>
                      <a:pt x="19931" y="19635"/>
                    </a:lnTo>
                    <a:close/>
                    <a:moveTo>
                      <a:pt x="19931" y="1963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18676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49" y="10197"/>
                    </a:moveTo>
                    <a:lnTo>
                      <a:pt x="10049" y="10197"/>
                    </a:lnTo>
                    <a:lnTo>
                      <a:pt x="10036" y="10160"/>
                    </a:lnTo>
                    <a:lnTo>
                      <a:pt x="10012" y="10147"/>
                    </a:lnTo>
                    <a:lnTo>
                      <a:pt x="10000" y="10135"/>
                    </a:lnTo>
                    <a:lnTo>
                      <a:pt x="10000" y="10110"/>
                    </a:lnTo>
                    <a:lnTo>
                      <a:pt x="10000" y="10110"/>
                    </a:lnTo>
                    <a:lnTo>
                      <a:pt x="10000" y="10086"/>
                    </a:lnTo>
                    <a:lnTo>
                      <a:pt x="10012" y="10061"/>
                    </a:lnTo>
                    <a:lnTo>
                      <a:pt x="10036" y="10049"/>
                    </a:lnTo>
                    <a:lnTo>
                      <a:pt x="10036" y="10036"/>
                    </a:lnTo>
                    <a:lnTo>
                      <a:pt x="10061" y="10024"/>
                    </a:lnTo>
                    <a:lnTo>
                      <a:pt x="10073" y="10012"/>
                    </a:lnTo>
                    <a:lnTo>
                      <a:pt x="10085" y="10000"/>
                    </a:lnTo>
                    <a:lnTo>
                      <a:pt x="10110" y="10000"/>
                    </a:lnTo>
                    <a:lnTo>
                      <a:pt x="10110" y="10000"/>
                    </a:lnTo>
                    <a:lnTo>
                      <a:pt x="10147" y="10000"/>
                    </a:lnTo>
                    <a:lnTo>
                      <a:pt x="10159" y="10012"/>
                    </a:lnTo>
                    <a:lnTo>
                      <a:pt x="10171" y="10024"/>
                    </a:lnTo>
                    <a:lnTo>
                      <a:pt x="10184" y="10024"/>
                    </a:lnTo>
                    <a:lnTo>
                      <a:pt x="10184" y="10024"/>
                    </a:lnTo>
                    <a:lnTo>
                      <a:pt x="19963" y="19802"/>
                    </a:lnTo>
                    <a:lnTo>
                      <a:pt x="19963" y="19802"/>
                    </a:lnTo>
                    <a:lnTo>
                      <a:pt x="19975" y="19827"/>
                    </a:lnTo>
                    <a:lnTo>
                      <a:pt x="19987" y="19839"/>
                    </a:lnTo>
                    <a:lnTo>
                      <a:pt x="20000" y="19852"/>
                    </a:lnTo>
                    <a:lnTo>
                      <a:pt x="20000" y="19889"/>
                    </a:lnTo>
                    <a:lnTo>
                      <a:pt x="20000" y="19889"/>
                    </a:lnTo>
                    <a:lnTo>
                      <a:pt x="20000" y="19913"/>
                    </a:lnTo>
                    <a:lnTo>
                      <a:pt x="19987" y="19926"/>
                    </a:lnTo>
                    <a:lnTo>
                      <a:pt x="19975" y="19938"/>
                    </a:lnTo>
                    <a:lnTo>
                      <a:pt x="19975" y="19950"/>
                    </a:lnTo>
                    <a:lnTo>
                      <a:pt x="19950" y="19963"/>
                    </a:lnTo>
                    <a:lnTo>
                      <a:pt x="19938" y="19987"/>
                    </a:lnTo>
                    <a:lnTo>
                      <a:pt x="19926" y="20000"/>
                    </a:lnTo>
                    <a:lnTo>
                      <a:pt x="19889" y="20000"/>
                    </a:lnTo>
                    <a:lnTo>
                      <a:pt x="19889" y="20000"/>
                    </a:lnTo>
                    <a:lnTo>
                      <a:pt x="19865" y="20000"/>
                    </a:lnTo>
                    <a:lnTo>
                      <a:pt x="19852" y="19987"/>
                    </a:lnTo>
                    <a:lnTo>
                      <a:pt x="19840" y="19963"/>
                    </a:lnTo>
                    <a:lnTo>
                      <a:pt x="19828" y="19963"/>
                    </a:lnTo>
                    <a:lnTo>
                      <a:pt x="19828" y="19963"/>
                    </a:lnTo>
                    <a:lnTo>
                      <a:pt x="10049" y="10197"/>
                    </a:lnTo>
                    <a:close/>
                    <a:moveTo>
                      <a:pt x="10049" y="1019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186760" y="6087960"/>
                <a:ext cx="166680" cy="1681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0" y="19975"/>
                    </a:moveTo>
                    <a:lnTo>
                      <a:pt x="10180" y="19975"/>
                    </a:lnTo>
                    <a:lnTo>
                      <a:pt x="10168" y="19975"/>
                    </a:lnTo>
                    <a:lnTo>
                      <a:pt x="10156" y="19987"/>
                    </a:lnTo>
                    <a:lnTo>
                      <a:pt x="10144" y="20000"/>
                    </a:lnTo>
                    <a:lnTo>
                      <a:pt x="10108" y="20000"/>
                    </a:lnTo>
                    <a:lnTo>
                      <a:pt x="10108" y="20000"/>
                    </a:lnTo>
                    <a:lnTo>
                      <a:pt x="10084" y="20000"/>
                    </a:lnTo>
                    <a:lnTo>
                      <a:pt x="10072" y="19987"/>
                    </a:lnTo>
                    <a:lnTo>
                      <a:pt x="10060" y="19975"/>
                    </a:lnTo>
                    <a:lnTo>
                      <a:pt x="10036" y="19963"/>
                    </a:lnTo>
                    <a:lnTo>
                      <a:pt x="10036" y="19951"/>
                    </a:lnTo>
                    <a:lnTo>
                      <a:pt x="10012" y="19939"/>
                    </a:lnTo>
                    <a:lnTo>
                      <a:pt x="10000" y="19915"/>
                    </a:lnTo>
                    <a:lnTo>
                      <a:pt x="10000" y="19890"/>
                    </a:lnTo>
                    <a:lnTo>
                      <a:pt x="10000" y="19890"/>
                    </a:lnTo>
                    <a:lnTo>
                      <a:pt x="10000" y="19866"/>
                    </a:lnTo>
                    <a:lnTo>
                      <a:pt x="10012" y="19854"/>
                    </a:lnTo>
                    <a:lnTo>
                      <a:pt x="10036" y="19842"/>
                    </a:lnTo>
                    <a:lnTo>
                      <a:pt x="10048" y="19805"/>
                    </a:lnTo>
                    <a:lnTo>
                      <a:pt x="10048" y="19805"/>
                    </a:lnTo>
                    <a:lnTo>
                      <a:pt x="19819" y="10024"/>
                    </a:lnTo>
                    <a:lnTo>
                      <a:pt x="19819" y="10024"/>
                    </a:lnTo>
                    <a:lnTo>
                      <a:pt x="19831" y="10024"/>
                    </a:lnTo>
                    <a:lnTo>
                      <a:pt x="19843" y="10012"/>
                    </a:lnTo>
                    <a:lnTo>
                      <a:pt x="19867" y="10000"/>
                    </a:lnTo>
                    <a:lnTo>
                      <a:pt x="19891" y="10000"/>
                    </a:lnTo>
                    <a:lnTo>
                      <a:pt x="19891" y="10000"/>
                    </a:lnTo>
                    <a:lnTo>
                      <a:pt x="19915" y="10000"/>
                    </a:lnTo>
                    <a:lnTo>
                      <a:pt x="19927" y="10012"/>
                    </a:lnTo>
                    <a:lnTo>
                      <a:pt x="19939" y="10024"/>
                    </a:lnTo>
                    <a:lnTo>
                      <a:pt x="19975" y="10036"/>
                    </a:lnTo>
                    <a:lnTo>
                      <a:pt x="19975" y="10048"/>
                    </a:lnTo>
                    <a:lnTo>
                      <a:pt x="19987" y="10060"/>
                    </a:lnTo>
                    <a:lnTo>
                      <a:pt x="20000" y="10084"/>
                    </a:lnTo>
                    <a:lnTo>
                      <a:pt x="20000" y="10109"/>
                    </a:lnTo>
                    <a:lnTo>
                      <a:pt x="20000" y="10109"/>
                    </a:lnTo>
                    <a:lnTo>
                      <a:pt x="20000" y="10133"/>
                    </a:lnTo>
                    <a:lnTo>
                      <a:pt x="19987" y="10145"/>
                    </a:lnTo>
                    <a:lnTo>
                      <a:pt x="19975" y="10157"/>
                    </a:lnTo>
                    <a:lnTo>
                      <a:pt x="19963" y="10194"/>
                    </a:lnTo>
                    <a:lnTo>
                      <a:pt x="19963" y="10194"/>
                    </a:lnTo>
                    <a:lnTo>
                      <a:pt x="10180" y="19975"/>
                    </a:lnTo>
                    <a:close/>
                    <a:moveTo>
                      <a:pt x="10180" y="199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4092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815" y="10024"/>
                    </a:moveTo>
                    <a:lnTo>
                      <a:pt x="19815" y="10024"/>
                    </a:lnTo>
                    <a:lnTo>
                      <a:pt x="19828" y="10024"/>
                    </a:lnTo>
                    <a:lnTo>
                      <a:pt x="19840" y="10012"/>
                    </a:lnTo>
                    <a:lnTo>
                      <a:pt x="19852" y="10000"/>
                    </a:lnTo>
                    <a:lnTo>
                      <a:pt x="19889" y="10000"/>
                    </a:lnTo>
                    <a:lnTo>
                      <a:pt x="19889" y="10000"/>
                    </a:lnTo>
                    <a:lnTo>
                      <a:pt x="19914" y="10000"/>
                    </a:lnTo>
                    <a:lnTo>
                      <a:pt x="19926" y="10012"/>
                    </a:lnTo>
                    <a:lnTo>
                      <a:pt x="19938" y="10024"/>
                    </a:lnTo>
                    <a:lnTo>
                      <a:pt x="19975" y="10036"/>
                    </a:lnTo>
                    <a:lnTo>
                      <a:pt x="19975" y="10049"/>
                    </a:lnTo>
                    <a:lnTo>
                      <a:pt x="19987" y="10061"/>
                    </a:lnTo>
                    <a:lnTo>
                      <a:pt x="20000" y="10086"/>
                    </a:lnTo>
                    <a:lnTo>
                      <a:pt x="20000" y="10110"/>
                    </a:lnTo>
                    <a:lnTo>
                      <a:pt x="20000" y="10110"/>
                    </a:lnTo>
                    <a:lnTo>
                      <a:pt x="20000" y="10135"/>
                    </a:lnTo>
                    <a:lnTo>
                      <a:pt x="19987" y="10147"/>
                    </a:lnTo>
                    <a:lnTo>
                      <a:pt x="19975" y="10160"/>
                    </a:lnTo>
                    <a:lnTo>
                      <a:pt x="19950" y="10197"/>
                    </a:lnTo>
                    <a:lnTo>
                      <a:pt x="19950" y="10197"/>
                    </a:lnTo>
                    <a:lnTo>
                      <a:pt x="10184" y="19963"/>
                    </a:lnTo>
                    <a:lnTo>
                      <a:pt x="10184" y="19963"/>
                    </a:lnTo>
                    <a:lnTo>
                      <a:pt x="10159" y="19963"/>
                    </a:lnTo>
                    <a:lnTo>
                      <a:pt x="10147" y="19987"/>
                    </a:lnTo>
                    <a:lnTo>
                      <a:pt x="10135" y="20000"/>
                    </a:lnTo>
                    <a:lnTo>
                      <a:pt x="10110" y="20000"/>
                    </a:lnTo>
                    <a:lnTo>
                      <a:pt x="10110" y="20000"/>
                    </a:lnTo>
                    <a:lnTo>
                      <a:pt x="10085" y="20000"/>
                    </a:lnTo>
                    <a:lnTo>
                      <a:pt x="10073" y="19987"/>
                    </a:lnTo>
                    <a:lnTo>
                      <a:pt x="10049" y="19963"/>
                    </a:lnTo>
                    <a:lnTo>
                      <a:pt x="10024" y="19950"/>
                    </a:lnTo>
                    <a:lnTo>
                      <a:pt x="10024" y="19938"/>
                    </a:lnTo>
                    <a:lnTo>
                      <a:pt x="10012" y="19926"/>
                    </a:lnTo>
                    <a:lnTo>
                      <a:pt x="10000" y="19913"/>
                    </a:lnTo>
                    <a:lnTo>
                      <a:pt x="10000" y="19889"/>
                    </a:lnTo>
                    <a:lnTo>
                      <a:pt x="10000" y="19889"/>
                    </a:lnTo>
                    <a:lnTo>
                      <a:pt x="10000" y="19852"/>
                    </a:lnTo>
                    <a:lnTo>
                      <a:pt x="10012" y="19839"/>
                    </a:lnTo>
                    <a:lnTo>
                      <a:pt x="10024" y="19827"/>
                    </a:lnTo>
                    <a:lnTo>
                      <a:pt x="10036" y="19802"/>
                    </a:lnTo>
                    <a:lnTo>
                      <a:pt x="10036" y="19802"/>
                    </a:lnTo>
                    <a:lnTo>
                      <a:pt x="19815" y="10024"/>
                    </a:lnTo>
                    <a:close/>
                    <a:moveTo>
                      <a:pt x="19815" y="1002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7737480" y="6535800"/>
              <a:ext cx="13082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/CEF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34360" y="53928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8928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4640" y="1314360"/>
            <a:ext cx="79516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4920" y="4527360"/>
            <a:ext cx="633240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19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1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2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3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4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5" marL="19080" algn="ctr">
              <a:lnSpc>
                <a:spcPts val="2900"/>
              </a:lnSpc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6" marL="19080" algn="ctr">
              <a:lnSpc>
                <a:spcPts val="2900"/>
              </a:lnSpc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745080" y="760320"/>
            <a:ext cx="1598400" cy="1296720"/>
            <a:chOff x="3745080" y="760320"/>
            <a:chExt cx="1598400" cy="1296720"/>
          </a:xfrm>
        </p:grpSpPr>
        <p:sp>
          <p:nvSpPr>
            <p:cNvPr id="88" name=""/>
            <p:cNvSpPr/>
            <p:nvPr/>
          </p:nvSpPr>
          <p:spPr>
            <a:xfrm>
              <a:off x="3927600" y="760320"/>
              <a:ext cx="182520" cy="212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0000"/>
                  </a:moveTo>
                  <a:lnTo>
                    <a:pt x="18115" y="10864"/>
                  </a:lnTo>
                  <a:lnTo>
                    <a:pt x="16326" y="11794"/>
                  </a:lnTo>
                  <a:lnTo>
                    <a:pt x="14653" y="12838"/>
                  </a:lnTo>
                  <a:lnTo>
                    <a:pt x="13173" y="13964"/>
                  </a:lnTo>
                  <a:lnTo>
                    <a:pt x="11923" y="15236"/>
                  </a:lnTo>
                  <a:lnTo>
                    <a:pt x="10923" y="16639"/>
                  </a:lnTo>
                  <a:lnTo>
                    <a:pt x="10269" y="18205"/>
                  </a:lnTo>
                  <a:lnTo>
                    <a:pt x="10000" y="20000"/>
                  </a:lnTo>
                  <a:lnTo>
                    <a:pt x="11769" y="18988"/>
                  </a:lnTo>
                  <a:lnTo>
                    <a:pt x="13346" y="17830"/>
                  </a:lnTo>
                  <a:lnTo>
                    <a:pt x="14788" y="16541"/>
                  </a:lnTo>
                  <a:lnTo>
                    <a:pt x="16057" y="15171"/>
                  </a:lnTo>
                  <a:lnTo>
                    <a:pt x="17192" y="13800"/>
                  </a:lnTo>
                  <a:lnTo>
                    <a:pt x="18211" y="12430"/>
                  </a:lnTo>
                  <a:lnTo>
                    <a:pt x="19153" y="11141"/>
                  </a:lnTo>
                  <a:lnTo>
                    <a:pt x="20000" y="10000"/>
                  </a:lnTo>
                  <a:close/>
                  <a:moveTo>
                    <a:pt x="2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45080" y="1326960"/>
              <a:ext cx="196560" cy="317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121" y="10000"/>
                  </a:moveTo>
                  <a:lnTo>
                    <a:pt x="19408" y="10581"/>
                  </a:lnTo>
                  <a:lnTo>
                    <a:pt x="19659" y="11293"/>
                  </a:lnTo>
                  <a:lnTo>
                    <a:pt x="19856" y="12171"/>
                  </a:lnTo>
                  <a:lnTo>
                    <a:pt x="19982" y="13234"/>
                  </a:lnTo>
                  <a:lnTo>
                    <a:pt x="20000" y="14506"/>
                  </a:lnTo>
                  <a:lnTo>
                    <a:pt x="19892" y="16052"/>
                  </a:lnTo>
                  <a:lnTo>
                    <a:pt x="19659" y="17861"/>
                  </a:lnTo>
                  <a:lnTo>
                    <a:pt x="19265" y="20000"/>
                  </a:lnTo>
                  <a:lnTo>
                    <a:pt x="16146" y="18432"/>
                  </a:lnTo>
                  <a:lnTo>
                    <a:pt x="13853" y="17072"/>
                  </a:lnTo>
                  <a:lnTo>
                    <a:pt x="12258" y="15888"/>
                  </a:lnTo>
                  <a:lnTo>
                    <a:pt x="11236" y="14824"/>
                  </a:lnTo>
                  <a:lnTo>
                    <a:pt x="10627" y="13815"/>
                  </a:lnTo>
                  <a:lnTo>
                    <a:pt x="10304" y="12850"/>
                  </a:lnTo>
                  <a:lnTo>
                    <a:pt x="10125" y="11864"/>
                  </a:lnTo>
                  <a:lnTo>
                    <a:pt x="10000" y="10844"/>
                  </a:lnTo>
                  <a:lnTo>
                    <a:pt x="11254" y="11809"/>
                  </a:lnTo>
                  <a:lnTo>
                    <a:pt x="12204" y="12598"/>
                  </a:lnTo>
                  <a:lnTo>
                    <a:pt x="12956" y="13267"/>
                  </a:lnTo>
                  <a:lnTo>
                    <a:pt x="13602" y="13903"/>
                  </a:lnTo>
                  <a:lnTo>
                    <a:pt x="14265" y="14561"/>
                  </a:lnTo>
                  <a:lnTo>
                    <a:pt x="15053" y="15296"/>
                  </a:lnTo>
                  <a:lnTo>
                    <a:pt x="16111" y="16184"/>
                  </a:lnTo>
                  <a:lnTo>
                    <a:pt x="17544" y="17302"/>
                  </a:lnTo>
                  <a:lnTo>
                    <a:pt x="17562" y="16315"/>
                  </a:lnTo>
                  <a:lnTo>
                    <a:pt x="17652" y="15350"/>
                  </a:lnTo>
                  <a:lnTo>
                    <a:pt x="17795" y="14407"/>
                  </a:lnTo>
                  <a:lnTo>
                    <a:pt x="17974" y="13486"/>
                  </a:lnTo>
                  <a:lnTo>
                    <a:pt x="18189" y="12576"/>
                  </a:lnTo>
                  <a:lnTo>
                    <a:pt x="18458" y="11688"/>
                  </a:lnTo>
                  <a:lnTo>
                    <a:pt x="18781" y="10833"/>
                  </a:lnTo>
                  <a:lnTo>
                    <a:pt x="19121" y="10000"/>
                  </a:lnTo>
                  <a:close/>
                  <a:moveTo>
                    <a:pt x="19121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8440" y="760320"/>
              <a:ext cx="182520" cy="212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1865" y="10864"/>
                  </a:lnTo>
                  <a:lnTo>
                    <a:pt x="13653" y="11794"/>
                  </a:lnTo>
                  <a:lnTo>
                    <a:pt x="15326" y="12838"/>
                  </a:lnTo>
                  <a:lnTo>
                    <a:pt x="16807" y="13964"/>
                  </a:lnTo>
                  <a:lnTo>
                    <a:pt x="18057" y="15236"/>
                  </a:lnTo>
                  <a:lnTo>
                    <a:pt x="19038" y="16639"/>
                  </a:lnTo>
                  <a:lnTo>
                    <a:pt x="19711" y="18205"/>
                  </a:lnTo>
                  <a:lnTo>
                    <a:pt x="20000" y="20000"/>
                  </a:lnTo>
                  <a:lnTo>
                    <a:pt x="18211" y="18988"/>
                  </a:lnTo>
                  <a:lnTo>
                    <a:pt x="16634" y="17830"/>
                  </a:lnTo>
                  <a:lnTo>
                    <a:pt x="15192" y="16541"/>
                  </a:lnTo>
                  <a:lnTo>
                    <a:pt x="13903" y="15171"/>
                  </a:lnTo>
                  <a:lnTo>
                    <a:pt x="12788" y="13800"/>
                  </a:lnTo>
                  <a:lnTo>
                    <a:pt x="11769" y="12430"/>
                  </a:lnTo>
                  <a:lnTo>
                    <a:pt x="10826" y="11141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46560" y="1326960"/>
              <a:ext cx="196920" cy="317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858" y="10000"/>
                  </a:moveTo>
                  <a:lnTo>
                    <a:pt x="10572" y="10581"/>
                  </a:lnTo>
                  <a:lnTo>
                    <a:pt x="10322" y="11293"/>
                  </a:lnTo>
                  <a:lnTo>
                    <a:pt x="10125" y="12171"/>
                  </a:lnTo>
                  <a:lnTo>
                    <a:pt x="10017" y="13234"/>
                  </a:lnTo>
                  <a:lnTo>
                    <a:pt x="10000" y="14506"/>
                  </a:lnTo>
                  <a:lnTo>
                    <a:pt x="10107" y="16052"/>
                  </a:lnTo>
                  <a:lnTo>
                    <a:pt x="10322" y="17861"/>
                  </a:lnTo>
                  <a:lnTo>
                    <a:pt x="10751" y="20000"/>
                  </a:lnTo>
                  <a:lnTo>
                    <a:pt x="13846" y="18432"/>
                  </a:lnTo>
                  <a:lnTo>
                    <a:pt x="16118" y="17072"/>
                  </a:lnTo>
                  <a:lnTo>
                    <a:pt x="17728" y="15888"/>
                  </a:lnTo>
                  <a:lnTo>
                    <a:pt x="18729" y="14824"/>
                  </a:lnTo>
                  <a:lnTo>
                    <a:pt x="19338" y="13815"/>
                  </a:lnTo>
                  <a:lnTo>
                    <a:pt x="19660" y="12850"/>
                  </a:lnTo>
                  <a:lnTo>
                    <a:pt x="19839" y="11864"/>
                  </a:lnTo>
                  <a:lnTo>
                    <a:pt x="20000" y="10844"/>
                  </a:lnTo>
                  <a:lnTo>
                    <a:pt x="18711" y="11809"/>
                  </a:lnTo>
                  <a:lnTo>
                    <a:pt x="17763" y="12598"/>
                  </a:lnTo>
                  <a:lnTo>
                    <a:pt x="17012" y="13267"/>
                  </a:lnTo>
                  <a:lnTo>
                    <a:pt x="16368" y="13903"/>
                  </a:lnTo>
                  <a:lnTo>
                    <a:pt x="15706" y="14561"/>
                  </a:lnTo>
                  <a:lnTo>
                    <a:pt x="14919" y="15296"/>
                  </a:lnTo>
                  <a:lnTo>
                    <a:pt x="13864" y="16184"/>
                  </a:lnTo>
                  <a:lnTo>
                    <a:pt x="12450" y="17302"/>
                  </a:lnTo>
                  <a:lnTo>
                    <a:pt x="12397" y="16315"/>
                  </a:lnTo>
                  <a:lnTo>
                    <a:pt x="12325" y="15350"/>
                  </a:lnTo>
                  <a:lnTo>
                    <a:pt x="12182" y="14407"/>
                  </a:lnTo>
                  <a:lnTo>
                    <a:pt x="12021" y="13486"/>
                  </a:lnTo>
                  <a:lnTo>
                    <a:pt x="11771" y="12576"/>
                  </a:lnTo>
                  <a:lnTo>
                    <a:pt x="11520" y="11688"/>
                  </a:lnTo>
                  <a:lnTo>
                    <a:pt x="11216" y="10833"/>
                  </a:lnTo>
                  <a:lnTo>
                    <a:pt x="10858" y="10000"/>
                  </a:lnTo>
                  <a:close/>
                  <a:moveTo>
                    <a:pt x="10858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8520" y="1638000"/>
              <a:ext cx="374760" cy="274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546" y="10000"/>
                  </a:moveTo>
                  <a:lnTo>
                    <a:pt x="14605" y="11384"/>
                  </a:lnTo>
                  <a:lnTo>
                    <a:pt x="13798" y="12693"/>
                  </a:lnTo>
                  <a:lnTo>
                    <a:pt x="13114" y="13940"/>
                  </a:lnTo>
                  <a:lnTo>
                    <a:pt x="12488" y="15124"/>
                  </a:lnTo>
                  <a:lnTo>
                    <a:pt x="11908" y="16259"/>
                  </a:lnTo>
                  <a:lnTo>
                    <a:pt x="11320" y="17394"/>
                  </a:lnTo>
                  <a:lnTo>
                    <a:pt x="10693" y="18503"/>
                  </a:lnTo>
                  <a:lnTo>
                    <a:pt x="10000" y="19625"/>
                  </a:lnTo>
                  <a:lnTo>
                    <a:pt x="10987" y="19663"/>
                  </a:lnTo>
                  <a:lnTo>
                    <a:pt x="12051" y="19850"/>
                  </a:lnTo>
                  <a:lnTo>
                    <a:pt x="13181" y="20000"/>
                  </a:lnTo>
                  <a:lnTo>
                    <a:pt x="14387" y="19987"/>
                  </a:lnTo>
                  <a:lnTo>
                    <a:pt x="15669" y="19638"/>
                  </a:lnTo>
                  <a:lnTo>
                    <a:pt x="17027" y="18815"/>
                  </a:lnTo>
                  <a:lnTo>
                    <a:pt x="18480" y="17369"/>
                  </a:lnTo>
                  <a:lnTo>
                    <a:pt x="20000" y="15124"/>
                  </a:lnTo>
                  <a:lnTo>
                    <a:pt x="19297" y="15635"/>
                  </a:lnTo>
                  <a:lnTo>
                    <a:pt x="18613" y="16109"/>
                  </a:lnTo>
                  <a:lnTo>
                    <a:pt x="17882" y="16533"/>
                  </a:lnTo>
                  <a:lnTo>
                    <a:pt x="17065" y="16945"/>
                  </a:lnTo>
                  <a:lnTo>
                    <a:pt x="16115" y="17356"/>
                  </a:lnTo>
                  <a:lnTo>
                    <a:pt x="15014" y="17755"/>
                  </a:lnTo>
                  <a:lnTo>
                    <a:pt x="13694" y="18179"/>
                  </a:lnTo>
                  <a:lnTo>
                    <a:pt x="12117" y="18653"/>
                  </a:lnTo>
                  <a:lnTo>
                    <a:pt x="13219" y="17294"/>
                  </a:lnTo>
                  <a:lnTo>
                    <a:pt x="14055" y="15860"/>
                  </a:lnTo>
                  <a:lnTo>
                    <a:pt x="14662" y="14413"/>
                  </a:lnTo>
                  <a:lnTo>
                    <a:pt x="15080" y="13054"/>
                  </a:lnTo>
                  <a:lnTo>
                    <a:pt x="15337" y="11832"/>
                  </a:lnTo>
                  <a:lnTo>
                    <a:pt x="15470" y="10860"/>
                  </a:lnTo>
                  <a:lnTo>
                    <a:pt x="15536" y="10224"/>
                  </a:lnTo>
                  <a:lnTo>
                    <a:pt x="15546" y="10000"/>
                  </a:lnTo>
                  <a:close/>
                  <a:moveTo>
                    <a:pt x="15546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94400" y="907920"/>
              <a:ext cx="42840" cy="27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15" y="12025"/>
                  </a:moveTo>
                  <a:lnTo>
                    <a:pt x="18991" y="10000"/>
                  </a:lnTo>
                  <a:lnTo>
                    <a:pt x="10000" y="14430"/>
                  </a:lnTo>
                  <a:lnTo>
                    <a:pt x="10420" y="20000"/>
                  </a:lnTo>
                  <a:lnTo>
                    <a:pt x="12016" y="16455"/>
                  </a:lnTo>
                  <a:lnTo>
                    <a:pt x="13277" y="15949"/>
                  </a:lnTo>
                  <a:lnTo>
                    <a:pt x="13865" y="12911"/>
                  </a:lnTo>
                  <a:lnTo>
                    <a:pt x="15630" y="14430"/>
                  </a:lnTo>
                  <a:lnTo>
                    <a:pt x="20000" y="12278"/>
                  </a:lnTo>
                  <a:lnTo>
                    <a:pt x="19915" y="12025"/>
                  </a:lnTo>
                  <a:close/>
                  <a:moveTo>
                    <a:pt x="19915" y="1202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76840" y="1128600"/>
              <a:ext cx="66600" cy="65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1189" y="10567"/>
                  </a:moveTo>
                  <a:lnTo>
                    <a:pt x="12486" y="12319"/>
                  </a:lnTo>
                  <a:lnTo>
                    <a:pt x="13135" y="10000"/>
                  </a:lnTo>
                  <a:lnTo>
                    <a:pt x="14972" y="12319"/>
                  </a:lnTo>
                  <a:lnTo>
                    <a:pt x="12216" y="15463"/>
                  </a:lnTo>
                  <a:lnTo>
                    <a:pt x="13027" y="16391"/>
                  </a:lnTo>
                  <a:lnTo>
                    <a:pt x="16000" y="16597"/>
                  </a:lnTo>
                  <a:lnTo>
                    <a:pt x="19297" y="20000"/>
                  </a:lnTo>
                  <a:lnTo>
                    <a:pt x="20000" y="19536"/>
                  </a:lnTo>
                  <a:lnTo>
                    <a:pt x="18594" y="17061"/>
                  </a:lnTo>
                  <a:lnTo>
                    <a:pt x="16378" y="14432"/>
                  </a:lnTo>
                  <a:lnTo>
                    <a:pt x="11891" y="13195"/>
                  </a:lnTo>
                  <a:lnTo>
                    <a:pt x="10000" y="10773"/>
                  </a:lnTo>
                  <a:lnTo>
                    <a:pt x="11189" y="10567"/>
                  </a:lnTo>
                  <a:close/>
                  <a:moveTo>
                    <a:pt x="11189" y="1056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91240" y="1552320"/>
              <a:ext cx="36360" cy="54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3168" y="20000"/>
                  </a:moveTo>
                  <a:lnTo>
                    <a:pt x="10000" y="17798"/>
                  </a:lnTo>
                  <a:lnTo>
                    <a:pt x="12673" y="13333"/>
                  </a:lnTo>
                  <a:lnTo>
                    <a:pt x="13168" y="12201"/>
                  </a:lnTo>
                  <a:lnTo>
                    <a:pt x="17722" y="10000"/>
                  </a:lnTo>
                  <a:lnTo>
                    <a:pt x="20000" y="13899"/>
                  </a:lnTo>
                  <a:lnTo>
                    <a:pt x="17722" y="18679"/>
                  </a:lnTo>
                  <a:lnTo>
                    <a:pt x="12673" y="20000"/>
                  </a:lnTo>
                  <a:lnTo>
                    <a:pt x="13168" y="20000"/>
                  </a:lnTo>
                  <a:close/>
                  <a:moveTo>
                    <a:pt x="1316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81520" y="939600"/>
              <a:ext cx="25560" cy="20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34" y="10000"/>
                  </a:moveTo>
                  <a:lnTo>
                    <a:pt x="20000" y="15000"/>
                  </a:lnTo>
                  <a:lnTo>
                    <a:pt x="16438" y="20000"/>
                  </a:lnTo>
                  <a:lnTo>
                    <a:pt x="10000" y="12903"/>
                  </a:lnTo>
                  <a:lnTo>
                    <a:pt x="17534" y="10000"/>
                  </a:lnTo>
                  <a:close/>
                  <a:moveTo>
                    <a:pt x="1753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8840" y="1036440"/>
              <a:ext cx="63720" cy="8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6775" y="13679"/>
                  </a:lnTo>
                  <a:lnTo>
                    <a:pt x="17049" y="16363"/>
                  </a:lnTo>
                  <a:lnTo>
                    <a:pt x="20000" y="18874"/>
                  </a:lnTo>
                  <a:lnTo>
                    <a:pt x="18032" y="20000"/>
                  </a:lnTo>
                  <a:lnTo>
                    <a:pt x="11475" y="15974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05560" y="954000"/>
              <a:ext cx="228600" cy="203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8315" y="20000"/>
                  </a:moveTo>
                  <a:lnTo>
                    <a:pt x="17588" y="19931"/>
                  </a:lnTo>
                  <a:lnTo>
                    <a:pt x="16553" y="18911"/>
                  </a:lnTo>
                  <a:lnTo>
                    <a:pt x="14992" y="17772"/>
                  </a:lnTo>
                  <a:lnTo>
                    <a:pt x="13199" y="16751"/>
                  </a:lnTo>
                  <a:lnTo>
                    <a:pt x="12843" y="16224"/>
                  </a:lnTo>
                  <a:lnTo>
                    <a:pt x="13585" y="15391"/>
                  </a:lnTo>
                  <a:lnTo>
                    <a:pt x="13091" y="14404"/>
                  </a:lnTo>
                  <a:lnTo>
                    <a:pt x="11035" y="15306"/>
                  </a:lnTo>
                  <a:lnTo>
                    <a:pt x="10000" y="11547"/>
                  </a:lnTo>
                  <a:lnTo>
                    <a:pt x="10077" y="10901"/>
                  </a:lnTo>
                  <a:lnTo>
                    <a:pt x="12333" y="10000"/>
                  </a:lnTo>
                  <a:lnTo>
                    <a:pt x="13199" y="10442"/>
                  </a:lnTo>
                  <a:lnTo>
                    <a:pt x="13724" y="10901"/>
                  </a:lnTo>
                  <a:lnTo>
                    <a:pt x="14204" y="10867"/>
                  </a:lnTo>
                  <a:lnTo>
                    <a:pt x="15409" y="12108"/>
                  </a:lnTo>
                  <a:lnTo>
                    <a:pt x="15378" y="13996"/>
                  </a:lnTo>
                  <a:lnTo>
                    <a:pt x="20000" y="18486"/>
                  </a:lnTo>
                  <a:lnTo>
                    <a:pt x="18315" y="20000"/>
                  </a:lnTo>
                  <a:close/>
                  <a:moveTo>
                    <a:pt x="1831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91200" y="1328400"/>
              <a:ext cx="14040" cy="38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849"/>
                  </a:moveTo>
                  <a:lnTo>
                    <a:pt x="10000" y="11037"/>
                  </a:lnTo>
                  <a:lnTo>
                    <a:pt x="10270" y="11603"/>
                  </a:lnTo>
                  <a:lnTo>
                    <a:pt x="10810" y="12547"/>
                  </a:lnTo>
                  <a:lnTo>
                    <a:pt x="11891" y="13490"/>
                  </a:lnTo>
                  <a:lnTo>
                    <a:pt x="12432" y="14433"/>
                  </a:lnTo>
                  <a:lnTo>
                    <a:pt x="12972" y="15471"/>
                  </a:lnTo>
                  <a:lnTo>
                    <a:pt x="13243" y="15943"/>
                  </a:lnTo>
                  <a:lnTo>
                    <a:pt x="13783" y="16320"/>
                  </a:lnTo>
                  <a:lnTo>
                    <a:pt x="13783" y="16415"/>
                  </a:lnTo>
                  <a:lnTo>
                    <a:pt x="14594" y="16698"/>
                  </a:lnTo>
                  <a:lnTo>
                    <a:pt x="15405" y="17264"/>
                  </a:lnTo>
                  <a:lnTo>
                    <a:pt x="16756" y="17924"/>
                  </a:lnTo>
                  <a:lnTo>
                    <a:pt x="17837" y="18490"/>
                  </a:lnTo>
                  <a:lnTo>
                    <a:pt x="18918" y="19056"/>
                  </a:lnTo>
                  <a:lnTo>
                    <a:pt x="19729" y="19433"/>
                  </a:lnTo>
                  <a:lnTo>
                    <a:pt x="20000" y="19622"/>
                  </a:lnTo>
                  <a:lnTo>
                    <a:pt x="19729" y="19622"/>
                  </a:lnTo>
                  <a:lnTo>
                    <a:pt x="18918" y="19622"/>
                  </a:lnTo>
                  <a:lnTo>
                    <a:pt x="17837" y="19716"/>
                  </a:lnTo>
                  <a:lnTo>
                    <a:pt x="16756" y="19811"/>
                  </a:lnTo>
                  <a:lnTo>
                    <a:pt x="15405" y="19811"/>
                  </a:lnTo>
                  <a:lnTo>
                    <a:pt x="14594" y="19905"/>
                  </a:lnTo>
                  <a:lnTo>
                    <a:pt x="13783" y="19905"/>
                  </a:lnTo>
                  <a:lnTo>
                    <a:pt x="13783" y="20000"/>
                  </a:lnTo>
                  <a:lnTo>
                    <a:pt x="13783" y="19905"/>
                  </a:lnTo>
                  <a:lnTo>
                    <a:pt x="13783" y="19716"/>
                  </a:lnTo>
                  <a:lnTo>
                    <a:pt x="13783" y="19528"/>
                  </a:lnTo>
                  <a:lnTo>
                    <a:pt x="13783" y="19150"/>
                  </a:lnTo>
                  <a:lnTo>
                    <a:pt x="13783" y="18867"/>
                  </a:lnTo>
                  <a:lnTo>
                    <a:pt x="13783" y="18679"/>
                  </a:lnTo>
                  <a:lnTo>
                    <a:pt x="13783" y="18396"/>
                  </a:lnTo>
                  <a:lnTo>
                    <a:pt x="13783" y="18207"/>
                  </a:lnTo>
                  <a:lnTo>
                    <a:pt x="14324" y="17830"/>
                  </a:lnTo>
                  <a:lnTo>
                    <a:pt x="14864" y="17264"/>
                  </a:lnTo>
                  <a:lnTo>
                    <a:pt x="15405" y="16603"/>
                  </a:lnTo>
                  <a:lnTo>
                    <a:pt x="16216" y="15849"/>
                  </a:lnTo>
                  <a:lnTo>
                    <a:pt x="16756" y="15377"/>
                  </a:lnTo>
                  <a:lnTo>
                    <a:pt x="17297" y="14905"/>
                  </a:lnTo>
                  <a:lnTo>
                    <a:pt x="17567" y="14811"/>
                  </a:lnTo>
                  <a:lnTo>
                    <a:pt x="17297" y="14622"/>
                  </a:lnTo>
                  <a:lnTo>
                    <a:pt x="16756" y="13962"/>
                  </a:lnTo>
                  <a:lnTo>
                    <a:pt x="16216" y="13207"/>
                  </a:lnTo>
                  <a:lnTo>
                    <a:pt x="15405" y="12358"/>
                  </a:lnTo>
                  <a:lnTo>
                    <a:pt x="14864" y="11509"/>
                  </a:lnTo>
                  <a:lnTo>
                    <a:pt x="14324" y="10754"/>
                  </a:lnTo>
                  <a:lnTo>
                    <a:pt x="13783" y="10094"/>
                  </a:lnTo>
                  <a:lnTo>
                    <a:pt x="13783" y="10000"/>
                  </a:lnTo>
                  <a:lnTo>
                    <a:pt x="13243" y="10000"/>
                  </a:lnTo>
                  <a:lnTo>
                    <a:pt x="12972" y="10094"/>
                  </a:lnTo>
                  <a:lnTo>
                    <a:pt x="12432" y="10188"/>
                  </a:lnTo>
                  <a:lnTo>
                    <a:pt x="11891" y="10471"/>
                  </a:lnTo>
                  <a:lnTo>
                    <a:pt x="10810" y="10566"/>
                  </a:lnTo>
                  <a:lnTo>
                    <a:pt x="10270" y="10660"/>
                  </a:lnTo>
                  <a:lnTo>
                    <a:pt x="10000" y="10754"/>
                  </a:lnTo>
                  <a:lnTo>
                    <a:pt x="10000" y="10849"/>
                  </a:lnTo>
                  <a:close/>
                  <a:moveTo>
                    <a:pt x="10000" y="10849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65480" y="1193760"/>
              <a:ext cx="462240" cy="369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68" y="17415"/>
                  </a:moveTo>
                  <a:lnTo>
                    <a:pt x="10000" y="16919"/>
                  </a:lnTo>
                  <a:lnTo>
                    <a:pt x="10206" y="16226"/>
                  </a:lnTo>
                  <a:lnTo>
                    <a:pt x="10435" y="15983"/>
                  </a:lnTo>
                  <a:lnTo>
                    <a:pt x="10986" y="15664"/>
                  </a:lnTo>
                  <a:lnTo>
                    <a:pt x="11750" y="15683"/>
                  </a:lnTo>
                  <a:lnTo>
                    <a:pt x="12400" y="15421"/>
                  </a:lnTo>
                  <a:lnTo>
                    <a:pt x="12538" y="14737"/>
                  </a:lnTo>
                  <a:lnTo>
                    <a:pt x="13188" y="13960"/>
                  </a:lnTo>
                  <a:lnTo>
                    <a:pt x="13784" y="13904"/>
                  </a:lnTo>
                  <a:lnTo>
                    <a:pt x="14151" y="13979"/>
                  </a:lnTo>
                  <a:lnTo>
                    <a:pt x="14067" y="13735"/>
                  </a:lnTo>
                  <a:lnTo>
                    <a:pt x="14365" y="12471"/>
                  </a:lnTo>
                  <a:lnTo>
                    <a:pt x="14648" y="11910"/>
                  </a:lnTo>
                  <a:lnTo>
                    <a:pt x="14541" y="11882"/>
                  </a:lnTo>
                  <a:lnTo>
                    <a:pt x="14938" y="11058"/>
                  </a:lnTo>
                  <a:lnTo>
                    <a:pt x="15382" y="10608"/>
                  </a:lnTo>
                  <a:lnTo>
                    <a:pt x="16009" y="10159"/>
                  </a:lnTo>
                  <a:lnTo>
                    <a:pt x="17064" y="10177"/>
                  </a:lnTo>
                  <a:lnTo>
                    <a:pt x="17362" y="10458"/>
                  </a:lnTo>
                  <a:lnTo>
                    <a:pt x="17943" y="10608"/>
                  </a:lnTo>
                  <a:lnTo>
                    <a:pt x="18822" y="10374"/>
                  </a:lnTo>
                  <a:lnTo>
                    <a:pt x="19311" y="10000"/>
                  </a:lnTo>
                  <a:lnTo>
                    <a:pt x="19931" y="10543"/>
                  </a:lnTo>
                  <a:lnTo>
                    <a:pt x="20000" y="10805"/>
                  </a:lnTo>
                  <a:lnTo>
                    <a:pt x="19694" y="11123"/>
                  </a:lnTo>
                  <a:lnTo>
                    <a:pt x="19296" y="11301"/>
                  </a:lnTo>
                  <a:lnTo>
                    <a:pt x="18685" y="12162"/>
                  </a:lnTo>
                  <a:lnTo>
                    <a:pt x="18715" y="13202"/>
                  </a:lnTo>
                  <a:lnTo>
                    <a:pt x="18539" y="13651"/>
                  </a:lnTo>
                  <a:lnTo>
                    <a:pt x="18379" y="13651"/>
                  </a:lnTo>
                  <a:lnTo>
                    <a:pt x="17943" y="14129"/>
                  </a:lnTo>
                  <a:lnTo>
                    <a:pt x="17683" y="14737"/>
                  </a:lnTo>
                  <a:lnTo>
                    <a:pt x="17392" y="14794"/>
                  </a:lnTo>
                  <a:lnTo>
                    <a:pt x="17224" y="14428"/>
                  </a:lnTo>
                  <a:lnTo>
                    <a:pt x="17087" y="14447"/>
                  </a:lnTo>
                  <a:lnTo>
                    <a:pt x="16712" y="14129"/>
                  </a:lnTo>
                  <a:lnTo>
                    <a:pt x="16383" y="14147"/>
                  </a:lnTo>
                  <a:lnTo>
                    <a:pt x="15802" y="13885"/>
                  </a:lnTo>
                  <a:lnTo>
                    <a:pt x="15397" y="13979"/>
                  </a:lnTo>
                  <a:lnTo>
                    <a:pt x="15344" y="13885"/>
                  </a:lnTo>
                  <a:lnTo>
                    <a:pt x="15642" y="13717"/>
                  </a:lnTo>
                  <a:lnTo>
                    <a:pt x="15558" y="13089"/>
                  </a:lnTo>
                  <a:lnTo>
                    <a:pt x="15313" y="12921"/>
                  </a:lnTo>
                  <a:lnTo>
                    <a:pt x="14977" y="12883"/>
                  </a:lnTo>
                  <a:lnTo>
                    <a:pt x="14610" y="13220"/>
                  </a:lnTo>
                  <a:lnTo>
                    <a:pt x="14770" y="13483"/>
                  </a:lnTo>
                  <a:lnTo>
                    <a:pt x="14311" y="13567"/>
                  </a:lnTo>
                  <a:lnTo>
                    <a:pt x="14311" y="13679"/>
                  </a:lnTo>
                  <a:lnTo>
                    <a:pt x="14136" y="13782"/>
                  </a:lnTo>
                  <a:lnTo>
                    <a:pt x="14648" y="14494"/>
                  </a:lnTo>
                  <a:lnTo>
                    <a:pt x="14717" y="14775"/>
                  </a:lnTo>
                  <a:lnTo>
                    <a:pt x="14648" y="14840"/>
                  </a:lnTo>
                  <a:lnTo>
                    <a:pt x="14938" y="15486"/>
                  </a:lnTo>
                  <a:lnTo>
                    <a:pt x="14923" y="16114"/>
                  </a:lnTo>
                  <a:lnTo>
                    <a:pt x="15229" y="16853"/>
                  </a:lnTo>
                  <a:lnTo>
                    <a:pt x="15191" y="17621"/>
                  </a:lnTo>
                  <a:lnTo>
                    <a:pt x="15412" y="17865"/>
                  </a:lnTo>
                  <a:lnTo>
                    <a:pt x="16452" y="19550"/>
                  </a:lnTo>
                  <a:lnTo>
                    <a:pt x="16223" y="19915"/>
                  </a:lnTo>
                  <a:lnTo>
                    <a:pt x="14411" y="20000"/>
                  </a:lnTo>
                  <a:lnTo>
                    <a:pt x="14051" y="19653"/>
                  </a:lnTo>
                  <a:lnTo>
                    <a:pt x="13012" y="19391"/>
                  </a:lnTo>
                  <a:lnTo>
                    <a:pt x="12010" y="18389"/>
                  </a:lnTo>
                  <a:lnTo>
                    <a:pt x="12010" y="18146"/>
                  </a:lnTo>
                  <a:lnTo>
                    <a:pt x="11804" y="18211"/>
                  </a:lnTo>
                  <a:lnTo>
                    <a:pt x="11399" y="17911"/>
                  </a:lnTo>
                  <a:lnTo>
                    <a:pt x="11154" y="17584"/>
                  </a:lnTo>
                  <a:lnTo>
                    <a:pt x="10275" y="17247"/>
                  </a:lnTo>
                  <a:lnTo>
                    <a:pt x="10068" y="17415"/>
                  </a:lnTo>
                  <a:close/>
                  <a:moveTo>
                    <a:pt x="10068" y="1741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49960" y="1306440"/>
              <a:ext cx="75960" cy="66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5" y="20000"/>
                  </a:moveTo>
                  <a:lnTo>
                    <a:pt x="10185" y="18118"/>
                  </a:lnTo>
                  <a:lnTo>
                    <a:pt x="16388" y="10000"/>
                  </a:lnTo>
                  <a:lnTo>
                    <a:pt x="20000" y="12580"/>
                  </a:lnTo>
                  <a:lnTo>
                    <a:pt x="19768" y="14784"/>
                  </a:lnTo>
                  <a:lnTo>
                    <a:pt x="17638" y="18118"/>
                  </a:lnTo>
                  <a:lnTo>
                    <a:pt x="10000" y="20000"/>
                  </a:lnTo>
                  <a:lnTo>
                    <a:pt x="10185" y="20000"/>
                  </a:lnTo>
                  <a:close/>
                  <a:moveTo>
                    <a:pt x="1018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06840" y="1366560"/>
              <a:ext cx="12960" cy="7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71" y="11851"/>
                  </a:moveTo>
                  <a:lnTo>
                    <a:pt x="10000" y="20000"/>
                  </a:lnTo>
                  <a:lnTo>
                    <a:pt x="17428" y="20000"/>
                  </a:lnTo>
                  <a:lnTo>
                    <a:pt x="20000" y="13333"/>
                  </a:lnTo>
                  <a:lnTo>
                    <a:pt x="13714" y="10000"/>
                  </a:lnTo>
                  <a:lnTo>
                    <a:pt x="12571" y="11851"/>
                  </a:lnTo>
                  <a:close/>
                  <a:moveTo>
                    <a:pt x="12571" y="1185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2800" y="1139760"/>
              <a:ext cx="384120" cy="549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350" y="20000"/>
                  </a:moveTo>
                  <a:lnTo>
                    <a:pt x="13929" y="19667"/>
                  </a:lnTo>
                  <a:lnTo>
                    <a:pt x="13274" y="19058"/>
                  </a:lnTo>
                  <a:lnTo>
                    <a:pt x="13311" y="18612"/>
                  </a:lnTo>
                  <a:lnTo>
                    <a:pt x="12915" y="18160"/>
                  </a:lnTo>
                  <a:lnTo>
                    <a:pt x="11669" y="18185"/>
                  </a:lnTo>
                  <a:lnTo>
                    <a:pt x="11005" y="18160"/>
                  </a:lnTo>
                  <a:lnTo>
                    <a:pt x="10285" y="17771"/>
                  </a:lnTo>
                  <a:lnTo>
                    <a:pt x="10184" y="17727"/>
                  </a:lnTo>
                  <a:lnTo>
                    <a:pt x="10000" y="17093"/>
                  </a:lnTo>
                  <a:lnTo>
                    <a:pt x="10184" y="16716"/>
                  </a:lnTo>
                  <a:lnTo>
                    <a:pt x="10968" y="16202"/>
                  </a:lnTo>
                  <a:lnTo>
                    <a:pt x="11891" y="16045"/>
                  </a:lnTo>
                  <a:lnTo>
                    <a:pt x="12020" y="16202"/>
                  </a:lnTo>
                  <a:lnTo>
                    <a:pt x="12573" y="16202"/>
                  </a:lnTo>
                  <a:lnTo>
                    <a:pt x="12610" y="16101"/>
                  </a:lnTo>
                  <a:lnTo>
                    <a:pt x="13191" y="16020"/>
                  </a:lnTo>
                  <a:lnTo>
                    <a:pt x="13044" y="15838"/>
                  </a:lnTo>
                  <a:lnTo>
                    <a:pt x="12675" y="15863"/>
                  </a:lnTo>
                  <a:lnTo>
                    <a:pt x="12426" y="15655"/>
                  </a:lnTo>
                  <a:lnTo>
                    <a:pt x="12592" y="15486"/>
                  </a:lnTo>
                  <a:lnTo>
                    <a:pt x="12998" y="15486"/>
                  </a:lnTo>
                  <a:lnTo>
                    <a:pt x="13081" y="15599"/>
                  </a:lnTo>
                  <a:lnTo>
                    <a:pt x="12592" y="15687"/>
                  </a:lnTo>
                  <a:lnTo>
                    <a:pt x="12426" y="15863"/>
                  </a:lnTo>
                  <a:lnTo>
                    <a:pt x="12260" y="15812"/>
                  </a:lnTo>
                  <a:lnTo>
                    <a:pt x="12066" y="15863"/>
                  </a:lnTo>
                  <a:lnTo>
                    <a:pt x="11752" y="15712"/>
                  </a:lnTo>
                  <a:lnTo>
                    <a:pt x="11476" y="15781"/>
                  </a:lnTo>
                  <a:lnTo>
                    <a:pt x="11300" y="16007"/>
                  </a:lnTo>
                  <a:lnTo>
                    <a:pt x="11116" y="16064"/>
                  </a:lnTo>
                  <a:lnTo>
                    <a:pt x="10987" y="16158"/>
                  </a:lnTo>
                  <a:lnTo>
                    <a:pt x="10904" y="16076"/>
                  </a:lnTo>
                  <a:lnTo>
                    <a:pt x="10664" y="15988"/>
                  </a:lnTo>
                  <a:lnTo>
                    <a:pt x="10719" y="15699"/>
                  </a:lnTo>
                  <a:lnTo>
                    <a:pt x="10821" y="15655"/>
                  </a:lnTo>
                  <a:lnTo>
                    <a:pt x="11153" y="15687"/>
                  </a:lnTo>
                  <a:lnTo>
                    <a:pt x="11199" y="15436"/>
                  </a:lnTo>
                  <a:lnTo>
                    <a:pt x="11005" y="15392"/>
                  </a:lnTo>
                  <a:lnTo>
                    <a:pt x="11005" y="15323"/>
                  </a:lnTo>
                  <a:lnTo>
                    <a:pt x="11236" y="15266"/>
                  </a:lnTo>
                  <a:lnTo>
                    <a:pt x="11300" y="15103"/>
                  </a:lnTo>
                  <a:lnTo>
                    <a:pt x="11217" y="15059"/>
                  </a:lnTo>
                  <a:lnTo>
                    <a:pt x="11153" y="14789"/>
                  </a:lnTo>
                  <a:lnTo>
                    <a:pt x="11070" y="14846"/>
                  </a:lnTo>
                  <a:lnTo>
                    <a:pt x="11005" y="15059"/>
                  </a:lnTo>
                  <a:lnTo>
                    <a:pt x="10839" y="15103"/>
                  </a:lnTo>
                  <a:lnTo>
                    <a:pt x="10867" y="14990"/>
                  </a:lnTo>
                  <a:lnTo>
                    <a:pt x="10987" y="14934"/>
                  </a:lnTo>
                  <a:lnTo>
                    <a:pt x="11088" y="15059"/>
                  </a:lnTo>
                  <a:lnTo>
                    <a:pt x="10987" y="15235"/>
                  </a:lnTo>
                  <a:lnTo>
                    <a:pt x="11503" y="15103"/>
                  </a:lnTo>
                  <a:lnTo>
                    <a:pt x="11586" y="14846"/>
                  </a:lnTo>
                  <a:lnTo>
                    <a:pt x="11476" y="14858"/>
                  </a:lnTo>
                  <a:lnTo>
                    <a:pt x="11439" y="14733"/>
                  </a:lnTo>
                  <a:lnTo>
                    <a:pt x="11559" y="14469"/>
                  </a:lnTo>
                  <a:lnTo>
                    <a:pt x="11559" y="14293"/>
                  </a:lnTo>
                  <a:lnTo>
                    <a:pt x="11789" y="14224"/>
                  </a:lnTo>
                  <a:lnTo>
                    <a:pt x="12343" y="14193"/>
                  </a:lnTo>
                  <a:lnTo>
                    <a:pt x="12961" y="13383"/>
                  </a:lnTo>
                  <a:lnTo>
                    <a:pt x="12832" y="13151"/>
                  </a:lnTo>
                  <a:lnTo>
                    <a:pt x="12961" y="13006"/>
                  </a:lnTo>
                  <a:lnTo>
                    <a:pt x="12555" y="12510"/>
                  </a:lnTo>
                  <a:lnTo>
                    <a:pt x="12832" y="12397"/>
                  </a:lnTo>
                  <a:lnTo>
                    <a:pt x="12020" y="11676"/>
                  </a:lnTo>
                  <a:lnTo>
                    <a:pt x="11134" y="11418"/>
                  </a:lnTo>
                  <a:lnTo>
                    <a:pt x="11153" y="11324"/>
                  </a:lnTo>
                  <a:lnTo>
                    <a:pt x="11706" y="11311"/>
                  </a:lnTo>
                  <a:lnTo>
                    <a:pt x="11725" y="11186"/>
                  </a:lnTo>
                  <a:lnTo>
                    <a:pt x="12721" y="11048"/>
                  </a:lnTo>
                  <a:lnTo>
                    <a:pt x="12656" y="10935"/>
                  </a:lnTo>
                  <a:lnTo>
                    <a:pt x="12942" y="10734"/>
                  </a:lnTo>
                  <a:lnTo>
                    <a:pt x="13044" y="10979"/>
                  </a:lnTo>
                  <a:lnTo>
                    <a:pt x="12813" y="11167"/>
                  </a:lnTo>
                  <a:lnTo>
                    <a:pt x="13025" y="11199"/>
                  </a:lnTo>
                  <a:lnTo>
                    <a:pt x="13191" y="11098"/>
                  </a:lnTo>
                  <a:lnTo>
                    <a:pt x="13846" y="11073"/>
                  </a:lnTo>
                  <a:lnTo>
                    <a:pt x="14289" y="10809"/>
                  </a:lnTo>
                  <a:lnTo>
                    <a:pt x="14095" y="10677"/>
                  </a:lnTo>
                  <a:lnTo>
                    <a:pt x="14686" y="10345"/>
                  </a:lnTo>
                  <a:lnTo>
                    <a:pt x="14603" y="10194"/>
                  </a:lnTo>
                  <a:lnTo>
                    <a:pt x="14963" y="10269"/>
                  </a:lnTo>
                  <a:lnTo>
                    <a:pt x="15156" y="10138"/>
                  </a:lnTo>
                  <a:lnTo>
                    <a:pt x="15387" y="10138"/>
                  </a:lnTo>
                  <a:lnTo>
                    <a:pt x="15793" y="10269"/>
                  </a:lnTo>
                  <a:lnTo>
                    <a:pt x="15940" y="10194"/>
                  </a:lnTo>
                  <a:lnTo>
                    <a:pt x="15156" y="10000"/>
                  </a:lnTo>
                  <a:lnTo>
                    <a:pt x="14815" y="10301"/>
                  </a:lnTo>
                  <a:lnTo>
                    <a:pt x="14437" y="10345"/>
                  </a:lnTo>
                  <a:lnTo>
                    <a:pt x="13929" y="10627"/>
                  </a:lnTo>
                  <a:lnTo>
                    <a:pt x="14686" y="10420"/>
                  </a:lnTo>
                  <a:lnTo>
                    <a:pt x="15202" y="10445"/>
                  </a:lnTo>
                  <a:lnTo>
                    <a:pt x="15553" y="10659"/>
                  </a:lnTo>
                  <a:lnTo>
                    <a:pt x="15839" y="10564"/>
                  </a:lnTo>
                  <a:lnTo>
                    <a:pt x="15987" y="10627"/>
                  </a:lnTo>
                  <a:lnTo>
                    <a:pt x="15664" y="10747"/>
                  </a:lnTo>
                  <a:lnTo>
                    <a:pt x="15599" y="10922"/>
                  </a:lnTo>
                  <a:lnTo>
                    <a:pt x="15682" y="10966"/>
                  </a:lnTo>
                  <a:lnTo>
                    <a:pt x="15774" y="10966"/>
                  </a:lnTo>
                  <a:lnTo>
                    <a:pt x="15931" y="10891"/>
                  </a:lnTo>
                  <a:lnTo>
                    <a:pt x="16992" y="11004"/>
                  </a:lnTo>
                  <a:lnTo>
                    <a:pt x="16992" y="10910"/>
                  </a:lnTo>
                  <a:lnTo>
                    <a:pt x="16476" y="10866"/>
                  </a:lnTo>
                  <a:lnTo>
                    <a:pt x="16476" y="10922"/>
                  </a:lnTo>
                  <a:lnTo>
                    <a:pt x="17121" y="11192"/>
                  </a:lnTo>
                  <a:lnTo>
                    <a:pt x="17380" y="11418"/>
                  </a:lnTo>
                  <a:lnTo>
                    <a:pt x="18256" y="11418"/>
                  </a:lnTo>
                  <a:lnTo>
                    <a:pt x="18800" y="11701"/>
                  </a:lnTo>
                  <a:lnTo>
                    <a:pt x="18828" y="11732"/>
                  </a:lnTo>
                  <a:lnTo>
                    <a:pt x="18542" y="12021"/>
                  </a:lnTo>
                  <a:lnTo>
                    <a:pt x="18911" y="12065"/>
                  </a:lnTo>
                  <a:lnTo>
                    <a:pt x="19206" y="11920"/>
                  </a:lnTo>
                  <a:lnTo>
                    <a:pt x="19298" y="11688"/>
                  </a:lnTo>
                  <a:lnTo>
                    <a:pt x="19511" y="11600"/>
                  </a:lnTo>
                  <a:lnTo>
                    <a:pt x="19363" y="12121"/>
                  </a:lnTo>
                  <a:lnTo>
                    <a:pt x="19446" y="12165"/>
                  </a:lnTo>
                  <a:lnTo>
                    <a:pt x="19843" y="11632"/>
                  </a:lnTo>
                  <a:lnTo>
                    <a:pt x="19658" y="10891"/>
                  </a:lnTo>
                  <a:lnTo>
                    <a:pt x="19824" y="10765"/>
                  </a:lnTo>
                  <a:lnTo>
                    <a:pt x="20000" y="11462"/>
                  </a:lnTo>
                  <a:lnTo>
                    <a:pt x="19760" y="11531"/>
                  </a:lnTo>
                  <a:lnTo>
                    <a:pt x="18874" y="12215"/>
                  </a:lnTo>
                  <a:lnTo>
                    <a:pt x="18579" y="12241"/>
                  </a:lnTo>
                  <a:lnTo>
                    <a:pt x="18468" y="12372"/>
                  </a:lnTo>
                  <a:lnTo>
                    <a:pt x="17942" y="12510"/>
                  </a:lnTo>
                  <a:lnTo>
                    <a:pt x="17804" y="13151"/>
                  </a:lnTo>
                  <a:lnTo>
                    <a:pt x="18154" y="13647"/>
                  </a:lnTo>
                  <a:lnTo>
                    <a:pt x="18874" y="13873"/>
                  </a:lnTo>
                  <a:lnTo>
                    <a:pt x="18957" y="13804"/>
                  </a:lnTo>
                  <a:lnTo>
                    <a:pt x="18809" y="13716"/>
                  </a:lnTo>
                  <a:lnTo>
                    <a:pt x="18487" y="13691"/>
                  </a:lnTo>
                  <a:lnTo>
                    <a:pt x="18763" y="13973"/>
                  </a:lnTo>
                  <a:lnTo>
                    <a:pt x="18579" y="14080"/>
                  </a:lnTo>
                  <a:lnTo>
                    <a:pt x="16891" y="14400"/>
                  </a:lnTo>
                  <a:lnTo>
                    <a:pt x="15839" y="14990"/>
                  </a:lnTo>
                  <a:lnTo>
                    <a:pt x="15488" y="15053"/>
                  </a:lnTo>
                  <a:lnTo>
                    <a:pt x="15433" y="15166"/>
                  </a:lnTo>
                  <a:lnTo>
                    <a:pt x="16171" y="15040"/>
                  </a:lnTo>
                  <a:lnTo>
                    <a:pt x="16190" y="15015"/>
                  </a:lnTo>
                  <a:lnTo>
                    <a:pt x="16171" y="14890"/>
                  </a:lnTo>
                  <a:lnTo>
                    <a:pt x="16494" y="14915"/>
                  </a:lnTo>
                  <a:lnTo>
                    <a:pt x="16706" y="15919"/>
                  </a:lnTo>
                  <a:lnTo>
                    <a:pt x="16005" y="16321"/>
                  </a:lnTo>
                  <a:lnTo>
                    <a:pt x="13699" y="16145"/>
                  </a:lnTo>
                  <a:lnTo>
                    <a:pt x="14012" y="15976"/>
                  </a:lnTo>
                  <a:lnTo>
                    <a:pt x="16411" y="16195"/>
                  </a:lnTo>
                  <a:lnTo>
                    <a:pt x="16881" y="16070"/>
                  </a:lnTo>
                  <a:lnTo>
                    <a:pt x="16992" y="16089"/>
                  </a:lnTo>
                  <a:lnTo>
                    <a:pt x="17195" y="16553"/>
                  </a:lnTo>
                  <a:lnTo>
                    <a:pt x="17149" y="17206"/>
                  </a:lnTo>
                  <a:lnTo>
                    <a:pt x="17546" y="17972"/>
                  </a:lnTo>
                  <a:lnTo>
                    <a:pt x="17020" y="19278"/>
                  </a:lnTo>
                  <a:lnTo>
                    <a:pt x="15876" y="19893"/>
                  </a:lnTo>
                  <a:lnTo>
                    <a:pt x="15350" y="20000"/>
                  </a:lnTo>
                  <a:close/>
                  <a:moveTo>
                    <a:pt x="15350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38880" y="1582560"/>
              <a:ext cx="6120" cy="214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144"/>
                  </a:moveTo>
                  <a:lnTo>
                    <a:pt x="10000" y="10144"/>
                  </a:lnTo>
                  <a:lnTo>
                    <a:pt x="10000" y="10128"/>
                  </a:lnTo>
                  <a:lnTo>
                    <a:pt x="11052" y="10112"/>
                  </a:lnTo>
                  <a:lnTo>
                    <a:pt x="11052" y="10080"/>
                  </a:lnTo>
                  <a:lnTo>
                    <a:pt x="11578" y="10048"/>
                  </a:lnTo>
                  <a:lnTo>
                    <a:pt x="12105" y="10032"/>
                  </a:lnTo>
                  <a:lnTo>
                    <a:pt x="12631" y="10016"/>
                  </a:lnTo>
                  <a:lnTo>
                    <a:pt x="13684" y="10016"/>
                  </a:lnTo>
                  <a:lnTo>
                    <a:pt x="14210" y="10000"/>
                  </a:lnTo>
                  <a:lnTo>
                    <a:pt x="15263" y="10000"/>
                  </a:lnTo>
                  <a:lnTo>
                    <a:pt x="15789" y="10000"/>
                  </a:lnTo>
                  <a:lnTo>
                    <a:pt x="16315" y="10016"/>
                  </a:lnTo>
                  <a:lnTo>
                    <a:pt x="17368" y="10016"/>
                  </a:lnTo>
                  <a:lnTo>
                    <a:pt x="17894" y="10032"/>
                  </a:lnTo>
                  <a:lnTo>
                    <a:pt x="18421" y="10048"/>
                  </a:lnTo>
                  <a:lnTo>
                    <a:pt x="18947" y="10080"/>
                  </a:lnTo>
                  <a:lnTo>
                    <a:pt x="18947" y="10112"/>
                  </a:lnTo>
                  <a:lnTo>
                    <a:pt x="20000" y="10128"/>
                  </a:lnTo>
                  <a:lnTo>
                    <a:pt x="20000" y="10144"/>
                  </a:lnTo>
                  <a:lnTo>
                    <a:pt x="20000" y="10144"/>
                  </a:lnTo>
                  <a:lnTo>
                    <a:pt x="20000" y="19855"/>
                  </a:lnTo>
                  <a:lnTo>
                    <a:pt x="20000" y="19855"/>
                  </a:lnTo>
                  <a:lnTo>
                    <a:pt x="20000" y="19871"/>
                  </a:lnTo>
                  <a:lnTo>
                    <a:pt x="18947" y="19887"/>
                  </a:lnTo>
                  <a:lnTo>
                    <a:pt x="18947" y="19935"/>
                  </a:lnTo>
                  <a:lnTo>
                    <a:pt x="18421" y="19951"/>
                  </a:lnTo>
                  <a:lnTo>
                    <a:pt x="17894" y="19967"/>
                  </a:lnTo>
                  <a:lnTo>
                    <a:pt x="17368" y="19983"/>
                  </a:lnTo>
                  <a:lnTo>
                    <a:pt x="16315" y="19983"/>
                  </a:lnTo>
                  <a:lnTo>
                    <a:pt x="15789" y="20000"/>
                  </a:lnTo>
                  <a:lnTo>
                    <a:pt x="15263" y="20000"/>
                  </a:lnTo>
                  <a:lnTo>
                    <a:pt x="14210" y="20000"/>
                  </a:lnTo>
                  <a:lnTo>
                    <a:pt x="13684" y="19983"/>
                  </a:lnTo>
                  <a:lnTo>
                    <a:pt x="12631" y="19983"/>
                  </a:lnTo>
                  <a:lnTo>
                    <a:pt x="12105" y="19967"/>
                  </a:lnTo>
                  <a:lnTo>
                    <a:pt x="11578" y="19951"/>
                  </a:lnTo>
                  <a:lnTo>
                    <a:pt x="11052" y="19935"/>
                  </a:lnTo>
                  <a:lnTo>
                    <a:pt x="11052" y="19887"/>
                  </a:lnTo>
                  <a:lnTo>
                    <a:pt x="10000" y="19871"/>
                  </a:lnTo>
                  <a:lnTo>
                    <a:pt x="10000" y="19855"/>
                  </a:lnTo>
                  <a:lnTo>
                    <a:pt x="10000" y="19855"/>
                  </a:lnTo>
                  <a:lnTo>
                    <a:pt x="10000" y="10144"/>
                  </a:lnTo>
                  <a:close/>
                  <a:moveTo>
                    <a:pt x="10000" y="1014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44920" y="1206360"/>
              <a:ext cx="187560" cy="182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0"/>
                  </a:moveTo>
                  <a:lnTo>
                    <a:pt x="19981" y="14535"/>
                  </a:lnTo>
                  <a:lnTo>
                    <a:pt x="19924" y="14060"/>
                  </a:lnTo>
                  <a:lnTo>
                    <a:pt x="19811" y="13643"/>
                  </a:lnTo>
                  <a:lnTo>
                    <a:pt x="19660" y="13187"/>
                  </a:lnTo>
                  <a:lnTo>
                    <a:pt x="19490" y="12751"/>
                  </a:lnTo>
                  <a:lnTo>
                    <a:pt x="19264" y="12371"/>
                  </a:lnTo>
                  <a:lnTo>
                    <a:pt x="19000" y="11973"/>
                  </a:lnTo>
                  <a:lnTo>
                    <a:pt x="18698" y="11612"/>
                  </a:lnTo>
                  <a:lnTo>
                    <a:pt x="18377" y="11290"/>
                  </a:lnTo>
                  <a:lnTo>
                    <a:pt x="18018" y="11024"/>
                  </a:lnTo>
                  <a:lnTo>
                    <a:pt x="17641" y="10740"/>
                  </a:lnTo>
                  <a:lnTo>
                    <a:pt x="17226" y="10531"/>
                  </a:lnTo>
                  <a:lnTo>
                    <a:pt x="16811" y="10322"/>
                  </a:lnTo>
                  <a:lnTo>
                    <a:pt x="16377" y="10170"/>
                  </a:lnTo>
                  <a:lnTo>
                    <a:pt x="15905" y="10094"/>
                  </a:lnTo>
                  <a:lnTo>
                    <a:pt x="15452" y="10037"/>
                  </a:lnTo>
                  <a:lnTo>
                    <a:pt x="15000" y="10000"/>
                  </a:lnTo>
                  <a:lnTo>
                    <a:pt x="14547" y="10037"/>
                  </a:lnTo>
                  <a:lnTo>
                    <a:pt x="14075" y="10094"/>
                  </a:lnTo>
                  <a:lnTo>
                    <a:pt x="13622" y="10208"/>
                  </a:lnTo>
                  <a:lnTo>
                    <a:pt x="13188" y="10322"/>
                  </a:lnTo>
                  <a:lnTo>
                    <a:pt x="12773" y="10531"/>
                  </a:lnTo>
                  <a:lnTo>
                    <a:pt x="12377" y="10759"/>
                  </a:lnTo>
                  <a:lnTo>
                    <a:pt x="11981" y="11024"/>
                  </a:lnTo>
                  <a:lnTo>
                    <a:pt x="11622" y="11309"/>
                  </a:lnTo>
                  <a:lnTo>
                    <a:pt x="11301" y="11631"/>
                  </a:lnTo>
                  <a:lnTo>
                    <a:pt x="11000" y="11973"/>
                  </a:lnTo>
                  <a:lnTo>
                    <a:pt x="10754" y="12371"/>
                  </a:lnTo>
                  <a:lnTo>
                    <a:pt x="10509" y="12770"/>
                  </a:lnTo>
                  <a:lnTo>
                    <a:pt x="10320" y="13206"/>
                  </a:lnTo>
                  <a:lnTo>
                    <a:pt x="10169" y="13643"/>
                  </a:lnTo>
                  <a:lnTo>
                    <a:pt x="10094" y="14079"/>
                  </a:lnTo>
                  <a:lnTo>
                    <a:pt x="10018" y="14535"/>
                  </a:lnTo>
                  <a:lnTo>
                    <a:pt x="10000" y="15009"/>
                  </a:lnTo>
                  <a:lnTo>
                    <a:pt x="10018" y="15464"/>
                  </a:lnTo>
                  <a:lnTo>
                    <a:pt x="10094" y="15939"/>
                  </a:lnTo>
                  <a:lnTo>
                    <a:pt x="10188" y="16375"/>
                  </a:lnTo>
                  <a:lnTo>
                    <a:pt x="10339" y="16812"/>
                  </a:lnTo>
                  <a:lnTo>
                    <a:pt x="10509" y="17248"/>
                  </a:lnTo>
                  <a:lnTo>
                    <a:pt x="10754" y="17628"/>
                  </a:lnTo>
                  <a:lnTo>
                    <a:pt x="11000" y="18007"/>
                  </a:lnTo>
                  <a:lnTo>
                    <a:pt x="11301" y="18368"/>
                  </a:lnTo>
                  <a:lnTo>
                    <a:pt x="11622" y="18690"/>
                  </a:lnTo>
                  <a:lnTo>
                    <a:pt x="11981" y="18994"/>
                  </a:lnTo>
                  <a:lnTo>
                    <a:pt x="12377" y="19259"/>
                  </a:lnTo>
                  <a:lnTo>
                    <a:pt x="12773" y="19468"/>
                  </a:lnTo>
                  <a:lnTo>
                    <a:pt x="13207" y="19658"/>
                  </a:lnTo>
                  <a:lnTo>
                    <a:pt x="13622" y="19810"/>
                  </a:lnTo>
                  <a:lnTo>
                    <a:pt x="14094" y="19924"/>
                  </a:lnTo>
                  <a:lnTo>
                    <a:pt x="14547" y="19981"/>
                  </a:lnTo>
                  <a:lnTo>
                    <a:pt x="15018" y="20000"/>
                  </a:lnTo>
                  <a:lnTo>
                    <a:pt x="15452" y="19962"/>
                  </a:lnTo>
                  <a:lnTo>
                    <a:pt x="15924" y="19905"/>
                  </a:lnTo>
                  <a:lnTo>
                    <a:pt x="16377" y="19810"/>
                  </a:lnTo>
                  <a:lnTo>
                    <a:pt x="16830" y="19658"/>
                  </a:lnTo>
                  <a:lnTo>
                    <a:pt x="17226" y="19468"/>
                  </a:lnTo>
                  <a:lnTo>
                    <a:pt x="17641" y="19240"/>
                  </a:lnTo>
                  <a:lnTo>
                    <a:pt x="18018" y="18975"/>
                  </a:lnTo>
                  <a:lnTo>
                    <a:pt x="18377" y="18690"/>
                  </a:lnTo>
                  <a:lnTo>
                    <a:pt x="18698" y="18349"/>
                  </a:lnTo>
                  <a:lnTo>
                    <a:pt x="19000" y="18007"/>
                  </a:lnTo>
                  <a:lnTo>
                    <a:pt x="19264" y="17628"/>
                  </a:lnTo>
                  <a:lnTo>
                    <a:pt x="19490" y="17210"/>
                  </a:lnTo>
                  <a:lnTo>
                    <a:pt x="19679" y="16793"/>
                  </a:lnTo>
                  <a:lnTo>
                    <a:pt x="19830" y="16356"/>
                  </a:lnTo>
                  <a:lnTo>
                    <a:pt x="19924" y="15901"/>
                  </a:lnTo>
                  <a:lnTo>
                    <a:pt x="19981" y="15464"/>
                  </a:lnTo>
                  <a:lnTo>
                    <a:pt x="20000" y="14990"/>
                  </a:lnTo>
                  <a:lnTo>
                    <a:pt x="20000" y="14990"/>
                  </a:lnTo>
                  <a:close/>
                  <a:moveTo>
                    <a:pt x="20000" y="1499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17960" y="1299960"/>
              <a:ext cx="268200" cy="6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8" y="20000"/>
                  </a:moveTo>
                  <a:lnTo>
                    <a:pt x="10118" y="20000"/>
                  </a:lnTo>
                  <a:lnTo>
                    <a:pt x="10105" y="20000"/>
                  </a:lnTo>
                  <a:lnTo>
                    <a:pt x="10092" y="20000"/>
                  </a:lnTo>
                  <a:lnTo>
                    <a:pt x="10065" y="18947"/>
                  </a:lnTo>
                  <a:lnTo>
                    <a:pt x="10052" y="18947"/>
                  </a:lnTo>
                  <a:lnTo>
                    <a:pt x="10039" y="17894"/>
                  </a:lnTo>
                  <a:lnTo>
                    <a:pt x="10013" y="17368"/>
                  </a:lnTo>
                  <a:lnTo>
                    <a:pt x="10013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3" y="13684"/>
                  </a:lnTo>
                  <a:lnTo>
                    <a:pt x="10013" y="12631"/>
                  </a:lnTo>
                  <a:lnTo>
                    <a:pt x="10039" y="12105"/>
                  </a:lnTo>
                  <a:lnTo>
                    <a:pt x="10052" y="11578"/>
                  </a:lnTo>
                  <a:lnTo>
                    <a:pt x="10065" y="11052"/>
                  </a:lnTo>
                  <a:lnTo>
                    <a:pt x="10092" y="11052"/>
                  </a:lnTo>
                  <a:lnTo>
                    <a:pt x="10105" y="10000"/>
                  </a:lnTo>
                  <a:lnTo>
                    <a:pt x="10118" y="10000"/>
                  </a:lnTo>
                  <a:lnTo>
                    <a:pt x="10118" y="10000"/>
                  </a:lnTo>
                  <a:lnTo>
                    <a:pt x="19881" y="10000"/>
                  </a:lnTo>
                  <a:lnTo>
                    <a:pt x="19881" y="10000"/>
                  </a:lnTo>
                  <a:lnTo>
                    <a:pt x="19894" y="10000"/>
                  </a:lnTo>
                  <a:lnTo>
                    <a:pt x="19920" y="11052"/>
                  </a:lnTo>
                  <a:lnTo>
                    <a:pt x="19934" y="11052"/>
                  </a:lnTo>
                  <a:lnTo>
                    <a:pt x="19947" y="11578"/>
                  </a:lnTo>
                  <a:lnTo>
                    <a:pt x="19986" y="12105"/>
                  </a:lnTo>
                  <a:lnTo>
                    <a:pt x="19986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6" y="17368"/>
                  </a:lnTo>
                  <a:lnTo>
                    <a:pt x="19986" y="17894"/>
                  </a:lnTo>
                  <a:lnTo>
                    <a:pt x="19947" y="18947"/>
                  </a:lnTo>
                  <a:lnTo>
                    <a:pt x="19934" y="18947"/>
                  </a:lnTo>
                  <a:lnTo>
                    <a:pt x="19920" y="20000"/>
                  </a:lnTo>
                  <a:lnTo>
                    <a:pt x="19894" y="20000"/>
                  </a:lnTo>
                  <a:lnTo>
                    <a:pt x="19881" y="20000"/>
                  </a:lnTo>
                  <a:lnTo>
                    <a:pt x="19881" y="20000"/>
                  </a:lnTo>
                  <a:lnTo>
                    <a:pt x="10118" y="20000"/>
                  </a:lnTo>
                  <a:close/>
                  <a:moveTo>
                    <a:pt x="1011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68920" y="1299960"/>
              <a:ext cx="279360" cy="6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3" y="20000"/>
                  </a:moveTo>
                  <a:lnTo>
                    <a:pt x="10113" y="20000"/>
                  </a:lnTo>
                  <a:lnTo>
                    <a:pt x="10101" y="20000"/>
                  </a:lnTo>
                  <a:lnTo>
                    <a:pt x="10075" y="20000"/>
                  </a:lnTo>
                  <a:lnTo>
                    <a:pt x="10050" y="18947"/>
                  </a:lnTo>
                  <a:lnTo>
                    <a:pt x="10037" y="18947"/>
                  </a:lnTo>
                  <a:lnTo>
                    <a:pt x="10025" y="17894"/>
                  </a:lnTo>
                  <a:lnTo>
                    <a:pt x="10012" y="17368"/>
                  </a:lnTo>
                  <a:lnTo>
                    <a:pt x="10012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2" y="13684"/>
                  </a:lnTo>
                  <a:lnTo>
                    <a:pt x="10012" y="12631"/>
                  </a:lnTo>
                  <a:lnTo>
                    <a:pt x="10025" y="12105"/>
                  </a:lnTo>
                  <a:lnTo>
                    <a:pt x="10037" y="11578"/>
                  </a:lnTo>
                  <a:lnTo>
                    <a:pt x="10050" y="11052"/>
                  </a:lnTo>
                  <a:lnTo>
                    <a:pt x="10075" y="11052"/>
                  </a:lnTo>
                  <a:lnTo>
                    <a:pt x="10101" y="10000"/>
                  </a:lnTo>
                  <a:lnTo>
                    <a:pt x="10113" y="10000"/>
                  </a:lnTo>
                  <a:lnTo>
                    <a:pt x="10113" y="10000"/>
                  </a:lnTo>
                  <a:lnTo>
                    <a:pt x="19886" y="10000"/>
                  </a:lnTo>
                  <a:lnTo>
                    <a:pt x="19886" y="10000"/>
                  </a:lnTo>
                  <a:lnTo>
                    <a:pt x="19898" y="10000"/>
                  </a:lnTo>
                  <a:lnTo>
                    <a:pt x="19924" y="11052"/>
                  </a:lnTo>
                  <a:lnTo>
                    <a:pt x="19949" y="11052"/>
                  </a:lnTo>
                  <a:lnTo>
                    <a:pt x="19962" y="11578"/>
                  </a:lnTo>
                  <a:lnTo>
                    <a:pt x="19987" y="12105"/>
                  </a:lnTo>
                  <a:lnTo>
                    <a:pt x="19987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7" y="17368"/>
                  </a:lnTo>
                  <a:lnTo>
                    <a:pt x="19987" y="17894"/>
                  </a:lnTo>
                  <a:lnTo>
                    <a:pt x="19962" y="18947"/>
                  </a:lnTo>
                  <a:lnTo>
                    <a:pt x="19949" y="18947"/>
                  </a:lnTo>
                  <a:lnTo>
                    <a:pt x="19924" y="20000"/>
                  </a:lnTo>
                  <a:lnTo>
                    <a:pt x="19898" y="20000"/>
                  </a:lnTo>
                  <a:lnTo>
                    <a:pt x="19886" y="20000"/>
                  </a:lnTo>
                  <a:lnTo>
                    <a:pt x="19886" y="20000"/>
                  </a:lnTo>
                  <a:lnTo>
                    <a:pt x="10113" y="20000"/>
                  </a:lnTo>
                  <a:close/>
                  <a:moveTo>
                    <a:pt x="10113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92600" y="1485720"/>
              <a:ext cx="280800" cy="330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6164" y="10000"/>
                  </a:moveTo>
                  <a:lnTo>
                    <a:pt x="16278" y="10230"/>
                  </a:lnTo>
                  <a:lnTo>
                    <a:pt x="16594" y="10723"/>
                  </a:lnTo>
                  <a:lnTo>
                    <a:pt x="17088" y="11488"/>
                  </a:lnTo>
                  <a:lnTo>
                    <a:pt x="17658" y="12547"/>
                  </a:lnTo>
                  <a:lnTo>
                    <a:pt x="18291" y="13909"/>
                  </a:lnTo>
                  <a:lnTo>
                    <a:pt x="18924" y="15587"/>
                  </a:lnTo>
                  <a:lnTo>
                    <a:pt x="19518" y="17620"/>
                  </a:lnTo>
                  <a:lnTo>
                    <a:pt x="20000" y="20000"/>
                  </a:lnTo>
                  <a:lnTo>
                    <a:pt x="16518" y="18836"/>
                  </a:lnTo>
                  <a:lnTo>
                    <a:pt x="13974" y="17547"/>
                  </a:lnTo>
                  <a:lnTo>
                    <a:pt x="12189" y="16205"/>
                  </a:lnTo>
                  <a:lnTo>
                    <a:pt x="11025" y="14916"/>
                  </a:lnTo>
                  <a:lnTo>
                    <a:pt x="10367" y="13752"/>
                  </a:lnTo>
                  <a:lnTo>
                    <a:pt x="10088" y="12819"/>
                  </a:lnTo>
                  <a:lnTo>
                    <a:pt x="10000" y="12201"/>
                  </a:lnTo>
                  <a:lnTo>
                    <a:pt x="10012" y="11991"/>
                  </a:lnTo>
                  <a:lnTo>
                    <a:pt x="10658" y="12693"/>
                  </a:lnTo>
                  <a:lnTo>
                    <a:pt x="11493" y="13469"/>
                  </a:lnTo>
                  <a:lnTo>
                    <a:pt x="12481" y="14266"/>
                  </a:lnTo>
                  <a:lnTo>
                    <a:pt x="13582" y="15052"/>
                  </a:lnTo>
                  <a:lnTo>
                    <a:pt x="14708" y="15849"/>
                  </a:lnTo>
                  <a:lnTo>
                    <a:pt x="15848" y="16614"/>
                  </a:lnTo>
                  <a:lnTo>
                    <a:pt x="16936" y="17316"/>
                  </a:lnTo>
                  <a:lnTo>
                    <a:pt x="17962" y="17966"/>
                  </a:lnTo>
                  <a:lnTo>
                    <a:pt x="17253" y="16666"/>
                  </a:lnTo>
                  <a:lnTo>
                    <a:pt x="16772" y="15324"/>
                  </a:lnTo>
                  <a:lnTo>
                    <a:pt x="16443" y="14004"/>
                  </a:lnTo>
                  <a:lnTo>
                    <a:pt x="16253" y="12746"/>
                  </a:lnTo>
                  <a:lnTo>
                    <a:pt x="16164" y="11645"/>
                  </a:lnTo>
                  <a:lnTo>
                    <a:pt x="16139" y="10775"/>
                  </a:lnTo>
                  <a:lnTo>
                    <a:pt x="16151" y="10199"/>
                  </a:lnTo>
                  <a:lnTo>
                    <a:pt x="16164" y="10000"/>
                  </a:lnTo>
                  <a:close/>
                  <a:moveTo>
                    <a:pt x="1616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5840" y="946080"/>
              <a:ext cx="185760" cy="358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00" y="10000"/>
                  </a:moveTo>
                  <a:lnTo>
                    <a:pt x="12366" y="11350"/>
                  </a:lnTo>
                  <a:lnTo>
                    <a:pt x="12366" y="12352"/>
                  </a:lnTo>
                  <a:lnTo>
                    <a:pt x="12423" y="13114"/>
                  </a:lnTo>
                  <a:lnTo>
                    <a:pt x="12557" y="13712"/>
                  </a:lnTo>
                  <a:lnTo>
                    <a:pt x="12729" y="14271"/>
                  </a:lnTo>
                  <a:lnTo>
                    <a:pt x="12881" y="14879"/>
                  </a:lnTo>
                  <a:lnTo>
                    <a:pt x="13034" y="15650"/>
                  </a:lnTo>
                  <a:lnTo>
                    <a:pt x="13148" y="16673"/>
                  </a:lnTo>
                  <a:lnTo>
                    <a:pt x="13511" y="16364"/>
                  </a:lnTo>
                  <a:lnTo>
                    <a:pt x="14064" y="15930"/>
                  </a:lnTo>
                  <a:lnTo>
                    <a:pt x="14809" y="15400"/>
                  </a:lnTo>
                  <a:lnTo>
                    <a:pt x="15667" y="14792"/>
                  </a:lnTo>
                  <a:lnTo>
                    <a:pt x="16641" y="14194"/>
                  </a:lnTo>
                  <a:lnTo>
                    <a:pt x="17690" y="13616"/>
                  </a:lnTo>
                  <a:lnTo>
                    <a:pt x="18816" y="13105"/>
                  </a:lnTo>
                  <a:lnTo>
                    <a:pt x="20000" y="12719"/>
                  </a:lnTo>
                  <a:lnTo>
                    <a:pt x="18568" y="14484"/>
                  </a:lnTo>
                  <a:lnTo>
                    <a:pt x="17347" y="15824"/>
                  </a:lnTo>
                  <a:lnTo>
                    <a:pt x="16297" y="16827"/>
                  </a:lnTo>
                  <a:lnTo>
                    <a:pt x="15362" y="17589"/>
                  </a:lnTo>
                  <a:lnTo>
                    <a:pt x="14541" y="18196"/>
                  </a:lnTo>
                  <a:lnTo>
                    <a:pt x="13835" y="18746"/>
                  </a:lnTo>
                  <a:lnTo>
                    <a:pt x="13206" y="19315"/>
                  </a:lnTo>
                  <a:lnTo>
                    <a:pt x="12614" y="20000"/>
                  </a:lnTo>
                  <a:lnTo>
                    <a:pt x="11164" y="17820"/>
                  </a:lnTo>
                  <a:lnTo>
                    <a:pt x="10305" y="16017"/>
                  </a:lnTo>
                  <a:lnTo>
                    <a:pt x="10000" y="14541"/>
                  </a:lnTo>
                  <a:lnTo>
                    <a:pt x="10076" y="13346"/>
                  </a:lnTo>
                  <a:lnTo>
                    <a:pt x="10458" y="12343"/>
                  </a:lnTo>
                  <a:lnTo>
                    <a:pt x="11068" y="11494"/>
                  </a:lnTo>
                  <a:lnTo>
                    <a:pt x="11774" y="10732"/>
                  </a:lnTo>
                  <a:lnTo>
                    <a:pt x="12500" y="10000"/>
                  </a:lnTo>
                  <a:close/>
                  <a:moveTo>
                    <a:pt x="125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6960" y="946080"/>
              <a:ext cx="185760" cy="358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14" y="10000"/>
                  </a:moveTo>
                  <a:lnTo>
                    <a:pt x="17629" y="11350"/>
                  </a:lnTo>
                  <a:lnTo>
                    <a:pt x="17629" y="12352"/>
                  </a:lnTo>
                  <a:lnTo>
                    <a:pt x="17533" y="13114"/>
                  </a:lnTo>
                  <a:lnTo>
                    <a:pt x="17418" y="13712"/>
                  </a:lnTo>
                  <a:lnTo>
                    <a:pt x="17265" y="14271"/>
                  </a:lnTo>
                  <a:lnTo>
                    <a:pt x="17093" y="14879"/>
                  </a:lnTo>
                  <a:lnTo>
                    <a:pt x="16940" y="15650"/>
                  </a:lnTo>
                  <a:lnTo>
                    <a:pt x="16845" y="16673"/>
                  </a:lnTo>
                  <a:lnTo>
                    <a:pt x="16462" y="16364"/>
                  </a:lnTo>
                  <a:lnTo>
                    <a:pt x="15908" y="15930"/>
                  </a:lnTo>
                  <a:lnTo>
                    <a:pt x="15181" y="15400"/>
                  </a:lnTo>
                  <a:lnTo>
                    <a:pt x="14321" y="14792"/>
                  </a:lnTo>
                  <a:lnTo>
                    <a:pt x="13346" y="14194"/>
                  </a:lnTo>
                  <a:lnTo>
                    <a:pt x="12294" y="13616"/>
                  </a:lnTo>
                  <a:lnTo>
                    <a:pt x="11166" y="13105"/>
                  </a:lnTo>
                  <a:lnTo>
                    <a:pt x="10000" y="12719"/>
                  </a:lnTo>
                  <a:lnTo>
                    <a:pt x="11395" y="14484"/>
                  </a:lnTo>
                  <a:lnTo>
                    <a:pt x="12638" y="15824"/>
                  </a:lnTo>
                  <a:lnTo>
                    <a:pt x="13690" y="16827"/>
                  </a:lnTo>
                  <a:lnTo>
                    <a:pt x="14627" y="17589"/>
                  </a:lnTo>
                  <a:lnTo>
                    <a:pt x="15430" y="18196"/>
                  </a:lnTo>
                  <a:lnTo>
                    <a:pt x="16137" y="18746"/>
                  </a:lnTo>
                  <a:lnTo>
                    <a:pt x="16787" y="19315"/>
                  </a:lnTo>
                  <a:lnTo>
                    <a:pt x="17361" y="20000"/>
                  </a:lnTo>
                  <a:lnTo>
                    <a:pt x="18833" y="17820"/>
                  </a:lnTo>
                  <a:lnTo>
                    <a:pt x="19674" y="16017"/>
                  </a:lnTo>
                  <a:lnTo>
                    <a:pt x="20000" y="14541"/>
                  </a:lnTo>
                  <a:lnTo>
                    <a:pt x="19923" y="13346"/>
                  </a:lnTo>
                  <a:lnTo>
                    <a:pt x="19521" y="12343"/>
                  </a:lnTo>
                  <a:lnTo>
                    <a:pt x="18929" y="11494"/>
                  </a:lnTo>
                  <a:lnTo>
                    <a:pt x="18221" y="10732"/>
                  </a:lnTo>
                  <a:lnTo>
                    <a:pt x="17514" y="10000"/>
                  </a:lnTo>
                  <a:close/>
                  <a:moveTo>
                    <a:pt x="1751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17960" y="1898280"/>
              <a:ext cx="1047960" cy="15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123" y="11714"/>
                  </a:moveTo>
                  <a:lnTo>
                    <a:pt x="15945" y="10351"/>
                  </a:lnTo>
                  <a:lnTo>
                    <a:pt x="16624" y="10000"/>
                  </a:lnTo>
                  <a:lnTo>
                    <a:pt x="17203" y="10329"/>
                  </a:lnTo>
                  <a:lnTo>
                    <a:pt x="17720" y="11076"/>
                  </a:lnTo>
                  <a:lnTo>
                    <a:pt x="18214" y="11912"/>
                  </a:lnTo>
                  <a:lnTo>
                    <a:pt x="18735" y="12615"/>
                  </a:lnTo>
                  <a:lnTo>
                    <a:pt x="19316" y="12835"/>
                  </a:lnTo>
                  <a:lnTo>
                    <a:pt x="20000" y="12351"/>
                  </a:lnTo>
                  <a:lnTo>
                    <a:pt x="19310" y="14945"/>
                  </a:lnTo>
                  <a:lnTo>
                    <a:pt x="18630" y="16043"/>
                  </a:lnTo>
                  <a:lnTo>
                    <a:pt x="17970" y="15978"/>
                  </a:lnTo>
                  <a:lnTo>
                    <a:pt x="17341" y="15208"/>
                  </a:lnTo>
                  <a:lnTo>
                    <a:pt x="16760" y="14065"/>
                  </a:lnTo>
                  <a:lnTo>
                    <a:pt x="16232" y="12989"/>
                  </a:lnTo>
                  <a:lnTo>
                    <a:pt x="15769" y="12285"/>
                  </a:lnTo>
                  <a:lnTo>
                    <a:pt x="15393" y="12417"/>
                  </a:lnTo>
                  <a:lnTo>
                    <a:pt x="15793" y="13758"/>
                  </a:lnTo>
                  <a:lnTo>
                    <a:pt x="16141" y="15098"/>
                  </a:lnTo>
                  <a:lnTo>
                    <a:pt x="16438" y="16351"/>
                  </a:lnTo>
                  <a:lnTo>
                    <a:pt x="16682" y="17494"/>
                  </a:lnTo>
                  <a:lnTo>
                    <a:pt x="16875" y="18505"/>
                  </a:lnTo>
                  <a:lnTo>
                    <a:pt x="17010" y="19252"/>
                  </a:lnTo>
                  <a:lnTo>
                    <a:pt x="17091" y="19736"/>
                  </a:lnTo>
                  <a:lnTo>
                    <a:pt x="17122" y="19934"/>
                  </a:lnTo>
                  <a:lnTo>
                    <a:pt x="17098" y="19934"/>
                  </a:lnTo>
                  <a:lnTo>
                    <a:pt x="17047" y="19934"/>
                  </a:lnTo>
                  <a:lnTo>
                    <a:pt x="16966" y="19934"/>
                  </a:lnTo>
                  <a:lnTo>
                    <a:pt x="16878" y="19934"/>
                  </a:lnTo>
                  <a:lnTo>
                    <a:pt x="16787" y="19934"/>
                  </a:lnTo>
                  <a:lnTo>
                    <a:pt x="16709" y="19934"/>
                  </a:lnTo>
                  <a:lnTo>
                    <a:pt x="16652" y="19934"/>
                  </a:lnTo>
                  <a:lnTo>
                    <a:pt x="16631" y="19934"/>
                  </a:lnTo>
                  <a:lnTo>
                    <a:pt x="16587" y="19626"/>
                  </a:lnTo>
                  <a:lnTo>
                    <a:pt x="16462" y="18791"/>
                  </a:lnTo>
                  <a:lnTo>
                    <a:pt x="16276" y="17648"/>
                  </a:lnTo>
                  <a:lnTo>
                    <a:pt x="16056" y="16329"/>
                  </a:lnTo>
                  <a:lnTo>
                    <a:pt x="15806" y="14989"/>
                  </a:lnTo>
                  <a:lnTo>
                    <a:pt x="15559" y="13846"/>
                  </a:lnTo>
                  <a:lnTo>
                    <a:pt x="15322" y="13032"/>
                  </a:lnTo>
                  <a:lnTo>
                    <a:pt x="15123" y="12725"/>
                  </a:lnTo>
                  <a:lnTo>
                    <a:pt x="14890" y="13010"/>
                  </a:lnTo>
                  <a:lnTo>
                    <a:pt x="14633" y="13802"/>
                  </a:lnTo>
                  <a:lnTo>
                    <a:pt x="14362" y="14945"/>
                  </a:lnTo>
                  <a:lnTo>
                    <a:pt x="14102" y="16285"/>
                  </a:lnTo>
                  <a:lnTo>
                    <a:pt x="13868" y="17604"/>
                  </a:lnTo>
                  <a:lnTo>
                    <a:pt x="13682" y="18769"/>
                  </a:lnTo>
                  <a:lnTo>
                    <a:pt x="13554" y="19626"/>
                  </a:lnTo>
                  <a:lnTo>
                    <a:pt x="13510" y="19934"/>
                  </a:lnTo>
                  <a:lnTo>
                    <a:pt x="13500" y="19912"/>
                  </a:lnTo>
                  <a:lnTo>
                    <a:pt x="13473" y="19912"/>
                  </a:lnTo>
                  <a:lnTo>
                    <a:pt x="13429" y="19912"/>
                  </a:lnTo>
                  <a:lnTo>
                    <a:pt x="13375" y="19912"/>
                  </a:lnTo>
                  <a:lnTo>
                    <a:pt x="13314" y="19912"/>
                  </a:lnTo>
                  <a:lnTo>
                    <a:pt x="13243" y="19934"/>
                  </a:lnTo>
                  <a:lnTo>
                    <a:pt x="13168" y="19934"/>
                  </a:lnTo>
                  <a:lnTo>
                    <a:pt x="13097" y="20000"/>
                  </a:lnTo>
                  <a:lnTo>
                    <a:pt x="13114" y="19824"/>
                  </a:lnTo>
                  <a:lnTo>
                    <a:pt x="13185" y="19340"/>
                  </a:lnTo>
                  <a:lnTo>
                    <a:pt x="13300" y="18593"/>
                  </a:lnTo>
                  <a:lnTo>
                    <a:pt x="13473" y="17648"/>
                  </a:lnTo>
                  <a:lnTo>
                    <a:pt x="13699" y="16505"/>
                  </a:lnTo>
                  <a:lnTo>
                    <a:pt x="13990" y="15208"/>
                  </a:lnTo>
                  <a:lnTo>
                    <a:pt x="14352" y="13846"/>
                  </a:lnTo>
                  <a:lnTo>
                    <a:pt x="14781" y="12417"/>
                  </a:lnTo>
                  <a:lnTo>
                    <a:pt x="14355" y="12285"/>
                  </a:lnTo>
                  <a:lnTo>
                    <a:pt x="13872" y="13010"/>
                  </a:lnTo>
                  <a:lnTo>
                    <a:pt x="13334" y="14153"/>
                  </a:lnTo>
                  <a:lnTo>
                    <a:pt x="12752" y="15296"/>
                  </a:lnTo>
                  <a:lnTo>
                    <a:pt x="12123" y="16043"/>
                  </a:lnTo>
                  <a:lnTo>
                    <a:pt x="11450" y="15934"/>
                  </a:lnTo>
                  <a:lnTo>
                    <a:pt x="10740" y="14571"/>
                  </a:lnTo>
                  <a:lnTo>
                    <a:pt x="10000" y="11538"/>
                  </a:lnTo>
                  <a:lnTo>
                    <a:pt x="10693" y="12615"/>
                  </a:lnTo>
                  <a:lnTo>
                    <a:pt x="11274" y="12725"/>
                  </a:lnTo>
                  <a:lnTo>
                    <a:pt x="11792" y="12263"/>
                  </a:lnTo>
                  <a:lnTo>
                    <a:pt x="12292" y="11472"/>
                  </a:lnTo>
                  <a:lnTo>
                    <a:pt x="12830" y="10725"/>
                  </a:lnTo>
                  <a:lnTo>
                    <a:pt x="13446" y="10263"/>
                  </a:lnTo>
                  <a:lnTo>
                    <a:pt x="14193" y="10505"/>
                  </a:lnTo>
                  <a:lnTo>
                    <a:pt x="15123" y="11714"/>
                  </a:lnTo>
                  <a:close/>
                  <a:moveTo>
                    <a:pt x="15123" y="1171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24440" y="803160"/>
              <a:ext cx="1027080" cy="996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5000"/>
                  </a:moveTo>
                  <a:lnTo>
                    <a:pt x="10103" y="16002"/>
                  </a:lnTo>
                  <a:lnTo>
                    <a:pt x="10392" y="16938"/>
                  </a:lnTo>
                  <a:lnTo>
                    <a:pt x="10854" y="17787"/>
                  </a:lnTo>
                  <a:lnTo>
                    <a:pt x="11465" y="18526"/>
                  </a:lnTo>
                  <a:lnTo>
                    <a:pt x="12206" y="19140"/>
                  </a:lnTo>
                  <a:lnTo>
                    <a:pt x="13054" y="19601"/>
                  </a:lnTo>
                  <a:lnTo>
                    <a:pt x="13995" y="19895"/>
                  </a:lnTo>
                  <a:lnTo>
                    <a:pt x="14998" y="20000"/>
                  </a:lnTo>
                  <a:lnTo>
                    <a:pt x="16001" y="19895"/>
                  </a:lnTo>
                  <a:lnTo>
                    <a:pt x="16938" y="19601"/>
                  </a:lnTo>
                  <a:lnTo>
                    <a:pt x="17790" y="19140"/>
                  </a:lnTo>
                  <a:lnTo>
                    <a:pt x="18531" y="18526"/>
                  </a:lnTo>
                  <a:lnTo>
                    <a:pt x="19141" y="17787"/>
                  </a:lnTo>
                  <a:lnTo>
                    <a:pt x="19603" y="16938"/>
                  </a:lnTo>
                  <a:lnTo>
                    <a:pt x="19893" y="16002"/>
                  </a:lnTo>
                  <a:lnTo>
                    <a:pt x="20000" y="15000"/>
                  </a:lnTo>
                  <a:lnTo>
                    <a:pt x="19893" y="13990"/>
                  </a:lnTo>
                  <a:lnTo>
                    <a:pt x="19603" y="13054"/>
                  </a:lnTo>
                  <a:lnTo>
                    <a:pt x="19141" y="12208"/>
                  </a:lnTo>
                  <a:lnTo>
                    <a:pt x="18531" y="11466"/>
                  </a:lnTo>
                  <a:lnTo>
                    <a:pt x="17790" y="10852"/>
                  </a:lnTo>
                  <a:lnTo>
                    <a:pt x="16938" y="10391"/>
                  </a:lnTo>
                  <a:lnTo>
                    <a:pt x="16001" y="10097"/>
                  </a:lnTo>
                  <a:lnTo>
                    <a:pt x="14998" y="10000"/>
                  </a:lnTo>
                  <a:lnTo>
                    <a:pt x="13995" y="10097"/>
                  </a:lnTo>
                  <a:lnTo>
                    <a:pt x="13054" y="10391"/>
                  </a:lnTo>
                  <a:lnTo>
                    <a:pt x="12206" y="10852"/>
                  </a:lnTo>
                  <a:lnTo>
                    <a:pt x="11465" y="11466"/>
                  </a:lnTo>
                  <a:lnTo>
                    <a:pt x="10854" y="12208"/>
                  </a:lnTo>
                  <a:lnTo>
                    <a:pt x="10392" y="13054"/>
                  </a:lnTo>
                  <a:lnTo>
                    <a:pt x="10103" y="13990"/>
                  </a:lnTo>
                  <a:lnTo>
                    <a:pt x="10000" y="15000"/>
                  </a:lnTo>
                  <a:close/>
                  <a:moveTo>
                    <a:pt x="10000" y="15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36920" y="1103040"/>
              <a:ext cx="406440" cy="393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1"/>
                  </a:moveTo>
                  <a:lnTo>
                    <a:pt x="19991" y="14676"/>
                  </a:lnTo>
                  <a:lnTo>
                    <a:pt x="19965" y="14361"/>
                  </a:lnTo>
                  <a:lnTo>
                    <a:pt x="19912" y="14055"/>
                  </a:lnTo>
                  <a:lnTo>
                    <a:pt x="19843" y="13750"/>
                  </a:lnTo>
                  <a:lnTo>
                    <a:pt x="19755" y="13452"/>
                  </a:lnTo>
                  <a:lnTo>
                    <a:pt x="19642" y="13155"/>
                  </a:lnTo>
                  <a:lnTo>
                    <a:pt x="19529" y="12867"/>
                  </a:lnTo>
                  <a:lnTo>
                    <a:pt x="19380" y="12587"/>
                  </a:lnTo>
                  <a:lnTo>
                    <a:pt x="19224" y="12316"/>
                  </a:lnTo>
                  <a:lnTo>
                    <a:pt x="19040" y="12062"/>
                  </a:lnTo>
                  <a:lnTo>
                    <a:pt x="18849" y="11809"/>
                  </a:lnTo>
                  <a:lnTo>
                    <a:pt x="18639" y="11573"/>
                  </a:lnTo>
                  <a:lnTo>
                    <a:pt x="18421" y="11346"/>
                  </a:lnTo>
                  <a:lnTo>
                    <a:pt x="18186" y="11136"/>
                  </a:lnTo>
                  <a:lnTo>
                    <a:pt x="17933" y="10952"/>
                  </a:lnTo>
                  <a:lnTo>
                    <a:pt x="17672" y="10777"/>
                  </a:lnTo>
                  <a:lnTo>
                    <a:pt x="17410" y="10611"/>
                  </a:lnTo>
                  <a:lnTo>
                    <a:pt x="17122" y="10480"/>
                  </a:lnTo>
                  <a:lnTo>
                    <a:pt x="16835" y="10349"/>
                  </a:lnTo>
                  <a:lnTo>
                    <a:pt x="16538" y="10244"/>
                  </a:lnTo>
                  <a:lnTo>
                    <a:pt x="16233" y="10148"/>
                  </a:lnTo>
                  <a:lnTo>
                    <a:pt x="15928" y="10096"/>
                  </a:lnTo>
                  <a:lnTo>
                    <a:pt x="15614" y="10043"/>
                  </a:lnTo>
                  <a:lnTo>
                    <a:pt x="15309" y="10008"/>
                  </a:lnTo>
                  <a:lnTo>
                    <a:pt x="14995" y="10000"/>
                  </a:lnTo>
                  <a:lnTo>
                    <a:pt x="14681" y="10008"/>
                  </a:lnTo>
                  <a:lnTo>
                    <a:pt x="14367" y="10043"/>
                  </a:lnTo>
                  <a:lnTo>
                    <a:pt x="14054" y="10096"/>
                  </a:lnTo>
                  <a:lnTo>
                    <a:pt x="13748" y="10157"/>
                  </a:lnTo>
                  <a:lnTo>
                    <a:pt x="13443" y="10253"/>
                  </a:lnTo>
                  <a:lnTo>
                    <a:pt x="13147" y="10349"/>
                  </a:lnTo>
                  <a:lnTo>
                    <a:pt x="12868" y="10480"/>
                  </a:lnTo>
                  <a:lnTo>
                    <a:pt x="12580" y="10629"/>
                  </a:lnTo>
                  <a:lnTo>
                    <a:pt x="12310" y="10786"/>
                  </a:lnTo>
                  <a:lnTo>
                    <a:pt x="12048" y="10961"/>
                  </a:lnTo>
                  <a:lnTo>
                    <a:pt x="11804" y="11153"/>
                  </a:lnTo>
                  <a:lnTo>
                    <a:pt x="11560" y="11354"/>
                  </a:lnTo>
                  <a:lnTo>
                    <a:pt x="11351" y="11582"/>
                  </a:lnTo>
                  <a:lnTo>
                    <a:pt x="11142" y="11818"/>
                  </a:lnTo>
                  <a:lnTo>
                    <a:pt x="10941" y="12071"/>
                  </a:lnTo>
                  <a:lnTo>
                    <a:pt x="10767" y="12325"/>
                  </a:lnTo>
                  <a:lnTo>
                    <a:pt x="10610" y="12596"/>
                  </a:lnTo>
                  <a:lnTo>
                    <a:pt x="10470" y="12875"/>
                  </a:lnTo>
                  <a:lnTo>
                    <a:pt x="10340" y="13164"/>
                  </a:lnTo>
                  <a:lnTo>
                    <a:pt x="10235" y="13461"/>
                  </a:lnTo>
                  <a:lnTo>
                    <a:pt x="10148" y="13758"/>
                  </a:lnTo>
                  <a:lnTo>
                    <a:pt x="10078" y="14064"/>
                  </a:lnTo>
                  <a:lnTo>
                    <a:pt x="10034" y="14379"/>
                  </a:lnTo>
                  <a:lnTo>
                    <a:pt x="10008" y="14685"/>
                  </a:lnTo>
                  <a:lnTo>
                    <a:pt x="10000" y="15008"/>
                  </a:lnTo>
                  <a:lnTo>
                    <a:pt x="10008" y="15323"/>
                  </a:lnTo>
                  <a:lnTo>
                    <a:pt x="10034" y="15638"/>
                  </a:lnTo>
                  <a:lnTo>
                    <a:pt x="10087" y="15944"/>
                  </a:lnTo>
                  <a:lnTo>
                    <a:pt x="10156" y="16250"/>
                  </a:lnTo>
                  <a:lnTo>
                    <a:pt x="10244" y="16555"/>
                  </a:lnTo>
                  <a:lnTo>
                    <a:pt x="10348" y="16844"/>
                  </a:lnTo>
                  <a:lnTo>
                    <a:pt x="10470" y="17141"/>
                  </a:lnTo>
                  <a:lnTo>
                    <a:pt x="10619" y="17421"/>
                  </a:lnTo>
                  <a:lnTo>
                    <a:pt x="10775" y="17683"/>
                  </a:lnTo>
                  <a:lnTo>
                    <a:pt x="10950" y="17937"/>
                  </a:lnTo>
                  <a:lnTo>
                    <a:pt x="11150" y="18199"/>
                  </a:lnTo>
                  <a:lnTo>
                    <a:pt x="11360" y="18426"/>
                  </a:lnTo>
                  <a:lnTo>
                    <a:pt x="11578" y="18653"/>
                  </a:lnTo>
                  <a:lnTo>
                    <a:pt x="11813" y="18863"/>
                  </a:lnTo>
                  <a:lnTo>
                    <a:pt x="12057" y="19047"/>
                  </a:lnTo>
                  <a:lnTo>
                    <a:pt x="12327" y="19222"/>
                  </a:lnTo>
                  <a:lnTo>
                    <a:pt x="12589" y="19388"/>
                  </a:lnTo>
                  <a:lnTo>
                    <a:pt x="12877" y="19536"/>
                  </a:lnTo>
                  <a:lnTo>
                    <a:pt x="13164" y="19650"/>
                  </a:lnTo>
                  <a:lnTo>
                    <a:pt x="13461" y="19763"/>
                  </a:lnTo>
                  <a:lnTo>
                    <a:pt x="13766" y="19851"/>
                  </a:lnTo>
                  <a:lnTo>
                    <a:pt x="14071" y="19921"/>
                  </a:lnTo>
                  <a:lnTo>
                    <a:pt x="14376" y="19965"/>
                  </a:lnTo>
                  <a:lnTo>
                    <a:pt x="14690" y="19991"/>
                  </a:lnTo>
                  <a:lnTo>
                    <a:pt x="15004" y="20000"/>
                  </a:lnTo>
                  <a:lnTo>
                    <a:pt x="15318" y="19991"/>
                  </a:lnTo>
                  <a:lnTo>
                    <a:pt x="15632" y="19956"/>
                  </a:lnTo>
                  <a:lnTo>
                    <a:pt x="15937" y="19903"/>
                  </a:lnTo>
                  <a:lnTo>
                    <a:pt x="16242" y="19842"/>
                  </a:lnTo>
                  <a:lnTo>
                    <a:pt x="16547" y="19746"/>
                  </a:lnTo>
                  <a:lnTo>
                    <a:pt x="16843" y="19650"/>
                  </a:lnTo>
                  <a:lnTo>
                    <a:pt x="17131" y="19519"/>
                  </a:lnTo>
                  <a:lnTo>
                    <a:pt x="17419" y="19388"/>
                  </a:lnTo>
                  <a:lnTo>
                    <a:pt x="17680" y="19213"/>
                  </a:lnTo>
                  <a:lnTo>
                    <a:pt x="17951" y="19038"/>
                  </a:lnTo>
                  <a:lnTo>
                    <a:pt x="18195" y="18846"/>
                  </a:lnTo>
                  <a:lnTo>
                    <a:pt x="18430" y="18645"/>
                  </a:lnTo>
                  <a:lnTo>
                    <a:pt x="18648" y="18417"/>
                  </a:lnTo>
                  <a:lnTo>
                    <a:pt x="18857" y="18190"/>
                  </a:lnTo>
                  <a:lnTo>
                    <a:pt x="19058" y="17928"/>
                  </a:lnTo>
                  <a:lnTo>
                    <a:pt x="19232" y="17674"/>
                  </a:lnTo>
                  <a:lnTo>
                    <a:pt x="19389" y="17403"/>
                  </a:lnTo>
                  <a:lnTo>
                    <a:pt x="19529" y="17124"/>
                  </a:lnTo>
                  <a:lnTo>
                    <a:pt x="19659" y="16835"/>
                  </a:lnTo>
                  <a:lnTo>
                    <a:pt x="19764" y="16538"/>
                  </a:lnTo>
                  <a:lnTo>
                    <a:pt x="19851" y="16241"/>
                  </a:lnTo>
                  <a:lnTo>
                    <a:pt x="19912" y="15935"/>
                  </a:lnTo>
                  <a:lnTo>
                    <a:pt x="19965" y="15620"/>
                  </a:lnTo>
                  <a:lnTo>
                    <a:pt x="19991" y="15314"/>
                  </a:lnTo>
                  <a:lnTo>
                    <a:pt x="20000" y="14991"/>
                  </a:lnTo>
                  <a:lnTo>
                    <a:pt x="20000" y="14991"/>
                  </a:lnTo>
                  <a:close/>
                  <a:moveTo>
                    <a:pt x="20000" y="1499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751200" y="819000"/>
              <a:ext cx="1582560" cy="1093680"/>
              <a:chOff x="3751200" y="819000"/>
              <a:chExt cx="1582560" cy="1093680"/>
            </a:xfrm>
          </p:grpSpPr>
          <p:sp>
            <p:nvSpPr>
              <p:cNvPr id="115" name=""/>
              <p:cNvSpPr/>
              <p:nvPr/>
            </p:nvSpPr>
            <p:spPr>
              <a:xfrm>
                <a:off x="3751200" y="1142640"/>
                <a:ext cx="182520" cy="322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19" y="10000"/>
                    </a:moveTo>
                    <a:lnTo>
                      <a:pt x="10658" y="11154"/>
                    </a:lnTo>
                    <a:lnTo>
                      <a:pt x="11259" y="12002"/>
                    </a:lnTo>
                    <a:lnTo>
                      <a:pt x="11821" y="12680"/>
                    </a:lnTo>
                    <a:lnTo>
                      <a:pt x="12383" y="13305"/>
                    </a:lnTo>
                    <a:lnTo>
                      <a:pt x="12984" y="13961"/>
                    </a:lnTo>
                    <a:lnTo>
                      <a:pt x="13643" y="14788"/>
                    </a:lnTo>
                    <a:lnTo>
                      <a:pt x="14360" y="15889"/>
                    </a:lnTo>
                    <a:lnTo>
                      <a:pt x="15193" y="17394"/>
                    </a:lnTo>
                    <a:lnTo>
                      <a:pt x="15193" y="17383"/>
                    </a:lnTo>
                    <a:lnTo>
                      <a:pt x="15193" y="17341"/>
                    </a:lnTo>
                    <a:lnTo>
                      <a:pt x="15193" y="17298"/>
                    </a:lnTo>
                    <a:lnTo>
                      <a:pt x="15193" y="17235"/>
                    </a:lnTo>
                    <a:lnTo>
                      <a:pt x="15348" y="16620"/>
                    </a:lnTo>
                    <a:lnTo>
                      <a:pt x="15523" y="16101"/>
                    </a:lnTo>
                    <a:lnTo>
                      <a:pt x="15794" y="15603"/>
                    </a:lnTo>
                    <a:lnTo>
                      <a:pt x="16162" y="15074"/>
                    </a:lnTo>
                    <a:lnTo>
                      <a:pt x="16724" y="14470"/>
                    </a:lnTo>
                    <a:lnTo>
                      <a:pt x="17519" y="13728"/>
                    </a:lnTo>
                    <a:lnTo>
                      <a:pt x="18565" y="12764"/>
                    </a:lnTo>
                    <a:lnTo>
                      <a:pt x="19980" y="11567"/>
                    </a:lnTo>
                    <a:lnTo>
                      <a:pt x="20000" y="12415"/>
                    </a:lnTo>
                    <a:lnTo>
                      <a:pt x="19903" y="13199"/>
                    </a:lnTo>
                    <a:lnTo>
                      <a:pt x="19670" y="13972"/>
                    </a:lnTo>
                    <a:lnTo>
                      <a:pt x="19263" y="14819"/>
                    </a:lnTo>
                    <a:lnTo>
                      <a:pt x="18682" y="15762"/>
                    </a:lnTo>
                    <a:lnTo>
                      <a:pt x="17868" y="16906"/>
                    </a:lnTo>
                    <a:lnTo>
                      <a:pt x="16821" y="18305"/>
                    </a:lnTo>
                    <a:lnTo>
                      <a:pt x="15484" y="20000"/>
                    </a:lnTo>
                    <a:lnTo>
                      <a:pt x="15213" y="19830"/>
                    </a:lnTo>
                    <a:lnTo>
                      <a:pt x="14534" y="19364"/>
                    </a:lnTo>
                    <a:lnTo>
                      <a:pt x="13546" y="18580"/>
                    </a:lnTo>
                    <a:lnTo>
                      <a:pt x="12441" y="17478"/>
                    </a:lnTo>
                    <a:lnTo>
                      <a:pt x="11356" y="16069"/>
                    </a:lnTo>
                    <a:lnTo>
                      <a:pt x="10503" y="14343"/>
                    </a:lnTo>
                    <a:lnTo>
                      <a:pt x="10000" y="12319"/>
                    </a:lnTo>
                    <a:lnTo>
                      <a:pt x="10019" y="10000"/>
                    </a:lnTo>
                    <a:close/>
                    <a:moveTo>
                      <a:pt x="10019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905280" y="1639800"/>
                <a:ext cx="371520" cy="27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4458" y="10000"/>
                    </a:moveTo>
                    <a:lnTo>
                      <a:pt x="15389" y="11384"/>
                    </a:lnTo>
                    <a:lnTo>
                      <a:pt x="16197" y="12693"/>
                    </a:lnTo>
                    <a:lnTo>
                      <a:pt x="16882" y="13940"/>
                    </a:lnTo>
                    <a:lnTo>
                      <a:pt x="17500" y="15124"/>
                    </a:lnTo>
                    <a:lnTo>
                      <a:pt x="18089" y="16259"/>
                    </a:lnTo>
                    <a:lnTo>
                      <a:pt x="18669" y="17394"/>
                    </a:lnTo>
                    <a:lnTo>
                      <a:pt x="19287" y="18503"/>
                    </a:lnTo>
                    <a:lnTo>
                      <a:pt x="20000" y="19625"/>
                    </a:lnTo>
                    <a:lnTo>
                      <a:pt x="19001" y="19663"/>
                    </a:lnTo>
                    <a:lnTo>
                      <a:pt x="17946" y="19850"/>
                    </a:lnTo>
                    <a:lnTo>
                      <a:pt x="16806" y="20000"/>
                    </a:lnTo>
                    <a:lnTo>
                      <a:pt x="15608" y="19987"/>
                    </a:lnTo>
                    <a:lnTo>
                      <a:pt x="14325" y="19638"/>
                    </a:lnTo>
                    <a:lnTo>
                      <a:pt x="12965" y="18815"/>
                    </a:lnTo>
                    <a:lnTo>
                      <a:pt x="11511" y="17369"/>
                    </a:lnTo>
                    <a:lnTo>
                      <a:pt x="10000" y="15124"/>
                    </a:lnTo>
                    <a:lnTo>
                      <a:pt x="10684" y="15635"/>
                    </a:lnTo>
                    <a:lnTo>
                      <a:pt x="11378" y="16109"/>
                    </a:lnTo>
                    <a:lnTo>
                      <a:pt x="12110" y="16533"/>
                    </a:lnTo>
                    <a:lnTo>
                      <a:pt x="12927" y="16945"/>
                    </a:lnTo>
                    <a:lnTo>
                      <a:pt x="13878" y="17356"/>
                    </a:lnTo>
                    <a:lnTo>
                      <a:pt x="14980" y="17755"/>
                    </a:lnTo>
                    <a:lnTo>
                      <a:pt x="16302" y="18179"/>
                    </a:lnTo>
                    <a:lnTo>
                      <a:pt x="17889" y="18653"/>
                    </a:lnTo>
                    <a:lnTo>
                      <a:pt x="16777" y="17294"/>
                    </a:lnTo>
                    <a:lnTo>
                      <a:pt x="15941" y="15860"/>
                    </a:lnTo>
                    <a:lnTo>
                      <a:pt x="15323" y="14413"/>
                    </a:lnTo>
                    <a:lnTo>
                      <a:pt x="14914" y="13054"/>
                    </a:lnTo>
                    <a:lnTo>
                      <a:pt x="14648" y="11832"/>
                    </a:lnTo>
                    <a:lnTo>
                      <a:pt x="14515" y="10860"/>
                    </a:lnTo>
                    <a:lnTo>
                      <a:pt x="14458" y="10224"/>
                    </a:lnTo>
                    <a:lnTo>
                      <a:pt x="14458" y="10000"/>
                    </a:lnTo>
                    <a:close/>
                    <a:moveTo>
                      <a:pt x="144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153040" y="1142640"/>
                <a:ext cx="180720" cy="322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9339" y="11154"/>
                    </a:lnTo>
                    <a:lnTo>
                      <a:pt x="18737" y="12002"/>
                    </a:lnTo>
                    <a:lnTo>
                      <a:pt x="18194" y="12680"/>
                    </a:lnTo>
                    <a:lnTo>
                      <a:pt x="17611" y="13305"/>
                    </a:lnTo>
                    <a:lnTo>
                      <a:pt x="17029" y="13961"/>
                    </a:lnTo>
                    <a:lnTo>
                      <a:pt x="16368" y="14788"/>
                    </a:lnTo>
                    <a:lnTo>
                      <a:pt x="15650" y="15889"/>
                    </a:lnTo>
                    <a:lnTo>
                      <a:pt x="14834" y="17394"/>
                    </a:lnTo>
                    <a:lnTo>
                      <a:pt x="14834" y="17383"/>
                    </a:lnTo>
                    <a:lnTo>
                      <a:pt x="14834" y="17341"/>
                    </a:lnTo>
                    <a:lnTo>
                      <a:pt x="14834" y="17298"/>
                    </a:lnTo>
                    <a:lnTo>
                      <a:pt x="14834" y="17235"/>
                    </a:lnTo>
                    <a:lnTo>
                      <a:pt x="14660" y="16620"/>
                    </a:lnTo>
                    <a:lnTo>
                      <a:pt x="14485" y="16101"/>
                    </a:lnTo>
                    <a:lnTo>
                      <a:pt x="14213" y="15603"/>
                    </a:lnTo>
                    <a:lnTo>
                      <a:pt x="13825" y="15074"/>
                    </a:lnTo>
                    <a:lnTo>
                      <a:pt x="13281" y="14470"/>
                    </a:lnTo>
                    <a:lnTo>
                      <a:pt x="12485" y="13728"/>
                    </a:lnTo>
                    <a:lnTo>
                      <a:pt x="11436" y="12764"/>
                    </a:lnTo>
                    <a:lnTo>
                      <a:pt x="10038" y="11567"/>
                    </a:lnTo>
                    <a:lnTo>
                      <a:pt x="10000" y="12415"/>
                    </a:lnTo>
                    <a:lnTo>
                      <a:pt x="10097" y="13199"/>
                    </a:lnTo>
                    <a:lnTo>
                      <a:pt x="10310" y="13972"/>
                    </a:lnTo>
                    <a:lnTo>
                      <a:pt x="10699" y="14819"/>
                    </a:lnTo>
                    <a:lnTo>
                      <a:pt x="11300" y="15762"/>
                    </a:lnTo>
                    <a:lnTo>
                      <a:pt x="12116" y="16906"/>
                    </a:lnTo>
                    <a:lnTo>
                      <a:pt x="13184" y="18305"/>
                    </a:lnTo>
                    <a:lnTo>
                      <a:pt x="14543" y="20000"/>
                    </a:lnTo>
                    <a:lnTo>
                      <a:pt x="14796" y="19830"/>
                    </a:lnTo>
                    <a:lnTo>
                      <a:pt x="15475" y="19364"/>
                    </a:lnTo>
                    <a:lnTo>
                      <a:pt x="16466" y="18580"/>
                    </a:lnTo>
                    <a:lnTo>
                      <a:pt x="17553" y="17478"/>
                    </a:lnTo>
                    <a:lnTo>
                      <a:pt x="18621" y="16069"/>
                    </a:lnTo>
                    <a:lnTo>
                      <a:pt x="19495" y="14343"/>
                    </a:lnTo>
                    <a:lnTo>
                      <a:pt x="20000" y="12319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013360" y="1490400"/>
                <a:ext cx="277560" cy="327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840" y="10000"/>
                    </a:moveTo>
                    <a:lnTo>
                      <a:pt x="13700" y="10230"/>
                    </a:lnTo>
                    <a:lnTo>
                      <a:pt x="13396" y="10723"/>
                    </a:lnTo>
                    <a:lnTo>
                      <a:pt x="12902" y="11488"/>
                    </a:lnTo>
                    <a:lnTo>
                      <a:pt x="12332" y="12547"/>
                    </a:lnTo>
                    <a:lnTo>
                      <a:pt x="11698" y="13909"/>
                    </a:lnTo>
                    <a:lnTo>
                      <a:pt x="11051" y="15587"/>
                    </a:lnTo>
                    <a:lnTo>
                      <a:pt x="10468" y="17620"/>
                    </a:lnTo>
                    <a:lnTo>
                      <a:pt x="10000" y="20000"/>
                    </a:lnTo>
                    <a:lnTo>
                      <a:pt x="13460" y="18836"/>
                    </a:lnTo>
                    <a:lnTo>
                      <a:pt x="16032" y="17547"/>
                    </a:lnTo>
                    <a:lnTo>
                      <a:pt x="17820" y="16205"/>
                    </a:lnTo>
                    <a:lnTo>
                      <a:pt x="18960" y="14916"/>
                    </a:lnTo>
                    <a:lnTo>
                      <a:pt x="19619" y="13752"/>
                    </a:lnTo>
                    <a:lnTo>
                      <a:pt x="19923" y="12819"/>
                    </a:lnTo>
                    <a:lnTo>
                      <a:pt x="20000" y="12201"/>
                    </a:lnTo>
                    <a:lnTo>
                      <a:pt x="20000" y="11991"/>
                    </a:lnTo>
                    <a:lnTo>
                      <a:pt x="19340" y="12693"/>
                    </a:lnTo>
                    <a:lnTo>
                      <a:pt x="18504" y="13469"/>
                    </a:lnTo>
                    <a:lnTo>
                      <a:pt x="17515" y="14266"/>
                    </a:lnTo>
                    <a:lnTo>
                      <a:pt x="16425" y="15052"/>
                    </a:lnTo>
                    <a:lnTo>
                      <a:pt x="15285" y="15849"/>
                    </a:lnTo>
                    <a:lnTo>
                      <a:pt x="14131" y="16614"/>
                    </a:lnTo>
                    <a:lnTo>
                      <a:pt x="13041" y="17316"/>
                    </a:lnTo>
                    <a:lnTo>
                      <a:pt x="12040" y="17966"/>
                    </a:lnTo>
                    <a:lnTo>
                      <a:pt x="12737" y="16666"/>
                    </a:lnTo>
                    <a:lnTo>
                      <a:pt x="13219" y="15324"/>
                    </a:lnTo>
                    <a:lnTo>
                      <a:pt x="13548" y="14004"/>
                    </a:lnTo>
                    <a:lnTo>
                      <a:pt x="13738" y="12746"/>
                    </a:lnTo>
                    <a:lnTo>
                      <a:pt x="13827" y="11645"/>
                    </a:lnTo>
                    <a:lnTo>
                      <a:pt x="13852" y="10775"/>
                    </a:lnTo>
                    <a:lnTo>
                      <a:pt x="13840" y="10199"/>
                    </a:lnTo>
                    <a:lnTo>
                      <a:pt x="13840" y="10000"/>
                    </a:lnTo>
                    <a:close/>
                    <a:moveTo>
                      <a:pt x="1384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905280" y="831600"/>
                <a:ext cx="150840" cy="285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588" y="20000"/>
                    </a:moveTo>
                    <a:lnTo>
                      <a:pt x="10000" y="17900"/>
                    </a:lnTo>
                    <a:lnTo>
                      <a:pt x="10000" y="15987"/>
                    </a:lnTo>
                    <a:lnTo>
                      <a:pt x="10445" y="14298"/>
                    </a:lnTo>
                    <a:lnTo>
                      <a:pt x="11212" y="12857"/>
                    </a:lnTo>
                    <a:lnTo>
                      <a:pt x="12139" y="11689"/>
                    </a:lnTo>
                    <a:lnTo>
                      <a:pt x="13119" y="10807"/>
                    </a:lnTo>
                    <a:lnTo>
                      <a:pt x="14028" y="10223"/>
                    </a:lnTo>
                    <a:lnTo>
                      <a:pt x="14705" y="10000"/>
                    </a:lnTo>
                    <a:lnTo>
                      <a:pt x="14616" y="10161"/>
                    </a:lnTo>
                    <a:lnTo>
                      <a:pt x="14349" y="10608"/>
                    </a:lnTo>
                    <a:lnTo>
                      <a:pt x="13975" y="11291"/>
                    </a:lnTo>
                    <a:lnTo>
                      <a:pt x="13547" y="12173"/>
                    </a:lnTo>
                    <a:lnTo>
                      <a:pt x="13119" y="13217"/>
                    </a:lnTo>
                    <a:lnTo>
                      <a:pt x="12780" y="14385"/>
                    </a:lnTo>
                    <a:lnTo>
                      <a:pt x="12584" y="15602"/>
                    </a:lnTo>
                    <a:lnTo>
                      <a:pt x="12584" y="16869"/>
                    </a:lnTo>
                    <a:lnTo>
                      <a:pt x="12780" y="16571"/>
                    </a:lnTo>
                    <a:lnTo>
                      <a:pt x="13386" y="16111"/>
                    </a:lnTo>
                    <a:lnTo>
                      <a:pt x="14313" y="15527"/>
                    </a:lnTo>
                    <a:lnTo>
                      <a:pt x="15436" y="14844"/>
                    </a:lnTo>
                    <a:lnTo>
                      <a:pt x="16666" y="14149"/>
                    </a:lnTo>
                    <a:lnTo>
                      <a:pt x="17896" y="13453"/>
                    </a:lnTo>
                    <a:lnTo>
                      <a:pt x="19037" y="12844"/>
                    </a:lnTo>
                    <a:lnTo>
                      <a:pt x="20000" y="12335"/>
                    </a:lnTo>
                    <a:lnTo>
                      <a:pt x="19768" y="12732"/>
                    </a:lnTo>
                    <a:lnTo>
                      <a:pt x="19233" y="13403"/>
                    </a:lnTo>
                    <a:lnTo>
                      <a:pt x="18377" y="14273"/>
                    </a:lnTo>
                    <a:lnTo>
                      <a:pt x="17254" y="15316"/>
                    </a:lnTo>
                    <a:lnTo>
                      <a:pt x="15864" y="16447"/>
                    </a:lnTo>
                    <a:lnTo>
                      <a:pt x="14278" y="17639"/>
                    </a:lnTo>
                    <a:lnTo>
                      <a:pt x="12495" y="18832"/>
                    </a:lnTo>
                    <a:lnTo>
                      <a:pt x="10588" y="20000"/>
                    </a:lnTo>
                    <a:close/>
                    <a:moveTo>
                      <a:pt x="1058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29200" y="839520"/>
                <a:ext cx="198360" cy="273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427" y="20000"/>
                    </a:moveTo>
                    <a:lnTo>
                      <a:pt x="20000" y="17900"/>
                    </a:lnTo>
                    <a:lnTo>
                      <a:pt x="20000" y="15987"/>
                    </a:lnTo>
                    <a:lnTo>
                      <a:pt x="19552" y="14298"/>
                    </a:lnTo>
                    <a:lnTo>
                      <a:pt x="18783" y="12857"/>
                    </a:lnTo>
                    <a:lnTo>
                      <a:pt x="17853" y="11689"/>
                    </a:lnTo>
                    <a:lnTo>
                      <a:pt x="16869" y="10807"/>
                    </a:lnTo>
                    <a:lnTo>
                      <a:pt x="15957" y="10223"/>
                    </a:lnTo>
                    <a:lnTo>
                      <a:pt x="15277" y="10000"/>
                    </a:lnTo>
                    <a:lnTo>
                      <a:pt x="15366" y="10161"/>
                    </a:lnTo>
                    <a:lnTo>
                      <a:pt x="15635" y="10608"/>
                    </a:lnTo>
                    <a:lnTo>
                      <a:pt x="16010" y="11291"/>
                    </a:lnTo>
                    <a:lnTo>
                      <a:pt x="16440" y="12173"/>
                    </a:lnTo>
                    <a:lnTo>
                      <a:pt x="16869" y="13217"/>
                    </a:lnTo>
                    <a:lnTo>
                      <a:pt x="17209" y="14385"/>
                    </a:lnTo>
                    <a:lnTo>
                      <a:pt x="17406" y="15602"/>
                    </a:lnTo>
                    <a:lnTo>
                      <a:pt x="17423" y="16869"/>
                    </a:lnTo>
                    <a:lnTo>
                      <a:pt x="17209" y="16571"/>
                    </a:lnTo>
                    <a:lnTo>
                      <a:pt x="16601" y="16111"/>
                    </a:lnTo>
                    <a:lnTo>
                      <a:pt x="15688" y="15527"/>
                    </a:lnTo>
                    <a:lnTo>
                      <a:pt x="14561" y="14844"/>
                    </a:lnTo>
                    <a:lnTo>
                      <a:pt x="13327" y="14149"/>
                    </a:lnTo>
                    <a:lnTo>
                      <a:pt x="12093" y="13453"/>
                    </a:lnTo>
                    <a:lnTo>
                      <a:pt x="10930" y="12844"/>
                    </a:lnTo>
                    <a:lnTo>
                      <a:pt x="10000" y="12335"/>
                    </a:lnTo>
                    <a:lnTo>
                      <a:pt x="10214" y="12732"/>
                    </a:lnTo>
                    <a:lnTo>
                      <a:pt x="10751" y="13403"/>
                    </a:lnTo>
                    <a:lnTo>
                      <a:pt x="11610" y="14273"/>
                    </a:lnTo>
                    <a:lnTo>
                      <a:pt x="12737" y="15316"/>
                    </a:lnTo>
                    <a:lnTo>
                      <a:pt x="14132" y="16447"/>
                    </a:lnTo>
                    <a:lnTo>
                      <a:pt x="15706" y="17639"/>
                    </a:lnTo>
                    <a:lnTo>
                      <a:pt x="17495" y="18832"/>
                    </a:lnTo>
                    <a:lnTo>
                      <a:pt x="19427" y="20000"/>
                    </a:lnTo>
                    <a:close/>
                    <a:moveTo>
                      <a:pt x="19427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130640" y="919080"/>
                <a:ext cx="820800" cy="787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5" y="14769"/>
                    </a:lnTo>
                    <a:lnTo>
                      <a:pt x="19982" y="14552"/>
                    </a:lnTo>
                    <a:lnTo>
                      <a:pt x="19956" y="14331"/>
                    </a:lnTo>
                    <a:lnTo>
                      <a:pt x="19922" y="14114"/>
                    </a:lnTo>
                    <a:lnTo>
                      <a:pt x="19879" y="13897"/>
                    </a:lnTo>
                    <a:lnTo>
                      <a:pt x="19827" y="13680"/>
                    </a:lnTo>
                    <a:lnTo>
                      <a:pt x="19762" y="13472"/>
                    </a:lnTo>
                    <a:lnTo>
                      <a:pt x="19689" y="13259"/>
                    </a:lnTo>
                    <a:lnTo>
                      <a:pt x="19607" y="13055"/>
                    </a:lnTo>
                    <a:lnTo>
                      <a:pt x="19521" y="12851"/>
                    </a:lnTo>
                    <a:lnTo>
                      <a:pt x="19417" y="12656"/>
                    </a:lnTo>
                    <a:lnTo>
                      <a:pt x="19309" y="12465"/>
                    </a:lnTo>
                    <a:lnTo>
                      <a:pt x="19193" y="12274"/>
                    </a:lnTo>
                    <a:lnTo>
                      <a:pt x="19072" y="12092"/>
                    </a:lnTo>
                    <a:lnTo>
                      <a:pt x="18938" y="11914"/>
                    </a:lnTo>
                    <a:lnTo>
                      <a:pt x="18796" y="11744"/>
                    </a:lnTo>
                    <a:lnTo>
                      <a:pt x="18649" y="11579"/>
                    </a:lnTo>
                    <a:lnTo>
                      <a:pt x="18494" y="11419"/>
                    </a:lnTo>
                    <a:lnTo>
                      <a:pt x="18334" y="11271"/>
                    </a:lnTo>
                    <a:lnTo>
                      <a:pt x="18162" y="11124"/>
                    </a:lnTo>
                    <a:lnTo>
                      <a:pt x="17989" y="10993"/>
                    </a:lnTo>
                    <a:lnTo>
                      <a:pt x="17808" y="10863"/>
                    </a:lnTo>
                    <a:lnTo>
                      <a:pt x="17622" y="10742"/>
                    </a:lnTo>
                    <a:lnTo>
                      <a:pt x="17433" y="10629"/>
                    </a:lnTo>
                    <a:lnTo>
                      <a:pt x="17239" y="10525"/>
                    </a:lnTo>
                    <a:lnTo>
                      <a:pt x="17036" y="10434"/>
                    </a:lnTo>
                    <a:lnTo>
                      <a:pt x="16833" y="10347"/>
                    </a:lnTo>
                    <a:lnTo>
                      <a:pt x="16622" y="10269"/>
                    </a:lnTo>
                    <a:lnTo>
                      <a:pt x="16410" y="10203"/>
                    </a:lnTo>
                    <a:lnTo>
                      <a:pt x="16199" y="10147"/>
                    </a:lnTo>
                    <a:lnTo>
                      <a:pt x="15983" y="10099"/>
                    </a:lnTo>
                    <a:lnTo>
                      <a:pt x="15763" y="10060"/>
                    </a:lnTo>
                    <a:lnTo>
                      <a:pt x="15543" y="10030"/>
                    </a:lnTo>
                    <a:lnTo>
                      <a:pt x="15323" y="10008"/>
                    </a:lnTo>
                    <a:lnTo>
                      <a:pt x="15107" y="10000"/>
                    </a:lnTo>
                    <a:lnTo>
                      <a:pt x="14883" y="10000"/>
                    </a:lnTo>
                    <a:lnTo>
                      <a:pt x="14663" y="10008"/>
                    </a:lnTo>
                    <a:lnTo>
                      <a:pt x="14443" y="10030"/>
                    </a:lnTo>
                    <a:lnTo>
                      <a:pt x="14223" y="10060"/>
                    </a:lnTo>
                    <a:lnTo>
                      <a:pt x="14003" y="10099"/>
                    </a:lnTo>
                    <a:lnTo>
                      <a:pt x="13787" y="10147"/>
                    </a:lnTo>
                    <a:lnTo>
                      <a:pt x="13576" y="10208"/>
                    </a:lnTo>
                    <a:lnTo>
                      <a:pt x="13364" y="10277"/>
                    </a:lnTo>
                    <a:lnTo>
                      <a:pt x="13153" y="10355"/>
                    </a:lnTo>
                    <a:lnTo>
                      <a:pt x="12955" y="10438"/>
                    </a:lnTo>
                    <a:lnTo>
                      <a:pt x="12756" y="10529"/>
                    </a:lnTo>
                    <a:lnTo>
                      <a:pt x="12558" y="10638"/>
                    </a:lnTo>
                    <a:lnTo>
                      <a:pt x="12368" y="10746"/>
                    </a:lnTo>
                    <a:lnTo>
                      <a:pt x="12178" y="10868"/>
                    </a:lnTo>
                    <a:lnTo>
                      <a:pt x="12006" y="10998"/>
                    </a:lnTo>
                    <a:lnTo>
                      <a:pt x="11829" y="11132"/>
                    </a:lnTo>
                    <a:lnTo>
                      <a:pt x="11656" y="11276"/>
                    </a:lnTo>
                    <a:lnTo>
                      <a:pt x="11496" y="11427"/>
                    </a:lnTo>
                    <a:lnTo>
                      <a:pt x="11345" y="11592"/>
                    </a:lnTo>
                    <a:lnTo>
                      <a:pt x="11195" y="11753"/>
                    </a:lnTo>
                    <a:lnTo>
                      <a:pt x="11056" y="11922"/>
                    </a:lnTo>
                    <a:lnTo>
                      <a:pt x="10927" y="12100"/>
                    </a:lnTo>
                    <a:lnTo>
                      <a:pt x="10798" y="12282"/>
                    </a:lnTo>
                    <a:lnTo>
                      <a:pt x="10681" y="12473"/>
                    </a:lnTo>
                    <a:lnTo>
                      <a:pt x="10573" y="12664"/>
                    </a:lnTo>
                    <a:lnTo>
                      <a:pt x="10478" y="12868"/>
                    </a:lnTo>
                    <a:lnTo>
                      <a:pt x="10388" y="13068"/>
                    </a:lnTo>
                    <a:lnTo>
                      <a:pt x="10306" y="13272"/>
                    </a:lnTo>
                    <a:lnTo>
                      <a:pt x="10232" y="13480"/>
                    </a:lnTo>
                    <a:lnTo>
                      <a:pt x="10172" y="13697"/>
                    </a:lnTo>
                    <a:lnTo>
                      <a:pt x="10116" y="13906"/>
                    </a:lnTo>
                    <a:lnTo>
                      <a:pt x="10077" y="14123"/>
                    </a:lnTo>
                    <a:lnTo>
                      <a:pt x="10043" y="14344"/>
                    </a:lnTo>
                    <a:lnTo>
                      <a:pt x="10017" y="14565"/>
                    </a:lnTo>
                    <a:lnTo>
                      <a:pt x="10004" y="14787"/>
                    </a:lnTo>
                    <a:lnTo>
                      <a:pt x="10000" y="15008"/>
                    </a:lnTo>
                    <a:lnTo>
                      <a:pt x="10004" y="15230"/>
                    </a:lnTo>
                    <a:lnTo>
                      <a:pt x="10017" y="15447"/>
                    </a:lnTo>
                    <a:lnTo>
                      <a:pt x="10043" y="15668"/>
                    </a:lnTo>
                    <a:lnTo>
                      <a:pt x="10077" y="15885"/>
                    </a:lnTo>
                    <a:lnTo>
                      <a:pt x="10120" y="16102"/>
                    </a:lnTo>
                    <a:lnTo>
                      <a:pt x="10176" y="16319"/>
                    </a:lnTo>
                    <a:lnTo>
                      <a:pt x="10237" y="16527"/>
                    </a:lnTo>
                    <a:lnTo>
                      <a:pt x="10310" y="16740"/>
                    </a:lnTo>
                    <a:lnTo>
                      <a:pt x="10396" y="16944"/>
                    </a:lnTo>
                    <a:lnTo>
                      <a:pt x="10483" y="17148"/>
                    </a:lnTo>
                    <a:lnTo>
                      <a:pt x="10578" y="17343"/>
                    </a:lnTo>
                    <a:lnTo>
                      <a:pt x="10690" y="17539"/>
                    </a:lnTo>
                    <a:lnTo>
                      <a:pt x="10811" y="17725"/>
                    </a:lnTo>
                    <a:lnTo>
                      <a:pt x="10931" y="17907"/>
                    </a:lnTo>
                    <a:lnTo>
                      <a:pt x="11061" y="18085"/>
                    </a:lnTo>
                    <a:lnTo>
                      <a:pt x="11203" y="18255"/>
                    </a:lnTo>
                    <a:lnTo>
                      <a:pt x="11350" y="18424"/>
                    </a:lnTo>
                    <a:lnTo>
                      <a:pt x="11505" y="18580"/>
                    </a:lnTo>
                    <a:lnTo>
                      <a:pt x="11669" y="18728"/>
                    </a:lnTo>
                    <a:lnTo>
                      <a:pt x="11837" y="18875"/>
                    </a:lnTo>
                    <a:lnTo>
                      <a:pt x="12014" y="19006"/>
                    </a:lnTo>
                    <a:lnTo>
                      <a:pt x="12195" y="19140"/>
                    </a:lnTo>
                    <a:lnTo>
                      <a:pt x="12381" y="19257"/>
                    </a:lnTo>
                    <a:lnTo>
                      <a:pt x="12571" y="19370"/>
                    </a:lnTo>
                    <a:lnTo>
                      <a:pt x="12765" y="19474"/>
                    </a:lnTo>
                    <a:lnTo>
                      <a:pt x="12963" y="19565"/>
                    </a:lnTo>
                    <a:lnTo>
                      <a:pt x="13170" y="19657"/>
                    </a:lnTo>
                    <a:lnTo>
                      <a:pt x="13377" y="19730"/>
                    </a:lnTo>
                    <a:lnTo>
                      <a:pt x="13589" y="19796"/>
                    </a:lnTo>
                    <a:lnTo>
                      <a:pt x="13805" y="19856"/>
                    </a:lnTo>
                    <a:lnTo>
                      <a:pt x="14016" y="19900"/>
                    </a:lnTo>
                    <a:lnTo>
                      <a:pt x="14236" y="19939"/>
                    </a:lnTo>
                    <a:lnTo>
                      <a:pt x="14456" y="19969"/>
                    </a:lnTo>
                    <a:lnTo>
                      <a:pt x="14676" y="19986"/>
                    </a:lnTo>
                    <a:lnTo>
                      <a:pt x="14896" y="20000"/>
                    </a:lnTo>
                    <a:lnTo>
                      <a:pt x="15116" y="20000"/>
                    </a:lnTo>
                    <a:lnTo>
                      <a:pt x="15340" y="19986"/>
                    </a:lnTo>
                    <a:lnTo>
                      <a:pt x="15560" y="19969"/>
                    </a:lnTo>
                    <a:lnTo>
                      <a:pt x="15780" y="19939"/>
                    </a:lnTo>
                    <a:lnTo>
                      <a:pt x="15996" y="19900"/>
                    </a:lnTo>
                    <a:lnTo>
                      <a:pt x="16212" y="19852"/>
                    </a:lnTo>
                    <a:lnTo>
                      <a:pt x="16427" y="19791"/>
                    </a:lnTo>
                    <a:lnTo>
                      <a:pt x="16635" y="19722"/>
                    </a:lnTo>
                    <a:lnTo>
                      <a:pt x="16842" y="19648"/>
                    </a:lnTo>
                    <a:lnTo>
                      <a:pt x="17044" y="19561"/>
                    </a:lnTo>
                    <a:lnTo>
                      <a:pt x="17247" y="19470"/>
                    </a:lnTo>
                    <a:lnTo>
                      <a:pt x="17441" y="19366"/>
                    </a:lnTo>
                    <a:lnTo>
                      <a:pt x="17631" y="19253"/>
                    </a:lnTo>
                    <a:lnTo>
                      <a:pt x="17817" y="19131"/>
                    </a:lnTo>
                    <a:lnTo>
                      <a:pt x="17998" y="19001"/>
                    </a:lnTo>
                    <a:lnTo>
                      <a:pt x="18175" y="18867"/>
                    </a:lnTo>
                    <a:lnTo>
                      <a:pt x="18343" y="18723"/>
                    </a:lnTo>
                    <a:lnTo>
                      <a:pt x="18503" y="18572"/>
                    </a:lnTo>
                    <a:lnTo>
                      <a:pt x="18654" y="18411"/>
                    </a:lnTo>
                    <a:lnTo>
                      <a:pt x="18809" y="18246"/>
                    </a:lnTo>
                    <a:lnTo>
                      <a:pt x="18943" y="18072"/>
                    </a:lnTo>
                    <a:lnTo>
                      <a:pt x="19076" y="17899"/>
                    </a:lnTo>
                    <a:lnTo>
                      <a:pt x="19201" y="17717"/>
                    </a:lnTo>
                    <a:lnTo>
                      <a:pt x="19318" y="17526"/>
                    </a:lnTo>
                    <a:lnTo>
                      <a:pt x="19426" y="17335"/>
                    </a:lnTo>
                    <a:lnTo>
                      <a:pt x="19525" y="17135"/>
                    </a:lnTo>
                    <a:lnTo>
                      <a:pt x="19611" y="16931"/>
                    </a:lnTo>
                    <a:lnTo>
                      <a:pt x="19693" y="16731"/>
                    </a:lnTo>
                    <a:lnTo>
                      <a:pt x="19767" y="16519"/>
                    </a:lnTo>
                    <a:lnTo>
                      <a:pt x="19831" y="16306"/>
                    </a:lnTo>
                    <a:lnTo>
                      <a:pt x="19883" y="16093"/>
                    </a:lnTo>
                    <a:lnTo>
                      <a:pt x="19922" y="15876"/>
                    </a:lnTo>
                    <a:lnTo>
                      <a:pt x="19956" y="15655"/>
                    </a:lnTo>
                    <a:lnTo>
                      <a:pt x="19982" y="15434"/>
                    </a:lnTo>
                    <a:lnTo>
                      <a:pt x="19995" y="15212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32160" y="1014120"/>
                <a:ext cx="614520" cy="5922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4"/>
                    </a:moveTo>
                    <a:lnTo>
                      <a:pt x="19994" y="14734"/>
                    </a:lnTo>
                    <a:lnTo>
                      <a:pt x="19971" y="14480"/>
                    </a:lnTo>
                    <a:lnTo>
                      <a:pt x="19942" y="14232"/>
                    </a:lnTo>
                    <a:lnTo>
                      <a:pt x="19896" y="13978"/>
                    </a:lnTo>
                    <a:lnTo>
                      <a:pt x="19839" y="13729"/>
                    </a:lnTo>
                    <a:lnTo>
                      <a:pt x="19764" y="13487"/>
                    </a:lnTo>
                    <a:lnTo>
                      <a:pt x="19684" y="13244"/>
                    </a:lnTo>
                    <a:lnTo>
                      <a:pt x="19586" y="13002"/>
                    </a:lnTo>
                    <a:lnTo>
                      <a:pt x="19483" y="12777"/>
                    </a:lnTo>
                    <a:lnTo>
                      <a:pt x="19357" y="12546"/>
                    </a:lnTo>
                    <a:lnTo>
                      <a:pt x="19225" y="12332"/>
                    </a:lnTo>
                    <a:lnTo>
                      <a:pt x="19087" y="12118"/>
                    </a:lnTo>
                    <a:lnTo>
                      <a:pt x="18938" y="11916"/>
                    </a:lnTo>
                    <a:lnTo>
                      <a:pt x="18771" y="11720"/>
                    </a:lnTo>
                    <a:lnTo>
                      <a:pt x="18599" y="11530"/>
                    </a:lnTo>
                    <a:lnTo>
                      <a:pt x="18415" y="11345"/>
                    </a:lnTo>
                    <a:lnTo>
                      <a:pt x="18226" y="11177"/>
                    </a:lnTo>
                    <a:lnTo>
                      <a:pt x="18025" y="11021"/>
                    </a:lnTo>
                    <a:lnTo>
                      <a:pt x="17818" y="10871"/>
                    </a:lnTo>
                    <a:lnTo>
                      <a:pt x="17606" y="10733"/>
                    </a:lnTo>
                    <a:lnTo>
                      <a:pt x="17382" y="10600"/>
                    </a:lnTo>
                    <a:lnTo>
                      <a:pt x="17158" y="10490"/>
                    </a:lnTo>
                    <a:lnTo>
                      <a:pt x="16923" y="10386"/>
                    </a:lnTo>
                    <a:lnTo>
                      <a:pt x="16681" y="10294"/>
                    </a:lnTo>
                    <a:lnTo>
                      <a:pt x="16440" y="10207"/>
                    </a:lnTo>
                    <a:lnTo>
                      <a:pt x="16199" y="10144"/>
                    </a:lnTo>
                    <a:lnTo>
                      <a:pt x="15941" y="10092"/>
                    </a:lnTo>
                    <a:lnTo>
                      <a:pt x="15688" y="10046"/>
                    </a:lnTo>
                    <a:lnTo>
                      <a:pt x="15436" y="10023"/>
                    </a:lnTo>
                    <a:lnTo>
                      <a:pt x="15183" y="10000"/>
                    </a:lnTo>
                    <a:lnTo>
                      <a:pt x="14931" y="10000"/>
                    </a:lnTo>
                    <a:lnTo>
                      <a:pt x="14672" y="10005"/>
                    </a:lnTo>
                    <a:lnTo>
                      <a:pt x="14420" y="10034"/>
                    </a:lnTo>
                    <a:lnTo>
                      <a:pt x="14167" y="10069"/>
                    </a:lnTo>
                    <a:lnTo>
                      <a:pt x="13915" y="10121"/>
                    </a:lnTo>
                    <a:lnTo>
                      <a:pt x="13668" y="10178"/>
                    </a:lnTo>
                    <a:lnTo>
                      <a:pt x="13427" y="10254"/>
                    </a:lnTo>
                    <a:lnTo>
                      <a:pt x="13185" y="10340"/>
                    </a:lnTo>
                    <a:lnTo>
                      <a:pt x="12944" y="10438"/>
                    </a:lnTo>
                    <a:lnTo>
                      <a:pt x="12721" y="10548"/>
                    </a:lnTo>
                    <a:lnTo>
                      <a:pt x="12491" y="10675"/>
                    </a:lnTo>
                    <a:lnTo>
                      <a:pt x="12278" y="10802"/>
                    </a:lnTo>
                    <a:lnTo>
                      <a:pt x="12060" y="10946"/>
                    </a:lnTo>
                    <a:lnTo>
                      <a:pt x="11859" y="11102"/>
                    </a:lnTo>
                    <a:lnTo>
                      <a:pt x="11664" y="11275"/>
                    </a:lnTo>
                    <a:lnTo>
                      <a:pt x="11481" y="11443"/>
                    </a:lnTo>
                    <a:lnTo>
                      <a:pt x="11303" y="11633"/>
                    </a:lnTo>
                    <a:lnTo>
                      <a:pt x="11136" y="11824"/>
                    </a:lnTo>
                    <a:lnTo>
                      <a:pt x="10981" y="12026"/>
                    </a:lnTo>
                    <a:lnTo>
                      <a:pt x="10832" y="12234"/>
                    </a:lnTo>
                    <a:lnTo>
                      <a:pt x="10694" y="12448"/>
                    </a:lnTo>
                    <a:lnTo>
                      <a:pt x="10568" y="12673"/>
                    </a:lnTo>
                    <a:lnTo>
                      <a:pt x="10459" y="12898"/>
                    </a:lnTo>
                    <a:lnTo>
                      <a:pt x="10355" y="13135"/>
                    </a:lnTo>
                    <a:lnTo>
                      <a:pt x="10264" y="13377"/>
                    </a:lnTo>
                    <a:lnTo>
                      <a:pt x="10195" y="13620"/>
                    </a:lnTo>
                    <a:lnTo>
                      <a:pt x="10132" y="13868"/>
                    </a:lnTo>
                    <a:lnTo>
                      <a:pt x="10080" y="14116"/>
                    </a:lnTo>
                    <a:lnTo>
                      <a:pt x="10040" y="14370"/>
                    </a:lnTo>
                    <a:lnTo>
                      <a:pt x="10011" y="14624"/>
                    </a:lnTo>
                    <a:lnTo>
                      <a:pt x="10000" y="14878"/>
                    </a:lnTo>
                    <a:lnTo>
                      <a:pt x="10000" y="15132"/>
                    </a:lnTo>
                    <a:lnTo>
                      <a:pt x="10011" y="15386"/>
                    </a:lnTo>
                    <a:lnTo>
                      <a:pt x="10040" y="15640"/>
                    </a:lnTo>
                    <a:lnTo>
                      <a:pt x="10080" y="15894"/>
                    </a:lnTo>
                    <a:lnTo>
                      <a:pt x="10132" y="16143"/>
                    </a:lnTo>
                    <a:lnTo>
                      <a:pt x="10195" y="16391"/>
                    </a:lnTo>
                    <a:lnTo>
                      <a:pt x="10269" y="16633"/>
                    </a:lnTo>
                    <a:lnTo>
                      <a:pt x="10361" y="16876"/>
                    </a:lnTo>
                    <a:lnTo>
                      <a:pt x="10464" y="17113"/>
                    </a:lnTo>
                    <a:lnTo>
                      <a:pt x="10579" y="17338"/>
                    </a:lnTo>
                    <a:lnTo>
                      <a:pt x="10700" y="17563"/>
                    </a:lnTo>
                    <a:lnTo>
                      <a:pt x="10838" y="17777"/>
                    </a:lnTo>
                    <a:lnTo>
                      <a:pt x="10987" y="17984"/>
                    </a:lnTo>
                    <a:lnTo>
                      <a:pt x="11142" y="18187"/>
                    </a:lnTo>
                    <a:lnTo>
                      <a:pt x="11308" y="18377"/>
                    </a:lnTo>
                    <a:lnTo>
                      <a:pt x="11492" y="18562"/>
                    </a:lnTo>
                    <a:lnTo>
                      <a:pt x="11676" y="18735"/>
                    </a:lnTo>
                    <a:lnTo>
                      <a:pt x="11871" y="18903"/>
                    </a:lnTo>
                    <a:lnTo>
                      <a:pt x="12078" y="19058"/>
                    </a:lnTo>
                    <a:lnTo>
                      <a:pt x="12284" y="19203"/>
                    </a:lnTo>
                    <a:lnTo>
                      <a:pt x="12502" y="19330"/>
                    </a:lnTo>
                    <a:lnTo>
                      <a:pt x="12732" y="19457"/>
                    </a:lnTo>
                    <a:lnTo>
                      <a:pt x="12956" y="19566"/>
                    </a:lnTo>
                    <a:lnTo>
                      <a:pt x="13191" y="19665"/>
                    </a:lnTo>
                    <a:lnTo>
                      <a:pt x="13432" y="19751"/>
                    </a:lnTo>
                    <a:lnTo>
                      <a:pt x="13679" y="19821"/>
                    </a:lnTo>
                    <a:lnTo>
                      <a:pt x="13926" y="19884"/>
                    </a:lnTo>
                    <a:lnTo>
                      <a:pt x="14179" y="19930"/>
                    </a:lnTo>
                    <a:lnTo>
                      <a:pt x="14431" y="19965"/>
                    </a:lnTo>
                    <a:lnTo>
                      <a:pt x="14684" y="19988"/>
                    </a:lnTo>
                    <a:lnTo>
                      <a:pt x="14942" y="20000"/>
                    </a:lnTo>
                    <a:lnTo>
                      <a:pt x="15195" y="20000"/>
                    </a:lnTo>
                    <a:lnTo>
                      <a:pt x="15453" y="19976"/>
                    </a:lnTo>
                    <a:lnTo>
                      <a:pt x="15706" y="19953"/>
                    </a:lnTo>
                    <a:lnTo>
                      <a:pt x="15958" y="19907"/>
                    </a:lnTo>
                    <a:lnTo>
                      <a:pt x="16211" y="19855"/>
                    </a:lnTo>
                    <a:lnTo>
                      <a:pt x="16458" y="19780"/>
                    </a:lnTo>
                    <a:lnTo>
                      <a:pt x="16699" y="19705"/>
                    </a:lnTo>
                    <a:lnTo>
                      <a:pt x="16934" y="19613"/>
                    </a:lnTo>
                    <a:lnTo>
                      <a:pt x="17169" y="19509"/>
                    </a:lnTo>
                    <a:lnTo>
                      <a:pt x="17399" y="19387"/>
                    </a:lnTo>
                    <a:lnTo>
                      <a:pt x="17617" y="19260"/>
                    </a:lnTo>
                    <a:lnTo>
                      <a:pt x="17830" y="19122"/>
                    </a:lnTo>
                    <a:lnTo>
                      <a:pt x="18042" y="18972"/>
                    </a:lnTo>
                    <a:lnTo>
                      <a:pt x="18231" y="18810"/>
                    </a:lnTo>
                    <a:lnTo>
                      <a:pt x="18427" y="18637"/>
                    </a:lnTo>
                    <a:lnTo>
                      <a:pt x="18610" y="18464"/>
                    </a:lnTo>
                    <a:lnTo>
                      <a:pt x="18777" y="18273"/>
                    </a:lnTo>
                    <a:lnTo>
                      <a:pt x="18943" y="18077"/>
                    </a:lnTo>
                    <a:lnTo>
                      <a:pt x="19098" y="17869"/>
                    </a:lnTo>
                    <a:lnTo>
                      <a:pt x="19236" y="17661"/>
                    </a:lnTo>
                    <a:lnTo>
                      <a:pt x="19362" y="17436"/>
                    </a:lnTo>
                    <a:lnTo>
                      <a:pt x="19489" y="17217"/>
                    </a:lnTo>
                    <a:lnTo>
                      <a:pt x="19592" y="16980"/>
                    </a:lnTo>
                    <a:lnTo>
                      <a:pt x="19690" y="16743"/>
                    </a:lnTo>
                    <a:lnTo>
                      <a:pt x="19770" y="16506"/>
                    </a:lnTo>
                    <a:lnTo>
                      <a:pt x="19845" y="16258"/>
                    </a:lnTo>
                    <a:lnTo>
                      <a:pt x="19896" y="16010"/>
                    </a:lnTo>
                    <a:lnTo>
                      <a:pt x="19942" y="15762"/>
                    </a:lnTo>
                    <a:lnTo>
                      <a:pt x="19971" y="15508"/>
                    </a:lnTo>
                    <a:lnTo>
                      <a:pt x="19994" y="15248"/>
                    </a:lnTo>
                    <a:lnTo>
                      <a:pt x="20000" y="14994"/>
                    </a:lnTo>
                    <a:lnTo>
                      <a:pt x="20000" y="14994"/>
                    </a:lnTo>
                    <a:close/>
                    <a:moveTo>
                      <a:pt x="20000" y="1499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40320" y="819000"/>
                <a:ext cx="4680" cy="406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75"/>
                    </a:moveTo>
                    <a:lnTo>
                      <a:pt x="10000" y="10075"/>
                    </a:lnTo>
                    <a:lnTo>
                      <a:pt x="10000" y="10067"/>
                    </a:lnTo>
                    <a:lnTo>
                      <a:pt x="10555" y="10059"/>
                    </a:lnTo>
                    <a:lnTo>
                      <a:pt x="10555" y="10042"/>
                    </a:lnTo>
                    <a:lnTo>
                      <a:pt x="11666" y="10033"/>
                    </a:lnTo>
                    <a:lnTo>
                      <a:pt x="12222" y="10016"/>
                    </a:lnTo>
                    <a:lnTo>
                      <a:pt x="12777" y="10008"/>
                    </a:lnTo>
                    <a:lnTo>
                      <a:pt x="13888" y="10008"/>
                    </a:lnTo>
                    <a:lnTo>
                      <a:pt x="14444" y="10000"/>
                    </a:lnTo>
                    <a:lnTo>
                      <a:pt x="15000" y="10000"/>
                    </a:lnTo>
                    <a:lnTo>
                      <a:pt x="15555" y="10000"/>
                    </a:lnTo>
                    <a:lnTo>
                      <a:pt x="16666" y="10008"/>
                    </a:lnTo>
                    <a:lnTo>
                      <a:pt x="17777" y="10008"/>
                    </a:lnTo>
                    <a:lnTo>
                      <a:pt x="18333" y="10016"/>
                    </a:lnTo>
                    <a:lnTo>
                      <a:pt x="18888" y="10033"/>
                    </a:lnTo>
                    <a:lnTo>
                      <a:pt x="19444" y="10042"/>
                    </a:lnTo>
                    <a:lnTo>
                      <a:pt x="19444" y="10059"/>
                    </a:lnTo>
                    <a:lnTo>
                      <a:pt x="20000" y="10067"/>
                    </a:lnTo>
                    <a:lnTo>
                      <a:pt x="20000" y="10075"/>
                    </a:lnTo>
                    <a:lnTo>
                      <a:pt x="20000" y="10075"/>
                    </a:lnTo>
                    <a:lnTo>
                      <a:pt x="20000" y="19924"/>
                    </a:lnTo>
                    <a:lnTo>
                      <a:pt x="20000" y="19924"/>
                    </a:lnTo>
                    <a:lnTo>
                      <a:pt x="20000" y="19940"/>
                    </a:lnTo>
                    <a:lnTo>
                      <a:pt x="19444" y="19949"/>
                    </a:lnTo>
                    <a:lnTo>
                      <a:pt x="19444" y="19966"/>
                    </a:lnTo>
                    <a:lnTo>
                      <a:pt x="18888" y="19974"/>
                    </a:lnTo>
                    <a:lnTo>
                      <a:pt x="18333" y="19983"/>
                    </a:lnTo>
                    <a:lnTo>
                      <a:pt x="17777" y="19991"/>
                    </a:lnTo>
                    <a:lnTo>
                      <a:pt x="16666" y="19991"/>
                    </a:lnTo>
                    <a:lnTo>
                      <a:pt x="15555" y="20000"/>
                    </a:lnTo>
                    <a:lnTo>
                      <a:pt x="15000" y="20000"/>
                    </a:lnTo>
                    <a:lnTo>
                      <a:pt x="14444" y="20000"/>
                    </a:lnTo>
                    <a:lnTo>
                      <a:pt x="13888" y="19991"/>
                    </a:lnTo>
                    <a:lnTo>
                      <a:pt x="12777" y="19991"/>
                    </a:lnTo>
                    <a:lnTo>
                      <a:pt x="12222" y="19983"/>
                    </a:lnTo>
                    <a:lnTo>
                      <a:pt x="11666" y="19974"/>
                    </a:lnTo>
                    <a:lnTo>
                      <a:pt x="10555" y="19966"/>
                    </a:lnTo>
                    <a:lnTo>
                      <a:pt x="10555" y="19949"/>
                    </a:lnTo>
                    <a:lnTo>
                      <a:pt x="10000" y="19940"/>
                    </a:lnTo>
                    <a:lnTo>
                      <a:pt x="10000" y="19924"/>
                    </a:lnTo>
                    <a:lnTo>
                      <a:pt x="10000" y="19924"/>
                    </a:lnTo>
                    <a:lnTo>
                      <a:pt x="10000" y="10075"/>
                    </a:lnTo>
                    <a:close/>
                    <a:moveTo>
                      <a:pt x="10000" y="100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738680" y="1508040"/>
              <a:ext cx="155520" cy="150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31" y="19635"/>
                  </a:moveTo>
                  <a:lnTo>
                    <a:pt x="19931" y="19635"/>
                  </a:lnTo>
                  <a:lnTo>
                    <a:pt x="19931" y="19681"/>
                  </a:lnTo>
                  <a:lnTo>
                    <a:pt x="19954" y="19703"/>
                  </a:lnTo>
                  <a:lnTo>
                    <a:pt x="20000" y="19726"/>
                  </a:lnTo>
                  <a:lnTo>
                    <a:pt x="20000" y="19794"/>
                  </a:lnTo>
                  <a:lnTo>
                    <a:pt x="20000" y="19794"/>
                  </a:lnTo>
                  <a:lnTo>
                    <a:pt x="20000" y="19840"/>
                  </a:lnTo>
                  <a:lnTo>
                    <a:pt x="19954" y="19863"/>
                  </a:lnTo>
                  <a:lnTo>
                    <a:pt x="19931" y="19886"/>
                  </a:lnTo>
                  <a:lnTo>
                    <a:pt x="19931" y="19931"/>
                  </a:lnTo>
                  <a:lnTo>
                    <a:pt x="19886" y="19931"/>
                  </a:lnTo>
                  <a:lnTo>
                    <a:pt x="19863" y="19977"/>
                  </a:lnTo>
                  <a:lnTo>
                    <a:pt x="19840" y="20000"/>
                  </a:lnTo>
                  <a:lnTo>
                    <a:pt x="19795" y="20000"/>
                  </a:lnTo>
                  <a:lnTo>
                    <a:pt x="19795" y="20000"/>
                  </a:lnTo>
                  <a:lnTo>
                    <a:pt x="19727" y="20000"/>
                  </a:lnTo>
                  <a:lnTo>
                    <a:pt x="19704" y="19977"/>
                  </a:lnTo>
                  <a:lnTo>
                    <a:pt x="19681" y="19931"/>
                  </a:lnTo>
                  <a:lnTo>
                    <a:pt x="19636" y="19931"/>
                  </a:lnTo>
                  <a:lnTo>
                    <a:pt x="19636" y="19931"/>
                  </a:lnTo>
                  <a:lnTo>
                    <a:pt x="10045" y="10364"/>
                  </a:lnTo>
                  <a:lnTo>
                    <a:pt x="10045" y="10364"/>
                  </a:lnTo>
                  <a:lnTo>
                    <a:pt x="10045" y="10318"/>
                  </a:lnTo>
                  <a:lnTo>
                    <a:pt x="10022" y="10273"/>
                  </a:lnTo>
                  <a:lnTo>
                    <a:pt x="10000" y="10250"/>
                  </a:lnTo>
                  <a:lnTo>
                    <a:pt x="10000" y="10205"/>
                  </a:lnTo>
                  <a:lnTo>
                    <a:pt x="10000" y="10205"/>
                  </a:lnTo>
                  <a:lnTo>
                    <a:pt x="10000" y="10159"/>
                  </a:lnTo>
                  <a:lnTo>
                    <a:pt x="10022" y="10136"/>
                  </a:lnTo>
                  <a:lnTo>
                    <a:pt x="10045" y="10091"/>
                  </a:lnTo>
                  <a:lnTo>
                    <a:pt x="10045" y="10045"/>
                  </a:lnTo>
                  <a:lnTo>
                    <a:pt x="10090" y="10045"/>
                  </a:lnTo>
                  <a:lnTo>
                    <a:pt x="10113" y="10022"/>
                  </a:lnTo>
                  <a:lnTo>
                    <a:pt x="10159" y="10000"/>
                  </a:lnTo>
                  <a:lnTo>
                    <a:pt x="10204" y="10000"/>
                  </a:lnTo>
                  <a:lnTo>
                    <a:pt x="10204" y="10000"/>
                  </a:lnTo>
                  <a:lnTo>
                    <a:pt x="10250" y="10000"/>
                  </a:lnTo>
                  <a:lnTo>
                    <a:pt x="10272" y="10022"/>
                  </a:lnTo>
                  <a:lnTo>
                    <a:pt x="10295" y="10045"/>
                  </a:lnTo>
                  <a:lnTo>
                    <a:pt x="10363" y="10045"/>
                  </a:lnTo>
                  <a:lnTo>
                    <a:pt x="10363" y="10045"/>
                  </a:lnTo>
                  <a:lnTo>
                    <a:pt x="19931" y="19635"/>
                  </a:lnTo>
                  <a:close/>
                  <a:moveTo>
                    <a:pt x="19931" y="1963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948960"/>
              <a:ext cx="288720" cy="281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49" y="10197"/>
                  </a:moveTo>
                  <a:lnTo>
                    <a:pt x="10049" y="10197"/>
                  </a:lnTo>
                  <a:lnTo>
                    <a:pt x="10036" y="10160"/>
                  </a:lnTo>
                  <a:lnTo>
                    <a:pt x="10012" y="10147"/>
                  </a:lnTo>
                  <a:lnTo>
                    <a:pt x="10000" y="10135"/>
                  </a:lnTo>
                  <a:lnTo>
                    <a:pt x="10000" y="10110"/>
                  </a:lnTo>
                  <a:lnTo>
                    <a:pt x="10000" y="10110"/>
                  </a:lnTo>
                  <a:lnTo>
                    <a:pt x="10000" y="10086"/>
                  </a:lnTo>
                  <a:lnTo>
                    <a:pt x="10012" y="10061"/>
                  </a:lnTo>
                  <a:lnTo>
                    <a:pt x="10036" y="10049"/>
                  </a:lnTo>
                  <a:lnTo>
                    <a:pt x="10036" y="10036"/>
                  </a:lnTo>
                  <a:lnTo>
                    <a:pt x="10061" y="10024"/>
                  </a:lnTo>
                  <a:lnTo>
                    <a:pt x="10073" y="10012"/>
                  </a:lnTo>
                  <a:lnTo>
                    <a:pt x="10085" y="10000"/>
                  </a:lnTo>
                  <a:lnTo>
                    <a:pt x="10110" y="10000"/>
                  </a:lnTo>
                  <a:lnTo>
                    <a:pt x="10110" y="10000"/>
                  </a:lnTo>
                  <a:lnTo>
                    <a:pt x="10147" y="10000"/>
                  </a:lnTo>
                  <a:lnTo>
                    <a:pt x="10159" y="10012"/>
                  </a:lnTo>
                  <a:lnTo>
                    <a:pt x="10171" y="10024"/>
                  </a:lnTo>
                  <a:lnTo>
                    <a:pt x="10184" y="10024"/>
                  </a:lnTo>
                  <a:lnTo>
                    <a:pt x="10184" y="10024"/>
                  </a:lnTo>
                  <a:lnTo>
                    <a:pt x="19963" y="19802"/>
                  </a:lnTo>
                  <a:lnTo>
                    <a:pt x="19963" y="19802"/>
                  </a:lnTo>
                  <a:lnTo>
                    <a:pt x="19975" y="19827"/>
                  </a:lnTo>
                  <a:lnTo>
                    <a:pt x="19987" y="19839"/>
                  </a:lnTo>
                  <a:lnTo>
                    <a:pt x="20000" y="19852"/>
                  </a:lnTo>
                  <a:lnTo>
                    <a:pt x="20000" y="19889"/>
                  </a:lnTo>
                  <a:lnTo>
                    <a:pt x="20000" y="19889"/>
                  </a:lnTo>
                  <a:lnTo>
                    <a:pt x="20000" y="19913"/>
                  </a:lnTo>
                  <a:lnTo>
                    <a:pt x="19987" y="19926"/>
                  </a:lnTo>
                  <a:lnTo>
                    <a:pt x="19975" y="19938"/>
                  </a:lnTo>
                  <a:lnTo>
                    <a:pt x="19975" y="19950"/>
                  </a:lnTo>
                  <a:lnTo>
                    <a:pt x="19950" y="19963"/>
                  </a:lnTo>
                  <a:lnTo>
                    <a:pt x="19938" y="19987"/>
                  </a:lnTo>
                  <a:lnTo>
                    <a:pt x="19926" y="20000"/>
                  </a:lnTo>
                  <a:lnTo>
                    <a:pt x="19889" y="20000"/>
                  </a:lnTo>
                  <a:lnTo>
                    <a:pt x="19889" y="20000"/>
                  </a:lnTo>
                  <a:lnTo>
                    <a:pt x="19865" y="20000"/>
                  </a:lnTo>
                  <a:lnTo>
                    <a:pt x="19852" y="19987"/>
                  </a:lnTo>
                  <a:lnTo>
                    <a:pt x="19840" y="19963"/>
                  </a:lnTo>
                  <a:lnTo>
                    <a:pt x="19828" y="19963"/>
                  </a:lnTo>
                  <a:lnTo>
                    <a:pt x="19828" y="19963"/>
                  </a:lnTo>
                  <a:lnTo>
                    <a:pt x="10049" y="10197"/>
                  </a:lnTo>
                  <a:close/>
                  <a:moveTo>
                    <a:pt x="10049" y="1019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75280" y="1373040"/>
              <a:ext cx="293760" cy="285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0" y="19975"/>
                  </a:moveTo>
                  <a:lnTo>
                    <a:pt x="10180" y="19975"/>
                  </a:lnTo>
                  <a:lnTo>
                    <a:pt x="10168" y="19975"/>
                  </a:lnTo>
                  <a:lnTo>
                    <a:pt x="10156" y="19987"/>
                  </a:lnTo>
                  <a:lnTo>
                    <a:pt x="10144" y="20000"/>
                  </a:lnTo>
                  <a:lnTo>
                    <a:pt x="10108" y="20000"/>
                  </a:lnTo>
                  <a:lnTo>
                    <a:pt x="10108" y="20000"/>
                  </a:lnTo>
                  <a:lnTo>
                    <a:pt x="10084" y="20000"/>
                  </a:lnTo>
                  <a:lnTo>
                    <a:pt x="10072" y="19987"/>
                  </a:lnTo>
                  <a:lnTo>
                    <a:pt x="10060" y="19975"/>
                  </a:lnTo>
                  <a:lnTo>
                    <a:pt x="10036" y="19963"/>
                  </a:lnTo>
                  <a:lnTo>
                    <a:pt x="10036" y="19951"/>
                  </a:lnTo>
                  <a:lnTo>
                    <a:pt x="10012" y="19939"/>
                  </a:lnTo>
                  <a:lnTo>
                    <a:pt x="10000" y="19915"/>
                  </a:lnTo>
                  <a:lnTo>
                    <a:pt x="10000" y="19890"/>
                  </a:lnTo>
                  <a:lnTo>
                    <a:pt x="10000" y="19890"/>
                  </a:lnTo>
                  <a:lnTo>
                    <a:pt x="10000" y="19866"/>
                  </a:lnTo>
                  <a:lnTo>
                    <a:pt x="10012" y="19854"/>
                  </a:lnTo>
                  <a:lnTo>
                    <a:pt x="10036" y="19842"/>
                  </a:lnTo>
                  <a:lnTo>
                    <a:pt x="10048" y="19805"/>
                  </a:lnTo>
                  <a:lnTo>
                    <a:pt x="10048" y="19805"/>
                  </a:lnTo>
                  <a:lnTo>
                    <a:pt x="19819" y="10024"/>
                  </a:lnTo>
                  <a:lnTo>
                    <a:pt x="19819" y="10024"/>
                  </a:lnTo>
                  <a:lnTo>
                    <a:pt x="19831" y="10024"/>
                  </a:lnTo>
                  <a:lnTo>
                    <a:pt x="19843" y="10012"/>
                  </a:lnTo>
                  <a:lnTo>
                    <a:pt x="19867" y="10000"/>
                  </a:lnTo>
                  <a:lnTo>
                    <a:pt x="19891" y="10000"/>
                  </a:lnTo>
                  <a:lnTo>
                    <a:pt x="19891" y="10000"/>
                  </a:lnTo>
                  <a:lnTo>
                    <a:pt x="19915" y="10000"/>
                  </a:lnTo>
                  <a:lnTo>
                    <a:pt x="19927" y="10012"/>
                  </a:lnTo>
                  <a:lnTo>
                    <a:pt x="19939" y="10024"/>
                  </a:lnTo>
                  <a:lnTo>
                    <a:pt x="19975" y="10036"/>
                  </a:lnTo>
                  <a:lnTo>
                    <a:pt x="19975" y="10048"/>
                  </a:lnTo>
                  <a:lnTo>
                    <a:pt x="19987" y="10060"/>
                  </a:lnTo>
                  <a:lnTo>
                    <a:pt x="20000" y="10084"/>
                  </a:lnTo>
                  <a:lnTo>
                    <a:pt x="20000" y="10109"/>
                  </a:lnTo>
                  <a:lnTo>
                    <a:pt x="20000" y="10109"/>
                  </a:lnTo>
                  <a:lnTo>
                    <a:pt x="20000" y="10133"/>
                  </a:lnTo>
                  <a:lnTo>
                    <a:pt x="19987" y="10145"/>
                  </a:lnTo>
                  <a:lnTo>
                    <a:pt x="19975" y="10157"/>
                  </a:lnTo>
                  <a:lnTo>
                    <a:pt x="19963" y="10194"/>
                  </a:lnTo>
                  <a:lnTo>
                    <a:pt x="19963" y="10194"/>
                  </a:lnTo>
                  <a:lnTo>
                    <a:pt x="10180" y="19975"/>
                  </a:lnTo>
                  <a:close/>
                  <a:moveTo>
                    <a:pt x="10180" y="1997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21320" y="948960"/>
              <a:ext cx="288720" cy="281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815" y="10024"/>
                  </a:moveTo>
                  <a:lnTo>
                    <a:pt x="19815" y="10024"/>
                  </a:lnTo>
                  <a:lnTo>
                    <a:pt x="19828" y="10024"/>
                  </a:lnTo>
                  <a:lnTo>
                    <a:pt x="19840" y="10012"/>
                  </a:lnTo>
                  <a:lnTo>
                    <a:pt x="19852" y="10000"/>
                  </a:lnTo>
                  <a:lnTo>
                    <a:pt x="19889" y="10000"/>
                  </a:lnTo>
                  <a:lnTo>
                    <a:pt x="19889" y="10000"/>
                  </a:lnTo>
                  <a:lnTo>
                    <a:pt x="19914" y="10000"/>
                  </a:lnTo>
                  <a:lnTo>
                    <a:pt x="19926" y="10012"/>
                  </a:lnTo>
                  <a:lnTo>
                    <a:pt x="19938" y="10024"/>
                  </a:lnTo>
                  <a:lnTo>
                    <a:pt x="19975" y="10036"/>
                  </a:lnTo>
                  <a:lnTo>
                    <a:pt x="19975" y="10049"/>
                  </a:lnTo>
                  <a:lnTo>
                    <a:pt x="19987" y="10061"/>
                  </a:lnTo>
                  <a:lnTo>
                    <a:pt x="20000" y="10086"/>
                  </a:lnTo>
                  <a:lnTo>
                    <a:pt x="20000" y="10110"/>
                  </a:lnTo>
                  <a:lnTo>
                    <a:pt x="20000" y="10110"/>
                  </a:lnTo>
                  <a:lnTo>
                    <a:pt x="20000" y="10135"/>
                  </a:lnTo>
                  <a:lnTo>
                    <a:pt x="19987" y="10147"/>
                  </a:lnTo>
                  <a:lnTo>
                    <a:pt x="19975" y="10160"/>
                  </a:lnTo>
                  <a:lnTo>
                    <a:pt x="19950" y="10197"/>
                  </a:lnTo>
                  <a:lnTo>
                    <a:pt x="19950" y="10197"/>
                  </a:lnTo>
                  <a:lnTo>
                    <a:pt x="10184" y="19963"/>
                  </a:lnTo>
                  <a:lnTo>
                    <a:pt x="10184" y="19963"/>
                  </a:lnTo>
                  <a:lnTo>
                    <a:pt x="10159" y="19963"/>
                  </a:lnTo>
                  <a:lnTo>
                    <a:pt x="10147" y="19987"/>
                  </a:lnTo>
                  <a:lnTo>
                    <a:pt x="10135" y="20000"/>
                  </a:lnTo>
                  <a:lnTo>
                    <a:pt x="10110" y="20000"/>
                  </a:lnTo>
                  <a:lnTo>
                    <a:pt x="10110" y="20000"/>
                  </a:lnTo>
                  <a:lnTo>
                    <a:pt x="10085" y="20000"/>
                  </a:lnTo>
                  <a:lnTo>
                    <a:pt x="10073" y="19987"/>
                  </a:lnTo>
                  <a:lnTo>
                    <a:pt x="10049" y="19963"/>
                  </a:lnTo>
                  <a:lnTo>
                    <a:pt x="10024" y="19950"/>
                  </a:lnTo>
                  <a:lnTo>
                    <a:pt x="10024" y="19938"/>
                  </a:lnTo>
                  <a:lnTo>
                    <a:pt x="10012" y="19926"/>
                  </a:lnTo>
                  <a:lnTo>
                    <a:pt x="10000" y="19913"/>
                  </a:lnTo>
                  <a:lnTo>
                    <a:pt x="10000" y="19889"/>
                  </a:lnTo>
                  <a:lnTo>
                    <a:pt x="10000" y="19889"/>
                  </a:lnTo>
                  <a:lnTo>
                    <a:pt x="10000" y="19852"/>
                  </a:lnTo>
                  <a:lnTo>
                    <a:pt x="10012" y="19839"/>
                  </a:lnTo>
                  <a:lnTo>
                    <a:pt x="10024" y="19827"/>
                  </a:lnTo>
                  <a:lnTo>
                    <a:pt x="10036" y="19802"/>
                  </a:lnTo>
                  <a:lnTo>
                    <a:pt x="10036" y="19802"/>
                  </a:lnTo>
                  <a:lnTo>
                    <a:pt x="19815" y="10024"/>
                  </a:lnTo>
                  <a:close/>
                  <a:moveTo>
                    <a:pt x="19815" y="1002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905040" y="5835600"/>
            <a:ext cx="7496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der the auspices of 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8680" y="2178000"/>
            <a:ext cx="17578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713040" y="685800"/>
            <a:ext cx="1716120" cy="14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4640" y="1314360"/>
            <a:ext cx="79516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INFORMATION CONTENT MANAGEMENT GROUP 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ICG</a:t>
            </a:r>
            <a:endParaRPr b="0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74920" y="4527360"/>
            <a:ext cx="633240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MIKE CONROY,  CHAIR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oup’s Mandate (Summary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936800"/>
            <a:ext cx="77040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43080"/>
                <a:tab algn="l" pos="743040"/>
                <a:tab algn="l" pos="914400"/>
                <a:tab algn="l" pos="1143000"/>
                <a:tab algn="l" pos="1236600"/>
                <a:tab algn="l" pos="1828800"/>
                <a:tab algn="l" pos="190512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urpose of the Information Content Management Group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CG) is to ensure the release of quality technical specifications for e-business. To achieve this aim it will be responsible for th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343080"/>
                <a:tab algn="l" pos="743040"/>
                <a:tab algn="l" pos="914400"/>
                <a:tab algn="l" pos="1143000"/>
                <a:tab algn="l" pos="1236600"/>
                <a:tab algn="l" pos="1828800"/>
                <a:tab algn="l" pos="190512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the UN/CEFACT information repositories and libraries for electronic business and Recommendations that fall within its scope as listed in section 2 of the manda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343080"/>
                <a:tab algn="l" pos="743040"/>
                <a:tab algn="l" pos="914400"/>
                <a:tab algn="l" pos="1143000"/>
                <a:tab algn="l" pos="1236600"/>
                <a:tab algn="l" pos="1828800"/>
                <a:tab algn="l" pos="190512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conformance and the registration of the UN/CEFACT business requirements specification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343080"/>
                <a:tab algn="l" pos="743040"/>
                <a:tab algn="l" pos="914400"/>
                <a:tab algn="l" pos="1143000"/>
                <a:tab algn="l" pos="1236600"/>
                <a:tab algn="l" pos="1828800"/>
                <a:tab algn="l" pos="190512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ization and maintenance of the base syntax neutral information components that serve as the building blocks for the development of standards for implementation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343080"/>
                <a:tab algn="l" pos="743040"/>
                <a:tab algn="l" pos="914400"/>
                <a:tab algn="l" pos="1143000"/>
                <a:tab algn="l" pos="1236600"/>
                <a:tab algn="l" pos="1828800"/>
                <a:tab algn="l" pos="190512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conformity and registration of syntax specific information objects and compon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236600"/>
                <a:tab algn="l" pos="1828800"/>
                <a:tab algn="l" pos="190512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rk Programm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219320"/>
          <a:ext cx="8229600" cy="5126040"/>
        </p:xfrm>
        <a:graphic>
          <a:graphicData uri="http://schemas.openxmlformats.org/drawingml/2006/table">
            <a:tbl>
              <a:tblPr/>
              <a:tblGrid>
                <a:gridCol w="1069920"/>
                <a:gridCol w="2892600"/>
                <a:gridCol w="1371600"/>
                <a:gridCol w="1295280"/>
                <a:gridCol w="1600200"/>
              </a:tblGrid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55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193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55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193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55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193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55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ed Comple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193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55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G Project team lea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193ff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 algn="ctr">
                        <a:lnSpc>
                          <a:spcPts val="33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FCT Operating Procedures between TBG, ATG and ICG</a:t>
                      </a:r>
                      <a:r>
                        <a:rPr b="0" lang="en-IE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 algn="ctr">
                        <a:lnSpc>
                          <a:spcPts val="33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RS (Business Requirements Specification) Development</a:t>
                      </a:r>
                      <a:r>
                        <a:rPr b="0" lang="en-IE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FT FOR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-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. CONRO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 algn="ctr">
                        <a:lnSpc>
                          <a:spcPts val="33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SM (Requirement Specification Mapping)</a:t>
                      </a:r>
                      <a:r>
                        <a:rPr b="0" lang="en-IE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FT FOR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-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. CONRO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 algn="ctr">
                        <a:lnSpc>
                          <a:spcPts val="33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ML profile for UMM</a:t>
                      </a:r>
                      <a:r>
                        <a:rPr b="0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TIAL DRAFT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-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. CONRO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 algn="ctr">
                        <a:lnSpc>
                          <a:spcPts val="33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velop UN/CEFACT repository strategy</a:t>
                      </a:r>
                      <a:r>
                        <a:rPr b="0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TIAL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-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. BERTHOMI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emporar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 algn="ctr">
                        <a:lnSpc>
                          <a:spcPts val="33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intain UN/ECE Recommendations</a:t>
                      </a:r>
                      <a:r>
                        <a:rPr b="0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GO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GO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 DOBB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 algn="ctr">
                        <a:lnSpc>
                          <a:spcPts val="33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CL migration strategy</a:t>
                      </a:r>
                      <a:r>
                        <a:rPr b="0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STAR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 DOBB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 algn="ctr">
                        <a:lnSpc>
                          <a:spcPts val="33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/EDIFACT Directory Audit</a:t>
                      </a:r>
                      <a:r>
                        <a:rPr b="0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GO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GO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. CONRO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85720" y="-360"/>
            <a:ext cx="797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w Proje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19280" y="968400"/>
            <a:ext cx="77040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00"/>
                </a:solidFill>
                <a:uFillTx/>
                <a:latin typeface="Arial"/>
              </a:rPr>
              <a:t>UMM PROFILE FOR U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Aft>
                <a:spcPts val="499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00"/>
                </a:solidFill>
                <a:latin typeface="Arial"/>
              </a:rPr>
              <a:t>DEFINE UML PROFILE FOR CLASS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58960" indent="-387360">
              <a:lnSpc>
                <a:spcPts val="2200"/>
              </a:lnSpc>
              <a:spcAft>
                <a:spcPts val="400"/>
              </a:spcAft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ERMIT COMMON USE OF UML ARTIF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58960" indent="-387360">
              <a:lnSpc>
                <a:spcPts val="2200"/>
              </a:lnSpc>
              <a:spcAft>
                <a:spcPts val="400"/>
              </a:spcAft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ENHANCE INTEROPER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58960" indent="-387360">
              <a:lnSpc>
                <a:spcPts val="2200"/>
              </a:lnSpc>
              <a:spcAft>
                <a:spcPts val="400"/>
              </a:spcAft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ENABLE AUTOMATIC XML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Aft>
                <a:spcPts val="499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00"/>
                </a:solidFill>
                <a:latin typeface="Arial"/>
              </a:rPr>
              <a:t>DEFINE UML PROFILE FOR CORE COMPON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58960" indent="-387360">
              <a:lnSpc>
                <a:spcPts val="2200"/>
              </a:lnSpc>
              <a:spcAft>
                <a:spcPts val="400"/>
              </a:spcAft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ERMIT INTERGRATION AND USE IN UML DEVELOPMENT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58960" indent="-387360">
              <a:lnSpc>
                <a:spcPts val="2200"/>
              </a:lnSpc>
              <a:spcAft>
                <a:spcPts val="400"/>
              </a:spcAft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ROVIDE AUTOMATED PLATFORM FOR LIBRARY COMPONENT U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58960" indent="-387360">
              <a:lnSpc>
                <a:spcPts val="2200"/>
              </a:lnSpc>
              <a:spcAft>
                <a:spcPts val="400"/>
              </a:spcAft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ENABLE THE DEVELOPMENT OF REUSABLE MOD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0">
              <a:lnSpc>
                <a:spcPts val="29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38360" y="56386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0000"/>
                </a:solidFill>
                <a:latin typeface="Arial"/>
              </a:rPr>
              <a:t>REQUIRED FOR THE DEVELOPMENT OF THE UN REPOSITORY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ems for Plenary Not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300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Recommendation 16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Aft>
                <a:spcPts val="300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UN/LOCODE 2003-2 and UN/LOCODE 2004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300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Recommendation 23</a:t>
            </a: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Aft>
                <a:spcPts val="300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Freight cost codes – F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300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UN/EDIFACT D.03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300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UN/EDIFACT D.03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300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TBG/ATG/ICG workflow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s for Plenary a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300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Difficulty in securing participation to the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300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New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300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Functions not yet vi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300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New deliverables that require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59840" y="4724280"/>
            <a:ext cx="69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0000"/>
                </a:solidFill>
                <a:latin typeface="Arial"/>
              </a:rPr>
              <a:t>Request Heads of Delegation to encourage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00288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08640" y="4428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93880" y="3701880"/>
            <a:ext cx="3741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00"/>
                </a:solidFill>
                <a:latin typeface="Arial"/>
              </a:rPr>
              <a:t>UN/CEFAC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581280" y="1828800"/>
            <a:ext cx="2057400" cy="1751040"/>
            <a:chOff x="3581280" y="1828800"/>
            <a:chExt cx="2057400" cy="1751040"/>
          </a:xfrm>
        </p:grpSpPr>
        <p:sp>
          <p:nvSpPr>
            <p:cNvPr id="185" name=""/>
            <p:cNvSpPr/>
            <p:nvPr/>
          </p:nvSpPr>
          <p:spPr>
            <a:xfrm>
              <a:off x="3816000" y="1828800"/>
              <a:ext cx="235080" cy="285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0000"/>
                  </a:moveTo>
                  <a:lnTo>
                    <a:pt x="18115" y="10864"/>
                  </a:lnTo>
                  <a:lnTo>
                    <a:pt x="16326" y="11794"/>
                  </a:lnTo>
                  <a:lnTo>
                    <a:pt x="14653" y="12838"/>
                  </a:lnTo>
                  <a:lnTo>
                    <a:pt x="13173" y="13964"/>
                  </a:lnTo>
                  <a:lnTo>
                    <a:pt x="11923" y="15236"/>
                  </a:lnTo>
                  <a:lnTo>
                    <a:pt x="10923" y="16639"/>
                  </a:lnTo>
                  <a:lnTo>
                    <a:pt x="10269" y="18205"/>
                  </a:lnTo>
                  <a:lnTo>
                    <a:pt x="10000" y="20000"/>
                  </a:lnTo>
                  <a:lnTo>
                    <a:pt x="11769" y="18988"/>
                  </a:lnTo>
                  <a:lnTo>
                    <a:pt x="13346" y="17830"/>
                  </a:lnTo>
                  <a:lnTo>
                    <a:pt x="14788" y="16541"/>
                  </a:lnTo>
                  <a:lnTo>
                    <a:pt x="16057" y="15171"/>
                  </a:lnTo>
                  <a:lnTo>
                    <a:pt x="17192" y="13800"/>
                  </a:lnTo>
                  <a:lnTo>
                    <a:pt x="18211" y="12430"/>
                  </a:lnTo>
                  <a:lnTo>
                    <a:pt x="19153" y="11141"/>
                  </a:lnTo>
                  <a:lnTo>
                    <a:pt x="20000" y="10000"/>
                  </a:lnTo>
                  <a:close/>
                  <a:moveTo>
                    <a:pt x="2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81280" y="2593800"/>
              <a:ext cx="253800" cy="42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121" y="10000"/>
                  </a:moveTo>
                  <a:lnTo>
                    <a:pt x="19408" y="10581"/>
                  </a:lnTo>
                  <a:lnTo>
                    <a:pt x="19659" y="11293"/>
                  </a:lnTo>
                  <a:lnTo>
                    <a:pt x="19856" y="12171"/>
                  </a:lnTo>
                  <a:lnTo>
                    <a:pt x="19982" y="13234"/>
                  </a:lnTo>
                  <a:lnTo>
                    <a:pt x="20000" y="14506"/>
                  </a:lnTo>
                  <a:lnTo>
                    <a:pt x="19892" y="16052"/>
                  </a:lnTo>
                  <a:lnTo>
                    <a:pt x="19659" y="17861"/>
                  </a:lnTo>
                  <a:lnTo>
                    <a:pt x="19265" y="20000"/>
                  </a:lnTo>
                  <a:lnTo>
                    <a:pt x="16146" y="18432"/>
                  </a:lnTo>
                  <a:lnTo>
                    <a:pt x="13853" y="17072"/>
                  </a:lnTo>
                  <a:lnTo>
                    <a:pt x="12258" y="15888"/>
                  </a:lnTo>
                  <a:lnTo>
                    <a:pt x="11236" y="14824"/>
                  </a:lnTo>
                  <a:lnTo>
                    <a:pt x="10627" y="13815"/>
                  </a:lnTo>
                  <a:lnTo>
                    <a:pt x="10304" y="12850"/>
                  </a:lnTo>
                  <a:lnTo>
                    <a:pt x="10125" y="11864"/>
                  </a:lnTo>
                  <a:lnTo>
                    <a:pt x="10000" y="10844"/>
                  </a:lnTo>
                  <a:lnTo>
                    <a:pt x="11254" y="11809"/>
                  </a:lnTo>
                  <a:lnTo>
                    <a:pt x="12204" y="12598"/>
                  </a:lnTo>
                  <a:lnTo>
                    <a:pt x="12956" y="13267"/>
                  </a:lnTo>
                  <a:lnTo>
                    <a:pt x="13602" y="13903"/>
                  </a:lnTo>
                  <a:lnTo>
                    <a:pt x="14265" y="14561"/>
                  </a:lnTo>
                  <a:lnTo>
                    <a:pt x="15053" y="15296"/>
                  </a:lnTo>
                  <a:lnTo>
                    <a:pt x="16111" y="16184"/>
                  </a:lnTo>
                  <a:lnTo>
                    <a:pt x="17544" y="17302"/>
                  </a:lnTo>
                  <a:lnTo>
                    <a:pt x="17562" y="16315"/>
                  </a:lnTo>
                  <a:lnTo>
                    <a:pt x="17652" y="15350"/>
                  </a:lnTo>
                  <a:lnTo>
                    <a:pt x="17795" y="14407"/>
                  </a:lnTo>
                  <a:lnTo>
                    <a:pt x="17974" y="13486"/>
                  </a:lnTo>
                  <a:lnTo>
                    <a:pt x="18189" y="12576"/>
                  </a:lnTo>
                  <a:lnTo>
                    <a:pt x="18458" y="11688"/>
                  </a:lnTo>
                  <a:lnTo>
                    <a:pt x="18781" y="10833"/>
                  </a:lnTo>
                  <a:lnTo>
                    <a:pt x="19121" y="10000"/>
                  </a:lnTo>
                  <a:close/>
                  <a:moveTo>
                    <a:pt x="19121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67080" y="1828800"/>
              <a:ext cx="235080" cy="285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1865" y="10864"/>
                  </a:lnTo>
                  <a:lnTo>
                    <a:pt x="13653" y="11794"/>
                  </a:lnTo>
                  <a:lnTo>
                    <a:pt x="15326" y="12838"/>
                  </a:lnTo>
                  <a:lnTo>
                    <a:pt x="16807" y="13964"/>
                  </a:lnTo>
                  <a:lnTo>
                    <a:pt x="18057" y="15236"/>
                  </a:lnTo>
                  <a:lnTo>
                    <a:pt x="19038" y="16639"/>
                  </a:lnTo>
                  <a:lnTo>
                    <a:pt x="19711" y="18205"/>
                  </a:lnTo>
                  <a:lnTo>
                    <a:pt x="20000" y="20000"/>
                  </a:lnTo>
                  <a:lnTo>
                    <a:pt x="18211" y="18988"/>
                  </a:lnTo>
                  <a:lnTo>
                    <a:pt x="16634" y="17830"/>
                  </a:lnTo>
                  <a:lnTo>
                    <a:pt x="15192" y="16541"/>
                  </a:lnTo>
                  <a:lnTo>
                    <a:pt x="13903" y="15171"/>
                  </a:lnTo>
                  <a:lnTo>
                    <a:pt x="12788" y="13800"/>
                  </a:lnTo>
                  <a:lnTo>
                    <a:pt x="11769" y="12430"/>
                  </a:lnTo>
                  <a:lnTo>
                    <a:pt x="10826" y="11141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83080" y="2593800"/>
              <a:ext cx="255600" cy="42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858" y="10000"/>
                  </a:moveTo>
                  <a:lnTo>
                    <a:pt x="10572" y="10581"/>
                  </a:lnTo>
                  <a:lnTo>
                    <a:pt x="10322" y="11293"/>
                  </a:lnTo>
                  <a:lnTo>
                    <a:pt x="10125" y="12171"/>
                  </a:lnTo>
                  <a:lnTo>
                    <a:pt x="10017" y="13234"/>
                  </a:lnTo>
                  <a:lnTo>
                    <a:pt x="10000" y="14506"/>
                  </a:lnTo>
                  <a:lnTo>
                    <a:pt x="10107" y="16052"/>
                  </a:lnTo>
                  <a:lnTo>
                    <a:pt x="10322" y="17861"/>
                  </a:lnTo>
                  <a:lnTo>
                    <a:pt x="10751" y="20000"/>
                  </a:lnTo>
                  <a:lnTo>
                    <a:pt x="13846" y="18432"/>
                  </a:lnTo>
                  <a:lnTo>
                    <a:pt x="16118" y="17072"/>
                  </a:lnTo>
                  <a:lnTo>
                    <a:pt x="17728" y="15888"/>
                  </a:lnTo>
                  <a:lnTo>
                    <a:pt x="18729" y="14824"/>
                  </a:lnTo>
                  <a:lnTo>
                    <a:pt x="19338" y="13815"/>
                  </a:lnTo>
                  <a:lnTo>
                    <a:pt x="19660" y="12850"/>
                  </a:lnTo>
                  <a:lnTo>
                    <a:pt x="19839" y="11864"/>
                  </a:lnTo>
                  <a:lnTo>
                    <a:pt x="20000" y="10844"/>
                  </a:lnTo>
                  <a:lnTo>
                    <a:pt x="18711" y="11809"/>
                  </a:lnTo>
                  <a:lnTo>
                    <a:pt x="17763" y="12598"/>
                  </a:lnTo>
                  <a:lnTo>
                    <a:pt x="17012" y="13267"/>
                  </a:lnTo>
                  <a:lnTo>
                    <a:pt x="16368" y="13903"/>
                  </a:lnTo>
                  <a:lnTo>
                    <a:pt x="15706" y="14561"/>
                  </a:lnTo>
                  <a:lnTo>
                    <a:pt x="14919" y="15296"/>
                  </a:lnTo>
                  <a:lnTo>
                    <a:pt x="13864" y="16184"/>
                  </a:lnTo>
                  <a:lnTo>
                    <a:pt x="12450" y="17302"/>
                  </a:lnTo>
                  <a:lnTo>
                    <a:pt x="12397" y="16315"/>
                  </a:lnTo>
                  <a:lnTo>
                    <a:pt x="12325" y="15350"/>
                  </a:lnTo>
                  <a:lnTo>
                    <a:pt x="12182" y="14407"/>
                  </a:lnTo>
                  <a:lnTo>
                    <a:pt x="12021" y="13486"/>
                  </a:lnTo>
                  <a:lnTo>
                    <a:pt x="11771" y="12576"/>
                  </a:lnTo>
                  <a:lnTo>
                    <a:pt x="11520" y="11688"/>
                  </a:lnTo>
                  <a:lnTo>
                    <a:pt x="11216" y="10833"/>
                  </a:lnTo>
                  <a:lnTo>
                    <a:pt x="10858" y="10000"/>
                  </a:lnTo>
                  <a:close/>
                  <a:moveTo>
                    <a:pt x="10858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49640" y="3014640"/>
              <a:ext cx="480960" cy="372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546" y="10000"/>
                  </a:moveTo>
                  <a:lnTo>
                    <a:pt x="14605" y="11384"/>
                  </a:lnTo>
                  <a:lnTo>
                    <a:pt x="13798" y="12693"/>
                  </a:lnTo>
                  <a:lnTo>
                    <a:pt x="13114" y="13940"/>
                  </a:lnTo>
                  <a:lnTo>
                    <a:pt x="12488" y="15124"/>
                  </a:lnTo>
                  <a:lnTo>
                    <a:pt x="11908" y="16259"/>
                  </a:lnTo>
                  <a:lnTo>
                    <a:pt x="11320" y="17394"/>
                  </a:lnTo>
                  <a:lnTo>
                    <a:pt x="10693" y="18503"/>
                  </a:lnTo>
                  <a:lnTo>
                    <a:pt x="10000" y="19625"/>
                  </a:lnTo>
                  <a:lnTo>
                    <a:pt x="10987" y="19663"/>
                  </a:lnTo>
                  <a:lnTo>
                    <a:pt x="12051" y="19850"/>
                  </a:lnTo>
                  <a:lnTo>
                    <a:pt x="13181" y="20000"/>
                  </a:lnTo>
                  <a:lnTo>
                    <a:pt x="14387" y="19987"/>
                  </a:lnTo>
                  <a:lnTo>
                    <a:pt x="15669" y="19638"/>
                  </a:lnTo>
                  <a:lnTo>
                    <a:pt x="17027" y="18815"/>
                  </a:lnTo>
                  <a:lnTo>
                    <a:pt x="18480" y="17369"/>
                  </a:lnTo>
                  <a:lnTo>
                    <a:pt x="20000" y="15124"/>
                  </a:lnTo>
                  <a:lnTo>
                    <a:pt x="19297" y="15635"/>
                  </a:lnTo>
                  <a:lnTo>
                    <a:pt x="18613" y="16109"/>
                  </a:lnTo>
                  <a:lnTo>
                    <a:pt x="17882" y="16533"/>
                  </a:lnTo>
                  <a:lnTo>
                    <a:pt x="17065" y="16945"/>
                  </a:lnTo>
                  <a:lnTo>
                    <a:pt x="16115" y="17356"/>
                  </a:lnTo>
                  <a:lnTo>
                    <a:pt x="15014" y="17755"/>
                  </a:lnTo>
                  <a:lnTo>
                    <a:pt x="13694" y="18179"/>
                  </a:lnTo>
                  <a:lnTo>
                    <a:pt x="12117" y="18653"/>
                  </a:lnTo>
                  <a:lnTo>
                    <a:pt x="13219" y="17294"/>
                  </a:lnTo>
                  <a:lnTo>
                    <a:pt x="14055" y="15860"/>
                  </a:lnTo>
                  <a:lnTo>
                    <a:pt x="14662" y="14413"/>
                  </a:lnTo>
                  <a:lnTo>
                    <a:pt x="15080" y="13054"/>
                  </a:lnTo>
                  <a:lnTo>
                    <a:pt x="15337" y="11832"/>
                  </a:lnTo>
                  <a:lnTo>
                    <a:pt x="15470" y="10860"/>
                  </a:lnTo>
                  <a:lnTo>
                    <a:pt x="15536" y="10224"/>
                  </a:lnTo>
                  <a:lnTo>
                    <a:pt x="15546" y="10000"/>
                  </a:lnTo>
                  <a:close/>
                  <a:moveTo>
                    <a:pt x="15546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02040" y="2027160"/>
              <a:ext cx="54000" cy="36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15" y="12025"/>
                  </a:moveTo>
                  <a:lnTo>
                    <a:pt x="18991" y="10000"/>
                  </a:lnTo>
                  <a:lnTo>
                    <a:pt x="10000" y="14430"/>
                  </a:lnTo>
                  <a:lnTo>
                    <a:pt x="10420" y="20000"/>
                  </a:lnTo>
                  <a:lnTo>
                    <a:pt x="12016" y="16455"/>
                  </a:lnTo>
                  <a:lnTo>
                    <a:pt x="13277" y="15949"/>
                  </a:lnTo>
                  <a:lnTo>
                    <a:pt x="13865" y="12911"/>
                  </a:lnTo>
                  <a:lnTo>
                    <a:pt x="15630" y="14430"/>
                  </a:lnTo>
                  <a:lnTo>
                    <a:pt x="20000" y="12278"/>
                  </a:lnTo>
                  <a:lnTo>
                    <a:pt x="19915" y="12025"/>
                  </a:lnTo>
                  <a:close/>
                  <a:moveTo>
                    <a:pt x="19915" y="1202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08240" y="2324160"/>
              <a:ext cx="84240" cy="90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1189" y="10567"/>
                  </a:moveTo>
                  <a:lnTo>
                    <a:pt x="12486" y="12319"/>
                  </a:lnTo>
                  <a:lnTo>
                    <a:pt x="13135" y="10000"/>
                  </a:lnTo>
                  <a:lnTo>
                    <a:pt x="14972" y="12319"/>
                  </a:lnTo>
                  <a:lnTo>
                    <a:pt x="12216" y="15463"/>
                  </a:lnTo>
                  <a:lnTo>
                    <a:pt x="13027" y="16391"/>
                  </a:lnTo>
                  <a:lnTo>
                    <a:pt x="16000" y="16597"/>
                  </a:lnTo>
                  <a:lnTo>
                    <a:pt x="19297" y="20000"/>
                  </a:lnTo>
                  <a:lnTo>
                    <a:pt x="20000" y="19536"/>
                  </a:lnTo>
                  <a:lnTo>
                    <a:pt x="18594" y="17061"/>
                  </a:lnTo>
                  <a:lnTo>
                    <a:pt x="16378" y="14432"/>
                  </a:lnTo>
                  <a:lnTo>
                    <a:pt x="11891" y="13195"/>
                  </a:lnTo>
                  <a:lnTo>
                    <a:pt x="10000" y="10773"/>
                  </a:lnTo>
                  <a:lnTo>
                    <a:pt x="11189" y="10567"/>
                  </a:lnTo>
                  <a:close/>
                  <a:moveTo>
                    <a:pt x="11189" y="1056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27320" y="2898720"/>
              <a:ext cx="46080" cy="730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3168" y="20000"/>
                  </a:moveTo>
                  <a:lnTo>
                    <a:pt x="10000" y="17798"/>
                  </a:lnTo>
                  <a:lnTo>
                    <a:pt x="12673" y="13333"/>
                  </a:lnTo>
                  <a:lnTo>
                    <a:pt x="13168" y="12201"/>
                  </a:lnTo>
                  <a:lnTo>
                    <a:pt x="17722" y="10000"/>
                  </a:lnTo>
                  <a:lnTo>
                    <a:pt x="20000" y="13899"/>
                  </a:lnTo>
                  <a:lnTo>
                    <a:pt x="17722" y="18679"/>
                  </a:lnTo>
                  <a:lnTo>
                    <a:pt x="12673" y="20000"/>
                  </a:lnTo>
                  <a:lnTo>
                    <a:pt x="13168" y="20000"/>
                  </a:lnTo>
                  <a:close/>
                  <a:moveTo>
                    <a:pt x="1316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13280" y="2068560"/>
              <a:ext cx="33120" cy="284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34" y="10000"/>
                  </a:moveTo>
                  <a:lnTo>
                    <a:pt x="20000" y="15000"/>
                  </a:lnTo>
                  <a:lnTo>
                    <a:pt x="16438" y="20000"/>
                  </a:lnTo>
                  <a:lnTo>
                    <a:pt x="10000" y="12903"/>
                  </a:lnTo>
                  <a:lnTo>
                    <a:pt x="17534" y="10000"/>
                  </a:lnTo>
                  <a:close/>
                  <a:moveTo>
                    <a:pt x="1753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68560" y="2200320"/>
              <a:ext cx="82800" cy="1094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6775" y="13679"/>
                  </a:lnTo>
                  <a:lnTo>
                    <a:pt x="17049" y="16363"/>
                  </a:lnTo>
                  <a:lnTo>
                    <a:pt x="20000" y="18874"/>
                  </a:lnTo>
                  <a:lnTo>
                    <a:pt x="18032" y="20000"/>
                  </a:lnTo>
                  <a:lnTo>
                    <a:pt x="11475" y="15974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14640" y="2089080"/>
              <a:ext cx="295200" cy="274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8315" y="20000"/>
                  </a:moveTo>
                  <a:lnTo>
                    <a:pt x="17588" y="19931"/>
                  </a:lnTo>
                  <a:lnTo>
                    <a:pt x="16553" y="18911"/>
                  </a:lnTo>
                  <a:lnTo>
                    <a:pt x="14992" y="17772"/>
                  </a:lnTo>
                  <a:lnTo>
                    <a:pt x="13199" y="16751"/>
                  </a:lnTo>
                  <a:lnTo>
                    <a:pt x="12843" y="16224"/>
                  </a:lnTo>
                  <a:lnTo>
                    <a:pt x="13585" y="15391"/>
                  </a:lnTo>
                  <a:lnTo>
                    <a:pt x="13091" y="14404"/>
                  </a:lnTo>
                  <a:lnTo>
                    <a:pt x="11035" y="15306"/>
                  </a:lnTo>
                  <a:lnTo>
                    <a:pt x="10000" y="11547"/>
                  </a:lnTo>
                  <a:lnTo>
                    <a:pt x="10077" y="10901"/>
                  </a:lnTo>
                  <a:lnTo>
                    <a:pt x="12333" y="10000"/>
                  </a:lnTo>
                  <a:lnTo>
                    <a:pt x="13199" y="10442"/>
                  </a:lnTo>
                  <a:lnTo>
                    <a:pt x="13724" y="10901"/>
                  </a:lnTo>
                  <a:lnTo>
                    <a:pt x="14204" y="10867"/>
                  </a:lnTo>
                  <a:lnTo>
                    <a:pt x="15409" y="12108"/>
                  </a:lnTo>
                  <a:lnTo>
                    <a:pt x="15378" y="13996"/>
                  </a:lnTo>
                  <a:lnTo>
                    <a:pt x="20000" y="18486"/>
                  </a:lnTo>
                  <a:lnTo>
                    <a:pt x="18315" y="20000"/>
                  </a:lnTo>
                  <a:close/>
                  <a:moveTo>
                    <a:pt x="1831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82920" y="2595600"/>
              <a:ext cx="19080" cy="50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849"/>
                  </a:moveTo>
                  <a:lnTo>
                    <a:pt x="10000" y="11037"/>
                  </a:lnTo>
                  <a:lnTo>
                    <a:pt x="10270" y="11603"/>
                  </a:lnTo>
                  <a:lnTo>
                    <a:pt x="10810" y="12547"/>
                  </a:lnTo>
                  <a:lnTo>
                    <a:pt x="11891" y="13490"/>
                  </a:lnTo>
                  <a:lnTo>
                    <a:pt x="12432" y="14433"/>
                  </a:lnTo>
                  <a:lnTo>
                    <a:pt x="12972" y="15471"/>
                  </a:lnTo>
                  <a:lnTo>
                    <a:pt x="13243" y="15943"/>
                  </a:lnTo>
                  <a:lnTo>
                    <a:pt x="13783" y="16320"/>
                  </a:lnTo>
                  <a:lnTo>
                    <a:pt x="13783" y="16415"/>
                  </a:lnTo>
                  <a:lnTo>
                    <a:pt x="14594" y="16698"/>
                  </a:lnTo>
                  <a:lnTo>
                    <a:pt x="15405" y="17264"/>
                  </a:lnTo>
                  <a:lnTo>
                    <a:pt x="16756" y="17924"/>
                  </a:lnTo>
                  <a:lnTo>
                    <a:pt x="17837" y="18490"/>
                  </a:lnTo>
                  <a:lnTo>
                    <a:pt x="18918" y="19056"/>
                  </a:lnTo>
                  <a:lnTo>
                    <a:pt x="19729" y="19433"/>
                  </a:lnTo>
                  <a:lnTo>
                    <a:pt x="20000" y="19622"/>
                  </a:lnTo>
                  <a:lnTo>
                    <a:pt x="19729" y="19622"/>
                  </a:lnTo>
                  <a:lnTo>
                    <a:pt x="18918" y="19622"/>
                  </a:lnTo>
                  <a:lnTo>
                    <a:pt x="17837" y="19716"/>
                  </a:lnTo>
                  <a:lnTo>
                    <a:pt x="16756" y="19811"/>
                  </a:lnTo>
                  <a:lnTo>
                    <a:pt x="15405" y="19811"/>
                  </a:lnTo>
                  <a:lnTo>
                    <a:pt x="14594" y="19905"/>
                  </a:lnTo>
                  <a:lnTo>
                    <a:pt x="13783" y="19905"/>
                  </a:lnTo>
                  <a:lnTo>
                    <a:pt x="13783" y="20000"/>
                  </a:lnTo>
                  <a:lnTo>
                    <a:pt x="13783" y="19905"/>
                  </a:lnTo>
                  <a:lnTo>
                    <a:pt x="13783" y="19716"/>
                  </a:lnTo>
                  <a:lnTo>
                    <a:pt x="13783" y="19528"/>
                  </a:lnTo>
                  <a:lnTo>
                    <a:pt x="13783" y="19150"/>
                  </a:lnTo>
                  <a:lnTo>
                    <a:pt x="13783" y="18867"/>
                  </a:lnTo>
                  <a:lnTo>
                    <a:pt x="13783" y="18679"/>
                  </a:lnTo>
                  <a:lnTo>
                    <a:pt x="13783" y="18396"/>
                  </a:lnTo>
                  <a:lnTo>
                    <a:pt x="13783" y="18207"/>
                  </a:lnTo>
                  <a:lnTo>
                    <a:pt x="14324" y="17830"/>
                  </a:lnTo>
                  <a:lnTo>
                    <a:pt x="14864" y="17264"/>
                  </a:lnTo>
                  <a:lnTo>
                    <a:pt x="15405" y="16603"/>
                  </a:lnTo>
                  <a:lnTo>
                    <a:pt x="16216" y="15849"/>
                  </a:lnTo>
                  <a:lnTo>
                    <a:pt x="16756" y="15377"/>
                  </a:lnTo>
                  <a:lnTo>
                    <a:pt x="17297" y="14905"/>
                  </a:lnTo>
                  <a:lnTo>
                    <a:pt x="17567" y="14811"/>
                  </a:lnTo>
                  <a:lnTo>
                    <a:pt x="17297" y="14622"/>
                  </a:lnTo>
                  <a:lnTo>
                    <a:pt x="16756" y="13962"/>
                  </a:lnTo>
                  <a:lnTo>
                    <a:pt x="16216" y="13207"/>
                  </a:lnTo>
                  <a:lnTo>
                    <a:pt x="15405" y="12358"/>
                  </a:lnTo>
                  <a:lnTo>
                    <a:pt x="14864" y="11509"/>
                  </a:lnTo>
                  <a:lnTo>
                    <a:pt x="14324" y="10754"/>
                  </a:lnTo>
                  <a:lnTo>
                    <a:pt x="13783" y="10094"/>
                  </a:lnTo>
                  <a:lnTo>
                    <a:pt x="13783" y="10000"/>
                  </a:lnTo>
                  <a:lnTo>
                    <a:pt x="13243" y="10000"/>
                  </a:lnTo>
                  <a:lnTo>
                    <a:pt x="12972" y="10094"/>
                  </a:lnTo>
                  <a:lnTo>
                    <a:pt x="12432" y="10188"/>
                  </a:lnTo>
                  <a:lnTo>
                    <a:pt x="11891" y="10471"/>
                  </a:lnTo>
                  <a:lnTo>
                    <a:pt x="10810" y="10566"/>
                  </a:lnTo>
                  <a:lnTo>
                    <a:pt x="10270" y="10660"/>
                  </a:lnTo>
                  <a:lnTo>
                    <a:pt x="10000" y="10754"/>
                  </a:lnTo>
                  <a:lnTo>
                    <a:pt x="10000" y="10849"/>
                  </a:lnTo>
                  <a:close/>
                  <a:moveTo>
                    <a:pt x="10000" y="10849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92400" y="2414520"/>
              <a:ext cx="596880" cy="498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68" y="17415"/>
                  </a:moveTo>
                  <a:lnTo>
                    <a:pt x="10000" y="16919"/>
                  </a:lnTo>
                  <a:lnTo>
                    <a:pt x="10206" y="16226"/>
                  </a:lnTo>
                  <a:lnTo>
                    <a:pt x="10435" y="15983"/>
                  </a:lnTo>
                  <a:lnTo>
                    <a:pt x="10986" y="15664"/>
                  </a:lnTo>
                  <a:lnTo>
                    <a:pt x="11750" y="15683"/>
                  </a:lnTo>
                  <a:lnTo>
                    <a:pt x="12400" y="15421"/>
                  </a:lnTo>
                  <a:lnTo>
                    <a:pt x="12538" y="14737"/>
                  </a:lnTo>
                  <a:lnTo>
                    <a:pt x="13188" y="13960"/>
                  </a:lnTo>
                  <a:lnTo>
                    <a:pt x="13784" y="13904"/>
                  </a:lnTo>
                  <a:lnTo>
                    <a:pt x="14151" y="13979"/>
                  </a:lnTo>
                  <a:lnTo>
                    <a:pt x="14067" y="13735"/>
                  </a:lnTo>
                  <a:lnTo>
                    <a:pt x="14365" y="12471"/>
                  </a:lnTo>
                  <a:lnTo>
                    <a:pt x="14648" y="11910"/>
                  </a:lnTo>
                  <a:lnTo>
                    <a:pt x="14541" y="11882"/>
                  </a:lnTo>
                  <a:lnTo>
                    <a:pt x="14938" y="11058"/>
                  </a:lnTo>
                  <a:lnTo>
                    <a:pt x="15382" y="10608"/>
                  </a:lnTo>
                  <a:lnTo>
                    <a:pt x="16009" y="10159"/>
                  </a:lnTo>
                  <a:lnTo>
                    <a:pt x="17064" y="10177"/>
                  </a:lnTo>
                  <a:lnTo>
                    <a:pt x="17362" y="10458"/>
                  </a:lnTo>
                  <a:lnTo>
                    <a:pt x="17943" y="10608"/>
                  </a:lnTo>
                  <a:lnTo>
                    <a:pt x="18822" y="10374"/>
                  </a:lnTo>
                  <a:lnTo>
                    <a:pt x="19311" y="10000"/>
                  </a:lnTo>
                  <a:lnTo>
                    <a:pt x="19931" y="10543"/>
                  </a:lnTo>
                  <a:lnTo>
                    <a:pt x="20000" y="10805"/>
                  </a:lnTo>
                  <a:lnTo>
                    <a:pt x="19694" y="11123"/>
                  </a:lnTo>
                  <a:lnTo>
                    <a:pt x="19296" y="11301"/>
                  </a:lnTo>
                  <a:lnTo>
                    <a:pt x="18685" y="12162"/>
                  </a:lnTo>
                  <a:lnTo>
                    <a:pt x="18715" y="13202"/>
                  </a:lnTo>
                  <a:lnTo>
                    <a:pt x="18539" y="13651"/>
                  </a:lnTo>
                  <a:lnTo>
                    <a:pt x="18379" y="13651"/>
                  </a:lnTo>
                  <a:lnTo>
                    <a:pt x="17943" y="14129"/>
                  </a:lnTo>
                  <a:lnTo>
                    <a:pt x="17683" y="14737"/>
                  </a:lnTo>
                  <a:lnTo>
                    <a:pt x="17392" y="14794"/>
                  </a:lnTo>
                  <a:lnTo>
                    <a:pt x="17224" y="14428"/>
                  </a:lnTo>
                  <a:lnTo>
                    <a:pt x="17087" y="14447"/>
                  </a:lnTo>
                  <a:lnTo>
                    <a:pt x="16712" y="14129"/>
                  </a:lnTo>
                  <a:lnTo>
                    <a:pt x="16383" y="14147"/>
                  </a:lnTo>
                  <a:lnTo>
                    <a:pt x="15802" y="13885"/>
                  </a:lnTo>
                  <a:lnTo>
                    <a:pt x="15397" y="13979"/>
                  </a:lnTo>
                  <a:lnTo>
                    <a:pt x="15344" y="13885"/>
                  </a:lnTo>
                  <a:lnTo>
                    <a:pt x="15642" y="13717"/>
                  </a:lnTo>
                  <a:lnTo>
                    <a:pt x="15558" y="13089"/>
                  </a:lnTo>
                  <a:lnTo>
                    <a:pt x="15313" y="12921"/>
                  </a:lnTo>
                  <a:lnTo>
                    <a:pt x="14977" y="12883"/>
                  </a:lnTo>
                  <a:lnTo>
                    <a:pt x="14610" y="13220"/>
                  </a:lnTo>
                  <a:lnTo>
                    <a:pt x="14770" y="13483"/>
                  </a:lnTo>
                  <a:lnTo>
                    <a:pt x="14311" y="13567"/>
                  </a:lnTo>
                  <a:lnTo>
                    <a:pt x="14311" y="13679"/>
                  </a:lnTo>
                  <a:lnTo>
                    <a:pt x="14136" y="13782"/>
                  </a:lnTo>
                  <a:lnTo>
                    <a:pt x="14648" y="14494"/>
                  </a:lnTo>
                  <a:lnTo>
                    <a:pt x="14717" y="14775"/>
                  </a:lnTo>
                  <a:lnTo>
                    <a:pt x="14648" y="14840"/>
                  </a:lnTo>
                  <a:lnTo>
                    <a:pt x="14938" y="15486"/>
                  </a:lnTo>
                  <a:lnTo>
                    <a:pt x="14923" y="16114"/>
                  </a:lnTo>
                  <a:lnTo>
                    <a:pt x="15229" y="16853"/>
                  </a:lnTo>
                  <a:lnTo>
                    <a:pt x="15191" y="17621"/>
                  </a:lnTo>
                  <a:lnTo>
                    <a:pt x="15412" y="17865"/>
                  </a:lnTo>
                  <a:lnTo>
                    <a:pt x="16452" y="19550"/>
                  </a:lnTo>
                  <a:lnTo>
                    <a:pt x="16223" y="19915"/>
                  </a:lnTo>
                  <a:lnTo>
                    <a:pt x="14411" y="20000"/>
                  </a:lnTo>
                  <a:lnTo>
                    <a:pt x="14051" y="19653"/>
                  </a:lnTo>
                  <a:lnTo>
                    <a:pt x="13012" y="19391"/>
                  </a:lnTo>
                  <a:lnTo>
                    <a:pt x="12010" y="18389"/>
                  </a:lnTo>
                  <a:lnTo>
                    <a:pt x="12010" y="18146"/>
                  </a:lnTo>
                  <a:lnTo>
                    <a:pt x="11804" y="18211"/>
                  </a:lnTo>
                  <a:lnTo>
                    <a:pt x="11399" y="17911"/>
                  </a:lnTo>
                  <a:lnTo>
                    <a:pt x="11154" y="17584"/>
                  </a:lnTo>
                  <a:lnTo>
                    <a:pt x="10275" y="17247"/>
                  </a:lnTo>
                  <a:lnTo>
                    <a:pt x="10068" y="17415"/>
                  </a:lnTo>
                  <a:close/>
                  <a:moveTo>
                    <a:pt x="10068" y="1741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87760" y="2565360"/>
              <a:ext cx="98280" cy="90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5" y="20000"/>
                  </a:moveTo>
                  <a:lnTo>
                    <a:pt x="10185" y="18118"/>
                  </a:lnTo>
                  <a:lnTo>
                    <a:pt x="16388" y="10000"/>
                  </a:lnTo>
                  <a:lnTo>
                    <a:pt x="20000" y="12580"/>
                  </a:lnTo>
                  <a:lnTo>
                    <a:pt x="19768" y="14784"/>
                  </a:lnTo>
                  <a:lnTo>
                    <a:pt x="17638" y="18118"/>
                  </a:lnTo>
                  <a:lnTo>
                    <a:pt x="10000" y="20000"/>
                  </a:lnTo>
                  <a:lnTo>
                    <a:pt x="10185" y="20000"/>
                  </a:lnTo>
                  <a:close/>
                  <a:moveTo>
                    <a:pt x="1018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60840" y="2646360"/>
              <a:ext cx="17280" cy="11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71" y="11851"/>
                  </a:moveTo>
                  <a:lnTo>
                    <a:pt x="10000" y="20000"/>
                  </a:lnTo>
                  <a:lnTo>
                    <a:pt x="17428" y="20000"/>
                  </a:lnTo>
                  <a:lnTo>
                    <a:pt x="20000" y="13333"/>
                  </a:lnTo>
                  <a:lnTo>
                    <a:pt x="13714" y="10000"/>
                  </a:lnTo>
                  <a:lnTo>
                    <a:pt x="12571" y="11851"/>
                  </a:lnTo>
                  <a:close/>
                  <a:moveTo>
                    <a:pt x="12571" y="1185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41760" y="2341440"/>
              <a:ext cx="495360" cy="743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350" y="20000"/>
                  </a:moveTo>
                  <a:lnTo>
                    <a:pt x="13929" y="19667"/>
                  </a:lnTo>
                  <a:lnTo>
                    <a:pt x="13274" y="19058"/>
                  </a:lnTo>
                  <a:lnTo>
                    <a:pt x="13311" y="18612"/>
                  </a:lnTo>
                  <a:lnTo>
                    <a:pt x="12915" y="18160"/>
                  </a:lnTo>
                  <a:lnTo>
                    <a:pt x="11669" y="18185"/>
                  </a:lnTo>
                  <a:lnTo>
                    <a:pt x="11005" y="18160"/>
                  </a:lnTo>
                  <a:lnTo>
                    <a:pt x="10285" y="17771"/>
                  </a:lnTo>
                  <a:lnTo>
                    <a:pt x="10184" y="17727"/>
                  </a:lnTo>
                  <a:lnTo>
                    <a:pt x="10000" y="17093"/>
                  </a:lnTo>
                  <a:lnTo>
                    <a:pt x="10184" y="16716"/>
                  </a:lnTo>
                  <a:lnTo>
                    <a:pt x="10968" y="16202"/>
                  </a:lnTo>
                  <a:lnTo>
                    <a:pt x="11891" y="16045"/>
                  </a:lnTo>
                  <a:lnTo>
                    <a:pt x="12020" y="16202"/>
                  </a:lnTo>
                  <a:lnTo>
                    <a:pt x="12573" y="16202"/>
                  </a:lnTo>
                  <a:lnTo>
                    <a:pt x="12610" y="16101"/>
                  </a:lnTo>
                  <a:lnTo>
                    <a:pt x="13191" y="16020"/>
                  </a:lnTo>
                  <a:lnTo>
                    <a:pt x="13044" y="15838"/>
                  </a:lnTo>
                  <a:lnTo>
                    <a:pt x="12675" y="15863"/>
                  </a:lnTo>
                  <a:lnTo>
                    <a:pt x="12426" y="15655"/>
                  </a:lnTo>
                  <a:lnTo>
                    <a:pt x="12592" y="15486"/>
                  </a:lnTo>
                  <a:lnTo>
                    <a:pt x="12998" y="15486"/>
                  </a:lnTo>
                  <a:lnTo>
                    <a:pt x="13081" y="15599"/>
                  </a:lnTo>
                  <a:lnTo>
                    <a:pt x="12592" y="15687"/>
                  </a:lnTo>
                  <a:lnTo>
                    <a:pt x="12426" y="15863"/>
                  </a:lnTo>
                  <a:lnTo>
                    <a:pt x="12260" y="15812"/>
                  </a:lnTo>
                  <a:lnTo>
                    <a:pt x="12066" y="15863"/>
                  </a:lnTo>
                  <a:lnTo>
                    <a:pt x="11752" y="15712"/>
                  </a:lnTo>
                  <a:lnTo>
                    <a:pt x="11476" y="15781"/>
                  </a:lnTo>
                  <a:lnTo>
                    <a:pt x="11300" y="16007"/>
                  </a:lnTo>
                  <a:lnTo>
                    <a:pt x="11116" y="16064"/>
                  </a:lnTo>
                  <a:lnTo>
                    <a:pt x="10987" y="16158"/>
                  </a:lnTo>
                  <a:lnTo>
                    <a:pt x="10904" y="16076"/>
                  </a:lnTo>
                  <a:lnTo>
                    <a:pt x="10664" y="15988"/>
                  </a:lnTo>
                  <a:lnTo>
                    <a:pt x="10719" y="15699"/>
                  </a:lnTo>
                  <a:lnTo>
                    <a:pt x="10821" y="15655"/>
                  </a:lnTo>
                  <a:lnTo>
                    <a:pt x="11153" y="15687"/>
                  </a:lnTo>
                  <a:lnTo>
                    <a:pt x="11199" y="15436"/>
                  </a:lnTo>
                  <a:lnTo>
                    <a:pt x="11005" y="15392"/>
                  </a:lnTo>
                  <a:lnTo>
                    <a:pt x="11005" y="15323"/>
                  </a:lnTo>
                  <a:lnTo>
                    <a:pt x="11236" y="15266"/>
                  </a:lnTo>
                  <a:lnTo>
                    <a:pt x="11300" y="15103"/>
                  </a:lnTo>
                  <a:lnTo>
                    <a:pt x="11217" y="15059"/>
                  </a:lnTo>
                  <a:lnTo>
                    <a:pt x="11153" y="14789"/>
                  </a:lnTo>
                  <a:lnTo>
                    <a:pt x="11070" y="14846"/>
                  </a:lnTo>
                  <a:lnTo>
                    <a:pt x="11005" y="15059"/>
                  </a:lnTo>
                  <a:lnTo>
                    <a:pt x="10839" y="15103"/>
                  </a:lnTo>
                  <a:lnTo>
                    <a:pt x="10867" y="14990"/>
                  </a:lnTo>
                  <a:lnTo>
                    <a:pt x="10987" y="14934"/>
                  </a:lnTo>
                  <a:lnTo>
                    <a:pt x="11088" y="15059"/>
                  </a:lnTo>
                  <a:lnTo>
                    <a:pt x="10987" y="15235"/>
                  </a:lnTo>
                  <a:lnTo>
                    <a:pt x="11503" y="15103"/>
                  </a:lnTo>
                  <a:lnTo>
                    <a:pt x="11586" y="14846"/>
                  </a:lnTo>
                  <a:lnTo>
                    <a:pt x="11476" y="14858"/>
                  </a:lnTo>
                  <a:lnTo>
                    <a:pt x="11439" y="14733"/>
                  </a:lnTo>
                  <a:lnTo>
                    <a:pt x="11559" y="14469"/>
                  </a:lnTo>
                  <a:lnTo>
                    <a:pt x="11559" y="14293"/>
                  </a:lnTo>
                  <a:lnTo>
                    <a:pt x="11789" y="14224"/>
                  </a:lnTo>
                  <a:lnTo>
                    <a:pt x="12343" y="14193"/>
                  </a:lnTo>
                  <a:lnTo>
                    <a:pt x="12961" y="13383"/>
                  </a:lnTo>
                  <a:lnTo>
                    <a:pt x="12832" y="13151"/>
                  </a:lnTo>
                  <a:lnTo>
                    <a:pt x="12961" y="13006"/>
                  </a:lnTo>
                  <a:lnTo>
                    <a:pt x="12555" y="12510"/>
                  </a:lnTo>
                  <a:lnTo>
                    <a:pt x="12832" y="12397"/>
                  </a:lnTo>
                  <a:lnTo>
                    <a:pt x="12020" y="11676"/>
                  </a:lnTo>
                  <a:lnTo>
                    <a:pt x="11134" y="11418"/>
                  </a:lnTo>
                  <a:lnTo>
                    <a:pt x="11153" y="11324"/>
                  </a:lnTo>
                  <a:lnTo>
                    <a:pt x="11706" y="11311"/>
                  </a:lnTo>
                  <a:lnTo>
                    <a:pt x="11725" y="11186"/>
                  </a:lnTo>
                  <a:lnTo>
                    <a:pt x="12721" y="11048"/>
                  </a:lnTo>
                  <a:lnTo>
                    <a:pt x="12656" y="10935"/>
                  </a:lnTo>
                  <a:lnTo>
                    <a:pt x="12942" y="10734"/>
                  </a:lnTo>
                  <a:lnTo>
                    <a:pt x="13044" y="10979"/>
                  </a:lnTo>
                  <a:lnTo>
                    <a:pt x="12813" y="11167"/>
                  </a:lnTo>
                  <a:lnTo>
                    <a:pt x="13025" y="11199"/>
                  </a:lnTo>
                  <a:lnTo>
                    <a:pt x="13191" y="11098"/>
                  </a:lnTo>
                  <a:lnTo>
                    <a:pt x="13846" y="11073"/>
                  </a:lnTo>
                  <a:lnTo>
                    <a:pt x="14289" y="10809"/>
                  </a:lnTo>
                  <a:lnTo>
                    <a:pt x="14095" y="10677"/>
                  </a:lnTo>
                  <a:lnTo>
                    <a:pt x="14686" y="10345"/>
                  </a:lnTo>
                  <a:lnTo>
                    <a:pt x="14603" y="10194"/>
                  </a:lnTo>
                  <a:lnTo>
                    <a:pt x="14963" y="10269"/>
                  </a:lnTo>
                  <a:lnTo>
                    <a:pt x="15156" y="10138"/>
                  </a:lnTo>
                  <a:lnTo>
                    <a:pt x="15387" y="10138"/>
                  </a:lnTo>
                  <a:lnTo>
                    <a:pt x="15793" y="10269"/>
                  </a:lnTo>
                  <a:lnTo>
                    <a:pt x="15940" y="10194"/>
                  </a:lnTo>
                  <a:lnTo>
                    <a:pt x="15156" y="10000"/>
                  </a:lnTo>
                  <a:lnTo>
                    <a:pt x="14815" y="10301"/>
                  </a:lnTo>
                  <a:lnTo>
                    <a:pt x="14437" y="10345"/>
                  </a:lnTo>
                  <a:lnTo>
                    <a:pt x="13929" y="10627"/>
                  </a:lnTo>
                  <a:lnTo>
                    <a:pt x="14686" y="10420"/>
                  </a:lnTo>
                  <a:lnTo>
                    <a:pt x="15202" y="10445"/>
                  </a:lnTo>
                  <a:lnTo>
                    <a:pt x="15553" y="10659"/>
                  </a:lnTo>
                  <a:lnTo>
                    <a:pt x="15839" y="10564"/>
                  </a:lnTo>
                  <a:lnTo>
                    <a:pt x="15987" y="10627"/>
                  </a:lnTo>
                  <a:lnTo>
                    <a:pt x="15664" y="10747"/>
                  </a:lnTo>
                  <a:lnTo>
                    <a:pt x="15599" y="10922"/>
                  </a:lnTo>
                  <a:lnTo>
                    <a:pt x="15682" y="10966"/>
                  </a:lnTo>
                  <a:lnTo>
                    <a:pt x="15774" y="10966"/>
                  </a:lnTo>
                  <a:lnTo>
                    <a:pt x="15931" y="10891"/>
                  </a:lnTo>
                  <a:lnTo>
                    <a:pt x="16992" y="11004"/>
                  </a:lnTo>
                  <a:lnTo>
                    <a:pt x="16992" y="10910"/>
                  </a:lnTo>
                  <a:lnTo>
                    <a:pt x="16476" y="10866"/>
                  </a:lnTo>
                  <a:lnTo>
                    <a:pt x="16476" y="10922"/>
                  </a:lnTo>
                  <a:lnTo>
                    <a:pt x="17121" y="11192"/>
                  </a:lnTo>
                  <a:lnTo>
                    <a:pt x="17380" y="11418"/>
                  </a:lnTo>
                  <a:lnTo>
                    <a:pt x="18256" y="11418"/>
                  </a:lnTo>
                  <a:lnTo>
                    <a:pt x="18800" y="11701"/>
                  </a:lnTo>
                  <a:lnTo>
                    <a:pt x="18828" y="11732"/>
                  </a:lnTo>
                  <a:lnTo>
                    <a:pt x="18542" y="12021"/>
                  </a:lnTo>
                  <a:lnTo>
                    <a:pt x="18911" y="12065"/>
                  </a:lnTo>
                  <a:lnTo>
                    <a:pt x="19206" y="11920"/>
                  </a:lnTo>
                  <a:lnTo>
                    <a:pt x="19298" y="11688"/>
                  </a:lnTo>
                  <a:lnTo>
                    <a:pt x="19511" y="11600"/>
                  </a:lnTo>
                  <a:lnTo>
                    <a:pt x="19363" y="12121"/>
                  </a:lnTo>
                  <a:lnTo>
                    <a:pt x="19446" y="12165"/>
                  </a:lnTo>
                  <a:lnTo>
                    <a:pt x="19843" y="11632"/>
                  </a:lnTo>
                  <a:lnTo>
                    <a:pt x="19658" y="10891"/>
                  </a:lnTo>
                  <a:lnTo>
                    <a:pt x="19824" y="10765"/>
                  </a:lnTo>
                  <a:lnTo>
                    <a:pt x="20000" y="11462"/>
                  </a:lnTo>
                  <a:lnTo>
                    <a:pt x="19760" y="11531"/>
                  </a:lnTo>
                  <a:lnTo>
                    <a:pt x="18874" y="12215"/>
                  </a:lnTo>
                  <a:lnTo>
                    <a:pt x="18579" y="12241"/>
                  </a:lnTo>
                  <a:lnTo>
                    <a:pt x="18468" y="12372"/>
                  </a:lnTo>
                  <a:lnTo>
                    <a:pt x="17942" y="12510"/>
                  </a:lnTo>
                  <a:lnTo>
                    <a:pt x="17804" y="13151"/>
                  </a:lnTo>
                  <a:lnTo>
                    <a:pt x="18154" y="13647"/>
                  </a:lnTo>
                  <a:lnTo>
                    <a:pt x="18874" y="13873"/>
                  </a:lnTo>
                  <a:lnTo>
                    <a:pt x="18957" y="13804"/>
                  </a:lnTo>
                  <a:lnTo>
                    <a:pt x="18809" y="13716"/>
                  </a:lnTo>
                  <a:lnTo>
                    <a:pt x="18487" y="13691"/>
                  </a:lnTo>
                  <a:lnTo>
                    <a:pt x="18763" y="13973"/>
                  </a:lnTo>
                  <a:lnTo>
                    <a:pt x="18579" y="14080"/>
                  </a:lnTo>
                  <a:lnTo>
                    <a:pt x="16891" y="14400"/>
                  </a:lnTo>
                  <a:lnTo>
                    <a:pt x="15839" y="14990"/>
                  </a:lnTo>
                  <a:lnTo>
                    <a:pt x="15488" y="15053"/>
                  </a:lnTo>
                  <a:lnTo>
                    <a:pt x="15433" y="15166"/>
                  </a:lnTo>
                  <a:lnTo>
                    <a:pt x="16171" y="15040"/>
                  </a:lnTo>
                  <a:lnTo>
                    <a:pt x="16190" y="15015"/>
                  </a:lnTo>
                  <a:lnTo>
                    <a:pt x="16171" y="14890"/>
                  </a:lnTo>
                  <a:lnTo>
                    <a:pt x="16494" y="14915"/>
                  </a:lnTo>
                  <a:lnTo>
                    <a:pt x="16706" y="15919"/>
                  </a:lnTo>
                  <a:lnTo>
                    <a:pt x="16005" y="16321"/>
                  </a:lnTo>
                  <a:lnTo>
                    <a:pt x="13699" y="16145"/>
                  </a:lnTo>
                  <a:lnTo>
                    <a:pt x="14012" y="15976"/>
                  </a:lnTo>
                  <a:lnTo>
                    <a:pt x="16411" y="16195"/>
                  </a:lnTo>
                  <a:lnTo>
                    <a:pt x="16881" y="16070"/>
                  </a:lnTo>
                  <a:lnTo>
                    <a:pt x="16992" y="16089"/>
                  </a:lnTo>
                  <a:lnTo>
                    <a:pt x="17195" y="16553"/>
                  </a:lnTo>
                  <a:lnTo>
                    <a:pt x="17149" y="17206"/>
                  </a:lnTo>
                  <a:lnTo>
                    <a:pt x="17546" y="17972"/>
                  </a:lnTo>
                  <a:lnTo>
                    <a:pt x="17020" y="19278"/>
                  </a:lnTo>
                  <a:lnTo>
                    <a:pt x="15876" y="19893"/>
                  </a:lnTo>
                  <a:lnTo>
                    <a:pt x="15350" y="20000"/>
                  </a:lnTo>
                  <a:close/>
                  <a:moveTo>
                    <a:pt x="15350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01880" y="2938320"/>
              <a:ext cx="7920" cy="292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144"/>
                  </a:moveTo>
                  <a:lnTo>
                    <a:pt x="10000" y="10144"/>
                  </a:lnTo>
                  <a:lnTo>
                    <a:pt x="10000" y="10128"/>
                  </a:lnTo>
                  <a:lnTo>
                    <a:pt x="11052" y="10112"/>
                  </a:lnTo>
                  <a:lnTo>
                    <a:pt x="11052" y="10080"/>
                  </a:lnTo>
                  <a:lnTo>
                    <a:pt x="11578" y="10048"/>
                  </a:lnTo>
                  <a:lnTo>
                    <a:pt x="12105" y="10032"/>
                  </a:lnTo>
                  <a:lnTo>
                    <a:pt x="12631" y="10016"/>
                  </a:lnTo>
                  <a:lnTo>
                    <a:pt x="13684" y="10016"/>
                  </a:lnTo>
                  <a:lnTo>
                    <a:pt x="14210" y="10000"/>
                  </a:lnTo>
                  <a:lnTo>
                    <a:pt x="15263" y="10000"/>
                  </a:lnTo>
                  <a:lnTo>
                    <a:pt x="15789" y="10000"/>
                  </a:lnTo>
                  <a:lnTo>
                    <a:pt x="16315" y="10016"/>
                  </a:lnTo>
                  <a:lnTo>
                    <a:pt x="17368" y="10016"/>
                  </a:lnTo>
                  <a:lnTo>
                    <a:pt x="17894" y="10032"/>
                  </a:lnTo>
                  <a:lnTo>
                    <a:pt x="18421" y="10048"/>
                  </a:lnTo>
                  <a:lnTo>
                    <a:pt x="18947" y="10080"/>
                  </a:lnTo>
                  <a:lnTo>
                    <a:pt x="18947" y="10112"/>
                  </a:lnTo>
                  <a:lnTo>
                    <a:pt x="20000" y="10128"/>
                  </a:lnTo>
                  <a:lnTo>
                    <a:pt x="20000" y="10144"/>
                  </a:lnTo>
                  <a:lnTo>
                    <a:pt x="20000" y="10144"/>
                  </a:lnTo>
                  <a:lnTo>
                    <a:pt x="20000" y="19855"/>
                  </a:lnTo>
                  <a:lnTo>
                    <a:pt x="20000" y="19855"/>
                  </a:lnTo>
                  <a:lnTo>
                    <a:pt x="20000" y="19871"/>
                  </a:lnTo>
                  <a:lnTo>
                    <a:pt x="18947" y="19887"/>
                  </a:lnTo>
                  <a:lnTo>
                    <a:pt x="18947" y="19935"/>
                  </a:lnTo>
                  <a:lnTo>
                    <a:pt x="18421" y="19951"/>
                  </a:lnTo>
                  <a:lnTo>
                    <a:pt x="17894" y="19967"/>
                  </a:lnTo>
                  <a:lnTo>
                    <a:pt x="17368" y="19983"/>
                  </a:lnTo>
                  <a:lnTo>
                    <a:pt x="16315" y="19983"/>
                  </a:lnTo>
                  <a:lnTo>
                    <a:pt x="15789" y="20000"/>
                  </a:lnTo>
                  <a:lnTo>
                    <a:pt x="15263" y="20000"/>
                  </a:lnTo>
                  <a:lnTo>
                    <a:pt x="14210" y="20000"/>
                  </a:lnTo>
                  <a:lnTo>
                    <a:pt x="13684" y="19983"/>
                  </a:lnTo>
                  <a:lnTo>
                    <a:pt x="12631" y="19983"/>
                  </a:lnTo>
                  <a:lnTo>
                    <a:pt x="12105" y="19967"/>
                  </a:lnTo>
                  <a:lnTo>
                    <a:pt x="11578" y="19951"/>
                  </a:lnTo>
                  <a:lnTo>
                    <a:pt x="11052" y="19935"/>
                  </a:lnTo>
                  <a:lnTo>
                    <a:pt x="11052" y="19887"/>
                  </a:lnTo>
                  <a:lnTo>
                    <a:pt x="10000" y="19871"/>
                  </a:lnTo>
                  <a:lnTo>
                    <a:pt x="10000" y="19855"/>
                  </a:lnTo>
                  <a:lnTo>
                    <a:pt x="10000" y="19855"/>
                  </a:lnTo>
                  <a:lnTo>
                    <a:pt x="10000" y="10144"/>
                  </a:lnTo>
                  <a:close/>
                  <a:moveTo>
                    <a:pt x="10000" y="1014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81280" y="2430360"/>
              <a:ext cx="241200" cy="247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0"/>
                  </a:moveTo>
                  <a:lnTo>
                    <a:pt x="19981" y="14535"/>
                  </a:lnTo>
                  <a:lnTo>
                    <a:pt x="19924" y="14060"/>
                  </a:lnTo>
                  <a:lnTo>
                    <a:pt x="19811" y="13643"/>
                  </a:lnTo>
                  <a:lnTo>
                    <a:pt x="19660" y="13187"/>
                  </a:lnTo>
                  <a:lnTo>
                    <a:pt x="19490" y="12751"/>
                  </a:lnTo>
                  <a:lnTo>
                    <a:pt x="19264" y="12371"/>
                  </a:lnTo>
                  <a:lnTo>
                    <a:pt x="19000" y="11973"/>
                  </a:lnTo>
                  <a:lnTo>
                    <a:pt x="18698" y="11612"/>
                  </a:lnTo>
                  <a:lnTo>
                    <a:pt x="18377" y="11290"/>
                  </a:lnTo>
                  <a:lnTo>
                    <a:pt x="18018" y="11024"/>
                  </a:lnTo>
                  <a:lnTo>
                    <a:pt x="17641" y="10740"/>
                  </a:lnTo>
                  <a:lnTo>
                    <a:pt x="17226" y="10531"/>
                  </a:lnTo>
                  <a:lnTo>
                    <a:pt x="16811" y="10322"/>
                  </a:lnTo>
                  <a:lnTo>
                    <a:pt x="16377" y="10170"/>
                  </a:lnTo>
                  <a:lnTo>
                    <a:pt x="15905" y="10094"/>
                  </a:lnTo>
                  <a:lnTo>
                    <a:pt x="15452" y="10037"/>
                  </a:lnTo>
                  <a:lnTo>
                    <a:pt x="15000" y="10000"/>
                  </a:lnTo>
                  <a:lnTo>
                    <a:pt x="14547" y="10037"/>
                  </a:lnTo>
                  <a:lnTo>
                    <a:pt x="14075" y="10094"/>
                  </a:lnTo>
                  <a:lnTo>
                    <a:pt x="13622" y="10208"/>
                  </a:lnTo>
                  <a:lnTo>
                    <a:pt x="13188" y="10322"/>
                  </a:lnTo>
                  <a:lnTo>
                    <a:pt x="12773" y="10531"/>
                  </a:lnTo>
                  <a:lnTo>
                    <a:pt x="12377" y="10759"/>
                  </a:lnTo>
                  <a:lnTo>
                    <a:pt x="11981" y="11024"/>
                  </a:lnTo>
                  <a:lnTo>
                    <a:pt x="11622" y="11309"/>
                  </a:lnTo>
                  <a:lnTo>
                    <a:pt x="11301" y="11631"/>
                  </a:lnTo>
                  <a:lnTo>
                    <a:pt x="11000" y="11973"/>
                  </a:lnTo>
                  <a:lnTo>
                    <a:pt x="10754" y="12371"/>
                  </a:lnTo>
                  <a:lnTo>
                    <a:pt x="10509" y="12770"/>
                  </a:lnTo>
                  <a:lnTo>
                    <a:pt x="10320" y="13206"/>
                  </a:lnTo>
                  <a:lnTo>
                    <a:pt x="10169" y="13643"/>
                  </a:lnTo>
                  <a:lnTo>
                    <a:pt x="10094" y="14079"/>
                  </a:lnTo>
                  <a:lnTo>
                    <a:pt x="10018" y="14535"/>
                  </a:lnTo>
                  <a:lnTo>
                    <a:pt x="10000" y="15009"/>
                  </a:lnTo>
                  <a:lnTo>
                    <a:pt x="10018" y="15464"/>
                  </a:lnTo>
                  <a:lnTo>
                    <a:pt x="10094" y="15939"/>
                  </a:lnTo>
                  <a:lnTo>
                    <a:pt x="10188" y="16375"/>
                  </a:lnTo>
                  <a:lnTo>
                    <a:pt x="10339" y="16812"/>
                  </a:lnTo>
                  <a:lnTo>
                    <a:pt x="10509" y="17248"/>
                  </a:lnTo>
                  <a:lnTo>
                    <a:pt x="10754" y="17628"/>
                  </a:lnTo>
                  <a:lnTo>
                    <a:pt x="11000" y="18007"/>
                  </a:lnTo>
                  <a:lnTo>
                    <a:pt x="11301" y="18368"/>
                  </a:lnTo>
                  <a:lnTo>
                    <a:pt x="11622" y="18690"/>
                  </a:lnTo>
                  <a:lnTo>
                    <a:pt x="11981" y="18994"/>
                  </a:lnTo>
                  <a:lnTo>
                    <a:pt x="12377" y="19259"/>
                  </a:lnTo>
                  <a:lnTo>
                    <a:pt x="12773" y="19468"/>
                  </a:lnTo>
                  <a:lnTo>
                    <a:pt x="13207" y="19658"/>
                  </a:lnTo>
                  <a:lnTo>
                    <a:pt x="13622" y="19810"/>
                  </a:lnTo>
                  <a:lnTo>
                    <a:pt x="14094" y="19924"/>
                  </a:lnTo>
                  <a:lnTo>
                    <a:pt x="14547" y="19981"/>
                  </a:lnTo>
                  <a:lnTo>
                    <a:pt x="15018" y="20000"/>
                  </a:lnTo>
                  <a:lnTo>
                    <a:pt x="15452" y="19962"/>
                  </a:lnTo>
                  <a:lnTo>
                    <a:pt x="15924" y="19905"/>
                  </a:lnTo>
                  <a:lnTo>
                    <a:pt x="16377" y="19810"/>
                  </a:lnTo>
                  <a:lnTo>
                    <a:pt x="16830" y="19658"/>
                  </a:lnTo>
                  <a:lnTo>
                    <a:pt x="17226" y="19468"/>
                  </a:lnTo>
                  <a:lnTo>
                    <a:pt x="17641" y="19240"/>
                  </a:lnTo>
                  <a:lnTo>
                    <a:pt x="18018" y="18975"/>
                  </a:lnTo>
                  <a:lnTo>
                    <a:pt x="18377" y="18690"/>
                  </a:lnTo>
                  <a:lnTo>
                    <a:pt x="18698" y="18349"/>
                  </a:lnTo>
                  <a:lnTo>
                    <a:pt x="19000" y="18007"/>
                  </a:lnTo>
                  <a:lnTo>
                    <a:pt x="19264" y="17628"/>
                  </a:lnTo>
                  <a:lnTo>
                    <a:pt x="19490" y="17210"/>
                  </a:lnTo>
                  <a:lnTo>
                    <a:pt x="19679" y="16793"/>
                  </a:lnTo>
                  <a:lnTo>
                    <a:pt x="19830" y="16356"/>
                  </a:lnTo>
                  <a:lnTo>
                    <a:pt x="19924" y="15901"/>
                  </a:lnTo>
                  <a:lnTo>
                    <a:pt x="19981" y="15464"/>
                  </a:lnTo>
                  <a:lnTo>
                    <a:pt x="20000" y="14990"/>
                  </a:lnTo>
                  <a:lnTo>
                    <a:pt x="20000" y="14990"/>
                  </a:lnTo>
                  <a:close/>
                  <a:moveTo>
                    <a:pt x="20000" y="1499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33720" y="2557440"/>
              <a:ext cx="342720" cy="7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8" y="20000"/>
                  </a:moveTo>
                  <a:lnTo>
                    <a:pt x="10118" y="20000"/>
                  </a:lnTo>
                  <a:lnTo>
                    <a:pt x="10105" y="20000"/>
                  </a:lnTo>
                  <a:lnTo>
                    <a:pt x="10092" y="20000"/>
                  </a:lnTo>
                  <a:lnTo>
                    <a:pt x="10065" y="18947"/>
                  </a:lnTo>
                  <a:lnTo>
                    <a:pt x="10052" y="18947"/>
                  </a:lnTo>
                  <a:lnTo>
                    <a:pt x="10039" y="17894"/>
                  </a:lnTo>
                  <a:lnTo>
                    <a:pt x="10013" y="17368"/>
                  </a:lnTo>
                  <a:lnTo>
                    <a:pt x="10013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3" y="13684"/>
                  </a:lnTo>
                  <a:lnTo>
                    <a:pt x="10013" y="12631"/>
                  </a:lnTo>
                  <a:lnTo>
                    <a:pt x="10039" y="12105"/>
                  </a:lnTo>
                  <a:lnTo>
                    <a:pt x="10052" y="11578"/>
                  </a:lnTo>
                  <a:lnTo>
                    <a:pt x="10065" y="11052"/>
                  </a:lnTo>
                  <a:lnTo>
                    <a:pt x="10092" y="11052"/>
                  </a:lnTo>
                  <a:lnTo>
                    <a:pt x="10105" y="10000"/>
                  </a:lnTo>
                  <a:lnTo>
                    <a:pt x="10118" y="10000"/>
                  </a:lnTo>
                  <a:lnTo>
                    <a:pt x="10118" y="10000"/>
                  </a:lnTo>
                  <a:lnTo>
                    <a:pt x="19881" y="10000"/>
                  </a:lnTo>
                  <a:lnTo>
                    <a:pt x="19881" y="10000"/>
                  </a:lnTo>
                  <a:lnTo>
                    <a:pt x="19894" y="10000"/>
                  </a:lnTo>
                  <a:lnTo>
                    <a:pt x="19920" y="11052"/>
                  </a:lnTo>
                  <a:lnTo>
                    <a:pt x="19934" y="11052"/>
                  </a:lnTo>
                  <a:lnTo>
                    <a:pt x="19947" y="11578"/>
                  </a:lnTo>
                  <a:lnTo>
                    <a:pt x="19986" y="12105"/>
                  </a:lnTo>
                  <a:lnTo>
                    <a:pt x="19986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6" y="17368"/>
                  </a:lnTo>
                  <a:lnTo>
                    <a:pt x="19986" y="17894"/>
                  </a:lnTo>
                  <a:lnTo>
                    <a:pt x="19947" y="18947"/>
                  </a:lnTo>
                  <a:lnTo>
                    <a:pt x="19934" y="18947"/>
                  </a:lnTo>
                  <a:lnTo>
                    <a:pt x="19920" y="20000"/>
                  </a:lnTo>
                  <a:lnTo>
                    <a:pt x="19894" y="20000"/>
                  </a:lnTo>
                  <a:lnTo>
                    <a:pt x="19881" y="20000"/>
                  </a:lnTo>
                  <a:lnTo>
                    <a:pt x="19881" y="20000"/>
                  </a:lnTo>
                  <a:lnTo>
                    <a:pt x="10118" y="20000"/>
                  </a:lnTo>
                  <a:close/>
                  <a:moveTo>
                    <a:pt x="1011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97080" y="2557440"/>
              <a:ext cx="360360" cy="7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3" y="20000"/>
                  </a:moveTo>
                  <a:lnTo>
                    <a:pt x="10113" y="20000"/>
                  </a:lnTo>
                  <a:lnTo>
                    <a:pt x="10101" y="20000"/>
                  </a:lnTo>
                  <a:lnTo>
                    <a:pt x="10075" y="20000"/>
                  </a:lnTo>
                  <a:lnTo>
                    <a:pt x="10050" y="18947"/>
                  </a:lnTo>
                  <a:lnTo>
                    <a:pt x="10037" y="18947"/>
                  </a:lnTo>
                  <a:lnTo>
                    <a:pt x="10025" y="17894"/>
                  </a:lnTo>
                  <a:lnTo>
                    <a:pt x="10012" y="17368"/>
                  </a:lnTo>
                  <a:lnTo>
                    <a:pt x="10012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2" y="13684"/>
                  </a:lnTo>
                  <a:lnTo>
                    <a:pt x="10012" y="12631"/>
                  </a:lnTo>
                  <a:lnTo>
                    <a:pt x="10025" y="12105"/>
                  </a:lnTo>
                  <a:lnTo>
                    <a:pt x="10037" y="11578"/>
                  </a:lnTo>
                  <a:lnTo>
                    <a:pt x="10050" y="11052"/>
                  </a:lnTo>
                  <a:lnTo>
                    <a:pt x="10075" y="11052"/>
                  </a:lnTo>
                  <a:lnTo>
                    <a:pt x="10101" y="10000"/>
                  </a:lnTo>
                  <a:lnTo>
                    <a:pt x="10113" y="10000"/>
                  </a:lnTo>
                  <a:lnTo>
                    <a:pt x="10113" y="10000"/>
                  </a:lnTo>
                  <a:lnTo>
                    <a:pt x="19886" y="10000"/>
                  </a:lnTo>
                  <a:lnTo>
                    <a:pt x="19886" y="10000"/>
                  </a:lnTo>
                  <a:lnTo>
                    <a:pt x="19898" y="10000"/>
                  </a:lnTo>
                  <a:lnTo>
                    <a:pt x="19924" y="11052"/>
                  </a:lnTo>
                  <a:lnTo>
                    <a:pt x="19949" y="11052"/>
                  </a:lnTo>
                  <a:lnTo>
                    <a:pt x="19962" y="11578"/>
                  </a:lnTo>
                  <a:lnTo>
                    <a:pt x="19987" y="12105"/>
                  </a:lnTo>
                  <a:lnTo>
                    <a:pt x="19987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7" y="17368"/>
                  </a:lnTo>
                  <a:lnTo>
                    <a:pt x="19987" y="17894"/>
                  </a:lnTo>
                  <a:lnTo>
                    <a:pt x="19962" y="18947"/>
                  </a:lnTo>
                  <a:lnTo>
                    <a:pt x="19949" y="18947"/>
                  </a:lnTo>
                  <a:lnTo>
                    <a:pt x="19924" y="20000"/>
                  </a:lnTo>
                  <a:lnTo>
                    <a:pt x="19898" y="20000"/>
                  </a:lnTo>
                  <a:lnTo>
                    <a:pt x="19886" y="20000"/>
                  </a:lnTo>
                  <a:lnTo>
                    <a:pt x="19886" y="20000"/>
                  </a:lnTo>
                  <a:lnTo>
                    <a:pt x="10113" y="20000"/>
                  </a:lnTo>
                  <a:close/>
                  <a:moveTo>
                    <a:pt x="10113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3200" y="2809800"/>
              <a:ext cx="360360" cy="446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6164" y="10000"/>
                  </a:moveTo>
                  <a:lnTo>
                    <a:pt x="16278" y="10230"/>
                  </a:lnTo>
                  <a:lnTo>
                    <a:pt x="16594" y="10723"/>
                  </a:lnTo>
                  <a:lnTo>
                    <a:pt x="17088" y="11488"/>
                  </a:lnTo>
                  <a:lnTo>
                    <a:pt x="17658" y="12547"/>
                  </a:lnTo>
                  <a:lnTo>
                    <a:pt x="18291" y="13909"/>
                  </a:lnTo>
                  <a:lnTo>
                    <a:pt x="18924" y="15587"/>
                  </a:lnTo>
                  <a:lnTo>
                    <a:pt x="19518" y="17620"/>
                  </a:lnTo>
                  <a:lnTo>
                    <a:pt x="20000" y="20000"/>
                  </a:lnTo>
                  <a:lnTo>
                    <a:pt x="16518" y="18836"/>
                  </a:lnTo>
                  <a:lnTo>
                    <a:pt x="13974" y="17547"/>
                  </a:lnTo>
                  <a:lnTo>
                    <a:pt x="12189" y="16205"/>
                  </a:lnTo>
                  <a:lnTo>
                    <a:pt x="11025" y="14916"/>
                  </a:lnTo>
                  <a:lnTo>
                    <a:pt x="10367" y="13752"/>
                  </a:lnTo>
                  <a:lnTo>
                    <a:pt x="10088" y="12819"/>
                  </a:lnTo>
                  <a:lnTo>
                    <a:pt x="10000" y="12201"/>
                  </a:lnTo>
                  <a:lnTo>
                    <a:pt x="10012" y="11991"/>
                  </a:lnTo>
                  <a:lnTo>
                    <a:pt x="10658" y="12693"/>
                  </a:lnTo>
                  <a:lnTo>
                    <a:pt x="11493" y="13469"/>
                  </a:lnTo>
                  <a:lnTo>
                    <a:pt x="12481" y="14266"/>
                  </a:lnTo>
                  <a:lnTo>
                    <a:pt x="13582" y="15052"/>
                  </a:lnTo>
                  <a:lnTo>
                    <a:pt x="14708" y="15849"/>
                  </a:lnTo>
                  <a:lnTo>
                    <a:pt x="15848" y="16614"/>
                  </a:lnTo>
                  <a:lnTo>
                    <a:pt x="16936" y="17316"/>
                  </a:lnTo>
                  <a:lnTo>
                    <a:pt x="17962" y="17966"/>
                  </a:lnTo>
                  <a:lnTo>
                    <a:pt x="17253" y="16666"/>
                  </a:lnTo>
                  <a:lnTo>
                    <a:pt x="16772" y="15324"/>
                  </a:lnTo>
                  <a:lnTo>
                    <a:pt x="16443" y="14004"/>
                  </a:lnTo>
                  <a:lnTo>
                    <a:pt x="16253" y="12746"/>
                  </a:lnTo>
                  <a:lnTo>
                    <a:pt x="16164" y="11645"/>
                  </a:lnTo>
                  <a:lnTo>
                    <a:pt x="16139" y="10775"/>
                  </a:lnTo>
                  <a:lnTo>
                    <a:pt x="16151" y="10199"/>
                  </a:lnTo>
                  <a:lnTo>
                    <a:pt x="16164" y="10000"/>
                  </a:lnTo>
                  <a:close/>
                  <a:moveTo>
                    <a:pt x="1616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46440" y="2077920"/>
              <a:ext cx="239400" cy="484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00" y="10000"/>
                  </a:moveTo>
                  <a:lnTo>
                    <a:pt x="12366" y="11350"/>
                  </a:lnTo>
                  <a:lnTo>
                    <a:pt x="12366" y="12352"/>
                  </a:lnTo>
                  <a:lnTo>
                    <a:pt x="12423" y="13114"/>
                  </a:lnTo>
                  <a:lnTo>
                    <a:pt x="12557" y="13712"/>
                  </a:lnTo>
                  <a:lnTo>
                    <a:pt x="12729" y="14271"/>
                  </a:lnTo>
                  <a:lnTo>
                    <a:pt x="12881" y="14879"/>
                  </a:lnTo>
                  <a:lnTo>
                    <a:pt x="13034" y="15650"/>
                  </a:lnTo>
                  <a:lnTo>
                    <a:pt x="13148" y="16673"/>
                  </a:lnTo>
                  <a:lnTo>
                    <a:pt x="13511" y="16364"/>
                  </a:lnTo>
                  <a:lnTo>
                    <a:pt x="14064" y="15930"/>
                  </a:lnTo>
                  <a:lnTo>
                    <a:pt x="14809" y="15400"/>
                  </a:lnTo>
                  <a:lnTo>
                    <a:pt x="15667" y="14792"/>
                  </a:lnTo>
                  <a:lnTo>
                    <a:pt x="16641" y="14194"/>
                  </a:lnTo>
                  <a:lnTo>
                    <a:pt x="17690" y="13616"/>
                  </a:lnTo>
                  <a:lnTo>
                    <a:pt x="18816" y="13105"/>
                  </a:lnTo>
                  <a:lnTo>
                    <a:pt x="20000" y="12719"/>
                  </a:lnTo>
                  <a:lnTo>
                    <a:pt x="18568" y="14484"/>
                  </a:lnTo>
                  <a:lnTo>
                    <a:pt x="17347" y="15824"/>
                  </a:lnTo>
                  <a:lnTo>
                    <a:pt x="16297" y="16827"/>
                  </a:lnTo>
                  <a:lnTo>
                    <a:pt x="15362" y="17589"/>
                  </a:lnTo>
                  <a:lnTo>
                    <a:pt x="14541" y="18196"/>
                  </a:lnTo>
                  <a:lnTo>
                    <a:pt x="13835" y="18746"/>
                  </a:lnTo>
                  <a:lnTo>
                    <a:pt x="13206" y="19315"/>
                  </a:lnTo>
                  <a:lnTo>
                    <a:pt x="12614" y="20000"/>
                  </a:lnTo>
                  <a:lnTo>
                    <a:pt x="11164" y="17820"/>
                  </a:lnTo>
                  <a:lnTo>
                    <a:pt x="10305" y="16017"/>
                  </a:lnTo>
                  <a:lnTo>
                    <a:pt x="10000" y="14541"/>
                  </a:lnTo>
                  <a:lnTo>
                    <a:pt x="10076" y="13346"/>
                  </a:lnTo>
                  <a:lnTo>
                    <a:pt x="10458" y="12343"/>
                  </a:lnTo>
                  <a:lnTo>
                    <a:pt x="11068" y="11494"/>
                  </a:lnTo>
                  <a:lnTo>
                    <a:pt x="11774" y="10732"/>
                  </a:lnTo>
                  <a:lnTo>
                    <a:pt x="12500" y="10000"/>
                  </a:lnTo>
                  <a:close/>
                  <a:moveTo>
                    <a:pt x="125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32320" y="2077920"/>
              <a:ext cx="239760" cy="484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14" y="10000"/>
                  </a:moveTo>
                  <a:lnTo>
                    <a:pt x="17629" y="11350"/>
                  </a:lnTo>
                  <a:lnTo>
                    <a:pt x="17629" y="12352"/>
                  </a:lnTo>
                  <a:lnTo>
                    <a:pt x="17533" y="13114"/>
                  </a:lnTo>
                  <a:lnTo>
                    <a:pt x="17418" y="13712"/>
                  </a:lnTo>
                  <a:lnTo>
                    <a:pt x="17265" y="14271"/>
                  </a:lnTo>
                  <a:lnTo>
                    <a:pt x="17093" y="14879"/>
                  </a:lnTo>
                  <a:lnTo>
                    <a:pt x="16940" y="15650"/>
                  </a:lnTo>
                  <a:lnTo>
                    <a:pt x="16845" y="16673"/>
                  </a:lnTo>
                  <a:lnTo>
                    <a:pt x="16462" y="16364"/>
                  </a:lnTo>
                  <a:lnTo>
                    <a:pt x="15908" y="15930"/>
                  </a:lnTo>
                  <a:lnTo>
                    <a:pt x="15181" y="15400"/>
                  </a:lnTo>
                  <a:lnTo>
                    <a:pt x="14321" y="14792"/>
                  </a:lnTo>
                  <a:lnTo>
                    <a:pt x="13346" y="14194"/>
                  </a:lnTo>
                  <a:lnTo>
                    <a:pt x="12294" y="13616"/>
                  </a:lnTo>
                  <a:lnTo>
                    <a:pt x="11166" y="13105"/>
                  </a:lnTo>
                  <a:lnTo>
                    <a:pt x="10000" y="12719"/>
                  </a:lnTo>
                  <a:lnTo>
                    <a:pt x="11395" y="14484"/>
                  </a:lnTo>
                  <a:lnTo>
                    <a:pt x="12638" y="15824"/>
                  </a:lnTo>
                  <a:lnTo>
                    <a:pt x="13690" y="16827"/>
                  </a:lnTo>
                  <a:lnTo>
                    <a:pt x="14627" y="17589"/>
                  </a:lnTo>
                  <a:lnTo>
                    <a:pt x="15430" y="18196"/>
                  </a:lnTo>
                  <a:lnTo>
                    <a:pt x="16137" y="18746"/>
                  </a:lnTo>
                  <a:lnTo>
                    <a:pt x="16787" y="19315"/>
                  </a:lnTo>
                  <a:lnTo>
                    <a:pt x="17361" y="20000"/>
                  </a:lnTo>
                  <a:lnTo>
                    <a:pt x="18833" y="17820"/>
                  </a:lnTo>
                  <a:lnTo>
                    <a:pt x="19674" y="16017"/>
                  </a:lnTo>
                  <a:lnTo>
                    <a:pt x="20000" y="14541"/>
                  </a:lnTo>
                  <a:lnTo>
                    <a:pt x="19923" y="13346"/>
                  </a:lnTo>
                  <a:lnTo>
                    <a:pt x="19521" y="12343"/>
                  </a:lnTo>
                  <a:lnTo>
                    <a:pt x="18929" y="11494"/>
                  </a:lnTo>
                  <a:lnTo>
                    <a:pt x="18221" y="10732"/>
                  </a:lnTo>
                  <a:lnTo>
                    <a:pt x="17514" y="10000"/>
                  </a:lnTo>
                  <a:close/>
                  <a:moveTo>
                    <a:pt x="1751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33720" y="3367080"/>
              <a:ext cx="1346040" cy="212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123" y="11714"/>
                  </a:moveTo>
                  <a:lnTo>
                    <a:pt x="15945" y="10351"/>
                  </a:lnTo>
                  <a:lnTo>
                    <a:pt x="16624" y="10000"/>
                  </a:lnTo>
                  <a:lnTo>
                    <a:pt x="17203" y="10329"/>
                  </a:lnTo>
                  <a:lnTo>
                    <a:pt x="17720" y="11076"/>
                  </a:lnTo>
                  <a:lnTo>
                    <a:pt x="18214" y="11912"/>
                  </a:lnTo>
                  <a:lnTo>
                    <a:pt x="18735" y="12615"/>
                  </a:lnTo>
                  <a:lnTo>
                    <a:pt x="19316" y="12835"/>
                  </a:lnTo>
                  <a:lnTo>
                    <a:pt x="20000" y="12351"/>
                  </a:lnTo>
                  <a:lnTo>
                    <a:pt x="19310" y="14945"/>
                  </a:lnTo>
                  <a:lnTo>
                    <a:pt x="18630" y="16043"/>
                  </a:lnTo>
                  <a:lnTo>
                    <a:pt x="17970" y="15978"/>
                  </a:lnTo>
                  <a:lnTo>
                    <a:pt x="17341" y="15208"/>
                  </a:lnTo>
                  <a:lnTo>
                    <a:pt x="16760" y="14065"/>
                  </a:lnTo>
                  <a:lnTo>
                    <a:pt x="16232" y="12989"/>
                  </a:lnTo>
                  <a:lnTo>
                    <a:pt x="15769" y="12285"/>
                  </a:lnTo>
                  <a:lnTo>
                    <a:pt x="15393" y="12417"/>
                  </a:lnTo>
                  <a:lnTo>
                    <a:pt x="15793" y="13758"/>
                  </a:lnTo>
                  <a:lnTo>
                    <a:pt x="16141" y="15098"/>
                  </a:lnTo>
                  <a:lnTo>
                    <a:pt x="16438" y="16351"/>
                  </a:lnTo>
                  <a:lnTo>
                    <a:pt x="16682" y="17494"/>
                  </a:lnTo>
                  <a:lnTo>
                    <a:pt x="16875" y="18505"/>
                  </a:lnTo>
                  <a:lnTo>
                    <a:pt x="17010" y="19252"/>
                  </a:lnTo>
                  <a:lnTo>
                    <a:pt x="17091" y="19736"/>
                  </a:lnTo>
                  <a:lnTo>
                    <a:pt x="17122" y="19934"/>
                  </a:lnTo>
                  <a:lnTo>
                    <a:pt x="17098" y="19934"/>
                  </a:lnTo>
                  <a:lnTo>
                    <a:pt x="17047" y="19934"/>
                  </a:lnTo>
                  <a:lnTo>
                    <a:pt x="16966" y="19934"/>
                  </a:lnTo>
                  <a:lnTo>
                    <a:pt x="16878" y="19934"/>
                  </a:lnTo>
                  <a:lnTo>
                    <a:pt x="16787" y="19934"/>
                  </a:lnTo>
                  <a:lnTo>
                    <a:pt x="16709" y="19934"/>
                  </a:lnTo>
                  <a:lnTo>
                    <a:pt x="16652" y="19934"/>
                  </a:lnTo>
                  <a:lnTo>
                    <a:pt x="16631" y="19934"/>
                  </a:lnTo>
                  <a:lnTo>
                    <a:pt x="16587" y="19626"/>
                  </a:lnTo>
                  <a:lnTo>
                    <a:pt x="16462" y="18791"/>
                  </a:lnTo>
                  <a:lnTo>
                    <a:pt x="16276" y="17648"/>
                  </a:lnTo>
                  <a:lnTo>
                    <a:pt x="16056" y="16329"/>
                  </a:lnTo>
                  <a:lnTo>
                    <a:pt x="15806" y="14989"/>
                  </a:lnTo>
                  <a:lnTo>
                    <a:pt x="15559" y="13846"/>
                  </a:lnTo>
                  <a:lnTo>
                    <a:pt x="15322" y="13032"/>
                  </a:lnTo>
                  <a:lnTo>
                    <a:pt x="15123" y="12725"/>
                  </a:lnTo>
                  <a:lnTo>
                    <a:pt x="14890" y="13010"/>
                  </a:lnTo>
                  <a:lnTo>
                    <a:pt x="14633" y="13802"/>
                  </a:lnTo>
                  <a:lnTo>
                    <a:pt x="14362" y="14945"/>
                  </a:lnTo>
                  <a:lnTo>
                    <a:pt x="14102" y="16285"/>
                  </a:lnTo>
                  <a:lnTo>
                    <a:pt x="13868" y="17604"/>
                  </a:lnTo>
                  <a:lnTo>
                    <a:pt x="13682" y="18769"/>
                  </a:lnTo>
                  <a:lnTo>
                    <a:pt x="13554" y="19626"/>
                  </a:lnTo>
                  <a:lnTo>
                    <a:pt x="13510" y="19934"/>
                  </a:lnTo>
                  <a:lnTo>
                    <a:pt x="13500" y="19912"/>
                  </a:lnTo>
                  <a:lnTo>
                    <a:pt x="13473" y="19912"/>
                  </a:lnTo>
                  <a:lnTo>
                    <a:pt x="13429" y="19912"/>
                  </a:lnTo>
                  <a:lnTo>
                    <a:pt x="13375" y="19912"/>
                  </a:lnTo>
                  <a:lnTo>
                    <a:pt x="13314" y="19912"/>
                  </a:lnTo>
                  <a:lnTo>
                    <a:pt x="13243" y="19934"/>
                  </a:lnTo>
                  <a:lnTo>
                    <a:pt x="13168" y="19934"/>
                  </a:lnTo>
                  <a:lnTo>
                    <a:pt x="13097" y="20000"/>
                  </a:lnTo>
                  <a:lnTo>
                    <a:pt x="13114" y="19824"/>
                  </a:lnTo>
                  <a:lnTo>
                    <a:pt x="13185" y="19340"/>
                  </a:lnTo>
                  <a:lnTo>
                    <a:pt x="13300" y="18593"/>
                  </a:lnTo>
                  <a:lnTo>
                    <a:pt x="13473" y="17648"/>
                  </a:lnTo>
                  <a:lnTo>
                    <a:pt x="13699" y="16505"/>
                  </a:lnTo>
                  <a:lnTo>
                    <a:pt x="13990" y="15208"/>
                  </a:lnTo>
                  <a:lnTo>
                    <a:pt x="14352" y="13846"/>
                  </a:lnTo>
                  <a:lnTo>
                    <a:pt x="14781" y="12417"/>
                  </a:lnTo>
                  <a:lnTo>
                    <a:pt x="14355" y="12285"/>
                  </a:lnTo>
                  <a:lnTo>
                    <a:pt x="13872" y="13010"/>
                  </a:lnTo>
                  <a:lnTo>
                    <a:pt x="13334" y="14153"/>
                  </a:lnTo>
                  <a:lnTo>
                    <a:pt x="12752" y="15296"/>
                  </a:lnTo>
                  <a:lnTo>
                    <a:pt x="12123" y="16043"/>
                  </a:lnTo>
                  <a:lnTo>
                    <a:pt x="11450" y="15934"/>
                  </a:lnTo>
                  <a:lnTo>
                    <a:pt x="10740" y="14571"/>
                  </a:lnTo>
                  <a:lnTo>
                    <a:pt x="10000" y="11538"/>
                  </a:lnTo>
                  <a:lnTo>
                    <a:pt x="10693" y="12615"/>
                  </a:lnTo>
                  <a:lnTo>
                    <a:pt x="11274" y="12725"/>
                  </a:lnTo>
                  <a:lnTo>
                    <a:pt x="11792" y="12263"/>
                  </a:lnTo>
                  <a:lnTo>
                    <a:pt x="12292" y="11472"/>
                  </a:lnTo>
                  <a:lnTo>
                    <a:pt x="12830" y="10725"/>
                  </a:lnTo>
                  <a:lnTo>
                    <a:pt x="13446" y="10263"/>
                  </a:lnTo>
                  <a:lnTo>
                    <a:pt x="14193" y="10505"/>
                  </a:lnTo>
                  <a:lnTo>
                    <a:pt x="15123" y="11714"/>
                  </a:lnTo>
                  <a:close/>
                  <a:moveTo>
                    <a:pt x="15123" y="1171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41640" y="1884240"/>
              <a:ext cx="1319040" cy="1347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5000"/>
                  </a:moveTo>
                  <a:lnTo>
                    <a:pt x="10103" y="16002"/>
                  </a:lnTo>
                  <a:lnTo>
                    <a:pt x="10392" y="16938"/>
                  </a:lnTo>
                  <a:lnTo>
                    <a:pt x="10854" y="17787"/>
                  </a:lnTo>
                  <a:lnTo>
                    <a:pt x="11465" y="18526"/>
                  </a:lnTo>
                  <a:lnTo>
                    <a:pt x="12206" y="19140"/>
                  </a:lnTo>
                  <a:lnTo>
                    <a:pt x="13054" y="19601"/>
                  </a:lnTo>
                  <a:lnTo>
                    <a:pt x="13995" y="19895"/>
                  </a:lnTo>
                  <a:lnTo>
                    <a:pt x="14998" y="20000"/>
                  </a:lnTo>
                  <a:lnTo>
                    <a:pt x="16001" y="19895"/>
                  </a:lnTo>
                  <a:lnTo>
                    <a:pt x="16938" y="19601"/>
                  </a:lnTo>
                  <a:lnTo>
                    <a:pt x="17790" y="19140"/>
                  </a:lnTo>
                  <a:lnTo>
                    <a:pt x="18531" y="18526"/>
                  </a:lnTo>
                  <a:lnTo>
                    <a:pt x="19141" y="17787"/>
                  </a:lnTo>
                  <a:lnTo>
                    <a:pt x="19603" y="16938"/>
                  </a:lnTo>
                  <a:lnTo>
                    <a:pt x="19893" y="16002"/>
                  </a:lnTo>
                  <a:lnTo>
                    <a:pt x="20000" y="15000"/>
                  </a:lnTo>
                  <a:lnTo>
                    <a:pt x="19893" y="13990"/>
                  </a:lnTo>
                  <a:lnTo>
                    <a:pt x="19603" y="13054"/>
                  </a:lnTo>
                  <a:lnTo>
                    <a:pt x="19141" y="12208"/>
                  </a:lnTo>
                  <a:lnTo>
                    <a:pt x="18531" y="11466"/>
                  </a:lnTo>
                  <a:lnTo>
                    <a:pt x="17790" y="10852"/>
                  </a:lnTo>
                  <a:lnTo>
                    <a:pt x="16938" y="10391"/>
                  </a:lnTo>
                  <a:lnTo>
                    <a:pt x="16001" y="10097"/>
                  </a:lnTo>
                  <a:lnTo>
                    <a:pt x="14998" y="10000"/>
                  </a:lnTo>
                  <a:lnTo>
                    <a:pt x="13995" y="10097"/>
                  </a:lnTo>
                  <a:lnTo>
                    <a:pt x="13054" y="10391"/>
                  </a:lnTo>
                  <a:lnTo>
                    <a:pt x="12206" y="10852"/>
                  </a:lnTo>
                  <a:lnTo>
                    <a:pt x="11465" y="11466"/>
                  </a:lnTo>
                  <a:lnTo>
                    <a:pt x="10854" y="12208"/>
                  </a:lnTo>
                  <a:lnTo>
                    <a:pt x="10392" y="13054"/>
                  </a:lnTo>
                  <a:lnTo>
                    <a:pt x="10103" y="13990"/>
                  </a:lnTo>
                  <a:lnTo>
                    <a:pt x="10000" y="15000"/>
                  </a:lnTo>
                  <a:close/>
                  <a:moveTo>
                    <a:pt x="10000" y="15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43040" y="2290680"/>
              <a:ext cx="520920" cy="533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1"/>
                  </a:moveTo>
                  <a:lnTo>
                    <a:pt x="19991" y="14676"/>
                  </a:lnTo>
                  <a:lnTo>
                    <a:pt x="19965" y="14361"/>
                  </a:lnTo>
                  <a:lnTo>
                    <a:pt x="19912" y="14055"/>
                  </a:lnTo>
                  <a:lnTo>
                    <a:pt x="19843" y="13750"/>
                  </a:lnTo>
                  <a:lnTo>
                    <a:pt x="19755" y="13452"/>
                  </a:lnTo>
                  <a:lnTo>
                    <a:pt x="19642" y="13155"/>
                  </a:lnTo>
                  <a:lnTo>
                    <a:pt x="19529" y="12867"/>
                  </a:lnTo>
                  <a:lnTo>
                    <a:pt x="19380" y="12587"/>
                  </a:lnTo>
                  <a:lnTo>
                    <a:pt x="19224" y="12316"/>
                  </a:lnTo>
                  <a:lnTo>
                    <a:pt x="19040" y="12062"/>
                  </a:lnTo>
                  <a:lnTo>
                    <a:pt x="18849" y="11809"/>
                  </a:lnTo>
                  <a:lnTo>
                    <a:pt x="18639" y="11573"/>
                  </a:lnTo>
                  <a:lnTo>
                    <a:pt x="18421" y="11346"/>
                  </a:lnTo>
                  <a:lnTo>
                    <a:pt x="18186" y="11136"/>
                  </a:lnTo>
                  <a:lnTo>
                    <a:pt x="17933" y="10952"/>
                  </a:lnTo>
                  <a:lnTo>
                    <a:pt x="17672" y="10777"/>
                  </a:lnTo>
                  <a:lnTo>
                    <a:pt x="17410" y="10611"/>
                  </a:lnTo>
                  <a:lnTo>
                    <a:pt x="17122" y="10480"/>
                  </a:lnTo>
                  <a:lnTo>
                    <a:pt x="16835" y="10349"/>
                  </a:lnTo>
                  <a:lnTo>
                    <a:pt x="16538" y="10244"/>
                  </a:lnTo>
                  <a:lnTo>
                    <a:pt x="16233" y="10148"/>
                  </a:lnTo>
                  <a:lnTo>
                    <a:pt x="15928" y="10096"/>
                  </a:lnTo>
                  <a:lnTo>
                    <a:pt x="15614" y="10043"/>
                  </a:lnTo>
                  <a:lnTo>
                    <a:pt x="15309" y="10008"/>
                  </a:lnTo>
                  <a:lnTo>
                    <a:pt x="14995" y="10000"/>
                  </a:lnTo>
                  <a:lnTo>
                    <a:pt x="14681" y="10008"/>
                  </a:lnTo>
                  <a:lnTo>
                    <a:pt x="14367" y="10043"/>
                  </a:lnTo>
                  <a:lnTo>
                    <a:pt x="14054" y="10096"/>
                  </a:lnTo>
                  <a:lnTo>
                    <a:pt x="13748" y="10157"/>
                  </a:lnTo>
                  <a:lnTo>
                    <a:pt x="13443" y="10253"/>
                  </a:lnTo>
                  <a:lnTo>
                    <a:pt x="13147" y="10349"/>
                  </a:lnTo>
                  <a:lnTo>
                    <a:pt x="12868" y="10480"/>
                  </a:lnTo>
                  <a:lnTo>
                    <a:pt x="12580" y="10629"/>
                  </a:lnTo>
                  <a:lnTo>
                    <a:pt x="12310" y="10786"/>
                  </a:lnTo>
                  <a:lnTo>
                    <a:pt x="12048" y="10961"/>
                  </a:lnTo>
                  <a:lnTo>
                    <a:pt x="11804" y="11153"/>
                  </a:lnTo>
                  <a:lnTo>
                    <a:pt x="11560" y="11354"/>
                  </a:lnTo>
                  <a:lnTo>
                    <a:pt x="11351" y="11582"/>
                  </a:lnTo>
                  <a:lnTo>
                    <a:pt x="11142" y="11818"/>
                  </a:lnTo>
                  <a:lnTo>
                    <a:pt x="10941" y="12071"/>
                  </a:lnTo>
                  <a:lnTo>
                    <a:pt x="10767" y="12325"/>
                  </a:lnTo>
                  <a:lnTo>
                    <a:pt x="10610" y="12596"/>
                  </a:lnTo>
                  <a:lnTo>
                    <a:pt x="10470" y="12875"/>
                  </a:lnTo>
                  <a:lnTo>
                    <a:pt x="10340" y="13164"/>
                  </a:lnTo>
                  <a:lnTo>
                    <a:pt x="10235" y="13461"/>
                  </a:lnTo>
                  <a:lnTo>
                    <a:pt x="10148" y="13758"/>
                  </a:lnTo>
                  <a:lnTo>
                    <a:pt x="10078" y="14064"/>
                  </a:lnTo>
                  <a:lnTo>
                    <a:pt x="10034" y="14379"/>
                  </a:lnTo>
                  <a:lnTo>
                    <a:pt x="10008" y="14685"/>
                  </a:lnTo>
                  <a:lnTo>
                    <a:pt x="10000" y="15008"/>
                  </a:lnTo>
                  <a:lnTo>
                    <a:pt x="10008" y="15323"/>
                  </a:lnTo>
                  <a:lnTo>
                    <a:pt x="10034" y="15638"/>
                  </a:lnTo>
                  <a:lnTo>
                    <a:pt x="10087" y="15944"/>
                  </a:lnTo>
                  <a:lnTo>
                    <a:pt x="10156" y="16250"/>
                  </a:lnTo>
                  <a:lnTo>
                    <a:pt x="10244" y="16555"/>
                  </a:lnTo>
                  <a:lnTo>
                    <a:pt x="10348" y="16844"/>
                  </a:lnTo>
                  <a:lnTo>
                    <a:pt x="10470" y="17141"/>
                  </a:lnTo>
                  <a:lnTo>
                    <a:pt x="10619" y="17421"/>
                  </a:lnTo>
                  <a:lnTo>
                    <a:pt x="10775" y="17683"/>
                  </a:lnTo>
                  <a:lnTo>
                    <a:pt x="10950" y="17937"/>
                  </a:lnTo>
                  <a:lnTo>
                    <a:pt x="11150" y="18199"/>
                  </a:lnTo>
                  <a:lnTo>
                    <a:pt x="11360" y="18426"/>
                  </a:lnTo>
                  <a:lnTo>
                    <a:pt x="11578" y="18653"/>
                  </a:lnTo>
                  <a:lnTo>
                    <a:pt x="11813" y="18863"/>
                  </a:lnTo>
                  <a:lnTo>
                    <a:pt x="12057" y="19047"/>
                  </a:lnTo>
                  <a:lnTo>
                    <a:pt x="12327" y="19222"/>
                  </a:lnTo>
                  <a:lnTo>
                    <a:pt x="12589" y="19388"/>
                  </a:lnTo>
                  <a:lnTo>
                    <a:pt x="12877" y="19536"/>
                  </a:lnTo>
                  <a:lnTo>
                    <a:pt x="13164" y="19650"/>
                  </a:lnTo>
                  <a:lnTo>
                    <a:pt x="13461" y="19763"/>
                  </a:lnTo>
                  <a:lnTo>
                    <a:pt x="13766" y="19851"/>
                  </a:lnTo>
                  <a:lnTo>
                    <a:pt x="14071" y="19921"/>
                  </a:lnTo>
                  <a:lnTo>
                    <a:pt x="14376" y="19965"/>
                  </a:lnTo>
                  <a:lnTo>
                    <a:pt x="14690" y="19991"/>
                  </a:lnTo>
                  <a:lnTo>
                    <a:pt x="15004" y="20000"/>
                  </a:lnTo>
                  <a:lnTo>
                    <a:pt x="15318" y="19991"/>
                  </a:lnTo>
                  <a:lnTo>
                    <a:pt x="15632" y="19956"/>
                  </a:lnTo>
                  <a:lnTo>
                    <a:pt x="15937" y="19903"/>
                  </a:lnTo>
                  <a:lnTo>
                    <a:pt x="16242" y="19842"/>
                  </a:lnTo>
                  <a:lnTo>
                    <a:pt x="16547" y="19746"/>
                  </a:lnTo>
                  <a:lnTo>
                    <a:pt x="16843" y="19650"/>
                  </a:lnTo>
                  <a:lnTo>
                    <a:pt x="17131" y="19519"/>
                  </a:lnTo>
                  <a:lnTo>
                    <a:pt x="17419" y="19388"/>
                  </a:lnTo>
                  <a:lnTo>
                    <a:pt x="17680" y="19213"/>
                  </a:lnTo>
                  <a:lnTo>
                    <a:pt x="17951" y="19038"/>
                  </a:lnTo>
                  <a:lnTo>
                    <a:pt x="18195" y="18846"/>
                  </a:lnTo>
                  <a:lnTo>
                    <a:pt x="18430" y="18645"/>
                  </a:lnTo>
                  <a:lnTo>
                    <a:pt x="18648" y="18417"/>
                  </a:lnTo>
                  <a:lnTo>
                    <a:pt x="18857" y="18190"/>
                  </a:lnTo>
                  <a:lnTo>
                    <a:pt x="19058" y="17928"/>
                  </a:lnTo>
                  <a:lnTo>
                    <a:pt x="19232" y="17674"/>
                  </a:lnTo>
                  <a:lnTo>
                    <a:pt x="19389" y="17403"/>
                  </a:lnTo>
                  <a:lnTo>
                    <a:pt x="19529" y="17124"/>
                  </a:lnTo>
                  <a:lnTo>
                    <a:pt x="19659" y="16835"/>
                  </a:lnTo>
                  <a:lnTo>
                    <a:pt x="19764" y="16538"/>
                  </a:lnTo>
                  <a:lnTo>
                    <a:pt x="19851" y="16241"/>
                  </a:lnTo>
                  <a:lnTo>
                    <a:pt x="19912" y="15935"/>
                  </a:lnTo>
                  <a:lnTo>
                    <a:pt x="19965" y="15620"/>
                  </a:lnTo>
                  <a:lnTo>
                    <a:pt x="19991" y="15314"/>
                  </a:lnTo>
                  <a:lnTo>
                    <a:pt x="20000" y="14991"/>
                  </a:lnTo>
                  <a:lnTo>
                    <a:pt x="20000" y="14991"/>
                  </a:lnTo>
                  <a:close/>
                  <a:moveTo>
                    <a:pt x="20000" y="1499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589200" y="1906560"/>
              <a:ext cx="2034720" cy="1481040"/>
              <a:chOff x="3589200" y="1906560"/>
              <a:chExt cx="2034720" cy="1481040"/>
            </a:xfrm>
          </p:grpSpPr>
          <p:sp>
            <p:nvSpPr>
              <p:cNvPr id="212" name=""/>
              <p:cNvSpPr/>
              <p:nvPr/>
            </p:nvSpPr>
            <p:spPr>
              <a:xfrm>
                <a:off x="3589200" y="2344680"/>
                <a:ext cx="234720" cy="4366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19" y="10000"/>
                    </a:moveTo>
                    <a:lnTo>
                      <a:pt x="10658" y="11154"/>
                    </a:lnTo>
                    <a:lnTo>
                      <a:pt x="11259" y="12002"/>
                    </a:lnTo>
                    <a:lnTo>
                      <a:pt x="11821" y="12680"/>
                    </a:lnTo>
                    <a:lnTo>
                      <a:pt x="12383" y="13305"/>
                    </a:lnTo>
                    <a:lnTo>
                      <a:pt x="12984" y="13961"/>
                    </a:lnTo>
                    <a:lnTo>
                      <a:pt x="13643" y="14788"/>
                    </a:lnTo>
                    <a:lnTo>
                      <a:pt x="14360" y="15889"/>
                    </a:lnTo>
                    <a:lnTo>
                      <a:pt x="15193" y="17394"/>
                    </a:lnTo>
                    <a:lnTo>
                      <a:pt x="15193" y="17383"/>
                    </a:lnTo>
                    <a:lnTo>
                      <a:pt x="15193" y="17341"/>
                    </a:lnTo>
                    <a:lnTo>
                      <a:pt x="15193" y="17298"/>
                    </a:lnTo>
                    <a:lnTo>
                      <a:pt x="15193" y="17235"/>
                    </a:lnTo>
                    <a:lnTo>
                      <a:pt x="15348" y="16620"/>
                    </a:lnTo>
                    <a:lnTo>
                      <a:pt x="15523" y="16101"/>
                    </a:lnTo>
                    <a:lnTo>
                      <a:pt x="15794" y="15603"/>
                    </a:lnTo>
                    <a:lnTo>
                      <a:pt x="16162" y="15074"/>
                    </a:lnTo>
                    <a:lnTo>
                      <a:pt x="16724" y="14470"/>
                    </a:lnTo>
                    <a:lnTo>
                      <a:pt x="17519" y="13728"/>
                    </a:lnTo>
                    <a:lnTo>
                      <a:pt x="18565" y="12764"/>
                    </a:lnTo>
                    <a:lnTo>
                      <a:pt x="19980" y="11567"/>
                    </a:lnTo>
                    <a:lnTo>
                      <a:pt x="20000" y="12415"/>
                    </a:lnTo>
                    <a:lnTo>
                      <a:pt x="19903" y="13199"/>
                    </a:lnTo>
                    <a:lnTo>
                      <a:pt x="19670" y="13972"/>
                    </a:lnTo>
                    <a:lnTo>
                      <a:pt x="19263" y="14819"/>
                    </a:lnTo>
                    <a:lnTo>
                      <a:pt x="18682" y="15762"/>
                    </a:lnTo>
                    <a:lnTo>
                      <a:pt x="17868" y="16906"/>
                    </a:lnTo>
                    <a:lnTo>
                      <a:pt x="16821" y="18305"/>
                    </a:lnTo>
                    <a:lnTo>
                      <a:pt x="15484" y="20000"/>
                    </a:lnTo>
                    <a:lnTo>
                      <a:pt x="15213" y="19830"/>
                    </a:lnTo>
                    <a:lnTo>
                      <a:pt x="14534" y="19364"/>
                    </a:lnTo>
                    <a:lnTo>
                      <a:pt x="13546" y="18580"/>
                    </a:lnTo>
                    <a:lnTo>
                      <a:pt x="12441" y="17478"/>
                    </a:lnTo>
                    <a:lnTo>
                      <a:pt x="11356" y="16069"/>
                    </a:lnTo>
                    <a:lnTo>
                      <a:pt x="10503" y="14343"/>
                    </a:lnTo>
                    <a:lnTo>
                      <a:pt x="10000" y="12319"/>
                    </a:lnTo>
                    <a:lnTo>
                      <a:pt x="10019" y="10000"/>
                    </a:lnTo>
                    <a:close/>
                    <a:moveTo>
                      <a:pt x="10019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87560" y="3016440"/>
                <a:ext cx="478800" cy="371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4458" y="10000"/>
                    </a:moveTo>
                    <a:lnTo>
                      <a:pt x="15389" y="11384"/>
                    </a:lnTo>
                    <a:lnTo>
                      <a:pt x="16197" y="12693"/>
                    </a:lnTo>
                    <a:lnTo>
                      <a:pt x="16882" y="13940"/>
                    </a:lnTo>
                    <a:lnTo>
                      <a:pt x="17500" y="15124"/>
                    </a:lnTo>
                    <a:lnTo>
                      <a:pt x="18089" y="16259"/>
                    </a:lnTo>
                    <a:lnTo>
                      <a:pt x="18669" y="17394"/>
                    </a:lnTo>
                    <a:lnTo>
                      <a:pt x="19287" y="18503"/>
                    </a:lnTo>
                    <a:lnTo>
                      <a:pt x="20000" y="19625"/>
                    </a:lnTo>
                    <a:lnTo>
                      <a:pt x="19001" y="19663"/>
                    </a:lnTo>
                    <a:lnTo>
                      <a:pt x="17946" y="19850"/>
                    </a:lnTo>
                    <a:lnTo>
                      <a:pt x="16806" y="20000"/>
                    </a:lnTo>
                    <a:lnTo>
                      <a:pt x="15608" y="19987"/>
                    </a:lnTo>
                    <a:lnTo>
                      <a:pt x="14325" y="19638"/>
                    </a:lnTo>
                    <a:lnTo>
                      <a:pt x="12965" y="18815"/>
                    </a:lnTo>
                    <a:lnTo>
                      <a:pt x="11511" y="17369"/>
                    </a:lnTo>
                    <a:lnTo>
                      <a:pt x="10000" y="15124"/>
                    </a:lnTo>
                    <a:lnTo>
                      <a:pt x="10684" y="15635"/>
                    </a:lnTo>
                    <a:lnTo>
                      <a:pt x="11378" y="16109"/>
                    </a:lnTo>
                    <a:lnTo>
                      <a:pt x="12110" y="16533"/>
                    </a:lnTo>
                    <a:lnTo>
                      <a:pt x="12927" y="16945"/>
                    </a:lnTo>
                    <a:lnTo>
                      <a:pt x="13878" y="17356"/>
                    </a:lnTo>
                    <a:lnTo>
                      <a:pt x="14980" y="17755"/>
                    </a:lnTo>
                    <a:lnTo>
                      <a:pt x="16302" y="18179"/>
                    </a:lnTo>
                    <a:lnTo>
                      <a:pt x="17889" y="18653"/>
                    </a:lnTo>
                    <a:lnTo>
                      <a:pt x="16777" y="17294"/>
                    </a:lnTo>
                    <a:lnTo>
                      <a:pt x="15941" y="15860"/>
                    </a:lnTo>
                    <a:lnTo>
                      <a:pt x="15323" y="14413"/>
                    </a:lnTo>
                    <a:lnTo>
                      <a:pt x="14914" y="13054"/>
                    </a:lnTo>
                    <a:lnTo>
                      <a:pt x="14648" y="11832"/>
                    </a:lnTo>
                    <a:lnTo>
                      <a:pt x="14515" y="10860"/>
                    </a:lnTo>
                    <a:lnTo>
                      <a:pt x="14458" y="10224"/>
                    </a:lnTo>
                    <a:lnTo>
                      <a:pt x="14458" y="10000"/>
                    </a:lnTo>
                    <a:close/>
                    <a:moveTo>
                      <a:pt x="144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392440" y="2344680"/>
                <a:ext cx="231480" cy="4366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9339" y="11154"/>
                    </a:lnTo>
                    <a:lnTo>
                      <a:pt x="18737" y="12002"/>
                    </a:lnTo>
                    <a:lnTo>
                      <a:pt x="18194" y="12680"/>
                    </a:lnTo>
                    <a:lnTo>
                      <a:pt x="17611" y="13305"/>
                    </a:lnTo>
                    <a:lnTo>
                      <a:pt x="17029" y="13961"/>
                    </a:lnTo>
                    <a:lnTo>
                      <a:pt x="16368" y="14788"/>
                    </a:lnTo>
                    <a:lnTo>
                      <a:pt x="15650" y="15889"/>
                    </a:lnTo>
                    <a:lnTo>
                      <a:pt x="14834" y="17394"/>
                    </a:lnTo>
                    <a:lnTo>
                      <a:pt x="14834" y="17383"/>
                    </a:lnTo>
                    <a:lnTo>
                      <a:pt x="14834" y="17341"/>
                    </a:lnTo>
                    <a:lnTo>
                      <a:pt x="14834" y="17298"/>
                    </a:lnTo>
                    <a:lnTo>
                      <a:pt x="14834" y="17235"/>
                    </a:lnTo>
                    <a:lnTo>
                      <a:pt x="14660" y="16620"/>
                    </a:lnTo>
                    <a:lnTo>
                      <a:pt x="14485" y="16101"/>
                    </a:lnTo>
                    <a:lnTo>
                      <a:pt x="14213" y="15603"/>
                    </a:lnTo>
                    <a:lnTo>
                      <a:pt x="13825" y="15074"/>
                    </a:lnTo>
                    <a:lnTo>
                      <a:pt x="13281" y="14470"/>
                    </a:lnTo>
                    <a:lnTo>
                      <a:pt x="12485" y="13728"/>
                    </a:lnTo>
                    <a:lnTo>
                      <a:pt x="11436" y="12764"/>
                    </a:lnTo>
                    <a:lnTo>
                      <a:pt x="10038" y="11567"/>
                    </a:lnTo>
                    <a:lnTo>
                      <a:pt x="10000" y="12415"/>
                    </a:lnTo>
                    <a:lnTo>
                      <a:pt x="10097" y="13199"/>
                    </a:lnTo>
                    <a:lnTo>
                      <a:pt x="10310" y="13972"/>
                    </a:lnTo>
                    <a:lnTo>
                      <a:pt x="10699" y="14819"/>
                    </a:lnTo>
                    <a:lnTo>
                      <a:pt x="11300" y="15762"/>
                    </a:lnTo>
                    <a:lnTo>
                      <a:pt x="12116" y="16906"/>
                    </a:lnTo>
                    <a:lnTo>
                      <a:pt x="13184" y="18305"/>
                    </a:lnTo>
                    <a:lnTo>
                      <a:pt x="14543" y="20000"/>
                    </a:lnTo>
                    <a:lnTo>
                      <a:pt x="14796" y="19830"/>
                    </a:lnTo>
                    <a:lnTo>
                      <a:pt x="15475" y="19364"/>
                    </a:lnTo>
                    <a:lnTo>
                      <a:pt x="16466" y="18580"/>
                    </a:lnTo>
                    <a:lnTo>
                      <a:pt x="17553" y="17478"/>
                    </a:lnTo>
                    <a:lnTo>
                      <a:pt x="18621" y="16069"/>
                    </a:lnTo>
                    <a:lnTo>
                      <a:pt x="19495" y="14343"/>
                    </a:lnTo>
                    <a:lnTo>
                      <a:pt x="20000" y="12319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211360" y="2814840"/>
                <a:ext cx="356760" cy="4428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840" y="10000"/>
                    </a:moveTo>
                    <a:lnTo>
                      <a:pt x="13700" y="10230"/>
                    </a:lnTo>
                    <a:lnTo>
                      <a:pt x="13396" y="10723"/>
                    </a:lnTo>
                    <a:lnTo>
                      <a:pt x="12902" y="11488"/>
                    </a:lnTo>
                    <a:lnTo>
                      <a:pt x="12332" y="12547"/>
                    </a:lnTo>
                    <a:lnTo>
                      <a:pt x="11698" y="13909"/>
                    </a:lnTo>
                    <a:lnTo>
                      <a:pt x="11051" y="15587"/>
                    </a:lnTo>
                    <a:lnTo>
                      <a:pt x="10468" y="17620"/>
                    </a:lnTo>
                    <a:lnTo>
                      <a:pt x="10000" y="20000"/>
                    </a:lnTo>
                    <a:lnTo>
                      <a:pt x="13460" y="18836"/>
                    </a:lnTo>
                    <a:lnTo>
                      <a:pt x="16032" y="17547"/>
                    </a:lnTo>
                    <a:lnTo>
                      <a:pt x="17820" y="16205"/>
                    </a:lnTo>
                    <a:lnTo>
                      <a:pt x="18960" y="14916"/>
                    </a:lnTo>
                    <a:lnTo>
                      <a:pt x="19619" y="13752"/>
                    </a:lnTo>
                    <a:lnTo>
                      <a:pt x="19923" y="12819"/>
                    </a:lnTo>
                    <a:lnTo>
                      <a:pt x="20000" y="12201"/>
                    </a:lnTo>
                    <a:lnTo>
                      <a:pt x="20000" y="11991"/>
                    </a:lnTo>
                    <a:lnTo>
                      <a:pt x="19340" y="12693"/>
                    </a:lnTo>
                    <a:lnTo>
                      <a:pt x="18504" y="13469"/>
                    </a:lnTo>
                    <a:lnTo>
                      <a:pt x="17515" y="14266"/>
                    </a:lnTo>
                    <a:lnTo>
                      <a:pt x="16425" y="15052"/>
                    </a:lnTo>
                    <a:lnTo>
                      <a:pt x="15285" y="15849"/>
                    </a:lnTo>
                    <a:lnTo>
                      <a:pt x="14131" y="16614"/>
                    </a:lnTo>
                    <a:lnTo>
                      <a:pt x="13041" y="17316"/>
                    </a:lnTo>
                    <a:lnTo>
                      <a:pt x="12040" y="17966"/>
                    </a:lnTo>
                    <a:lnTo>
                      <a:pt x="12737" y="16666"/>
                    </a:lnTo>
                    <a:lnTo>
                      <a:pt x="13219" y="15324"/>
                    </a:lnTo>
                    <a:lnTo>
                      <a:pt x="13548" y="14004"/>
                    </a:lnTo>
                    <a:lnTo>
                      <a:pt x="13738" y="12746"/>
                    </a:lnTo>
                    <a:lnTo>
                      <a:pt x="13827" y="11645"/>
                    </a:lnTo>
                    <a:lnTo>
                      <a:pt x="13852" y="10775"/>
                    </a:lnTo>
                    <a:lnTo>
                      <a:pt x="13840" y="10199"/>
                    </a:lnTo>
                    <a:lnTo>
                      <a:pt x="13840" y="10000"/>
                    </a:lnTo>
                    <a:close/>
                    <a:moveTo>
                      <a:pt x="1384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7560" y="1924200"/>
                <a:ext cx="194760" cy="385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588" y="20000"/>
                    </a:moveTo>
                    <a:lnTo>
                      <a:pt x="10000" y="17900"/>
                    </a:lnTo>
                    <a:lnTo>
                      <a:pt x="10000" y="15987"/>
                    </a:lnTo>
                    <a:lnTo>
                      <a:pt x="10445" y="14298"/>
                    </a:lnTo>
                    <a:lnTo>
                      <a:pt x="11212" y="12857"/>
                    </a:lnTo>
                    <a:lnTo>
                      <a:pt x="12139" y="11689"/>
                    </a:lnTo>
                    <a:lnTo>
                      <a:pt x="13119" y="10807"/>
                    </a:lnTo>
                    <a:lnTo>
                      <a:pt x="14028" y="10223"/>
                    </a:lnTo>
                    <a:lnTo>
                      <a:pt x="14705" y="10000"/>
                    </a:lnTo>
                    <a:lnTo>
                      <a:pt x="14616" y="10161"/>
                    </a:lnTo>
                    <a:lnTo>
                      <a:pt x="14349" y="10608"/>
                    </a:lnTo>
                    <a:lnTo>
                      <a:pt x="13975" y="11291"/>
                    </a:lnTo>
                    <a:lnTo>
                      <a:pt x="13547" y="12173"/>
                    </a:lnTo>
                    <a:lnTo>
                      <a:pt x="13119" y="13217"/>
                    </a:lnTo>
                    <a:lnTo>
                      <a:pt x="12780" y="14385"/>
                    </a:lnTo>
                    <a:lnTo>
                      <a:pt x="12584" y="15602"/>
                    </a:lnTo>
                    <a:lnTo>
                      <a:pt x="12584" y="16869"/>
                    </a:lnTo>
                    <a:lnTo>
                      <a:pt x="12780" y="16571"/>
                    </a:lnTo>
                    <a:lnTo>
                      <a:pt x="13386" y="16111"/>
                    </a:lnTo>
                    <a:lnTo>
                      <a:pt x="14313" y="15527"/>
                    </a:lnTo>
                    <a:lnTo>
                      <a:pt x="15436" y="14844"/>
                    </a:lnTo>
                    <a:lnTo>
                      <a:pt x="16666" y="14149"/>
                    </a:lnTo>
                    <a:lnTo>
                      <a:pt x="17896" y="13453"/>
                    </a:lnTo>
                    <a:lnTo>
                      <a:pt x="19037" y="12844"/>
                    </a:lnTo>
                    <a:lnTo>
                      <a:pt x="20000" y="12335"/>
                    </a:lnTo>
                    <a:lnTo>
                      <a:pt x="19768" y="12732"/>
                    </a:lnTo>
                    <a:lnTo>
                      <a:pt x="19233" y="13403"/>
                    </a:lnTo>
                    <a:lnTo>
                      <a:pt x="18377" y="14273"/>
                    </a:lnTo>
                    <a:lnTo>
                      <a:pt x="17254" y="15316"/>
                    </a:lnTo>
                    <a:lnTo>
                      <a:pt x="15864" y="16447"/>
                    </a:lnTo>
                    <a:lnTo>
                      <a:pt x="14278" y="17639"/>
                    </a:lnTo>
                    <a:lnTo>
                      <a:pt x="12495" y="18832"/>
                    </a:lnTo>
                    <a:lnTo>
                      <a:pt x="10588" y="20000"/>
                    </a:lnTo>
                    <a:close/>
                    <a:moveTo>
                      <a:pt x="1058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233680" y="1935360"/>
                <a:ext cx="253440" cy="369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427" y="20000"/>
                    </a:moveTo>
                    <a:lnTo>
                      <a:pt x="20000" y="17900"/>
                    </a:lnTo>
                    <a:lnTo>
                      <a:pt x="20000" y="15987"/>
                    </a:lnTo>
                    <a:lnTo>
                      <a:pt x="19552" y="14298"/>
                    </a:lnTo>
                    <a:lnTo>
                      <a:pt x="18783" y="12857"/>
                    </a:lnTo>
                    <a:lnTo>
                      <a:pt x="17853" y="11689"/>
                    </a:lnTo>
                    <a:lnTo>
                      <a:pt x="16869" y="10807"/>
                    </a:lnTo>
                    <a:lnTo>
                      <a:pt x="15957" y="10223"/>
                    </a:lnTo>
                    <a:lnTo>
                      <a:pt x="15277" y="10000"/>
                    </a:lnTo>
                    <a:lnTo>
                      <a:pt x="15366" y="10161"/>
                    </a:lnTo>
                    <a:lnTo>
                      <a:pt x="15635" y="10608"/>
                    </a:lnTo>
                    <a:lnTo>
                      <a:pt x="16010" y="11291"/>
                    </a:lnTo>
                    <a:lnTo>
                      <a:pt x="16440" y="12173"/>
                    </a:lnTo>
                    <a:lnTo>
                      <a:pt x="16869" y="13217"/>
                    </a:lnTo>
                    <a:lnTo>
                      <a:pt x="17209" y="14385"/>
                    </a:lnTo>
                    <a:lnTo>
                      <a:pt x="17406" y="15602"/>
                    </a:lnTo>
                    <a:lnTo>
                      <a:pt x="17423" y="16869"/>
                    </a:lnTo>
                    <a:lnTo>
                      <a:pt x="17209" y="16571"/>
                    </a:lnTo>
                    <a:lnTo>
                      <a:pt x="16601" y="16111"/>
                    </a:lnTo>
                    <a:lnTo>
                      <a:pt x="15688" y="15527"/>
                    </a:lnTo>
                    <a:lnTo>
                      <a:pt x="14561" y="14844"/>
                    </a:lnTo>
                    <a:lnTo>
                      <a:pt x="13327" y="14149"/>
                    </a:lnTo>
                    <a:lnTo>
                      <a:pt x="12093" y="13453"/>
                    </a:lnTo>
                    <a:lnTo>
                      <a:pt x="10930" y="12844"/>
                    </a:lnTo>
                    <a:lnTo>
                      <a:pt x="10000" y="12335"/>
                    </a:lnTo>
                    <a:lnTo>
                      <a:pt x="10214" y="12732"/>
                    </a:lnTo>
                    <a:lnTo>
                      <a:pt x="10751" y="13403"/>
                    </a:lnTo>
                    <a:lnTo>
                      <a:pt x="11610" y="14273"/>
                    </a:lnTo>
                    <a:lnTo>
                      <a:pt x="12737" y="15316"/>
                    </a:lnTo>
                    <a:lnTo>
                      <a:pt x="14132" y="16447"/>
                    </a:lnTo>
                    <a:lnTo>
                      <a:pt x="15706" y="17639"/>
                    </a:lnTo>
                    <a:lnTo>
                      <a:pt x="17495" y="18832"/>
                    </a:lnTo>
                    <a:lnTo>
                      <a:pt x="19427" y="20000"/>
                    </a:lnTo>
                    <a:close/>
                    <a:moveTo>
                      <a:pt x="19427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078080" y="2041560"/>
                <a:ext cx="1053720" cy="1065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5" y="14769"/>
                    </a:lnTo>
                    <a:lnTo>
                      <a:pt x="19982" y="14552"/>
                    </a:lnTo>
                    <a:lnTo>
                      <a:pt x="19956" y="14331"/>
                    </a:lnTo>
                    <a:lnTo>
                      <a:pt x="19922" y="14114"/>
                    </a:lnTo>
                    <a:lnTo>
                      <a:pt x="19879" y="13897"/>
                    </a:lnTo>
                    <a:lnTo>
                      <a:pt x="19827" y="13680"/>
                    </a:lnTo>
                    <a:lnTo>
                      <a:pt x="19762" y="13472"/>
                    </a:lnTo>
                    <a:lnTo>
                      <a:pt x="19689" y="13259"/>
                    </a:lnTo>
                    <a:lnTo>
                      <a:pt x="19607" y="13055"/>
                    </a:lnTo>
                    <a:lnTo>
                      <a:pt x="19521" y="12851"/>
                    </a:lnTo>
                    <a:lnTo>
                      <a:pt x="19417" y="12656"/>
                    </a:lnTo>
                    <a:lnTo>
                      <a:pt x="19309" y="12465"/>
                    </a:lnTo>
                    <a:lnTo>
                      <a:pt x="19193" y="12274"/>
                    </a:lnTo>
                    <a:lnTo>
                      <a:pt x="19072" y="12092"/>
                    </a:lnTo>
                    <a:lnTo>
                      <a:pt x="18938" y="11914"/>
                    </a:lnTo>
                    <a:lnTo>
                      <a:pt x="18796" y="11744"/>
                    </a:lnTo>
                    <a:lnTo>
                      <a:pt x="18649" y="11579"/>
                    </a:lnTo>
                    <a:lnTo>
                      <a:pt x="18494" y="11419"/>
                    </a:lnTo>
                    <a:lnTo>
                      <a:pt x="18334" y="11271"/>
                    </a:lnTo>
                    <a:lnTo>
                      <a:pt x="18162" y="11124"/>
                    </a:lnTo>
                    <a:lnTo>
                      <a:pt x="17989" y="10993"/>
                    </a:lnTo>
                    <a:lnTo>
                      <a:pt x="17808" y="10863"/>
                    </a:lnTo>
                    <a:lnTo>
                      <a:pt x="17622" y="10742"/>
                    </a:lnTo>
                    <a:lnTo>
                      <a:pt x="17433" y="10629"/>
                    </a:lnTo>
                    <a:lnTo>
                      <a:pt x="17239" y="10525"/>
                    </a:lnTo>
                    <a:lnTo>
                      <a:pt x="17036" y="10434"/>
                    </a:lnTo>
                    <a:lnTo>
                      <a:pt x="16833" y="10347"/>
                    </a:lnTo>
                    <a:lnTo>
                      <a:pt x="16622" y="10269"/>
                    </a:lnTo>
                    <a:lnTo>
                      <a:pt x="16410" y="10203"/>
                    </a:lnTo>
                    <a:lnTo>
                      <a:pt x="16199" y="10147"/>
                    </a:lnTo>
                    <a:lnTo>
                      <a:pt x="15983" y="10099"/>
                    </a:lnTo>
                    <a:lnTo>
                      <a:pt x="15763" y="10060"/>
                    </a:lnTo>
                    <a:lnTo>
                      <a:pt x="15543" y="10030"/>
                    </a:lnTo>
                    <a:lnTo>
                      <a:pt x="15323" y="10008"/>
                    </a:lnTo>
                    <a:lnTo>
                      <a:pt x="15107" y="10000"/>
                    </a:lnTo>
                    <a:lnTo>
                      <a:pt x="14883" y="10000"/>
                    </a:lnTo>
                    <a:lnTo>
                      <a:pt x="14663" y="10008"/>
                    </a:lnTo>
                    <a:lnTo>
                      <a:pt x="14443" y="10030"/>
                    </a:lnTo>
                    <a:lnTo>
                      <a:pt x="14223" y="10060"/>
                    </a:lnTo>
                    <a:lnTo>
                      <a:pt x="14003" y="10099"/>
                    </a:lnTo>
                    <a:lnTo>
                      <a:pt x="13787" y="10147"/>
                    </a:lnTo>
                    <a:lnTo>
                      <a:pt x="13576" y="10208"/>
                    </a:lnTo>
                    <a:lnTo>
                      <a:pt x="13364" y="10277"/>
                    </a:lnTo>
                    <a:lnTo>
                      <a:pt x="13153" y="10355"/>
                    </a:lnTo>
                    <a:lnTo>
                      <a:pt x="12955" y="10438"/>
                    </a:lnTo>
                    <a:lnTo>
                      <a:pt x="12756" y="10529"/>
                    </a:lnTo>
                    <a:lnTo>
                      <a:pt x="12558" y="10638"/>
                    </a:lnTo>
                    <a:lnTo>
                      <a:pt x="12368" y="10746"/>
                    </a:lnTo>
                    <a:lnTo>
                      <a:pt x="12178" y="10868"/>
                    </a:lnTo>
                    <a:lnTo>
                      <a:pt x="12006" y="10998"/>
                    </a:lnTo>
                    <a:lnTo>
                      <a:pt x="11829" y="11132"/>
                    </a:lnTo>
                    <a:lnTo>
                      <a:pt x="11656" y="11276"/>
                    </a:lnTo>
                    <a:lnTo>
                      <a:pt x="11496" y="11427"/>
                    </a:lnTo>
                    <a:lnTo>
                      <a:pt x="11345" y="11592"/>
                    </a:lnTo>
                    <a:lnTo>
                      <a:pt x="11195" y="11753"/>
                    </a:lnTo>
                    <a:lnTo>
                      <a:pt x="11056" y="11922"/>
                    </a:lnTo>
                    <a:lnTo>
                      <a:pt x="10927" y="12100"/>
                    </a:lnTo>
                    <a:lnTo>
                      <a:pt x="10798" y="12282"/>
                    </a:lnTo>
                    <a:lnTo>
                      <a:pt x="10681" y="12473"/>
                    </a:lnTo>
                    <a:lnTo>
                      <a:pt x="10573" y="12664"/>
                    </a:lnTo>
                    <a:lnTo>
                      <a:pt x="10478" y="12868"/>
                    </a:lnTo>
                    <a:lnTo>
                      <a:pt x="10388" y="13068"/>
                    </a:lnTo>
                    <a:lnTo>
                      <a:pt x="10306" y="13272"/>
                    </a:lnTo>
                    <a:lnTo>
                      <a:pt x="10232" y="13480"/>
                    </a:lnTo>
                    <a:lnTo>
                      <a:pt x="10172" y="13697"/>
                    </a:lnTo>
                    <a:lnTo>
                      <a:pt x="10116" y="13906"/>
                    </a:lnTo>
                    <a:lnTo>
                      <a:pt x="10077" y="14123"/>
                    </a:lnTo>
                    <a:lnTo>
                      <a:pt x="10043" y="14344"/>
                    </a:lnTo>
                    <a:lnTo>
                      <a:pt x="10017" y="14565"/>
                    </a:lnTo>
                    <a:lnTo>
                      <a:pt x="10004" y="14787"/>
                    </a:lnTo>
                    <a:lnTo>
                      <a:pt x="10000" y="15008"/>
                    </a:lnTo>
                    <a:lnTo>
                      <a:pt x="10004" y="15230"/>
                    </a:lnTo>
                    <a:lnTo>
                      <a:pt x="10017" y="15447"/>
                    </a:lnTo>
                    <a:lnTo>
                      <a:pt x="10043" y="15668"/>
                    </a:lnTo>
                    <a:lnTo>
                      <a:pt x="10077" y="15885"/>
                    </a:lnTo>
                    <a:lnTo>
                      <a:pt x="10120" y="16102"/>
                    </a:lnTo>
                    <a:lnTo>
                      <a:pt x="10176" y="16319"/>
                    </a:lnTo>
                    <a:lnTo>
                      <a:pt x="10237" y="16527"/>
                    </a:lnTo>
                    <a:lnTo>
                      <a:pt x="10310" y="16740"/>
                    </a:lnTo>
                    <a:lnTo>
                      <a:pt x="10396" y="16944"/>
                    </a:lnTo>
                    <a:lnTo>
                      <a:pt x="10483" y="17148"/>
                    </a:lnTo>
                    <a:lnTo>
                      <a:pt x="10578" y="17343"/>
                    </a:lnTo>
                    <a:lnTo>
                      <a:pt x="10690" y="17539"/>
                    </a:lnTo>
                    <a:lnTo>
                      <a:pt x="10811" y="17725"/>
                    </a:lnTo>
                    <a:lnTo>
                      <a:pt x="10931" y="17907"/>
                    </a:lnTo>
                    <a:lnTo>
                      <a:pt x="11061" y="18085"/>
                    </a:lnTo>
                    <a:lnTo>
                      <a:pt x="11203" y="18255"/>
                    </a:lnTo>
                    <a:lnTo>
                      <a:pt x="11350" y="18424"/>
                    </a:lnTo>
                    <a:lnTo>
                      <a:pt x="11505" y="18580"/>
                    </a:lnTo>
                    <a:lnTo>
                      <a:pt x="11669" y="18728"/>
                    </a:lnTo>
                    <a:lnTo>
                      <a:pt x="11837" y="18875"/>
                    </a:lnTo>
                    <a:lnTo>
                      <a:pt x="12014" y="19006"/>
                    </a:lnTo>
                    <a:lnTo>
                      <a:pt x="12195" y="19140"/>
                    </a:lnTo>
                    <a:lnTo>
                      <a:pt x="12381" y="19257"/>
                    </a:lnTo>
                    <a:lnTo>
                      <a:pt x="12571" y="19370"/>
                    </a:lnTo>
                    <a:lnTo>
                      <a:pt x="12765" y="19474"/>
                    </a:lnTo>
                    <a:lnTo>
                      <a:pt x="12963" y="19565"/>
                    </a:lnTo>
                    <a:lnTo>
                      <a:pt x="13170" y="19657"/>
                    </a:lnTo>
                    <a:lnTo>
                      <a:pt x="13377" y="19730"/>
                    </a:lnTo>
                    <a:lnTo>
                      <a:pt x="13589" y="19796"/>
                    </a:lnTo>
                    <a:lnTo>
                      <a:pt x="13805" y="19856"/>
                    </a:lnTo>
                    <a:lnTo>
                      <a:pt x="14016" y="19900"/>
                    </a:lnTo>
                    <a:lnTo>
                      <a:pt x="14236" y="19939"/>
                    </a:lnTo>
                    <a:lnTo>
                      <a:pt x="14456" y="19969"/>
                    </a:lnTo>
                    <a:lnTo>
                      <a:pt x="14676" y="19986"/>
                    </a:lnTo>
                    <a:lnTo>
                      <a:pt x="14896" y="20000"/>
                    </a:lnTo>
                    <a:lnTo>
                      <a:pt x="15116" y="20000"/>
                    </a:lnTo>
                    <a:lnTo>
                      <a:pt x="15340" y="19986"/>
                    </a:lnTo>
                    <a:lnTo>
                      <a:pt x="15560" y="19969"/>
                    </a:lnTo>
                    <a:lnTo>
                      <a:pt x="15780" y="19939"/>
                    </a:lnTo>
                    <a:lnTo>
                      <a:pt x="15996" y="19900"/>
                    </a:lnTo>
                    <a:lnTo>
                      <a:pt x="16212" y="19852"/>
                    </a:lnTo>
                    <a:lnTo>
                      <a:pt x="16427" y="19791"/>
                    </a:lnTo>
                    <a:lnTo>
                      <a:pt x="16635" y="19722"/>
                    </a:lnTo>
                    <a:lnTo>
                      <a:pt x="16842" y="19648"/>
                    </a:lnTo>
                    <a:lnTo>
                      <a:pt x="17044" y="19561"/>
                    </a:lnTo>
                    <a:lnTo>
                      <a:pt x="17247" y="19470"/>
                    </a:lnTo>
                    <a:lnTo>
                      <a:pt x="17441" y="19366"/>
                    </a:lnTo>
                    <a:lnTo>
                      <a:pt x="17631" y="19253"/>
                    </a:lnTo>
                    <a:lnTo>
                      <a:pt x="17817" y="19131"/>
                    </a:lnTo>
                    <a:lnTo>
                      <a:pt x="17998" y="19001"/>
                    </a:lnTo>
                    <a:lnTo>
                      <a:pt x="18175" y="18867"/>
                    </a:lnTo>
                    <a:lnTo>
                      <a:pt x="18343" y="18723"/>
                    </a:lnTo>
                    <a:lnTo>
                      <a:pt x="18503" y="18572"/>
                    </a:lnTo>
                    <a:lnTo>
                      <a:pt x="18654" y="18411"/>
                    </a:lnTo>
                    <a:lnTo>
                      <a:pt x="18809" y="18246"/>
                    </a:lnTo>
                    <a:lnTo>
                      <a:pt x="18943" y="18072"/>
                    </a:lnTo>
                    <a:lnTo>
                      <a:pt x="19076" y="17899"/>
                    </a:lnTo>
                    <a:lnTo>
                      <a:pt x="19201" y="17717"/>
                    </a:lnTo>
                    <a:lnTo>
                      <a:pt x="19318" y="17526"/>
                    </a:lnTo>
                    <a:lnTo>
                      <a:pt x="19426" y="17335"/>
                    </a:lnTo>
                    <a:lnTo>
                      <a:pt x="19525" y="17135"/>
                    </a:lnTo>
                    <a:lnTo>
                      <a:pt x="19611" y="16931"/>
                    </a:lnTo>
                    <a:lnTo>
                      <a:pt x="19693" y="16731"/>
                    </a:lnTo>
                    <a:lnTo>
                      <a:pt x="19767" y="16519"/>
                    </a:lnTo>
                    <a:lnTo>
                      <a:pt x="19831" y="16306"/>
                    </a:lnTo>
                    <a:lnTo>
                      <a:pt x="19883" y="16093"/>
                    </a:lnTo>
                    <a:lnTo>
                      <a:pt x="19922" y="15876"/>
                    </a:lnTo>
                    <a:lnTo>
                      <a:pt x="19956" y="15655"/>
                    </a:lnTo>
                    <a:lnTo>
                      <a:pt x="19982" y="15434"/>
                    </a:lnTo>
                    <a:lnTo>
                      <a:pt x="19995" y="15212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08040" y="2170080"/>
                <a:ext cx="790200" cy="801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4"/>
                    </a:moveTo>
                    <a:lnTo>
                      <a:pt x="19994" y="14734"/>
                    </a:lnTo>
                    <a:lnTo>
                      <a:pt x="19971" y="14480"/>
                    </a:lnTo>
                    <a:lnTo>
                      <a:pt x="19942" y="14232"/>
                    </a:lnTo>
                    <a:lnTo>
                      <a:pt x="19896" y="13978"/>
                    </a:lnTo>
                    <a:lnTo>
                      <a:pt x="19839" y="13729"/>
                    </a:lnTo>
                    <a:lnTo>
                      <a:pt x="19764" y="13487"/>
                    </a:lnTo>
                    <a:lnTo>
                      <a:pt x="19684" y="13244"/>
                    </a:lnTo>
                    <a:lnTo>
                      <a:pt x="19586" y="13002"/>
                    </a:lnTo>
                    <a:lnTo>
                      <a:pt x="19483" y="12777"/>
                    </a:lnTo>
                    <a:lnTo>
                      <a:pt x="19357" y="12546"/>
                    </a:lnTo>
                    <a:lnTo>
                      <a:pt x="19225" y="12332"/>
                    </a:lnTo>
                    <a:lnTo>
                      <a:pt x="19087" y="12118"/>
                    </a:lnTo>
                    <a:lnTo>
                      <a:pt x="18938" y="11916"/>
                    </a:lnTo>
                    <a:lnTo>
                      <a:pt x="18771" y="11720"/>
                    </a:lnTo>
                    <a:lnTo>
                      <a:pt x="18599" y="11530"/>
                    </a:lnTo>
                    <a:lnTo>
                      <a:pt x="18415" y="11345"/>
                    </a:lnTo>
                    <a:lnTo>
                      <a:pt x="18226" y="11177"/>
                    </a:lnTo>
                    <a:lnTo>
                      <a:pt x="18025" y="11021"/>
                    </a:lnTo>
                    <a:lnTo>
                      <a:pt x="17818" y="10871"/>
                    </a:lnTo>
                    <a:lnTo>
                      <a:pt x="17606" y="10733"/>
                    </a:lnTo>
                    <a:lnTo>
                      <a:pt x="17382" y="10600"/>
                    </a:lnTo>
                    <a:lnTo>
                      <a:pt x="17158" y="10490"/>
                    </a:lnTo>
                    <a:lnTo>
                      <a:pt x="16923" y="10386"/>
                    </a:lnTo>
                    <a:lnTo>
                      <a:pt x="16681" y="10294"/>
                    </a:lnTo>
                    <a:lnTo>
                      <a:pt x="16440" y="10207"/>
                    </a:lnTo>
                    <a:lnTo>
                      <a:pt x="16199" y="10144"/>
                    </a:lnTo>
                    <a:lnTo>
                      <a:pt x="15941" y="10092"/>
                    </a:lnTo>
                    <a:lnTo>
                      <a:pt x="15688" y="10046"/>
                    </a:lnTo>
                    <a:lnTo>
                      <a:pt x="15436" y="10023"/>
                    </a:lnTo>
                    <a:lnTo>
                      <a:pt x="15183" y="10000"/>
                    </a:lnTo>
                    <a:lnTo>
                      <a:pt x="14931" y="10000"/>
                    </a:lnTo>
                    <a:lnTo>
                      <a:pt x="14672" y="10005"/>
                    </a:lnTo>
                    <a:lnTo>
                      <a:pt x="14420" y="10034"/>
                    </a:lnTo>
                    <a:lnTo>
                      <a:pt x="14167" y="10069"/>
                    </a:lnTo>
                    <a:lnTo>
                      <a:pt x="13915" y="10121"/>
                    </a:lnTo>
                    <a:lnTo>
                      <a:pt x="13668" y="10178"/>
                    </a:lnTo>
                    <a:lnTo>
                      <a:pt x="13427" y="10254"/>
                    </a:lnTo>
                    <a:lnTo>
                      <a:pt x="13185" y="10340"/>
                    </a:lnTo>
                    <a:lnTo>
                      <a:pt x="12944" y="10438"/>
                    </a:lnTo>
                    <a:lnTo>
                      <a:pt x="12721" y="10548"/>
                    </a:lnTo>
                    <a:lnTo>
                      <a:pt x="12491" y="10675"/>
                    </a:lnTo>
                    <a:lnTo>
                      <a:pt x="12278" y="10802"/>
                    </a:lnTo>
                    <a:lnTo>
                      <a:pt x="12060" y="10946"/>
                    </a:lnTo>
                    <a:lnTo>
                      <a:pt x="11859" y="11102"/>
                    </a:lnTo>
                    <a:lnTo>
                      <a:pt x="11664" y="11275"/>
                    </a:lnTo>
                    <a:lnTo>
                      <a:pt x="11481" y="11443"/>
                    </a:lnTo>
                    <a:lnTo>
                      <a:pt x="11303" y="11633"/>
                    </a:lnTo>
                    <a:lnTo>
                      <a:pt x="11136" y="11824"/>
                    </a:lnTo>
                    <a:lnTo>
                      <a:pt x="10981" y="12026"/>
                    </a:lnTo>
                    <a:lnTo>
                      <a:pt x="10832" y="12234"/>
                    </a:lnTo>
                    <a:lnTo>
                      <a:pt x="10694" y="12448"/>
                    </a:lnTo>
                    <a:lnTo>
                      <a:pt x="10568" y="12673"/>
                    </a:lnTo>
                    <a:lnTo>
                      <a:pt x="10459" y="12898"/>
                    </a:lnTo>
                    <a:lnTo>
                      <a:pt x="10355" y="13135"/>
                    </a:lnTo>
                    <a:lnTo>
                      <a:pt x="10264" y="13377"/>
                    </a:lnTo>
                    <a:lnTo>
                      <a:pt x="10195" y="13620"/>
                    </a:lnTo>
                    <a:lnTo>
                      <a:pt x="10132" y="13868"/>
                    </a:lnTo>
                    <a:lnTo>
                      <a:pt x="10080" y="14116"/>
                    </a:lnTo>
                    <a:lnTo>
                      <a:pt x="10040" y="14370"/>
                    </a:lnTo>
                    <a:lnTo>
                      <a:pt x="10011" y="14624"/>
                    </a:lnTo>
                    <a:lnTo>
                      <a:pt x="10000" y="14878"/>
                    </a:lnTo>
                    <a:lnTo>
                      <a:pt x="10000" y="15132"/>
                    </a:lnTo>
                    <a:lnTo>
                      <a:pt x="10011" y="15386"/>
                    </a:lnTo>
                    <a:lnTo>
                      <a:pt x="10040" y="15640"/>
                    </a:lnTo>
                    <a:lnTo>
                      <a:pt x="10080" y="15894"/>
                    </a:lnTo>
                    <a:lnTo>
                      <a:pt x="10132" y="16143"/>
                    </a:lnTo>
                    <a:lnTo>
                      <a:pt x="10195" y="16391"/>
                    </a:lnTo>
                    <a:lnTo>
                      <a:pt x="10269" y="16633"/>
                    </a:lnTo>
                    <a:lnTo>
                      <a:pt x="10361" y="16876"/>
                    </a:lnTo>
                    <a:lnTo>
                      <a:pt x="10464" y="17113"/>
                    </a:lnTo>
                    <a:lnTo>
                      <a:pt x="10579" y="17338"/>
                    </a:lnTo>
                    <a:lnTo>
                      <a:pt x="10700" y="17563"/>
                    </a:lnTo>
                    <a:lnTo>
                      <a:pt x="10838" y="17777"/>
                    </a:lnTo>
                    <a:lnTo>
                      <a:pt x="10987" y="17984"/>
                    </a:lnTo>
                    <a:lnTo>
                      <a:pt x="11142" y="18187"/>
                    </a:lnTo>
                    <a:lnTo>
                      <a:pt x="11308" y="18377"/>
                    </a:lnTo>
                    <a:lnTo>
                      <a:pt x="11492" y="18562"/>
                    </a:lnTo>
                    <a:lnTo>
                      <a:pt x="11676" y="18735"/>
                    </a:lnTo>
                    <a:lnTo>
                      <a:pt x="11871" y="18903"/>
                    </a:lnTo>
                    <a:lnTo>
                      <a:pt x="12078" y="19058"/>
                    </a:lnTo>
                    <a:lnTo>
                      <a:pt x="12284" y="19203"/>
                    </a:lnTo>
                    <a:lnTo>
                      <a:pt x="12502" y="19330"/>
                    </a:lnTo>
                    <a:lnTo>
                      <a:pt x="12732" y="19457"/>
                    </a:lnTo>
                    <a:lnTo>
                      <a:pt x="12956" y="19566"/>
                    </a:lnTo>
                    <a:lnTo>
                      <a:pt x="13191" y="19665"/>
                    </a:lnTo>
                    <a:lnTo>
                      <a:pt x="13432" y="19751"/>
                    </a:lnTo>
                    <a:lnTo>
                      <a:pt x="13679" y="19821"/>
                    </a:lnTo>
                    <a:lnTo>
                      <a:pt x="13926" y="19884"/>
                    </a:lnTo>
                    <a:lnTo>
                      <a:pt x="14179" y="19930"/>
                    </a:lnTo>
                    <a:lnTo>
                      <a:pt x="14431" y="19965"/>
                    </a:lnTo>
                    <a:lnTo>
                      <a:pt x="14684" y="19988"/>
                    </a:lnTo>
                    <a:lnTo>
                      <a:pt x="14942" y="20000"/>
                    </a:lnTo>
                    <a:lnTo>
                      <a:pt x="15195" y="20000"/>
                    </a:lnTo>
                    <a:lnTo>
                      <a:pt x="15453" y="19976"/>
                    </a:lnTo>
                    <a:lnTo>
                      <a:pt x="15706" y="19953"/>
                    </a:lnTo>
                    <a:lnTo>
                      <a:pt x="15958" y="19907"/>
                    </a:lnTo>
                    <a:lnTo>
                      <a:pt x="16211" y="19855"/>
                    </a:lnTo>
                    <a:lnTo>
                      <a:pt x="16458" y="19780"/>
                    </a:lnTo>
                    <a:lnTo>
                      <a:pt x="16699" y="19705"/>
                    </a:lnTo>
                    <a:lnTo>
                      <a:pt x="16934" y="19613"/>
                    </a:lnTo>
                    <a:lnTo>
                      <a:pt x="17169" y="19509"/>
                    </a:lnTo>
                    <a:lnTo>
                      <a:pt x="17399" y="19387"/>
                    </a:lnTo>
                    <a:lnTo>
                      <a:pt x="17617" y="19260"/>
                    </a:lnTo>
                    <a:lnTo>
                      <a:pt x="17830" y="19122"/>
                    </a:lnTo>
                    <a:lnTo>
                      <a:pt x="18042" y="18972"/>
                    </a:lnTo>
                    <a:lnTo>
                      <a:pt x="18231" y="18810"/>
                    </a:lnTo>
                    <a:lnTo>
                      <a:pt x="18427" y="18637"/>
                    </a:lnTo>
                    <a:lnTo>
                      <a:pt x="18610" y="18464"/>
                    </a:lnTo>
                    <a:lnTo>
                      <a:pt x="18777" y="18273"/>
                    </a:lnTo>
                    <a:lnTo>
                      <a:pt x="18943" y="18077"/>
                    </a:lnTo>
                    <a:lnTo>
                      <a:pt x="19098" y="17869"/>
                    </a:lnTo>
                    <a:lnTo>
                      <a:pt x="19236" y="17661"/>
                    </a:lnTo>
                    <a:lnTo>
                      <a:pt x="19362" y="17436"/>
                    </a:lnTo>
                    <a:lnTo>
                      <a:pt x="19489" y="17217"/>
                    </a:lnTo>
                    <a:lnTo>
                      <a:pt x="19592" y="16980"/>
                    </a:lnTo>
                    <a:lnTo>
                      <a:pt x="19690" y="16743"/>
                    </a:lnTo>
                    <a:lnTo>
                      <a:pt x="19770" y="16506"/>
                    </a:lnTo>
                    <a:lnTo>
                      <a:pt x="19845" y="16258"/>
                    </a:lnTo>
                    <a:lnTo>
                      <a:pt x="19896" y="16010"/>
                    </a:lnTo>
                    <a:lnTo>
                      <a:pt x="19942" y="15762"/>
                    </a:lnTo>
                    <a:lnTo>
                      <a:pt x="19971" y="15508"/>
                    </a:lnTo>
                    <a:lnTo>
                      <a:pt x="19994" y="15248"/>
                    </a:lnTo>
                    <a:lnTo>
                      <a:pt x="20000" y="14994"/>
                    </a:lnTo>
                    <a:lnTo>
                      <a:pt x="20000" y="14994"/>
                    </a:lnTo>
                    <a:close/>
                    <a:moveTo>
                      <a:pt x="20000" y="1499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605120" y="1906560"/>
                <a:ext cx="4320" cy="549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75"/>
                    </a:moveTo>
                    <a:lnTo>
                      <a:pt x="10000" y="10075"/>
                    </a:lnTo>
                    <a:lnTo>
                      <a:pt x="10000" y="10067"/>
                    </a:lnTo>
                    <a:lnTo>
                      <a:pt x="10555" y="10059"/>
                    </a:lnTo>
                    <a:lnTo>
                      <a:pt x="10555" y="10042"/>
                    </a:lnTo>
                    <a:lnTo>
                      <a:pt x="11666" y="10033"/>
                    </a:lnTo>
                    <a:lnTo>
                      <a:pt x="12222" y="10016"/>
                    </a:lnTo>
                    <a:lnTo>
                      <a:pt x="12777" y="10008"/>
                    </a:lnTo>
                    <a:lnTo>
                      <a:pt x="13888" y="10008"/>
                    </a:lnTo>
                    <a:lnTo>
                      <a:pt x="14444" y="10000"/>
                    </a:lnTo>
                    <a:lnTo>
                      <a:pt x="15000" y="10000"/>
                    </a:lnTo>
                    <a:lnTo>
                      <a:pt x="15555" y="10000"/>
                    </a:lnTo>
                    <a:lnTo>
                      <a:pt x="16666" y="10008"/>
                    </a:lnTo>
                    <a:lnTo>
                      <a:pt x="17777" y="10008"/>
                    </a:lnTo>
                    <a:lnTo>
                      <a:pt x="18333" y="10016"/>
                    </a:lnTo>
                    <a:lnTo>
                      <a:pt x="18888" y="10033"/>
                    </a:lnTo>
                    <a:lnTo>
                      <a:pt x="19444" y="10042"/>
                    </a:lnTo>
                    <a:lnTo>
                      <a:pt x="19444" y="10059"/>
                    </a:lnTo>
                    <a:lnTo>
                      <a:pt x="20000" y="10067"/>
                    </a:lnTo>
                    <a:lnTo>
                      <a:pt x="20000" y="10075"/>
                    </a:lnTo>
                    <a:lnTo>
                      <a:pt x="20000" y="10075"/>
                    </a:lnTo>
                    <a:lnTo>
                      <a:pt x="20000" y="19924"/>
                    </a:lnTo>
                    <a:lnTo>
                      <a:pt x="20000" y="19924"/>
                    </a:lnTo>
                    <a:lnTo>
                      <a:pt x="20000" y="19940"/>
                    </a:lnTo>
                    <a:lnTo>
                      <a:pt x="19444" y="19949"/>
                    </a:lnTo>
                    <a:lnTo>
                      <a:pt x="19444" y="19966"/>
                    </a:lnTo>
                    <a:lnTo>
                      <a:pt x="18888" y="19974"/>
                    </a:lnTo>
                    <a:lnTo>
                      <a:pt x="18333" y="19983"/>
                    </a:lnTo>
                    <a:lnTo>
                      <a:pt x="17777" y="19991"/>
                    </a:lnTo>
                    <a:lnTo>
                      <a:pt x="16666" y="19991"/>
                    </a:lnTo>
                    <a:lnTo>
                      <a:pt x="15555" y="20000"/>
                    </a:lnTo>
                    <a:lnTo>
                      <a:pt x="15000" y="20000"/>
                    </a:lnTo>
                    <a:lnTo>
                      <a:pt x="14444" y="20000"/>
                    </a:lnTo>
                    <a:lnTo>
                      <a:pt x="13888" y="19991"/>
                    </a:lnTo>
                    <a:lnTo>
                      <a:pt x="12777" y="19991"/>
                    </a:lnTo>
                    <a:lnTo>
                      <a:pt x="12222" y="19983"/>
                    </a:lnTo>
                    <a:lnTo>
                      <a:pt x="11666" y="19974"/>
                    </a:lnTo>
                    <a:lnTo>
                      <a:pt x="10555" y="19966"/>
                    </a:lnTo>
                    <a:lnTo>
                      <a:pt x="10555" y="19949"/>
                    </a:lnTo>
                    <a:lnTo>
                      <a:pt x="10000" y="19940"/>
                    </a:lnTo>
                    <a:lnTo>
                      <a:pt x="10000" y="19924"/>
                    </a:lnTo>
                    <a:lnTo>
                      <a:pt x="10000" y="19924"/>
                    </a:lnTo>
                    <a:lnTo>
                      <a:pt x="10000" y="10075"/>
                    </a:lnTo>
                    <a:close/>
                    <a:moveTo>
                      <a:pt x="10000" y="100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4859280" y="2836800"/>
              <a:ext cx="199800" cy="204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31" y="19635"/>
                  </a:moveTo>
                  <a:lnTo>
                    <a:pt x="19931" y="19635"/>
                  </a:lnTo>
                  <a:lnTo>
                    <a:pt x="19931" y="19681"/>
                  </a:lnTo>
                  <a:lnTo>
                    <a:pt x="19954" y="19703"/>
                  </a:lnTo>
                  <a:lnTo>
                    <a:pt x="20000" y="19726"/>
                  </a:lnTo>
                  <a:lnTo>
                    <a:pt x="20000" y="19794"/>
                  </a:lnTo>
                  <a:lnTo>
                    <a:pt x="20000" y="19794"/>
                  </a:lnTo>
                  <a:lnTo>
                    <a:pt x="20000" y="19840"/>
                  </a:lnTo>
                  <a:lnTo>
                    <a:pt x="19954" y="19863"/>
                  </a:lnTo>
                  <a:lnTo>
                    <a:pt x="19931" y="19886"/>
                  </a:lnTo>
                  <a:lnTo>
                    <a:pt x="19931" y="19931"/>
                  </a:lnTo>
                  <a:lnTo>
                    <a:pt x="19886" y="19931"/>
                  </a:lnTo>
                  <a:lnTo>
                    <a:pt x="19863" y="19977"/>
                  </a:lnTo>
                  <a:lnTo>
                    <a:pt x="19840" y="20000"/>
                  </a:lnTo>
                  <a:lnTo>
                    <a:pt x="19795" y="20000"/>
                  </a:lnTo>
                  <a:lnTo>
                    <a:pt x="19795" y="20000"/>
                  </a:lnTo>
                  <a:lnTo>
                    <a:pt x="19727" y="20000"/>
                  </a:lnTo>
                  <a:lnTo>
                    <a:pt x="19704" y="19977"/>
                  </a:lnTo>
                  <a:lnTo>
                    <a:pt x="19681" y="19931"/>
                  </a:lnTo>
                  <a:lnTo>
                    <a:pt x="19636" y="19931"/>
                  </a:lnTo>
                  <a:lnTo>
                    <a:pt x="19636" y="19931"/>
                  </a:lnTo>
                  <a:lnTo>
                    <a:pt x="10045" y="10364"/>
                  </a:lnTo>
                  <a:lnTo>
                    <a:pt x="10045" y="10364"/>
                  </a:lnTo>
                  <a:lnTo>
                    <a:pt x="10045" y="10318"/>
                  </a:lnTo>
                  <a:lnTo>
                    <a:pt x="10022" y="10273"/>
                  </a:lnTo>
                  <a:lnTo>
                    <a:pt x="10000" y="10250"/>
                  </a:lnTo>
                  <a:lnTo>
                    <a:pt x="10000" y="10205"/>
                  </a:lnTo>
                  <a:lnTo>
                    <a:pt x="10000" y="10205"/>
                  </a:lnTo>
                  <a:lnTo>
                    <a:pt x="10000" y="10159"/>
                  </a:lnTo>
                  <a:lnTo>
                    <a:pt x="10022" y="10136"/>
                  </a:lnTo>
                  <a:lnTo>
                    <a:pt x="10045" y="10091"/>
                  </a:lnTo>
                  <a:lnTo>
                    <a:pt x="10045" y="10045"/>
                  </a:lnTo>
                  <a:lnTo>
                    <a:pt x="10090" y="10045"/>
                  </a:lnTo>
                  <a:lnTo>
                    <a:pt x="10113" y="10022"/>
                  </a:lnTo>
                  <a:lnTo>
                    <a:pt x="10159" y="10000"/>
                  </a:lnTo>
                  <a:lnTo>
                    <a:pt x="10204" y="10000"/>
                  </a:lnTo>
                  <a:lnTo>
                    <a:pt x="10204" y="10000"/>
                  </a:lnTo>
                  <a:lnTo>
                    <a:pt x="10250" y="10000"/>
                  </a:lnTo>
                  <a:lnTo>
                    <a:pt x="10272" y="10022"/>
                  </a:lnTo>
                  <a:lnTo>
                    <a:pt x="10295" y="10045"/>
                  </a:lnTo>
                  <a:lnTo>
                    <a:pt x="10363" y="10045"/>
                  </a:lnTo>
                  <a:lnTo>
                    <a:pt x="10363" y="10045"/>
                  </a:lnTo>
                  <a:lnTo>
                    <a:pt x="19931" y="19635"/>
                  </a:lnTo>
                  <a:close/>
                  <a:moveTo>
                    <a:pt x="19931" y="1963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35320" y="2082960"/>
              <a:ext cx="371520" cy="3790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49" y="10197"/>
                  </a:moveTo>
                  <a:lnTo>
                    <a:pt x="10049" y="10197"/>
                  </a:lnTo>
                  <a:lnTo>
                    <a:pt x="10036" y="10160"/>
                  </a:lnTo>
                  <a:lnTo>
                    <a:pt x="10012" y="10147"/>
                  </a:lnTo>
                  <a:lnTo>
                    <a:pt x="10000" y="10135"/>
                  </a:lnTo>
                  <a:lnTo>
                    <a:pt x="10000" y="10110"/>
                  </a:lnTo>
                  <a:lnTo>
                    <a:pt x="10000" y="10110"/>
                  </a:lnTo>
                  <a:lnTo>
                    <a:pt x="10000" y="10086"/>
                  </a:lnTo>
                  <a:lnTo>
                    <a:pt x="10012" y="10061"/>
                  </a:lnTo>
                  <a:lnTo>
                    <a:pt x="10036" y="10049"/>
                  </a:lnTo>
                  <a:lnTo>
                    <a:pt x="10036" y="10036"/>
                  </a:lnTo>
                  <a:lnTo>
                    <a:pt x="10061" y="10024"/>
                  </a:lnTo>
                  <a:lnTo>
                    <a:pt x="10073" y="10012"/>
                  </a:lnTo>
                  <a:lnTo>
                    <a:pt x="10085" y="10000"/>
                  </a:lnTo>
                  <a:lnTo>
                    <a:pt x="10110" y="10000"/>
                  </a:lnTo>
                  <a:lnTo>
                    <a:pt x="10110" y="10000"/>
                  </a:lnTo>
                  <a:lnTo>
                    <a:pt x="10147" y="10000"/>
                  </a:lnTo>
                  <a:lnTo>
                    <a:pt x="10159" y="10012"/>
                  </a:lnTo>
                  <a:lnTo>
                    <a:pt x="10171" y="10024"/>
                  </a:lnTo>
                  <a:lnTo>
                    <a:pt x="10184" y="10024"/>
                  </a:lnTo>
                  <a:lnTo>
                    <a:pt x="10184" y="10024"/>
                  </a:lnTo>
                  <a:lnTo>
                    <a:pt x="19963" y="19802"/>
                  </a:lnTo>
                  <a:lnTo>
                    <a:pt x="19963" y="19802"/>
                  </a:lnTo>
                  <a:lnTo>
                    <a:pt x="19975" y="19827"/>
                  </a:lnTo>
                  <a:lnTo>
                    <a:pt x="19987" y="19839"/>
                  </a:lnTo>
                  <a:lnTo>
                    <a:pt x="20000" y="19852"/>
                  </a:lnTo>
                  <a:lnTo>
                    <a:pt x="20000" y="19889"/>
                  </a:lnTo>
                  <a:lnTo>
                    <a:pt x="20000" y="19889"/>
                  </a:lnTo>
                  <a:lnTo>
                    <a:pt x="20000" y="19913"/>
                  </a:lnTo>
                  <a:lnTo>
                    <a:pt x="19987" y="19926"/>
                  </a:lnTo>
                  <a:lnTo>
                    <a:pt x="19975" y="19938"/>
                  </a:lnTo>
                  <a:lnTo>
                    <a:pt x="19975" y="19950"/>
                  </a:lnTo>
                  <a:lnTo>
                    <a:pt x="19950" y="19963"/>
                  </a:lnTo>
                  <a:lnTo>
                    <a:pt x="19938" y="19987"/>
                  </a:lnTo>
                  <a:lnTo>
                    <a:pt x="19926" y="20000"/>
                  </a:lnTo>
                  <a:lnTo>
                    <a:pt x="19889" y="20000"/>
                  </a:lnTo>
                  <a:lnTo>
                    <a:pt x="19889" y="20000"/>
                  </a:lnTo>
                  <a:lnTo>
                    <a:pt x="19865" y="20000"/>
                  </a:lnTo>
                  <a:lnTo>
                    <a:pt x="19852" y="19987"/>
                  </a:lnTo>
                  <a:lnTo>
                    <a:pt x="19840" y="19963"/>
                  </a:lnTo>
                  <a:lnTo>
                    <a:pt x="19828" y="19963"/>
                  </a:lnTo>
                  <a:lnTo>
                    <a:pt x="19828" y="19963"/>
                  </a:lnTo>
                  <a:lnTo>
                    <a:pt x="10049" y="10197"/>
                  </a:lnTo>
                  <a:close/>
                  <a:moveTo>
                    <a:pt x="10049" y="1019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35320" y="2655720"/>
              <a:ext cx="376200" cy="385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0" y="19975"/>
                  </a:moveTo>
                  <a:lnTo>
                    <a:pt x="10180" y="19975"/>
                  </a:lnTo>
                  <a:lnTo>
                    <a:pt x="10168" y="19975"/>
                  </a:lnTo>
                  <a:lnTo>
                    <a:pt x="10156" y="19987"/>
                  </a:lnTo>
                  <a:lnTo>
                    <a:pt x="10144" y="20000"/>
                  </a:lnTo>
                  <a:lnTo>
                    <a:pt x="10108" y="20000"/>
                  </a:lnTo>
                  <a:lnTo>
                    <a:pt x="10108" y="20000"/>
                  </a:lnTo>
                  <a:lnTo>
                    <a:pt x="10084" y="20000"/>
                  </a:lnTo>
                  <a:lnTo>
                    <a:pt x="10072" y="19987"/>
                  </a:lnTo>
                  <a:lnTo>
                    <a:pt x="10060" y="19975"/>
                  </a:lnTo>
                  <a:lnTo>
                    <a:pt x="10036" y="19963"/>
                  </a:lnTo>
                  <a:lnTo>
                    <a:pt x="10036" y="19951"/>
                  </a:lnTo>
                  <a:lnTo>
                    <a:pt x="10012" y="19939"/>
                  </a:lnTo>
                  <a:lnTo>
                    <a:pt x="10000" y="19915"/>
                  </a:lnTo>
                  <a:lnTo>
                    <a:pt x="10000" y="19890"/>
                  </a:lnTo>
                  <a:lnTo>
                    <a:pt x="10000" y="19890"/>
                  </a:lnTo>
                  <a:lnTo>
                    <a:pt x="10000" y="19866"/>
                  </a:lnTo>
                  <a:lnTo>
                    <a:pt x="10012" y="19854"/>
                  </a:lnTo>
                  <a:lnTo>
                    <a:pt x="10036" y="19842"/>
                  </a:lnTo>
                  <a:lnTo>
                    <a:pt x="10048" y="19805"/>
                  </a:lnTo>
                  <a:lnTo>
                    <a:pt x="10048" y="19805"/>
                  </a:lnTo>
                  <a:lnTo>
                    <a:pt x="19819" y="10024"/>
                  </a:lnTo>
                  <a:lnTo>
                    <a:pt x="19819" y="10024"/>
                  </a:lnTo>
                  <a:lnTo>
                    <a:pt x="19831" y="10024"/>
                  </a:lnTo>
                  <a:lnTo>
                    <a:pt x="19843" y="10012"/>
                  </a:lnTo>
                  <a:lnTo>
                    <a:pt x="19867" y="10000"/>
                  </a:lnTo>
                  <a:lnTo>
                    <a:pt x="19891" y="10000"/>
                  </a:lnTo>
                  <a:lnTo>
                    <a:pt x="19891" y="10000"/>
                  </a:lnTo>
                  <a:lnTo>
                    <a:pt x="19915" y="10000"/>
                  </a:lnTo>
                  <a:lnTo>
                    <a:pt x="19927" y="10012"/>
                  </a:lnTo>
                  <a:lnTo>
                    <a:pt x="19939" y="10024"/>
                  </a:lnTo>
                  <a:lnTo>
                    <a:pt x="19975" y="10036"/>
                  </a:lnTo>
                  <a:lnTo>
                    <a:pt x="19975" y="10048"/>
                  </a:lnTo>
                  <a:lnTo>
                    <a:pt x="19987" y="10060"/>
                  </a:lnTo>
                  <a:lnTo>
                    <a:pt x="20000" y="10084"/>
                  </a:lnTo>
                  <a:lnTo>
                    <a:pt x="20000" y="10109"/>
                  </a:lnTo>
                  <a:lnTo>
                    <a:pt x="20000" y="10109"/>
                  </a:lnTo>
                  <a:lnTo>
                    <a:pt x="20000" y="10133"/>
                  </a:lnTo>
                  <a:lnTo>
                    <a:pt x="19987" y="10145"/>
                  </a:lnTo>
                  <a:lnTo>
                    <a:pt x="19975" y="10157"/>
                  </a:lnTo>
                  <a:lnTo>
                    <a:pt x="19963" y="10194"/>
                  </a:lnTo>
                  <a:lnTo>
                    <a:pt x="19963" y="10194"/>
                  </a:lnTo>
                  <a:lnTo>
                    <a:pt x="10180" y="19975"/>
                  </a:lnTo>
                  <a:close/>
                  <a:moveTo>
                    <a:pt x="10180" y="1997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08440" y="2082960"/>
              <a:ext cx="371520" cy="3790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815" y="10024"/>
                  </a:moveTo>
                  <a:lnTo>
                    <a:pt x="19815" y="10024"/>
                  </a:lnTo>
                  <a:lnTo>
                    <a:pt x="19828" y="10024"/>
                  </a:lnTo>
                  <a:lnTo>
                    <a:pt x="19840" y="10012"/>
                  </a:lnTo>
                  <a:lnTo>
                    <a:pt x="19852" y="10000"/>
                  </a:lnTo>
                  <a:lnTo>
                    <a:pt x="19889" y="10000"/>
                  </a:lnTo>
                  <a:lnTo>
                    <a:pt x="19889" y="10000"/>
                  </a:lnTo>
                  <a:lnTo>
                    <a:pt x="19914" y="10000"/>
                  </a:lnTo>
                  <a:lnTo>
                    <a:pt x="19926" y="10012"/>
                  </a:lnTo>
                  <a:lnTo>
                    <a:pt x="19938" y="10024"/>
                  </a:lnTo>
                  <a:lnTo>
                    <a:pt x="19975" y="10036"/>
                  </a:lnTo>
                  <a:lnTo>
                    <a:pt x="19975" y="10049"/>
                  </a:lnTo>
                  <a:lnTo>
                    <a:pt x="19987" y="10061"/>
                  </a:lnTo>
                  <a:lnTo>
                    <a:pt x="20000" y="10086"/>
                  </a:lnTo>
                  <a:lnTo>
                    <a:pt x="20000" y="10110"/>
                  </a:lnTo>
                  <a:lnTo>
                    <a:pt x="20000" y="10110"/>
                  </a:lnTo>
                  <a:lnTo>
                    <a:pt x="20000" y="10135"/>
                  </a:lnTo>
                  <a:lnTo>
                    <a:pt x="19987" y="10147"/>
                  </a:lnTo>
                  <a:lnTo>
                    <a:pt x="19975" y="10160"/>
                  </a:lnTo>
                  <a:lnTo>
                    <a:pt x="19950" y="10197"/>
                  </a:lnTo>
                  <a:lnTo>
                    <a:pt x="19950" y="10197"/>
                  </a:lnTo>
                  <a:lnTo>
                    <a:pt x="10184" y="19963"/>
                  </a:lnTo>
                  <a:lnTo>
                    <a:pt x="10184" y="19963"/>
                  </a:lnTo>
                  <a:lnTo>
                    <a:pt x="10159" y="19963"/>
                  </a:lnTo>
                  <a:lnTo>
                    <a:pt x="10147" y="19987"/>
                  </a:lnTo>
                  <a:lnTo>
                    <a:pt x="10135" y="20000"/>
                  </a:lnTo>
                  <a:lnTo>
                    <a:pt x="10110" y="20000"/>
                  </a:lnTo>
                  <a:lnTo>
                    <a:pt x="10110" y="20000"/>
                  </a:lnTo>
                  <a:lnTo>
                    <a:pt x="10085" y="20000"/>
                  </a:lnTo>
                  <a:lnTo>
                    <a:pt x="10073" y="19987"/>
                  </a:lnTo>
                  <a:lnTo>
                    <a:pt x="10049" y="19963"/>
                  </a:lnTo>
                  <a:lnTo>
                    <a:pt x="10024" y="19950"/>
                  </a:lnTo>
                  <a:lnTo>
                    <a:pt x="10024" y="19938"/>
                  </a:lnTo>
                  <a:lnTo>
                    <a:pt x="10012" y="19926"/>
                  </a:lnTo>
                  <a:lnTo>
                    <a:pt x="10000" y="19913"/>
                  </a:lnTo>
                  <a:lnTo>
                    <a:pt x="10000" y="19889"/>
                  </a:lnTo>
                  <a:lnTo>
                    <a:pt x="10000" y="19889"/>
                  </a:lnTo>
                  <a:lnTo>
                    <a:pt x="10000" y="19852"/>
                  </a:lnTo>
                  <a:lnTo>
                    <a:pt x="10012" y="19839"/>
                  </a:lnTo>
                  <a:lnTo>
                    <a:pt x="10024" y="19827"/>
                  </a:lnTo>
                  <a:lnTo>
                    <a:pt x="10036" y="19802"/>
                  </a:lnTo>
                  <a:lnTo>
                    <a:pt x="10036" y="19802"/>
                  </a:lnTo>
                  <a:lnTo>
                    <a:pt x="19815" y="10024"/>
                  </a:lnTo>
                  <a:close/>
                  <a:moveTo>
                    <a:pt x="19815" y="1002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151080" y="4159080"/>
            <a:ext cx="289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IMPLE,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ANSPARENT AND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FECTIVE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OCE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LOBAL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USINE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494160" y="1708200"/>
            <a:ext cx="2295360" cy="1941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SLB-Public</cp:keywords>
  <dc:language>en-US</dc:language>
  <cp:lastModifiedBy>SLB</cp:lastModifiedBy>
  <dcterms:modified xsi:type="dcterms:W3CDTF">2004-05-09T09:58:45Z</dcterms:modified>
  <cp:revision>9</cp:revision>
  <dc:subject/>
  <dc:title>CEFACT Group Repor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assification-date">
    <vt:lpwstr>07/05/2004</vt:lpwstr>
  </property>
  <property fmtid="{D5CDD505-2E9C-101B-9397-08002B2CF9AE}" pid="3" name="security-level">
    <vt:lpwstr>SLB-Public</vt:lpwstr>
  </property>
</Properties>
</file>