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19261-B184-4D0C-B633-26905ABB8A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A3C6D-D1E4-4E97-899A-1DB7CE0D2BA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21A9FD-273B-4530-AE77-27EDAA8B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17CFDF-5E65-4FFA-BA49-BF059500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77AB26-CDC7-46C8-AEB7-EFE38633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A256B0-61B1-40B9-98B8-DE7BB959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EF7E94-5266-4674-AD28-B605E1CC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AA730F-46D2-46C1-A97A-8EBE2652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2FCE5C-0941-4F35-8363-C75BF235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B591CD-E4D4-4C32-ACB9-9F45A5241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0B290B-5B3C-47C4-92B7-019934559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115BB5-B0DA-4DAD-AAB1-D762A9BDD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C7CDF-6191-4E1C-8DFB-75E76C7E2A6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15FF84-A95F-46E9-893A-CBFF09E6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929820-D819-4023-A1A3-2756DE4E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178298-95FC-43B5-B8B2-22A1B15B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9445B0-71D8-40C9-858A-A89B122F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0A21BD-7463-4237-BEF1-CD48B46D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3C52EB-8283-4C0E-B165-F6DC4DD7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A24415-4D07-4270-B12F-57CAAAA0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F19BCC-A4DB-4D29-8BD6-A9EC891D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4A3D75-56C1-4A69-84C6-63311F34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191E54-DDAA-44C7-A9C0-E920FA6EF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C96BD-5905-40B7-BE40-42D6B6F4558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8512E3-EC0A-46C1-A3B1-00C921DFC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3A23E18-60A6-4C3B-88F5-ABD7F6656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D7AFCDD-F8C9-43D0-93F0-91A9BBDB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C972831-AA4F-414A-96AA-6AD71648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178F6FE-C7AB-40A7-BBDF-5C4E6EB1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D5420A8-E7C3-471F-95E6-46397FA2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0721CF9-26C9-48FD-A0BC-D6C705BA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4672C11-5BE0-48D3-AA5A-A50EAF3E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4B982E5-1C0B-4D8D-9273-E06CC10C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5B11B6A-059B-4DD1-AEDA-2EBB9121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81B230-B48D-4B44-8EFA-A02CAD0CB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68BD46C-3313-4617-BC3E-F5C46B72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52A72A9-C694-4811-ADC1-C28324E95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CAAC574-320F-4008-B8C1-179007A2E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090142-3C91-4EF7-B208-3E204461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D7ABD1-7B4B-4158-9111-54F8A215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2033D5-A588-4671-B677-384177BE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96CE7B-E079-4499-8BE4-0AF44573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327B7-23F2-414F-A672-74A5F96D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8CF283-1760-45C2-A56B-C6E67457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9A6F9-2205-48CF-93EE-188DBB25D0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047237-D7A3-4F5D-A0FF-1E331D01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5700AB-CF52-439E-859D-77041BAB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3D14B1-3E51-498D-B5C9-0968B66E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F910E3-BA3F-4866-9496-D8A18F30E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A48AF1-F140-4459-9FE8-776EDD99A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6D9E21-6580-466D-BDC1-1FDE7B5AF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C35218-158D-49E5-8F7C-23C60339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662602-7E30-4652-93E2-C9F010BA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46F03E-AD48-404F-A60B-D990F6BB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85CF0E-DA00-42F7-B561-A07B24BB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74345-9A67-48B0-9768-AF8427C49F8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B2B8E4-A53B-4DBD-8351-70D0CC3E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2A696D-54A3-43B5-949F-75F6F180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9F30BC-5B47-40A0-AA95-5B32691A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C3C98F-247E-4440-8EF9-B2570FEC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694561-F42C-4731-8B79-81FFDC16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9D20EC-F65E-47FE-83E3-F129FDBA4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744CFE-2244-4A80-82D3-1BF173023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54EA60-13AB-4C6D-9455-BA9928553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136E05-83F4-415C-A889-4CAEE790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FA30C1-48D6-4610-843E-D0C52F17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FC6A5-1FE1-4828-BACB-9103A256DED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F00E54-153E-4D71-9619-D579B114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DF6746-054C-46B3-BE4E-B89C28FE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58952F-0145-4ED3-9D24-C5CE7CC8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4156A3-C3E9-46B8-A8A0-EAE7B474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560AE5-4EC8-409A-B1F8-8641CC93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BD75FA-0B4D-461B-8DA1-EA8383D9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43C31D-057C-4D31-B45D-93F0B94C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635821-D06F-4144-8DB9-84F471BF3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09FDA4-8B24-43B3-8B1B-682B471AF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946EB8-BE9D-436C-A5B0-440E10AB4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2F94B-A9E6-4DF8-96BF-BB8D724B180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929677-89F8-4E36-88C7-A1A8D6B7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091112-36A6-4F2B-B0E6-7FE06F46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8D4F4E-1509-462C-841C-80E5867B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61D8BE-03D5-417B-9ECF-5D757604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4813B5-2E54-4B1C-B8CE-33FCBF2B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0727E4-9B59-482B-9B3B-F46F0D9C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A2455B-7DA5-4BDB-971E-351BE905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AEA633-E7CC-4BDC-A46D-19413AED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C95856-9D1E-4EB3-AFE6-8042F1C3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B6DE63-EB61-4286-938D-C8875B32D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2B4C0-4229-4FFF-A7D8-528BC4ECA04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3153BD-E345-400C-83E4-370CBF70E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EF7EBC-3936-48B5-9A5D-4DBB07FE6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02D110-1ABF-472E-B7D9-3DA9526C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3E77EF-2E50-4E74-B25C-F27E3183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6125BC-2026-4977-BA8E-2C44BCF4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E05B09-B345-402A-B4B3-5E99B869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4E4846-1061-4850-A989-C80DED24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68F847-D12A-43AD-8C74-F8EEF0C5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53D9AC-8B88-4954-8202-DB81DE06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4F16D2-4F07-4BAB-89F1-F62F38E0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C9E3B-210F-4368-A9E7-2F94E0EE5CB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67EF5F-677C-4A72-B029-0F47BD70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F61499-3BAB-41D3-AAB8-00FFFB819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C5C1C0-8F23-4A8C-8786-921F755BD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B65916-D2F1-4C16-879C-A1482D0D9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167A5E-DE75-4FC2-8BFD-E2A3B364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953684-F13D-4B64-AB62-B42AB5EB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702130-3D0B-46BD-AC1E-2BA8A049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F1D916-A6F7-428F-AE25-FA6A1685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42007F-7ABC-401A-A859-C02C2672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E11DE2-B922-44A0-8E0C-0D640614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AD898-F929-49A7-A3E6-F7741CC54B8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DE61B0-CFEC-4330-B695-CEA5458A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77F311-2FCF-4A45-92CE-E640C944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09E4F5-0877-47AC-86CF-C561DEA4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AB4D6D-A297-4058-83E3-8C886C11B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B6809F-14DF-4098-8121-717DA36C3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8B1288-5A12-4FA8-B4BC-78DD49AA5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853A49-C79D-4F48-A8B9-C7F88CFC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888F3A-D69D-46C2-83C0-37FE145E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C2D755-CFB8-4003-95A8-41C80D6C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BD924E-EDAA-4159-AD5B-5A57A1EB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CF1C0-644D-4AF8-B8E9-60A34405E5A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2BB074-2682-4950-B869-0F9A5578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5EAC6C-D1E0-4BAE-9B51-3E89B3F5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897F98-63D2-40AA-BEF4-C2E2029D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FAD83B-2001-4E76-8ED5-EA3553FC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090E23-6CE9-4CBF-93DB-9F3D744B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90A504-9C09-42A8-A502-BBCFF2D9B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0F8475-5F94-4F73-AAC5-21E0AC3A3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368089-9BB1-4CBD-B6A3-3C454598D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AAA810-DE50-4E8F-A19D-FF1D87ED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3C9344-B098-47CE-8A57-672C43AD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F638-67F8-4860-B979-2C08E67404A6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7-11 April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DF5D-1459-468C-B89E-0B915EC80FCB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7-11 April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53D9-9EE3-4B6B-9A76-1B395F2926EE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cefact_forum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7-11 April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83B8-B1FE-499E-AA0F-C4CBB4634700}" type="slidenum">
              <a:rPr b="0" lang="de-CH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7-11 April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152F-0A5F-437E-BF61-D123491F1E33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7-11 April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DC36-1A16-4F4C-A717-CE35D85F9C9C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7-11 April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6A91-3087-4DD0-99EB-A5A89FA873DA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7-11 April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A1A1-D8D4-41DC-BD9C-BB3C55D78BFE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7-11 April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B723-1A61-47E3-93FE-6E18110CB888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7-11 April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BF6D-CED7-4482-A785-A2CB4DF5DB9D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7-11 April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1099-1CB2-4415-9197-AF096E6B0D3B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4360" y="1523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4a8"/>
                </a:solidFill>
                <a:latin typeface="Palatino"/>
              </a:rPr>
              <a:t>23rd UN/CEFACT FORU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971640" y="3047760"/>
            <a:ext cx="7200720" cy="326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Palatino"/>
              </a:rPr>
              <a:t>Open Session on Public Procur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Date Placeholder 1"/>
          <p:cNvSpPr/>
          <p:nvPr/>
        </p:nvSpPr>
        <p:spPr>
          <a:xfrm>
            <a:off x="228600" y="6356520"/>
            <a:ext cx="25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7-11 April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68000" y="1599840"/>
            <a:ext cx="8064360" cy="676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Tuesday 8 Apr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68360" y="20570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Palatino"/>
                <a:ea typeface="Palatino"/>
              </a:rPr>
              <a:t>Open session on the EC Directive on Public Procurement &amp; draft   Directive on eInvoicing for Public Procur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Palatino"/>
                <a:ea typeface="Palatino"/>
              </a:rPr>
              <a:t>14:00 – 17:00 Salle XXII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Palatino"/>
                <a:ea typeface="Palatino"/>
              </a:rPr>
              <a:t>Draft Agen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Update on the EC Directive on Public Procurement &amp; the draft Directive on eInvoicing for Public Procurement - </a:t>
            </a:r>
            <a:r>
              <a:rPr b="1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Marc Christopher Schmidt, DG/MARK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The new phase of the European Forum on eInvoicing &amp; the forthcoming  standardization request for the establishment of a European standard for the semantic data model of the core elements of an electronic invoice  - </a:t>
            </a:r>
            <a:r>
              <a:rPr b="1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Antonio Conte, DG/ENT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3827520" y="641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1"/>
          <p:cNvSpPr/>
          <p:nvPr/>
        </p:nvSpPr>
        <p:spPr>
          <a:xfrm>
            <a:off x="4724280" y="9079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ＭＳ Ｐゴシック"/>
              </a:rPr>
              <a:t>Supply Chain PDA Agenda 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Date Placeholder 1"/>
          <p:cNvSpPr/>
          <p:nvPr/>
        </p:nvSpPr>
        <p:spPr>
          <a:xfrm>
            <a:off x="457200" y="6645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-11 April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ooter Placeholder 2"/>
          <p:cNvSpPr/>
          <p:nvPr/>
        </p:nvSpPr>
        <p:spPr>
          <a:xfrm>
            <a:off x="3124080" y="66452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68000" y="1523880"/>
            <a:ext cx="8064360" cy="533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Tuesday 8 Apr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68360" y="22856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GB" sz="2000" spc="-1" strike="noStrike">
                <a:solidFill>
                  <a:srgbClr val="000000"/>
                </a:solidFill>
                <a:latin typeface="Palatino"/>
                <a:ea typeface="Palatino"/>
              </a:rPr>
              <a:t>Open session on the EC Directive on Public Procurement &amp; draft   Directive on eInvoicing for Public Procur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Palatino"/>
                <a:ea typeface="Palatino"/>
              </a:rPr>
              <a:t>Draft Agenda, co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The WTO eGlobal Procurement Agreement – </a:t>
            </a:r>
            <a:r>
              <a:rPr b="1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Osei-Lah, Kodjo, WTO/GP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The implementation of UN/CEFACT standards in eProcurement -</a:t>
            </a:r>
            <a:r>
              <a:rPr b="1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Supply Chain P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The eInvoicing Forum, Germany – </a:t>
            </a:r>
            <a:r>
              <a:rPr b="1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Stefan Engel-Flechs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Open discussion on potential actions/opportunities for UN/CEFACT standards development to meet stakeholder requirements in Public Procurement &amp; eInvoicing in Public Procure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Rapporteur – </a:t>
            </a:r>
            <a:r>
              <a:rPr b="1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Edmund Gr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4"/>
          <p:cNvSpPr/>
          <p:nvPr/>
        </p:nvSpPr>
        <p:spPr>
          <a:xfrm>
            <a:off x="3827520" y="641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1"/>
          <p:cNvSpPr/>
          <p:nvPr/>
        </p:nvSpPr>
        <p:spPr>
          <a:xfrm>
            <a:off x="4724280" y="9079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ＭＳ Ｐゴシック"/>
              </a:rPr>
              <a:t>Supply Chain PDA Agenda 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Date Placeholder 1"/>
          <p:cNvSpPr/>
          <p:nvPr/>
        </p:nvSpPr>
        <p:spPr>
          <a:xfrm>
            <a:off x="457200" y="6645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-11 April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ooter Placeholder 2"/>
          <p:cNvSpPr/>
          <p:nvPr/>
        </p:nvSpPr>
        <p:spPr>
          <a:xfrm>
            <a:off x="3124080" y="66452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08:26:57Z</dcterms:created>
  <dc:creator>UNECE</dc:creator>
  <dc:description/>
  <dc:language>en-US</dc:language>
  <cp:lastModifiedBy>Matrice ADS Light</cp:lastModifiedBy>
  <dcterms:modified xsi:type="dcterms:W3CDTF">2014-04-08T09:15:10Z</dcterms:modified>
  <cp:revision>325</cp:revision>
  <dc:subject>PPT Template</dc:subject>
  <dc:title>United Nations Economic Commssion for Europe</dc:title>
</cp:coreProperties>
</file>