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7D443-1CED-428D-B0FC-AC323F96E9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6738F-FB8E-41B9-8791-C66F90F07A5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844BE4-BC73-4D18-B696-29404F8B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CDD54B-30A3-41B3-A3C2-4575A58E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1F6B48-342F-4C95-B68E-B19C626E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5A5E64-5E01-442B-A9F6-F686A51C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C9DAD0-541E-4140-AA66-19DF3C80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FBBB9E-B869-4C78-AE93-B19AFA4D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F6C879-8900-41FD-AB9E-A8BA2C4B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AA3280-FE38-4E3C-B1BD-875CCC74A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A4F86C-3733-4403-BB6D-F320A8939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12B3E0-6524-4D5F-9EBB-40D20B5A8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E6ECF-3F65-46BF-8ECD-3F800DA7DD6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3F129A-2D25-4992-93DD-2485070C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CA805F-3824-46B9-9699-1A772018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4F4E56-D606-4D08-85A1-AD68172E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850DB5-76FE-41FC-B698-BB16B92D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289DE2-36D9-4775-B8DC-55CDA9B0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0AEFCC-2069-4865-87EB-C3817396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902B2A-987B-49D5-8DE3-C834B985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BCCE6B-D3F6-4292-ABEE-19F654C5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0209BE-C6D4-4C0A-97A6-B910EC12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5A7EA6-30F7-4733-A87E-729C3D70A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AE9A0-C289-4134-AA96-42A0B69D35D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07CBBC-A78C-46A3-9027-6594848AC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C4068F4-88A7-413A-A23A-E23D6A840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E14B907-9B74-4972-9421-C0DFCD2F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A6FA749-B7CC-4E5F-B923-E0E50ECD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3F76141-7A06-411E-BFBE-AD4AE681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D1A577E-7372-4099-8D13-FB885C79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703DE7D-2CFE-494B-A7FE-84273F3D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9D52567-BDA9-47C3-ABDF-47D753B9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D64CA6F-D734-44BA-8421-C5FF25E2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88A39CB-A39C-4AEC-AF5C-04F82FB0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9C515-564E-4441-B0DC-EF62508FF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A398ACC-525F-4C97-8D4F-65E39DE8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4CC8704-66D1-4DED-978B-8DAD61EDB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9D21B70-CCFA-4185-87DA-DB81989F2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CD54B-2D8C-42CE-ACE8-890A95F6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97A81-BA0B-43F1-8182-A9A0BB8A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686AF-0B77-4136-8141-A7351914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8042D0-9397-4825-AC53-1C52E31B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9CD917-8D6F-47EF-84C6-D8E48C8B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5D958-7FCB-437E-8824-A96444C0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C623C-D8C8-4443-8991-BD5BF2D312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09C28-8D67-4B3C-9E17-72353F69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ECEFAE-7282-47F3-A389-751E0187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4BA42-BF76-45A7-9FD9-0F3980A3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BE029-6A88-4AC0-8CA5-65C23E4B1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23DF7-E7C0-486D-BFAA-D1F39F443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8894A6-A01A-4A45-88C7-372EC4FB9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57FA78-B68D-4A55-A65E-2381DB33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5A609D-7B65-4F74-AA75-8FDC4D89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0BB82A-C884-4BE5-B010-0F34F25D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A03D71-275E-40C2-AFB7-2F9BE096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F59D8-AAF0-41F9-A1DB-A571F935729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D6C711-C408-452B-AA50-78FFFFFD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E91723-7C73-489D-A7FC-4E027D60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EA053E-EDA3-43C0-9176-32B1A440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9D73C4-8B9B-45DF-93CA-2FD04202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5C7863-9AA5-4426-A144-E3478DB3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3E4054-A3E8-4FD5-B609-32D1DBFC4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353C6D-B606-4738-B9DD-12A1394E0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78E480-3AF9-4886-854B-B597E4FD2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AC9433-42AB-487B-A2C2-28D3E45C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67D8F3-0FCC-4D58-A07D-D649C012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71F87-2DE6-49B7-B3D5-1DC243E3834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A8376D-E57F-4026-A294-CE1B8400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8B6B2D-3870-49DD-B366-5A9C2A9F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C9D313-2EB9-45C4-B8D9-38B20B12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C02BD9-5823-42DE-9B73-9516E221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73B301-561B-45C8-ADBA-F956BEC3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B3ECEF-40B8-44F4-8A67-840284FB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E89B8D-1BC9-4102-AD29-7E41483D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F02B6D-906E-4775-A1DA-1EC7BA2FA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7CBB42-B658-4072-8E65-FF2CBA4F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375588-76D5-49F0-B04B-484F62050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2D122-402A-43AA-A883-1D3B34CA486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C8386B-0C56-45A1-951F-8D893D73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E9990F-7487-4ED7-A991-33DABDBC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2C8D0B-E9F2-4857-878F-0073EFD3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ED08D7-798C-4DA4-B799-FD3F3266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B9FE85-D1F0-45B9-9ED4-6F2BB0B8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C96551-E559-4FFF-9B4B-F1574B79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FFB155-0FC4-4FFF-82C5-BE4D3D8A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0C259D-761F-48A2-9ED2-BD34A898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582609-F3C6-457F-9871-02175375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645A7E-1A8D-4335-943C-5AAFBDA11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11417-C2E0-426C-A1C9-24450A8108F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50EAA0-1B64-4220-9076-C4B77ABF9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BE3FBA-8A88-4BED-B0BD-A1C413DAD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D6BAB8-7080-458E-8811-105820C9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13C305-0280-4A4A-92D7-730A4B02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DCFFBF-2D19-46C4-88D8-7D0A7DEE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202BD3-2C11-4A71-A5F6-0BA4C8BF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347871-7FE4-4603-8B8B-11AA7ACE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A077D1-CBED-4C51-9A91-EF7336C1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D37F5C-D041-48DA-A20F-B4105EEF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15E74E-BBB1-4BC3-B5E9-6BB71125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7837F-9FC0-4C50-8F6F-B72B41F9DA4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035F0B-9298-4475-9788-E9AD285B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1575D8-7C1F-4A13-BA01-A687749BF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57C060-D3F3-4C83-8E5F-0460F30C0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FA7645-1ED7-429E-9343-8C7D166A6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EAC06D-28E3-4FF2-84AF-5C990A72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1246A1-68B4-47E5-A138-B67C0350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D123FB-1D39-4C1F-AA07-64485790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BD6E1C-0A6C-4DCD-917D-62024B62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292EE4-B3DD-4384-A8FD-12F47B53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010394-05AB-4085-86F6-0C08FD0E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D62BB-AE79-4E46-B4C9-3707DE17927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71A897-E40D-4BAA-97D6-9ADFE585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E994BC-C8A3-495E-B0AE-B785A126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CEA7C3-FD95-49BB-97A0-EB40C7B1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920838-2E75-47E7-BB44-AF404E41B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3ADC82-A923-4074-BD80-07428852A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102474-6D60-4304-A30F-18C76FB00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37AD06-98AC-4E99-A721-1BCABACF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6B5FD1-CA12-46A7-97EF-0B587142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7D242D-CE36-4C93-A781-AB8FCBDE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5F5CD4-8214-4E02-9557-4A66510C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FA389-E9B4-46BB-AF85-468AC8CA5F3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D4791A-E61C-4AB9-84C8-B4D48A83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5D761D-779D-4B73-820C-4C38ED75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0AA5D9-7CD1-43FC-8778-1C27F2FD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83BA32-55C0-4BFA-86C2-BF6D8A6D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DC6E96-E8CD-4B4B-93D3-EE5B6789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2BE773-6C50-4BD2-8D26-C7081F85C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4D3D43-8252-44C2-AB87-9EEA894D8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8E32B1-8C9F-43AB-89E5-8408AC2A1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6058F3-DB49-48EF-856E-1A45CC89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FEA0D1-4058-4B6B-89CF-259CC715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8148-5010-4AFD-A46D-DD4CCB73105E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7-11 April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6A40-9966-4421-8062-0AF718170EB0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7-11 April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CE22-8904-4985-9967-71DB67FCBA95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cefact_forum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7-11 April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A243-CC29-4689-AEF7-6959C0D790F2}" type="slidenum">
              <a:rPr b="0" lang="de-CH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7-11 April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E4AD-F382-4875-A89A-2BFAAE905668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7-11 April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BBF8-655D-4D0D-9568-AB70BB2D8364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7-11 April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BC25-5BA1-4FBA-961C-D14CDE5C38A5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7-11 April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1E38-12C5-4B48-BBE1-ADA1E569C29E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7-11 April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9C86-E06F-4AFC-9249-90EEA91C7983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7-11 April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03F3-B9CA-44C2-B3B2-4D6157BCCE0D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7-11 April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2DA3-2A57-49FA-BB49-7A6DA328C022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4360" y="1523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4a8"/>
                </a:solidFill>
                <a:latin typeface="Palatino"/>
              </a:rPr>
              <a:t>23rd UN/CEFACT FORU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971640" y="3047760"/>
            <a:ext cx="7200720" cy="326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Palatino"/>
              </a:rPr>
              <a:t>Open Session on Public Procur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Date Placeholder 1"/>
          <p:cNvSpPr/>
          <p:nvPr/>
        </p:nvSpPr>
        <p:spPr>
          <a:xfrm>
            <a:off x="228600" y="6356520"/>
            <a:ext cx="25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7-11 April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68000" y="1599840"/>
            <a:ext cx="8064360" cy="676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Tuesday 8 Apr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68360" y="20570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Palatino"/>
                <a:ea typeface="Palatino"/>
              </a:rPr>
              <a:t>Open session on the EC Directive on Public Procurement &amp; draft   Directive on eInvoicing for Public Procur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Palatino"/>
                <a:ea typeface="Palatino"/>
              </a:rPr>
              <a:t>14:00 – 17:00 Salle XXI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Palatino"/>
                <a:ea typeface="Palatino"/>
              </a:rPr>
              <a:t>Draft Age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Update on the EC Directive on Public Procurement &amp; the draft Directive on eInvoicing for Public Procurement - </a:t>
            </a:r>
            <a:r>
              <a:rPr b="1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Marc Christopher Schmidt, DG/MARK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The new phase of the European Forum on eInvoicing &amp; the forthcoming  standardization request for the establishment of a European standard for the semantic data model of the core elements of an electronic invoice  - </a:t>
            </a:r>
            <a:r>
              <a:rPr b="1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Antonio Conte, DG/ENT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1"/>
          <p:cNvSpPr/>
          <p:nvPr/>
        </p:nvSpPr>
        <p:spPr>
          <a:xfrm>
            <a:off x="4724280" y="9079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ＭＳ Ｐゴシック"/>
              </a:rPr>
              <a:t>Supply Chain PDA Agenda 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-11 April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68000" y="1523880"/>
            <a:ext cx="8064360" cy="533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Tuesday 8 Apr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68360" y="22856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GB" sz="2000" spc="-1" strike="noStrike">
                <a:solidFill>
                  <a:srgbClr val="000000"/>
                </a:solidFill>
                <a:latin typeface="Palatino"/>
                <a:ea typeface="Palatino"/>
              </a:rPr>
              <a:t>Open session on the EC Directive on Public Procurement &amp; draft   Directive on eInvoicing for Public Procur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Palatino"/>
                <a:ea typeface="Palatino"/>
              </a:rPr>
              <a:t>Draft Agenda, co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The WTO eGlobal Procurement Agreement – </a:t>
            </a:r>
            <a:r>
              <a:rPr b="1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Osei-Lah, Kodjo, WTO/GP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The implementation of UN/CEFACT standards in eProcurement -</a:t>
            </a:r>
            <a:r>
              <a:rPr b="1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Supply Chain P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The eInvoicing Forum, Germany – </a:t>
            </a:r>
            <a:r>
              <a:rPr b="1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Stefan Engel-Flechs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Open discussion on potential actions/opportunities for UN/CEFACT standards development to meet stakeholder requirements in Public Procurement &amp; eInvoicing in Public Procure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Rapporteur – </a:t>
            </a:r>
            <a:r>
              <a:rPr b="1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Edmund Gr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1"/>
          <p:cNvSpPr/>
          <p:nvPr/>
        </p:nvSpPr>
        <p:spPr>
          <a:xfrm>
            <a:off x="4724280" y="9079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ＭＳ Ｐゴシック"/>
              </a:rPr>
              <a:t>Supply Chain PDA Agenda 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-11 April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8:26:57Z</dcterms:created>
  <dc:creator>UNECE</dc:creator>
  <dc:description/>
  <dc:language>en-US</dc:language>
  <cp:lastModifiedBy>Matrice ADS Light</cp:lastModifiedBy>
  <dcterms:modified xsi:type="dcterms:W3CDTF">2014-04-08T09:15:10Z</dcterms:modified>
  <cp:revision>325</cp:revision>
  <dc:subject>PPT Template</dc:subject>
  <dc:title>United Nations Economic Commssion for Europe</dc:title>
</cp:coreProperties>
</file>