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CF43-D0E6-4DC1-9B41-360C78EA2F3A}" type="datetime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6"/>
          </p:nvPr>
        </p:nvSpPr>
        <p:spPr>
          <a:xfrm>
            <a:off x="0" y="9427680"/>
            <a:ext cx="5254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uropean Commission - Internal Market &amp; Services D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7"/>
          </p:nvPr>
        </p:nvSpPr>
        <p:spPr>
          <a:xfrm>
            <a:off x="5466960" y="9427680"/>
            <a:ext cx="1328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5719-FE12-4E63-944B-5D031D93EDA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4A6C-18BB-4F78-B890-9EB170CCA8CE}" type="datetime3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31 July 20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0" y="9428040"/>
            <a:ext cx="5254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n Commission - Internal Market &amp; Services D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5467320" y="9428040"/>
            <a:ext cx="1328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5841-8C0A-4594-A808-DC7D9194B17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Date Placeholder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C4D9-5340-4D7A-8A03-9596BDEC48C3}" type="datetime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31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0" y="9428040"/>
            <a:ext cx="5254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n Commission - Internal Market &amp; Services D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5467320" y="9428040"/>
            <a:ext cx="1328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46A7-B6C6-4E71-AE51-FD3A8EE66E2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Date Placeholder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12E4-EED2-46A1-A43C-32B239B3FE60}" type="datetime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31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0" y="9428040"/>
            <a:ext cx="5254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n Commission - Internal Market &amp; Services D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5467320" y="9428040"/>
            <a:ext cx="1328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D18E-75BE-40D3-8038-C2350385212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ate Placeholder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31B1-E521-45EE-9D28-0965AC0BD279}" type="datetime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31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0" y="9428040"/>
            <a:ext cx="5254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n Commission - Internal Market &amp; Services D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5467320" y="9428040"/>
            <a:ext cx="1328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6918-4F3E-4B9F-AA27-C725C671953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Date Placeholder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946B-8041-4A31-8EE8-EF710B60DB96}" type="datetime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31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0" y="9428040"/>
            <a:ext cx="5254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n Commission - Internal Market &amp; Services D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5467320" y="9428040"/>
            <a:ext cx="1328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B886-9FF6-43A5-91E2-E8C3B9E92B1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Date Placeholder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7062-D2AE-44A0-A432-6DD23430AC3F}" type="datetime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31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0" y="9428040"/>
            <a:ext cx="5254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n Commission - Internal Market &amp; Services D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5467320" y="9428040"/>
            <a:ext cx="1328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F29F-BDBC-4A4E-A51B-3A1C30F92DC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1D34-9096-4511-9496-1A1897637A36}" type="datetime3">
              <a:rPr b="0" lang="en-GB" sz="12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0" y="9428040"/>
            <a:ext cx="5254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n Commission - Internal Market &amp; Services D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5467320" y="9428040"/>
            <a:ext cx="1328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A392-6478-4572-9522-FB9E55C9B1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76F5-8FB6-40A9-9892-638A69B8A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E8DD-CBB2-408E-BED6-E960BFED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85A2-515E-4031-B2DB-36C8C7AC6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B976-A145-4E20-8C44-4765D6243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D48D-852A-4979-8EA1-945C72E0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566611-E154-4F75-920C-001AF72481F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B1E02-0CD4-4F70-BA27-50E43F1CAB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53B36-41E4-47EB-B8DC-6BA1F444617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D7C51-316C-4A5B-AE0A-2FFF591590E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EA7B4-6355-4E56-B7F2-685A9BBD33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5596-7E0F-4971-9E9B-C6C5E52A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08A9D-D7E9-45DD-A20C-AD10BAABCA6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CF06F-190B-4D4A-A7C5-CA5DCECF477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A38DE-125E-4E7A-A663-CB99BB4CB1B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58FF6-CADE-4497-886B-F93C318D06F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71F35-71BB-4C5C-BF57-465C2AA7EB7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43EF8-CE09-4D4B-A39E-7F9953AE231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3EE8B-7533-4853-AB45-76F1D57B9E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3D0C-BF69-4DD0-9384-E9590B49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7D4B-93AD-4FCB-A348-1ECEC912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A894-98EA-49EA-96D6-1CBC80CC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12F5-C02C-47AA-BF4E-5F7AD7C9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DEC8-E481-4E62-842D-8D99D964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7592-7AE7-432D-AF4B-F5976B15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27/01/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European Commission - Internal Market &amp; Services D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7853-1146-40C0-BF66-DF6B1D79CE9A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2" descr="markt_footer.png                                               00057DBE iMac Data                      7C26874F:"/>
          <p:cNvPicPr/>
          <p:nvPr/>
        </p:nvPicPr>
        <p:blipFill>
          <a:blip r:embed="rId2"/>
          <a:stretch/>
        </p:blipFill>
        <p:spPr>
          <a:xfrm>
            <a:off x="4141800" y="6435720"/>
            <a:ext cx="631800" cy="422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3" descr=""/>
          <p:cNvPicPr/>
          <p:nvPr/>
        </p:nvPicPr>
        <p:blipFill>
          <a:blip r:embed="rId3"/>
          <a:stretch/>
        </p:blipFill>
        <p:spPr>
          <a:xfrm>
            <a:off x="-6480" y="0"/>
            <a:ext cx="9156960" cy="127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981000"/>
            <a:ext cx="9144000" cy="5877000"/>
          </a:xfrm>
          <a:prstGeom prst="rect">
            <a:avLst/>
          </a:prstGeom>
          <a:solidFill>
            <a:srgbClr val="0f5494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0" y="981000"/>
            <a:ext cx="4140360" cy="58770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logo_ce-en-rvb-hr_MARKT.png                                    00057DBE iMac Data                      7C26874F:"/>
          <p:cNvPicPr/>
          <p:nvPr/>
        </p:nvPicPr>
        <p:blipFill>
          <a:blip r:embed="rId2"/>
          <a:stretch/>
        </p:blipFill>
        <p:spPr>
          <a:xfrm>
            <a:off x="3848040" y="268200"/>
            <a:ext cx="1451160" cy="1005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markt_footer.png                                               00057DBE iMac Data                      7C26874F:"/>
          <p:cNvPicPr/>
          <p:nvPr/>
        </p:nvPicPr>
        <p:blipFill>
          <a:blip r:embed="rId3"/>
          <a:stretch/>
        </p:blipFill>
        <p:spPr>
          <a:xfrm>
            <a:off x="4141800" y="6435720"/>
            <a:ext cx="631800" cy="422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1" descr="markt_footer.png                                               00057DBE iMac Data                      7C26874F:"/>
          <p:cNvPicPr/>
          <p:nvPr/>
        </p:nvPicPr>
        <p:blipFill>
          <a:blip r:embed="rId2"/>
          <a:stretch/>
        </p:blipFill>
        <p:spPr>
          <a:xfrm>
            <a:off x="4141800" y="6435720"/>
            <a:ext cx="631800" cy="422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-6480" y="0"/>
            <a:ext cx="9156960" cy="1279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4"/>
          </p:nvPr>
        </p:nvSpPr>
        <p:spPr>
          <a:xfrm>
            <a:off x="655272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33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C37A-CB03-4468-864E-19B93557A2B8}" type="slidenum">
              <a:rPr b="0" lang="en-GB" sz="900" spc="-1" strike="noStrike">
                <a:solidFill>
                  <a:srgbClr val="336699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ur-lex.europa.eu/legal-content/EN/TXT/HTML/?uri=CELEX:52013DC0453&amp;rid=1" TargetMode="External"/><Relationship Id="rId2" Type="http://schemas.openxmlformats.org/officeDocument/2006/relationships/hyperlink" Target="http://eur-lex.europa.eu/legal-content/EN/TXT/HTML/?uri=CELEX:52013DC0453&amp;rid=1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36480" y="2565360"/>
            <a:ext cx="83995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ffd624"/>
                </a:solidFill>
                <a:latin typeface="Verdana"/>
              </a:rPr>
              <a:t>End-to-end eProcurement</a:t>
            </a:r>
            <a:br>
              <a:rPr sz="4800"/>
            </a:br>
            <a:endParaRPr b="1" lang="en-US" sz="4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11280" y="371628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olling Plan on ICT Standardisation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Brussels, 25 March 2014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4253040" y="5057640"/>
            <a:ext cx="4600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Marc Christopher Schmid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DG Markt, Unit C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eProcurement and Economic Analysi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The economic contex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Public expenditure is 19% of EU GDP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Word Bank estimates that eProc can trigger savings  between 6 and 13.5% of total public procurement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eProc will contribute in terms of fiscal consolidation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Slide Number Placeholder 2"/>
          <p:cNvSpPr/>
          <p:nvPr/>
        </p:nvSpPr>
        <p:spPr>
          <a:xfrm>
            <a:off x="6553080" y="6238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CF20-8913-4AA4-8761-4F011B02DD9D}" type="slidenum">
              <a:rPr b="1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Advantages of eProc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f5494"/>
                </a:solidFill>
                <a:latin typeface="Verdana"/>
              </a:rPr>
              <a:t>Cut of administrative burden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f5494"/>
                </a:solidFill>
                <a:latin typeface="Verdana"/>
              </a:rPr>
              <a:t>Improved transparency, accountability, traceability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f5494"/>
                </a:solidFill>
                <a:latin typeface="Verdana"/>
              </a:rPr>
              <a:t>Reduced litigation, corruption, fraud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f5494"/>
                </a:solidFill>
                <a:latin typeface="Verdana"/>
              </a:rPr>
              <a:t>Better monitoring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38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0099-7620-4049-97BD-33E16394F1EA}" type="slidenum">
              <a:rPr b="0" lang="en-GB" sz="900" spc="-1" strike="noStrike">
                <a:solidFill>
                  <a:srgbClr val="336699"/>
                </a:solidFill>
                <a:latin typeface="Arial"/>
                <a:ea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The Commission fosters eProc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5494"/>
                </a:solidFill>
                <a:latin typeface="Verdana"/>
              </a:rPr>
              <a:t>Communication on "end-to-end eProcurement"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5494"/>
                </a:solidFill>
                <a:latin typeface="Verdana"/>
              </a:rPr>
              <a:t>The new PP Directives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5494"/>
                </a:solidFill>
                <a:latin typeface="Verdana"/>
              </a:rPr>
              <a:t>The new eInvoice Directiv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238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CEFB-805D-4A31-BD04-D8FEF2E45F66}" type="slidenum">
              <a:rPr b="0" lang="en-GB" sz="900" spc="-1" strike="noStrike">
                <a:solidFill>
                  <a:srgbClr val="336699"/>
                </a:solidFill>
                <a:latin typeface="Arial"/>
                <a:ea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1. Com "end-to-end eProcurement"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Communication from the Commission from 2013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1600" indent="-29160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1600" indent="-29160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Is about transition to full eProcurement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1600" indent="-29160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1600" indent="-29160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Covers pre-award and post-award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1600" indent="-29160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1600" indent="-29160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Opportunity re-think procurement processes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1600" indent="-29160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1600" indent="-29160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eur-lex.europa.eu/legal-content/EN/TXT/HTML/?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uri=CELEX:52013DC0453&amp;rid=1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Slide Number Placeholder 2"/>
          <p:cNvSpPr/>
          <p:nvPr/>
        </p:nvSpPr>
        <p:spPr>
          <a:xfrm>
            <a:off x="6553080" y="6238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0989-D2FE-4A03-A6EB-1DFEBF54B953}" type="slidenum">
              <a:rPr b="1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2. The new PP Directiv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Published end of March 2014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Makes eProc mandatory for PP in 2018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Has more "e" elements in it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668520" indent="-25704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otices, eAccess, eSubmiss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68520" indent="-25704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Certis, ESPD (Electronic Single Procurement Document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68520" indent="-25704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http://eur-lex.europa.eu/legal-content/EN/TXT/HTML/?uri=CELEX:32014L0024&amp;rid=1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Slide Number Placeholder 2"/>
          <p:cNvSpPr/>
          <p:nvPr/>
        </p:nvSpPr>
        <p:spPr>
          <a:xfrm>
            <a:off x="6553080" y="6238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24D4-CB8C-4EBD-B951-A6915607AA82}" type="slidenum">
              <a:rPr b="1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3. The new eInvoice Directiv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All public authorities must allow receipt of eInvoices by 2020 (CPBs by 2019) if compliant to the EU standard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New European eInvoicing standard by CEN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Based on existing standard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3 Year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Published April/May 2014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Slide Number Placeholder 2"/>
          <p:cNvSpPr/>
          <p:nvPr/>
        </p:nvSpPr>
        <p:spPr>
          <a:xfrm>
            <a:off x="6553080" y="6238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39C1-88B9-4E0F-9050-9D15514362D9}" type="slidenum">
              <a:rPr b="1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Next step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Setup of European Forum on eProcurement (EFEP)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articipants are MS and Standardization Bodi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upport the transition to eProc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lanned to start October 2014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Developing of interpretative guideline on Directiv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Support of interoperability initiatives like eSENS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Slide Number Placeholder 2"/>
          <p:cNvSpPr/>
          <p:nvPr/>
        </p:nvSpPr>
        <p:spPr>
          <a:xfrm>
            <a:off x="6553080" y="6238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2F3A-4187-40A7-B59B-2446C1DD0F9D}" type="slidenum">
              <a:rPr b="1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47280" y="2522160"/>
            <a:ext cx="838836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624"/>
                </a:solidFill>
                <a:latin typeface="Verdana"/>
              </a:rPr>
              <a:t>Thank you for your attention</a:t>
            </a: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11280" y="371628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20:22:32Z</dcterms:created>
  <dc:creator>Jonathan Faull</dc:creator>
  <dc:description/>
  <dc:language>en-US</dc:language>
  <cp:lastModifiedBy>SCHMIDT Marc Christopher (MARKT)</cp:lastModifiedBy>
  <cp:lastPrinted>2013-06-26T07:25:36Z</cp:lastPrinted>
  <dcterms:modified xsi:type="dcterms:W3CDTF">2014-04-07T11:22:25Z</dcterms:modified>
  <cp:revision>337</cp:revision>
  <dc:subject/>
  <dc:title>Financial Services Regularory Reform</dc:title>
</cp:coreProperties>
</file>