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8964-6DEB-44AB-8054-95DDD9774EA3}" type="datetime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5254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uropean Commission - Internal Market &amp; Services D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7"/>
          </p:nvPr>
        </p:nvSpPr>
        <p:spPr>
          <a:xfrm>
            <a:off x="5466960" y="9427680"/>
            <a:ext cx="1328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7FF6-873A-44A3-ACA5-6FC7B5F6579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0E9A-7269-462F-92D8-049B685EB76D}" type="datetime3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 July 20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9428040"/>
            <a:ext cx="5254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n Commission - Internal Market &amp; Services D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5467320" y="9428040"/>
            <a:ext cx="132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617A-F1BE-418B-A4F7-E63CA13C05D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E727-5AF6-4257-9905-1E91643675B0}" type="datetime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0" y="9428040"/>
            <a:ext cx="5254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n Commission - Internal Market &amp; Services D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5467320" y="9428040"/>
            <a:ext cx="132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FD62-D266-4220-ACF9-8D39B5ACCEE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DF36-6A9E-470D-B349-EAC82571454E}" type="datetime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0" y="9428040"/>
            <a:ext cx="5254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n Commission - Internal Market &amp; Services D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5467320" y="9428040"/>
            <a:ext cx="132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001F-B3D1-4E05-AAE4-5FAAF0E4799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94A0-D65D-4DB9-BCB0-9413906AA0E4}" type="datetime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0" y="9428040"/>
            <a:ext cx="5254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n Commission - Internal Market &amp; Services D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5467320" y="9428040"/>
            <a:ext cx="132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AF45-8A7F-457F-9AEE-E00B0F83259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6A63-5A78-4AB5-B2C2-CF6F6F8E03D1}" type="datetime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0" y="9428040"/>
            <a:ext cx="5254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n Commission - Internal Market &amp; Services D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5467320" y="9428040"/>
            <a:ext cx="132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1AB5-E7E0-4C16-BC8A-58E3FBA6BC0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5E22-B20A-456B-AABA-A33B813B7100}" type="datetime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0" y="9428040"/>
            <a:ext cx="5254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n Commission - Internal Market &amp; Services D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5467320" y="9428040"/>
            <a:ext cx="132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F73C-F941-40F5-A2E5-6E34F135E11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7AF5-FC96-4E35-A334-F2AF750B00B2}" type="datetime3">
              <a:rPr b="0" lang="en-GB" sz="12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9428040"/>
            <a:ext cx="5254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n Commission - Internal Market &amp; Services D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467320" y="9428040"/>
            <a:ext cx="132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C8B6-202E-4E0D-9CE1-A12A65017D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1A3-9431-49B1-ACBE-C8EB30FD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6E9-934B-4A34-AFB9-4570D5C5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9FB-CDEB-4969-BB7A-BED6E34C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757-64B7-4D67-ADC7-9D50FD2F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2ED-C492-4358-B024-C276AC05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E94C3-B304-4B13-8702-8516945F3C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F3970-F640-445A-B173-1C46E2A04F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227E9-8996-4F14-B359-424945B055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40A1D-00A0-45A7-86BD-FF6E2A0D40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45EA7-973C-406D-A49A-E7777D82FF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F36F-CCCF-4B29-A48D-2303D55F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C9DB8-DA51-4630-B62E-402414CDF2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C7FBC-B9E3-4589-AD3F-3140D7C368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625B3-7691-4930-AACF-2C523DDE61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41C37-DB58-405E-8FBE-0A6B381B64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5BD9C-33FC-428A-B4AE-807C0FC3EA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6538A-B03A-4B91-A913-4449B0AF7F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5B9E3-AE2F-4D1D-A038-9A9A1670A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F936-9A34-4E7B-8BEE-D977CC30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3BEB-6275-4CE5-B5B9-5B39EC3F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5DF-3D62-4414-8F23-86788BFF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51D8-72A6-4E25-8D08-E516779E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A4B-AA29-4E5E-B24E-ECB76800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6700-07B1-4A14-A16B-DFAD3E74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27/01/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European Commission - Internal Market &amp; Services D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0E22-697B-4ACD-A22D-72E5E53F1AB7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markt_footer.png                                               00057DBE iMac Data                      7C26874F:"/>
          <p:cNvPicPr/>
          <p:nvPr/>
        </p:nvPicPr>
        <p:blipFill>
          <a:blip r:embed="rId2"/>
          <a:stretch/>
        </p:blipFill>
        <p:spPr>
          <a:xfrm>
            <a:off x="4141800" y="6435720"/>
            <a:ext cx="631800" cy="422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" descr=""/>
          <p:cNvPicPr/>
          <p:nvPr/>
        </p:nvPicPr>
        <p:blipFill>
          <a:blip r:embed="rId3"/>
          <a:stretch/>
        </p:blipFill>
        <p:spPr>
          <a:xfrm>
            <a:off x="-6480" y="0"/>
            <a:ext cx="9156960" cy="12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981000"/>
            <a:ext cx="9144000" cy="5877000"/>
          </a:xfrm>
          <a:prstGeom prst="rect">
            <a:avLst/>
          </a:prstGeom>
          <a:solidFill>
            <a:srgbClr val="0f549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981000"/>
            <a:ext cx="4140360" cy="5877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logo_ce-en-rvb-hr_MARKT.png                                    00057DBE iMac Data                      7C26874F:"/>
          <p:cNvPicPr/>
          <p:nvPr/>
        </p:nvPicPr>
        <p:blipFill>
          <a:blip r:embed="rId2"/>
          <a:stretch/>
        </p:blipFill>
        <p:spPr>
          <a:xfrm>
            <a:off x="3848040" y="268200"/>
            <a:ext cx="1451160" cy="1005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markt_footer.png                                               00057DBE iMac Data                      7C26874F:"/>
          <p:cNvPicPr/>
          <p:nvPr/>
        </p:nvPicPr>
        <p:blipFill>
          <a:blip r:embed="rId3"/>
          <a:stretch/>
        </p:blipFill>
        <p:spPr>
          <a:xfrm>
            <a:off x="4141800" y="6435720"/>
            <a:ext cx="631800" cy="422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markt_footer.png                                               00057DBE iMac Data                      7C26874F:"/>
          <p:cNvPicPr/>
          <p:nvPr/>
        </p:nvPicPr>
        <p:blipFill>
          <a:blip r:embed="rId2"/>
          <a:stretch/>
        </p:blipFill>
        <p:spPr>
          <a:xfrm>
            <a:off x="4141800" y="6435720"/>
            <a:ext cx="631800" cy="422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-6480" y="0"/>
            <a:ext cx="9156960" cy="1279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4"/>
          </p:nvPr>
        </p:nvSpPr>
        <p:spPr>
          <a:xfrm>
            <a:off x="655272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33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318B-4C8B-4138-A155-7D1AD6485915}" type="slidenum">
              <a:rPr b="0" lang="en-GB" sz="900" spc="-1" strike="noStrike">
                <a:solidFill>
                  <a:srgbClr val="336699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ur-lex.europa.eu/legal-content/EN/TXT/HTML/?uri=CELEX:52013DC0453&amp;rid=1" TargetMode="External"/><Relationship Id="rId2" Type="http://schemas.openxmlformats.org/officeDocument/2006/relationships/hyperlink" Target="http://eur-lex.europa.eu/legal-content/EN/TXT/HTML/?uri=CELEX:52013DC0453&amp;rid=1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6480" y="2565360"/>
            <a:ext cx="83995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ffd624"/>
                </a:solidFill>
                <a:latin typeface="Verdana"/>
              </a:rPr>
              <a:t>End-to-end eProcurement</a:t>
            </a:r>
            <a:br>
              <a:rPr sz="4800"/>
            </a:br>
            <a:endParaRPr b="1" lang="en-US" sz="4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ling Plan on ICT Standardisation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Brussels, 25 March 2014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253040" y="5057640"/>
            <a:ext cx="460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Marc Christopher Schmid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DG Markt, Unit C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eProcurement and Economic Analysi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The economic contex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Public expenditure is 19% of EU GDP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Word Bank estimates that eProc can trigger savings  between 6 and 13.5% of total public procurement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eProc will contribute in terms of fiscal consolidation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553080" y="6238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9086-E8CD-4EF1-8440-FD290DCB6176}" type="slidenum">
              <a:rPr b="1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Advantages of eProc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Cut of administrative burden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Improved transparency, accountability, traceability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Reduced litigation, corruption, fraud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Better monitoring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38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09BB-A83A-4BE9-82C6-4B0B5F37967C}" type="slidenum">
              <a:rPr b="0" lang="en-GB" sz="9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The Commission fosters eProc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5494"/>
                </a:solidFill>
                <a:latin typeface="Verdana"/>
              </a:rPr>
              <a:t>Communication on "end-to-end eProcurement"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5494"/>
                </a:solidFill>
                <a:latin typeface="Verdana"/>
              </a:rPr>
              <a:t>The new PP Directiv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5494"/>
                </a:solidFill>
                <a:latin typeface="Verdana"/>
              </a:rPr>
              <a:t>The new eInvoice Direc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38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64B9-7506-4BE9-974A-0310F115E13E}" type="slidenum">
              <a:rPr b="0" lang="en-GB" sz="9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1. Com "end-to-end eProcurement"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Communication from the Commission from 2013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Is about transition to full eProcurement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Covers pre-award and post-award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Opportunity re-think procurement process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ur-lex.europa.eu/legal-content/EN/TXT/HTML/?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uri=CELEX:52013DC0453&amp;rid=1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Slide Number Placeholder 2"/>
          <p:cNvSpPr/>
          <p:nvPr/>
        </p:nvSpPr>
        <p:spPr>
          <a:xfrm>
            <a:off x="6553080" y="6238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9970-A5B0-40E1-A5C7-09A45293768E}" type="slidenum">
              <a:rPr b="1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2. The new PP Directiv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Published end of March 2014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Makes eProc mandatory for PP in 2018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Has more "e" elements in it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668520" indent="-2570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otices, eAccess, eSubmiss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68520" indent="-2570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Certis, ESPD (Electronic Single Procurement Document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68520" indent="-2570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ur-lex.europa.eu/legal-content/EN/TXT/HTML/?uri=CELEX:32014L0024&amp;rid=1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553080" y="6238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ADE2-3E2C-4000-993B-47B404C161A4}" type="slidenum">
              <a:rPr b="1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3. The new eInvoice Directi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All public authorities must allow receipt of eInvoices by 2020 (CPBs by 2019) if compliant to the EU standard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New European eInvoicing standard by CEN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ased on existing standard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3 Year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Published April/May 2014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Slide Number Placeholder 2"/>
          <p:cNvSpPr/>
          <p:nvPr/>
        </p:nvSpPr>
        <p:spPr>
          <a:xfrm>
            <a:off x="6553080" y="6238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2E4A-ACBE-484F-B443-5AEEAEFAF87E}" type="slidenum">
              <a:rPr b="1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xt step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Setup of European Forum on eProcurement (EFEP)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articipants are MS and Standardization Bod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pport the transition to ePro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lanned to start October 2014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eveloping of interpretative guideline on Direc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Support of interoperability initiatives like eSEN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553080" y="6238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8657-C1F3-49D8-BBEB-EAF8D8B964C9}" type="slidenum">
              <a:rPr b="1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7280" y="2522160"/>
            <a:ext cx="838836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624"/>
                </a:solidFill>
                <a:latin typeface="Verdana"/>
              </a:rPr>
              <a:t>Thank you for your attention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20:22:32Z</dcterms:created>
  <dc:creator>Jonathan Faull</dc:creator>
  <dc:description/>
  <dc:language>en-US</dc:language>
  <cp:lastModifiedBy>SCHMIDT Marc Christopher (MARKT)</cp:lastModifiedBy>
  <cp:lastPrinted>2013-06-26T07:25:36Z</cp:lastPrinted>
  <dcterms:modified xsi:type="dcterms:W3CDTF">2014-04-07T11:22:25Z</dcterms:modified>
  <cp:revision>337</cp:revision>
  <dc:subject/>
  <dc:title>Financial Services Regularory Reform</dc:title>
</cp:coreProperties>
</file>