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B899-414C-4A25-90CC-89C06A89CB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36B8-EB24-4D1E-B6C8-38CA753EEC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5BA-B350-4293-9E8B-7BD54ABA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D9B-6D17-4098-B3D8-449AA481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467-B7CD-40FF-B75D-5D23666A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2B5-1D22-4ADE-A6A5-46736118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754D-B9D0-499D-B3ED-A84AF24B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E0A8-C4C0-451A-86DF-C3257BF9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B8C4-2AB1-4A09-9F3F-014A51CB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A6C1-C52B-4124-8283-A1F8E6C8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605A-6863-41BE-B9BA-2DCF0AE8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2E7D-6503-4DD9-B46A-7BB4239B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FF21-A989-4CC1-9651-F9E5C99E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08B-4301-4EB4-BE8E-D1EAFB2D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FEC9-B525-4859-804A-3BF6B477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6F79-E7EB-4DCF-961F-67D022E7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37CE-CE14-4BE5-884F-E90B297F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707C-F802-42D4-8C96-1FF7690F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ED2F-7ADB-4966-BD51-2789A77C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A5BA-6E73-4683-B0A5-F66E5844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B71D2-E02F-4197-8FF1-DA08512B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4477-969D-431C-8C72-0D771E82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7DD2-842A-4B1D-8659-F7EAD1E6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9DEE-6C3C-4746-AFC5-C59EEC3E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B5C-6DCA-48B9-9775-785C5EDE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EF44-8F82-4CD0-9A64-1FE6D8BA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002A-9A2D-434E-8EF6-02910E9C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E191-3C51-4A47-8F47-5AFF3C24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8B56-8C24-47C5-88F9-53433ADD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3193-3EF4-4403-973B-EE9F10F1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8B76-046E-4162-8915-1F1D3A6D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6458-7117-4AD2-984B-5A3A5BC3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5E1E-6E56-484F-837C-5A5D5C69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97115-5DE7-47BF-811A-59E5F1EC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4FF1-F502-4C64-93A2-4E4004EB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0E4-44C0-40BD-9303-4FAD7B92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B85A-DCB9-4CD8-AF7D-CD52C595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6953-7229-4086-9983-0A724324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DDE0-A740-464E-BBD4-C9F0A25D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1739-DE65-4A65-9003-C228B904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1D39-4E91-472C-9115-F6FE6E85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6107-5847-43A3-AD79-9AC5544B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CE54-3FB6-4026-9A1A-4D11D732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3D29-C6F9-4DA0-8577-23291F8C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4762A-7C7D-4CF0-8A05-824FE676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8AE-AD3B-4191-A46E-6403AA3C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E2F-3091-4361-A0DC-E2EA3A6C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EFE-0C20-43BB-871A-0AC02D1F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133-5996-4CC4-B803-5BA492A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1B5-F779-44DB-886F-D1E5AD7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CFD5-0FDC-41C5-9707-26178EA749C8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uncefact_header_0p2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4DA9-66EA-4BB8-8841-3CF99637A4D5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4FED-7845-4272-AD96-7A9F77E41C45}" type="slidenum">
              <a:rPr b="0" lang="fr-FR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uncefact_header_0p2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D7A9-4AD1-4DCF-B640-9539A1631148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le 5"/>
          <p:cNvSpPr/>
          <p:nvPr/>
        </p:nvSpPr>
        <p:spPr>
          <a:xfrm>
            <a:off x="530280" y="3324240"/>
            <a:ext cx="8172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de-CH" sz="2400" spc="-1" strike="noStrike">
                <a:solidFill>
                  <a:srgbClr val="000000"/>
                </a:solidFill>
                <a:latin typeface="JasmineUPC"/>
                <a:ea typeface="JasmineUPC"/>
              </a:rPr>
              <a:t>VC    Peter Amstutz, Harm Jan van Burg, Piero Cu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JasmineUPC"/>
                <a:ea typeface="JasmineUPC"/>
              </a:rPr>
              <a:t>DC Mary Kay Blantz, Gait Boxman, Hidekazu Enj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835280" y="5732640"/>
            <a:ext cx="5832360" cy="100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19th UN/CEFACT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16-20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Palais des Nations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1988720" y="26758800"/>
            <a:ext cx="4802400" cy="3214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JasmineUPC"/>
                <a:ea typeface="JasmineUPC"/>
              </a:rPr>
              <a:t>Bureau Programm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efore the Forum, CCL 12A was validated and is ready for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 least 4 submissions are expected for CCL 12B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ema for CCL 11B have been produced and have been sent for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DMRs for EDIFACT 12A have been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9 approved, 16 approved with changes, 25 postponed, 9 rejec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eps for EDIFACT validation have been documented and supplied to Hidekazu En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7:55:10Z</dcterms:created>
  <dc:creator/>
  <dc:description/>
  <dc:language>en-US</dc:language>
  <cp:lastModifiedBy>Harm Jan van Burg</cp:lastModifiedBy>
  <cp:lastPrinted>2012-04-12T09:44:56Z</cp:lastPrinted>
  <dcterms:modified xsi:type="dcterms:W3CDTF">2012-04-20T10:03:46Z</dcterms:modified>
  <cp:revision>63</cp:revision>
  <dc:subject/>
  <dc:title>PowerPoint Presentation</dc:title>
</cp:coreProperties>
</file>