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C415-2E9F-40C5-893B-58C35809BE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C333-CF8E-4D63-AF96-80B1ECE6DD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788-D900-4AA0-A312-E77A468C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8720-05DA-47D6-A05A-4F3E5E48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1676-4711-4E40-A687-18FE9FB2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5CD8-AE1B-40DA-96D6-C63D4052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7D4D-D52B-4599-BFAC-77A0E4FE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E118-F15E-431D-9584-C94DD789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56B8-5D2F-4CB0-B175-2D3390B4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7B01-9DBA-4DE8-9018-A2641DB3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4DFB-19E4-41F6-A96F-C98433BC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9E84-18DE-425D-B51B-C21AF41B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DC6E-5DDF-4BD0-9FEA-EC8CAFEE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05F-F75E-4042-83B3-8426733A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3F82-4F90-407D-8DAB-8240AE99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4173-905A-490E-984A-8691A02F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63A5-6A3F-450D-A975-DFD5A9AC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A40E-492D-443A-9916-16D56477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B39C-6FA7-4A94-947E-EFF78F3E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5F50B-BB0B-44D6-AA1E-74786340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FDA73-E048-411A-AD98-5A2C16D6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05EDC-793D-459D-8469-8A07C94C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0E1C1-C849-45B6-AF3D-C65E7A34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A1CE8-64EE-406E-B44C-3CA234DA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866-6F34-4871-B517-E3F55A8E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3796-6D1B-45C4-8A97-442F087D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38BB1-7F83-4769-908E-8631797D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85410-5A6F-4DE9-9C16-A305A4D5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B0E31-8F23-4E30-AA3E-9CB6211B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1CA5E-F2EF-4CD1-85BF-5B71A193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B0601-2CF2-4E19-AD68-6F0CE76F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6B17F-D3BB-4EB9-9954-375368B2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4BE79-C665-4C6E-A45C-032999A9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F2820-5633-4B0E-A571-489E9F2A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198F4-D571-4864-B256-D1B25CF4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97E8-7603-4880-B58B-9D038FBB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CE013-1E98-46EB-881C-B4382DA4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A48A0-6104-4EB1-875D-1C84AACF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03760-A7D0-48CE-91B5-AB5177B3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49B8A-4DF2-4B12-A824-1F99B360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F9775-559B-4930-A7DC-E8BE74A9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58416-F576-4AE8-9D2E-DD26FEDF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55A3C-3B81-4A2C-8501-EB85A924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86E2B-F59C-4C0A-8038-9F55BE7C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AE095-A8A6-489F-B925-410179C9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FC3-B097-4DC9-8670-F630C13A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035-5F55-4653-899F-B89A52F0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88B-E332-4F99-A5F5-91002222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464-95EB-4A4E-A355-F8B7F0F4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4AC-E8D8-4237-8722-72DD6803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E3DB-60C2-44F0-93E4-23D37EFFD3F7}" type="slidenum"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uncefact_header_0p2"/>
          <p:cNvPicPr/>
          <p:nvPr/>
        </p:nvPicPr>
        <p:blipFill>
          <a:blip r:embed="rId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D3E0-551F-4F28-9F7A-42E40895F236}" type="slidenum"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679B-7BC7-4A36-86A4-025FE6780F40}" type="slidenum">
              <a:rPr b="0" lang="fr-FR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1" descr="uncefact_header_0p2"/>
          <p:cNvPicPr/>
          <p:nvPr/>
        </p:nvPicPr>
        <p:blipFill>
          <a:blip r:embed="rId2"/>
          <a:stretch/>
        </p:blipFill>
        <p:spPr>
          <a:xfrm>
            <a:off x="468360" y="189000"/>
            <a:ext cx="8136000" cy="1133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B420-D6E9-47E6-A4DB-AE2A84EB547D}" type="slidenum"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tle 5"/>
          <p:cNvSpPr/>
          <p:nvPr/>
        </p:nvSpPr>
        <p:spPr>
          <a:xfrm>
            <a:off x="530280" y="3324240"/>
            <a:ext cx="8172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de-CH" sz="2400" spc="-1" strike="noStrike">
                <a:solidFill>
                  <a:srgbClr val="000000"/>
                </a:solidFill>
                <a:latin typeface="JasmineUPC"/>
                <a:ea typeface="JasmineUPC"/>
              </a:rPr>
              <a:t>VC    Peter Amstutz, Harm Jan van Burg, Piero Cuc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JasmineUPC"/>
                <a:ea typeface="JasmineUPC"/>
              </a:rPr>
              <a:t>DC Mary Kay Blantz, Gait Boxman, Hidekazu Enj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1835280" y="5732640"/>
            <a:ext cx="5832360" cy="1008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JasmineUPC"/>
                <a:ea typeface="JasmineUPC"/>
              </a:rPr>
              <a:t>19th UN/CEFACT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000000"/>
                </a:solidFill>
                <a:latin typeface="JasmineUPC"/>
                <a:ea typeface="JasmineUPC"/>
              </a:rPr>
              <a:t>16-20 April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000000"/>
                </a:solidFill>
                <a:latin typeface="JasmineUPC"/>
                <a:ea typeface="JasmineUPC"/>
              </a:rPr>
              <a:t>Palais des Nations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1988720" y="26758800"/>
            <a:ext cx="4802400" cy="3214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JasmineUPC"/>
                <a:ea typeface="JasmineUPC"/>
              </a:rPr>
              <a:t>Bureau Programme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efore the Forum, CCL 12A was validated and is ready for pub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t least 4 submissions are expected for CCL 12B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chema for CCL 11B have been produced and have been sent for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DI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DMRs for EDIFACT 12A have been re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9 approved, 16 approved with changes, 25 postponed, 9 rejec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eps for EDIFACT validation have been documented and supplied to Hidekazu En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7:55:10Z</dcterms:created>
  <dc:creator/>
  <dc:description/>
  <dc:language>en-US</dc:language>
  <cp:lastModifiedBy>Harm Jan van Burg</cp:lastModifiedBy>
  <cp:lastPrinted>2012-04-12T09:44:56Z</cp:lastPrinted>
  <dcterms:modified xsi:type="dcterms:W3CDTF">2012-04-20T10:03:46Z</dcterms:modified>
  <cp:revision>63</cp:revision>
  <dc:subject/>
  <dc:title>PowerPoint Presentation</dc:title>
</cp:coreProperties>
</file>