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BC9-760F-4291-82A5-9003C415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996-660A-406F-A730-2C8D89F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BEA-D0F8-4816-A2B2-AFA3BD81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E47-8FB4-4BE0-999B-1E2D531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F556-DF74-4BD5-9E7B-46175E5F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BAC-61D9-49D9-B061-B9BECDE2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5BBB-F673-4845-852D-064561DF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DE9A-46A1-49FF-A7AB-E1668536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1701-564F-4D96-B030-2E19762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0A48-6696-4168-B3DF-7183660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8E75-A31B-42F5-B88E-44107EB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93E-32D5-4428-B7BB-ED930D6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F900-CB2A-4769-ABF3-87B786E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FEE8-1A18-4FEB-BE4B-E5909BE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93F-CF3D-478E-A377-BADDF7C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93C-846E-45E3-9A02-D0EBBED9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2DD-99EA-437D-8080-6BB39E06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32D6-EAD5-4C6C-A710-8B505342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ACD1-18FC-4AE5-81B4-F564A8D4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A232-127B-4E0A-84AA-A4B63E64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0D88-17F4-44D5-B8C9-411493C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430A-ADCD-4C7A-ABA6-251272D1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AA8-BDC0-4797-B0AB-AB8B35A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2C8F-6F19-46B5-9D08-8B57C98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9B1B-DCBB-4E3A-8F64-2344838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C221-70A4-4395-8821-BB323DA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CDC7-6816-4A65-BD43-2BF93C9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DE38-B355-4E5B-85CF-4D000EB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A9CA-1D0F-431F-AE36-6490B872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1397-09A5-4AD3-A465-3538A20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988-AFC1-4CBA-9837-4F624B9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57B-3135-4C8B-A232-5A3880C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1E6-F2D8-4A01-B5EF-A46FDD8F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FD7-AB37-4EF2-9334-AFADB78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3BB-0ED7-48AC-AA73-F9573C5D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E29-4C50-483D-9158-489BE7A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 16 –  20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th UN/CEFACT FORUM – Geneva, Switz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40C-D12F-4165-B90C-1CB683A5D67D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 16 –  20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th UN/CEFACT FORUM – Geneva, Switz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09A-40E7-4690-B276-60C36A8A7921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460-076C-4CCF-8E33-6806A5E8CEBF}" type="datetime"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/CEFACT Technical Framework 19th For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E75-EEDD-4862-9AAE-5147CBCC4FEB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Closing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1916280"/>
            <a:ext cx="792144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pen discussion on new Technical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ohesive, simple, pragmatic and facilitative… and achiev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oundational libra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oordination with ISO (and other SDOs) to provide supporting methodologies and technolog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trengthening maintenance for UN/EDIF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resentation on ADMS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pen Data Interchange Frame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Joint Technical Report with ISO (ISO/TC 15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1"/>
          <a:stretch/>
        </p:blipFill>
        <p:spPr>
          <a:xfrm>
            <a:off x="5357880" y="689040"/>
            <a:ext cx="2963880" cy="652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6836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9d8e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ctivities this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11280" y="1916280"/>
            <a:ext cx="792144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ession on reliable message exchange between communities (trans-border messag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otential UNECE Recommendation (+ resour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Business Document He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Revised Project proposal (+ resour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Draft model by Sept For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trategy for CCL 2.01 and CCL 3.0 Libraries sup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TextBox 1" descr=""/>
          <p:cNvPicPr/>
          <p:nvPr/>
        </p:nvPicPr>
        <p:blipFill>
          <a:blip r:embed="rId1"/>
          <a:stretch/>
        </p:blipFill>
        <p:spPr>
          <a:xfrm>
            <a:off x="5357880" y="689040"/>
            <a:ext cx="2963880" cy="652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46836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9d8e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ctivities this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402080" y="1844640"/>
            <a:ext cx="4502160" cy="4211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64000" y="476280"/>
            <a:ext cx="347688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m Mee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557360"/>
            <a:ext cx="556272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Dept Finance, Dept Foreign Affairs &amp;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presentation/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governmenta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deral and St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Arrow 4"/>
          <p:cNvSpPr/>
          <p:nvPr/>
        </p:nvSpPr>
        <p:spPr>
          <a:xfrm rot="1938600">
            <a:off x="7683480" y="5221440"/>
            <a:ext cx="1289160" cy="877680"/>
          </a:xfrm>
          <a:prstGeom prst="left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bebeff"/>
              </a:gs>
              <a:gs pos="100000">
                <a:srgbClr val="9191c3"/>
              </a:gs>
            </a:gsLst>
            <a:lin ang="3462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IMG_1747.JPG"/>
          <p:cNvPicPr/>
          <p:nvPr/>
        </p:nvPicPr>
        <p:blipFill>
          <a:blip r:embed="rId1"/>
          <a:stretch/>
        </p:blipFill>
        <p:spPr>
          <a:xfrm>
            <a:off x="1619280" y="1386000"/>
            <a:ext cx="4968720" cy="5472000"/>
          </a:xfrm>
          <a:prstGeom prst="rect">
            <a:avLst/>
          </a:prstGeom>
          <a:ln w="0">
            <a:noFill/>
          </a:ln>
        </p:spPr>
      </p:pic>
      <p:pic>
        <p:nvPicPr>
          <p:cNvPr id="142" name="TextBox 1" descr=""/>
          <p:cNvPicPr/>
          <p:nvPr/>
        </p:nvPicPr>
        <p:blipFill>
          <a:blip r:embed="rId2"/>
          <a:stretch/>
        </p:blipFill>
        <p:spPr>
          <a:xfrm>
            <a:off x="5430960" y="835200"/>
            <a:ext cx="2963880" cy="37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ECE</dc:creator>
  <dc:description/>
  <dc:language>en-US</dc:language>
  <cp:lastModifiedBy>Harm Jan van Burg</cp:lastModifiedBy>
  <cp:lastPrinted>2012-04-04T00:38:43Z</cp:lastPrinted>
  <dcterms:modified xsi:type="dcterms:W3CDTF">2012-04-20T11:42:46Z</dcterms:modified>
  <cp:revision>531</cp:revision>
  <dc:subject>UN/CEFACT</dc:subject>
  <dc:title>United Nations Economic Commission for Europe</dc:title>
</cp:coreProperties>
</file>