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B25-E904-4B3E-A768-4A08E501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12F-3305-4A5D-A8F4-6AB17E19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3FB-D2C0-43FD-87D9-A4A7305C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3BD-3EDE-466E-9E94-2EA23838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419B-9AF7-4FF2-9FC8-D89A7BB0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19F9-8FD2-4D53-9C6C-AD8831C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EECD-D7AA-4A85-B8C7-8A67A8E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A500-B46F-4AF1-B4A3-E0E3E6A0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BCF8-AE14-428C-8E5E-285ED625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7CF1-CD9B-4900-9A89-DD7FC04B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39B8-4790-48AC-A32A-A6344038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BA1-5D65-49AB-A5DE-40DC334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7C7-0DFE-4027-AA13-CEB893CC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50C0-D510-4227-9780-28C3D8E5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F0E9-41BE-4876-9F10-D1B832DA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FFE-666A-4C32-A31E-3F4E4502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872-74BD-477F-9E0D-8C53BB8F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6CB2-E0B6-450A-A3F5-EF905A76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2EB8-AE72-41F9-9E8A-CF2E538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8000-373A-49D9-B826-6DD9CF51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70E5-624E-48CB-89CA-473DCFFB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3618-AB6C-4D31-B27F-E649BA97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938-55E4-467D-8A17-4C777C73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01A4-AC27-4DC7-ACB4-3BC2CD85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E561-0A44-4D07-9575-5C9698A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7587-2869-4D1D-9546-E2D8A850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D04C8-399B-44B3-9362-A7EE4400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3AFE-6348-4BEB-A742-A27CDCBB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B0AF-A176-4B99-A33E-E0C741D6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073A-72AF-4973-9A6A-1CBD183A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FED-4C7A-4879-BEE1-07239008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C80-F939-4170-BD6B-758BE7A5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DB2-4321-47D4-B21F-22B793C6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7AE-159C-42E5-8E01-E4B507D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6DA-6BF7-4E08-8DB2-C58BA607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EE6-0854-499C-92D0-0E94AF54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pril 16 –  20 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th UN/CEFACT FORUM – Geneva, Switz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BDA0-8A2A-4560-8337-2DD0FC98C216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pril 16 –  20 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th UN/CEFACT FORUM – Geneva, Switz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8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0BF-2425-4755-800F-40FECABCD543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AC48-DF1F-4EA5-9A5E-472C5314AA6A}" type="datetime">
              <a:rPr b="0" lang="en-AU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/CEFACT Technical Framework 19th For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8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1C14-FFB6-445E-8DC4-1CCD139CAE9A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Closing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Methodology &amp; Technology 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6 April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th UN/CEFACT FORUM – Geneva, Switzerland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1916280"/>
            <a:ext cx="792144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Open discussion on new Technical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cohesive, simple, pragmatic and facilitative… and achiev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foundational libra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coordination with ISO (and other SDOs) to provide supporting methodologies and technolog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trengthening maintenance for UN/EDIF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presentation on ADMS 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Open Data Interchange Frame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Joint Technical Report with ISO (ISO/TC 15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TextBox 1" descr=""/>
          <p:cNvPicPr/>
          <p:nvPr/>
        </p:nvPicPr>
        <p:blipFill>
          <a:blip r:embed="rId1"/>
          <a:stretch/>
        </p:blipFill>
        <p:spPr>
          <a:xfrm>
            <a:off x="5357880" y="689040"/>
            <a:ext cx="2963880" cy="652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68360" y="141300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9d8e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Activities this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th UN/CEFACT FORUM – Geneva, Switzerland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11280" y="1916280"/>
            <a:ext cx="792144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ession on reliable message exchange between communities (trans-border messag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Potential UNECE Recommendation (+ resourc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Business Document Hea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Revised Project proposal (+ resourc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Draft model by Sept For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trategy for CCL 2.01 and CCL 3.0 Libraries sup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TextBox 1" descr=""/>
          <p:cNvPicPr/>
          <p:nvPr/>
        </p:nvPicPr>
        <p:blipFill>
          <a:blip r:embed="rId1"/>
          <a:stretch/>
        </p:blipFill>
        <p:spPr>
          <a:xfrm>
            <a:off x="5357880" y="689040"/>
            <a:ext cx="2963880" cy="652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468360" y="141300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9d8e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Activities this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402080" y="1844640"/>
            <a:ext cx="4502160" cy="4211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64000" y="476280"/>
            <a:ext cx="3476880" cy="993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m Mee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557360"/>
            <a:ext cx="556272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n Dept Finance, Dept Foreign Affairs &amp;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presentation/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to governmenta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deral and St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eft Arrow 4"/>
          <p:cNvSpPr/>
          <p:nvPr/>
        </p:nvSpPr>
        <p:spPr>
          <a:xfrm rot="1938600">
            <a:off x="7683480" y="5221440"/>
            <a:ext cx="1289160" cy="877680"/>
          </a:xfrm>
          <a:prstGeom prst="left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bebeff"/>
              </a:gs>
              <a:gs pos="100000">
                <a:srgbClr val="9191c3"/>
              </a:gs>
            </a:gsLst>
            <a:lin ang="3462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th UN/CEFACT FORUM – Geneva, Switzerland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IMG_1747.JPG"/>
          <p:cNvPicPr/>
          <p:nvPr/>
        </p:nvPicPr>
        <p:blipFill>
          <a:blip r:embed="rId1"/>
          <a:stretch/>
        </p:blipFill>
        <p:spPr>
          <a:xfrm>
            <a:off x="1619280" y="1386000"/>
            <a:ext cx="4968720" cy="5472000"/>
          </a:xfrm>
          <a:prstGeom prst="rect">
            <a:avLst/>
          </a:prstGeom>
          <a:ln w="0">
            <a:noFill/>
          </a:ln>
        </p:spPr>
      </p:pic>
      <p:pic>
        <p:nvPicPr>
          <p:cNvPr id="142" name="TextBox 1" descr=""/>
          <p:cNvPicPr/>
          <p:nvPr/>
        </p:nvPicPr>
        <p:blipFill>
          <a:blip r:embed="rId2"/>
          <a:stretch/>
        </p:blipFill>
        <p:spPr>
          <a:xfrm>
            <a:off x="5430960" y="835200"/>
            <a:ext cx="2963880" cy="37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NECE</dc:creator>
  <dc:description/>
  <dc:language>en-US</dc:language>
  <cp:lastModifiedBy>Harm Jan van Burg</cp:lastModifiedBy>
  <cp:lastPrinted>2012-04-04T00:38:43Z</cp:lastPrinted>
  <dcterms:modified xsi:type="dcterms:W3CDTF">2012-04-20T11:42:46Z</dcterms:modified>
  <cp:revision>531</cp:revision>
  <dc:subject>UN/CEFACT</dc:subject>
  <dc:title>United Nations Economic Commission for Europe</dc:title>
</cp:coreProperties>
</file>